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BA73-253D-45FA-A572-E3D5ED5A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31A-D616-48DD-B6EF-F7E06A1E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3856-316C-4E5A-BABA-2B852725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5FFE-0FF8-4AFB-A5AC-FEBD440B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ED9C-CB41-41C9-A235-176D54E0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402F-6B92-4F87-A00C-A269D5E7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27B1-ECE4-4B2D-9068-4924E549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2CD7-278C-4D75-AA84-A6D2276B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60BA-FD7C-4AAB-AF13-A583FC60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6E99-2C50-433B-ACD6-142901DF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859E-1385-4766-9DEA-4E9F307D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E8CE-BE97-4090-B483-05A7C3DB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EBAE-7F8D-4378-8CB2-B3CF8FE8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C588-F0E0-427C-850E-7BB66E60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EE50-4516-4732-86AB-7AE35B97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86B9-8EFA-4331-B203-A6A903F4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0A44-A271-4B8C-AFCE-39BEBBB5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8E31-B37F-4593-B1FB-7D1DB68D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1013-A88C-482A-98ED-BA002E03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A0BD-A676-4955-BAD9-6D9B2EA6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345F-EE87-45DB-8CE1-7746A3A0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454-A17F-41DB-9912-199C8247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398E-EEB0-40B9-8A4C-A235D0A2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2C7E-16B1-4BB0-93E8-A7D1561A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3D3E-B64C-4E18-B53F-AB7741BDF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F559-4F35-4990-B9F0-A7CDA5070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C&#635;%E4&amp;in=15705&amp;cl=2&amp;cm=1&amp;sc=0&amp;lm=-1&amp;pn=98&amp;rn=1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A%DC%C0%F1&amp;in=26531&amp;cl=2&amp;cm=1&amp;sc=0&amp;lm=-1&amp;pn=110&amp;rn=1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.baidu.com/i?ct=503316480&amp;z=0&amp;tn=baiduimagedetail&amp;word=&#1083;%D2%E2&amp;in=13650&amp;cl=2&amp;cm=1&amp;sc=0&amp;lm=-1&amp;pn=370&amp;rn=1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image.baidu.com/i?ct=503316480&amp;z=0&amp;tn=baiduimagedetail&amp;word=%D2%C7&#812;%B4%F3%B7%BD&amp;in=20262&amp;cl=2&amp;cm=1&amp;sc=0&amp;lm=-1&amp;pn=40&amp;rn=1" TargetMode="External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0%BA%B9%F3&amp;in=11978&amp;cl=2&amp;cm=1&amp;sc=0&amp;lm=-1&amp;pn=22&amp;rn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03\flash\LYdh3-1.swf" TargetMode="External"/><Relationship Id="rId2" Type="http://schemas.openxmlformats.org/officeDocument/2006/relationships/hyperlink" Target="http://image.baidu.com/i?ct=503316480&amp;z=0&amp;tn=baiduimagedetail&amp;word=%BB%A8%D3%EF&amp;in=13257&amp;cl=2&amp;cm=1&amp;sc=0&amp;lm=-1&amp;pn=23&amp;rn=1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image.baidu.com/i?ct=503316480&amp;z=0&amp;tn=baiduimagedetail&amp;word=%BB%A8%D3%EF&amp;in=22949&amp;cl=2&amp;cm=1&amp;sc=0&amp;lm=-1&amp;pn=28&amp;rn=1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image.baidu.com/i?ct=503316480&amp;z=0&amp;tn=baiduimagedetail&amp;word=%BB%A8%D3%EF&amp;in=28475&amp;cl=2&amp;cm=1&amp;sc=0&amp;lm=-1&amp;pn=41&amp;rn=1" TargetMode="External"/><Relationship Id="rId7" Type="http://schemas.openxmlformats.org/officeDocument/2006/relationships/image" Target="../media/image30.jpeg"/><Relationship Id="rId8" Type="http://schemas.openxmlformats.org/officeDocument/2006/relationships/hyperlink" Target="http://image.baidu.com/i?ct=503316480&amp;z=0&amp;tn=baiduimagedetail&amp;word=%BB%A8%D3%EF&amp;in=1083&amp;cl=2&amp;cm=1&amp;sc=0&amp;lm=-1&amp;pn=66&amp;rn=1" TargetMode="External"/><Relationship Id="rId9" Type="http://schemas.openxmlformats.org/officeDocument/2006/relationships/image" Target="../media/image31.jpeg"/><Relationship Id="rId10" Type="http://schemas.openxmlformats.org/officeDocument/2006/relationships/hyperlink" Target="http://image.baidu.com/i?ct=503316480&amp;z=0&amp;tn=baiduimagedetail&amp;word=%CF&#699;%A8&amp;in=10908&amp;cl=2&amp;cm=1&amp;sc=0&amp;lm=-1&amp;pn=5&amp;rn=1" TargetMode="External"/><Relationship Id="rId11" Type="http://schemas.openxmlformats.org/officeDocument/2006/relationships/image" Target="../media/image32.jpeg"/><Relationship Id="rId12" Type="http://schemas.openxmlformats.org/officeDocument/2006/relationships/hyperlink" Target="http://image.baidu.com/i?ct=503316480&amp;z=0&amp;tn=baiduimagedetail&amp;word=%CF&#699;%A8&amp;in=27016&amp;cl=2&amp;cm=1&amp;sc=0&amp;lm=-1&amp;pn=77&amp;rn=1" TargetMode="External"/><Relationship Id="rId13" Type="http://schemas.openxmlformats.org/officeDocument/2006/relationships/image" Target="../media/image33.jpeg"/><Relationship Id="rId14" Type="http://schemas.openxmlformats.org/officeDocument/2006/relationships/hyperlink" Target="http://image.baidu.com/i?ct=503316480&amp;z=0&amp;tn=baiduimagedetail&amp;word=%CF&#699;%A8&amp;in=7294&amp;cl=2&amp;cm=1&amp;sc=0&amp;lm=-1&amp;pn=155&amp;rn=1" TargetMode="External"/><Relationship Id="rId15" Type="http://schemas.openxmlformats.org/officeDocument/2006/relationships/image" Target="../media/image34.jpeg"/><Relationship Id="rId1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A%EC%D5%C6&amp;in=16007&amp;cl=2&amp;cm=1&amp;sc=0&amp;lm=-1&amp;pn=2&amp;rn=1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image.baidu.com/i?ct=503316480&amp;z=0&amp;tn=baiduimagedetail&amp;word=%B7&#1783;%E7%D0%C5%D7%D3&amp;in=27936&amp;cl=2&amp;cm=1&amp;sc=0&amp;lm=-1&amp;pn=0&amp;rn=1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://image.baidu.com/i?ct=503316480&amp;z=0&amp;tn=baiduimagedetail&amp;word=%BD%F0%D3%E3%B2%DD&amp;in=17157&amp;cl=2&amp;cm=1&amp;sc=0&amp;lm=-1&amp;pn=277&amp;rn=1" TargetMode="External"/><Relationship Id="rId6" Type="http://schemas.openxmlformats.org/officeDocument/2006/relationships/image" Target="../media/image37.jpe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D%F2%C4%EA%C7%E0&amp;in=28673&amp;cl=2&amp;cm=1&amp;sc=0&amp;lm=-1&amp;pn=1&amp;rn=1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age.baidu.com/i?ct=503316480&amp;z=0&amp;tn=baiduimagedetail&amp;word=%CB&#624;%D8&amp;in=28948&amp;cl=2&amp;cm=1&amp;sc=0&amp;lm=-1&amp;pn=13&amp;rn=1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image.baidu.com/i?ct=503316480&amp;z=0&amp;tn=baiduimagedetail&amp;word=%E9%CF%E9%AD&#1446;&amp;in=25849&amp;cl=2&amp;cm=1&amp;sc=0&amp;lm=-1&amp;pn=3&amp;rn=1" TargetMode="External"/><Relationship Id="rId6" Type="http://schemas.openxmlformats.org/officeDocument/2006/relationships/image" Target="../media/image40.jpeg"/><Relationship Id="rId7" Type="http://schemas.openxmlformats.org/officeDocument/2006/relationships/hyperlink" Target="http://image.baidu.com/i?ct=503316480&amp;z=0&amp;tn=baiduimagedetail&amp;word=%D6%F1%D7%D3&amp;in=24752&amp;cl=2&amp;cm=1&amp;sc=0&amp;lm=-1&amp;pn=2&amp;rn=1" TargetMode="External"/><Relationship Id="rId8" Type="http://schemas.openxmlformats.org/officeDocument/2006/relationships/image" Target="../media/image41.jpeg"/><Relationship Id="rId9" Type="http://schemas.openxmlformats.org/officeDocument/2006/relationships/hyperlink" Target="http://image.baidu.com/i?ct=503316480&amp;z=0&amp;tn=baiduimagedetail&amp;word=%B6%A1%CF&#16104;&amp;in=8225&amp;cl=2&amp;cm=1&amp;sc=0&amp;lm=-1&amp;pn=0&amp;rn=1" TargetMode="External"/><Relationship Id="rId10" Type="http://schemas.openxmlformats.org/officeDocument/2006/relationships/image" Target="../media/image42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03/flash/LYdh3-2.swf" TargetMode="External"/><Relationship Id="rId2" Type="http://schemas.openxmlformats.org/officeDocument/2006/relationships/hyperlink" Target="http://imgnews.baidu.com/i?ct=520093696&amp;z=0&amp;tn=baiduimagenewsdetail&amp;word=%BA%EC&#245;%B9%E5&amp;in=17881&amp;cl=3&amp;lm=-1&amp;pn=2&amp;rn=1" TargetMode="External"/><Relationship Id="rId3" Type="http://schemas.openxmlformats.org/officeDocument/2006/relationships/image" Target="../media/image43.jpeg"/><Relationship Id="rId4" Type="http://schemas.openxmlformats.org/officeDocument/2006/relationships/hyperlink" Target="http://image.baidu.com/i?ct=503316480&amp;z=0&amp;tn=baiduimagedetail&amp;word=%CF%E3&#687;%D6%F1&amp;in=13455&amp;cl=2&amp;cm=1&amp;sc=0&amp;lm=-1&amp;pn=1&amp;rn=1" TargetMode="External"/><Relationship Id="rId5" Type="http://schemas.openxmlformats.org/officeDocument/2006/relationships/image" Target="../media/image44.jpeg"/><Relationship Id="rId6" Type="http://schemas.openxmlformats.org/officeDocument/2006/relationships/hyperlink" Target="http://image.baidu.com/i?ct=503316480&amp;z=0&amp;tn=baiduimagedetail&amp;word=%B0&#1658;%CF&amp;in=4819&amp;cl=2&amp;cm=1&amp;sc=0&amp;lm=-1&amp;pn=7&amp;rn=1" TargetMode="External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%A8%C0%BA&amp;in=26107&amp;cl=2&amp;cm=1&amp;sc=0&amp;lm=-1&amp;pn=22&amp;rn=1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image.baidu.com/i?ct=503316480&amp;z=0&amp;tn=baiduimagedetail&amp;word=%BB%A8%BB%B7&amp;in=22309&amp;cl=2&amp;cm=1&amp;sc=0&amp;lm=-1&amp;pn=2&amp;rn=1" TargetMode="External"/><Relationship Id="rId4" Type="http://schemas.openxmlformats.org/officeDocument/2006/relationships/image" Target="../media/image47.jpeg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A%D8&#428;&amp;in=14557&amp;cl=2&amp;cm=1&amp;sc=0&amp;lm=-1&amp;pn=31&amp;rn=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.baidu.com/i?ct=503316480&amp;z=0&amp;tn=baiduimagedetail&amp;word=%CF&#699;%A8&amp;in=12955&amp;cl=2&amp;cm=1&amp;sc=0&amp;lm=-1&amp;pn=37&amp;rn=1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.baidu.com/i?ct=503316480&amp;z=0&amp;tn=baiduimagedetail&amp;word=%BC%CD%C4%EE&#439;&amp;in=24321&amp;cl=2&amp;cm=1&amp;sc=0&amp;lm=-1&amp;pn=37&amp;rn=1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.baidu.com/i?ct=503316480&amp;z=0&amp;tn=baiduimagedetail&amp;word=%D4%F9%D1%D4&amp;in=6577&amp;cl=2&amp;cm=1&amp;sc=0&amp;lm=-1&amp;pn=54&amp;rn=1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.baidu.com/i?ct=503316480&amp;z=0&amp;tn=baiduimagedetail&amp;word=%D4%F9%D1%D4&amp;in=27297&amp;cl=2&amp;cm=1&amp;sc=0&amp;lm=-1&amp;pn=48&amp;rn=1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image.baidu.com/i?ct=503316480&amp;z=0&amp;tn=baiduimagedetail&amp;word=%D4%F9%D1%D4&amp;in=12930&amp;cl=2&amp;cm=1&amp;sc=0&amp;lm=-1&amp;pn=40&amp;rn=1" TargetMode="External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689;%C9%D0%C0%F1&#439;&amp;in=9472&amp;cl=2&amp;cm=1&amp;sc=0&amp;lm=-1&amp;pn=13&amp;rn=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0&amp;tn=baiduimagedetail&amp;word=%B6%C0%B4%B4%C0%F1&#439;&amp;in=27997&amp;cl=2&amp;cm=1&amp;sc=0&amp;lm=-1&amp;pn=13&amp;rn=1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.baidu.com/i?ct=503316480&amp;z=0&amp;tn=baiduimagedetail&amp;word=%C7%E9%B8%D0%C0%F1&#439;&amp;in=14661&amp;cl=2&amp;cm=1&amp;sc=0&amp;lm=-1&amp;pn=2&amp;rn=1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7%EC%B5%E4%BB&#60847;&amp;in=1667&amp;cl=2&amp;cm=1&amp;sc=0&amp;lm=-1&amp;pn=37&amp;rn=1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.baidu.com/i?ct=503316480&amp;z=0&amp;tn=baiduimagedetail&amp;word=%BF%AA%D5&#383;%AA&#1205;&amp;in=18277&amp;cl=2&amp;cm=1&amp;sc=0&amp;lm=-1&amp;pn=14&amp;rn=1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.baidu.com/i?ct=503316480&amp;z=0&amp;tn=baiduimagedetail&amp;word=%BF%AA%D5&#383;%AA&#1205;&amp;in=7334&amp;cl=2&amp;cm=1&amp;sc=0&amp;lm=-1&amp;pn=9&amp;rn=1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F%EC%B5%DD&amp;in=32115&amp;cl=2&amp;cm=1&amp;sc=0&amp;lm=-1&amp;pn=48&amp;rn=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.baidu.com/i?ct=503316480&amp;z=0&amp;tn=baiduimagedetail&amp;word=%C7%D7%D7%D4%D4%F9%CB%CD&amp;in=18450&amp;cl=2&amp;cm=1&amp;sc=0&amp;lm=-1&amp;pn=1&amp;rn=1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F%AA&#1205;%CB%CD%CF&#699;%A8&amp;in=16983&amp;cl=2&amp;cm=1&amp;sc=0&amp;lm=-1&amp;pn=3&amp;rn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.baidu.com/i?ct=503316480&amp;z=0&amp;tn=baiduimagedetail&amp;word=%B5%B0%B8%E2&amp;in=23618&amp;cl=2&amp;cm=1&amp;sc=0&amp;lm=-1&amp;pn=2&amp;rn=1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.baidu.com/i?ct=503316480&amp;z=0&amp;tn=baiduimagedetail&amp;word=%C8%CB%CE&#318;%B0%B9%DB&amp;in=26806&amp;cl=2&amp;cm=1&amp;sc=0&amp;lm=-1&amp;pn=122&amp;rn=1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image.baidu.com/i?ct=503316480&amp;z=0&amp;tn=baiduimagedetail&amp;word=%CA&#40943;&amp;in=12858&amp;cl=2&amp;cm=1&amp;sc=0&amp;lm=-1&amp;pn=33&amp;rn=1" TargetMode="Externa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E&#311;%BF%CB&#305;%A6&amp;in=3871&amp;cl=2&amp;cm=1&amp;sc=0&amp;lm=-1&amp;pn=19&amp;rn=1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C0%D6%C6%F7&amp;in=28047&amp;cl=2&amp;cm=1&amp;sc=0&amp;lm=-1&amp;pn=77&amp;rn=1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一、馈赠的含义及意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含义：馈赠时人们在交往过程中通过赠送   给交往对象礼物来表达对对方的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尊重、敬意、友谊、纪念、祝贺、感谢、慰问、哀悼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等情感与意愿的一种交际行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目的：沟通感情、保持联系、体现馈赠着的品质和诚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89840" y="620640"/>
            <a:ext cx="251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礼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63640" y="1700280"/>
            <a:ext cx="6019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99ff"/>
                </a:solidFill>
                <a:latin typeface="Times New Roman"/>
              </a:rPr>
              <a:t>、尊重对方的个人的禁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Times New Roman"/>
              </a:rPr>
              <a:t>禁忌四类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3276720"/>
            <a:ext cx="228600" cy="1371600"/>
          </a:xfrm>
          <a:prstGeom prst="downArrow">
            <a:avLst>
              <a:gd name="adj1" fmla="val 50000"/>
              <a:gd name="adj2" fmla="val 150000"/>
            </a:avLst>
          </a:prstGeom>
          <a:solidFill>
            <a:srgbClr val="3694b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3276720"/>
            <a:ext cx="228600" cy="1371600"/>
          </a:xfrm>
          <a:prstGeom prst="downArrow">
            <a:avLst>
              <a:gd name="adj1" fmla="val 50000"/>
              <a:gd name="adj2" fmla="val 150000"/>
            </a:avLst>
          </a:prstGeom>
          <a:solidFill>
            <a:srgbClr val="3694b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3276720"/>
            <a:ext cx="228600" cy="1371600"/>
          </a:xfrm>
          <a:prstGeom prst="downArrow">
            <a:avLst>
              <a:gd name="adj1" fmla="val 50000"/>
              <a:gd name="adj2" fmla="val 150000"/>
            </a:avLst>
          </a:prstGeom>
          <a:solidFill>
            <a:srgbClr val="3694b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77120" y="3276720"/>
            <a:ext cx="228600" cy="1371600"/>
          </a:xfrm>
          <a:prstGeom prst="downArrow">
            <a:avLst>
              <a:gd name="adj1" fmla="val 50000"/>
              <a:gd name="adj2" fmla="val 150000"/>
            </a:avLst>
          </a:prstGeom>
          <a:solidFill>
            <a:srgbClr val="3694b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43800" y="4724280"/>
            <a:ext cx="911880" cy="152424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个人禁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68040" y="4724280"/>
            <a:ext cx="911880" cy="144792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民俗禁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44200" y="4724280"/>
            <a:ext cx="911880" cy="144792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宗教禁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44400" y="4724280"/>
            <a:ext cx="911880" cy="144792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伦理禁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根据馈赠价值选择礼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1219320"/>
            <a:ext cx="7467480" cy="5333760"/>
          </a:xfrm>
          <a:prstGeom prst="verticalScroll">
            <a:avLst>
              <a:gd name="adj" fmla="val 12500"/>
            </a:avLst>
          </a:prstGeom>
          <a:solidFill>
            <a:srgbClr val="3694b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1295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对外接待“八不送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|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2019240"/>
            <a:ext cx="58672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第一、不送现金、信用卡和有价证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第二、不送价格过高的奢侈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第三、不送不和时尚、不利健康之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第四、不送易使异性产生误解之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第五、不送触犯受赠对象个人禁忌之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第六、不送涉及国家机密之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第七、不送其他有违国家法律、法规之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第八、不送不道德的物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1413000"/>
            <a:ext cx="15987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四、赠送的方法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是说明意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是介绍礼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是仪态大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Times New Roman"/>
              </a:rPr>
              <a:t>五、赠送的时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选择最佳时机。如：结婚、生子、乔迁、晋升、受挫、生病住院、表示感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选择具体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控制好送礼的时限。一般以简短为宜，说明意图及礼品解释即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注意时间忌讳。不必每逢良机必送，使礼多成灾，对方刚做完手术上未痊愈时不必送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ff"/>
                </a:solidFill>
                <a:latin typeface="Times New Roman"/>
              </a:rPr>
              <a:t>六、</a:t>
            </a:r>
            <a:r>
              <a:rPr b="1" lang="zh-CN" sz="4400" spc="-1" strike="noStrike">
                <a:solidFill>
                  <a:srgbClr val="0099ff"/>
                </a:solidFill>
                <a:latin typeface="Times New Roman"/>
              </a:rPr>
              <a:t>礼品的包装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注意包装的材料、容器、图案造型、商标、文字、色彩的选择和使用，应符合政策法规和习俗惯例，不要违反受赠方的宗教、民族禁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注意数字禁忌。“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“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9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使日本的忌讳。“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13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欧美人的忌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注意色彩。日本忌绿色，喜红色；美国人喜欢鲜明的色彩，忌紫色；伊斯兰教徒讨厌死亡象征的黄色，喜欢绿色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35280" y="623736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ppt图片素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Times New Roman"/>
              </a:rPr>
              <a:t>七、受赠礼仪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心态开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仪态大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受礼有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表示谢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2743200"/>
            <a:ext cx="2087640" cy="1873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4005360"/>
            <a:ext cx="2468520" cy="2471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91120" y="1600200"/>
            <a:ext cx="1728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Times New Roman"/>
              </a:rPr>
              <a:t>八、拒绝礼品的礼仪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并不熟悉得人送的及其昂贵的礼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隐含着发生违法乱纪行为的礼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接受后或许会受到对方控制的礼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16000" y="4149720"/>
            <a:ext cx="7418520" cy="2471760"/>
          </a:xfrm>
          <a:prstGeom prst="foldedCorner">
            <a:avLst>
              <a:gd name="adj" fmla="val 12500"/>
            </a:avLst>
          </a:prstGeom>
          <a:solidFill>
            <a:srgbClr val="0033cc"/>
          </a:solidFill>
          <a:ln cap="sq"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注意：拒收礼品时，应保持礼貌、从容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自然、友好的态度，先向对方表达感谢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情，再向对方详细说明拒收的原因，切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不可应阻挡，以免对方难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2000" y="1557360"/>
            <a:ext cx="10954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Times New Roman"/>
              </a:rPr>
              <a:t>九、送花礼仪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、了解“花卉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当我们用花为媒来传递友谊时，要注意运用正确的“花卉语”，一面出现尴尬。以下是集中常见的花卉的寓意： 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m03\flash\LYdh3-1.sw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7640" y="4005360"/>
            <a:ext cx="1324080" cy="885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59280" y="4005360"/>
            <a:ext cx="1056960" cy="1323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16360" y="4076640"/>
            <a:ext cx="1511280" cy="1324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948360" y="39337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547640" y="4941720"/>
            <a:ext cx="1219320" cy="1333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276720" y="5445000"/>
            <a:ext cx="1333440" cy="1000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516720" y="549360"/>
            <a:ext cx="1477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380880"/>
            <a:ext cx="7925040" cy="6248520"/>
          </a:xfrm>
          <a:prstGeom prst="verticalScroll">
            <a:avLst>
              <a:gd name="adj" fmla="val 12500"/>
            </a:avLst>
          </a:prstGeom>
          <a:solidFill>
            <a:srgbClr val="0099ff"/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ef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fde3"/>
                </a:solidFill>
                <a:latin typeface="Times New Roman"/>
                <a:ea typeface="仿宋_GB2312"/>
              </a:rPr>
              <a:t>荷花——纯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ef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fde3"/>
                </a:solidFill>
                <a:latin typeface="Times New Roman"/>
                <a:ea typeface="仿宋_GB2312"/>
              </a:rPr>
              <a:t>红玫瑰——爱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ef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fde3"/>
                </a:solidFill>
                <a:latin typeface="Times New Roman"/>
                <a:ea typeface="仿宋_GB2312"/>
              </a:rPr>
              <a:t>百合——圣洁、幸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ef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fde3"/>
                </a:solidFill>
                <a:latin typeface="Times New Roman"/>
                <a:ea typeface="仿宋_GB2312"/>
              </a:rPr>
              <a:t>康乃馨——健康长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ef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fde3"/>
                </a:solidFill>
                <a:latin typeface="Times New Roman"/>
                <a:ea typeface="仿宋_GB2312"/>
              </a:rPr>
              <a:t>毋忘我——永志不忘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ef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fde3"/>
                </a:solidFill>
                <a:latin typeface="Times New Roman"/>
                <a:ea typeface="仿宋_GB2312"/>
              </a:rPr>
              <a:t>菊花——长寿高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ef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fde3"/>
                </a:solidFill>
                <a:latin typeface="Times New Roman"/>
              </a:rPr>
              <a:t>红掌</a:t>
            </a:r>
            <a:r>
              <a:rPr b="0" lang="en-US" sz="2800" spc="-1" strike="noStrike">
                <a:solidFill>
                  <a:srgbClr val="fefde3"/>
                </a:solidFill>
                <a:latin typeface="Times New Roman"/>
                <a:ea typeface="仿宋_GB2312"/>
              </a:rPr>
              <a:t>——大展宏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ef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fde3"/>
                </a:solidFill>
                <a:latin typeface="Times New Roman"/>
                <a:ea typeface="仿宋_GB2312"/>
              </a:rPr>
              <a:t>金鱼草——繁荣昌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ef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fde3"/>
                </a:solidFill>
                <a:latin typeface="Times New Roman"/>
                <a:ea typeface="仿宋_GB2312"/>
              </a:rPr>
              <a:t>粉风信子——倾慕、浪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3645000"/>
            <a:ext cx="1333800" cy="1000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5157720"/>
            <a:ext cx="1066680" cy="1333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56360" y="371628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844720" y="4762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7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209680" y="380880"/>
            <a:ext cx="6553440" cy="5943600"/>
          </a:xfrm>
          <a:prstGeom prst="verticalScroll">
            <a:avLst>
              <a:gd name="adj" fmla="val 12500"/>
            </a:avLst>
          </a:prstGeom>
          <a:solidFill>
            <a:srgbClr val="0099ff"/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0" y="1700280"/>
            <a:ext cx="324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fde3"/>
                </a:solidFill>
                <a:latin typeface="Times New Roman"/>
              </a:rPr>
              <a:t>万年青——友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fde3"/>
                </a:solidFill>
                <a:latin typeface="Times New Roman"/>
              </a:rPr>
              <a:t>兰花——优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fde3"/>
                </a:solidFill>
                <a:latin typeface="Times New Roman"/>
              </a:rPr>
              <a:t>剑兰——步步高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fde3"/>
                </a:solidFill>
                <a:latin typeface="Times New Roman"/>
              </a:rPr>
              <a:t>松柏——坚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fde3"/>
                </a:solidFill>
                <a:latin typeface="Times New Roman"/>
              </a:rPr>
              <a:t>橄榄枝——和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fde3"/>
                </a:solidFill>
                <a:latin typeface="Times New Roman"/>
              </a:rPr>
              <a:t>梅花——刚毅不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fde3"/>
                </a:solidFill>
                <a:latin typeface="Times New Roman"/>
              </a:rPr>
              <a:t>竹子——正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fde3"/>
                </a:solidFill>
                <a:latin typeface="Times New Roman"/>
              </a:rPr>
              <a:t>红茶花——质朴、美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fde3"/>
                </a:solidFill>
                <a:latin typeface="Times New Roman"/>
              </a:rPr>
              <a:t>牵牛花——爱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fde3"/>
                </a:solidFill>
                <a:latin typeface="Times New Roman"/>
              </a:rPr>
              <a:t>丁香花——谦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125360"/>
            <a:ext cx="1333800" cy="1333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2819520"/>
            <a:ext cx="1333440" cy="1314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27640" y="333360"/>
            <a:ext cx="1395360" cy="1582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16720" y="2997360"/>
            <a:ext cx="1324080" cy="2160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066680" y="4648320"/>
            <a:ext cx="1333800" cy="10000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29528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丁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4038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松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9920" y="1371600"/>
            <a:ext cx="91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万年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二、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馈赠的六要素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5W+1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2133720"/>
            <a:ext cx="380880" cy="3429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1981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送给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26668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HY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为什么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HAT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送什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3962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HEN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何时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4648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HERE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什么场合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5257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OW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如何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Times New Roman"/>
              </a:rPr>
              <a:t>十、送花的时机与场合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鲜花因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品种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类型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颜色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数量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的不同，被人们赋予了不同的寓意，以此来表达不同的情感。送花应注意把握最佳时机，选择合适的场合。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恭贺结婚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祝贺生产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乔迁庆典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庆祝生辰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慰问探视           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节日问候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115640" y="1699920"/>
            <a:ext cx="76201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情人节（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日）送红玫瑰表达情人之间的情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母亲节（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月的第二个星期日）粉红色的香石竹（康乃馨）“母亲之花”“神圣之花”，萱草“金针花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父亲节（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月的第三个星期日）送秋石斛为主。菊花、向日葵、百合、君子兰、文心兰等象征“尊敬父亲”“平凡也伟大”。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m03\flash\LYdh3-2.sw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326880"/>
            <a:ext cx="1727280" cy="1284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08360" y="312840"/>
            <a:ext cx="1440000" cy="1244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0360" y="333360"/>
            <a:ext cx="1440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Times New Roman"/>
              </a:rPr>
              <a:t>十一、送花的形式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620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Times New Roman"/>
              </a:rPr>
              <a:t>日常社交生活中赠送鲜花，可以根据对象、场合等不同情况，分别送花束、花篮、盆花、插花、头花、胸花、花环、花圈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Times New Roman"/>
              </a:rPr>
              <a:t>送花以鲜花为佳，干花、纸花则不宜，更不可送枯萎的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549360"/>
            <a:ext cx="1324080" cy="12286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3500280"/>
            <a:ext cx="1333800" cy="1333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835280" y="623736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660066"/>
                </a:solidFill>
                <a:uFillTx/>
                <a:latin typeface="Times New Roman"/>
                <a:hlinkClick r:id="rId5"/>
              </a:rPr>
              <a:t>ppt图片素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E0A9-450F-413C-9681-46B59D83A9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Times New Roman"/>
              </a:rPr>
              <a:t>十二、送花的禁忌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4729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99ff"/>
                </a:solidFill>
                <a:latin typeface="Times New Roman"/>
              </a:rPr>
              <a:t>、忌不解花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99ff"/>
                </a:solidFill>
                <a:latin typeface="Times New Roman"/>
              </a:rPr>
              <a:t>、鲜花品种禁忌         </a:t>
            </a: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99ff"/>
                </a:solidFill>
                <a:latin typeface="Times New Roman"/>
              </a:rPr>
              <a:t>、鲜花色彩忌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99ff"/>
                </a:solidFill>
                <a:latin typeface="Times New Roman"/>
              </a:rPr>
              <a:t>、鲜花数目忌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99ff"/>
                </a:solidFill>
                <a:latin typeface="Times New Roman"/>
              </a:rPr>
              <a:t>、忌不顾场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99ff"/>
                </a:solidFill>
                <a:latin typeface="Times New Roman"/>
              </a:rPr>
              <a:t>、忌不懂习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馈赠对象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馈赠时要考虑的因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2514600"/>
            <a:ext cx="1600200" cy="1905120"/>
          </a:xfrm>
          <a:prstGeom prst="rightArrowCallout">
            <a:avLst>
              <a:gd name="adj1" fmla="val 29767"/>
              <a:gd name="adj2" fmla="val 29764"/>
              <a:gd name="adj3" fmla="val 16667"/>
              <a:gd name="adj4" fmla="val 66667"/>
            </a:avLst>
          </a:prstGeom>
          <a:solidFill>
            <a:srgbClr val="3694b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289548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性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2514600"/>
            <a:ext cx="1371600" cy="1905120"/>
          </a:xfrm>
          <a:prstGeom prst="rightArrowCallout">
            <a:avLst>
              <a:gd name="adj1" fmla="val 34727"/>
              <a:gd name="adj2" fmla="val 34724"/>
              <a:gd name="adj3" fmla="val 16667"/>
              <a:gd name="adj4" fmla="val 66667"/>
            </a:avLst>
          </a:prstGeom>
          <a:solidFill>
            <a:srgbClr val="3694b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4419720"/>
            <a:ext cx="1371600" cy="1904760"/>
          </a:xfrm>
          <a:prstGeom prst="rightArrowCallout">
            <a:avLst>
              <a:gd name="adj1" fmla="val 34721"/>
              <a:gd name="adj2" fmla="val 34718"/>
              <a:gd name="adj3" fmla="val 16667"/>
              <a:gd name="adj4" fmla="val 66667"/>
            </a:avLst>
          </a:prstGeom>
          <a:solidFill>
            <a:srgbClr val="3694b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2514600"/>
            <a:ext cx="1371600" cy="1905120"/>
          </a:xfrm>
          <a:prstGeom prst="rightArrowCallout">
            <a:avLst>
              <a:gd name="adj1" fmla="val 34727"/>
              <a:gd name="adj2" fmla="val 34724"/>
              <a:gd name="adj3" fmla="val 16667"/>
              <a:gd name="adj4" fmla="val 66667"/>
            </a:avLst>
          </a:prstGeom>
          <a:solidFill>
            <a:srgbClr val="3694b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4419720"/>
            <a:ext cx="1371600" cy="1904760"/>
          </a:xfrm>
          <a:prstGeom prst="rightArrowCallout">
            <a:avLst>
              <a:gd name="adj1" fmla="val 34721"/>
              <a:gd name="adj2" fmla="val 34718"/>
              <a:gd name="adj3" fmla="val 16667"/>
              <a:gd name="adj4" fmla="val 66667"/>
            </a:avLst>
          </a:prstGeom>
          <a:solidFill>
            <a:srgbClr val="3694b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2895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2895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职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02920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身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4419720"/>
            <a:ext cx="1371600" cy="1904760"/>
          </a:xfrm>
          <a:prstGeom prst="rightArrowCallout">
            <a:avLst>
              <a:gd name="adj1" fmla="val 34721"/>
              <a:gd name="adj2" fmla="val 34718"/>
              <a:gd name="adj3" fmla="val 16667"/>
              <a:gd name="adj4" fmla="val 66667"/>
            </a:avLst>
          </a:prstGeom>
          <a:solidFill>
            <a:srgbClr val="3694b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身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800600"/>
            <a:ext cx="38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性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喜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35280" y="623736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ppt图片素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馈赠内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赠物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如一束鲜花、一张卡片、一件纪念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赠言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如书面留言、口头留言、临别留言、毕业留言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2852640"/>
            <a:ext cx="1323720" cy="1038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95640" y="2852640"/>
            <a:ext cx="1323720" cy="1333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2000" y="2924280"/>
            <a:ext cx="1333440" cy="1066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908000" y="5229360"/>
            <a:ext cx="1254240" cy="1083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780000" y="5157720"/>
            <a:ext cx="1323720" cy="99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867280" y="5084640"/>
            <a:ext cx="13240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馈赠礼品的标准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99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情感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99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独创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99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时尚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99ff"/>
                </a:solidFill>
                <a:latin typeface="宋体"/>
              </a:rPr>
              <a:t>、适俗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1844640"/>
            <a:ext cx="2376360" cy="2270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19640" y="4541760"/>
            <a:ext cx="2904840" cy="1839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16720" y="2602080"/>
            <a:ext cx="201600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馈赠礼品的场合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表示谢意敬意  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祝贺庆典活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公共关系礼品 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祝贺开张开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适逢重大节日 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探视住院病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应邀家中做客 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8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遭受不测事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4581360"/>
            <a:ext cx="2448000" cy="1800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4508640"/>
            <a:ext cx="2233440" cy="1944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59640" y="450864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馈赠方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亲自赠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托人赠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邮寄运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5013360"/>
            <a:ext cx="2158920" cy="1368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2060640"/>
            <a:ext cx="1584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三、礼品的选择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544968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、根据馈赠目的选择礼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、公司庆典一般送鲜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、慰问病人可以送鲜花、营养品、书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、朋友生日送卡片、蛋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、节日庆祝送健康食品、当地特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、旅游归来送人文景观纪念品、当地特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、走亲访友送精致水果、糖酒食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1341360"/>
            <a:ext cx="1057320" cy="1324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3141720"/>
            <a:ext cx="1324080" cy="1305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4797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08720" y="1484280"/>
            <a:ext cx="13338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、根据馈赠对象选择礼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考虑彼此的关系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如：亲缘关系、也缘关系、性别关系、友谊关系、文化习惯关系、偶发性关系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了解受赠对象的爱好何需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如：给书法爱好者送文房四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给音乐爱好者送乐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581360"/>
            <a:ext cx="2016360" cy="762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5445000"/>
            <a:ext cx="13334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6T16:36:2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9:38:46Z</dcterms:modified>
  <cp:revision>5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