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FAC-A322-4109-829B-163FBB52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6DB-2423-4401-846C-1B6A81B2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FC3-14F1-441E-8BCA-4CB27CA0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9D2-E7FE-4DCD-9F32-99625963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3330-A2B8-46C0-B221-D23EC9D7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1343-05D1-456E-BF83-154BD063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1C94-C2D3-4F88-AAA4-30464BB9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86AA-4BA7-4584-B551-C84FB3AC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E64E-AB39-499B-B2DA-EA15792C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8477-437D-4579-B59E-B9ADB357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7870-01F2-410E-80B8-9CED6A8E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841-20F2-4C54-A40E-52F27738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94B6-88C5-4472-B52F-EFB0B557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D754-0AC5-40E5-8653-846C6AE6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6AE8-A638-4CB2-8AAB-C95E4D29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9CCA-41EF-4EB1-B3CE-97F14F18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CDC1-D45E-403A-AB7A-A84DA94B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D1E-239C-4D85-9B5F-EBE29214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C99-DE58-4427-B336-9CAED66E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E9B-83D4-4F94-9541-2B3360C4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A26-4642-4764-9091-9D3309C0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5FE-C78B-47E6-B79C-7DD47177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941-8CA0-462D-ADE4-DBD4C97A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383-FEC3-4F7E-AD76-1E85DC6D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P_SHOLI_TXT_Leprechaun_Ha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098A-E44D-44C5-A868-B02E3955DE0D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PP_SHOLI_TLE_Leprechaun_Ha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93A0-8AFD-40F9-A869-6342CC5B8CA6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4"/>
          <p:cNvSpPr/>
          <p:nvPr/>
        </p:nvSpPr>
        <p:spPr>
          <a:xfrm>
            <a:off x="0" y="5445000"/>
            <a:ext cx="762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64920" y="32860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帽子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8ED-4D93-4829-B932-E19B009530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02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1Z</dcterms:modified>
  <cp:revision>1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