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1FEA-6E12-4188-82ED-4ADAE4370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8763-E2A3-40D2-8555-E263829C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9069-6555-4769-88BA-6D1EDC40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6CAE-C883-40CD-9233-4203A9D7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3323-F6CF-4C69-817A-C4844DE3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B1ED-3A5E-4289-960B-A879D548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5031-B467-496D-935F-30B193B7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5C64-4349-4A77-B60B-7C31F6AD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2465-2360-4783-8309-9414D3C9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C364-BA34-410F-ADDC-B44C44D1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1188-A1AB-4640-89FF-681BCF470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8D6A-28FB-4299-A7FE-3C32EB264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480" y="149040"/>
            <a:ext cx="8229600" cy="82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986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7480" y="149040"/>
            <a:ext cx="8229600" cy="82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3986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109B-80EB-49EE-A7CB-7AD929C7E17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Oval 4"/>
          <p:cNvSpPr/>
          <p:nvPr/>
        </p:nvSpPr>
        <p:spPr>
          <a:xfrm>
            <a:off x="682560" y="5283360"/>
            <a:ext cx="7921800" cy="57276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3b3b3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3429000" y="4221000"/>
            <a:ext cx="2114640" cy="1346400"/>
          </a:xfrm>
          <a:prstGeom prst="triangle">
            <a:avLst>
              <a:gd name="adj" fmla="val 50000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9" name="Group 6"/>
          <p:cNvGrpSpPr/>
          <p:nvPr/>
        </p:nvGrpSpPr>
        <p:grpSpPr>
          <a:xfrm>
            <a:off x="4309920" y="4191120"/>
            <a:ext cx="368280" cy="357120"/>
            <a:chOff x="4309920" y="4191120"/>
            <a:chExt cx="368280" cy="357120"/>
          </a:xfrm>
        </p:grpSpPr>
        <p:sp>
          <p:nvSpPr>
            <p:cNvPr id="120" name="Oval 7"/>
            <p:cNvSpPr/>
            <p:nvPr/>
          </p:nvSpPr>
          <p:spPr>
            <a:xfrm>
              <a:off x="4316400" y="4203720"/>
              <a:ext cx="355320" cy="3430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21" name="Group 8"/>
            <p:cNvGrpSpPr/>
            <p:nvPr/>
          </p:nvGrpSpPr>
          <p:grpSpPr>
            <a:xfrm>
              <a:off x="4309920" y="4191120"/>
              <a:ext cx="368280" cy="357120"/>
              <a:chOff x="4309920" y="4191120"/>
              <a:chExt cx="368280" cy="357120"/>
            </a:xfrm>
          </p:grpSpPr>
          <p:sp>
            <p:nvSpPr>
              <p:cNvPr id="122" name="Oval 9"/>
              <p:cNvSpPr/>
              <p:nvPr/>
            </p:nvSpPr>
            <p:spPr>
              <a:xfrm>
                <a:off x="4309920" y="4191120"/>
                <a:ext cx="368280" cy="3571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3" name="Oval 10"/>
              <p:cNvSpPr/>
              <p:nvPr/>
            </p:nvSpPr>
            <p:spPr>
              <a:xfrm>
                <a:off x="4327560" y="4206960"/>
                <a:ext cx="333360" cy="324000"/>
              </a:xfrm>
              <a:prstGeom prst="ellipse">
                <a:avLst/>
              </a:prstGeom>
              <a:gradFill rotWithShape="0">
                <a:gsLst>
                  <a:gs pos="0">
                    <a:srgbClr val="636869">
                      <a:alpha val="0"/>
                    </a:srgbClr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124" name="Group 47"/>
          <p:cNvGrpSpPr/>
          <p:nvPr/>
        </p:nvGrpSpPr>
        <p:grpSpPr>
          <a:xfrm>
            <a:off x="711360" y="4059360"/>
            <a:ext cx="7561080" cy="144360"/>
            <a:chOff x="711360" y="4059360"/>
            <a:chExt cx="7561080" cy="144360"/>
          </a:xfrm>
        </p:grpSpPr>
        <p:sp>
          <p:nvSpPr>
            <p:cNvPr id="125" name="Rectangle 48"/>
            <p:cNvSpPr/>
            <p:nvPr/>
          </p:nvSpPr>
          <p:spPr>
            <a:xfrm>
              <a:off x="711360" y="4132440"/>
              <a:ext cx="7561080" cy="71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AutoShape 49"/>
            <p:cNvSpPr/>
            <p:nvPr/>
          </p:nvSpPr>
          <p:spPr>
            <a:xfrm>
              <a:off x="798480" y="4060800"/>
              <a:ext cx="732960" cy="69840"/>
            </a:xfrm>
            <a:prstGeom prst="roundRect">
              <a:avLst>
                <a:gd name="adj" fmla="val 50000"/>
              </a:avLst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7" name="AutoShape 50"/>
            <p:cNvSpPr/>
            <p:nvPr/>
          </p:nvSpPr>
          <p:spPr>
            <a:xfrm>
              <a:off x="7465680" y="4059360"/>
              <a:ext cx="726840" cy="71280"/>
            </a:xfrm>
            <a:prstGeom prst="roundRect">
              <a:avLst>
                <a:gd name="adj" fmla="val 50000"/>
              </a:avLst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8" name="Group 51"/>
          <p:cNvGrpSpPr/>
          <p:nvPr/>
        </p:nvGrpSpPr>
        <p:grpSpPr>
          <a:xfrm>
            <a:off x="74520" y="2095920"/>
            <a:ext cx="2280960" cy="2232360"/>
            <a:chOff x="74520" y="2095920"/>
            <a:chExt cx="2280960" cy="2232360"/>
          </a:xfrm>
        </p:grpSpPr>
        <p:grpSp>
          <p:nvGrpSpPr>
            <p:cNvPr id="129" name="Group 52"/>
            <p:cNvGrpSpPr/>
            <p:nvPr/>
          </p:nvGrpSpPr>
          <p:grpSpPr>
            <a:xfrm>
              <a:off x="74520" y="2095920"/>
              <a:ext cx="2280960" cy="2232360"/>
              <a:chOff x="74520" y="2095920"/>
              <a:chExt cx="2280960" cy="2232360"/>
            </a:xfrm>
          </p:grpSpPr>
          <p:grpSp>
            <p:nvGrpSpPr>
              <p:cNvPr id="130" name="Group 53"/>
              <p:cNvGrpSpPr/>
              <p:nvPr/>
            </p:nvGrpSpPr>
            <p:grpSpPr>
              <a:xfrm>
                <a:off x="128520" y="2138400"/>
                <a:ext cx="2179800" cy="2180520"/>
                <a:chOff x="128520" y="2138400"/>
                <a:chExt cx="2179800" cy="2180520"/>
              </a:xfrm>
            </p:grpSpPr>
            <p:sp>
              <p:nvSpPr>
                <p:cNvPr id="131" name="Oval 54"/>
                <p:cNvSpPr/>
                <p:nvPr/>
              </p:nvSpPr>
              <p:spPr>
                <a:xfrm>
                  <a:off x="422280" y="2431080"/>
                  <a:ext cx="1590480" cy="1594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26f"/>
                    </a:gs>
                    <a:gs pos="50000">
                      <a:srgbClr val="75aadb"/>
                    </a:gs>
                    <a:gs pos="100000">
                      <a:srgbClr val="0092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132" name="Group 55"/>
                <p:cNvGrpSpPr/>
                <p:nvPr/>
              </p:nvGrpSpPr>
              <p:grpSpPr>
                <a:xfrm>
                  <a:off x="128520" y="2138400"/>
                  <a:ext cx="2179800" cy="2180520"/>
                  <a:chOff x="128520" y="2138400"/>
                  <a:chExt cx="2179800" cy="2180520"/>
                </a:xfrm>
              </p:grpSpPr>
              <p:sp>
                <p:nvSpPr>
                  <p:cNvPr id="133" name="Oval 56"/>
                  <p:cNvSpPr/>
                  <p:nvPr/>
                </p:nvSpPr>
                <p:spPr>
                  <a:xfrm rot="8982600">
                    <a:off x="421560" y="2431080"/>
                    <a:ext cx="1593000" cy="1594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926f"/>
                      </a:gs>
                      <a:gs pos="100000">
                        <a:srgbClr val="004433">
                          <a:alpha val="0"/>
                        </a:srgbClr>
                      </a:gs>
                    </a:gsLst>
                    <a:lin ang="1801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4" name="Group 57"/>
                  <p:cNvGrpSpPr/>
                  <p:nvPr/>
                </p:nvGrpSpPr>
                <p:grpSpPr>
                  <a:xfrm>
                    <a:off x="559800" y="2560680"/>
                    <a:ext cx="1345320" cy="1465920"/>
                    <a:chOff x="559800" y="2560680"/>
                    <a:chExt cx="1345320" cy="1465920"/>
                  </a:xfrm>
                </p:grpSpPr>
                <p:sp>
                  <p:nvSpPr>
                    <p:cNvPr id="135" name="Oval 58"/>
                    <p:cNvSpPr/>
                    <p:nvPr/>
                  </p:nvSpPr>
                  <p:spPr>
                    <a:xfrm>
                      <a:off x="559800" y="2560680"/>
                      <a:ext cx="1345320" cy="10872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58039"/>
                          </a:srgbClr>
                        </a:gs>
                        <a:gs pos="100000">
                          <a:srgbClr val="767676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Oval 59"/>
                    <p:cNvSpPr/>
                    <p:nvPr/>
                  </p:nvSpPr>
                  <p:spPr>
                    <a:xfrm>
                      <a:off x="767160" y="3242160"/>
                      <a:ext cx="969480" cy="784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60000"/>
                          </a:srgbClr>
                        </a:gs>
                        <a:gs pos="100000">
                          <a:srgbClr val="767676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Line 60"/>
                    <p:cNvSpPr/>
                    <p:nvPr/>
                  </p:nvSpPr>
                  <p:spPr>
                    <a:xfrm>
                      <a:off x="1553040" y="3013920"/>
                      <a:ext cx="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Line 61"/>
                    <p:cNvSpPr/>
                    <p:nvPr/>
                  </p:nvSpPr>
                  <p:spPr>
                    <a:xfrm>
                      <a:off x="1558440" y="3023280"/>
                      <a:ext cx="720" cy="7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Line 62"/>
                    <p:cNvSpPr/>
                    <p:nvPr/>
                  </p:nvSpPr>
                  <p:spPr>
                    <a:xfrm>
                      <a:off x="1506960" y="2722320"/>
                      <a:ext cx="10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40" name="Oval 63"/>
              <p:cNvSpPr/>
              <p:nvPr/>
            </p:nvSpPr>
            <p:spPr>
              <a:xfrm rot="774000">
                <a:off x="320400" y="2358000"/>
                <a:ext cx="1859040" cy="1784880"/>
              </a:xfrm>
              <a:prstGeom prst="ellipse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1" name="Oval 64"/>
              <p:cNvSpPr/>
              <p:nvPr/>
            </p:nvSpPr>
            <p:spPr>
              <a:xfrm rot="774000">
                <a:off x="258480" y="2276640"/>
                <a:ext cx="1829160" cy="1855440"/>
              </a:xfrm>
              <a:prstGeom prst="ellipse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42" name="Rectangle 65"/>
            <p:cNvSpPr/>
            <p:nvPr/>
          </p:nvSpPr>
          <p:spPr>
            <a:xfrm>
              <a:off x="654840" y="2949480"/>
              <a:ext cx="1128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Value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66"/>
          <p:cNvGrpSpPr/>
          <p:nvPr/>
        </p:nvGrpSpPr>
        <p:grpSpPr>
          <a:xfrm>
            <a:off x="6727680" y="2067120"/>
            <a:ext cx="2280960" cy="2232720"/>
            <a:chOff x="6727680" y="2067120"/>
            <a:chExt cx="2280960" cy="2232720"/>
          </a:xfrm>
        </p:grpSpPr>
        <p:grpSp>
          <p:nvGrpSpPr>
            <p:cNvPr id="144" name="Group 67"/>
            <p:cNvGrpSpPr/>
            <p:nvPr/>
          </p:nvGrpSpPr>
          <p:grpSpPr>
            <a:xfrm>
              <a:off x="6727680" y="2067120"/>
              <a:ext cx="2280960" cy="2232720"/>
              <a:chOff x="6727680" y="2067120"/>
              <a:chExt cx="2280960" cy="2232720"/>
            </a:xfrm>
          </p:grpSpPr>
          <p:grpSp>
            <p:nvGrpSpPr>
              <p:cNvPr id="145" name="Group 68"/>
              <p:cNvGrpSpPr/>
              <p:nvPr/>
            </p:nvGrpSpPr>
            <p:grpSpPr>
              <a:xfrm>
                <a:off x="6781680" y="2109600"/>
                <a:ext cx="2179800" cy="2180520"/>
                <a:chOff x="6781680" y="2109600"/>
                <a:chExt cx="2179800" cy="2180520"/>
              </a:xfrm>
            </p:grpSpPr>
            <p:sp>
              <p:nvSpPr>
                <p:cNvPr id="146" name="Oval 69"/>
                <p:cNvSpPr/>
                <p:nvPr/>
              </p:nvSpPr>
              <p:spPr>
                <a:xfrm>
                  <a:off x="7075440" y="2402280"/>
                  <a:ext cx="1590480" cy="1594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26f"/>
                    </a:gs>
                    <a:gs pos="50000">
                      <a:srgbClr val="75aadb"/>
                    </a:gs>
                    <a:gs pos="100000">
                      <a:srgbClr val="0092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147" name="Group 70"/>
                <p:cNvGrpSpPr/>
                <p:nvPr/>
              </p:nvGrpSpPr>
              <p:grpSpPr>
                <a:xfrm>
                  <a:off x="6781680" y="2109600"/>
                  <a:ext cx="2179800" cy="2180520"/>
                  <a:chOff x="6781680" y="2109600"/>
                  <a:chExt cx="2179800" cy="2180520"/>
                </a:xfrm>
              </p:grpSpPr>
              <p:sp>
                <p:nvSpPr>
                  <p:cNvPr id="148" name="Oval 71"/>
                  <p:cNvSpPr/>
                  <p:nvPr/>
                </p:nvSpPr>
                <p:spPr>
                  <a:xfrm rot="8982600">
                    <a:off x="7074720" y="2402280"/>
                    <a:ext cx="1593000" cy="1594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926f"/>
                      </a:gs>
                      <a:gs pos="100000">
                        <a:srgbClr val="004433">
                          <a:alpha val="0"/>
                        </a:srgbClr>
                      </a:gs>
                    </a:gsLst>
                    <a:lin ang="1801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9" name="Group 72"/>
                  <p:cNvGrpSpPr/>
                  <p:nvPr/>
                </p:nvGrpSpPr>
                <p:grpSpPr>
                  <a:xfrm>
                    <a:off x="7212960" y="2531880"/>
                    <a:ext cx="1345320" cy="1465920"/>
                    <a:chOff x="7212960" y="2531880"/>
                    <a:chExt cx="1345320" cy="1465920"/>
                  </a:xfrm>
                </p:grpSpPr>
                <p:sp>
                  <p:nvSpPr>
                    <p:cNvPr id="150" name="Oval 73"/>
                    <p:cNvSpPr/>
                    <p:nvPr/>
                  </p:nvSpPr>
                  <p:spPr>
                    <a:xfrm>
                      <a:off x="7212960" y="2531880"/>
                      <a:ext cx="1345320" cy="10872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58039"/>
                          </a:srgbClr>
                        </a:gs>
                        <a:gs pos="100000">
                          <a:srgbClr val="767676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Oval 74"/>
                    <p:cNvSpPr/>
                    <p:nvPr/>
                  </p:nvSpPr>
                  <p:spPr>
                    <a:xfrm>
                      <a:off x="7420320" y="3213360"/>
                      <a:ext cx="969480" cy="784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60000"/>
                          </a:srgbClr>
                        </a:gs>
                        <a:gs pos="100000">
                          <a:srgbClr val="767676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Line 75"/>
                    <p:cNvSpPr/>
                    <p:nvPr/>
                  </p:nvSpPr>
                  <p:spPr>
                    <a:xfrm>
                      <a:off x="8206200" y="2985120"/>
                      <a:ext cx="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Line 76"/>
                    <p:cNvSpPr/>
                    <p:nvPr/>
                  </p:nvSpPr>
                  <p:spPr>
                    <a:xfrm>
                      <a:off x="8211600" y="2994480"/>
                      <a:ext cx="720" cy="72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Line 77"/>
                    <p:cNvSpPr/>
                    <p:nvPr/>
                  </p:nvSpPr>
                  <p:spPr>
                    <a:xfrm>
                      <a:off x="8160120" y="2693520"/>
                      <a:ext cx="10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55" name="Oval 78"/>
              <p:cNvSpPr/>
              <p:nvPr/>
            </p:nvSpPr>
            <p:spPr>
              <a:xfrm rot="774000">
                <a:off x="6973560" y="2329200"/>
                <a:ext cx="1859040" cy="1785240"/>
              </a:xfrm>
              <a:prstGeom prst="ellipse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6" name="Oval 79"/>
              <p:cNvSpPr/>
              <p:nvPr/>
            </p:nvSpPr>
            <p:spPr>
              <a:xfrm rot="774000">
                <a:off x="6911640" y="2247840"/>
                <a:ext cx="1829160" cy="1855800"/>
              </a:xfrm>
              <a:prstGeom prst="ellipse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57" name="Rectangle 80"/>
            <p:cNvSpPr/>
            <p:nvPr/>
          </p:nvSpPr>
          <p:spPr>
            <a:xfrm>
              <a:off x="7161120" y="2922480"/>
              <a:ext cx="142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Growth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8" name="Oval 81"/>
          <p:cNvSpPr/>
          <p:nvPr/>
        </p:nvSpPr>
        <p:spPr>
          <a:xfrm>
            <a:off x="7064280" y="1249200"/>
            <a:ext cx="1619280" cy="1619280"/>
          </a:xfrm>
          <a:prstGeom prst="ellipse">
            <a:avLst/>
          </a:prstGeom>
          <a:solidFill>
            <a:srgbClr val="ffffff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6360" y="645336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3366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51960" y="692280"/>
            <a:ext cx="436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微软雅黑"/>
                <a:ea typeface="微软雅黑"/>
              </a:rPr>
              <a:t>平衡</a:t>
            </a:r>
            <a:r>
              <a:rPr b="0" lang="en-US" sz="4000" spc="-1" strike="noStrike">
                <a:solidFill>
                  <a:srgbClr val="003366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3366"/>
                </a:solidFill>
                <a:latin typeface="微软雅黑"/>
                <a:ea typeface="微软雅黑"/>
              </a:rPr>
              <a:t>图片素材免费下载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199819">
                                      <p:cBhvr>
                                        <p:cTn id="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34783E-007 L 2.22222E-006 0.14686 E">
                                      <p:cBhvr>
                                        <p:cTn id="8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40518E-007 L 2.5E-006 -0.16443 E">
                                      <p:cBhvr>
                                        <p:cTn id="10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10D4-FC5F-4CAA-A86C-BC21C74EF2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9T00:49:2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04:31Z</dcterms:modified>
  <cp:revision>8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