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F76-CB8E-480B-A043-4A7FFC7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DAD-40ED-46D6-A746-53411D9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B36-29C1-4928-886C-10871175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99C-F674-41F6-84C0-22564E7A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74A-0437-473A-952A-F904077B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243-6E86-41AD-AC25-9B1FA19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861-9DDA-451B-A96A-247FB3E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3BE-FE86-478A-B9AE-1CF0CCE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48C-2C66-46C8-B232-53AB089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D04-4245-48F8-A8B5-FD39774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15B-3862-4B0C-B14C-D2D84F0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25C-059A-4FD8-9BFF-91F010B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E72-D253-4D3B-8AA2-40CB6C672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8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hyperlink" Target="http://www.eeppt.com/tubiao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内页底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-4680" y="-4680"/>
            <a:ext cx="7485120" cy="547560"/>
            <a:chOff x="-4680" y="-4680"/>
            <a:chExt cx="7485120" cy="547560"/>
          </a:xfrm>
        </p:grpSpPr>
        <p:pic>
          <p:nvPicPr>
            <p:cNvPr id="43" name="矩形 4" descr=""/>
            <p:cNvPicPr/>
            <p:nvPr/>
          </p:nvPicPr>
          <p:blipFill>
            <a:blip r:embed="rId2"/>
            <a:stretch/>
          </p:blipFill>
          <p:spPr>
            <a:xfrm>
              <a:off x="-4680" y="-4680"/>
              <a:ext cx="7485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40" y="1440"/>
              <a:ext cx="7470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00040" y="642960"/>
            <a:ext cx="8643600" cy="4143240"/>
            <a:chOff x="500040" y="642960"/>
            <a:chExt cx="8643600" cy="4143240"/>
          </a:xfrm>
        </p:grpSpPr>
        <p:pic>
          <p:nvPicPr>
            <p:cNvPr id="46" name="Picture 2" descr="F:\work\公司宣传\未标题-1.png"/>
            <p:cNvPicPr/>
            <p:nvPr/>
          </p:nvPicPr>
          <p:blipFill>
            <a:blip r:embed="rId3">
              <a:lum bright="14000"/>
            </a:blip>
            <a:stretch/>
          </p:blipFill>
          <p:spPr>
            <a:xfrm>
              <a:off x="500040" y="642960"/>
              <a:ext cx="8623080" cy="414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514800" y="648360"/>
              <a:ext cx="8628840" cy="4126320"/>
              <a:chOff x="514800" y="648360"/>
              <a:chExt cx="8628840" cy="4126320"/>
            </a:xfrm>
          </p:grpSpPr>
          <p:sp>
            <p:nvSpPr>
              <p:cNvPr id="48" name="矩形 11"/>
              <p:cNvSpPr/>
              <p:nvPr/>
            </p:nvSpPr>
            <p:spPr>
              <a:xfrm>
                <a:off x="609840" y="695880"/>
                <a:ext cx="8437320" cy="4001040"/>
              </a:xfrm>
              <a:prstGeom prst="rect">
                <a:avLst/>
              </a:prstGeom>
              <a:solidFill>
                <a:srgbClr val="0000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半闭框 13"/>
              <p:cNvSpPr/>
              <p:nvPr/>
            </p:nvSpPr>
            <p:spPr>
              <a:xfrm flipV="1">
                <a:off x="519480" y="4579560"/>
                <a:ext cx="223560" cy="19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半闭框 12"/>
              <p:cNvSpPr/>
              <p:nvPr/>
            </p:nvSpPr>
            <p:spPr>
              <a:xfrm>
                <a:off x="514800" y="648360"/>
                <a:ext cx="223560" cy="19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半闭框 14"/>
              <p:cNvSpPr/>
              <p:nvPr/>
            </p:nvSpPr>
            <p:spPr>
              <a:xfrm flipH="1">
                <a:off x="8897400" y="654480"/>
                <a:ext cx="223560" cy="19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半闭框 16"/>
              <p:cNvSpPr/>
              <p:nvPr/>
            </p:nvSpPr>
            <p:spPr>
              <a:xfrm flipH="1" flipV="1">
                <a:off x="8919720" y="4579560"/>
                <a:ext cx="223560" cy="19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" name="直接连接符 15"/>
          <p:cNvSpPr/>
          <p:nvPr/>
        </p:nvSpPr>
        <p:spPr>
          <a:xfrm>
            <a:off x="0" y="541440"/>
            <a:ext cx="7207200" cy="111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14720" y="3214800"/>
            <a:ext cx="4357440" cy="446040"/>
            <a:chOff x="2214720" y="3214800"/>
            <a:chExt cx="4357440" cy="446040"/>
          </a:xfrm>
        </p:grpSpPr>
        <p:grpSp>
          <p:nvGrpSpPr>
            <p:cNvPr id="55" name=""/>
            <p:cNvGrpSpPr/>
            <p:nvPr/>
          </p:nvGrpSpPr>
          <p:grpSpPr>
            <a:xfrm>
              <a:off x="2252160" y="3214800"/>
              <a:ext cx="4320000" cy="446040"/>
              <a:chOff x="2252160" y="3214800"/>
              <a:chExt cx="4320000" cy="446040"/>
            </a:xfrm>
          </p:grpSpPr>
          <p:pic>
            <p:nvPicPr>
              <p:cNvPr id="56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160" y="3214800"/>
                <a:ext cx="432000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48"/>
              <p:cNvSpPr/>
              <p:nvPr/>
            </p:nvSpPr>
            <p:spPr>
              <a:xfrm>
                <a:off x="2254680" y="3219480"/>
                <a:ext cx="43117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矩形 19"/>
            <p:cNvSpPr/>
            <p:nvPr/>
          </p:nvSpPr>
          <p:spPr>
            <a:xfrm>
              <a:off x="2214720" y="3286080"/>
              <a:ext cx="421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卸船机班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台卸船机，完成卸船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633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万吨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00200" y="3857760"/>
            <a:ext cx="4214880" cy="446040"/>
            <a:chOff x="2500200" y="3857760"/>
            <a:chExt cx="4214880" cy="446040"/>
          </a:xfrm>
        </p:grpSpPr>
        <p:grpSp>
          <p:nvGrpSpPr>
            <p:cNvPr id="60" name=""/>
            <p:cNvGrpSpPr/>
            <p:nvPr/>
          </p:nvGrpSpPr>
          <p:grpSpPr>
            <a:xfrm>
              <a:off x="2500200" y="3857760"/>
              <a:ext cx="4214880" cy="446040"/>
              <a:chOff x="2500200" y="3857760"/>
              <a:chExt cx="4214880" cy="446040"/>
            </a:xfrm>
          </p:grpSpPr>
          <p:pic>
            <p:nvPicPr>
              <p:cNvPr id="61" name="圆角矩形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0200" y="3857760"/>
                <a:ext cx="421488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44"/>
              <p:cNvSpPr/>
              <p:nvPr/>
            </p:nvSpPr>
            <p:spPr>
              <a:xfrm>
                <a:off x="2504880" y="3863160"/>
                <a:ext cx="42080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24"/>
            <p:cNvSpPr/>
            <p:nvPr/>
          </p:nvSpPr>
          <p:spPr>
            <a:xfrm>
              <a:off x="2500200" y="3929040"/>
              <a:ext cx="41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卸船机班成立一台卸船机，完成卸船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36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万吨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57240" y="2428920"/>
            <a:ext cx="4643640" cy="477720"/>
            <a:chOff x="1857240" y="2428920"/>
            <a:chExt cx="4643640" cy="477720"/>
          </a:xfrm>
        </p:grpSpPr>
        <p:grpSp>
          <p:nvGrpSpPr>
            <p:cNvPr id="65" name=""/>
            <p:cNvGrpSpPr/>
            <p:nvPr/>
          </p:nvGrpSpPr>
          <p:grpSpPr>
            <a:xfrm>
              <a:off x="1857240" y="2428920"/>
              <a:ext cx="4643640" cy="477720"/>
              <a:chOff x="1857240" y="2428920"/>
              <a:chExt cx="4643640" cy="477720"/>
            </a:xfrm>
          </p:grpSpPr>
          <p:pic>
            <p:nvPicPr>
              <p:cNvPr id="66" name="圆角矩形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7240" y="2428920"/>
                <a:ext cx="464364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28"/>
              <p:cNvSpPr/>
              <p:nvPr/>
            </p:nvSpPr>
            <p:spPr>
              <a:xfrm>
                <a:off x="1859040" y="2435400"/>
                <a:ext cx="463860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矩形 44"/>
            <p:cNvSpPr/>
            <p:nvPr/>
          </p:nvSpPr>
          <p:spPr>
            <a:xfrm>
              <a:off x="1857240" y="2552760"/>
              <a:ext cx="457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卸船机共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台卸船机班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人，完成卸船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016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万吨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71680" y="714240"/>
            <a:ext cx="1785240" cy="3786480"/>
            <a:chOff x="571680" y="714240"/>
            <a:chExt cx="1785240" cy="3786480"/>
          </a:xfrm>
        </p:grpSpPr>
        <p:pic>
          <p:nvPicPr>
            <p:cNvPr id="70" name="Freeform 6" descr=""/>
            <p:cNvPicPr/>
            <p:nvPr/>
          </p:nvPicPr>
          <p:blipFill>
            <a:blip r:embed="rId7"/>
            <a:stretch/>
          </p:blipFill>
          <p:spPr>
            <a:xfrm>
              <a:off x="571680" y="714240"/>
              <a:ext cx="1785240" cy="37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/>
            <p:cNvSpPr/>
            <p:nvPr/>
          </p:nvSpPr>
          <p:spPr>
            <a:xfrm>
              <a:off x="671760" y="791280"/>
              <a:ext cx="166032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00120" y="1785960"/>
            <a:ext cx="5072040" cy="447480"/>
            <a:chOff x="1500120" y="1785960"/>
            <a:chExt cx="5072040" cy="447480"/>
          </a:xfrm>
        </p:grpSpPr>
        <p:grpSp>
          <p:nvGrpSpPr>
            <p:cNvPr id="73" name=""/>
            <p:cNvGrpSpPr/>
            <p:nvPr/>
          </p:nvGrpSpPr>
          <p:grpSpPr>
            <a:xfrm>
              <a:off x="1512360" y="1785960"/>
              <a:ext cx="4919040" cy="447480"/>
              <a:chOff x="1512360" y="1785960"/>
              <a:chExt cx="4919040" cy="447480"/>
            </a:xfrm>
          </p:grpSpPr>
          <p:pic>
            <p:nvPicPr>
              <p:cNvPr id="74" name="圆角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512360" y="1785960"/>
                <a:ext cx="491904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24"/>
              <p:cNvSpPr/>
              <p:nvPr/>
            </p:nvSpPr>
            <p:spPr>
              <a:xfrm>
                <a:off x="1517040" y="1796040"/>
                <a:ext cx="49100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" name="矩形 52"/>
            <p:cNvSpPr/>
            <p:nvPr/>
          </p:nvSpPr>
          <p:spPr>
            <a:xfrm>
              <a:off x="1500120" y="1847880"/>
              <a:ext cx="507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卸船机共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台卸船机班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人，完成卸船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661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万吨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06760" y="-15840"/>
            <a:ext cx="4767120" cy="900000"/>
            <a:chOff x="4406760" y="-15840"/>
            <a:chExt cx="4767120" cy="900000"/>
          </a:xfrm>
        </p:grpSpPr>
        <p:pic>
          <p:nvPicPr>
            <p:cNvPr id="78" name="任意多边形 8" descr=""/>
            <p:cNvPicPr/>
            <p:nvPr/>
          </p:nvPicPr>
          <p:blipFill>
            <a:blip r:embed="rId9"/>
            <a:stretch/>
          </p:blipFill>
          <p:spPr>
            <a:xfrm>
              <a:off x="4406760" y="-15840"/>
              <a:ext cx="476712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24400" y="4320"/>
              <a:ext cx="4741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图片 9" descr="内页底2.png"/>
          <p:cNvPicPr/>
          <p:nvPr/>
        </p:nvPicPr>
        <p:blipFill>
          <a:blip r:embed="rId10"/>
          <a:stretch/>
        </p:blipFill>
        <p:spPr>
          <a:xfrm>
            <a:off x="0" y="4307040"/>
            <a:ext cx="9142560" cy="834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5" descr="卸船机.jpg"/>
          <p:cNvPicPr/>
          <p:nvPr/>
        </p:nvPicPr>
        <p:blipFill>
          <a:blip r:embed="rId11"/>
          <a:srcRect l="1046" t="38902" r="9548" b="9730"/>
          <a:stretch/>
        </p:blipFill>
        <p:spPr>
          <a:xfrm>
            <a:off x="0" y="4000680"/>
            <a:ext cx="24289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矩形 65" descr=""/>
          <p:cNvPicPr/>
          <p:nvPr/>
        </p:nvPicPr>
        <p:blipFill>
          <a:blip r:embed="rId12"/>
          <a:stretch/>
        </p:blipFill>
        <p:spPr>
          <a:xfrm>
            <a:off x="1420920" y="3236760"/>
            <a:ext cx="944280" cy="689040"/>
          </a:xfrm>
          <a:prstGeom prst="rect">
            <a:avLst/>
          </a:prstGeom>
          <a:ln w="0">
            <a:noFill/>
          </a:ln>
        </p:spPr>
      </p:pic>
      <p:pic>
        <p:nvPicPr>
          <p:cNvPr id="83" name="矩形 66" descr=""/>
          <p:cNvPicPr/>
          <p:nvPr/>
        </p:nvPicPr>
        <p:blipFill>
          <a:blip r:embed="rId13"/>
          <a:stretch/>
        </p:blipFill>
        <p:spPr>
          <a:xfrm>
            <a:off x="1706400" y="3876840"/>
            <a:ext cx="94464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矩形 67" descr=""/>
          <p:cNvPicPr/>
          <p:nvPr/>
        </p:nvPicPr>
        <p:blipFill>
          <a:blip r:embed="rId14"/>
          <a:stretch/>
        </p:blipFill>
        <p:spPr>
          <a:xfrm>
            <a:off x="476280" y="950760"/>
            <a:ext cx="895320" cy="6890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68" descr=""/>
          <p:cNvPicPr/>
          <p:nvPr/>
        </p:nvPicPr>
        <p:blipFill>
          <a:blip r:embed="rId15"/>
          <a:stretch/>
        </p:blipFill>
        <p:spPr>
          <a:xfrm>
            <a:off x="781200" y="1731960"/>
            <a:ext cx="938160" cy="69372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9" descr=""/>
          <p:cNvPicPr/>
          <p:nvPr/>
        </p:nvPicPr>
        <p:blipFill>
          <a:blip r:embed="rId16"/>
          <a:stretch/>
        </p:blipFill>
        <p:spPr>
          <a:xfrm>
            <a:off x="1066680" y="2451240"/>
            <a:ext cx="938160" cy="6886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214280" y="1000080"/>
            <a:ext cx="5357880" cy="447840"/>
            <a:chOff x="1214280" y="1000080"/>
            <a:chExt cx="5357880" cy="447840"/>
          </a:xfrm>
        </p:grpSpPr>
        <p:grpSp>
          <p:nvGrpSpPr>
            <p:cNvPr id="88" name=""/>
            <p:cNvGrpSpPr/>
            <p:nvPr/>
          </p:nvGrpSpPr>
          <p:grpSpPr>
            <a:xfrm>
              <a:off x="1214280" y="1000080"/>
              <a:ext cx="5286600" cy="447840"/>
              <a:chOff x="1214280" y="1000080"/>
              <a:chExt cx="5286600" cy="447840"/>
            </a:xfrm>
          </p:grpSpPr>
          <p:pic>
            <p:nvPicPr>
              <p:cNvPr id="89" name="圆角矩形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214280" y="1000080"/>
                <a:ext cx="5286600" cy="4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1219320" y="1010160"/>
                <a:ext cx="527688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矩形 72"/>
            <p:cNvSpPr/>
            <p:nvPr/>
          </p:nvSpPr>
          <p:spPr>
            <a:xfrm>
              <a:off x="1214280" y="1071360"/>
              <a:ext cx="535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卸船机班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人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月份完成卸船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366.54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万吨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" name="直接箭头连接符 84"/>
          <p:cNvCxnSpPr/>
          <p:nvPr/>
        </p:nvCxnSpPr>
        <p:spPr>
          <a:xfrm flipV="1">
            <a:off x="8929800" y="999720"/>
            <a:ext cx="2160" cy="3361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矩形 96"/>
          <p:cNvSpPr/>
          <p:nvPr/>
        </p:nvSpPr>
        <p:spPr>
          <a:xfrm>
            <a:off x="7215120" y="3071880"/>
            <a:ext cx="285840" cy="1285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97"/>
          <p:cNvSpPr/>
          <p:nvPr/>
        </p:nvSpPr>
        <p:spPr>
          <a:xfrm>
            <a:off x="7643880" y="2357280"/>
            <a:ext cx="285840" cy="2000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98"/>
          <p:cNvSpPr/>
          <p:nvPr/>
        </p:nvSpPr>
        <p:spPr>
          <a:xfrm>
            <a:off x="8072280" y="1571760"/>
            <a:ext cx="285840" cy="2786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99"/>
          <p:cNvSpPr/>
          <p:nvPr/>
        </p:nvSpPr>
        <p:spPr>
          <a:xfrm>
            <a:off x="8501040" y="2428920"/>
            <a:ext cx="285840" cy="192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00"/>
          <p:cNvSpPr/>
          <p:nvPr/>
        </p:nvSpPr>
        <p:spPr>
          <a:xfrm>
            <a:off x="6786720" y="4214880"/>
            <a:ext cx="285480" cy="14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02"/>
          <p:cNvSpPr/>
          <p:nvPr/>
        </p:nvSpPr>
        <p:spPr>
          <a:xfrm>
            <a:off x="8501040" y="1285920"/>
            <a:ext cx="285840" cy="1143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直接连接符 104" descr=""/>
          <p:cNvPicPr/>
          <p:nvPr/>
        </p:nvPicPr>
        <p:blipFill>
          <a:blip r:embed="rId18"/>
          <a:stretch/>
        </p:blipFill>
        <p:spPr>
          <a:xfrm>
            <a:off x="6529320" y="4237200"/>
            <a:ext cx="2517840" cy="242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6"/>
          <p:cNvSpPr/>
          <p:nvPr/>
        </p:nvSpPr>
        <p:spPr>
          <a:xfrm>
            <a:off x="6643800" y="3857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8"/>
          <p:cNvSpPr/>
          <p:nvPr/>
        </p:nvSpPr>
        <p:spPr>
          <a:xfrm>
            <a:off x="7000920" y="27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9"/>
          <p:cNvSpPr/>
          <p:nvPr/>
        </p:nvSpPr>
        <p:spPr>
          <a:xfrm>
            <a:off x="7429680" y="20001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80"/>
          <p:cNvSpPr/>
          <p:nvPr/>
        </p:nvSpPr>
        <p:spPr>
          <a:xfrm>
            <a:off x="7858080" y="1214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81"/>
          <p:cNvSpPr/>
          <p:nvPr/>
        </p:nvSpPr>
        <p:spPr>
          <a:xfrm>
            <a:off x="8251920" y="9144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2"/>
          <p:cNvSpPr/>
          <p:nvPr/>
        </p:nvSpPr>
        <p:spPr>
          <a:xfrm>
            <a:off x="8358120" y="2071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extBox 94" descr=""/>
          <p:cNvPicPr/>
          <p:nvPr/>
        </p:nvPicPr>
        <p:blipFill>
          <a:blip r:embed="rId19"/>
          <a:stretch/>
        </p:blipFill>
        <p:spPr>
          <a:xfrm>
            <a:off x="-127080" y="-58680"/>
            <a:ext cx="2035080" cy="588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800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3191040" y="12384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动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1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2"/>
                            </p:stCondLst>
                            <p:childTnLst>
                              <p:par>
                                <p:cTn id="10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-85680" y="0"/>
            <a:ext cx="9229680" cy="5200560"/>
            <a:chOff x="-85680" y="0"/>
            <a:chExt cx="9229680" cy="5200560"/>
          </a:xfrm>
        </p:grpSpPr>
        <p:grpSp>
          <p:nvGrpSpPr>
            <p:cNvPr id="110" name=""/>
            <p:cNvGrpSpPr/>
            <p:nvPr/>
          </p:nvGrpSpPr>
          <p:grpSpPr>
            <a:xfrm>
              <a:off x="-85680" y="0"/>
              <a:ext cx="9229680" cy="5200560"/>
              <a:chOff x="-85680" y="0"/>
              <a:chExt cx="9229680" cy="5200560"/>
            </a:xfrm>
          </p:grpSpPr>
          <p:pic>
            <p:nvPicPr>
              <p:cNvPr id="111" name="图片 6" descr="内页底.png"/>
              <p:cNvPicPr/>
              <p:nvPr/>
            </p:nvPicPr>
            <p:blipFill>
              <a:blip r:embed="rId1"/>
              <a:stretch/>
            </p:blipFill>
            <p:spPr>
              <a:xfrm>
                <a:off x="-16560" y="30240"/>
                <a:ext cx="9142560" cy="513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图片 9" descr="内页底2.png"/>
              <p:cNvPicPr/>
              <p:nvPr/>
            </p:nvPicPr>
            <p:blipFill>
              <a:blip r:embed="rId2"/>
              <a:stretch/>
            </p:blipFill>
            <p:spPr>
              <a:xfrm>
                <a:off x="-12600" y="4326840"/>
                <a:ext cx="9131040" cy="83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图片 55" descr="卸船机.jpg"/>
              <p:cNvPicPr/>
              <p:nvPr/>
            </p:nvPicPr>
            <p:blipFill>
              <a:blip r:embed="rId3"/>
              <a:srcRect l="6253" t="38900" r="1040" b="9725"/>
              <a:stretch/>
            </p:blipFill>
            <p:spPr>
              <a:xfrm flipH="1">
                <a:off x="-85680" y="3864960"/>
                <a:ext cx="2948400" cy="133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"/>
              <p:cNvGrpSpPr/>
              <p:nvPr/>
            </p:nvGrpSpPr>
            <p:grpSpPr>
              <a:xfrm>
                <a:off x="4377960" y="0"/>
                <a:ext cx="4766040" cy="898920"/>
                <a:chOff x="4377960" y="0"/>
                <a:chExt cx="4766040" cy="898920"/>
              </a:xfrm>
            </p:grpSpPr>
            <p:pic>
              <p:nvPicPr>
                <p:cNvPr id="115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77960" y="0"/>
                  <a:ext cx="4766040" cy="89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4397400" y="18000"/>
                  <a:ext cx="4734360" cy="86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-16560" y="11880"/>
              <a:ext cx="7484760" cy="542520"/>
              <a:chOff x="-16560" y="11880"/>
              <a:chExt cx="7484760" cy="542520"/>
            </a:xfrm>
          </p:grpSpPr>
          <p:pic>
            <p:nvPicPr>
              <p:cNvPr id="118" name="矩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-16560" y="11880"/>
                <a:ext cx="7484760" cy="54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-12240" y="14760"/>
                <a:ext cx="747180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0" name="直接连接符 15"/>
          <p:cNvSpPr/>
          <p:nvPr/>
        </p:nvSpPr>
        <p:spPr>
          <a:xfrm>
            <a:off x="0" y="541440"/>
            <a:ext cx="7207200" cy="111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689040" y="7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探索新模式   推进班组转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3"/>
          <p:cNvSpPr/>
          <p:nvPr/>
        </p:nvSpPr>
        <p:spPr>
          <a:xfrm>
            <a:off x="-6427800" y="2000160"/>
            <a:ext cx="64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建立精细化班组文化体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rc 8"/>
          <p:cNvSpPr/>
          <p:nvPr/>
        </p:nvSpPr>
        <p:spPr>
          <a:xfrm rot="10800000">
            <a:off x="1808280" y="1674360"/>
            <a:ext cx="5595840" cy="271944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4f81bd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28880" y="2247480"/>
            <a:ext cx="5378400" cy="2145240"/>
            <a:chOff x="1928880" y="2247480"/>
            <a:chExt cx="5378400" cy="2145240"/>
          </a:xfrm>
        </p:grpSpPr>
        <p:sp>
          <p:nvSpPr>
            <p:cNvPr id="125" name="Line 40"/>
            <p:cNvSpPr/>
            <p:nvPr/>
          </p:nvSpPr>
          <p:spPr>
            <a:xfrm flipH="1">
              <a:off x="2893680" y="2293560"/>
              <a:ext cx="1725480" cy="154008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41"/>
            <p:cNvSpPr/>
            <p:nvPr/>
          </p:nvSpPr>
          <p:spPr>
            <a:xfrm>
              <a:off x="4618080" y="2292120"/>
              <a:ext cx="0" cy="210060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4618080" y="2292120"/>
              <a:ext cx="1747800" cy="148464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48"/>
            <p:cNvSpPr/>
            <p:nvPr/>
          </p:nvSpPr>
          <p:spPr>
            <a:xfrm flipH="1" flipV="1">
              <a:off x="1928880" y="2247480"/>
              <a:ext cx="5378400" cy="4572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56"/>
          <p:cNvSpPr/>
          <p:nvPr/>
        </p:nvSpPr>
        <p:spPr>
          <a:xfrm>
            <a:off x="10268280" y="444168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持续推动精细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7"/>
          <p:cNvSpPr/>
          <p:nvPr/>
        </p:nvSpPr>
        <p:spPr>
          <a:xfrm>
            <a:off x="10268280" y="351324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问题解决精细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8"/>
          <p:cNvSpPr/>
          <p:nvPr/>
        </p:nvSpPr>
        <p:spPr>
          <a:xfrm>
            <a:off x="10268280" y="272736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安全管理精细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59"/>
          <p:cNvSpPr/>
          <p:nvPr/>
        </p:nvSpPr>
        <p:spPr>
          <a:xfrm>
            <a:off x="10268280" y="179856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现场管理精细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0"/>
          <p:cNvSpPr/>
          <p:nvPr/>
        </p:nvSpPr>
        <p:spPr>
          <a:xfrm>
            <a:off x="10268280" y="8701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成本控制精细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61"/>
          <p:cNvSpPr/>
          <p:nvPr/>
        </p:nvSpPr>
        <p:spPr>
          <a:xfrm>
            <a:off x="10388880" y="8424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实现生产过程精益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62"/>
          <p:cNvSpPr/>
          <p:nvPr/>
        </p:nvSpPr>
        <p:spPr>
          <a:xfrm>
            <a:off x="-11214000" y="3143160"/>
            <a:ext cx="112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将小事做细，将细事做透，培养员工精细意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63"/>
          <p:cNvSpPr/>
          <p:nvPr/>
        </p:nvSpPr>
        <p:spPr>
          <a:xfrm>
            <a:off x="-6877440" y="4143240"/>
            <a:ext cx="58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提高员工素质，转变思想观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64"/>
          <p:cNvSpPr/>
          <p:nvPr/>
        </p:nvSpPr>
        <p:spPr>
          <a:xfrm>
            <a:off x="-5116320" y="0"/>
            <a:ext cx="42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员工的规则意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5"/>
          <p:cNvSpPr/>
          <p:nvPr/>
        </p:nvSpPr>
        <p:spPr>
          <a:xfrm>
            <a:off x="-7246080" y="928800"/>
            <a:ext cx="62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强调员工执行力推进精细化管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14840" y="1428840"/>
            <a:ext cx="1787400" cy="1731960"/>
            <a:chOff x="3714840" y="1428840"/>
            <a:chExt cx="1787400" cy="1731960"/>
          </a:xfrm>
        </p:grpSpPr>
        <p:sp>
          <p:nvSpPr>
            <p:cNvPr id="140" name="Oval 10"/>
            <p:cNvSpPr/>
            <p:nvPr/>
          </p:nvSpPr>
          <p:spPr>
            <a:xfrm>
              <a:off x="3714840" y="1428840"/>
              <a:ext cx="1787400" cy="17319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>
              <a:off x="3797280" y="1508400"/>
              <a:ext cx="1622520" cy="1572480"/>
            </a:xfrm>
            <a:prstGeom prst="ellipse">
              <a:avLst/>
            </a:prstGeom>
            <a:gradFill rotWithShape="0">
              <a:gsLst>
                <a:gs pos="0">
                  <a:srgbClr val="68cc26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>
              <a:off x="3797280" y="1508400"/>
              <a:ext cx="1622520" cy="1572480"/>
            </a:xfrm>
            <a:prstGeom prst="ellipse">
              <a:avLst/>
            </a:prstGeom>
            <a:gradFill rotWithShape="0">
              <a:gsLst>
                <a:gs pos="0">
                  <a:srgbClr val="68cc26"/>
                </a:gs>
                <a:gs pos="100000">
                  <a:srgbClr val="00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930840" y="1524600"/>
              <a:ext cx="1355040" cy="125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4f81b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TextBox 103"/>
          <p:cNvSpPr/>
          <p:nvPr/>
        </p:nvSpPr>
        <p:spPr>
          <a:xfrm>
            <a:off x="3929040" y="185724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精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00120" y="1717560"/>
            <a:ext cx="1192320" cy="1154160"/>
            <a:chOff x="1500120" y="1717560"/>
            <a:chExt cx="1192320" cy="1154160"/>
          </a:xfrm>
        </p:grpSpPr>
        <p:sp>
          <p:nvSpPr>
            <p:cNvPr id="146" name="Oval 17"/>
            <p:cNvSpPr/>
            <p:nvPr/>
          </p:nvSpPr>
          <p:spPr>
            <a:xfrm>
              <a:off x="1500120" y="1717560"/>
              <a:ext cx="1192320" cy="115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fb82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396e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1565640" y="1780920"/>
              <a:ext cx="1060920" cy="10270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1593000" y="1805400"/>
              <a:ext cx="867600" cy="83952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矩形 104"/>
            <p:cNvSpPr/>
            <p:nvPr/>
          </p:nvSpPr>
          <p:spPr>
            <a:xfrm>
              <a:off x="1790280" y="200052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队建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35240" y="3071880"/>
            <a:ext cx="1190520" cy="1155600"/>
            <a:chOff x="2235240" y="3071880"/>
            <a:chExt cx="1190520" cy="1155600"/>
          </a:xfrm>
        </p:grpSpPr>
        <p:sp>
          <p:nvSpPr>
            <p:cNvPr id="151" name="Oval 61"/>
            <p:cNvSpPr/>
            <p:nvPr/>
          </p:nvSpPr>
          <p:spPr>
            <a:xfrm>
              <a:off x="2235240" y="3071880"/>
              <a:ext cx="1190520" cy="11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fb82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396e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2300760" y="3135240"/>
              <a:ext cx="1059480" cy="1028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val 63"/>
            <p:cNvSpPr/>
            <p:nvPr/>
          </p:nvSpPr>
          <p:spPr>
            <a:xfrm>
              <a:off x="2328120" y="3159720"/>
              <a:ext cx="866160" cy="84060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105"/>
            <p:cNvSpPr/>
            <p:nvPr/>
          </p:nvSpPr>
          <p:spPr>
            <a:xfrm>
              <a:off x="2505240" y="335700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能培训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017960" y="3571920"/>
            <a:ext cx="1190520" cy="1155600"/>
            <a:chOff x="4017960" y="3571920"/>
            <a:chExt cx="1190520" cy="1155600"/>
          </a:xfrm>
        </p:grpSpPr>
        <p:sp>
          <p:nvSpPr>
            <p:cNvPr id="156" name="Oval 55"/>
            <p:cNvSpPr/>
            <p:nvPr/>
          </p:nvSpPr>
          <p:spPr>
            <a:xfrm>
              <a:off x="4017960" y="3571920"/>
              <a:ext cx="1190520" cy="11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fb82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396e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56"/>
            <p:cNvSpPr/>
            <p:nvPr/>
          </p:nvSpPr>
          <p:spPr>
            <a:xfrm>
              <a:off x="4083480" y="3635280"/>
              <a:ext cx="1059480" cy="1028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7"/>
            <p:cNvSpPr/>
            <p:nvPr/>
          </p:nvSpPr>
          <p:spPr>
            <a:xfrm>
              <a:off x="4110840" y="3659760"/>
              <a:ext cx="866160" cy="84060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106"/>
            <p:cNvSpPr/>
            <p:nvPr/>
          </p:nvSpPr>
          <p:spPr>
            <a:xfrm>
              <a:off x="4352760" y="383328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过程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810400" y="3071880"/>
            <a:ext cx="1190520" cy="1155600"/>
            <a:chOff x="5810400" y="3071880"/>
            <a:chExt cx="1190520" cy="1155600"/>
          </a:xfrm>
        </p:grpSpPr>
        <p:sp>
          <p:nvSpPr>
            <p:cNvPr id="161" name="Oval 58"/>
            <p:cNvSpPr/>
            <p:nvPr/>
          </p:nvSpPr>
          <p:spPr>
            <a:xfrm>
              <a:off x="5810400" y="3071880"/>
              <a:ext cx="1190520" cy="11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fb82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396e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9"/>
            <p:cNvSpPr/>
            <p:nvPr/>
          </p:nvSpPr>
          <p:spPr>
            <a:xfrm>
              <a:off x="5875920" y="3135240"/>
              <a:ext cx="1059480" cy="1028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60"/>
            <p:cNvSpPr/>
            <p:nvPr/>
          </p:nvSpPr>
          <p:spPr>
            <a:xfrm>
              <a:off x="5903280" y="3159720"/>
              <a:ext cx="866160" cy="84060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07"/>
            <p:cNvSpPr/>
            <p:nvPr/>
          </p:nvSpPr>
          <p:spPr>
            <a:xfrm>
              <a:off x="6114960" y="336204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场管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524640" y="1708200"/>
            <a:ext cx="1192320" cy="1155600"/>
            <a:chOff x="6524640" y="1708200"/>
            <a:chExt cx="1192320" cy="1155600"/>
          </a:xfrm>
        </p:grpSpPr>
        <p:sp>
          <p:nvSpPr>
            <p:cNvPr id="166" name="Oval 52"/>
            <p:cNvSpPr/>
            <p:nvPr/>
          </p:nvSpPr>
          <p:spPr>
            <a:xfrm>
              <a:off x="6524640" y="1708200"/>
              <a:ext cx="1192320" cy="1155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fb82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396e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53"/>
            <p:cNvSpPr/>
            <p:nvPr/>
          </p:nvSpPr>
          <p:spPr>
            <a:xfrm>
              <a:off x="6590160" y="1771560"/>
              <a:ext cx="1060920" cy="1028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54"/>
            <p:cNvSpPr/>
            <p:nvPr/>
          </p:nvSpPr>
          <p:spPr>
            <a:xfrm>
              <a:off x="6617520" y="1796040"/>
              <a:ext cx="867600" cy="84060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8"/>
            <p:cNvSpPr/>
            <p:nvPr/>
          </p:nvSpPr>
          <p:spPr>
            <a:xfrm>
              <a:off x="6866640" y="198072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管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109"/>
          <p:cNvSpPr/>
          <p:nvPr/>
        </p:nvSpPr>
        <p:spPr>
          <a:xfrm>
            <a:off x="3929040" y="185724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提高生产效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54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54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3" presetSubtype="54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内页底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1" descr="未命名.bmp"/>
          <p:cNvPicPr/>
          <p:nvPr/>
        </p:nvPicPr>
        <p:blipFill>
          <a:blip r:embed="rId2"/>
          <a:srcRect l="30838" t="22916" r="27988" b="10421"/>
          <a:stretch/>
        </p:blipFill>
        <p:spPr>
          <a:xfrm rot="19910400">
            <a:off x="601560" y="588600"/>
            <a:ext cx="3587760" cy="43578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5" descr="未命名a.bmp"/>
          <p:cNvPicPr/>
          <p:nvPr/>
        </p:nvPicPr>
        <p:blipFill>
          <a:blip r:embed="rId3">
            <a:lum contrast="30000"/>
          </a:blip>
          <a:srcRect l="32031" t="23965" r="32031" b="7297"/>
          <a:stretch/>
        </p:blipFill>
        <p:spPr>
          <a:xfrm rot="2456400">
            <a:off x="5730480" y="1270080"/>
            <a:ext cx="2714760" cy="38955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-4680" y="-4680"/>
            <a:ext cx="7485120" cy="547560"/>
            <a:chOff x="-4680" y="-4680"/>
            <a:chExt cx="7485120" cy="547560"/>
          </a:xfrm>
        </p:grpSpPr>
        <p:pic>
          <p:nvPicPr>
            <p:cNvPr id="175" name="矩形 4" descr=""/>
            <p:cNvPicPr/>
            <p:nvPr/>
          </p:nvPicPr>
          <p:blipFill>
            <a:blip r:embed="rId4"/>
            <a:stretch/>
          </p:blipFill>
          <p:spPr>
            <a:xfrm>
              <a:off x="-4680" y="-4680"/>
              <a:ext cx="7485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440" y="1440"/>
              <a:ext cx="7470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图片 9" descr="内页底2.png"/>
          <p:cNvPicPr/>
          <p:nvPr/>
        </p:nvPicPr>
        <p:blipFill>
          <a:blip r:embed="rId5"/>
          <a:stretch/>
        </p:blipFill>
        <p:spPr>
          <a:xfrm>
            <a:off x="0" y="4308480"/>
            <a:ext cx="9144000" cy="833400"/>
          </a:xfrm>
          <a:prstGeom prst="rect">
            <a:avLst/>
          </a:prstGeom>
          <a:ln w="0">
            <a:noFill/>
          </a:ln>
        </p:spPr>
      </p:pic>
      <p:sp>
        <p:nvSpPr>
          <p:cNvPr id="178" name="直接连接符 15"/>
          <p:cNvSpPr/>
          <p:nvPr/>
        </p:nvSpPr>
        <p:spPr>
          <a:xfrm>
            <a:off x="0" y="541440"/>
            <a:ext cx="7207200" cy="111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图片 55" descr="卸船机.jpg"/>
          <p:cNvPicPr/>
          <p:nvPr/>
        </p:nvPicPr>
        <p:blipFill>
          <a:blip r:embed="rId6"/>
          <a:srcRect l="1040" t="38900" r="6253" b="9725"/>
          <a:stretch/>
        </p:blipFill>
        <p:spPr>
          <a:xfrm>
            <a:off x="-71280" y="3844800"/>
            <a:ext cx="2950920" cy="13399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4438800" y="-34920"/>
            <a:ext cx="4765680" cy="893880"/>
            <a:chOff x="4438800" y="-34920"/>
            <a:chExt cx="4765680" cy="893880"/>
          </a:xfrm>
        </p:grpSpPr>
        <p:pic>
          <p:nvPicPr>
            <p:cNvPr id="181" name="任意多边形 10" descr=""/>
            <p:cNvPicPr/>
            <p:nvPr/>
          </p:nvPicPr>
          <p:blipFill>
            <a:blip r:embed="rId7"/>
            <a:stretch/>
          </p:blipFill>
          <p:spPr>
            <a:xfrm>
              <a:off x="4438800" y="-34920"/>
              <a:ext cx="47656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454640" y="-19080"/>
              <a:ext cx="474048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25"/>
          <p:cNvSpPr/>
          <p:nvPr/>
        </p:nvSpPr>
        <p:spPr>
          <a:xfrm>
            <a:off x="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精细绩效管理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高生产效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0200" y="4000680"/>
            <a:ext cx="1500480" cy="736560"/>
            <a:chOff x="2500200" y="4000680"/>
            <a:chExt cx="1500480" cy="736560"/>
          </a:xfrm>
        </p:grpSpPr>
        <p:sp>
          <p:nvSpPr>
            <p:cNvPr id="185" name="Oval 6"/>
            <p:cNvSpPr/>
            <p:nvPr/>
          </p:nvSpPr>
          <p:spPr>
            <a:xfrm>
              <a:off x="2500200" y="4000680"/>
              <a:ext cx="1500480" cy="4856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34"/>
            <p:cNvSpPr/>
            <p:nvPr/>
          </p:nvSpPr>
          <p:spPr>
            <a:xfrm>
              <a:off x="2500200" y="4000680"/>
              <a:ext cx="1500480" cy="4856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受到奖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35"/>
            <p:cNvSpPr/>
            <p:nvPr/>
          </p:nvSpPr>
          <p:spPr>
            <a:xfrm>
              <a:off x="2857320" y="450036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214800" y="3286080"/>
            <a:ext cx="1500120" cy="736560"/>
            <a:chOff x="3214800" y="3286080"/>
            <a:chExt cx="1500120" cy="736560"/>
          </a:xfrm>
        </p:grpSpPr>
        <p:sp>
          <p:nvSpPr>
            <p:cNvPr id="189" name="Oval 6"/>
            <p:cNvSpPr/>
            <p:nvPr/>
          </p:nvSpPr>
          <p:spPr>
            <a:xfrm>
              <a:off x="3214800" y="3286080"/>
              <a:ext cx="1500120" cy="4856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34"/>
            <p:cNvSpPr/>
            <p:nvPr/>
          </p:nvSpPr>
          <p:spPr>
            <a:xfrm>
              <a:off x="3214800" y="3286080"/>
              <a:ext cx="1500120" cy="4856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学习进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35"/>
            <p:cNvSpPr/>
            <p:nvPr/>
          </p:nvSpPr>
          <p:spPr>
            <a:xfrm>
              <a:off x="3571920" y="378576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071960" y="2571840"/>
            <a:ext cx="1500120" cy="736560"/>
            <a:chOff x="4071960" y="2571840"/>
            <a:chExt cx="1500120" cy="736560"/>
          </a:xfrm>
        </p:grpSpPr>
        <p:sp>
          <p:nvSpPr>
            <p:cNvPr id="193" name="Oval 6"/>
            <p:cNvSpPr/>
            <p:nvPr/>
          </p:nvSpPr>
          <p:spPr>
            <a:xfrm>
              <a:off x="4071960" y="2571840"/>
              <a:ext cx="1500120" cy="4856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34"/>
            <p:cNvSpPr/>
            <p:nvPr/>
          </p:nvSpPr>
          <p:spPr>
            <a:xfrm>
              <a:off x="4071960" y="2571840"/>
              <a:ext cx="1500120" cy="4856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考  勤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4429080" y="307152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57840" y="1928880"/>
            <a:ext cx="1500120" cy="736560"/>
            <a:chOff x="4857840" y="1928880"/>
            <a:chExt cx="1500120" cy="736560"/>
          </a:xfrm>
        </p:grpSpPr>
        <p:sp>
          <p:nvSpPr>
            <p:cNvPr id="197" name="Oval 6"/>
            <p:cNvSpPr/>
            <p:nvPr/>
          </p:nvSpPr>
          <p:spPr>
            <a:xfrm>
              <a:off x="4857840" y="1928880"/>
              <a:ext cx="1500120" cy="4856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34"/>
            <p:cNvSpPr/>
            <p:nvPr/>
          </p:nvSpPr>
          <p:spPr>
            <a:xfrm>
              <a:off x="4857840" y="1928880"/>
              <a:ext cx="1500120" cy="4856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帮助他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解决问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35"/>
            <p:cNvSpPr/>
            <p:nvPr/>
          </p:nvSpPr>
          <p:spPr>
            <a:xfrm>
              <a:off x="5214960" y="242856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715000" y="1214280"/>
            <a:ext cx="1500120" cy="736920"/>
            <a:chOff x="5715000" y="1214280"/>
            <a:chExt cx="1500120" cy="736920"/>
          </a:xfrm>
        </p:grpSpPr>
        <p:sp>
          <p:nvSpPr>
            <p:cNvPr id="201" name="Oval 6"/>
            <p:cNvSpPr/>
            <p:nvPr/>
          </p:nvSpPr>
          <p:spPr>
            <a:xfrm>
              <a:off x="5715000" y="1214280"/>
              <a:ext cx="1500120" cy="486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34"/>
            <p:cNvSpPr/>
            <p:nvPr/>
          </p:nvSpPr>
          <p:spPr>
            <a:xfrm>
              <a:off x="5715000" y="1214280"/>
              <a:ext cx="1500120" cy="4860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工作态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及综合素质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35"/>
            <p:cNvSpPr/>
            <p:nvPr/>
          </p:nvSpPr>
          <p:spPr>
            <a:xfrm>
              <a:off x="6072120" y="171432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3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29240" y="500040"/>
            <a:ext cx="1500480" cy="736560"/>
            <a:chOff x="6429240" y="500040"/>
            <a:chExt cx="1500480" cy="736560"/>
          </a:xfrm>
        </p:grpSpPr>
        <p:sp>
          <p:nvSpPr>
            <p:cNvPr id="205" name="Oval 6"/>
            <p:cNvSpPr/>
            <p:nvPr/>
          </p:nvSpPr>
          <p:spPr>
            <a:xfrm>
              <a:off x="6429240" y="500040"/>
              <a:ext cx="1500480" cy="4856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Oval 34"/>
            <p:cNvSpPr/>
            <p:nvPr/>
          </p:nvSpPr>
          <p:spPr>
            <a:xfrm>
              <a:off x="6429240" y="500040"/>
              <a:ext cx="1500480" cy="4856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bce9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工作绩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35"/>
            <p:cNvSpPr/>
            <p:nvPr/>
          </p:nvSpPr>
          <p:spPr>
            <a:xfrm>
              <a:off x="6786360" y="999720"/>
              <a:ext cx="7502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60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  <a:ea typeface="HY견고딕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285920" y="1500120"/>
            <a:ext cx="1562040" cy="1357560"/>
            <a:chOff x="1285920" y="1500120"/>
            <a:chExt cx="1562040" cy="1357560"/>
          </a:xfrm>
        </p:grpSpPr>
        <p:grpSp>
          <p:nvGrpSpPr>
            <p:cNvPr id="209" name=""/>
            <p:cNvGrpSpPr/>
            <p:nvPr/>
          </p:nvGrpSpPr>
          <p:grpSpPr>
            <a:xfrm>
              <a:off x="1285920" y="1500120"/>
              <a:ext cx="1562040" cy="1357560"/>
              <a:chOff x="1285920" y="1500120"/>
              <a:chExt cx="1562040" cy="1357560"/>
            </a:xfrm>
          </p:grpSpPr>
          <p:sp>
            <p:nvSpPr>
              <p:cNvPr id="210" name="Oval 4"/>
              <p:cNvSpPr/>
              <p:nvPr/>
            </p:nvSpPr>
            <p:spPr>
              <a:xfrm>
                <a:off x="1285920" y="1500120"/>
                <a:ext cx="1562040" cy="13575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e9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Oval 38"/>
              <p:cNvSpPr/>
              <p:nvPr/>
            </p:nvSpPr>
            <p:spPr>
              <a:xfrm>
                <a:off x="1427040" y="1636560"/>
                <a:ext cx="1246320" cy="1081440"/>
              </a:xfrm>
              <a:prstGeom prst="ellipse">
                <a:avLst/>
              </a:prstGeom>
              <a:gradFill rotWithShape="0">
                <a:gsLst>
                  <a:gs pos="0">
                    <a:srgbClr val="e98f8f"/>
                  </a:gs>
                  <a:gs pos="100000">
                    <a:srgbClr val="c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3"/>
            <p:cNvSpPr/>
            <p:nvPr/>
          </p:nvSpPr>
          <p:spPr>
            <a:xfrm>
              <a:off x="1614240" y="1866600"/>
              <a:ext cx="8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卸船机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绩效考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13" name="AutoShape 28"/>
          <p:cNvCxnSpPr/>
          <p:nvPr/>
        </p:nvCxnSpPr>
        <p:spPr>
          <a:xfrm flipV="1">
            <a:off x="2857320" y="856800"/>
            <a:ext cx="3572280" cy="92952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4" name="AutoShape 28"/>
          <p:cNvCxnSpPr/>
          <p:nvPr/>
        </p:nvCxnSpPr>
        <p:spPr>
          <a:xfrm flipV="1">
            <a:off x="2999880" y="1499400"/>
            <a:ext cx="2644200" cy="50076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5" name="AutoShape 28"/>
          <p:cNvCxnSpPr/>
          <p:nvPr/>
        </p:nvCxnSpPr>
        <p:spPr>
          <a:xfrm flipV="1">
            <a:off x="3000240" y="2144880"/>
            <a:ext cx="1643760" cy="7020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6" name="AutoShape 28"/>
          <p:cNvCxnSpPr/>
          <p:nvPr/>
        </p:nvCxnSpPr>
        <p:spPr>
          <a:xfrm>
            <a:off x="2928960" y="2428920"/>
            <a:ext cx="1000800" cy="28656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7" name="AutoShape 28"/>
          <p:cNvCxnSpPr/>
          <p:nvPr/>
        </p:nvCxnSpPr>
        <p:spPr>
          <a:xfrm>
            <a:off x="2786040" y="2714400"/>
            <a:ext cx="643320" cy="57204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18" name="AutoShape 28"/>
          <p:cNvCxnSpPr/>
          <p:nvPr/>
        </p:nvCxnSpPr>
        <p:spPr>
          <a:xfrm>
            <a:off x="2500200" y="2857680"/>
            <a:ext cx="286560" cy="1072080"/>
          </a:xfrm>
          <a:prstGeom prst="straightConnector1">
            <a:avLst/>
          </a:prstGeom>
          <a:ln cap="rnd" w="38160">
            <a:solidFill>
              <a:srgbClr val="a50021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3708360" y="45165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CD9-E327-410F-BBFE-E52A93A49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0:27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5:52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