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push.wav" ContentType="audio/x-wav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6666-546C-42E7-803D-1627159F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4000" y="377424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95F6-372E-4EC0-AF82-DE4C3FC9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2532-8767-41F9-9237-7291297A9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8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96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40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8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96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8AC8-346C-44F3-A3DE-0FF0B2AE2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A6EE-2202-4178-992C-DEAB5E22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64F1-271C-402A-BF64-02D49219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6052-E313-41EA-A392-B92C1F08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35C9-C70A-47DD-8DE4-32300856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-360"/>
            <a:ext cx="8496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D512-D586-4183-A7BC-15CCFD53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641D-D5BA-4D1B-B38D-24545361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C4D0-377C-4276-A537-0000A84A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695E-69C1-441A-85E8-6951D7B5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77840" indent="73656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60360" indent="554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36400" indent="37800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C164-C436-4417-B7B9-C97748674B7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57360" y="6356520"/>
            <a:ext cx="422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866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ADBE-C14E-4792-A64A-255506B28FB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audio" Target="../media/push.wav"/><Relationship Id="rId2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-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83664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43" name="Freeform 6"/>
          <p:cNvSpPr/>
          <p:nvPr/>
        </p:nvSpPr>
        <p:spPr>
          <a:xfrm>
            <a:off x="2733840" y="981000"/>
            <a:ext cx="2006280" cy="1428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4664160" y="1235160"/>
            <a:ext cx="1768320" cy="1498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8"/>
          <p:cNvSpPr/>
          <p:nvPr/>
        </p:nvSpPr>
        <p:spPr>
          <a:xfrm>
            <a:off x="5683320" y="2352600"/>
            <a:ext cx="1252440" cy="2009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9"/>
          <p:cNvSpPr/>
          <p:nvPr/>
        </p:nvSpPr>
        <p:spPr>
          <a:xfrm>
            <a:off x="4916520" y="4187880"/>
            <a:ext cx="1687320" cy="1741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0"/>
          <p:cNvSpPr/>
          <p:nvPr/>
        </p:nvSpPr>
        <p:spPr>
          <a:xfrm>
            <a:off x="3198960" y="4781520"/>
            <a:ext cx="1920600" cy="1163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1825560" y="3675240"/>
            <a:ext cx="1638360" cy="18889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2"/>
          <p:cNvSpPr/>
          <p:nvPr/>
        </p:nvSpPr>
        <p:spPr>
          <a:xfrm>
            <a:off x="2014560" y="1960560"/>
            <a:ext cx="1326960" cy="1839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94"/>
          <p:cNvSpPr/>
          <p:nvPr/>
        </p:nvSpPr>
        <p:spPr>
          <a:xfrm>
            <a:off x="2819520" y="316224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e5e5e"/>
                </a:solidFill>
                <a:latin typeface="Arial"/>
                <a:ea typeface="Gulim"/>
              </a:rPr>
              <a:t>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94"/>
          <p:cNvSpPr/>
          <p:nvPr/>
        </p:nvSpPr>
        <p:spPr>
          <a:xfrm>
            <a:off x="3494160" y="1504800"/>
            <a:ext cx="787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94"/>
          <p:cNvSpPr/>
          <p:nvPr/>
        </p:nvSpPr>
        <p:spPr>
          <a:xfrm>
            <a:off x="5105520" y="1773360"/>
            <a:ext cx="787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94"/>
          <p:cNvSpPr/>
          <p:nvPr/>
        </p:nvSpPr>
        <p:spPr>
          <a:xfrm>
            <a:off x="5950080" y="3270240"/>
            <a:ext cx="787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94"/>
          <p:cNvSpPr/>
          <p:nvPr/>
        </p:nvSpPr>
        <p:spPr>
          <a:xfrm>
            <a:off x="5334120" y="4832280"/>
            <a:ext cx="787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94"/>
          <p:cNvSpPr/>
          <p:nvPr/>
        </p:nvSpPr>
        <p:spPr>
          <a:xfrm>
            <a:off x="3611520" y="5308560"/>
            <a:ext cx="787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94"/>
          <p:cNvSpPr/>
          <p:nvPr/>
        </p:nvSpPr>
        <p:spPr>
          <a:xfrm>
            <a:off x="2184480" y="2612880"/>
            <a:ext cx="787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94"/>
          <p:cNvSpPr/>
          <p:nvPr/>
        </p:nvSpPr>
        <p:spPr>
          <a:xfrm>
            <a:off x="2311560" y="4413240"/>
            <a:ext cx="788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2360" y="6237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7960" y="117360"/>
            <a:ext cx="25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图表大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split dir="out" orient="horz"/>
    <p:sndAc>
      <p:stSnd>
        <p:snd r:embed="rId3" name="pu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2015-7986-4EBE-B656-5AFC95D7E0DB}" type="slidenum">
              <a:t>2</a:t>
            </a:fld>
          </a:p>
        </p:txBody>
      </p:sp>
    </p:spTree>
  </p:cSld>
  <p:transition spd="med" advTm="2000">
    <p:split dir="out" orient="horz"/>
    <p:sndAc>
      <p:stSnd>
        <p:snd r:embed="rId27" name="pu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06:04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12:44:21Z</dcterms:modified>
  <cp:revision>15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