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96FE-6115-492A-B77A-AFBCD2EB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E7E-AFB1-4B6D-A237-31A2365C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F32B-1A93-49B8-AFCC-4C9BD8CE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C97E-A182-430D-87EF-0410D209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47D-3174-4F0D-B6AA-54992ED7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E55-DF5A-4808-BB86-D9ED63E5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99A9-A48E-4FD1-9033-014388C4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2ABE-0D60-4370-8124-52E3CB30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A773-1A2D-407D-BD0D-9E7867F2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A1D-2805-4AC4-A449-FF15F8B7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0B0-1723-48D2-9D68-D68914D1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DE22-FF8A-470F-A66B-818B96A2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4102-575F-46D2-AACD-F586589519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tubiao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29120" y="333360"/>
            <a:ext cx="372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表箭头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71640" y="5084640"/>
            <a:ext cx="761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935-647B-4237-9F6F-9FE070E039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49:49Z</dcterms:modified>
  <cp:revision>8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