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63F-B86C-4A21-B309-87E38F16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802-8468-4E6F-BA25-DD35965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BA4-6C3C-4B34-8893-C1E90871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C9F-2DEC-4DFF-8C9E-BB193523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088-B64B-4B78-92FD-0876F3E8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8D3-984E-4B4C-80BC-D9CF950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B46-96F4-4632-BCFD-03D9243F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ACC-429A-4E26-9255-0B77F60E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B76-8D4B-4D94-B622-47F61E9C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2E4-2ECD-45D6-970D-6BECB6F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9C4-1B4A-476B-BB39-D76811C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005-55B7-4985-A05F-FD8CB5F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2266-E65F-45F7-AFFE-7F0B9B91B5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750-DEAA-4A58-BB23-ADB032BD4E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배경4_20061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8160" y="612936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38160" y="5815080"/>
            <a:ext cx="7021440" cy="314280"/>
          </a:xfrm>
          <a:prstGeom prst="parallelogram">
            <a:avLst>
              <a:gd name="adj" fmla="val 226827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38160" y="5813280"/>
            <a:ext cx="2700360" cy="316080"/>
          </a:xfrm>
          <a:prstGeom prst="parallelogram">
            <a:avLst>
              <a:gd name="adj" fmla="val 2137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063880" y="6129360"/>
            <a:ext cx="432108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23960" y="518472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723960" y="4870440"/>
            <a:ext cx="7010280" cy="314280"/>
          </a:xfrm>
          <a:prstGeom prst="parallelogram">
            <a:avLst>
              <a:gd name="adj" fmla="val 226466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723960" y="4869000"/>
            <a:ext cx="2700360" cy="315720"/>
          </a:xfrm>
          <a:prstGeom prst="parallelogram">
            <a:avLst>
              <a:gd name="adj" fmla="val 21354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2749680" y="5184720"/>
            <a:ext cx="43099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87440" y="423864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1387440" y="3924360"/>
            <a:ext cx="7021440" cy="314280"/>
          </a:xfrm>
          <a:prstGeom prst="parallelogram">
            <a:avLst>
              <a:gd name="adj" fmla="val 226827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1387440" y="3922560"/>
            <a:ext cx="2700360" cy="316080"/>
          </a:xfrm>
          <a:prstGeom prst="parallelogram">
            <a:avLst>
              <a:gd name="adj" fmla="val 2133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3413160" y="4238640"/>
            <a:ext cx="430848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2030400" y="329400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2030400" y="2979720"/>
            <a:ext cx="7113600" cy="314280"/>
          </a:xfrm>
          <a:prstGeom prst="parallelogram">
            <a:avLst>
              <a:gd name="adj" fmla="val 229804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2030400" y="2978280"/>
            <a:ext cx="2700360" cy="315720"/>
          </a:xfrm>
          <a:prstGeom prst="parallelogram">
            <a:avLst>
              <a:gd name="adj" fmla="val 21406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4140360" y="3357720"/>
            <a:ext cx="4352760" cy="63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651600" y="626436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1324440" y="531972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2000880" y="437508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2765880" y="340668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5360040" y="341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4953600" y="4375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4501440" y="53132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3829680" y="62578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0"/>
          <p:cNvSpPr/>
          <p:nvPr/>
        </p:nvSpPr>
        <p:spPr>
          <a:xfrm>
            <a:off x="2411280" y="2979720"/>
            <a:ext cx="1805040" cy="31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0"/>
          <p:cNvSpPr/>
          <p:nvPr/>
        </p:nvSpPr>
        <p:spPr>
          <a:xfrm>
            <a:off x="2268360" y="860400"/>
            <a:ext cx="1178280" cy="2343240"/>
          </a:xfrm>
          <a:prstGeom prst="pie">
            <a:avLst/>
          </a:prstGeom>
          <a:solidFill>
            <a:srgbClr val="ff8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3"/>
          <p:cNvSpPr/>
          <p:nvPr/>
        </p:nvSpPr>
        <p:spPr>
          <a:xfrm>
            <a:off x="1873080" y="3946680"/>
            <a:ext cx="1665360" cy="314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9"/>
          <p:cNvSpPr/>
          <p:nvPr/>
        </p:nvSpPr>
        <p:spPr>
          <a:xfrm>
            <a:off x="1646280" y="2033640"/>
            <a:ext cx="1079280" cy="2147760"/>
          </a:xfrm>
          <a:prstGeom prst="pie">
            <a:avLst/>
          </a:prstGeom>
          <a:solidFill>
            <a:srgbClr val="f7c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4"/>
          <p:cNvSpPr/>
          <p:nvPr/>
        </p:nvSpPr>
        <p:spPr>
          <a:xfrm>
            <a:off x="1230480" y="4879800"/>
            <a:ext cx="149688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960480" y="3384720"/>
            <a:ext cx="876240" cy="1744560"/>
          </a:xfrm>
          <a:prstGeom prst="pie">
            <a:avLst/>
          </a:prstGeom>
          <a:solidFill>
            <a:srgbClr val="eb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5"/>
          <p:cNvSpPr/>
          <p:nvPr/>
        </p:nvSpPr>
        <p:spPr>
          <a:xfrm>
            <a:off x="601560" y="5848200"/>
            <a:ext cx="149724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7"/>
          <p:cNvSpPr/>
          <p:nvPr/>
        </p:nvSpPr>
        <p:spPr>
          <a:xfrm>
            <a:off x="466560" y="4632480"/>
            <a:ext cx="730440" cy="1452240"/>
          </a:xfrm>
          <a:prstGeom prst="pie">
            <a:avLst/>
          </a:prstGeom>
          <a:solidFill>
            <a:srgbClr val="a2d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71280" y="54000"/>
            <a:ext cx="2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4998960" y="5850000"/>
            <a:ext cx="4095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105264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阶梯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8" descr="배경-1-white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38160" y="612936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8160" y="5815080"/>
            <a:ext cx="7021440" cy="314280"/>
          </a:xfrm>
          <a:prstGeom prst="parallelogram">
            <a:avLst>
              <a:gd name="adj" fmla="val 226827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8160" y="5813280"/>
            <a:ext cx="2700360" cy="316080"/>
          </a:xfrm>
          <a:prstGeom prst="parallelogram">
            <a:avLst>
              <a:gd name="adj" fmla="val 2137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63880" y="6129360"/>
            <a:ext cx="432108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3960" y="518472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723960" y="4870440"/>
            <a:ext cx="7010280" cy="314280"/>
          </a:xfrm>
          <a:prstGeom prst="parallelogram">
            <a:avLst>
              <a:gd name="adj" fmla="val 226466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723960" y="4869000"/>
            <a:ext cx="2700360" cy="315720"/>
          </a:xfrm>
          <a:prstGeom prst="parallelogram">
            <a:avLst>
              <a:gd name="adj" fmla="val 21354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2749680" y="5184720"/>
            <a:ext cx="43099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387440" y="423864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387440" y="3924360"/>
            <a:ext cx="7021440" cy="314280"/>
          </a:xfrm>
          <a:prstGeom prst="parallelogram">
            <a:avLst>
              <a:gd name="adj" fmla="val 226827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1387440" y="3922560"/>
            <a:ext cx="2700360" cy="316080"/>
          </a:xfrm>
          <a:prstGeom prst="parallelogram">
            <a:avLst>
              <a:gd name="adj" fmla="val 2133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413160" y="4238640"/>
            <a:ext cx="430848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030400" y="3294000"/>
            <a:ext cx="202572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2019240" y="2979720"/>
            <a:ext cx="7113600" cy="314280"/>
          </a:xfrm>
          <a:prstGeom prst="parallelogram">
            <a:avLst>
              <a:gd name="adj" fmla="val 229804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2030400" y="2978280"/>
            <a:ext cx="2700360" cy="315720"/>
          </a:xfrm>
          <a:prstGeom prst="parallelogram">
            <a:avLst>
              <a:gd name="adj" fmla="val 21406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056120" y="3294000"/>
            <a:ext cx="4352760" cy="6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51600" y="626436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324440" y="531972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000880" y="437508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2765880" y="340668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5360040" y="341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4953600" y="4375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4501440" y="53132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3829680" y="62578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7"/>
          <p:cNvSpPr/>
          <p:nvPr/>
        </p:nvSpPr>
        <p:spPr>
          <a:xfrm>
            <a:off x="2411280" y="2979720"/>
            <a:ext cx="1805040" cy="31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2268360" y="860400"/>
            <a:ext cx="1178280" cy="2343240"/>
          </a:xfrm>
          <a:prstGeom prst="pie">
            <a:avLst/>
          </a:prstGeom>
          <a:solidFill>
            <a:srgbClr val="ff8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1873080" y="3946680"/>
            <a:ext cx="1665360" cy="314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0"/>
          <p:cNvSpPr/>
          <p:nvPr/>
        </p:nvSpPr>
        <p:spPr>
          <a:xfrm>
            <a:off x="1646280" y="2033640"/>
            <a:ext cx="1079280" cy="2147760"/>
          </a:xfrm>
          <a:prstGeom prst="pie">
            <a:avLst/>
          </a:prstGeom>
          <a:solidFill>
            <a:srgbClr val="f7c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1230480" y="4879800"/>
            <a:ext cx="149688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960480" y="3384720"/>
            <a:ext cx="876240" cy="1744560"/>
          </a:xfrm>
          <a:prstGeom prst="pie">
            <a:avLst/>
          </a:prstGeom>
          <a:solidFill>
            <a:srgbClr val="eb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3"/>
          <p:cNvSpPr/>
          <p:nvPr/>
        </p:nvSpPr>
        <p:spPr>
          <a:xfrm>
            <a:off x="601560" y="5848200"/>
            <a:ext cx="149724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66560" y="4632480"/>
            <a:ext cx="730440" cy="1452240"/>
          </a:xfrm>
          <a:prstGeom prst="pie">
            <a:avLst/>
          </a:prstGeom>
          <a:solidFill>
            <a:srgbClr val="a2d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673560" y="54000"/>
            <a:ext cx="52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4998960" y="5850000"/>
            <a:ext cx="4095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38"/>
          <p:cNvSpPr/>
          <p:nvPr/>
        </p:nvSpPr>
        <p:spPr>
          <a:xfrm>
            <a:off x="826920" y="2838600"/>
            <a:ext cx="4753080" cy="158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27"/>
          <p:cNvSpPr/>
          <p:nvPr/>
        </p:nvSpPr>
        <p:spPr>
          <a:xfrm rot="5400000">
            <a:off x="5078160" y="2214360"/>
            <a:ext cx="2950920" cy="295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26"/>
          <p:cNvSpPr/>
          <p:nvPr/>
        </p:nvSpPr>
        <p:spPr>
          <a:xfrm rot="5400000">
            <a:off x="4644360" y="1744560"/>
            <a:ext cx="3888000" cy="3887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48"/>
          <p:cNvSpPr/>
          <p:nvPr/>
        </p:nvSpPr>
        <p:spPr>
          <a:xfrm>
            <a:off x="1361880" y="211788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소비자의 구매역할과 다양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629080" y="3705120"/>
            <a:ext cx="900000" cy="360"/>
            <a:chOff x="2629080" y="3705120"/>
            <a:chExt cx="900000" cy="360"/>
          </a:xfrm>
        </p:grpSpPr>
        <p:sp>
          <p:nvSpPr>
            <p:cNvPr id="119" name="Line 1051"/>
            <p:cNvSpPr/>
            <p:nvPr/>
          </p:nvSpPr>
          <p:spPr>
            <a:xfrm>
              <a:off x="2629080" y="3705120"/>
              <a:ext cx="900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629080" y="3705120"/>
              <a:ext cx="90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3080" y="2477880"/>
            <a:ext cx="576720" cy="515880"/>
            <a:chOff x="4573080" y="2477880"/>
            <a:chExt cx="576720" cy="515880"/>
          </a:xfrm>
        </p:grpSpPr>
        <p:sp>
          <p:nvSpPr>
            <p:cNvPr id="122" name="Line 1052"/>
            <p:cNvSpPr/>
            <p:nvPr/>
          </p:nvSpPr>
          <p:spPr>
            <a:xfrm flipV="1">
              <a:off x="4573440" y="2477880"/>
              <a:ext cx="576360" cy="515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10800000">
              <a:off x="4573080" y="2477880"/>
              <a:ext cx="5763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73560" y="3705120"/>
            <a:ext cx="900360" cy="360"/>
            <a:chOff x="5173560" y="3705120"/>
            <a:chExt cx="900360" cy="360"/>
          </a:xfrm>
        </p:grpSpPr>
        <p:sp>
          <p:nvSpPr>
            <p:cNvPr id="125" name="Line 1054"/>
            <p:cNvSpPr/>
            <p:nvPr/>
          </p:nvSpPr>
          <p:spPr>
            <a:xfrm>
              <a:off x="5173560" y="3705120"/>
              <a:ext cx="90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5173560" y="3705120"/>
              <a:ext cx="9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44720" y="3119400"/>
            <a:ext cx="1431720" cy="798480"/>
            <a:chOff x="1044720" y="3119400"/>
            <a:chExt cx="1431720" cy="798480"/>
          </a:xfrm>
        </p:grpSpPr>
        <p:sp>
          <p:nvSpPr>
            <p:cNvPr id="128" name="Rectangle 1059"/>
            <p:cNvSpPr/>
            <p:nvPr/>
          </p:nvSpPr>
          <p:spPr>
            <a:xfrm>
              <a:off x="1044720" y="3551040"/>
              <a:ext cx="143172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60"/>
            <p:cNvSpPr/>
            <p:nvPr/>
          </p:nvSpPr>
          <p:spPr>
            <a:xfrm>
              <a:off x="1107720" y="3522600"/>
              <a:ext cx="130464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387440" y="3119400"/>
              <a:ext cx="742320" cy="514080"/>
              <a:chOff x="1387440" y="3119400"/>
              <a:chExt cx="742320" cy="514080"/>
            </a:xfrm>
          </p:grpSpPr>
          <p:sp>
            <p:nvSpPr>
              <p:cNvPr id="131" name="Oval 1062"/>
              <p:cNvSpPr/>
              <p:nvPr/>
            </p:nvSpPr>
            <p:spPr>
              <a:xfrm flipV="1">
                <a:off x="1896480" y="3151800"/>
                <a:ext cx="18396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063"/>
              <p:cNvSpPr/>
              <p:nvPr/>
            </p:nvSpPr>
            <p:spPr>
              <a:xfrm flipV="1">
                <a:off x="1387440" y="3119040"/>
                <a:ext cx="74232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Oval 1064"/>
            <p:cNvSpPr/>
            <p:nvPr/>
          </p:nvSpPr>
          <p:spPr>
            <a:xfrm flipV="1">
              <a:off x="1520640" y="3241800"/>
              <a:ext cx="4773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29440" y="3119400"/>
            <a:ext cx="1431720" cy="798480"/>
            <a:chOff x="6229440" y="3119400"/>
            <a:chExt cx="1431720" cy="798480"/>
          </a:xfrm>
        </p:grpSpPr>
        <p:sp>
          <p:nvSpPr>
            <p:cNvPr id="135" name="Rectangle 1073"/>
            <p:cNvSpPr/>
            <p:nvPr/>
          </p:nvSpPr>
          <p:spPr>
            <a:xfrm>
              <a:off x="6229440" y="3551040"/>
              <a:ext cx="143172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74"/>
            <p:cNvSpPr/>
            <p:nvPr/>
          </p:nvSpPr>
          <p:spPr>
            <a:xfrm>
              <a:off x="6292440" y="3522600"/>
              <a:ext cx="130464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572160" y="3119400"/>
              <a:ext cx="742320" cy="514080"/>
              <a:chOff x="6572160" y="3119400"/>
              <a:chExt cx="742320" cy="514080"/>
            </a:xfrm>
          </p:grpSpPr>
          <p:sp>
            <p:nvSpPr>
              <p:cNvPr id="138" name="Oval 1076"/>
              <p:cNvSpPr/>
              <p:nvPr/>
            </p:nvSpPr>
            <p:spPr>
              <a:xfrm flipV="1">
                <a:off x="7081200" y="3151800"/>
                <a:ext cx="18396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077"/>
              <p:cNvSpPr/>
              <p:nvPr/>
            </p:nvSpPr>
            <p:spPr>
              <a:xfrm flipV="1">
                <a:off x="6572160" y="3119040"/>
                <a:ext cx="74232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1078"/>
            <p:cNvSpPr/>
            <p:nvPr/>
          </p:nvSpPr>
          <p:spPr>
            <a:xfrm flipV="1">
              <a:off x="6705360" y="3241800"/>
              <a:ext cx="4773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37080" y="3119400"/>
            <a:ext cx="1431720" cy="798480"/>
            <a:chOff x="3637080" y="3119400"/>
            <a:chExt cx="1431720" cy="798480"/>
          </a:xfrm>
        </p:grpSpPr>
        <p:sp>
          <p:nvSpPr>
            <p:cNvPr id="142" name="Rectangle 1080"/>
            <p:cNvSpPr/>
            <p:nvPr/>
          </p:nvSpPr>
          <p:spPr>
            <a:xfrm>
              <a:off x="3637080" y="3551040"/>
              <a:ext cx="143172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81"/>
            <p:cNvSpPr/>
            <p:nvPr/>
          </p:nvSpPr>
          <p:spPr>
            <a:xfrm>
              <a:off x="3700080" y="3522600"/>
              <a:ext cx="130464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979800" y="3119400"/>
              <a:ext cx="742320" cy="514080"/>
              <a:chOff x="3979800" y="3119400"/>
              <a:chExt cx="742320" cy="514080"/>
            </a:xfrm>
          </p:grpSpPr>
          <p:sp>
            <p:nvSpPr>
              <p:cNvPr id="145" name="Oval 1083"/>
              <p:cNvSpPr/>
              <p:nvPr/>
            </p:nvSpPr>
            <p:spPr>
              <a:xfrm flipV="1">
                <a:off x="4488840" y="3151800"/>
                <a:ext cx="18396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084"/>
              <p:cNvSpPr/>
              <p:nvPr/>
            </p:nvSpPr>
            <p:spPr>
              <a:xfrm flipV="1">
                <a:off x="3979800" y="3119040"/>
                <a:ext cx="74232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Oval 1085"/>
            <p:cNvSpPr/>
            <p:nvPr/>
          </p:nvSpPr>
          <p:spPr>
            <a:xfrm flipV="1">
              <a:off x="4113000" y="3241800"/>
              <a:ext cx="4773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031"/>
          <p:cNvSpPr/>
          <p:nvPr/>
        </p:nvSpPr>
        <p:spPr>
          <a:xfrm>
            <a:off x="3836160" y="3665880"/>
            <a:ext cx="10522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32"/>
          <p:cNvSpPr/>
          <p:nvPr/>
        </p:nvSpPr>
        <p:spPr>
          <a:xfrm>
            <a:off x="1364040" y="3661200"/>
            <a:ext cx="7642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re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33"/>
          <p:cNvSpPr/>
          <p:nvPr/>
        </p:nvSpPr>
        <p:spPr>
          <a:xfrm>
            <a:off x="6360120" y="3703680"/>
            <a:ext cx="1158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Media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02080" y="4721400"/>
            <a:ext cx="1432080" cy="798480"/>
            <a:chOff x="5302080" y="4721400"/>
            <a:chExt cx="1432080" cy="798480"/>
          </a:xfrm>
        </p:grpSpPr>
        <p:sp>
          <p:nvSpPr>
            <p:cNvPr id="152" name="Rectangle 1103"/>
            <p:cNvSpPr/>
            <p:nvPr/>
          </p:nvSpPr>
          <p:spPr>
            <a:xfrm>
              <a:off x="5302080" y="5153040"/>
              <a:ext cx="143208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04"/>
            <p:cNvSpPr/>
            <p:nvPr/>
          </p:nvSpPr>
          <p:spPr>
            <a:xfrm>
              <a:off x="5365440" y="5124600"/>
              <a:ext cx="130500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645160" y="4721400"/>
              <a:ext cx="742680" cy="514080"/>
              <a:chOff x="5645160" y="4721400"/>
              <a:chExt cx="742680" cy="514080"/>
            </a:xfrm>
          </p:grpSpPr>
          <p:sp>
            <p:nvSpPr>
              <p:cNvPr id="155" name="Oval 1106"/>
              <p:cNvSpPr/>
              <p:nvPr/>
            </p:nvSpPr>
            <p:spPr>
              <a:xfrm flipV="1">
                <a:off x="6154200" y="4753800"/>
                <a:ext cx="18396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107"/>
              <p:cNvSpPr/>
              <p:nvPr/>
            </p:nvSpPr>
            <p:spPr>
              <a:xfrm flipV="1">
                <a:off x="5645160" y="4721040"/>
                <a:ext cx="74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Oval 1108"/>
            <p:cNvSpPr/>
            <p:nvPr/>
          </p:nvSpPr>
          <p:spPr>
            <a:xfrm flipV="1">
              <a:off x="5778360" y="4843800"/>
              <a:ext cx="4777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050"/>
          <p:cNvSpPr/>
          <p:nvPr/>
        </p:nvSpPr>
        <p:spPr>
          <a:xfrm>
            <a:off x="5513400" y="5308560"/>
            <a:ext cx="1018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meas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3440" y="4218120"/>
            <a:ext cx="576360" cy="514080"/>
            <a:chOff x="4573440" y="4218120"/>
            <a:chExt cx="576360" cy="514080"/>
          </a:xfrm>
        </p:grpSpPr>
        <p:sp>
          <p:nvSpPr>
            <p:cNvPr id="160" name="Line 1111"/>
            <p:cNvSpPr/>
            <p:nvPr/>
          </p:nvSpPr>
          <p:spPr>
            <a:xfrm>
              <a:off x="4573440" y="4218120"/>
              <a:ext cx="576360" cy="51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573440" y="4218120"/>
              <a:ext cx="576360" cy="51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302080" y="1405080"/>
            <a:ext cx="1432080" cy="798480"/>
            <a:chOff x="5302080" y="1405080"/>
            <a:chExt cx="1432080" cy="798480"/>
          </a:xfrm>
        </p:grpSpPr>
        <p:sp>
          <p:nvSpPr>
            <p:cNvPr id="163" name="Rectangle 1120"/>
            <p:cNvSpPr/>
            <p:nvPr/>
          </p:nvSpPr>
          <p:spPr>
            <a:xfrm>
              <a:off x="5302080" y="1836720"/>
              <a:ext cx="143208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21"/>
            <p:cNvSpPr/>
            <p:nvPr/>
          </p:nvSpPr>
          <p:spPr>
            <a:xfrm>
              <a:off x="5365440" y="1808280"/>
              <a:ext cx="130500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645160" y="1405080"/>
              <a:ext cx="742680" cy="514080"/>
              <a:chOff x="5645160" y="1405080"/>
              <a:chExt cx="742680" cy="514080"/>
            </a:xfrm>
          </p:grpSpPr>
          <p:sp>
            <p:nvSpPr>
              <p:cNvPr id="166" name="Oval 1123"/>
              <p:cNvSpPr/>
              <p:nvPr/>
            </p:nvSpPr>
            <p:spPr>
              <a:xfrm flipV="1">
                <a:off x="6154200" y="1437480"/>
                <a:ext cx="18396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124"/>
              <p:cNvSpPr/>
              <p:nvPr/>
            </p:nvSpPr>
            <p:spPr>
              <a:xfrm flipV="1">
                <a:off x="5645160" y="1404720"/>
                <a:ext cx="74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1125"/>
            <p:cNvSpPr/>
            <p:nvPr/>
          </p:nvSpPr>
          <p:spPr>
            <a:xfrm flipV="1">
              <a:off x="5778360" y="1527480"/>
              <a:ext cx="4777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049"/>
          <p:cNvSpPr/>
          <p:nvPr/>
        </p:nvSpPr>
        <p:spPr>
          <a:xfrm>
            <a:off x="5645160" y="1927440"/>
            <a:ext cx="7552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28"/>
          <p:cNvSpPr/>
          <p:nvPr/>
        </p:nvSpPr>
        <p:spPr>
          <a:xfrm>
            <a:off x="4291200" y="3237120"/>
            <a:ext cx="116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29"/>
          <p:cNvSpPr/>
          <p:nvPr/>
        </p:nvSpPr>
        <p:spPr>
          <a:xfrm>
            <a:off x="5947200" y="1541880"/>
            <a:ext cx="116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30"/>
          <p:cNvSpPr/>
          <p:nvPr/>
        </p:nvSpPr>
        <p:spPr>
          <a:xfrm>
            <a:off x="6890040" y="3256200"/>
            <a:ext cx="116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31"/>
          <p:cNvSpPr/>
          <p:nvPr/>
        </p:nvSpPr>
        <p:spPr>
          <a:xfrm>
            <a:off x="5956560" y="4856400"/>
            <a:ext cx="116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32"/>
          <p:cNvSpPr/>
          <p:nvPr/>
        </p:nvSpPr>
        <p:spPr>
          <a:xfrm>
            <a:off x="1689480" y="3237120"/>
            <a:ext cx="116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5589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358920" y="5805360"/>
            <a:ext cx="8424720" cy="50328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80" name="Text Box 5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82" name="AutoShape 7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8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9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0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86" name="AutoShape 11"/>
          <p:cNvCxnSpPr>
            <a:stCxn id="187" idx="3"/>
            <a:endCxn id="188" idx="1"/>
          </p:cNvCxnSpPr>
          <p:nvPr/>
        </p:nvCxnSpPr>
        <p:spPr>
          <a:xfrm flipV="1">
            <a:off x="1810800" y="3859920"/>
            <a:ext cx="320040" cy="505800"/>
          </a:xfrm>
          <a:prstGeom prst="bentConnector3">
            <a:avLst>
              <a:gd name="adj1" fmla="val 496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12"/>
          <p:cNvCxnSpPr>
            <a:stCxn id="190" idx="3"/>
            <a:endCxn id="191" idx="1"/>
          </p:cNvCxnSpPr>
          <p:nvPr/>
        </p:nvCxnSpPr>
        <p:spPr>
          <a:xfrm flipV="1">
            <a:off x="5284800" y="2925360"/>
            <a:ext cx="340200" cy="504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13"/>
          <p:cNvCxnSpPr>
            <a:stCxn id="188" idx="3"/>
            <a:endCxn id="190" idx="1"/>
          </p:cNvCxnSpPr>
          <p:nvPr/>
        </p:nvCxnSpPr>
        <p:spPr>
          <a:xfrm flipV="1">
            <a:off x="3557520" y="3428280"/>
            <a:ext cx="300600" cy="43236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14"/>
          <p:cNvCxnSpPr>
            <a:stCxn id="191" idx="3"/>
            <a:endCxn id="194" idx="1"/>
          </p:cNvCxnSpPr>
          <p:nvPr/>
        </p:nvCxnSpPr>
        <p:spPr>
          <a:xfrm flipV="1">
            <a:off x="7050240" y="2493360"/>
            <a:ext cx="321120" cy="432360"/>
          </a:xfrm>
          <a:prstGeom prst="bentConnector3">
            <a:avLst>
              <a:gd name="adj1" fmla="val 49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5" name=""/>
          <p:cNvGrpSpPr/>
          <p:nvPr/>
        </p:nvGrpSpPr>
        <p:grpSpPr>
          <a:xfrm>
            <a:off x="7236000" y="1557360"/>
            <a:ext cx="1676160" cy="2302920"/>
            <a:chOff x="7236000" y="1557360"/>
            <a:chExt cx="1676160" cy="2302920"/>
          </a:xfrm>
        </p:grpSpPr>
        <p:sp>
          <p:nvSpPr>
            <p:cNvPr id="194" name="AutoShape 16"/>
            <p:cNvSpPr/>
            <p:nvPr/>
          </p:nvSpPr>
          <p:spPr>
            <a:xfrm>
              <a:off x="7380000" y="1557360"/>
              <a:ext cx="1406160" cy="187272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2720"/>
                <a:gd name="textAreaBottom" fmla="*/ 1804320 h 1872720"/>
              </a:gdLst>
              <a:ahLst/>
              <a:rect l="textAreaLeft" t="textAreaTop" r="textAreaRight" b="textAreaBottom"/>
              <a:pathLst>
                <a:path w="21600" h="28765">
                  <a:moveTo>
                    <a:pt x="3600" y="0"/>
                  </a:moveTo>
                  <a:arcTo wR="3600" hR="3600" stAng="16200000" swAng="-5400000"/>
                  <a:lnTo>
                    <a:pt x="0" y="25165"/>
                  </a:lnTo>
                  <a:arcTo wR="3600" hR="3600" stAng="10800000" swAng="-5400000"/>
                  <a:lnTo>
                    <a:pt x="18000" y="28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MS PGothic"/>
                </a:rPr>
                <a:t>text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7" descr="shadow"/>
            <p:cNvPicPr/>
            <p:nvPr/>
          </p:nvPicPr>
          <p:blipFill>
            <a:blip r:embed="rId1"/>
            <a:stretch/>
          </p:blipFill>
          <p:spPr>
            <a:xfrm>
              <a:off x="7236000" y="3644640"/>
              <a:ext cx="1676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5508720" y="1989000"/>
            <a:ext cx="1676160" cy="2303640"/>
            <a:chOff x="5508720" y="1989000"/>
            <a:chExt cx="1676160" cy="2303640"/>
          </a:xfrm>
        </p:grpSpPr>
        <p:sp>
          <p:nvSpPr>
            <p:cNvPr id="191" name="AutoShape 19"/>
            <p:cNvSpPr/>
            <p:nvPr/>
          </p:nvSpPr>
          <p:spPr>
            <a:xfrm>
              <a:off x="5633640" y="1989000"/>
              <a:ext cx="1406160" cy="18730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3080"/>
                <a:gd name="textAreaBottom" fmla="*/ 1804680 h 1873080"/>
              </a:gdLst>
              <a:ahLst/>
              <a:rect l="textAreaLeft" t="textAreaTop" r="textAreaRight" b="textAreaBottom"/>
              <a:pathLst>
                <a:path w="21600" h="28771">
                  <a:moveTo>
                    <a:pt x="3600" y="0"/>
                  </a:moveTo>
                  <a:arcTo wR="3600" hR="3600" stAng="16200000" swAng="-5400000"/>
                  <a:lnTo>
                    <a:pt x="0" y="25171"/>
                  </a:lnTo>
                  <a:arcTo wR="3600" hR="3600" stAng="10800000" swAng="-5400000"/>
                  <a:lnTo>
                    <a:pt x="18000" y="287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MS PGothic"/>
                </a:rPr>
                <a:t>text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20" descr="shadow"/>
            <p:cNvPicPr/>
            <p:nvPr/>
          </p:nvPicPr>
          <p:blipFill>
            <a:blip r:embed="rId2"/>
            <a:stretch/>
          </p:blipFill>
          <p:spPr>
            <a:xfrm>
              <a:off x="5508720" y="407664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3733920" y="2490840"/>
            <a:ext cx="1676160" cy="2305080"/>
            <a:chOff x="3733920" y="2490840"/>
            <a:chExt cx="1676160" cy="2305080"/>
          </a:xfrm>
        </p:grpSpPr>
        <p:sp>
          <p:nvSpPr>
            <p:cNvPr id="190" name="AutoShape 22"/>
            <p:cNvSpPr/>
            <p:nvPr/>
          </p:nvSpPr>
          <p:spPr>
            <a:xfrm>
              <a:off x="3866760" y="2490840"/>
              <a:ext cx="1407960" cy="187632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876320"/>
                <a:gd name="textAreaBottom" fmla="*/ 1807920 h 187632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MS PGothic"/>
                </a:rPr>
                <a:t>text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23" descr="shadow"/>
            <p:cNvPicPr/>
            <p:nvPr/>
          </p:nvPicPr>
          <p:blipFill>
            <a:blip r:embed="rId3"/>
            <a:stretch/>
          </p:blipFill>
          <p:spPr>
            <a:xfrm>
              <a:off x="3733920" y="457992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1960560" y="2924280"/>
            <a:ext cx="1676520" cy="2302920"/>
            <a:chOff x="1960560" y="2924280"/>
            <a:chExt cx="1676520" cy="2302920"/>
          </a:xfrm>
        </p:grpSpPr>
        <p:sp>
          <p:nvSpPr>
            <p:cNvPr id="188" name="AutoShape 25"/>
            <p:cNvSpPr/>
            <p:nvPr/>
          </p:nvSpPr>
          <p:spPr>
            <a:xfrm>
              <a:off x="2139840" y="2924280"/>
              <a:ext cx="1408320" cy="1872720"/>
            </a:xfrm>
            <a:custGeom>
              <a:avLst/>
              <a:gdLst>
                <a:gd name="textAreaLeft" fmla="*/ 68760 w 1408320"/>
                <a:gd name="textAreaRight" fmla="*/ 1339560 w 1408320"/>
                <a:gd name="textAreaTop" fmla="*/ 68760 h 1872720"/>
                <a:gd name="textAreaBottom" fmla="*/ 1803960 h 1872720"/>
              </a:gdLst>
              <a:ahLst/>
              <a:rect l="textAreaLeft" t="textAreaTop" r="textAreaRight" b="textAreaBottom"/>
              <a:pathLst>
                <a:path w="21600" h="28721">
                  <a:moveTo>
                    <a:pt x="3600" y="0"/>
                  </a:moveTo>
                  <a:arcTo wR="3600" hR="3600" stAng="16200000" swAng="-5400000"/>
                  <a:lnTo>
                    <a:pt x="0" y="25121"/>
                  </a:lnTo>
                  <a:arcTo wR="3600" hR="3600" stAng="10800000" swAng="-5400000"/>
                  <a:lnTo>
                    <a:pt x="18000" y="28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MS PGothic"/>
                </a:rPr>
                <a:t>text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1960560" y="5011560"/>
              <a:ext cx="167652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50920" y="3433680"/>
            <a:ext cx="1676160" cy="2300400"/>
            <a:chOff x="250920" y="3433680"/>
            <a:chExt cx="1676160" cy="2300400"/>
          </a:xfrm>
        </p:grpSpPr>
        <p:sp>
          <p:nvSpPr>
            <p:cNvPr id="187" name="AutoShape 28"/>
            <p:cNvSpPr/>
            <p:nvPr/>
          </p:nvSpPr>
          <p:spPr>
            <a:xfrm>
              <a:off x="394920" y="3433680"/>
              <a:ext cx="1406160" cy="18622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62280"/>
                <a:gd name="textAreaBottom" fmla="*/ 1793880 h 1862280"/>
              </a:gdLst>
              <a:ahLst/>
              <a:rect l="textAreaLeft" t="textAreaTop" r="textAreaRight" b="textAreaBottom"/>
              <a:pathLst>
                <a:path w="21600" h="28605">
                  <a:moveTo>
                    <a:pt x="3600" y="0"/>
                  </a:moveTo>
                  <a:arcTo wR="3600" hR="3600" stAng="16200000" swAng="-5400000"/>
                  <a:lnTo>
                    <a:pt x="0" y="25005"/>
                  </a:lnTo>
                  <a:arcTo wR="3600" hR="3600" stAng="10800000" swAng="-5400000"/>
                  <a:lnTo>
                    <a:pt x="18000" y="28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29" descr="shadow"/>
            <p:cNvPicPr/>
            <p:nvPr/>
          </p:nvPicPr>
          <p:blipFill>
            <a:blip r:embed="rId5"/>
            <a:stretch/>
          </p:blipFill>
          <p:spPr>
            <a:xfrm>
              <a:off x="250920" y="5522760"/>
              <a:ext cx="1676160" cy="21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952"/>
          <p:cNvSpPr/>
          <p:nvPr/>
        </p:nvSpPr>
        <p:spPr>
          <a:xfrm rot="21036000">
            <a:off x="-106200" y="2206800"/>
            <a:ext cx="7916760" cy="36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951"/>
          <p:cNvSpPr/>
          <p:nvPr/>
        </p:nvSpPr>
        <p:spPr>
          <a:xfrm rot="21036000">
            <a:off x="-106200" y="2062080"/>
            <a:ext cx="7916760" cy="36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43640" y="1700280"/>
            <a:ext cx="2095200" cy="2493000"/>
            <a:chOff x="6443640" y="1700280"/>
            <a:chExt cx="2095200" cy="2493000"/>
          </a:xfrm>
        </p:grpSpPr>
        <p:sp>
          <p:nvSpPr>
            <p:cNvPr id="209" name="Oval 888"/>
            <p:cNvSpPr/>
            <p:nvPr/>
          </p:nvSpPr>
          <p:spPr>
            <a:xfrm rot="20876400">
              <a:off x="6527520" y="3198240"/>
              <a:ext cx="1767600" cy="8190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89"/>
            <p:cNvSpPr/>
            <p:nvPr/>
          </p:nvSpPr>
          <p:spPr>
            <a:xfrm>
              <a:off x="6443640" y="1700280"/>
              <a:ext cx="2095200" cy="209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890"/>
            <p:cNvSpPr/>
            <p:nvPr/>
          </p:nvSpPr>
          <p:spPr>
            <a:xfrm>
              <a:off x="6468840" y="1711440"/>
              <a:ext cx="2046600" cy="20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891"/>
            <p:cNvSpPr/>
            <p:nvPr/>
          </p:nvSpPr>
          <p:spPr>
            <a:xfrm>
              <a:off x="6490440" y="1731600"/>
              <a:ext cx="1947240" cy="191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92"/>
            <p:cNvSpPr/>
            <p:nvPr/>
          </p:nvSpPr>
          <p:spPr>
            <a:xfrm>
              <a:off x="6603480" y="1785960"/>
              <a:ext cx="1731960" cy="155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93"/>
            <p:cNvSpPr/>
            <p:nvPr/>
          </p:nvSpPr>
          <p:spPr>
            <a:xfrm>
              <a:off x="7383600" y="203184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894"/>
          <p:cNvSpPr/>
          <p:nvPr/>
        </p:nvSpPr>
        <p:spPr>
          <a:xfrm>
            <a:off x="7072200" y="1351080"/>
            <a:ext cx="73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5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51280" y="3500280"/>
            <a:ext cx="1704960" cy="2028960"/>
            <a:chOff x="3851280" y="3500280"/>
            <a:chExt cx="1704960" cy="2028960"/>
          </a:xfrm>
        </p:grpSpPr>
        <p:sp>
          <p:nvSpPr>
            <p:cNvPr id="217" name="Oval 896"/>
            <p:cNvSpPr/>
            <p:nvPr/>
          </p:nvSpPr>
          <p:spPr>
            <a:xfrm rot="20876400">
              <a:off x="3919680" y="471960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97"/>
            <p:cNvSpPr/>
            <p:nvPr/>
          </p:nvSpPr>
          <p:spPr>
            <a:xfrm>
              <a:off x="3851280" y="3500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898"/>
            <p:cNvSpPr/>
            <p:nvPr/>
          </p:nvSpPr>
          <p:spPr>
            <a:xfrm>
              <a:off x="3871800" y="350964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99"/>
            <p:cNvSpPr/>
            <p:nvPr/>
          </p:nvSpPr>
          <p:spPr>
            <a:xfrm>
              <a:off x="3889440" y="35258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00"/>
            <p:cNvSpPr/>
            <p:nvPr/>
          </p:nvSpPr>
          <p:spPr>
            <a:xfrm>
              <a:off x="3981600" y="35701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901"/>
            <p:cNvSpPr/>
            <p:nvPr/>
          </p:nvSpPr>
          <p:spPr>
            <a:xfrm>
              <a:off x="4599000" y="377028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902"/>
          <p:cNvSpPr/>
          <p:nvPr/>
        </p:nvSpPr>
        <p:spPr>
          <a:xfrm>
            <a:off x="4342320" y="3168720"/>
            <a:ext cx="586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4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03280" y="4365720"/>
            <a:ext cx="1371600" cy="1718640"/>
            <a:chOff x="1403280" y="4365720"/>
            <a:chExt cx="1371600" cy="1718640"/>
          </a:xfrm>
        </p:grpSpPr>
        <p:sp>
          <p:nvSpPr>
            <p:cNvPr id="225" name="Oval 904"/>
            <p:cNvSpPr/>
            <p:nvPr/>
          </p:nvSpPr>
          <p:spPr>
            <a:xfrm>
              <a:off x="1403280" y="4365720"/>
              <a:ext cx="1371600" cy="14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905"/>
            <p:cNvSpPr/>
            <p:nvPr/>
          </p:nvSpPr>
          <p:spPr>
            <a:xfrm rot="20826600">
              <a:off x="1479600" y="5356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06"/>
            <p:cNvSpPr/>
            <p:nvPr/>
          </p:nvSpPr>
          <p:spPr>
            <a:xfrm>
              <a:off x="1420920" y="4373640"/>
              <a:ext cx="1338120" cy="140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907"/>
            <p:cNvSpPr/>
            <p:nvPr/>
          </p:nvSpPr>
          <p:spPr>
            <a:xfrm>
              <a:off x="1433520" y="4388040"/>
              <a:ext cx="1272960" cy="131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08"/>
            <p:cNvSpPr/>
            <p:nvPr/>
          </p:nvSpPr>
          <p:spPr>
            <a:xfrm>
              <a:off x="1506600" y="4424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09"/>
            <p:cNvSpPr/>
            <p:nvPr/>
          </p:nvSpPr>
          <p:spPr>
            <a:xfrm>
              <a:off x="1974960" y="4583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910"/>
          <p:cNvSpPr/>
          <p:nvPr/>
        </p:nvSpPr>
        <p:spPr>
          <a:xfrm>
            <a:off x="1793880" y="4022640"/>
            <a:ext cx="5540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3 ste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852640"/>
            <a:ext cx="1100160" cy="1139760"/>
            <a:chOff x="826920" y="2852640"/>
            <a:chExt cx="1100160" cy="1139760"/>
          </a:xfrm>
        </p:grpSpPr>
        <p:sp>
          <p:nvSpPr>
            <p:cNvPr id="233" name="Oval 912"/>
            <p:cNvSpPr/>
            <p:nvPr/>
          </p:nvSpPr>
          <p:spPr>
            <a:xfrm>
              <a:off x="826920" y="34592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3"/>
            <p:cNvSpPr/>
            <p:nvPr/>
          </p:nvSpPr>
          <p:spPr>
            <a:xfrm>
              <a:off x="903240" y="28526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14"/>
            <p:cNvSpPr/>
            <p:nvPr/>
          </p:nvSpPr>
          <p:spPr>
            <a:xfrm>
              <a:off x="915840" y="28573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15"/>
            <p:cNvSpPr/>
            <p:nvPr/>
          </p:nvSpPr>
          <p:spPr>
            <a:xfrm>
              <a:off x="927000" y="286848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16"/>
            <p:cNvSpPr/>
            <p:nvPr/>
          </p:nvSpPr>
          <p:spPr>
            <a:xfrm>
              <a:off x="981000" y="28940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17"/>
            <p:cNvSpPr/>
            <p:nvPr/>
          </p:nvSpPr>
          <p:spPr>
            <a:xfrm>
              <a:off x="1314360" y="3038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918"/>
          <p:cNvSpPr/>
          <p:nvPr/>
        </p:nvSpPr>
        <p:spPr>
          <a:xfrm>
            <a:off x="1128240" y="2522520"/>
            <a:ext cx="5158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2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29360" y="1684800"/>
            <a:ext cx="1071000" cy="1184760"/>
            <a:chOff x="2529360" y="1684800"/>
            <a:chExt cx="1071000" cy="1184760"/>
          </a:xfrm>
        </p:grpSpPr>
        <p:sp>
          <p:nvSpPr>
            <p:cNvPr id="241" name="Oval 920"/>
            <p:cNvSpPr/>
            <p:nvPr/>
          </p:nvSpPr>
          <p:spPr>
            <a:xfrm rot="20893800">
              <a:off x="2612160" y="2320920"/>
              <a:ext cx="808560" cy="471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21"/>
            <p:cNvSpPr/>
            <p:nvPr/>
          </p:nvSpPr>
          <p:spPr>
            <a:xfrm rot="20893800">
              <a:off x="2612160" y="1767600"/>
              <a:ext cx="905400" cy="90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22"/>
            <p:cNvSpPr/>
            <p:nvPr/>
          </p:nvSpPr>
          <p:spPr>
            <a:xfrm rot="20893800">
              <a:off x="2621520" y="1771200"/>
              <a:ext cx="884520" cy="88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923"/>
            <p:cNvSpPr/>
            <p:nvPr/>
          </p:nvSpPr>
          <p:spPr>
            <a:xfrm rot="20893800">
              <a:off x="2627640" y="1783800"/>
              <a:ext cx="840960" cy="82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24"/>
            <p:cNvSpPr/>
            <p:nvPr/>
          </p:nvSpPr>
          <p:spPr>
            <a:xfrm rot="20893800">
              <a:off x="2664000" y="1807560"/>
              <a:ext cx="749880" cy="66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25"/>
            <p:cNvSpPr/>
            <p:nvPr/>
          </p:nvSpPr>
          <p:spPr>
            <a:xfrm rot="20893800">
              <a:off x="2940120" y="191448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926"/>
          <p:cNvSpPr/>
          <p:nvPr/>
        </p:nvSpPr>
        <p:spPr>
          <a:xfrm>
            <a:off x="2813040" y="1413000"/>
            <a:ext cx="476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HY헤드라인M"/>
              </a:rPr>
              <a:t>1 st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34"/>
          <p:cNvSpPr/>
          <p:nvPr/>
        </p:nvSpPr>
        <p:spPr>
          <a:xfrm>
            <a:off x="2677320" y="21319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innov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35"/>
          <p:cNvSpPr/>
          <p:nvPr/>
        </p:nvSpPr>
        <p:spPr>
          <a:xfrm>
            <a:off x="1103040" y="3179160"/>
            <a:ext cx="6148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adap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36"/>
          <p:cNvSpPr/>
          <p:nvPr/>
        </p:nvSpPr>
        <p:spPr>
          <a:xfrm>
            <a:off x="1687680" y="4835520"/>
            <a:ext cx="790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37"/>
          <p:cNvSpPr/>
          <p:nvPr/>
        </p:nvSpPr>
        <p:spPr>
          <a:xfrm>
            <a:off x="4205520" y="4075200"/>
            <a:ext cx="99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38"/>
          <p:cNvSpPr/>
          <p:nvPr/>
        </p:nvSpPr>
        <p:spPr>
          <a:xfrm>
            <a:off x="6950520" y="2575080"/>
            <a:ext cx="1155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0066"/>
                </a:solidFill>
                <a:latin typeface="Arial Black"/>
              </a:rPr>
              <a:t>lagg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BED-702D-4116-83E3-A6D8A78CA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7:0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2:3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