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599-E4A2-418A-A883-EC9EFDC5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B6A-0892-47DD-905B-09B7C3DF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747-C130-4359-B16D-E4A79D47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A26-1642-4367-B288-2EA23498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32DD-06EA-499B-BEF6-50A63B35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63E7-C083-49A0-B02B-3CDF1909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E4FA-4204-460E-80F5-FDA1E4FE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F549-04CF-4ABA-B336-F1DD455A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0780-88E9-4B3D-B430-F017E046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BB8D-EBD8-41CF-93EB-3AFF2E0E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57D2-09CA-4A24-A318-D3D324B2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CF9-BD40-49D8-BCFA-8F9189C0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593E-43F5-4098-BEB0-3EC13108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428D-7E93-4C47-9228-08DF273D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E6CC-26C1-449E-80CB-8F0518A2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D07C-F7B8-405F-8BB9-8EE1C1AE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25E0-EA10-4D1A-95BE-2AC4098B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795-E80C-444F-BE20-89DF9C13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400-4A47-4FF2-BDDA-C192305E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A86-FB69-4BB6-A661-D5182AA7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598-5ECA-42BF-B695-A94E8153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9A8-93E0-4D29-9FAD-3A87DBF4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B81-C63B-44A8-A9E5-37C5C2DB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CC8-85B1-43EC-B70E-35008659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F4F4-F6F4-434A-BF80-CC7AB5881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E311-D25C-400A-B3BF-04EE508C37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1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(15)"/>
          <p:cNvPicPr/>
          <p:nvPr/>
        </p:nvPicPr>
        <p:blipFill>
          <a:blip r:embed="rId1"/>
          <a:srcRect l="0" t="0" r="888" b="1083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403280" y="2120760"/>
            <a:ext cx="78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爬山虎的脚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565776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`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3"/>
          <p:cNvPicPr/>
          <p:nvPr/>
        </p:nvPicPr>
        <p:blipFill>
          <a:blip r:embed="rId1"/>
          <a:stretch/>
        </p:blipFill>
        <p:spPr>
          <a:xfrm>
            <a:off x="-1981080" y="-316080"/>
            <a:ext cx="12191760" cy="809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文化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月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精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a83dd211f6fbdcc7c2ce79b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468360" y="480600"/>
            <a:ext cx="867564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填 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刚长出来的叶子的特点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 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大了的叶子的特点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405760" y="184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嫩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279200" y="184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嫩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045400" y="27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均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485040" y="2781360"/>
            <a:ext cx="26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顺儿朝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97400" y="3357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新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982120" y="3357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茂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a83dd211f6fbdcc7c2ce79b8"/>
          <p:cNvPicPr/>
          <p:nvPr/>
        </p:nvPicPr>
        <p:blipFill>
          <a:blip r:embed="rId1"/>
          <a:stretch/>
        </p:blipFill>
        <p:spPr>
          <a:xfrm>
            <a:off x="324000" y="333360"/>
            <a:ext cx="8497800" cy="6524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爬山虎刚长出来的叶子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嫩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，不几天叶子长大，就变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嫩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。爬山虎的嫩叶，不大引人注意，引人注意的是长大了的叶子。那此叶子绿得那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新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看着非常舒服。叶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顺儿朝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在墙上铺得那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均匀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没有重叠起来的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也不留一点儿空隙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一阵风拂过，一墙的叶子就漾起波纹，好看得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466003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759600" y="1125360"/>
            <a:ext cx="78984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99ff"/>
                </a:solidFill>
                <a:latin typeface="Arial"/>
              </a:rPr>
              <a:t>刚长出来的叶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00932720123066517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  <p:sp>
        <p:nvSpPr>
          <p:cNvPr id="133" name="Text Box 3"/>
          <p:cNvSpPr/>
          <p:nvPr/>
        </p:nvSpPr>
        <p:spPr>
          <a:xfrm>
            <a:off x="543600" y="156024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刚长出来的叶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strips dir="r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0060811200736m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831600" y="22820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刚出来的叶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image004"/>
          <p:cNvPicPr/>
          <p:nvPr/>
        </p:nvPicPr>
        <p:blipFill>
          <a:blip r:embed="rId1"/>
          <a:stretch/>
        </p:blipFill>
        <p:spPr>
          <a:xfrm>
            <a:off x="6804000" y="3645000"/>
            <a:ext cx="2077920" cy="244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7" name="Picture 3" descr="image006"/>
          <p:cNvPicPr/>
          <p:nvPr/>
        </p:nvPicPr>
        <p:blipFill>
          <a:blip r:embed="rId2"/>
          <a:stretch/>
        </p:blipFill>
        <p:spPr>
          <a:xfrm>
            <a:off x="6804000" y="692280"/>
            <a:ext cx="2050920" cy="244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8" name="Picture 4" descr="1-0Z9291PG9"/>
          <p:cNvPicPr/>
          <p:nvPr/>
        </p:nvPicPr>
        <p:blipFill>
          <a:blip r:embed="rId3"/>
          <a:stretch/>
        </p:blipFill>
        <p:spPr>
          <a:xfrm>
            <a:off x="2700360" y="2349360"/>
            <a:ext cx="3889440" cy="370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9" name="Picture 5" descr="1"/>
          <p:cNvPicPr/>
          <p:nvPr/>
        </p:nvPicPr>
        <p:blipFill>
          <a:blip r:embed="rId4"/>
          <a:stretch/>
        </p:blipFill>
        <p:spPr>
          <a:xfrm>
            <a:off x="468360" y="3500280"/>
            <a:ext cx="2039760" cy="244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 Box 6"/>
          <p:cNvSpPr/>
          <p:nvPr/>
        </p:nvSpPr>
        <p:spPr>
          <a:xfrm>
            <a:off x="3484440" y="1125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刚长出来的叶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20070913165922389"/>
          <p:cNvPicPr/>
          <p:nvPr/>
        </p:nvPicPr>
        <p:blipFill>
          <a:blip r:embed="rId5"/>
          <a:stretch/>
        </p:blipFill>
        <p:spPr>
          <a:xfrm>
            <a:off x="468360" y="549360"/>
            <a:ext cx="2124000" cy="2565360"/>
          </a:xfrm>
          <a:prstGeom prst="rect">
            <a:avLst/>
          </a:prstGeom>
          <a:ln w="0">
            <a:noFill/>
          </a:ln>
        </p:spPr>
      </p:pic>
    </p:spTree>
  </p:cSld>
  <p:transition advTm="3000">
    <p:strips dir="r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P6180035p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427040" y="53737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长大了的叶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爬山虎图片4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4876920" y="33336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种攀援在墙壁上的供观赏的植物。也叫巴山虎、地锦、常春藤。卷须前端有吸盘，夏季开花，花很小，黄绿色。产于我国各地，茎和根可以入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P6180009p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-164880" y="1413000"/>
            <a:ext cx="164268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长大了的叶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d1-3-3-21%C5%C0%C9%BD%BB%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01520">
            <a:solidFill>
              <a:srgbClr val="ffffff"/>
            </a:solidFill>
            <a:miter/>
          </a:ln>
        </p:spPr>
      </p:pic>
    </p:spTree>
  </p:cSld>
  <p:transition advTm="3000">
    <p:strips dir="r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26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8f0c61d2166ded9e0fe0bf8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</p:spTree>
  </p:cSld>
  <p:transition advTm="3000">
    <p:strips dir="r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a83dd211f6fbdcc7c2ce79b8"/>
          <p:cNvPicPr/>
          <p:nvPr/>
        </p:nvPicPr>
        <p:blipFill>
          <a:blip r:embed="rId1"/>
          <a:stretch/>
        </p:blipFill>
        <p:spPr>
          <a:xfrm>
            <a:off x="324000" y="333360"/>
            <a:ext cx="8497800" cy="65246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爬山虎刚长出来的叶子是嫩红的，不几天叶子长大，就变成嫩绿的。爬山虎的嫩叶，不大引人注意，引人注意的是长大了的叶子。那此叶子绿得那么新鲜，看着非常舒服。叶尖一顺儿朝下，在墙上铺得那么均匀，没有重叠起来的，也不留一点儿空隙。一阵风拂过，一墙的叶子就漾起波纹，好看得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a83dd211f6fbdcc7c2ce79b8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95280" y="2103480"/>
            <a:ext cx="8280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脚长在茎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茎上长叶柄的地方，反面伸出枝状的六七根细丝，每根细丝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像蜗牛的触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细丝跟新叶子一样，也是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嫩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。这就是爬山虎的脚。</a:t>
            </a: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3414854417455389061"/>
          <p:cNvPicPr/>
          <p:nvPr/>
        </p:nvPicPr>
        <p:blipFill>
          <a:blip r:embed="rId1"/>
          <a:stretch/>
        </p:blipFill>
        <p:spPr>
          <a:xfrm>
            <a:off x="250920" y="333360"/>
            <a:ext cx="4105080" cy="27986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57" name="Picture 3" descr="3414854417455389063"/>
          <p:cNvPicPr/>
          <p:nvPr/>
        </p:nvPicPr>
        <p:blipFill>
          <a:blip r:embed="rId2"/>
          <a:stretch/>
        </p:blipFill>
        <p:spPr>
          <a:xfrm>
            <a:off x="250920" y="3357720"/>
            <a:ext cx="4105080" cy="3314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58" name="Picture 4" descr="W020070920469468744879"/>
          <p:cNvPicPr/>
          <p:nvPr/>
        </p:nvPicPr>
        <p:blipFill>
          <a:blip r:embed="rId3"/>
          <a:stretch/>
        </p:blipFill>
        <p:spPr>
          <a:xfrm>
            <a:off x="4716360" y="1773360"/>
            <a:ext cx="4229280" cy="48416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59" name="Rectangle 5"/>
          <p:cNvSpPr/>
          <p:nvPr/>
        </p:nvSpPr>
        <p:spPr>
          <a:xfrm>
            <a:off x="5148360" y="404640"/>
            <a:ext cx="39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爬山虎的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strips dir="r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4886860_142642926307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sp>
        <p:nvSpPr>
          <p:cNvPr id="161" name="Rectangle 3"/>
          <p:cNvSpPr/>
          <p:nvPr/>
        </p:nvSpPr>
        <p:spPr>
          <a:xfrm>
            <a:off x="5651640" y="1197000"/>
            <a:ext cx="298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爬山虎的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strips dir="r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5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7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3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a83dd211f6fbdcc7c2ce79b8"/>
          <p:cNvPicPr/>
          <p:nvPr/>
        </p:nvPicPr>
        <p:blipFill>
          <a:blip r:embed="rId1"/>
          <a:stretch/>
        </p:blipFill>
        <p:spPr>
          <a:xfrm>
            <a:off x="250920" y="-268200"/>
            <a:ext cx="8893080" cy="71262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28480" y="1268280"/>
            <a:ext cx="861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爬山虎的脚触着墙的时候，六七根细丝的头上就变成小圆片，巴住墙。细丝原先是直的，现在弯曲了，把爬山虎的嫩茎拉一把，使它紧贴在墙上。爬山虎就是这样一脚一脚地往上爬。如果你仔细看那些细小的脚，你会想起图画上蛟龙的爪子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a83dd211f6fbdcc7c2ce79b8"/>
          <p:cNvPicPr/>
          <p:nvPr/>
        </p:nvPicPr>
        <p:blipFill>
          <a:blip r:embed="rId1"/>
          <a:stretch/>
        </p:blipFill>
        <p:spPr>
          <a:xfrm>
            <a:off x="250920" y="-268200"/>
            <a:ext cx="8893080" cy="7126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8480" y="1268280"/>
            <a:ext cx="861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爬山虎的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着墙的时候，六七根细丝的头上就变成小圆片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住墙。细丝原先是直的，现在弯曲了，把爬山虎的嫩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把，使它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墙上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83dd211f6fbdcc7c2ce79b8"/>
          <p:cNvPicPr/>
          <p:nvPr/>
        </p:nvPicPr>
        <p:blipFill>
          <a:blip r:embed="rId1"/>
          <a:stretch/>
        </p:blipFill>
        <p:spPr>
          <a:xfrm>
            <a:off x="250920" y="-268200"/>
            <a:ext cx="8893080" cy="7126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28480" y="1268280"/>
            <a:ext cx="861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爬山虎的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着墙的时候，六七根细丝的头上就变成小圆片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住墙。细丝原先是直的，现在弯曲了，把爬山虎的嫩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把，使它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贴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墙上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867760" y="3860640"/>
            <a:ext cx="38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爬山虎就是这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脚一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地往上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2pashanhu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5724360" y="90792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376680" y="621000"/>
            <a:ext cx="729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一墙（             ） 的爬山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0240010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403280" y="1916280"/>
            <a:ext cx="676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547640" y="2565360"/>
            <a:ext cx="676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440000" y="220500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诵课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u=808505328,1570918826&amp;fm=2&amp;gp=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请同学们自由地朗读课文，在读中注意这样两个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圈出课文的生字新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课文每个自然段分别写了爬山虎的什么？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u=808505328,1570918826&amp;fm=2&amp;gp=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468360" y="184464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均匀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 空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隙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拂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蛟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龙       树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茎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    叶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u=808505328,1570918826&amp;fm=2&amp;gp=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你读懂了每个自然段写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532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自然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了爬山虎生长得很茂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二自然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了爬山虎的叶子很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三自然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了爬山虎的脚的生长位置、样子、形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四自然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了爬山虎的脚是怎么爬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五自然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写了爬山虎脚的变化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u=808505328,1570918826&amp;fm=2&amp;gp=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猜一猜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上搭架，下搭架，开黄花，条条青龙藤上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丝瓜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上搭架，下搭架，串串珍珠藤上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葡萄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83dd211f6fbdcc7c2ce79b8"/>
          <p:cNvPicPr/>
          <p:nvPr/>
        </p:nvPicPr>
        <p:blipFill>
          <a:blip r:embed="rId1"/>
          <a:stretch/>
        </p:blipFill>
        <p:spPr>
          <a:xfrm>
            <a:off x="324000" y="333360"/>
            <a:ext cx="8497800" cy="6524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操场北边墙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满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爬山虎。我家也有爬山虎，从小院的西墙爬上去，在房顶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大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497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_imgload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450072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764640"/>
            <a:ext cx="7921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欣赏爬山虎的图片（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岩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屋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墙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3:37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8:36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