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32B1-7728-4746-8A80-B748485A9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BDD4-42F8-41E2-B2C8-8881BFDDC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A4C9-9338-4A6F-B2A8-521CDD28D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531A-F299-4A2D-B996-7DEE8AD06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9FEEC-1228-4D78-84BD-B18058886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43FC7-7AFC-4C89-8E26-0832597B1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D1268-6F52-4CB2-85A6-F59F589EF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126BF-AD56-4E43-AB9B-B64A48398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35874-0A24-409A-B465-4B64C334A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892B0-825E-4AFE-A823-E8AE5DE19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0DB17-B611-447C-B78D-8B37C94FB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CAF8-5EFB-457B-BCE2-693407723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37B8F-C87E-4EE9-AA0F-ECF6F1004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91EA2-215F-4E0B-AAD9-B5B695536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4094E-FE85-496B-BBCC-14D8EE3F6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2E5E1-B7EA-4B28-90CB-8E1DA96C8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E71C6-70C4-4CB2-8387-22A517426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9298-01D3-4703-A577-204A9D17A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C154-C922-4DFA-9E42-1F2B3ECB7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92E3-EAB0-471C-A867-0B38C6736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2D6A-9338-4AFA-BFE6-CCBD31419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EFDF-BBA4-4CDF-B7E0-5D17A403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0101-E8BE-4858-89FF-DDBD933A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AE55-D791-42C9-B19B-6E221853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76E00-954E-42ED-89EF-E959A47A1779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6BC5E-2860-4684-A533-890D4843EA9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85D91-7CEF-491C-BD83-94F6CD90E1D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对角圆角矩形 28"/>
          <p:cNvSpPr/>
          <p:nvPr/>
        </p:nvSpPr>
        <p:spPr>
          <a:xfrm rot="21346800">
            <a:off x="1133640" y="2106360"/>
            <a:ext cx="6954840" cy="3879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35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标题 1"/>
          <p:cNvSpPr/>
          <p:nvPr/>
        </p:nvSpPr>
        <p:spPr>
          <a:xfrm>
            <a:off x="457200" y="939960"/>
            <a:ext cx="822960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5a5a5"/>
                </a:solidFill>
                <a:latin typeface="汉仪大宋简"/>
                <a:ea typeface="汉仪大宋简"/>
              </a:rPr>
              <a:t>强调</a:t>
            </a:r>
            <a:r>
              <a:rPr b="0" lang="zh-CN" sz="4000" spc="-1" strike="noStrike">
                <a:solidFill>
                  <a:srgbClr val="a5a5a5"/>
                </a:solidFill>
                <a:latin typeface="汉仪大宋简"/>
                <a:ea typeface="汉仪大宋简"/>
              </a:rPr>
              <a:t>PPT</a:t>
            </a:r>
            <a:r>
              <a:rPr b="0" lang="zh-CN" sz="4000" spc="-1" strike="noStrike">
                <a:solidFill>
                  <a:srgbClr val="a5a5a5"/>
                </a:solidFill>
                <a:latin typeface="汉仪大宋简"/>
                <a:ea typeface="汉仪大宋简"/>
              </a:rPr>
              <a:t>素材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C:\TDDOWNLOAD\pencil.png"/>
          <p:cNvPicPr/>
          <p:nvPr/>
        </p:nvPicPr>
        <p:blipFill>
          <a:blip r:embed="rId2"/>
          <a:stretch/>
        </p:blipFill>
        <p:spPr>
          <a:xfrm>
            <a:off x="887400" y="1914480"/>
            <a:ext cx="1000080" cy="1000080"/>
          </a:xfrm>
          <a:prstGeom prst="rect">
            <a:avLst/>
          </a:prstGeom>
          <a:ln w="0">
            <a:noFill/>
          </a:ln>
        </p:spPr>
      </p:pic>
      <p:sp>
        <p:nvSpPr>
          <p:cNvPr id="86" name="内容占位符 2"/>
          <p:cNvSpPr/>
          <p:nvPr/>
        </p:nvSpPr>
        <p:spPr>
          <a:xfrm rot="21361200">
            <a:off x="1348920" y="2388960"/>
            <a:ext cx="6454800" cy="33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汉仪大宋简"/>
                <a:ea typeface="汉仪大宋简"/>
              </a:rPr>
              <a:t>强调文本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630864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5AEDD-5F66-413F-A6F8-C4637EC8517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3:04:31Z</dcterms:modified>
  <cp:revision>817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  <property fmtid="{D5CDD505-2E9C-101B-9397-08002B2CF9AE}" pid="3" name="Presentation">
    <vt:lpwstr>锐普图表</vt:lpwstr>
  </property>
</Properties>
</file>