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7.jpeg" ContentType="image/jpeg"/>
  <Override PartName="/ppt/media/image17.gif" ContentType="image/gif"/>
  <Override PartName="/ppt/media/image26.gif" ContentType="image/gif"/>
  <Override PartName="/ppt/media/image20.jpeg" ContentType="image/jpeg"/>
  <Override PartName="/ppt/media/image25.png" ContentType="image/png"/>
  <Override PartName="/ppt/media/image32.gif" ContentType="image/gif"/>
  <Override PartName="/ppt/media/image24.gif" ContentType="image/gif"/>
  <Override PartName="/ppt/media/image30.gif" ContentType="image/gif"/>
  <Override PartName="/ppt/media/image8.png" ContentType="image/png"/>
  <Override PartName="/ppt/media/image28.gif" ContentType="image/gif"/>
  <Override PartName="/ppt/media/image10.gif" ContentType="image/gif"/>
  <Override PartName="/ppt/media/image5.gif" ContentType="image/gif"/>
  <Override PartName="/ppt/media/image38.jpeg" ContentType="image/jpeg"/>
  <Override PartName="/ppt/media/image31.gif" ContentType="image/gif"/>
  <Override PartName="/ppt/media/image6.gif" ContentType="image/gif"/>
  <Override PartName="/ppt/media/image36.gif" ContentType="image/gif"/>
  <Override PartName="/ppt/media/image9.gif" ContentType="image/gif"/>
  <Override PartName="/ppt/media/image12.png" ContentType="image/png"/>
  <Override PartName="/ppt/media/image18.gif" ContentType="image/gif"/>
  <Override PartName="/ppt/media/image13.jpeg" ContentType="image/jpeg"/>
  <Override PartName="/ppt/media/image11.png" ContentType="image/png"/>
  <Override PartName="/ppt/media/image33.gif" ContentType="image/gif"/>
  <Override PartName="/ppt/media/image34.gif" ContentType="image/gif"/>
  <Override PartName="/ppt/media/image4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37.jpeg" ContentType="image/jpeg"/>
  <Override PartName="/ppt/media/image3.jpeg" ContentType="image/jpeg"/>
  <Override PartName="/ppt/media/image2.jpeg" ContentType="image/jpeg"/>
  <Override PartName="/ppt/media/image14.gif" ContentType="image/gif"/>
  <Override PartName="/ppt/media/image15.jpeg" ContentType="image/jpeg"/>
  <Override PartName="/ppt/media/image16.gif" ContentType="image/gif"/>
  <Override PartName="/ppt/media/image19.gif" ContentType="image/gif"/>
  <Override PartName="/ppt/media/image21.gif" ContentType="image/gif"/>
  <Override PartName="/ppt/media/image2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929-539D-4E62-BD3E-A7D5849B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056-DF1E-4CEC-ADC9-75DD8DF7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672-8904-4440-803B-FFDC67BC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2FE-C7C6-4FF0-8BCF-858759B2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613F-5736-4DAD-BC17-46253AA0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6093-04E6-4328-9274-F04122F2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4A22-4167-45FD-882A-083934CF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331A-CE3C-4DB8-A12D-EB629680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3A73-0466-4EBC-A2C2-E18A93A5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E143-8FEC-4638-92DA-6CCFA36D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5074-5774-4F7F-9D95-A1D0F0B2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60E-42EA-4B20-B499-0134A06F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5EF8-F5D6-4C42-BCFF-642758A2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FAC9-0C4A-470B-93CF-F8CDDDD3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4918-8761-4947-BA5A-8B66BA6A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034F-D5D8-4FCD-8181-11B47DF0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A26D-E241-408E-84F7-8DCF7C03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538E-370E-49D2-9771-7D9CAB0D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9258A-8F47-4D94-80B4-FC8941E2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31230-06E0-412A-B389-1001B71A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01C72-E5DD-4CE7-9BDE-3CE00DEB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62822-BFE8-48CD-9684-A92342FF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D34-3A3B-4CDF-97D3-2C995F86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D64D9-62AE-4947-AB77-8B9F03CF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87CA6-C615-4CD2-B8C0-A55B621A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6CBB1-8975-4DF5-9C80-B20B6D5B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8C5B0-CFFE-411F-8CFB-190186C9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31D24-063A-4518-8B08-24754875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0545F-03B6-455E-BF76-860B2BE4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2981A-3052-4837-9CA3-ABCA4D4E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7D9E3-0E29-42F6-B07B-A1D25F34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7BDD1-A7A3-4DD8-80EA-7D66EE94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F6152-163F-4C31-BC94-E654C1E7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9C2-E766-46BC-A4D9-5CA9E659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2BCC8-68BC-427D-9608-DDF5D294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20C8D-AF83-469C-87EF-5D2D102B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858C3-CF57-455D-9C68-55EEBE07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D0CA7-4704-4811-982B-12316DB3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7EE44-F9C3-43D9-9EE1-9A124BBC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1F989-2EC0-4579-9950-3E9EA86C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E85D7-CE38-40DA-BCE6-D3F9E477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455CF-AAA7-4573-BF3E-79BA1A46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450BC-17D6-4DD3-B3B6-04473A08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8E42F-3AE8-47C4-BF75-E90EE45A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5B67-C293-43B7-8BA1-96CB7F2F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F1026-2055-4907-A0DA-13A638EA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CD9A5-A1E5-422A-8FC0-59858CB0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8171F-2130-4237-AA05-9D74B627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D9133-0CF3-4965-AFB0-210FCF0C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3071E-183B-4620-B514-CA9AD427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EA3B5-2FA4-4226-A7E7-8BA7A55D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30BD9-2BC3-4292-B885-5988F478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A733F-5098-479B-88B4-35ACC839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E0CE9-E2F8-4C47-B974-F205169C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5A329-98A6-4D42-8F77-FEB2E6EE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277-D3C8-4901-8F26-FDA396A1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CA1CC-E622-47F7-AD57-ABC5F83B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C4FF6-D3E1-4901-BDA2-80883D01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3A90E-E076-41F5-B6CB-CEF823C7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9841A-CB6D-4196-AE44-09D640BB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42BAF-A44A-425F-A62D-2F3BAD53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BB888-964A-49A6-B2AF-0AA549EF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A8249-4A40-4032-ABCB-FEADEAAB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582FD-806D-458A-A339-29BF198B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5D296-952A-45B7-94F0-668E3AC2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C3981-C694-44BC-93E2-ECEDC5AF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312-2A3C-4EE5-9B8F-79237CC2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E5839-6D1E-465E-A4CE-17F29D8D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581CD-46BE-4B1C-A680-0E092278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2EA0D-5643-4C1B-A014-5DBB3A82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D68-F5E6-43C6-872A-1A2DA08D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0B0-2A69-4186-8ABE-3C16EC21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360" cy="6950160"/>
            <a:chOff x="-86760" y="-93600"/>
            <a:chExt cx="277236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200"/>
              <a:ext cx="889200" cy="720360"/>
              <a:chOff x="67680" y="3922200"/>
              <a:chExt cx="889200" cy="72036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440"/>
                <a:ext cx="22824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840" y="4311000"/>
                <a:ext cx="389160" cy="22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360" y="415512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6680" cy="3117600"/>
              <a:chOff x="-1080" y="2601000"/>
              <a:chExt cx="2686680" cy="311760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60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48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8200" y="385452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760"/>
                <a:ext cx="1833480" cy="1662840"/>
                <a:chOff x="852120" y="4055760"/>
                <a:chExt cx="1833480" cy="166284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5600"/>
                  <a:ext cx="474480" cy="121536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3760"/>
                  <a:ext cx="108720" cy="4978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360" y="5569560"/>
                  <a:ext cx="198360" cy="83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8000" y="6174000"/>
              <a:ext cx="790200" cy="634680"/>
              <a:chOff x="468000" y="6174000"/>
              <a:chExt cx="79020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2680" y="6174360"/>
                <a:ext cx="19764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0680" y="6513840"/>
                <a:ext cx="337320" cy="21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64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8800" y="1747080"/>
                <a:ext cx="20736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2640" y="2154240"/>
                <a:ext cx="35460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360" y="2205720"/>
                <a:ext cx="36936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840" cy="581400"/>
              <a:chOff x="1293840" y="0"/>
              <a:chExt cx="54684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88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3680" y="103320"/>
                <a:ext cx="29700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3920" y="489240"/>
                <a:ext cx="30924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F49A-C6A7-46B9-B95F-68E42A8AF21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000"/>
              <a:chOff x="5407200" y="63360"/>
              <a:chExt cx="3624480" cy="612900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120" y="1961280"/>
                <a:ext cx="90612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560" y="67572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4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35680" y="1034640"/>
              <a:ext cx="1017360" cy="1261800"/>
              <a:chOff x="4135680" y="1034640"/>
              <a:chExt cx="1017360" cy="126180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1840" y="1072800"/>
                <a:ext cx="28692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35360" y="1605240"/>
                <a:ext cx="489600" cy="316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096080" y="1962720"/>
                <a:ext cx="51012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0120" y="294120"/>
              <a:ext cx="889560" cy="832680"/>
              <a:chOff x="5640120" y="294120"/>
              <a:chExt cx="889560" cy="83268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1360" y="796320"/>
                <a:ext cx="17928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1680" y="475560"/>
                <a:ext cx="306360" cy="301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0240" y="3938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5080" y="5282280"/>
              <a:ext cx="1061280" cy="834480"/>
              <a:chOff x="955080" y="5282280"/>
              <a:chExt cx="1061280" cy="83448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8480" y="5550480"/>
                <a:ext cx="25236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0800" y="5761080"/>
                <a:ext cx="431280" cy="249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6080" y="54068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5680" y="428760"/>
              <a:ext cx="1692000" cy="1148040"/>
              <a:chOff x="355680" y="428760"/>
              <a:chExt cx="1692000" cy="114804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55560" y="1047240"/>
                <a:ext cx="35748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1880" y="572400"/>
                <a:ext cx="61056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58480" y="108756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840"/>
              <a:ext cx="1157760" cy="1609200"/>
              <a:chOff x="7396560" y="3696840"/>
              <a:chExt cx="1157760" cy="160920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640" y="474120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1640" y="4438440"/>
                <a:ext cx="61020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4560" y="3765600"/>
                <a:ext cx="63576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F424-50AB-4D9B-9FED-52C6BDE5054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68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314" name="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328" name="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42" name="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56" name="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70" name="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84" name="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98" name="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400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67A6-FD47-429E-B351-B442DF50B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456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470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1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96D5-3AD8-4FC7-8ED9-E566CCD36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20" name="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6596-6AA2-4040-B995-5E008B4AE6A9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467B-A1B1-40AB-927E-3079E94A572C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png"/><Relationship Id="rId5" Type="http://schemas.openxmlformats.org/officeDocument/2006/relationships/image" Target="../media/image26.gif"/><Relationship Id="rId6" Type="http://schemas.openxmlformats.org/officeDocument/2006/relationships/image" Target="../media/image27.jpeg"/><Relationship Id="rId7" Type="http://schemas.openxmlformats.org/officeDocument/2006/relationships/image" Target="../media/image28.gif"/><Relationship Id="rId8" Type="http://schemas.openxmlformats.org/officeDocument/2006/relationships/hyperlink" Target="http://www.eeppt.com/sucai/" TargetMode="External"/><Relationship Id="rId9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638280" cy="208764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3"/>
          <a:stretch/>
        </p:blipFill>
        <p:spPr>
          <a:xfrm>
            <a:off x="8101080" y="4508640"/>
            <a:ext cx="620640" cy="165564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1763640" y="645336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99ff"/>
                </a:solidFill>
                <a:uFillTx/>
                <a:latin typeface="Arial"/>
                <a:hlinkClick r:id="rId4"/>
              </a:rPr>
              <a:t>ppt图片素材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539800" y="117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勤俭节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" descr=""/>
          <p:cNvPicPr/>
          <p:nvPr/>
        </p:nvPicPr>
        <p:blipFill>
          <a:blip r:embed="rId2"/>
          <a:stretch/>
        </p:blipFill>
        <p:spPr>
          <a:xfrm>
            <a:off x="8172360" y="5950080"/>
            <a:ext cx="525600" cy="52524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3"/>
          <a:stretch/>
        </p:blipFill>
        <p:spPr>
          <a:xfrm>
            <a:off x="8244000" y="2421000"/>
            <a:ext cx="660240" cy="216036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4"/>
          <a:stretch/>
        </p:blipFill>
        <p:spPr>
          <a:xfrm>
            <a:off x="0" y="6053040"/>
            <a:ext cx="1622520" cy="80496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5"/>
          <a:stretch/>
        </p:blipFill>
        <p:spPr>
          <a:xfrm>
            <a:off x="4067280" y="5589720"/>
            <a:ext cx="598320" cy="5983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6"/>
          <a:stretch/>
        </p:blipFill>
        <p:spPr>
          <a:xfrm>
            <a:off x="0" y="1197000"/>
            <a:ext cx="4464000" cy="439272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4140360" y="90792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国家节水标志”由水滴、人手和地球变形而成。绿色的圆形代表地球，象征节约用水是保护地球生态的重要措施。标志留白部分像一只手托起一滴水，手是拼音字母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JS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的变形，寓意节水，表示节水需要公众参与，鼓励人们从我做起，人人动手节约每一滴水；手又象一条蜿蜒的河流，象征滴水汇成江河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203640" y="476280"/>
            <a:ext cx="2800440" cy="48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华文新魏"/>
              </a:rPr>
              <a:t>看看节水标志</a:t>
            </a:r>
            <a:endParaRPr b="0" lang="en-US" sz="1800" spc="-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7"/>
          <a:stretch/>
        </p:blipFill>
        <p:spPr>
          <a:xfrm>
            <a:off x="2843280" y="5950080"/>
            <a:ext cx="525240" cy="52524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1763640" y="645336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99ff"/>
                </a:solidFill>
                <a:uFillTx/>
                <a:latin typeface="Arial"/>
                <a:hlinkClick r:id="rId8"/>
              </a:rPr>
              <a:t>ppt图片素材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684360" y="4762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中国有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亿人口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假如每个人每星期节约一度电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大家想想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一年下来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能为国家节约多少度电呀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那可是一个天文数字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这样为国家节省了多少能源呀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这样的一件小事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难道在座的同学们做不到吗</a:t>
            </a:r>
            <a:r>
              <a:rPr b="1" lang="en-US" sz="2400" spc="-1" strike="noStrike">
                <a:solidFill>
                  <a:srgbClr val="56568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95280" y="2205000"/>
            <a:ext cx="194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下面</a:t>
            </a:r>
            <a:r>
              <a:rPr b="1" lang="en-US" sz="28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问问大家</a:t>
            </a:r>
            <a:r>
              <a:rPr b="1" lang="en-US" sz="28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知不知道</a:t>
            </a:r>
            <a:r>
              <a:rPr b="1" lang="en-US" sz="2800" spc="-1" strike="noStrike">
                <a:solidFill>
                  <a:srgbClr val="56568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度电能干些什么</a:t>
            </a:r>
            <a:r>
              <a:rPr b="1" lang="en-US" sz="2800" spc="-1" strike="noStrike">
                <a:solidFill>
                  <a:srgbClr val="565680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请同学们说说你的看法</a:t>
            </a:r>
            <a:r>
              <a:rPr b="1" lang="en-US" sz="2800" spc="-1" strike="noStrike">
                <a:solidFill>
                  <a:srgbClr val="56568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3203280" y="2276640"/>
            <a:ext cx="5473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瓦灯泡连续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小时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家用冰箱运行一天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普通电风扇运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小时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电视机连续播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小时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电动自行车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公里；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公斤的水烧开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用电热锅炒两个美味的菜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611280" y="5373720"/>
            <a:ext cx="649080" cy="46512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7885080" y="2133720"/>
            <a:ext cx="78912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bc8ff"/>
            </a:gs>
            <a:gs pos="50000">
              <a:srgbClr val="ffffff"/>
            </a:gs>
            <a:gs pos="100000">
              <a:srgbClr val="5bc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395280" y="260280"/>
            <a:ext cx="619272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幼圆"/>
              </a:rPr>
              <a:t>      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节约如一首歌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歌到情初泪自流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幼圆"/>
              </a:rPr>
              <a:t>;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节约似一杯酒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就将醉时笑语稠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幼圆"/>
              </a:rPr>
              <a:t>;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节约像一首诗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言有尽意而无穷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幼圆"/>
              </a:rPr>
              <a:t>;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节约是一杯茶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茶香满口情悠悠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幼圆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381720"/>
            <a:ext cx="9144000" cy="48564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3"/>
          <a:stretch/>
        </p:blipFill>
        <p:spPr>
          <a:xfrm rot="20607000">
            <a:off x="179280" y="3213000"/>
            <a:ext cx="1714680" cy="66672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4"/>
          <a:stretch/>
        </p:blipFill>
        <p:spPr>
          <a:xfrm>
            <a:off x="7020000" y="1052640"/>
            <a:ext cx="1809720" cy="66672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1979640" y="256536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  <a:ea typeface="幼圆"/>
              </a:rPr>
              <a:t>平时上课的时候，光线充足的时候，可以把旁边的一排灯关掉；午休的时候，同学们都离开去吃午饭的话，应该把课室的灯关掉；平时同学们不应该浪费饮水的水．你们的爷爷奶奶也许对你们说过，他们小时侯是多么穷苦，吃不饱，穿不暖，上不起学，今天的我们能开空调，看电视，玩电脑，听ＭＰ３，ＭＰ４，这多么幸福！父母省吃俭用供我们读书大家又是否体谅到他们的辛酸呢？倘若同学们每天少花些零用钱，日积月累，那也是一笔不小的数目啊！何乐而不为呢？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366920" y="19162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5c8a"/>
                </a:solidFill>
                <a:latin typeface="Arial"/>
                <a:ea typeface="幼圆"/>
              </a:rPr>
              <a:t>那么我们在日常生活中</a:t>
            </a:r>
            <a:r>
              <a:rPr b="1" lang="en-US" sz="2400" spc="-1" strike="noStrike">
                <a:solidFill>
                  <a:srgbClr val="005c8a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005c8a"/>
                </a:solidFill>
                <a:latin typeface="Arial"/>
                <a:ea typeface="幼圆"/>
              </a:rPr>
              <a:t>应该要怎么做呢</a:t>
            </a:r>
            <a:r>
              <a:rPr b="1" lang="en-US" sz="2400" spc="-1" strike="noStrike">
                <a:solidFill>
                  <a:srgbClr val="005c8a"/>
                </a:solidFill>
                <a:latin typeface="Arial"/>
                <a:ea typeface="幼圆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539640" y="1844640"/>
            <a:ext cx="7848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历览前贤国与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由勤俭败由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商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俭是你一生中食之不完的美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爱默生）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静以修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俭以养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诸葛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处不省钱袋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托•莫尔）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居安思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戒奢以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魏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贪污和浪费是极大的犯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毛泽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2771640" y="189000"/>
            <a:ext cx="366732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13dff"/>
                  </a:solidFill>
                  <a:miter/>
                </a:ln>
                <a:solidFill>
                  <a:srgbClr val="edfad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幼圆"/>
              </a:rPr>
              <a:t>勤俭节约的名言</a:t>
            </a:r>
            <a:endParaRPr b="1" lang="en-US" sz="4000" spc="1" strike="noStrike">
              <a:ln w="12600">
                <a:solidFill>
                  <a:srgbClr val="013dff"/>
                </a:solidFill>
                <a:miter/>
              </a:ln>
              <a:solidFill>
                <a:srgbClr val="edfad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8101080" y="692280"/>
            <a:ext cx="60480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99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A63-4595-437A-95C7-CBBB143046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468360" y="765000"/>
            <a:ext cx="691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  <a:ea typeface="幼圆"/>
              </a:rPr>
              <a:t>节俭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一滴水，不算多，一滴一滴汇成河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一粒米，不算多，一粒一粒积满箩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一块石，不算多，一块一块修亭阁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一棵树，不算多，一棵一棵绿山坡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晴天防雨天，丰年防灾祸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细水长流不浪费，人人唱好节俭歌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2771640" y="98100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幼圆"/>
              </a:rPr>
              <a:t>前言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755" name=""/>
          <p:cNvSpPr/>
          <p:nvPr/>
        </p:nvSpPr>
        <p:spPr>
          <a:xfrm>
            <a:off x="1332000" y="2781360"/>
            <a:ext cx="4606920" cy="1008720"/>
          </a:xfrm>
          <a:prstGeom prst="rect">
            <a:avLst/>
          </a:prstGeom>
          <a:noFill/>
          <a:ln w="3816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曾几何时，“谁知盘中餐，粒粒皆辛苦”的诗句常在耳边回响；曾几何时，“一粥一饭，当思来之不易；一丝一缕，恒念物力维艰”的古训仍在心头萦绕；曾几何时，伟大领袖毛泽东掷地有声的一句话：“浪费是极大的犯罪”，指引着几代人艰苦创业、自力更生。节约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是一种美德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;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节约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是一种创造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;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节约是中华民族的优良传统 。 今天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我们的主题班会就谈谈怎样做到勤俭节约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 rot="21164400">
            <a:off x="4500360" y="980640"/>
            <a:ext cx="1809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24000" y="6343560"/>
            <a:ext cx="8424720" cy="5144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395280" y="981000"/>
            <a:ext cx="8353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艰苦奋斗、勤俭节约是我党我军的优良传统，老一辈无产阶级革命家率先为我们作出了榜样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在毛主席生前用过的一百多件日常生活用品中，有一件穿过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20 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多年、已补过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73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次的睡衣。身边的工作人员多次提出给他换一件新的，他都执意不肯，直到逝世前夕，他老人家还是穿着这件补钉缀补钉的睡衣。在国民经济困难时期，他老人家首先倡导不吃肉、不吃水果，常常是几个烤芋头就是一餐饭，与全国人民同甘共苦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3"/>
          <a:stretch/>
        </p:blipFill>
        <p:spPr>
          <a:xfrm>
            <a:off x="0" y="256536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4"/>
          <a:stretch/>
        </p:blipFill>
        <p:spPr>
          <a:xfrm>
            <a:off x="0" y="170028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5"/>
          <a:stretch/>
        </p:blipFill>
        <p:spPr>
          <a:xfrm>
            <a:off x="0" y="357336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6"/>
          <a:stretch/>
        </p:blipFill>
        <p:spPr>
          <a:xfrm>
            <a:off x="0" y="544500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7"/>
          <a:stretch/>
        </p:blipFill>
        <p:spPr>
          <a:xfrm>
            <a:off x="0" y="458136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8"/>
          <a:stretch/>
        </p:blipFill>
        <p:spPr>
          <a:xfrm>
            <a:off x="0" y="635328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9"/>
          <a:stretch/>
        </p:blipFill>
        <p:spPr>
          <a:xfrm>
            <a:off x="8783640" y="98100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11"/>
          <a:stretch/>
        </p:blipFill>
        <p:spPr>
          <a:xfrm>
            <a:off x="8783640" y="328464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12"/>
          <a:stretch/>
        </p:blipFill>
        <p:spPr>
          <a:xfrm>
            <a:off x="8783640" y="213372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13"/>
          <a:stretch/>
        </p:blipFill>
        <p:spPr>
          <a:xfrm>
            <a:off x="8783640" y="429264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14"/>
          <a:stretch/>
        </p:blipFill>
        <p:spPr>
          <a:xfrm>
            <a:off x="8783640" y="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15"/>
          <a:stretch/>
        </p:blipFill>
        <p:spPr>
          <a:xfrm>
            <a:off x="8783640" y="544500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6"/>
          <a:stretch/>
        </p:blipFill>
        <p:spPr>
          <a:xfrm>
            <a:off x="8783640" y="635328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2916360" y="404640"/>
            <a:ext cx="3311280" cy="520560"/>
          </a:xfrm>
          <a:prstGeom prst="rect">
            <a:avLst/>
          </a:prstGeom>
          <a:solidFill>
            <a:srgbClr val="f2dffd">
              <a:alpha val="29000"/>
            </a:srgbClr>
          </a:solidFill>
          <a:ln w="57240">
            <a:solidFill>
              <a:srgbClr val="ff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7ff"/>
                </a:solidFill>
                <a:latin typeface="Arial"/>
              </a:rPr>
              <a:t>勤俭节约的故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66"/>
            </a:gs>
            <a:gs pos="50000">
              <a:srgbClr val="ffffff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488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在周总理身上，这样的例子也数不胜数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96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夏，周总理到辽宁省视察工作，刚一住下，他就从口袋里掏出一张纸，交给负责接待的同志，说：“上面写的东西都不能做。”原来，这张单子开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多种禁吃的菜名，鸡鸭鱼肉之类都包括在内。正是这一桩桩、一件件小事，铸就了他们伟大的人格魅力，使之成为中华民族传统美德和我党我军光荣传统的化身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8101080" y="620640"/>
            <a:ext cx="615960" cy="201636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250920" y="6093000"/>
            <a:ext cx="4464000" cy="19044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3"/>
          <a:stretch/>
        </p:blipFill>
        <p:spPr>
          <a:xfrm>
            <a:off x="4680000" y="6093000"/>
            <a:ext cx="4464000" cy="19044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4"/>
          <a:stretch/>
        </p:blipFill>
        <p:spPr>
          <a:xfrm>
            <a:off x="4572000" y="404640"/>
            <a:ext cx="33336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79280" y="189000"/>
            <a:ext cx="7956720" cy="1015920"/>
          </a:xfrm>
          <a:prstGeom prst="rect">
            <a:avLst/>
          </a:prstGeom>
          <a:solidFill>
            <a:srgbClr val="9bdeff">
              <a:alpha val="29000"/>
            </a:srgbClr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生在老一辈革命家身上的这些故事，虽然已过去几十年了，但今天读来仍感人至深，对我们每一个人仍具有很强的现实教育意义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的生活条件，与毛主席、周总理生活的那个时代不可同日而语。但是生活条件再变，物质再丰富，也不能丢掉艰苦奋斗、勤俭节约的本色。从国家经济建设的大局来说，需要快速的发展，更需要长期、持续的发展。但经济快速增长与我国许多资源短缺的矛盾非常突出，如果我们不注意节约，造成资源的盲目开发和浪费，经济的可持续发展必然难以支撑。这样的基本国情和严峻形势，决定了我们必须长期坚持勤俭节约，勤俭办一切事情。从我们个人来说，是否保持艰苦奋斗、勤俭节约的作风，不仅是个会不会过日子的问题，而且关系到能否保持政治本色的问题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 rot="393600">
            <a:off x="684360" y="5950080"/>
            <a:ext cx="1295280" cy="47772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1763640" y="645336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99ff"/>
                </a:solidFill>
                <a:uFillTx/>
                <a:latin typeface="Arial"/>
                <a:hlinkClick r:id="rId3"/>
              </a:rPr>
              <a:t>ppt图片素材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684360" y="476280"/>
            <a:ext cx="6697440" cy="459720"/>
          </a:xfrm>
          <a:prstGeom prst="rect">
            <a:avLst/>
          </a:prstGeom>
          <a:solidFill>
            <a:srgbClr val="9bdeff">
              <a:alpha val="29000"/>
            </a:srgbClr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今天，我们强调艰苦奋斗、勤俭节约，并不排斥量力而行的提高生活水平，过“清教徒” 、“苦行僧”式的生活，不是我们今天倡导勤俭之风的本意。新形势下倡导艰苦奋斗、勤俭节约，就是事业上要拼搏进取，工作上要吃苦耐劳，生活上要量入为出，自觉克服贪图安逸、追求享受的思想，保持共产党人的政治本色。这既是党的事业和部队建设的需要，也是我们立身做人的需要。谁在生活这一关上把不住，让奢靡之风吹昏了头脑，误入享乐主义的泥潭，谁就会葬送自己的政治前途。前车之鉴，不可不慎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 rot="1722600">
            <a:off x="250920" y="5949720"/>
            <a:ext cx="1295280" cy="47772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3"/>
          <a:stretch/>
        </p:blipFill>
        <p:spPr>
          <a:xfrm>
            <a:off x="7951680" y="1125360"/>
            <a:ext cx="64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826920" y="1413000"/>
            <a:ext cx="7632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有这么一个民间故事：从前，在中原的伏牛山下，住着一个叫吴成的农民，他一生勤俭持家，日子过得无忧无虑，十分美满。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相传他临终前，曾把一块写有“勤俭”两字的横匾交给两个儿子，告诫他们说：“你们要想一辈子不受饥挨饿，就一定要照这两个宇去做。”后来，兄弟俩分家时，将匾一锯两半，老大分得了一个“勤”字，老二分得一个“俭”字。老大把“勤”字恭恭敬敬高悬家中，每天“日出而作，日落而息”，年年五谷丰登。然而他的妻子却过日子大手大脚，孩子们常常将白白的馍馍吃了两口就扔掉，久而久之，家里就没有一点余粮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2"/>
          <a:stretch/>
        </p:blipFill>
        <p:spPr>
          <a:xfrm>
            <a:off x="6804000" y="333360"/>
            <a:ext cx="1809720" cy="66672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4"/>
          <a:stretch/>
        </p:blipFill>
        <p:spPr>
          <a:xfrm>
            <a:off x="971640" y="404640"/>
            <a:ext cx="741240" cy="74160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 txBox="1"/>
          <p:nvPr/>
        </p:nvSpPr>
        <p:spPr>
          <a:xfrm rot="307200">
            <a:off x="3419640" y="259920"/>
            <a:ext cx="157140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6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cc66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cc66"/>
                    </a:gs>
                  </a:gsLst>
                  <a:lin ang="5094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幼圆"/>
              </a:rPr>
              <a:t>小故事</a:t>
            </a:r>
            <a:endParaRPr b="1" lang="en-US" sz="4000" spc="-1" strike="noStrike">
              <a:ln w="9360">
                <a:solidFill>
                  <a:srgbClr val="00cc66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cc66"/>
                  </a:gs>
                </a:gsLst>
                <a:lin ang="5094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395280" y="765000"/>
            <a:ext cx="86043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老二自从分得半块匾后，也把“俭”字当作“神谕”供放中堂，却把“勤”字忘到九霄云外。他疏于农事，又不肯精耕细作，每年所收获的粮食就不多。尽管一家几口节衣缩食、省吃俭用，毕竟也是难以持久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这一年遇上大旱，老大、老二家中都早已是空空如也。 他俩情急之下扯下字匾，将“勤”“俭”二字踩碎在地。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这时候，突然有纸条从窗外飞进屋内，兄弟俩连忙拾起—看，上面写道：“只勤不俭，好比端个没底的碗，总也盛不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!”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只俭不勤，坐吃山空，一定要受穷挨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兄弟俩恍然大悟，“勤”“俭”两字原来不能分家，相辅相成，缺一不可。吸取教训以后，他俩将 “勤俭持家”四个字贴在自家门上，提醒自己，告诫妻室儿女，身体力行，此后日子过得 一天比一天好。 </a:t>
            </a: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2"/>
          <a:stretch/>
        </p:blipFill>
        <p:spPr>
          <a:xfrm>
            <a:off x="7334280" y="0"/>
            <a:ext cx="1809720" cy="66672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4"/>
          <a:stretch/>
        </p:blipFill>
        <p:spPr>
          <a:xfrm>
            <a:off x="539640" y="0"/>
            <a:ext cx="741600" cy="74124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 txBox="1"/>
          <p:nvPr/>
        </p:nvSpPr>
        <p:spPr>
          <a:xfrm rot="307200">
            <a:off x="3492360" y="0"/>
            <a:ext cx="15717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6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cc66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cc66"/>
                    </a:gs>
                  </a:gsLst>
                  <a:lin ang="5094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幼圆"/>
              </a:rPr>
              <a:t>小故事</a:t>
            </a:r>
            <a:endParaRPr b="1" lang="en-US" sz="4000" spc="-1" strike="noStrike">
              <a:ln w="9360">
                <a:solidFill>
                  <a:srgbClr val="00cc66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cc66"/>
                  </a:gs>
                </a:gsLst>
                <a:lin ang="5094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6656400" cy="645300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79280" y="907920"/>
            <a:ext cx="172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幼圆"/>
              </a:rPr>
              <a:t>这是一幅十大浪费水的现象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幼圆"/>
              </a:rPr>
              <a:t>!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幼圆"/>
              </a:rPr>
              <a:t>试问一下自己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幼圆"/>
              </a:rPr>
              <a:t>,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幼圆"/>
              </a:rPr>
              <a:t>有没有像图中一样如此浪费水呢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幼圆"/>
              </a:rPr>
              <a:t>!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826920" y="4221000"/>
            <a:ext cx="13575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3:14:4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4:07Z</dcterms:modified>
  <cp:revision>2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