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3622-1247-49E6-8F25-50FA14D9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99D7-4A8E-4FD0-928A-68463A88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5B6-2A16-46F2-85F4-8CB2A720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B3A4-CF38-4C98-B56D-3AEE105A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3D49-62E2-4B26-843C-878A41C7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D6AE-5BBB-4081-9EF0-5C19C26E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FA0E-B34F-4D8E-9C0C-414BE1F8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39FA-FF07-4664-8F74-796AAC55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28E9-BAAD-4679-943A-927D7081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F17F-F25D-4940-8B45-A9686393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027A-BD92-41AC-A813-F53B4941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598-4ABA-4FC1-A81E-E49FFB5E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9E61-30F0-4D44-A61D-EC3E5895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C4FF-ACF5-410B-AEBE-F8E49BB9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DE06-998A-47D7-8911-11104ADE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C664-04AA-4DD9-8A4E-3C74D53C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83B5-5C20-4E74-8601-C50AEC75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5EA-C60D-4C09-B3F1-C23E3DD4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1BC-3857-4136-AFA4-6185CA6A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CEE-4B14-4FB8-A63A-E9D05A83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32C-578B-48D0-901E-7D9688BD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AAE-1057-491D-9939-2C84D908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9056-57A7-48C4-841A-B71892C8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AA1-31F5-45B7-B7E6-1CDC0AE4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25B8-DC44-47B6-A492-14DC02E4B6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13EF-4D21-40CB-8860-EE9F1017CA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489960" y="6518160"/>
            <a:ext cx="196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ww.1ppt.com/jieri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959400" y="1197000"/>
            <a:ext cx="348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540800" y="19177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适用于中秋佳节及相关类别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2184840" y="7477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情满中秋节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686320" y="198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759400" y="29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831040" y="400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831040" y="494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97272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97272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7272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972720" y="494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063760" y="220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063760" y="29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136120" y="378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4055040" y="3718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63940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99976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039760" y="5830920"/>
            <a:ext cx="675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51:15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