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5E2-BC7F-4A3D-B2D8-68F331D1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22C-A1D5-4E83-B90E-04A13E4B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341-429F-4525-9548-576BAB87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C16-1880-4F1C-8B4C-DDE79F67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F22-EC0D-4938-B356-C560A8F2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B534-C336-4F4E-8B36-AB2DB933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B35-422A-4A7E-BE19-711163A6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C107-9FD4-4581-8507-A3CEE8F8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77D-E26D-4EA7-B0A8-5F50729B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E43-BCB0-42F0-8392-3CA70F45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A54-5F2D-4157-8D39-5CB5031F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582-633A-408D-9AD6-653A72E7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5563-23E9-4D6F-BF56-6C8AE593629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9DF0-36EC-47AE-A757-E9C2D45AAD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1446120" y="133200"/>
            <a:ext cx="6502320" cy="650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3960" y="6211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33320" y="1020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清新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4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117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120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123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126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B4E-A77E-45C2-A930-05827FB0BB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그림 4" descr=""/>
          <p:cNvPicPr/>
          <p:nvPr/>
        </p:nvPicPr>
        <p:blipFill>
          <a:blip r:embed="rId1"/>
          <a:stretch/>
        </p:blipFill>
        <p:spPr>
          <a:xfrm>
            <a:off x="1320840" y="189000"/>
            <a:ext cx="6502320" cy="65008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3989160" y="310500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-윤고딕350"/>
                <a:ea typeface="-윤고딕350"/>
              </a:rPr>
              <a:t>Q&amp;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7779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그림 4" descr=""/>
          <p:cNvPicPr/>
          <p:nvPr/>
        </p:nvPicPr>
        <p:blipFill>
          <a:blip r:embed="rId1"/>
          <a:stretch/>
        </p:blipFill>
        <p:spPr>
          <a:xfrm>
            <a:off x="1320840" y="189000"/>
            <a:ext cx="6502320" cy="65008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3189240" y="3105000"/>
            <a:ext cx="27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-윤고딕350"/>
                <a:ea typeface="-윤고딕350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6" descr=""/>
          <p:cNvPicPr/>
          <p:nvPr/>
        </p:nvPicPr>
        <p:blipFill>
          <a:blip r:embed="rId1"/>
          <a:stretch/>
        </p:blipFill>
        <p:spPr>
          <a:xfrm>
            <a:off x="-1900080" y="2411280"/>
            <a:ext cx="6497640" cy="6502680"/>
          </a:xfrm>
          <a:prstGeom prst="rect">
            <a:avLst/>
          </a:prstGeom>
          <a:ln w="0">
            <a:noFill/>
          </a:ln>
        </p:spPr>
      </p:pic>
      <p:sp>
        <p:nvSpPr>
          <p:cNvPr id="45" name="눈물 방울 1"/>
          <p:cNvSpPr/>
          <p:nvPr/>
        </p:nvSpPr>
        <p:spPr>
          <a:xfrm rot="12330600">
            <a:off x="-3076200" y="383760"/>
            <a:ext cx="9610560" cy="7435800"/>
          </a:xfrm>
          <a:custGeom>
            <a:avLst/>
            <a:gdLst>
              <a:gd name="textAreaLeft" fmla="*/ 0 w 9610560"/>
              <a:gd name="textAreaRight" fmla="*/ 9610920 w 9610560"/>
              <a:gd name="textAreaTop" fmla="*/ 0 h 7435800"/>
              <a:gd name="textAreaBottom" fmla="*/ 7436160 h 7435800"/>
            </a:gdLst>
            <a:ahLst/>
            <a:rect l="textAreaLeft" t="textAreaTop" r="textAreaRight" b="textAreaBottom"/>
            <a:pathLst>
              <a:path w="15140" h="11709">
                <a:moveTo>
                  <a:pt x="0" y="5854"/>
                </a:moveTo>
                <a:lnTo>
                  <a:pt x="0" y="5854"/>
                </a:lnTo>
                <a:arcTo wR="7570" hR="5854" stAng="10800000" swAng="5400000"/>
                <a:lnTo>
                  <a:pt x="13248" y="0"/>
                </a:lnTo>
                <a:arcTo wR="1893" hR="0" stAng="0" swAng="0"/>
                <a:lnTo>
                  <a:pt x="15140" y="5854"/>
                </a:lnTo>
                <a:arcTo wR="7570" hR="5854" stAng="0" swAng="5400000"/>
                <a:close/>
              </a:path>
            </a:pathLst>
          </a:custGeom>
          <a:noFill/>
          <a:ln w="6480">
            <a:solidFill>
              <a:srgbClr val="3185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그림 4" descr=""/>
          <p:cNvPicPr/>
          <p:nvPr/>
        </p:nvPicPr>
        <p:blipFill>
          <a:blip r:embed="rId2"/>
          <a:stretch/>
        </p:blipFill>
        <p:spPr>
          <a:xfrm>
            <a:off x="241200" y="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804600" y="879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-윤고딕350"/>
                <a:ea typeface="-윤고딕350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1880" y="1004760"/>
            <a:ext cx="1502640" cy="1211400"/>
            <a:chOff x="5411880" y="1004760"/>
            <a:chExt cx="1502640" cy="1211400"/>
          </a:xfrm>
        </p:grpSpPr>
        <p:sp>
          <p:nvSpPr>
            <p:cNvPr id="49" name="TextBox 6"/>
            <p:cNvSpPr/>
            <p:nvPr/>
          </p:nvSpPr>
          <p:spPr>
            <a:xfrm>
              <a:off x="5816520" y="181980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그림 2" descr=""/>
            <p:cNvPicPr/>
            <p:nvPr/>
          </p:nvPicPr>
          <p:blipFill>
            <a:blip r:embed="rId3"/>
            <a:stretch/>
          </p:blipFill>
          <p:spPr>
            <a:xfrm>
              <a:off x="5411880" y="1004760"/>
              <a:ext cx="1212480" cy="121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5915160" y="1784520"/>
            <a:ext cx="1502640" cy="1212840"/>
            <a:chOff x="5915160" y="1784520"/>
            <a:chExt cx="1502640" cy="1212840"/>
          </a:xfrm>
        </p:grpSpPr>
        <p:sp>
          <p:nvSpPr>
            <p:cNvPr id="52" name="TextBox 8"/>
            <p:cNvSpPr/>
            <p:nvPr/>
          </p:nvSpPr>
          <p:spPr>
            <a:xfrm>
              <a:off x="6319800" y="260064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그림 9" descr=""/>
            <p:cNvPicPr/>
            <p:nvPr/>
          </p:nvPicPr>
          <p:blipFill>
            <a:blip r:embed="rId4"/>
            <a:stretch/>
          </p:blipFill>
          <p:spPr>
            <a:xfrm>
              <a:off x="5915160" y="1784520"/>
              <a:ext cx="1212480" cy="121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6372360" y="2576520"/>
            <a:ext cx="1502640" cy="1212840"/>
            <a:chOff x="6372360" y="2576520"/>
            <a:chExt cx="1502640" cy="1212840"/>
          </a:xfrm>
        </p:grpSpPr>
        <p:sp>
          <p:nvSpPr>
            <p:cNvPr id="55" name="TextBox 11"/>
            <p:cNvSpPr/>
            <p:nvPr/>
          </p:nvSpPr>
          <p:spPr>
            <a:xfrm>
              <a:off x="6777000" y="339264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그림 12" descr=""/>
            <p:cNvPicPr/>
            <p:nvPr/>
          </p:nvPicPr>
          <p:blipFill>
            <a:blip r:embed="rId5"/>
            <a:stretch/>
          </p:blipFill>
          <p:spPr>
            <a:xfrm>
              <a:off x="6372360" y="2576520"/>
              <a:ext cx="1212480" cy="121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6564240" y="3513240"/>
            <a:ext cx="1502640" cy="1211040"/>
            <a:chOff x="6564240" y="3513240"/>
            <a:chExt cx="1502640" cy="1211040"/>
          </a:xfrm>
        </p:grpSpPr>
        <p:sp>
          <p:nvSpPr>
            <p:cNvPr id="58" name="TextBox 14"/>
            <p:cNvSpPr/>
            <p:nvPr/>
          </p:nvSpPr>
          <p:spPr>
            <a:xfrm>
              <a:off x="6968880" y="432828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그림 15" descr=""/>
            <p:cNvPicPr/>
            <p:nvPr/>
          </p:nvPicPr>
          <p:blipFill>
            <a:blip r:embed="rId6"/>
            <a:stretch/>
          </p:blipFill>
          <p:spPr>
            <a:xfrm>
              <a:off x="6564240" y="3513240"/>
              <a:ext cx="1212840" cy="121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1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66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69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72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75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2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83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86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89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92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3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100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103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106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109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4:2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1:05:1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