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4.png" ContentType="image/png"/>
  <Override PartName="/ppt/media/image27.png" ContentType="image/png"/>
  <Override PartName="/ppt/media/image29.jpeg" ContentType="image/jpe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E09-A82F-4539-B913-7D382BD5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BBD-2FD1-4822-BD25-9448AA3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C34-25EF-43AE-BBA5-A7E7717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7BD-7683-4D15-B81E-00050CAC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B45-B9A2-49E5-8622-BA0B327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280-C41A-4042-BE85-EB88AA1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338-9BEF-4407-BBE7-F93EC781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C38-98C3-48AD-AD69-FAF4306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2F3-9C54-4C61-B007-0C247E0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C9-50BD-446B-B9EC-1112BA1A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27B-F0FB-4DF3-83C2-91726F0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9DA-DC03-44F4-881E-E24BB4A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1AB-CA4B-4D37-B4D7-907B271AF64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6176-EAAF-4A53-A760-16976138E6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47840" y="2654280"/>
            <a:ext cx="6421680" cy="1460520"/>
            <a:chOff x="3147840" y="2654280"/>
            <a:chExt cx="6421680" cy="1460520"/>
          </a:xfrm>
        </p:grpSpPr>
        <p:sp>
          <p:nvSpPr>
            <p:cNvPr id="42" name="文本框 2"/>
            <p:cNvSpPr/>
            <p:nvPr/>
          </p:nvSpPr>
          <p:spPr>
            <a:xfrm>
              <a:off x="4236840" y="2968560"/>
              <a:ext cx="533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Heiti SC"/>
                  <a:ea typeface="Heiti SC"/>
                </a:rPr>
                <a:t>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图片 9" descr=""/>
            <p:cNvPicPr/>
            <p:nvPr/>
          </p:nvPicPr>
          <p:blipFill>
            <a:blip r:embed="rId1"/>
            <a:stretch/>
          </p:blipFill>
          <p:spPr>
            <a:xfrm>
              <a:off x="3147840" y="2654280"/>
              <a:ext cx="1089720" cy="14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矩形 1"/>
          <p:cNvSpPr/>
          <p:nvPr/>
        </p:nvSpPr>
        <p:spPr>
          <a:xfrm>
            <a:off x="4410720" y="9936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淡雅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29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30" name="Group 42"/>
          <p:cNvGrpSpPr/>
          <p:nvPr/>
        </p:nvGrpSpPr>
        <p:grpSpPr>
          <a:xfrm>
            <a:off x="3114000" y="5371200"/>
            <a:ext cx="4843800" cy="1529640"/>
            <a:chOff x="3114000" y="5371200"/>
            <a:chExt cx="4843800" cy="1529640"/>
          </a:xfrm>
        </p:grpSpPr>
        <p:grpSp>
          <p:nvGrpSpPr>
            <p:cNvPr id="231" name="Group 44"/>
            <p:cNvGrpSpPr/>
            <p:nvPr/>
          </p:nvGrpSpPr>
          <p:grpSpPr>
            <a:xfrm>
              <a:off x="3114000" y="5371200"/>
              <a:ext cx="4843800" cy="1529640"/>
              <a:chOff x="3114000" y="5371200"/>
              <a:chExt cx="4843800" cy="1529640"/>
            </a:xfrm>
          </p:grpSpPr>
          <p:sp>
            <p:nvSpPr>
              <p:cNvPr id="232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7" name="图片 1" descr=""/>
          <p:cNvPicPr/>
          <p:nvPr/>
        </p:nvPicPr>
        <p:blipFill>
          <a:blip r:embed="rId3"/>
          <a:stretch/>
        </p:blipFill>
        <p:spPr>
          <a:xfrm>
            <a:off x="-3565440" y="5545080"/>
            <a:ext cx="3355920" cy="88596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58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7" dur="1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1"/>
          <p:cNvSpPr/>
          <p:nvPr/>
        </p:nvSpPr>
        <p:spPr>
          <a:xfrm>
            <a:off x="488880" y="37195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2"/>
          <p:cNvSpPr/>
          <p:nvPr/>
        </p:nvSpPr>
        <p:spPr>
          <a:xfrm>
            <a:off x="1673280" y="2955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43"/>
          <p:cNvSpPr/>
          <p:nvPr/>
        </p:nvSpPr>
        <p:spPr>
          <a:xfrm>
            <a:off x="4842360" y="2895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4"/>
          <p:cNvSpPr/>
          <p:nvPr/>
        </p:nvSpPr>
        <p:spPr>
          <a:xfrm>
            <a:off x="3058920" y="3646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45"/>
          <p:cNvSpPr/>
          <p:nvPr/>
        </p:nvSpPr>
        <p:spPr>
          <a:xfrm>
            <a:off x="6538320" y="36972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8"/>
          <p:cNvSpPr/>
          <p:nvPr/>
        </p:nvSpPr>
        <p:spPr>
          <a:xfrm>
            <a:off x="9285840" y="364644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1"/>
          <p:cNvSpPr/>
          <p:nvPr/>
        </p:nvSpPr>
        <p:spPr>
          <a:xfrm>
            <a:off x="8079120" y="282240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65"/>
          <p:cNvSpPr/>
          <p:nvPr/>
        </p:nvSpPr>
        <p:spPr>
          <a:xfrm>
            <a:off x="5173560" y="3139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8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272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54"/>
          <p:cNvSpPr/>
          <p:nvPr/>
        </p:nvSpPr>
        <p:spPr>
          <a:xfrm>
            <a:off x="4412880" y="5462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7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10"/>
          <p:cNvSpPr/>
          <p:nvPr/>
        </p:nvSpPr>
        <p:spPr>
          <a:xfrm>
            <a:off x="4206240" y="28018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77" name="Group 9"/>
          <p:cNvGrpSpPr/>
          <p:nvPr/>
        </p:nvGrpSpPr>
        <p:grpSpPr>
          <a:xfrm>
            <a:off x="-6799320" y="-2357280"/>
            <a:ext cx="13290480" cy="4031280"/>
            <a:chOff x="-6799320" y="-2357280"/>
            <a:chExt cx="13290480" cy="4031280"/>
          </a:xfrm>
        </p:grpSpPr>
        <p:sp>
          <p:nvSpPr>
            <p:cNvPr id="278" name="椭圆 2"/>
            <p:cNvSpPr/>
            <p:nvPr/>
          </p:nvSpPr>
          <p:spPr>
            <a:xfrm>
              <a:off x="648360" y="-148860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"/>
            <p:cNvGrpSpPr/>
            <p:nvPr/>
          </p:nvGrpSpPr>
          <p:grpSpPr>
            <a:xfrm>
              <a:off x="-6799320" y="-2357280"/>
              <a:ext cx="4950360" cy="3527280"/>
              <a:chOff x="-6799320" y="-2357280"/>
              <a:chExt cx="4950360" cy="3527280"/>
            </a:xfrm>
          </p:grpSpPr>
          <p:sp>
            <p:nvSpPr>
              <p:cNvPr id="280" name="椭圆 14"/>
              <p:cNvSpPr/>
              <p:nvPr/>
            </p:nvSpPr>
            <p:spPr>
              <a:xfrm>
                <a:off x="-5166720" y="-1782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15"/>
              <p:cNvSpPr/>
              <p:nvPr/>
            </p:nvSpPr>
            <p:spPr>
              <a:xfrm>
                <a:off x="-6799320" y="-2357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16"/>
              <p:cNvSpPr/>
              <p:nvPr/>
            </p:nvSpPr>
            <p:spPr>
              <a:xfrm>
                <a:off x="-2613960" y="-1117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7"/>
              <p:cNvSpPr/>
              <p:nvPr/>
            </p:nvSpPr>
            <p:spPr>
              <a:xfrm>
                <a:off x="-4759200" y="-1768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6"/>
            <p:cNvGrpSpPr/>
            <p:nvPr/>
          </p:nvGrpSpPr>
          <p:grpSpPr>
            <a:xfrm>
              <a:off x="-3030120" y="-1853280"/>
              <a:ext cx="4950000" cy="3527280"/>
              <a:chOff x="-3030120" y="-1853280"/>
              <a:chExt cx="4950000" cy="3527280"/>
            </a:xfrm>
          </p:grpSpPr>
          <p:sp>
            <p:nvSpPr>
              <p:cNvPr id="285" name="椭圆 10"/>
              <p:cNvSpPr/>
              <p:nvPr/>
            </p:nvSpPr>
            <p:spPr>
              <a:xfrm>
                <a:off x="-1397520" y="-1278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椭圆 11"/>
              <p:cNvSpPr/>
              <p:nvPr/>
            </p:nvSpPr>
            <p:spPr>
              <a:xfrm>
                <a:off x="-3030120" y="-1853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椭圆 12"/>
              <p:cNvSpPr/>
              <p:nvPr/>
            </p:nvSpPr>
            <p:spPr>
              <a:xfrm>
                <a:off x="1154880" y="-613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椭圆 13"/>
              <p:cNvSpPr/>
              <p:nvPr/>
            </p:nvSpPr>
            <p:spPr>
              <a:xfrm>
                <a:off x="-990000" y="-1264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21"/>
            <p:cNvGrpSpPr/>
            <p:nvPr/>
          </p:nvGrpSpPr>
          <p:grpSpPr>
            <a:xfrm>
              <a:off x="1072080" y="-1880280"/>
              <a:ext cx="5419080" cy="3527280"/>
              <a:chOff x="1072080" y="-1880280"/>
              <a:chExt cx="5419080" cy="3527280"/>
            </a:xfrm>
          </p:grpSpPr>
          <p:sp>
            <p:nvSpPr>
              <p:cNvPr id="290" name="椭圆 6"/>
              <p:cNvSpPr/>
              <p:nvPr/>
            </p:nvSpPr>
            <p:spPr>
              <a:xfrm>
                <a:off x="2704320" y="-1305360"/>
                <a:ext cx="147600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7"/>
              <p:cNvSpPr/>
              <p:nvPr/>
            </p:nvSpPr>
            <p:spPr>
              <a:xfrm>
                <a:off x="1072080" y="-1880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8"/>
              <p:cNvSpPr/>
              <p:nvPr/>
            </p:nvSpPr>
            <p:spPr>
              <a:xfrm>
                <a:off x="4451400" y="-745200"/>
                <a:ext cx="203976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9"/>
              <p:cNvSpPr/>
              <p:nvPr/>
            </p:nvSpPr>
            <p:spPr>
              <a:xfrm>
                <a:off x="3111840" y="-1291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26"/>
          <p:cNvGrpSpPr/>
          <p:nvPr/>
        </p:nvGrpSpPr>
        <p:grpSpPr>
          <a:xfrm>
            <a:off x="6114960" y="-1550880"/>
            <a:ext cx="13581000" cy="4028040"/>
            <a:chOff x="6114960" y="-1550880"/>
            <a:chExt cx="13581000" cy="4028040"/>
          </a:xfrm>
        </p:grpSpPr>
        <p:sp>
          <p:nvSpPr>
            <p:cNvPr id="295" name="椭圆 35"/>
            <p:cNvSpPr/>
            <p:nvPr/>
          </p:nvSpPr>
          <p:spPr>
            <a:xfrm>
              <a:off x="6114960" y="-735120"/>
              <a:ext cx="2039760" cy="157248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28"/>
            <p:cNvGrpSpPr/>
            <p:nvPr/>
          </p:nvGrpSpPr>
          <p:grpSpPr>
            <a:xfrm>
              <a:off x="6957360" y="-1550880"/>
              <a:ext cx="12738600" cy="4028040"/>
              <a:chOff x="6957360" y="-1550880"/>
              <a:chExt cx="12738600" cy="4028040"/>
            </a:xfrm>
          </p:grpSpPr>
          <p:sp>
            <p:nvSpPr>
              <p:cNvPr id="297" name="椭圆 19"/>
              <p:cNvSpPr/>
              <p:nvPr/>
            </p:nvSpPr>
            <p:spPr>
              <a:xfrm>
                <a:off x="14404680" y="-682560"/>
                <a:ext cx="765000" cy="1572480"/>
              </a:xfrm>
              <a:prstGeom prst="ellipse">
                <a:avLst/>
              </a:prstGeom>
              <a:gradFill rotWithShape="0">
                <a:gsLst>
                  <a:gs pos="0">
                    <a:srgbClr val="f0fa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30"/>
              <p:cNvGrpSpPr/>
              <p:nvPr/>
            </p:nvGrpSpPr>
            <p:grpSpPr>
              <a:xfrm>
                <a:off x="6957360" y="-1550880"/>
                <a:ext cx="4950000" cy="3524400"/>
                <a:chOff x="6957360" y="-1550880"/>
                <a:chExt cx="4950000" cy="3524400"/>
              </a:xfrm>
            </p:grpSpPr>
            <p:sp>
              <p:nvSpPr>
                <p:cNvPr id="299" name="椭圆 31"/>
                <p:cNvSpPr/>
                <p:nvPr/>
              </p:nvSpPr>
              <p:spPr>
                <a:xfrm>
                  <a:off x="8589600" y="-97668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椭圆 32"/>
                <p:cNvSpPr/>
                <p:nvPr/>
              </p:nvSpPr>
              <p:spPr>
                <a:xfrm>
                  <a:off x="6957360" y="-155088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椭圆 33"/>
                <p:cNvSpPr/>
                <p:nvPr/>
              </p:nvSpPr>
              <p:spPr>
                <a:xfrm>
                  <a:off x="11142360" y="-31212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34"/>
                <p:cNvSpPr/>
                <p:nvPr/>
              </p:nvSpPr>
              <p:spPr>
                <a:xfrm>
                  <a:off x="8997120" y="-96300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35"/>
              <p:cNvGrpSpPr/>
              <p:nvPr/>
            </p:nvGrpSpPr>
            <p:grpSpPr>
              <a:xfrm>
                <a:off x="10726200" y="-1047240"/>
                <a:ext cx="4950000" cy="3524400"/>
                <a:chOff x="10726200" y="-1047240"/>
                <a:chExt cx="4950000" cy="3524400"/>
              </a:xfrm>
            </p:grpSpPr>
            <p:sp>
              <p:nvSpPr>
                <p:cNvPr id="304" name="椭圆 27"/>
                <p:cNvSpPr/>
                <p:nvPr/>
              </p:nvSpPr>
              <p:spPr>
                <a:xfrm>
                  <a:off x="12358440" y="-47304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28"/>
                <p:cNvSpPr/>
                <p:nvPr/>
              </p:nvSpPr>
              <p:spPr>
                <a:xfrm>
                  <a:off x="10726200" y="-1047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椭圆 29"/>
                <p:cNvSpPr/>
                <p:nvPr/>
              </p:nvSpPr>
              <p:spPr>
                <a:xfrm>
                  <a:off x="14911200" y="19116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椭圆 30"/>
                <p:cNvSpPr/>
                <p:nvPr/>
              </p:nvSpPr>
              <p:spPr>
                <a:xfrm>
                  <a:off x="12765960" y="-459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40"/>
              <p:cNvGrpSpPr/>
              <p:nvPr/>
            </p:nvGrpSpPr>
            <p:grpSpPr>
              <a:xfrm>
                <a:off x="14828760" y="-1074240"/>
                <a:ext cx="4867200" cy="3524400"/>
                <a:chOff x="14828760" y="-1074240"/>
                <a:chExt cx="4867200" cy="3524400"/>
              </a:xfrm>
            </p:grpSpPr>
            <p:sp>
              <p:nvSpPr>
                <p:cNvPr id="309" name="椭圆 23"/>
                <p:cNvSpPr/>
                <p:nvPr/>
              </p:nvSpPr>
              <p:spPr>
                <a:xfrm>
                  <a:off x="16461000" y="-500040"/>
                  <a:ext cx="147600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24"/>
                <p:cNvSpPr/>
                <p:nvPr/>
              </p:nvSpPr>
              <p:spPr>
                <a:xfrm>
                  <a:off x="14828760" y="-1074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25"/>
                <p:cNvSpPr/>
                <p:nvPr/>
              </p:nvSpPr>
              <p:spPr>
                <a:xfrm>
                  <a:off x="18930960" y="-41004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26"/>
                <p:cNvSpPr/>
                <p:nvPr/>
              </p:nvSpPr>
              <p:spPr>
                <a:xfrm>
                  <a:off x="16868520" y="-486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3" name="文本框 44"/>
          <p:cNvSpPr/>
          <p:nvPr/>
        </p:nvSpPr>
        <p:spPr>
          <a:xfrm>
            <a:off x="4493160" y="4562640"/>
            <a:ext cx="41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76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77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225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807" dur="22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2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812" dur="225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3"/>
          <p:cNvSpPr/>
          <p:nvPr/>
        </p:nvSpPr>
        <p:spPr>
          <a:xfrm>
            <a:off x="1235880" y="2897280"/>
            <a:ext cx="29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7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"/>
          <p:cNvSpPr/>
          <p:nvPr/>
        </p:nvSpPr>
        <p:spPr>
          <a:xfrm>
            <a:off x="4767840" y="44560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4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NULL" descr=""/>
          <p:cNvPicPr/>
          <p:nvPr/>
        </p:nvPicPr>
        <p:blipFill>
          <a:blip r:embed="rId2"/>
          <a:stretch/>
        </p:blipFill>
        <p:spPr>
          <a:xfrm>
            <a:off x="-9237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-7920"/>
            <a:ext cx="3390840" cy="6856560"/>
            <a:chOff x="0" y="-7920"/>
            <a:chExt cx="3390840" cy="6856560"/>
          </a:xfrm>
        </p:grpSpPr>
        <p:sp>
          <p:nvSpPr>
            <p:cNvPr id="59" name="矩形 3"/>
            <p:cNvSpPr/>
            <p:nvPr/>
          </p:nvSpPr>
          <p:spPr>
            <a:xfrm>
              <a:off x="0" y="-7920"/>
              <a:ext cx="3390840" cy="6856560"/>
            </a:xfrm>
            <a:prstGeom prst="rect">
              <a:avLst/>
            </a:prstGeom>
            <a:gradFill rotWithShape="0">
              <a:gsLst>
                <a:gs pos="0">
                  <a:srgbClr val="2084b4"/>
                </a:gs>
                <a:gs pos="100000">
                  <a:srgbClr val="d4e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632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椭圆 70"/>
            <p:cNvSpPr/>
            <p:nvPr/>
          </p:nvSpPr>
          <p:spPr>
            <a:xfrm>
              <a:off x="1087200" y="193140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71"/>
            <p:cNvSpPr/>
            <p:nvPr/>
          </p:nvSpPr>
          <p:spPr>
            <a:xfrm>
              <a:off x="1374480" y="189144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8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5" name="Group 9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6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70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8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5" name="Group 19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6" name="Group 20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7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25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82" name="Group 26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83" name="Group 27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84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NULL" descr=""/>
          <p:cNvPicPr/>
          <p:nvPr/>
        </p:nvPicPr>
        <p:blipFill>
          <a:blip r:embed="rId7"/>
          <a:stretch/>
        </p:blipFill>
        <p:spPr>
          <a:xfrm>
            <a:off x="-69840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-3389400" y="2712960"/>
            <a:ext cx="338940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4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91" name="Group 35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92" name="Group 36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93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41"/>
          <p:cNvGrpSpPr/>
          <p:nvPr/>
        </p:nvGrpSpPr>
        <p:grpSpPr>
          <a:xfrm>
            <a:off x="-1278000" y="4540320"/>
            <a:ext cx="4948200" cy="3527280"/>
            <a:chOff x="-1278000" y="4540320"/>
            <a:chExt cx="4948200" cy="3527280"/>
          </a:xfrm>
        </p:grpSpPr>
        <p:sp>
          <p:nvSpPr>
            <p:cNvPr id="98" name="椭圆 84"/>
            <p:cNvSpPr/>
            <p:nvPr/>
          </p:nvSpPr>
          <p:spPr>
            <a:xfrm>
              <a:off x="353520" y="5114880"/>
              <a:ext cx="147564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85"/>
            <p:cNvSpPr/>
            <p:nvPr/>
          </p:nvSpPr>
          <p:spPr>
            <a:xfrm>
              <a:off x="-1278000" y="4540320"/>
              <a:ext cx="226980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86"/>
            <p:cNvSpPr/>
            <p:nvPr/>
          </p:nvSpPr>
          <p:spPr>
            <a:xfrm>
              <a:off x="2905560" y="5780160"/>
              <a:ext cx="76464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87"/>
            <p:cNvSpPr/>
            <p:nvPr/>
          </p:nvSpPr>
          <p:spPr>
            <a:xfrm>
              <a:off x="761040" y="5128560"/>
              <a:ext cx="236700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8"/>
          <p:cNvSpPr/>
          <p:nvPr/>
        </p:nvSpPr>
        <p:spPr>
          <a:xfrm>
            <a:off x="-425520" y="-212760"/>
            <a:ext cx="12617640" cy="7110360"/>
          </a:xfrm>
          <a:prstGeom prst="rect">
            <a:avLst/>
          </a:prstGeom>
          <a:gradFill rotWithShape="0">
            <a:gsLst>
              <a:gs pos="0">
                <a:srgbClr val="0f273d"/>
              </a:gs>
              <a:gs pos="100000">
                <a:srgbClr val="8ab8e2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173240" y="7092720"/>
            <a:ext cx="2060640" cy="422280"/>
            <a:chOff x="1173240" y="7092720"/>
            <a:chExt cx="2060640" cy="422280"/>
          </a:xfrm>
        </p:grpSpPr>
        <p:sp>
          <p:nvSpPr>
            <p:cNvPr id="105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11" name="椭圆 61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2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13" name="椭圆 77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椭圆 78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79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80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7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18" name="椭圆 6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椭圆 7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7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76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2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23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66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68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7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14"/>
          <a:stretch/>
        </p:blipFill>
        <p:spPr>
          <a:xfrm>
            <a:off x="-1111320" y="177840"/>
            <a:ext cx="4878360" cy="331956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88b6"/>
            </a:gs>
            <a:gs pos="100000">
              <a:srgbClr val="d4e9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44" name="椭圆 28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0fa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46" name="椭圆 14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15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16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7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51" name="椭圆 1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椭圆 2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2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2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56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25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27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6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7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2960 w 442440"/>
                <a:gd name="textAreaRight" fmla="*/ 339120 w 442440"/>
                <a:gd name="textAreaTop" fmla="*/ 46800 h 445680"/>
                <a:gd name="textAreaBottom" fmla="*/ 282240 h 44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3680 w 445680"/>
                <a:gd name="textAreaRight" fmla="*/ 341640 w 445680"/>
                <a:gd name="textAreaTop" fmla="*/ 46440 h 442440"/>
                <a:gd name="textAreaBottom" fmla="*/ 28008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2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080 w 391320"/>
                <a:gd name="textAreaRight" fmla="*/ 299880 w 391320"/>
                <a:gd name="textAreaTop" fmla="*/ 41400 h 395280"/>
                <a:gd name="textAreaBottom" fmla="*/ 25020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160 w 395280"/>
                <a:gd name="textAreaRight" fmla="*/ 303120 w 395280"/>
                <a:gd name="textAreaTop" fmla="*/ 41040 h 391320"/>
                <a:gd name="textAreaBottom" fmla="*/ 247680 h 39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6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7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0880 w 475920"/>
                <a:gd name="textAreaRight" fmla="*/ 365040 w 475920"/>
                <a:gd name="textAreaTop" fmla="*/ 50400 h 480600"/>
                <a:gd name="textAreaBottom" fmla="*/ 304200 h 48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1960 w 480600"/>
                <a:gd name="textAreaRight" fmla="*/ 368640 w 480600"/>
                <a:gd name="textAreaTop" fmla="*/ 50040 h 475920"/>
                <a:gd name="textAreaBottom" fmla="*/ 301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2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240 w 323280"/>
                <a:gd name="textAreaRight" fmla="*/ 248040 w 323280"/>
                <a:gd name="textAreaTop" fmla="*/ 34200 h 326160"/>
                <a:gd name="textAreaBottom" fmla="*/ 2066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5960 w 326160"/>
                <a:gd name="textAreaRight" fmla="*/ 250200 w 326160"/>
                <a:gd name="textAreaTop" fmla="*/ 33840 h 323280"/>
                <a:gd name="textAreaBottom" fmla="*/ 204840 h 3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6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7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8400 w 680400"/>
                <a:gd name="textAreaRight" fmla="*/ 521640 w 680400"/>
                <a:gd name="textAreaTop" fmla="*/ 72360 h 686520"/>
                <a:gd name="textAreaBottom" fmla="*/ 434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59840 w 686520"/>
                <a:gd name="textAreaRight" fmla="*/ 526320 w 686520"/>
                <a:gd name="textAreaTop" fmla="*/ 71640 h 680400"/>
                <a:gd name="textAreaBottom" fmla="*/ 4309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1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2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8800 w 509760"/>
                <a:gd name="textAreaRight" fmla="*/ 390960 w 509760"/>
                <a:gd name="textAreaTop" fmla="*/ 54000 h 514440"/>
                <a:gd name="textAreaBottom" fmla="*/ 32580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19880 w 514440"/>
                <a:gd name="textAreaRight" fmla="*/ 394560 w 514440"/>
                <a:gd name="textAreaTop" fmla="*/ 53640 h 509760"/>
                <a:gd name="textAreaBottom" fmla="*/ 32292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8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9"/>
          <p:cNvSpPr/>
          <p:nvPr/>
        </p:nvSpPr>
        <p:spPr>
          <a:xfrm>
            <a:off x="4946760" y="1666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1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07" name="Group 5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08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18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5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4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4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0:5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54:29Z</dcterms:modified>
  <cp:revision>16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