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501F-4C31-4161-B270-E03AB481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A15A-A9B8-419F-A5FE-335950C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2A48-B3EF-4595-B44E-9EE2179D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3C7F-8E7E-4F70-A9ED-5547A9E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4E55-4B7E-4496-86F3-9464DEFD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ED49E-57E4-4962-A6EE-38379BB9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7598-FECA-41C3-8BD4-508B97FF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BC4C-BB50-45E6-8AF8-80C1DD9C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546C-AA4C-4368-8AD8-D4A4BCC4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0755-265C-48F8-AF64-E9498C38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ED4A-CAC6-4519-9D7D-27EC95E4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0D708-AA47-4876-8D3B-2D7F8222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3A2EC-2398-4A19-BD3B-F9E673F5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2D6E9-6620-489D-BF0E-5EE68971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D0D5-FAA7-43AB-8F10-620628C2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9DC7-EA30-4D59-BF9D-18495DB5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EFEBC-88A5-47DC-99BA-E76AEB2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DD0B-F924-4F90-92AC-A8E2F4F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1CE53-915C-49BD-A893-EDEFF943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57EB-CE74-4D30-9A59-ABFAF33D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F81A3-37F6-48B8-8959-C497A2DA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9E49E-22FA-454F-8963-55F5DD28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01A51-5349-4506-A165-42057708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9A938-7B1C-43BC-844C-69F35B1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06122-1FB7-48BA-ACBD-BFFDD85C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23818-C792-4EB5-A210-F8CDB17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989E6-2CCE-48E3-9AC0-C2034BAE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A3206-721D-4A5E-BBF8-2E9CF583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DE26F-A6B9-4610-85F2-C577DAE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CE71E-1730-4F69-A7A3-B0C4542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032E-5542-4CB0-B1EA-8FF55BE0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B7C09-848A-4D80-90EF-7E292730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8C7DA-5084-47FE-9C29-2C242148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2D9F6-C35D-4299-8A5C-60D10F09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AAEC6-7D4D-49F2-96A6-98DF1CF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C54A6-9DF2-49AB-9400-B2EC2583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5328-F0FD-4678-8FE3-CE0DD1D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2F341-7D8C-4A73-A8E2-98430397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16239-9DC4-4B2F-BB2F-1BA88697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C44D7-B8E5-405E-93B3-0AAD90D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9E43B-150D-401C-8712-E26B7A37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D5C9C-51A2-4FEA-8A91-73D5F93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07A69-F7DF-42C1-96A9-5106F350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813E8-EFF1-4FE1-93B8-3489600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DBD0-AEA6-431E-AD39-4E7198FF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8830A-B323-4547-A220-E027FB5B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71B0E-7198-4BE9-B923-4DA01EA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AD2B9-1D5F-4B63-A9DE-524E755E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31777-AB29-4759-BFC3-D11668AE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DB303-4034-424B-BAD9-5D4784BA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032B0-A43D-4125-9182-F2040C77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6C5C1-4792-40A9-9514-A8326341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9D05F-872A-46BC-AA68-A99519B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E5B0D-94B0-49E1-B0A5-7A27AA44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A6924-29D3-4A15-85A7-6BC02A11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0374-2610-440B-875E-70EB972B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85237-A315-437A-809F-2FCC6C61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5DE99-F8FF-460C-87D2-D5989D31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A2CF0-B8C6-43F9-BD8A-53B8365B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24816-CFE1-4FE3-B7FF-3156F14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32E24-B624-472B-AB52-6ED1FC2D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EC947-245D-4F71-89CB-570CB236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E3EF9-F8C0-4D85-9828-E6AEAE4F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05408-A9D9-4713-930A-D28D3C8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6E0EC-B42C-49D3-96FA-557781E5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28D8B-54E3-4682-8EAA-1C95940A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7E36F-E1AC-4248-B8A3-7DDF8772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EE4F0-F473-411A-B4B9-FEE175D7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90BFE-E910-40C0-8540-D2FA9B83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A70-D12B-4F1D-B398-075D4624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EA8-AF20-46AB-8E21-EBC95D6D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C734-2D41-41BE-B6B4-5E046584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094-AD84-4D36-8B7D-1B933201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A62-56F7-4E55-8DA4-EE8DE557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5E3-0B10-4259-A5D1-363FF2A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248-B856-4F03-867B-662DE37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436-ED23-457D-BED8-E9B5720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753-0177-4782-AC80-F8E6F1EB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034-FA79-497F-9096-6B3BEEF9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6FC-5628-4FD3-808D-1873A904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F40B-0F4E-40B0-8A0D-18FCF6DE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750-2E91-4022-93EE-8E7B0B6C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4124-349E-45D5-9C7C-7E005A57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07F-DA1C-46FE-A933-2B2E42CF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2DA2-E695-4D82-92C6-B08AF389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845-A155-41D4-9FC6-EBF3BFFC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1EE-8EE4-4BBC-9374-4ADE19F8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CC1-BC3D-45F9-926F-6FB792BC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C264-2C9D-47FF-BC4A-DB13865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503-64CC-46D3-A0E8-94A7DF1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E1CC-BB16-4188-83D5-6F3F6888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5E87-2EF3-487B-A666-B868C6F7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F66-79B6-48D5-9540-E83246DB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D11B-E064-4BCA-B11D-ADC70E1A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2F09-B5CB-41C6-9C7E-FEC002C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8BF90-700A-4CF1-9CB5-76DD6A9F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CE60-D867-4431-9622-BFC6E339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DFC1-41C8-42E5-815B-1DF63B9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61DB-1B38-4AE4-932F-48B1B4B0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A8F9D-C7C1-4484-A8B2-70894D9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3F82-A98E-44C9-8D56-20A2741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5808-BB3F-45FB-97B0-4A490BE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463E-7CD5-48EF-99CC-1469AF1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653A-7B66-4591-AEC3-C0823EA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3C0B-65BD-439B-8FC8-541684BC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4A85-B578-498E-A716-4B90D127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7929-4FD7-4229-9628-6FC1CF4D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BE1C-F6C2-4AC2-9C78-C46A126A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C9176-7F8A-47F5-A83F-681FB516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C9C4-43C5-4779-A887-BD8C46AC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00B8-5C3E-47CA-A31E-AB7AAD36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F96F-8585-48A7-8042-D2EA4134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F770-39A2-4EAB-BC1D-041EF341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FC5A-632B-4519-8777-38897F9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31CF-63F9-4C56-A7C2-00682CB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5603-4688-4362-AF54-FB57E4B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41DF-0061-4040-8347-E634F534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56848-AB3F-470D-B3F0-E826D5A7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5B98-6137-44B1-83C7-13C5891B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889BA-913E-4AF0-AF35-B04C4B7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69AD-F555-4B75-9109-0152E223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0F759-F7AB-43D2-ACB3-75034C6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85F0C-78FD-4161-94EE-76C4633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0AA3-04B2-4F33-8579-C274FA8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3E4C-100A-4936-AD3E-39C3331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33D9-3995-489D-9AC6-C3634513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819DD-4703-4C71-A7FE-51103EA4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76151-1F02-4945-9DA0-BFB7F23E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552DE-B0E7-4ECF-AD38-9F3D9FBF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607AD-0E72-497E-9FFE-9CA6CBFD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364C1-4AF1-4AFF-A595-92541BBA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45C9-7D95-4AAA-80C7-6ED46605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3249-FE28-4152-8D0C-D2BE5D9B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D847-5B82-4CFA-8734-646BF436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46B4-EAD4-44C6-AC3D-3FE5010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F72E7-10AA-4DC2-85C1-62440AB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4840-77B4-4258-BF0A-026A07F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EEA1-71E1-4441-BC4B-5DA53CD9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8134-9B8A-4AD8-9528-925ECB1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C069-DEAA-420C-92ED-7C741288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2263-B89E-497F-A5DD-CE9A37D5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127B-B4F9-4B46-9B84-A71633D4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2F9F-71BC-4F00-950C-5A7331C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23261-82CE-4359-BE15-8F1F0F6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9065-5F72-4357-A6A6-74857BE3FF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A77D-C229-4CB6-AFD0-BC5C6442FD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C10-4972-44F6-AB25-490A1BE058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8CF-482E-4F53-B61A-E4A5E1E56C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AE5-057C-419A-87B7-BBC7419780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F80E-05A3-4218-A98D-81FBC887AF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9F9-F521-4AB1-8EC5-B61CECDC80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DC45-E30F-4E52-9A68-DB3A143665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CFC2-B665-464E-A236-D964D02183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7170-7C21-451E-A736-591BF975C9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8DE-6B70-49C6-A3EF-785C8339539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C28D-558B-4F3C-80AF-A07F293C51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5"/>
          <p:cNvSpPr/>
          <p:nvPr/>
        </p:nvSpPr>
        <p:spPr>
          <a:xfrm>
            <a:off x="1665360" y="990720"/>
            <a:ext cx="6507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认识时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971640" y="1779480"/>
            <a:ext cx="3714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</a:rPr>
              <a:t>认识时间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1" name="Picture 5" descr="\\192.168.1.3\临时中转站1_以本人姓名建目录\开发中心-多媒体部\02美术部\晨会文件\04宁煌\人教数学教参\07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72" name="矩形 5"/>
          <p:cNvSpPr/>
          <p:nvPr/>
        </p:nvSpPr>
        <p:spPr>
          <a:xfrm>
            <a:off x="5400" y="6453360"/>
            <a:ext cx="33991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6" descr="未标题-2"/>
          <p:cNvPicPr/>
          <p:nvPr/>
        </p:nvPicPr>
        <p:blipFill>
          <a:blip r:embed="rId1"/>
          <a:stretch/>
        </p:blipFill>
        <p:spPr>
          <a:xfrm>
            <a:off x="1332000" y="2320920"/>
            <a:ext cx="6480000" cy="355608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611280" y="1557360"/>
            <a:ext cx="7286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1500120" y="5907240"/>
            <a:ext cx="6143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准确写出每个钟表所表示的时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3352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0" name="TextBox 7"/>
          <p:cNvSpPr/>
          <p:nvPr/>
        </p:nvSpPr>
        <p:spPr>
          <a:xfrm>
            <a:off x="49546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:4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1" name="TextBox 8"/>
          <p:cNvSpPr/>
          <p:nvPr/>
        </p:nvSpPr>
        <p:spPr>
          <a:xfrm>
            <a:off x="6540480" y="361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: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2" name="TextBox 9"/>
          <p:cNvSpPr/>
          <p:nvPr/>
        </p:nvSpPr>
        <p:spPr>
          <a:xfrm>
            <a:off x="327672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:4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3" name="TextBox 11"/>
          <p:cNvSpPr/>
          <p:nvPr/>
        </p:nvSpPr>
        <p:spPr>
          <a:xfrm>
            <a:off x="496404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5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4" name="TextBox 12"/>
          <p:cNvSpPr/>
          <p:nvPr/>
        </p:nvSpPr>
        <p:spPr>
          <a:xfrm>
            <a:off x="652140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:0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5" name="TextBox 13"/>
          <p:cNvSpPr/>
          <p:nvPr/>
        </p:nvSpPr>
        <p:spPr>
          <a:xfrm>
            <a:off x="1758960" y="537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: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457200" y="417600"/>
            <a:ext cx="69008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应用拓展，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30" name="Picture 11" descr="未标题-1"/>
          <p:cNvPicPr/>
          <p:nvPr/>
        </p:nvPicPr>
        <p:blipFill>
          <a:blip r:embed="rId1"/>
          <a:stretch/>
        </p:blipFill>
        <p:spPr>
          <a:xfrm>
            <a:off x="611280" y="2276640"/>
            <a:ext cx="79344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00160" y="6126120"/>
            <a:ext cx="6765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0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7"/>
          <p:cNvSpPr/>
          <p:nvPr/>
        </p:nvSpPr>
        <p:spPr>
          <a:xfrm>
            <a:off x="2050920" y="278136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154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创设情境，引出时间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973080" y="5563080"/>
            <a:ext cx="65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钟表上现在是什么时间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76" name="Picture 10" descr="90-1"/>
          <p:cNvPicPr/>
          <p:nvPr/>
        </p:nvPicPr>
        <p:blipFill>
          <a:blip r:embed="rId1"/>
          <a:stretch/>
        </p:blipFill>
        <p:spPr>
          <a:xfrm>
            <a:off x="704880" y="1773360"/>
            <a:ext cx="761220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钟面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857160" y="54932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关于钟面你们都知道哪些知识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857160" y="592344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有其他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1" name="Picture 12" descr="未标题-6"/>
          <p:cNvPicPr/>
          <p:nvPr/>
        </p:nvPicPr>
        <p:blipFill>
          <a:blip r:embed="rId1"/>
          <a:stretch/>
        </p:blipFill>
        <p:spPr>
          <a:xfrm>
            <a:off x="2212920" y="2492280"/>
            <a:ext cx="32227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85" name="Picture 17" descr="7"/>
          <p:cNvPicPr/>
          <p:nvPr/>
        </p:nvPicPr>
        <p:blipFill>
          <a:blip r:embed="rId1"/>
          <a:stretch/>
        </p:blipFill>
        <p:spPr>
          <a:xfrm>
            <a:off x="1494000" y="3127320"/>
            <a:ext cx="2501640" cy="21765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8" descr="未标题-6"/>
          <p:cNvPicPr/>
          <p:nvPr/>
        </p:nvPicPr>
        <p:blipFill>
          <a:blip r:embed="rId2"/>
          <a:stretch/>
        </p:blipFill>
        <p:spPr>
          <a:xfrm>
            <a:off x="3924360" y="3124080"/>
            <a:ext cx="2502000" cy="2175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9" descr="未标题-7"/>
          <p:cNvPicPr/>
          <p:nvPr/>
        </p:nvPicPr>
        <p:blipFill>
          <a:blip r:embed="rId3"/>
          <a:srcRect l="5535" t="0" r="12790" b="4283"/>
          <a:stretch/>
        </p:blipFill>
        <p:spPr>
          <a:xfrm>
            <a:off x="4092480" y="1125360"/>
            <a:ext cx="4524480" cy="4124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0" descr="5"/>
          <p:cNvPicPr/>
          <p:nvPr/>
        </p:nvPicPr>
        <p:blipFill>
          <a:blip r:embed="rId4"/>
          <a:srcRect l="0" t="0" r="2854" b="-1645"/>
          <a:stretch/>
        </p:blipFill>
        <p:spPr>
          <a:xfrm>
            <a:off x="5940360" y="4367160"/>
            <a:ext cx="2881440" cy="208620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9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7"/>
          <p:cNvGrpSpPr/>
          <p:nvPr/>
        </p:nvGrpSpPr>
        <p:grpSpPr>
          <a:xfrm>
            <a:off x="1930320" y="2244600"/>
            <a:ext cx="4556160" cy="3581640"/>
            <a:chOff x="1930320" y="2244600"/>
            <a:chExt cx="4556160" cy="3581640"/>
          </a:xfrm>
        </p:grpSpPr>
        <p:pic>
          <p:nvPicPr>
            <p:cNvPr id="591" name="Picture 26" descr="未标题-4"/>
            <p:cNvPicPr/>
            <p:nvPr/>
          </p:nvPicPr>
          <p:blipFill>
            <a:blip r:embed="rId1"/>
            <a:stretch/>
          </p:blipFill>
          <p:spPr>
            <a:xfrm>
              <a:off x="1930320" y="2244600"/>
              <a:ext cx="45561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25" descr="7"/>
            <p:cNvPicPr/>
            <p:nvPr/>
          </p:nvPicPr>
          <p:blipFill>
            <a:blip r:embed="rId2"/>
            <a:stretch/>
          </p:blipFill>
          <p:spPr>
            <a:xfrm>
              <a:off x="2687400" y="2796120"/>
              <a:ext cx="2924640" cy="25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1867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66560" y="6139440"/>
            <a:ext cx="67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你还能继续数下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5356800" y="307656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5372640" y="44164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4766400" y="50338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3950280" y="523224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9" name="Text Box 19"/>
          <p:cNvSpPr/>
          <p:nvPr/>
        </p:nvSpPr>
        <p:spPr>
          <a:xfrm>
            <a:off x="2931120" y="50227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2354760" y="443232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2148480" y="376560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2364480" y="3070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2926440" y="24796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3945600" y="2251080"/>
            <a:ext cx="519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体会刻度与时针、分针的关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468360" y="570744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仔细观察，分针走了几个小格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11280" y="1557360"/>
            <a:ext cx="7286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认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时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分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08" name="Picture 9" descr="未标题-3"/>
          <p:cNvPicPr/>
          <p:nvPr/>
        </p:nvPicPr>
        <p:blipFill>
          <a:blip r:embed="rId1"/>
          <a:stretch/>
        </p:blipFill>
        <p:spPr>
          <a:xfrm>
            <a:off x="2411280" y="2421000"/>
            <a:ext cx="3743280" cy="33843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457200" y="417600"/>
            <a:ext cx="81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体会刻度与时针、分针的关系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9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391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认识几时几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612" name="Picture 11" descr="未标题-5"/>
          <p:cNvPicPr/>
          <p:nvPr/>
        </p:nvPicPr>
        <p:blipFill>
          <a:blip r:embed="rId1"/>
          <a:stretch/>
        </p:blipFill>
        <p:spPr>
          <a:xfrm>
            <a:off x="2700360" y="2205000"/>
            <a:ext cx="3382920" cy="3311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8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4:3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