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6.jpeg" ContentType="image/jpeg"/>
  <Override PartName="/ppt/media/chimes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9A9-690F-47DB-B8CB-F721C36F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D29C-868E-4910-9A6D-B8DA14BD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7074-70E5-4B98-BA51-9FE19CB3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6FF-FCA5-430E-B6F6-141E189D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3801-B23D-4714-98F6-E47E0948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5D36-9C3B-446D-A805-D3F7C492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3638-F580-4D4C-B090-99862FF3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A9D3-DB4B-40F2-B082-8EC1F6DA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A67B-087F-440B-8DFD-D1E19075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985F-F77F-4663-8AD3-5CA2BB10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EDE2-36B1-44E7-85EE-24E0C37B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89E-20AD-445D-8FC8-6A4FBF42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3431-5F03-4921-81C4-A5FB4E76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E7DE-5C24-40C1-81DC-F0BBE595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AAF6-9261-4AEF-8755-547A6676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EC2B-ECE0-4159-840B-1BDEA310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172B-6C34-4A0D-95D1-B7F3C503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541B-AABE-4637-AE26-CF4CC03B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0EC3-2E03-4B3B-80F5-C3169DDE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4C8-A633-4BCF-B62A-BD3D3458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42C8-03E9-4ECF-A269-181B9E27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800A-BBAF-4E0B-B7A7-6052F5A4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534-CA01-4408-BF41-75CA59CF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2823-8C6B-4418-9AEE-885E0883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E59D-7348-438F-8010-66A53EB37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E22E-637A-4B0C-943A-930B399A87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ostimg.mop.com/200607/13/44/234244/2006071322125040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ostimg.mop.com/200607/13/44/234244/2006071322195767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ostimg.mop.com/200607/13/44/234244/20060713222112908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3132000" y="4435560"/>
            <a:ext cx="331308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潭：水深之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2647800" y="12682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日月潭的传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1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手拿砍刀、高举火把、翻山越岭、披荆斩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挺身而出、回到潭边、激战恶龙、为民造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" descr=""/>
          <p:cNvPicPr/>
          <p:nvPr/>
        </p:nvPicPr>
        <p:blipFill>
          <a:blip r:embed="rId1"/>
          <a:stretch/>
        </p:blipFill>
        <p:spPr>
          <a:xfrm>
            <a:off x="0" y="2921040"/>
            <a:ext cx="9144000" cy="39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20081591255834_2"/>
          <p:cNvPicPr/>
          <p:nvPr/>
        </p:nvPicPr>
        <p:blipFill>
          <a:blip r:embed="rId1"/>
          <a:stretch/>
        </p:blipFill>
        <p:spPr>
          <a:xfrm>
            <a:off x="611280" y="1770120"/>
            <a:ext cx="7993080" cy="5087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0" y="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筹莫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763640" y="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无可奈何 束手无策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0" y="9079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恶龙躲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268360" y="83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恶龙非常凶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716360" y="836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只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才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较句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尖哥和水社姐要去降伏恶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尖哥和水社姐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挺身而出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要去降服恶龙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AA01833884"/>
          <p:cNvPicPr/>
          <p:nvPr/>
        </p:nvPicPr>
        <p:blipFill>
          <a:blip r:embed="rId1"/>
          <a:stretch/>
        </p:blipFill>
        <p:spPr>
          <a:xfrm>
            <a:off x="3564000" y="2771640"/>
            <a:ext cx="5580000" cy="40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ff963a2408fa5a21c89559f1"/>
          <p:cNvPicPr/>
          <p:nvPr/>
        </p:nvPicPr>
        <p:blipFill>
          <a:blip r:embed="rId1"/>
          <a:stretch/>
        </p:blipFill>
        <p:spPr>
          <a:xfrm>
            <a:off x="1332000" y="765000"/>
            <a:ext cx="6330960" cy="4748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995640" y="57340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荆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较句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终于拿到了金斧头和金剪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山越岭，披荆斩棘，吃尽了千辛万苦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终于拿到了金斧头和金剪刀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5" descr=""/>
          <p:cNvPicPr/>
          <p:nvPr/>
        </p:nvPicPr>
        <p:blipFill>
          <a:blip r:embed="rId1"/>
          <a:stretch/>
        </p:blipFill>
        <p:spPr>
          <a:xfrm>
            <a:off x="0" y="2921040"/>
            <a:ext cx="9144000" cy="39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115920"/>
            <a:ext cx="914400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说一说句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太阳和月亮又挂回了天空，可大尖哥和水社姐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便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他们吃下龙肉后，身子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转眼间，大尖哥和水社姐就化作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永远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G:\pictures\scene\f116.JPG"/>
          <p:cNvPicPr/>
          <p:nvPr/>
        </p:nvPicPr>
        <p:blipFill>
          <a:blip r:embed="rId1"/>
          <a:stretch/>
        </p:blipFill>
        <p:spPr>
          <a:xfrm>
            <a:off x="1116000" y="248292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228600" y="41148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翻山越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披荆斩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吃尽了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千辛万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终于从阿里山的山洞里拿到了金斧头和金剪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到潭边，他俩又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冒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命危险，纵身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潜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湖底，与两条恶龙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激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三天三夜。大尖哥用金斧头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砍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它们，水社姐用金剪刀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剪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龙肚子，救出了太阳和月亮，人们重又见到了光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G:\pictures\scene\f1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4067280" y="6021360"/>
            <a:ext cx="194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日月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516720" y="1413000"/>
            <a:ext cx="1440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大尖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187280" y="2708280"/>
            <a:ext cx="1513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水社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" descr="23-1"/>
          <p:cNvPicPr/>
          <p:nvPr/>
        </p:nvPicPr>
        <p:blipFill>
          <a:blip r:embed="rId1"/>
          <a:stretch/>
        </p:blipFill>
        <p:spPr>
          <a:xfrm>
            <a:off x="0" y="3306600"/>
            <a:ext cx="4932360" cy="3551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月潭面积有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公里，比杭州西湖要大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/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湖面海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6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水深有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米，四周被海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的水社山、大尖山等连峰环绕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2008101017177360"/>
          <p:cNvPicPr/>
          <p:nvPr/>
        </p:nvPicPr>
        <p:blipFill>
          <a:blip r:embed="rId2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0"/>
          <p:cNvGrpSpPr/>
          <p:nvPr/>
        </p:nvGrpSpPr>
        <p:grpSpPr>
          <a:xfrm>
            <a:off x="0" y="0"/>
            <a:ext cx="9144000" cy="4525920"/>
            <a:chOff x="0" y="0"/>
            <a:chExt cx="9144000" cy="4525920"/>
          </a:xfrm>
        </p:grpSpPr>
        <p:sp>
          <p:nvSpPr>
            <p:cNvPr id="87" name="Text Box 8"/>
            <p:cNvSpPr/>
            <p:nvPr/>
          </p:nvSpPr>
          <p:spPr>
            <a:xfrm>
              <a:off x="0" y="400536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嶂，潭水碧波晶莹，湖面辽阔，群峰倒映湖中，优美如画。每当夕阳西下，新月东升之际，日光月影相映成趣，更是优雅宁静，富有诗情画意。日月潭中有一小岛远望好象浮在水面上的一颗珠子，名珠子屿（光华岛），以此岛为界，北半湖形状如圆日，南半湖形状如弯月，日月潭因此而得名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0" y="0"/>
              <a:ext cx="378000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日月潭位于南投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鱼池乡水社村，是台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唯一的天然湖，由玉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阿里山之间的断裂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地积水而成。湖面海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60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，面积约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平方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，平均水深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0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，湖周长约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5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米。日月潭四周群山环抱，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重峦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5" descr="2008101017177360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7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说是美好的，人物往往也是伟大的，希望大家在这美好的传说中感受中国古代传说的魅力，学习这些伟大的人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W020060426396648807410"/>
          <p:cNvPicPr/>
          <p:nvPr/>
        </p:nvPicPr>
        <p:blipFill>
          <a:blip r:embed="rId1"/>
          <a:stretch/>
        </p:blipFill>
        <p:spPr>
          <a:xfrm>
            <a:off x="0" y="1557360"/>
            <a:ext cx="3708360" cy="20955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>
            <a:off x="250920" y="3645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大禹治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2" descr="dc1f3e8a56ce733a9e2fb41a"/>
          <p:cNvPicPr/>
          <p:nvPr/>
        </p:nvPicPr>
        <p:blipFill>
          <a:blip r:embed="rId2"/>
          <a:stretch/>
        </p:blipFill>
        <p:spPr>
          <a:xfrm>
            <a:off x="6480000" y="2924280"/>
            <a:ext cx="2664000" cy="3933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3"/>
          <p:cNvSpPr/>
          <p:nvPr/>
        </p:nvSpPr>
        <p:spPr>
          <a:xfrm>
            <a:off x="6877080" y="2924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精卫填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5" descr="2108e7a212dda2a7cbefd097"/>
          <p:cNvPicPr/>
          <p:nvPr/>
        </p:nvPicPr>
        <p:blipFill>
          <a:blip r:embed="rId3"/>
          <a:stretch/>
        </p:blipFill>
        <p:spPr>
          <a:xfrm>
            <a:off x="3851280" y="1052640"/>
            <a:ext cx="2365200" cy="2957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6"/>
          <p:cNvSpPr/>
          <p:nvPr/>
        </p:nvSpPr>
        <p:spPr>
          <a:xfrm>
            <a:off x="6156360" y="1484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嫦娥奔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%C5%AE%E6%B4%B2%B9%CC%EC02"/>
          <p:cNvPicPr/>
          <p:nvPr/>
        </p:nvPicPr>
        <p:blipFill>
          <a:blip r:embed="rId4"/>
          <a:stretch/>
        </p:blipFill>
        <p:spPr>
          <a:xfrm>
            <a:off x="0" y="5157720"/>
            <a:ext cx="2879640" cy="1700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9"/>
          <p:cNvSpPr/>
          <p:nvPr/>
        </p:nvSpPr>
        <p:spPr>
          <a:xfrm>
            <a:off x="611280" y="4724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女娲造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1" descr="2581407011413980181"/>
          <p:cNvPicPr/>
          <p:nvPr/>
        </p:nvPicPr>
        <p:blipFill>
          <a:blip r:embed="rId5"/>
          <a:stretch/>
        </p:blipFill>
        <p:spPr>
          <a:xfrm>
            <a:off x="2987640" y="4437000"/>
            <a:ext cx="2879640" cy="22622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2"/>
          <p:cNvSpPr/>
          <p:nvPr/>
        </p:nvSpPr>
        <p:spPr>
          <a:xfrm>
            <a:off x="4500720" y="414972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夸父逐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"/>
          <p:cNvGrpSpPr/>
          <p:nvPr/>
        </p:nvGrpSpPr>
        <p:grpSpPr>
          <a:xfrm>
            <a:off x="-7920" y="0"/>
            <a:ext cx="8466120" cy="6858000"/>
            <a:chOff x="-7920" y="0"/>
            <a:chExt cx="8466120" cy="6858000"/>
          </a:xfrm>
        </p:grpSpPr>
        <p:sp>
          <p:nvSpPr>
            <p:cNvPr id="144" name="矩形 4"/>
            <p:cNvSpPr/>
            <p:nvPr/>
          </p:nvSpPr>
          <p:spPr>
            <a:xfrm>
              <a:off x="5702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-792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7"/>
            <p:cNvSpPr/>
            <p:nvPr/>
          </p:nvSpPr>
          <p:spPr>
            <a:xfrm rot="20926800">
              <a:off x="190008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点击图片看原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点击图片看原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点击图片看原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0" y="1159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学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自读课文，生字多读几遍，带有生词的句子读通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再读课文，给课文分段，作上标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p_4_2417_080919110443"/>
          <p:cNvPicPr/>
          <p:nvPr/>
        </p:nvPicPr>
        <p:blipFill>
          <a:blip r:embed="rId1"/>
          <a:stretch/>
        </p:blipFill>
        <p:spPr>
          <a:xfrm>
            <a:off x="900000" y="2419200"/>
            <a:ext cx="699156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D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0" y="0"/>
            <a:ext cx="9144000" cy="28033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漆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黑一团  聚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集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躲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阿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山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剪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刀  水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社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姐  翻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岭  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冒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生命危险  又累又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0" y="3284640"/>
            <a:ext cx="9144000" cy="76428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月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潭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拯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 一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筹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莫展  披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荆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斩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0811231650493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日月潭是我国台湾省最大的一个湖泊。那里青山环抱，树木葱茏，是个著名的风景区。说起日月潭，还有一个动人的传说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0811231650493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日月潭是我国台湾省最大的一个湖泊。那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青山环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树木葱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是个著名的风景区。说起日月潭，还有一个动人的传说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09:05:4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54:23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