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F14-5CAA-4274-8406-F22E8475BA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961-BAD4-41C2-B82F-EE1D5DD0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7DD-DE5A-410F-A080-F9B62FC0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E79-D3A5-4539-970F-B4AE6B27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001-3A67-48E6-83BE-63AAD9AF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A0A-56E1-4369-8D52-EBB6422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C5D-B18B-4BF7-96C3-E7433CB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BDD-92AB-48F3-8D8B-F574845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3A6-5E0A-4BC9-9171-3C9445BC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168-7292-49AB-AA68-9197F3A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37A-40EE-41F2-97B4-A919D003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DBB-1990-478A-8B74-FBF383E2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3F5-5886-4220-A7E5-CC59274D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209C-3B8E-40E0-A656-B039BE7ABA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hyperlink" Target="http://www.eeppt.com/sucai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10" descr=""/>
          <p:cNvPicPr/>
          <p:nvPr/>
        </p:nvPicPr>
        <p:blipFill>
          <a:blip r:embed="rId4"/>
          <a:stretch/>
        </p:blipFill>
        <p:spPr>
          <a:xfrm>
            <a:off x="1511280" y="4651200"/>
            <a:ext cx="5254560" cy="511200"/>
          </a:xfrm>
          <a:prstGeom prst="rect">
            <a:avLst/>
          </a:prstGeom>
          <a:ln w="0">
            <a:noFill/>
          </a:ln>
        </p:spPr>
      </p:pic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340000" y="60228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1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35:56Z</dcterms:modified>
  <cp:revision>2</cp:revision>
  <dc:subject>幻灯片之家 http://www.eeppt.com</dc:subject>
  <dc:title>幻灯片之家 http://www.eeppt.com</dc:title>
</cp:coreProperties>
</file>