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579D3-6B80-414D-956D-811DC4B9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E6FAF-24D0-4233-B180-12A18233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F8CB-AC59-4DD7-985F-9076A125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4DAAC-4B57-41D1-A6C0-03CACEAF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C90EE-A7E0-4999-BA0A-0C472B5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0FBDB-23EC-416A-8403-6DD5425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B8DB-67E9-4DBF-916C-5B64F8C2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26ADA-4EFB-4930-9CB0-3FEE07C4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8681B-FA0C-4B43-B080-46047439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692CA-8F3C-4F9E-8BD7-932F8DC7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846A-8FBF-44F4-85FC-68AE6DB4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9C21A-3887-4242-BA7F-FA27155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2B634-8EBE-4A5A-913F-2E5DD252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1FE49-F163-4FEE-ADFE-57A234CD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FEDDC-1EE5-4DF7-9374-6EB018B3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2BABC-7F44-467B-A089-8FC6E52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605B2-8FEC-40A8-8BA3-0407B997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F5E22-1DD9-442B-AA76-E411E8AE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694AB-3E33-4964-AFC1-DF44A2B6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3C2E1-0ABB-4889-9CFB-7DB6E196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BBAB6-4D8E-413A-BDC5-06B67253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FE753-D186-4D6B-B1B1-B6694B49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7E34D-0A7D-44ED-A79C-DEB1C3AF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8294B-30FD-4C25-8781-0B0E6579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33147-D2DD-4851-BFAD-93002B15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48D95-ABCB-48DC-A5B5-F8218D0F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DD186-E9A4-45A5-991B-41EBB6B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293E0-DE76-42AF-A3B4-10A59E3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DB5D7-9D7C-45C1-9590-F6CB514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1C7F2-7FB4-4739-B770-A5A5161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8575B-4284-4163-A47C-3585D9F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81D76-781A-472C-8854-9B4958D2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B026A-1B7F-41A8-B6DE-D0A39E21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05133-C3AC-4318-8343-4F94C4EC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3B323-54F1-4876-B214-0532957F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3C617-C449-4185-9A33-2130C7D5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A62FC-A3A9-457D-8448-DABDC770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080B2-3F13-4F21-A75B-520A1543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D32FA-553E-4491-B880-082B65BF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3676D-82ED-4D93-8F7F-D154A30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8D8A2-18BA-4A30-AC41-90978EF0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787FE-5C36-45BB-9D30-AE75DE7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423AB-4D39-4911-BC26-2F9BD8DD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B12C6-C7DB-4BE7-A0DE-47873C5F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B2F85-29A2-45E4-A33D-056D5874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435A4-43C0-493C-9763-E55A69D2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97A80-E430-424B-BD86-99AAABC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1E542-BF2F-4BBA-B726-F68ECE13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A8D64-BC03-4A6E-90C0-26CB1DDB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318B2-C799-4BB5-A732-4088AF72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C3071-07BD-47D7-A49E-5208E32F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FC21E-E93B-44F6-B27C-0107C14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87D93-8F5E-4A6A-8FA2-E0C05A6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F6B1A-0DDE-4DB0-8305-8F8766F6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F6250-5661-4F89-B75B-DA1BC8E4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25252-BBBB-41F3-8ADB-110EF140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AAE73-53FC-4A49-9543-39E6E71D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D7AA5-D06D-4ED5-B886-DCCEA5BA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3FC09-160F-4986-B8D4-A5A4C740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5AA0C-71BA-4C9F-A99F-11B3CE88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E46BE-1265-4430-802C-B07998E8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4CA73-826D-4282-80CF-8C7D696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CBB8A-09B3-44D3-9EBB-B3D99D4C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6ADFC-4157-438C-B1E2-5BEC867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342D7-39CD-4914-90E9-B55BBF6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8D0C9-B47C-46FE-8E19-8571350D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C1427-D88D-4B3F-B57C-3BA1264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3D084-7891-4351-9FB6-25A89D1F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711BA-FAE4-428A-93EA-C257D02F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E2D-4C76-4035-BB4E-7128C957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4A9-F79F-4583-AE37-BC4681B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8FF-6A05-4F3A-A4FD-7E434531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8C1-69E9-4E3F-8551-360F2FFF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DB4-D6C3-41BE-B5C2-530C8793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A65-31CF-4E03-A760-AE1C58E5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93F-CD79-4C95-B77D-007480A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6EB-C75C-4117-A08F-7A411E4D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294-9E51-4E1C-86E9-F14CEA4F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E88-2C48-4895-8864-521B6EE4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E96-86BF-4271-B0B4-60F966DD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D2D-D45B-4255-B6B8-054554F2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CE74-D8F2-4EF9-B67B-34F481DE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5580-6360-4D5C-AEF1-1CB2CBF6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BFA-B7CD-4640-A65B-3CDDB81B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F3F-A224-4114-A8C4-15F1EF95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C6E4-D192-4E4F-8B2F-6724FFE1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37A9-0AC0-446E-AB82-1AEC80C4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32F1-3F8B-4428-968A-DAB9222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9EE9-19E3-4716-96EF-F43C0320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C2FD-D6DA-43AE-A578-BDCF86C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8858-BA16-4D13-9AB1-938A82A4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70F3-FB47-4C20-ACA6-27A27DE5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DB41-B563-4390-A849-E37824FC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CCA4-D995-499A-AF53-B3DD48E5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32F2-4051-4D53-941C-EA255651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7AF6-4C1F-4B30-805D-D8189EDD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0F6F-1F14-410F-A284-1AD288BA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02F9-3C79-4CB9-BF4B-9F539DA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421D-32F5-4265-9FFE-CEFB80A2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EE86-58EE-4095-8491-6A1DE67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6DA7-0883-42C6-B946-017EA21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F089-FDF6-42BB-B93D-BF3D71A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5B94-914D-4994-8DA8-B4283F7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8398-D5C7-494C-8FA7-8FA06ECD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CF71-48FE-4279-9F63-BF192B9B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084E-E654-4DCB-9321-C12413A9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5970-6B45-49AE-9B58-62BF8321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EC3E-56AB-444B-BAEA-9B03588E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7FAE-8AA6-4558-900E-430845E0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3002-B998-402B-B529-A1911EB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5853-83FB-4B8A-9C27-A3BC6BA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4D68C-84BF-40B2-A809-F78F118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306C-9E00-4792-B556-6AEB8EDA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9806-754D-40D2-8A2E-72A8E32D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E298-BF62-4939-B6DB-D4142DCD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A7C4-EC28-4C38-8C9C-BFAEB01C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12F2-7D64-4D30-BED7-93494033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269BD-D85E-49BC-A5B4-EB9404CF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A110-A7F5-4C9E-8F6B-468B3F7B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1D33-F4DD-451B-BD72-22646112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A389-D116-4D8C-9843-2EA524F9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575C8-CF03-4DC0-9CCD-F9B8D10C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F37E8-AD96-4433-805B-FFE02518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F17D0-A6C4-4BE8-B6A9-F5329520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631B-C881-4CAF-A355-3BF22F0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42BE-BCE6-4101-B3DE-A8B23AB4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BF0D-C77E-4374-AFE2-58292C76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A1AD-EC28-47D6-89F8-D1DC2E4F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6918C-9634-4AB1-9082-9315D12B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AA0E4-2EB7-4905-87CF-4073CEFC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2CDB-B1E1-4122-BD64-3DF62D0D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B98BC-74D7-4B9F-8C2B-3D97E1C7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1556E-E593-4F1A-98BD-71C1763A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47096-B0B6-4CD8-B86D-5001D1CD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971B-3C78-4D79-AB46-280BA731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62A4C-2C84-4BFE-B6CE-848EE86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CACF3-A63A-4806-ACCE-53B3A8C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86ED-67AE-49AB-8461-A3C8C2F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C68D3-E2E7-463D-8A4F-F4F0190D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ECD0-53F4-4F2C-A1FE-2E7C3B13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B961B-BCBE-4B77-86A9-B5E5DC9C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7FB4-BF4A-4DBC-A9E4-41452C1B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718B1-5E4D-4ED6-BA61-6B9887C7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6DBAB-6BEB-4EC5-977B-BE97C9F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AE6E-4F5F-4064-A3EE-007D40B44C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CDF2-73B6-41BF-8595-E36577C323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029-4E7D-487D-885D-DF7152F052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A528-DB14-42D7-986A-436BE7F115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D7B-7305-40D0-B0ED-C4ADE6E80E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EEEE-0C34-4A10-9CA4-29B8932D962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7F4F-4DC7-4521-ABA1-D479747C31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901C-4370-4E78-B328-4F50D62F89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0429-E86A-4D53-88C2-99B04E1961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6963-31C3-4B31-AA8F-AE85281507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DC34-07AF-43C8-963F-CF87244020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84B-C20E-4751-B1D6-7C21E3FCEC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65360" y="833040"/>
            <a:ext cx="58579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内的退位减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94920" y="1985760"/>
            <a:ext cx="6481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十几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个位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71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9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174240" y="6453360"/>
            <a:ext cx="30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960480" y="1773360"/>
            <a:ext cx="8183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已经摘下的桃子，每只猴子一个，够分吗？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1370160" y="5326200"/>
            <a:ext cx="49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从图中你都知道了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2158920" y="6189840"/>
            <a:ext cx="44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想怎样解答，说说想法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2158920" y="5757840"/>
            <a:ext cx="36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要求的问题是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51" name="Picture 24" descr="u2xiaoho"/>
          <p:cNvPicPr/>
          <p:nvPr/>
        </p:nvPicPr>
        <p:blipFill>
          <a:blip r:embed="rId1"/>
          <a:stretch/>
        </p:blipFill>
        <p:spPr>
          <a:xfrm>
            <a:off x="2340000" y="2349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25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5" name="矩形 6"/>
          <p:cNvSpPr/>
          <p:nvPr/>
        </p:nvSpPr>
        <p:spPr>
          <a:xfrm>
            <a:off x="716040" y="292428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 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2014560" y="299736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914400" y="5013360"/>
            <a:ext cx="76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算得真快，你是用什么方法算的？能举例说说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7" name="Text Box 38"/>
          <p:cNvSpPr/>
          <p:nvPr/>
        </p:nvSpPr>
        <p:spPr>
          <a:xfrm>
            <a:off x="2014560" y="2446200"/>
            <a:ext cx="195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8" name="Text Box 39"/>
          <p:cNvSpPr/>
          <p:nvPr/>
        </p:nvSpPr>
        <p:spPr>
          <a:xfrm>
            <a:off x="2014560" y="414504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9" name="Text Box 40"/>
          <p:cNvSpPr/>
          <p:nvPr/>
        </p:nvSpPr>
        <p:spPr>
          <a:xfrm>
            <a:off x="2014560" y="356868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0" name="Text Box 41"/>
          <p:cNvSpPr/>
          <p:nvPr/>
        </p:nvSpPr>
        <p:spPr>
          <a:xfrm>
            <a:off x="5253120" y="299736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1" name="Text Box 42"/>
          <p:cNvSpPr/>
          <p:nvPr/>
        </p:nvSpPr>
        <p:spPr>
          <a:xfrm>
            <a:off x="5253120" y="242100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2" name="Text Box 43"/>
          <p:cNvSpPr/>
          <p:nvPr/>
        </p:nvSpPr>
        <p:spPr>
          <a:xfrm>
            <a:off x="5253120" y="414504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3" name="Text Box 44"/>
          <p:cNvSpPr/>
          <p:nvPr/>
        </p:nvSpPr>
        <p:spPr>
          <a:xfrm>
            <a:off x="5253120" y="356868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4" name="Text Box 45"/>
          <p:cNvSpPr/>
          <p:nvPr/>
        </p:nvSpPr>
        <p:spPr>
          <a:xfrm>
            <a:off x="1440720" y="177336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抢答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5" name="Text Box 46"/>
          <p:cNvSpPr/>
          <p:nvPr/>
        </p:nvSpPr>
        <p:spPr>
          <a:xfrm>
            <a:off x="3530520" y="30225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3530520" y="24462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7" name="Text Box 48"/>
          <p:cNvSpPr/>
          <p:nvPr/>
        </p:nvSpPr>
        <p:spPr>
          <a:xfrm>
            <a:off x="3530520" y="4170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8" name="Text Box 49"/>
          <p:cNvSpPr/>
          <p:nvPr/>
        </p:nvSpPr>
        <p:spPr>
          <a:xfrm>
            <a:off x="3530520" y="3594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9" name="Text Box 50"/>
          <p:cNvSpPr/>
          <p:nvPr/>
        </p:nvSpPr>
        <p:spPr>
          <a:xfrm>
            <a:off x="6805440" y="30225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0" name="Text Box 51"/>
          <p:cNvSpPr/>
          <p:nvPr/>
        </p:nvSpPr>
        <p:spPr>
          <a:xfrm>
            <a:off x="6805440" y="24462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1" name="Text Box 52"/>
          <p:cNvSpPr/>
          <p:nvPr/>
        </p:nvSpPr>
        <p:spPr>
          <a:xfrm>
            <a:off x="6805440" y="4170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2" name="Text Box 53"/>
          <p:cNvSpPr/>
          <p:nvPr/>
        </p:nvSpPr>
        <p:spPr>
          <a:xfrm>
            <a:off x="6805440" y="3594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3" name="Text Box 55"/>
          <p:cNvSpPr/>
          <p:nvPr/>
        </p:nvSpPr>
        <p:spPr>
          <a:xfrm>
            <a:off x="914400" y="55897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我们可以想加算减，也可以用破十的方法，还可以用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连减的方法，都可以很快地算出答案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4" name="Rectangle 57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3421080" y="2417760"/>
            <a:ext cx="23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971640" y="5661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说说你是怎样计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4890960" y="24177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1135440" y="3335400"/>
            <a:ext cx="1630800" cy="16779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想加：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3497760" y="3335400"/>
            <a:ext cx="1630800" cy="16779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破十：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5945400" y="3335400"/>
            <a:ext cx="1815120" cy="16779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连减：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以旧引新，解决问题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3"/>
          <p:cNvSpPr/>
          <p:nvPr/>
        </p:nvSpPr>
        <p:spPr>
          <a:xfrm>
            <a:off x="3421080" y="2155680"/>
            <a:ext cx="19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3415680" y="461628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你喜欢的方法做做下面两道题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4860720" y="2154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421080" y="2803680"/>
            <a:ext cx="19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860720" y="2801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3421080" y="3379680"/>
            <a:ext cx="19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4860720" y="3378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1" name="Text Box 22"/>
          <p:cNvSpPr/>
          <p:nvPr/>
        </p:nvSpPr>
        <p:spPr>
          <a:xfrm>
            <a:off x="2268360" y="5013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说你是怎样计算的。（除了几种算法外，还可以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被减数不变，减数和差的关系。）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3"/>
          <p:cNvSpPr/>
          <p:nvPr/>
        </p:nvSpPr>
        <p:spPr>
          <a:xfrm>
            <a:off x="2340000" y="3141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477800" y="519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说说你是怎样计算这三道题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851280" y="3141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2340000" y="37861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3851280" y="37846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340000" y="24890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851280" y="24890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借助方法，自主探究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3" name="Rectangle 14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组织研讨，总结算法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1477800" y="4941720"/>
            <a:ext cx="734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我们共同学习了怎样计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几减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当我们遇到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的问题时，我们可以怎么办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1692360" y="2997360"/>
            <a:ext cx="1008000" cy="3988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破十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3578400" y="2997360"/>
            <a:ext cx="993600" cy="3988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加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456160" y="2997360"/>
            <a:ext cx="987480" cy="39888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连减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1371600" y="4762440"/>
            <a:ext cx="72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用你喜欢的方法赶快做一做这些题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2163600" y="5192640"/>
            <a:ext cx="61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怎么这么快就做完了？说说你是怎样计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36" name="Picture 9" descr=""/>
          <p:cNvPicPr/>
          <p:nvPr/>
        </p:nvPicPr>
        <p:blipFill>
          <a:blip r:embed="rId1"/>
          <a:stretch/>
        </p:blipFill>
        <p:spPr>
          <a:xfrm>
            <a:off x="1044720" y="2754360"/>
            <a:ext cx="7630920" cy="102564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2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8"/>
          <p:cNvSpPr/>
          <p:nvPr/>
        </p:nvSpPr>
        <p:spPr>
          <a:xfrm>
            <a:off x="2548800" y="4971960"/>
            <a:ext cx="41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从图中你能知道什么？要求的问题是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能列个算式解决一下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为什么用减法计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说说你是怎样计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列算式，并计算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40" name="Picture 22" descr="p18_1"/>
          <p:cNvPicPr/>
          <p:nvPr/>
        </p:nvPicPr>
        <p:blipFill>
          <a:blip r:embed="rId1"/>
          <a:stretch/>
        </p:blipFill>
        <p:spPr>
          <a:xfrm>
            <a:off x="1476360" y="2276640"/>
            <a:ext cx="6626160" cy="238752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240120" y="494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1:12Z</dcterms:modified>
  <cp:revision>0</cp:revision>
  <dc:subject>幻灯片之家 http://www.eeppt.com</dc:subject>
  <dc:title>幻灯片之家 http://www.eeppt.com</dc:title>
</cp:coreProperties>
</file>