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E38-0BBE-44AE-9654-C60742B1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4DF-C954-4CB7-BD87-F033177C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B5BF-4595-49EB-A812-5E628D58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502-F74E-4CD8-B1E5-1FCBE050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539-2052-4A97-B922-6AD127D2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0A5-9C39-4365-B0CE-0028D4E7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546-3A87-4F88-A0A9-F460DD34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845-2ACD-4782-83AF-D40C59C6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3F6-7A9B-4F19-AD1C-FEDD2510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369-D92A-42EC-9185-D401BDF7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775-F15E-48FF-8BB6-064B27B5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A9E-6DE9-41CE-89B9-5D0023F2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DE97-BE2E-4080-B1D4-3AA22ADD6C5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Documents and Settings\wtshen\桌面\474ppt\cover-n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文字方塊 3"/>
          <p:cNvSpPr/>
          <p:nvPr/>
        </p:nvSpPr>
        <p:spPr>
          <a:xfrm>
            <a:off x="1665720" y="422100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頓飯，卻吃得人心惶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從三聚氰胺到塑化劑，從添加物到真食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台灣如何重建食品安全網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797480" y="117360"/>
            <a:ext cx="323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食品安全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wtshen\桌面\474ppt\原始檔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直線接點 4"/>
          <p:cNvSpPr/>
          <p:nvPr/>
        </p:nvSpPr>
        <p:spPr>
          <a:xfrm>
            <a:off x="4067280" y="220500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字方塊 5"/>
          <p:cNvSpPr/>
          <p:nvPr/>
        </p:nvSpPr>
        <p:spPr>
          <a:xfrm>
            <a:off x="5044320" y="2421000"/>
            <a:ext cx="310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不要用添加物就不用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非非用不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義美不用中國原物料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為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中國原物料幾乎都面臨重金屬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抗生素殘留、漂白、防腐劑等問題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字方塊 6"/>
          <p:cNvSpPr/>
          <p:nvPr/>
        </p:nvSpPr>
        <p:spPr>
          <a:xfrm>
            <a:off x="4406400" y="141300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進料就防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群組 7"/>
          <p:cNvGrpSpPr/>
          <p:nvPr/>
        </p:nvGrpSpPr>
        <p:grpSpPr>
          <a:xfrm>
            <a:off x="3492360" y="765000"/>
            <a:ext cx="1366920" cy="503280"/>
            <a:chOff x="3492360" y="765000"/>
            <a:chExt cx="1366920" cy="503280"/>
          </a:xfrm>
        </p:grpSpPr>
        <p:sp>
          <p:nvSpPr>
            <p:cNvPr id="133" name="矩形 8"/>
            <p:cNvSpPr/>
            <p:nvPr/>
          </p:nvSpPr>
          <p:spPr>
            <a:xfrm>
              <a:off x="3492360" y="765000"/>
              <a:ext cx="136692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文字方塊 9"/>
            <p:cNvSpPr/>
            <p:nvPr/>
          </p:nvSpPr>
          <p:spPr>
            <a:xfrm>
              <a:off x="3741480" y="8366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第一道把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Documents and Settings\wtshen\桌面\474ppt\原始檔\12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直線接點 4"/>
          <p:cNvSpPr/>
          <p:nvPr/>
        </p:nvSpPr>
        <p:spPr>
          <a:xfrm>
            <a:off x="4067280" y="220500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字方塊 5"/>
          <p:cNvSpPr/>
          <p:nvPr/>
        </p:nvSpPr>
        <p:spPr>
          <a:xfrm>
            <a:off x="5044320" y="24415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某果汁原料進料成本相對便宜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有一般的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0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％、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％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們會覺得奇怪，而不是見獵心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字方塊 6"/>
          <p:cNvSpPr/>
          <p:nvPr/>
        </p:nvSpPr>
        <p:spPr>
          <a:xfrm>
            <a:off x="4873320" y="141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不一味追求「便宜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群組 7"/>
          <p:cNvGrpSpPr/>
          <p:nvPr/>
        </p:nvGrpSpPr>
        <p:grpSpPr>
          <a:xfrm>
            <a:off x="3492360" y="765000"/>
            <a:ext cx="1366920" cy="503280"/>
            <a:chOff x="3492360" y="765000"/>
            <a:chExt cx="1366920" cy="503280"/>
          </a:xfrm>
        </p:grpSpPr>
        <p:sp>
          <p:nvSpPr>
            <p:cNvPr id="142" name="矩形 8"/>
            <p:cNvSpPr/>
            <p:nvPr/>
          </p:nvSpPr>
          <p:spPr>
            <a:xfrm>
              <a:off x="3492360" y="765000"/>
              <a:ext cx="136692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文字方塊 9"/>
            <p:cNvSpPr/>
            <p:nvPr/>
          </p:nvSpPr>
          <p:spPr>
            <a:xfrm>
              <a:off x="3727800" y="836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第二道把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C:\Documents and Settings\wtshen\桌面\474ppt\原始檔\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直線接點 5"/>
          <p:cNvSpPr/>
          <p:nvPr/>
        </p:nvSpPr>
        <p:spPr>
          <a:xfrm>
            <a:off x="4067280" y="220500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字方塊 6"/>
          <p:cNvSpPr/>
          <p:nvPr/>
        </p:nvSpPr>
        <p:spPr>
          <a:xfrm>
            <a:off x="5044320" y="24415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求廠商提供的客戶名單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多為注重消費者飲食安全的廠商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比較值得信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字方塊 7"/>
          <p:cNvSpPr/>
          <p:nvPr/>
        </p:nvSpPr>
        <p:spPr>
          <a:xfrm>
            <a:off x="4669560" y="141300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要求提供參考客戶名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群組 8"/>
          <p:cNvGrpSpPr/>
          <p:nvPr/>
        </p:nvGrpSpPr>
        <p:grpSpPr>
          <a:xfrm>
            <a:off x="3492360" y="765000"/>
            <a:ext cx="1366920" cy="503280"/>
            <a:chOff x="3492360" y="765000"/>
            <a:chExt cx="1366920" cy="503280"/>
          </a:xfrm>
        </p:grpSpPr>
        <p:sp>
          <p:nvSpPr>
            <p:cNvPr id="151" name="矩形 9"/>
            <p:cNvSpPr/>
            <p:nvPr/>
          </p:nvSpPr>
          <p:spPr>
            <a:xfrm>
              <a:off x="3492360" y="765000"/>
              <a:ext cx="136692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文字方塊 10"/>
            <p:cNvSpPr/>
            <p:nvPr/>
          </p:nvSpPr>
          <p:spPr>
            <a:xfrm>
              <a:off x="3727800" y="836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第三道把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780000" y="602136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Documents and Settings\wtshen\桌面\474ppt\原始檔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直線接點 4"/>
          <p:cNvSpPr/>
          <p:nvPr/>
        </p:nvSpPr>
        <p:spPr>
          <a:xfrm>
            <a:off x="3851280" y="220500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字方塊 5"/>
          <p:cNvSpPr/>
          <p:nvPr/>
        </p:nvSpPr>
        <p:spPr>
          <a:xfrm>
            <a:off x="5160960" y="244152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除了原有的品管制度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更建立周全的食安制度和檢驗能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字方塊 6"/>
          <p:cNvSpPr/>
          <p:nvPr/>
        </p:nvSpPr>
        <p:spPr>
          <a:xfrm>
            <a:off x="4106160" y="14763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檢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群組 7"/>
          <p:cNvGrpSpPr/>
          <p:nvPr/>
        </p:nvGrpSpPr>
        <p:grpSpPr>
          <a:xfrm>
            <a:off x="3492360" y="765000"/>
            <a:ext cx="1366920" cy="503280"/>
            <a:chOff x="3492360" y="765000"/>
            <a:chExt cx="1366920" cy="503280"/>
          </a:xfrm>
        </p:grpSpPr>
        <p:sp>
          <p:nvSpPr>
            <p:cNvPr id="161" name="矩形 8"/>
            <p:cNvSpPr/>
            <p:nvPr/>
          </p:nvSpPr>
          <p:spPr>
            <a:xfrm>
              <a:off x="3492360" y="765000"/>
              <a:ext cx="136692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文字方塊 9"/>
            <p:cNvSpPr/>
            <p:nvPr/>
          </p:nvSpPr>
          <p:spPr>
            <a:xfrm>
              <a:off x="3727800" y="836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第四道把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69F-B4A5-46A3-BCEA-40431AEBA2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Documents and Settings\wtshen\桌面\474ppt\原始檔\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文字方塊 4"/>
          <p:cNvSpPr/>
          <p:nvPr/>
        </p:nvSpPr>
        <p:spPr>
          <a:xfrm>
            <a:off x="318240" y="1184400"/>
            <a:ext cx="200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老實人的行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良心的事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線接點 5"/>
          <p:cNvSpPr/>
          <p:nvPr/>
        </p:nvSpPr>
        <p:spPr>
          <a:xfrm>
            <a:off x="144360" y="2425680"/>
            <a:ext cx="4248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文字方塊 6"/>
          <p:cNvSpPr/>
          <p:nvPr/>
        </p:nvSpPr>
        <p:spPr>
          <a:xfrm>
            <a:off x="794160" y="2641680"/>
            <a:ext cx="25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食品業要暴利真的不可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只要維持固定的毛利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看應該覺得滿足了吧！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義美總經理高志明笑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畢竟我人生也不只為了錢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44280" y="631044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wtshen\桌面\474ppt\原始檔\2.jpg"/>
          <p:cNvPicPr/>
          <p:nvPr/>
        </p:nvPicPr>
        <p:blipFill>
          <a:blip r:embed="rId1"/>
          <a:stretch/>
        </p:blipFill>
        <p:spPr>
          <a:xfrm>
            <a:off x="-36360" y="-27000"/>
            <a:ext cx="917388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文字方塊 3"/>
          <p:cNvSpPr/>
          <p:nvPr/>
        </p:nvSpPr>
        <p:spPr>
          <a:xfrm>
            <a:off x="4845600" y="1052640"/>
            <a:ext cx="28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食安等於國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這頓午餐誰來把關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接點 5"/>
          <p:cNvSpPr/>
          <p:nvPr/>
        </p:nvSpPr>
        <p:spPr>
          <a:xfrm>
            <a:off x="4356000" y="2205000"/>
            <a:ext cx="4248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字方塊 6"/>
          <p:cNvSpPr/>
          <p:nvPr/>
        </p:nvSpPr>
        <p:spPr>
          <a:xfrm>
            <a:off x="4609800" y="2492280"/>
            <a:ext cx="374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， 從三聚氰胺到塑化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， 從添加物到真食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， 台灣的食品安全全面淪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重創了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IT </a:t>
            </a: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形象</a:t>
            </a:r>
            <a:r>
              <a:rPr b="1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，</a:t>
            </a: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瓦解社會 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2629080" y="645336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6165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wtshen\桌面\474ppt\原始檔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文字方塊 4"/>
          <p:cNvSpPr/>
          <p:nvPr/>
        </p:nvSpPr>
        <p:spPr>
          <a:xfrm>
            <a:off x="4610880" y="1052640"/>
            <a:ext cx="17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吃得不安全</a:t>
            </a: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你我都是共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接點 5"/>
          <p:cNvSpPr/>
          <p:nvPr/>
        </p:nvSpPr>
        <p:spPr>
          <a:xfrm>
            <a:off x="4140360" y="220500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字方塊 6"/>
          <p:cNvSpPr/>
          <p:nvPr/>
        </p:nvSpPr>
        <p:spPr>
          <a:xfrm>
            <a:off x="5196600" y="242100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台灣的食品安全出問題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從消費者、廠商、通路到政府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我都是共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wtshen\桌面\474ppt\原始檔\4.jpg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3320"/>
          </a:xfrm>
          <a:prstGeom prst="rect">
            <a:avLst/>
          </a:prstGeom>
          <a:ln w="0">
            <a:noFill/>
          </a:ln>
        </p:spPr>
      </p:pic>
      <p:sp>
        <p:nvSpPr>
          <p:cNvPr id="62" name="直線接點 5"/>
          <p:cNvSpPr/>
          <p:nvPr/>
        </p:nvSpPr>
        <p:spPr>
          <a:xfrm>
            <a:off x="4140360" y="220500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字方塊 6"/>
          <p:cNvSpPr/>
          <p:nvPr/>
        </p:nvSpPr>
        <p:spPr>
          <a:xfrm>
            <a:off x="4865040" y="2421000"/>
            <a:ext cx="285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消費者買東西第一個要好吃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好吃之後就是比價錢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比價格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很多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真材實料的業者就掛掉了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字方塊 3"/>
          <p:cNvSpPr/>
          <p:nvPr/>
        </p:nvSpPr>
        <p:spPr>
          <a:xfrm>
            <a:off x="5364000" y="1413000"/>
            <a:ext cx="141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Microsoft JhengHei"/>
                <a:ea typeface="Arial"/>
              </a:rPr>
              <a:t>消費者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─</a:t>
            </a: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要好吃、愛比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群組 8"/>
          <p:cNvGrpSpPr/>
          <p:nvPr/>
        </p:nvGrpSpPr>
        <p:grpSpPr>
          <a:xfrm>
            <a:off x="3708360" y="765000"/>
            <a:ext cx="2016000" cy="503280"/>
            <a:chOff x="3708360" y="765000"/>
            <a:chExt cx="2016000" cy="503280"/>
          </a:xfrm>
        </p:grpSpPr>
        <p:sp>
          <p:nvSpPr>
            <p:cNvPr id="66" name="矩形 7"/>
            <p:cNvSpPr/>
            <p:nvPr/>
          </p:nvSpPr>
          <p:spPr>
            <a:xfrm>
              <a:off x="3708360" y="765000"/>
              <a:ext cx="201600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文字方塊 4"/>
            <p:cNvSpPr/>
            <p:nvPr/>
          </p:nvSpPr>
          <p:spPr>
            <a:xfrm>
              <a:off x="3966480" y="836640"/>
              <a:ext cx="12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食品安全共犯 </a:t>
              </a:r>
              <a:r>
                <a:rPr b="1" lang="en-US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4272120" y="4724280"/>
            <a:ext cx="63360" cy="1081080"/>
            <a:chOff x="4272120" y="4724280"/>
            <a:chExt cx="63360" cy="1081080"/>
          </a:xfrm>
        </p:grpSpPr>
        <p:sp>
          <p:nvSpPr>
            <p:cNvPr id="69" name="Line 7"/>
            <p:cNvSpPr/>
            <p:nvPr/>
          </p:nvSpPr>
          <p:spPr>
            <a:xfrm>
              <a:off x="4283280" y="472428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4272120" y="4724280"/>
              <a:ext cx="63360" cy="649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矩形 10"/>
          <p:cNvSpPr/>
          <p:nvPr/>
        </p:nvSpPr>
        <p:spPr>
          <a:xfrm>
            <a:off x="4392720" y="4724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勿貪小便宜，而是要從健康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安全的角度去選擇食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wtshen\桌面\474ppt\原始檔\5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75" name="直線接點 4"/>
          <p:cNvSpPr/>
          <p:nvPr/>
        </p:nvSpPr>
        <p:spPr>
          <a:xfrm>
            <a:off x="4140360" y="220500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字方塊 5"/>
          <p:cNvSpPr/>
          <p:nvPr/>
        </p:nvSpPr>
        <p:spPr>
          <a:xfrm>
            <a:off x="4919400" y="2421000"/>
            <a:ext cx="305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台灣食品業者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0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％是外包製造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愈來愈多廠商連生產能力都沒有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僅有配方，就找代工廠生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文字方塊 6"/>
          <p:cNvSpPr/>
          <p:nvPr/>
        </p:nvSpPr>
        <p:spPr>
          <a:xfrm>
            <a:off x="4726080" y="1413000"/>
            <a:ext cx="29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食品業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─</a:t>
            </a: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搞外包，搞掉品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群組 7"/>
          <p:cNvGrpSpPr/>
          <p:nvPr/>
        </p:nvGrpSpPr>
        <p:grpSpPr>
          <a:xfrm>
            <a:off x="3708360" y="765000"/>
            <a:ext cx="2016000" cy="503280"/>
            <a:chOff x="3708360" y="765000"/>
            <a:chExt cx="2016000" cy="503280"/>
          </a:xfrm>
        </p:grpSpPr>
        <p:sp>
          <p:nvSpPr>
            <p:cNvPr id="79" name="矩形 8"/>
            <p:cNvSpPr/>
            <p:nvPr/>
          </p:nvSpPr>
          <p:spPr>
            <a:xfrm>
              <a:off x="3708360" y="765000"/>
              <a:ext cx="201600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文字方塊 9"/>
            <p:cNvSpPr/>
            <p:nvPr/>
          </p:nvSpPr>
          <p:spPr>
            <a:xfrm>
              <a:off x="3966480" y="836640"/>
              <a:ext cx="12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食品安全共犯 </a:t>
              </a:r>
              <a:r>
                <a:rPr b="1" lang="en-US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4"/>
          <p:cNvGrpSpPr/>
          <p:nvPr/>
        </p:nvGrpSpPr>
        <p:grpSpPr>
          <a:xfrm>
            <a:off x="4272120" y="4005360"/>
            <a:ext cx="63360" cy="1079280"/>
            <a:chOff x="4272120" y="4005360"/>
            <a:chExt cx="63360" cy="1079280"/>
          </a:xfrm>
        </p:grpSpPr>
        <p:sp>
          <p:nvSpPr>
            <p:cNvPr id="82" name="Line 7"/>
            <p:cNvSpPr/>
            <p:nvPr/>
          </p:nvSpPr>
          <p:spPr>
            <a:xfrm>
              <a:off x="4283280" y="400536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4272120" y="4005360"/>
              <a:ext cx="63360" cy="64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矩形 12"/>
          <p:cNvSpPr/>
          <p:nvPr/>
        </p:nvSpPr>
        <p:spPr>
          <a:xfrm>
            <a:off x="4392720" y="400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食品是良心產業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要靠業者自我管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064040" y="6310440"/>
            <a:ext cx="453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wtshen\桌面\474ppt\原始檔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直線接點 4"/>
          <p:cNvSpPr/>
          <p:nvPr/>
        </p:nvSpPr>
        <p:spPr>
          <a:xfrm>
            <a:off x="4140360" y="220500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字方塊 5"/>
          <p:cNvSpPr/>
          <p:nvPr/>
        </p:nvSpPr>
        <p:spPr>
          <a:xfrm>
            <a:off x="4925880" y="2421000"/>
            <a:ext cx="303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很多通路業者看東西好賣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做自有品牌，找代工廠生產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壓低成本，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製造投機取巧的空間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字方塊 6"/>
          <p:cNvSpPr/>
          <p:nvPr/>
        </p:nvSpPr>
        <p:spPr>
          <a:xfrm>
            <a:off x="4642560" y="141300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通路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─</a:t>
            </a: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少了對上游的稽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群組 7"/>
          <p:cNvGrpSpPr/>
          <p:nvPr/>
        </p:nvGrpSpPr>
        <p:grpSpPr>
          <a:xfrm>
            <a:off x="3708360" y="765000"/>
            <a:ext cx="2016000" cy="503280"/>
            <a:chOff x="3708360" y="765000"/>
            <a:chExt cx="2016000" cy="503280"/>
          </a:xfrm>
        </p:grpSpPr>
        <p:sp>
          <p:nvSpPr>
            <p:cNvPr id="93" name="矩形 8"/>
            <p:cNvSpPr/>
            <p:nvPr/>
          </p:nvSpPr>
          <p:spPr>
            <a:xfrm>
              <a:off x="3708360" y="765000"/>
              <a:ext cx="201600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文字方塊 9"/>
            <p:cNvSpPr/>
            <p:nvPr/>
          </p:nvSpPr>
          <p:spPr>
            <a:xfrm>
              <a:off x="3966480" y="836640"/>
              <a:ext cx="12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食品安全共犯 </a:t>
              </a:r>
              <a:r>
                <a:rPr b="1" lang="en-US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14"/>
          <p:cNvGrpSpPr/>
          <p:nvPr/>
        </p:nvGrpSpPr>
        <p:grpSpPr>
          <a:xfrm>
            <a:off x="4272120" y="4005360"/>
            <a:ext cx="63360" cy="1079280"/>
            <a:chOff x="4272120" y="4005360"/>
            <a:chExt cx="63360" cy="1079280"/>
          </a:xfrm>
        </p:grpSpPr>
        <p:sp>
          <p:nvSpPr>
            <p:cNvPr id="96" name="Line 7"/>
            <p:cNvSpPr/>
            <p:nvPr/>
          </p:nvSpPr>
          <p:spPr>
            <a:xfrm>
              <a:off x="4283280" y="400536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8"/>
            <p:cNvSpPr/>
            <p:nvPr/>
          </p:nvSpPr>
          <p:spPr>
            <a:xfrm>
              <a:off x="4272120" y="4005360"/>
              <a:ext cx="63360" cy="64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矩形 12"/>
          <p:cNvSpPr/>
          <p:nvPr/>
        </p:nvSpPr>
        <p:spPr>
          <a:xfrm>
            <a:off x="4392720" y="400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通路收上架費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應該對上游有更好的稽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wtshen\桌面\474ppt\原始檔\7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直線接點 4"/>
          <p:cNvSpPr/>
          <p:nvPr/>
        </p:nvSpPr>
        <p:spPr>
          <a:xfrm>
            <a:off x="4140360" y="220500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字方塊 5"/>
          <p:cNvSpPr/>
          <p:nvPr/>
        </p:nvSpPr>
        <p:spPr>
          <a:xfrm>
            <a:off x="5166000" y="2421000"/>
            <a:ext cx="255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檢驗只檢驗有規定可以用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規定不能用的卻沒有檢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要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依靠楊技正這種好奇心強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鍥而不捨的檢驗員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我們能有多少個楊技正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字方塊 6"/>
          <p:cNvSpPr/>
          <p:nvPr/>
        </p:nvSpPr>
        <p:spPr>
          <a:xfrm>
            <a:off x="4484520" y="1413000"/>
            <a:ext cx="17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政府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─</a:t>
            </a:r>
            <a:r>
              <a:rPr b="1" lang="ar-SA" sz="2400" spc="-1" strike="noStrike">
                <a:solidFill>
                  <a:srgbClr val="000000"/>
                </a:solidFill>
                <a:latin typeface="Microsoft JhengHei"/>
                <a:ea typeface="Arial"/>
              </a:rPr>
              <a:t>檢驗不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群組 7"/>
          <p:cNvGrpSpPr/>
          <p:nvPr/>
        </p:nvGrpSpPr>
        <p:grpSpPr>
          <a:xfrm>
            <a:off x="3708360" y="765000"/>
            <a:ext cx="2016000" cy="503280"/>
            <a:chOff x="3708360" y="765000"/>
            <a:chExt cx="2016000" cy="503280"/>
          </a:xfrm>
        </p:grpSpPr>
        <p:sp>
          <p:nvSpPr>
            <p:cNvPr id="106" name="矩形 8"/>
            <p:cNvSpPr/>
            <p:nvPr/>
          </p:nvSpPr>
          <p:spPr>
            <a:xfrm>
              <a:off x="3708360" y="765000"/>
              <a:ext cx="201600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文字方塊 9"/>
            <p:cNvSpPr/>
            <p:nvPr/>
          </p:nvSpPr>
          <p:spPr>
            <a:xfrm>
              <a:off x="3966480" y="836640"/>
              <a:ext cx="124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食品安全共犯 </a:t>
              </a:r>
              <a:r>
                <a:rPr b="1" lang="en-US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272120" y="5157720"/>
            <a:ext cx="63360" cy="1079640"/>
            <a:chOff x="4272120" y="5157720"/>
            <a:chExt cx="63360" cy="1079640"/>
          </a:xfrm>
        </p:grpSpPr>
        <p:sp>
          <p:nvSpPr>
            <p:cNvPr id="109" name="Line 7"/>
            <p:cNvSpPr/>
            <p:nvPr/>
          </p:nvSpPr>
          <p:spPr>
            <a:xfrm>
              <a:off x="4283280" y="515772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4272120" y="5157720"/>
              <a:ext cx="63360" cy="64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矩形 12"/>
          <p:cNvSpPr/>
          <p:nvPr/>
        </p:nvSpPr>
        <p:spPr>
          <a:xfrm>
            <a:off x="4392720" y="5157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政府該做的是規定訂清楚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抓到就嚴懲重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Documents and Settings\wtshen\桌面\474ppt\原始檔\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直線接點 4"/>
          <p:cNvSpPr/>
          <p:nvPr/>
        </p:nvSpPr>
        <p:spPr>
          <a:xfrm>
            <a:off x="4500720" y="328464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字方塊 5"/>
          <p:cNvSpPr/>
          <p:nvPr/>
        </p:nvSpPr>
        <p:spPr>
          <a:xfrm>
            <a:off x="5343480" y="3381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塑化風暴後，我們從中學到什麼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何化危機為轉機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字方塊 6"/>
          <p:cNvSpPr/>
          <p:nvPr/>
        </p:nvSpPr>
        <p:spPr>
          <a:xfrm>
            <a:off x="5152320" y="2492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塑化後，吃出安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字方塊 3"/>
          <p:cNvSpPr/>
          <p:nvPr/>
        </p:nvSpPr>
        <p:spPr>
          <a:xfrm>
            <a:off x="4908600" y="214632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新天下第</a:t>
            </a:r>
            <a:r>
              <a:rPr b="1" lang="zh-TW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74</a:t>
            </a:r>
            <a:r>
              <a:rPr b="1" lang="zh-TW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期封面故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Documents and Settings\wtshen\桌面\474ppt\原始檔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文字方塊 7"/>
          <p:cNvSpPr/>
          <p:nvPr/>
        </p:nvSpPr>
        <p:spPr>
          <a:xfrm>
            <a:off x="4134600" y="1476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危機就是轉機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線接點 8"/>
          <p:cNvSpPr/>
          <p:nvPr/>
        </p:nvSpPr>
        <p:spPr>
          <a:xfrm>
            <a:off x="3708360" y="2205000"/>
            <a:ext cx="4248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字方塊 9"/>
          <p:cNvSpPr/>
          <p:nvPr/>
        </p:nvSpPr>
        <p:spPr>
          <a:xfrm>
            <a:off x="4541040" y="2421000"/>
            <a:ext cx="310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向來低調的義美食品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Microsoft JhengHei"/>
                <a:ea typeface="Microsoft JhengHei"/>
              </a:rPr>
              <a:t>少數沒在塑化劑風暴淪陷的廠商</a:t>
            </a: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網友甚至封他們為「義神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道把關，阻絕食安風暴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489480" y="6094440"/>
            <a:ext cx="4537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08:30:2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26:31Z</dcterms:modified>
  <cp:revision>3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