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FA0-69E9-4A3D-A16F-07E3C100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E77-7E15-4310-AE12-B82269D7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865C8-F482-4A85-AF8D-CEAB2216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F1B38-9728-463D-B73F-C3A99178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17BA8-D348-4719-A703-7A6764BD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DFDDA-77C0-496A-810A-793F6928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18FEF-27C5-4C5B-A935-F3026E02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1B2F9-0DD8-4D61-A555-CDA3E783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09A88-40C2-4E87-B2CF-ACA3763D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3FFE2-018C-4A3F-A658-82CDC23D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4193D-7D11-4DF4-8343-117DBA8B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57266-8CDC-47FA-9894-FBBBDFF7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A1D-C619-43FD-A095-E65BA9A6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CD3A9-1DD7-490F-AAD0-735FFD6E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419F3-CE17-4789-8EB8-16070BC9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0FE55-269C-440A-89C5-B0AF54D0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58110-9E83-4E20-876B-829A1112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8826C-E50A-4441-8618-8BC95749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7F370-5039-40DC-873F-488DCAB3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AE969-0AE1-476A-A9BB-92A8E141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9D5F4-F6FB-4EE2-B345-DD2F7F15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95857-5886-479C-BDB9-50AD3466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A9B3E-5B1C-466F-B63A-CBC3088F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C77-1DB1-47C4-85D4-F47A4391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12302-77DF-4FC3-A445-04C9100B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9CCD1-AA98-489E-9D5E-84F35E86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EAFC1-FAEA-4642-9F6C-28B3370F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D8B2B-E80E-4A7C-BB3F-4631E37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22286-565F-484E-BF95-22CEBD07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C02E1-0B2C-4498-A1A4-5A19BC4A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578A3-66BB-4239-A358-B4F8ED9D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8DEF8-5290-4760-B3FA-2A45D188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ED5EA-DBD2-42EA-94B4-E8E0FC0C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C25A4-A6C3-425B-8612-3F2FA24A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45C7-D0F7-47E8-9259-04117E5D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F7AC2-BB11-4B48-A541-1D241329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40AB8-7E3C-4609-91D5-19EE21D0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05340-C143-49C9-BF18-710FF9A4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EBE35-61F0-4741-8F1B-A0A32728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9D6DF-807A-4E91-8048-88CCBA78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CB003-BC6D-4929-A234-2E1C0076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4204D-3695-410A-90E9-CA126406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3C364-6EDD-453F-A0EB-AD9B3939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45317-9BDD-4F18-90A1-D859425D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A9DFD-0F96-44B0-B4D9-225090D7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A4BC-2B4B-47F4-89D2-4AC088F3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5B1E1-7E72-43E4-8FDD-C3EDB514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8450B-5F9F-4A85-9398-5CB640E4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30960-1405-42F8-85C0-2265C10A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502F4-A03D-449A-8410-6CC46335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9807F-6AE4-49D4-B73D-67309FC6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91B55-951B-465E-8ED6-A3A3FD7C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17983-3D14-4151-B54A-D76BDFD2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EF4CC-108B-484D-BD2F-CD5A45F4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6C365-B1E0-4451-9889-3805C944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6967A-7DF7-4469-8A5D-4EF5C06B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4000-7854-4F86-8372-B59F3D1A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FF430-7294-41D9-AEAA-8A84096D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EDED5-987C-4393-A5CC-C19C421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8855A-AC5F-4DF2-B207-63F505A8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9D8F7-B396-4646-8C6F-EAFA5512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3E458-4487-4311-89A6-2DF1758E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E90F6-046E-45CB-BE5A-5BB126C0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A8681-8DDA-4242-A7DA-3153AB42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E309-6B8F-4046-BCB9-50A2CB90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53BF-569D-4501-B50B-57A3F429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FDB0-EB6D-4584-835C-18F66BAC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09B8-60FB-4AD9-A2A2-A8CEE5AD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D25-9605-4B33-95C1-4133B713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F128-60D2-4C8B-AB26-AAE88908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685E-3745-4C6A-BF44-3633D276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673E-1263-492C-85F2-D567B71D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99C3-231D-4A32-8A99-B3C196F4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6B0D-31E3-4794-9B5B-7F5BC3E1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035F-2ABB-43C5-9F99-37512162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AF2B7-6ABE-4A59-9A84-C4EBCAF7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C0C78-5C2B-481B-8D6D-33A6C73A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A292D-4F24-4097-B64B-20EFA16C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907A-6455-41BE-A12E-2857BD99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563-A7DA-4E5D-86C9-5F8850B1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423A-4063-47D8-8BC0-B1DD456D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A2688-F03C-4850-BB51-C5DBFDD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18DB-435D-4C14-A506-0EE5C1B9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B1F3-C91E-4C48-9F1C-5D5A20C1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4667-3642-430F-BE40-8F2791F3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8A299-F9E8-4F8A-A62D-D1F68791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EAE7-38C9-4F03-802A-FF168FC6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5914-14E9-4F97-8B03-03E24B72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E4F99-31B9-42D7-98AB-36215270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B8C6-D4E5-4DB4-B627-C8963DA9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848-F09F-46D4-B504-7B8FB4D4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B940B-7D0D-438B-B849-B2F44E97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0A4C4-1405-4F97-B40F-4248F53B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0195-C4B9-42C2-8CB9-5F5605C6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FD851-B9C6-4C0D-A5C9-0F0CFE0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9477C-C420-4B6E-80D2-53F4773E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142E5-601D-4426-AA88-B4895C30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5A397-0C0A-4DB0-AA93-1A73FEF3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1C913-7A65-4D8F-8A50-35EB3405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C7D2-F5AC-4FF3-A942-2DFBA651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27DC0-6EA8-4539-B5F8-410766D3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34A-CA05-4533-94EC-1C80B328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CE31-4361-4DEC-8CE7-AC5A681C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AF94D-35F7-4A64-9302-5FA93671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BF27-4934-4536-BC64-963F59E1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B5405-0B06-47AD-AE1F-E6FE6636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9128B-C1B0-4ED3-9CBB-7BE3ECD1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A017-753C-45AC-AA4B-2763D4A1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E155C-220F-4488-9C5C-414F8F1D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DFADE-C888-4EBD-AB43-5B34124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3FD27-1138-49CD-B461-5EEBDB3D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C2A0F-31DB-4838-BA0C-5902D8DD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6F9-6E7C-4C6A-AD3E-63AD95CC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6879E-BE5E-4F59-BC90-53B1787E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FF709-4A2E-4526-8949-178D0768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293E3-F2B3-461F-9E22-C9946A0F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6467B-F3BD-4B58-A9BA-7507EB26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D7F4-AF41-4C48-8551-42FBBB49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BB3CB-1C33-42A2-A441-AEF3C05F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09A8-ACBD-44BE-A782-3231FFDE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E0EE9-611F-4B77-91A2-B33CFBE1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80FC1-DEE8-4788-A42E-3DFFBC53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D28AA-35D3-4BB7-A3F5-17602B05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DEE-BEBE-4F60-A2BC-0ECC1135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EC7E-DE24-4790-89A8-DEC0AD3C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F59D5-01A8-427E-A996-7B7AD232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DDC5-24BA-45FD-89B9-E8F52DC0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F540-9E82-4579-8F91-BCBCC05F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E984F-51C4-455C-A834-1EF4EF15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E8FF1-B27F-46D7-8E15-77FEDCBC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99DFA-150B-4182-8AB7-002BCC37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BB4DF-5526-4363-814A-25BA68F8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993E7-CE04-4D1E-830E-5DF34C13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10DDA-F957-4A56-882C-E1E0E6E5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53C-5392-4E10-A9F6-8816643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AA765-8539-4B8D-BB4B-426C91D3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667F4-563D-4259-9B77-9AD24BC3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4CA0E-1A25-40F3-B26E-A2B068AE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9B954-8847-4C16-A700-2B09DBED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084F7-1064-4BFF-AEFD-36FABDDB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74E37-F47D-4B47-82BA-947506D9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E7DCF-4C53-4A3F-B273-2DDB315C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46ADE-0379-43B4-9572-91252249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C364D-5ECD-409C-83EC-2F34F676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F8651-41DB-4028-98D5-69B7310A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CDE-667B-449C-A056-27F1C713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B4DB4-9E4B-4561-831E-B4E99448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0985E-F477-4EAB-A37C-69FC3FF6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F7109-1A21-400B-95A7-9B202918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D8A50-817D-4341-A98A-4AB263C7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17D0C-6842-4748-9B16-726DA808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955C2-DBAE-418F-8391-F7C6256D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F44F6-130C-428D-970E-A84408E1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D952A-AE64-43A7-85A9-408CF947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F0966-A0C1-45AD-BCC3-D0333705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1F0A9-678C-4FB5-AFB1-B49D69ED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EA0C-FA19-412C-A44B-CE97F263D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72E9-7F6F-47C0-ADE6-E7F72CDB1B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E321-4611-476D-A337-C9A09219E2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50F3-DEA2-45D6-9B29-F534B77193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D863-B270-4691-83AB-5DF5B9FCA6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AFEB-AF9E-4141-95C6-1AAD086E68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5118-A7AE-4802-A925-B455805C57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A687-293D-423B-9F01-17C2AA8EB2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D3BD-17B3-48D8-A565-42684722FB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BD75-30D3-4EC4-89BA-B20893014D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1F77-CAEB-4156-A748-DF06F63D5A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DDBF-7DF2-45D5-A961-ADD3CBE1D3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4182-9BEF-41D8-A485-6EE744CEB7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aike.baidu.com/view/8461.htm" TargetMode="External"/><Relationship Id="rId2" Type="http://schemas.openxmlformats.org/officeDocument/2006/relationships/hyperlink" Target="http://baike.baidu.com/view/2161.htm" TargetMode="External"/><Relationship Id="rId3" Type="http://schemas.openxmlformats.org/officeDocument/2006/relationships/hyperlink" Target="http://baike.baidu.com/view/53648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aike.baidu.com/view/6510.htm" TargetMode="External"/><Relationship Id="rId2" Type="http://schemas.openxmlformats.org/officeDocument/2006/relationships/hyperlink" Target="http://baike.baidu.com/view/5902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别董大2">
            <a:hlinkClick r:id="rId1" action="ppaction://hlinksldjump"/>
          </p:cNvPr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1" name="矩形 1"/>
          <p:cNvSpPr/>
          <p:nvPr/>
        </p:nvSpPr>
        <p:spPr>
          <a:xfrm>
            <a:off x="3058200" y="765000"/>
            <a:ext cx="37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送元二使安西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photo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8001000" y="34290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6389280" y="304920"/>
            <a:ext cx="275472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渭城朝雨浥轻尘，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客舍青青柳色新。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0043181657270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7910640" y="762120"/>
            <a:ext cx="5475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8596440" y="0"/>
            <a:ext cx="547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4572000" y="476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渭城朝雨浥轻尘，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客舍青青柳色新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5405040" y="2100240"/>
            <a:ext cx="286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　渭城清晨一场如酥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小雨，湿润了路上的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埃，旅店旁的棵棵绿柳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被雨水冲洗得翠色欲滴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4592880" y="4653000"/>
            <a:ext cx="452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这句诗点明了送别的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和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450072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地点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867280" y="5157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7199280" y="51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环境气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4"/>
          <p:cNvSpPr/>
          <p:nvPr/>
        </p:nvSpPr>
        <p:spPr>
          <a:xfrm>
            <a:off x="0" y="380880"/>
            <a:ext cx="9220320" cy="764280"/>
          </a:xfrm>
          <a:prstGeom prst="rect">
            <a:avLst/>
          </a:prstGeom>
          <a:noFill/>
          <a:ln w="9360">
            <a:solidFill>
              <a:srgbClr val="00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劝君更尽一杯酒，西出阳关无故人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892440" y="144684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君：指元二。</a:t>
            </a: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1887120" y="3656160"/>
            <a:ext cx="4874760" cy="2104920"/>
          </a:xfrm>
          <a:prstGeom prst="rect">
            <a:avLst/>
          </a:prstGeom>
          <a:noFill/>
          <a:ln cap="rnd" w="9360">
            <a:solidFill>
              <a:srgbClr val="0033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请你再饮一杯离别的酒吧！因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你西出阳关之后，在那里就见不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到老朋友了。</a:t>
            </a:r>
            <a:r>
              <a:rPr b="1" lang="zh-CN" sz="1800" spc="-1" strike="noStrike">
                <a:solidFill>
                  <a:srgbClr val="8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22860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更：再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505320" y="1447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故人：老朋友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6095880" y="1447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更尽：再饮完 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457200" y="2209680"/>
            <a:ext cx="6858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阳关：汉朝设置的边关名，故址在今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1"/>
              </a:rPr>
              <a:t>甘肃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省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2"/>
              </a:rPr>
              <a:t>敦煌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县西南，古代跟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3"/>
              </a:rPr>
              <a:t>玉门关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同是出塞必经的关口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元和郡县志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云，因在玉门之南，故称阳关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"/>
          <p:cNvSpPr/>
          <p:nvPr/>
        </p:nvSpPr>
        <p:spPr>
          <a:xfrm>
            <a:off x="34920" y="1700280"/>
            <a:ext cx="906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清晨的细雨打湿了渭城的浮尘；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青砖绿瓦的旅店和周围的柳树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都显得格外清新明朗。请你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饮一杯离别的酒吧；因为你西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出阳关之后，在那里就见不到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老朋友了。</a:t>
            </a:r>
            <a:r>
              <a:rPr b="1" lang="zh-CN" sz="4800" spc="-1" strike="noStrike">
                <a:solidFill>
                  <a:srgbClr val="808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uploadfile19594"/>
          <p:cNvPicPr/>
          <p:nvPr/>
        </p:nvPicPr>
        <p:blipFill>
          <a:blip r:embed="rId1"/>
          <a:stretch/>
        </p:blipFill>
        <p:spPr>
          <a:xfrm>
            <a:off x="0" y="-630360"/>
            <a:ext cx="9144000" cy="74883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219600" y="4245120"/>
            <a:ext cx="20235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cc"/>
                </a:solidFill>
                <a:latin typeface="Times New Roman"/>
              </a:rPr>
              <a:t>劝君更进一杯酒，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cc"/>
                </a:solidFill>
                <a:latin typeface="Times New Roman"/>
              </a:rPr>
              <a:t>西出阳关无故人。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5" descr="别董大2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6"/>
          <p:cNvSpPr/>
          <p:nvPr/>
        </p:nvSpPr>
        <p:spPr>
          <a:xfrm>
            <a:off x="5364000" y="620640"/>
            <a:ext cx="344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劝君更进一杯酒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西出阳关无故人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823360" y="1989000"/>
            <a:ext cx="252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朋友，请再喝尽这杯醇香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的美酒吧，等你西行出了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阳关之后，就再也没有一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个交情深厚的老友了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5619960" y="4057560"/>
            <a:ext cx="2930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这两行诗由写景转入送别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更”字表明酒已劝了多次、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敬了多杯，这依依惜别之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情虽只字未提，但都见于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言表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送元二使安西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是关于友情的一首诗，你还知道哪些关于友情的诗句呢？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20050612181246202"/>
          <p:cNvPicPr/>
          <p:nvPr/>
        </p:nvPicPr>
        <p:blipFill>
          <a:blip r:embed="rId1"/>
          <a:stretch/>
        </p:blipFill>
        <p:spPr>
          <a:xfrm>
            <a:off x="-250920" y="0"/>
            <a:ext cx="708516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6788520" y="189000"/>
            <a:ext cx="28015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            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远芳侵古道，晴翠接荒城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又送王孙去，萋萋满别情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赋得古原草送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唐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白居易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622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5"/>
          <p:cNvSpPr/>
          <p:nvPr/>
        </p:nvSpPr>
        <p:spPr>
          <a:xfrm>
            <a:off x="1371600" y="6669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6344280" y="914400"/>
            <a:ext cx="29235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天涯若比邻。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海内存知己，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4716360" y="60357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送杜少府之任蜀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王勃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07"/>
          <p:cNvPicPr/>
          <p:nvPr/>
        </p:nvPicPr>
        <p:blipFill>
          <a:blip r:embed="rId1"/>
          <a:stretch/>
        </p:blipFill>
        <p:spPr>
          <a:xfrm>
            <a:off x="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2103480" y="293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-647640" y="404280"/>
            <a:ext cx="8099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黄鹤楼送孟浩然之广陵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Times New Roman"/>
              </a:rPr>
              <a:t>                               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</a:rPr>
              <a:t>李白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故 人 西 辞 黄 鹤 楼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烟 花 三 月 下 扬 州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孤 帆 远  影 碧 空 尽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唯 见 长 江 天 际 流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>
            <a:off x="7696080" y="16002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066680" y="6858000"/>
            <a:ext cx="6782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  <a:ea typeface="楷体_GB2312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5972760" y="457200"/>
            <a:ext cx="33998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浮云游子意，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          </a:t>
            </a: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落日故人情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别董大2"/>
          <p:cNvPicPr/>
          <p:nvPr/>
        </p:nvPicPr>
        <p:blipFill>
          <a:blip r:embed="rId1"/>
          <a:stretch/>
        </p:blipFill>
        <p:spPr>
          <a:xfrm>
            <a:off x="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3"/>
          <p:cNvSpPr/>
          <p:nvPr/>
        </p:nvSpPr>
        <p:spPr>
          <a:xfrm>
            <a:off x="914400" y="601992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3" name="Text Box 4"/>
          <p:cNvSpPr/>
          <p:nvPr/>
        </p:nvSpPr>
        <p:spPr>
          <a:xfrm flipH="1">
            <a:off x="6948000" y="0"/>
            <a:ext cx="3414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莫愁前路无知己，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天下谁人不识君。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9" descr="sh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10"/>
          <p:cNvSpPr/>
          <p:nvPr/>
        </p:nvSpPr>
        <p:spPr>
          <a:xfrm>
            <a:off x="304920" y="152280"/>
            <a:ext cx="8305560" cy="6400800"/>
          </a:xfrm>
          <a:prstGeom prst="rect">
            <a:avLst/>
          </a:prstGeom>
          <a:blipFill rotWithShape="0">
            <a:blip r:embed="rId2">
              <a:alphaModFix amt="17000"/>
            </a:blip>
            <a:srcRect/>
            <a:tile tx="0" ty="0" sx="100000" sy="100000" algn="ctr"/>
          </a:blip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62240" y="960480"/>
            <a:ext cx="2619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黄鹤楼送孟浩然之广陵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李白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故人西辞黄鹤楼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烟花三月下扬州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孤帆远影碧空尽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唯见长江天际流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6537240" y="223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5393880" y="965160"/>
            <a:ext cx="24724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送元二使安西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王维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渭城朝雨浥轻尘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客舍青青柳色新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劝君更尽一杯酒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西出阳关无故人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79400" y="59785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10"/>
          <p:cNvSpPr/>
          <p:nvPr/>
        </p:nvSpPr>
        <p:spPr>
          <a:xfrm>
            <a:off x="5435640" y="1052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47" name="Picture 1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5" descr="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6"/>
          <p:cNvSpPr/>
          <p:nvPr/>
        </p:nvSpPr>
        <p:spPr>
          <a:xfrm>
            <a:off x="214200" y="150012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帆影已经消失了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············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14200" y="2000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诗人还在翘首相望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285840" y="27147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似乎要把自己对朋友的深深思念之情托付江水，陪伴行舟，将友人送到目的地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285840" y="414324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此时此刻，李白在想什么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？？？？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5" name="Text Box 4">
            <a:hlinkClick r:id="rId1" action="ppaction://hlinksldjump"/>
          </p:cNvPr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1f7e9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56" name="Picture 5" descr="200442192926275"/>
          <p:cNvPicPr/>
          <p:nvPr/>
        </p:nvPicPr>
        <p:blipFill>
          <a:blip r:embed="rId2"/>
          <a:stretch/>
        </p:blipFill>
        <p:spPr>
          <a:xfrm>
            <a:off x="1143000" y="990720"/>
            <a:ext cx="7238880" cy="4876560"/>
          </a:xfrm>
          <a:prstGeom prst="rect">
            <a:avLst/>
          </a:prstGeom>
          <a:ln w="0">
            <a:noFill/>
          </a:ln>
        </p:spPr>
      </p:pic>
      <p:sp>
        <p:nvSpPr>
          <p:cNvPr id="557" name="Freeform 6"/>
          <p:cNvSpPr/>
          <p:nvPr/>
        </p:nvSpPr>
        <p:spPr>
          <a:xfrm>
            <a:off x="2209680" y="2133720"/>
            <a:ext cx="3108600" cy="1027080"/>
          </a:xfrm>
          <a:custGeom>
            <a:avLst/>
            <a:gdLst/>
            <a:ahLst/>
            <a:rect l="l" t="t" r="r" b="b"/>
            <a:pathLst>
              <a:path w="1958" h="647">
                <a:moveTo>
                  <a:pt x="1958" y="647"/>
                </a:moveTo>
                <a:lnTo>
                  <a:pt x="1852" y="603"/>
                </a:lnTo>
                <a:lnTo>
                  <a:pt x="1781" y="594"/>
                </a:lnTo>
                <a:lnTo>
                  <a:pt x="1666" y="585"/>
                </a:lnTo>
                <a:lnTo>
                  <a:pt x="1579" y="539"/>
                </a:lnTo>
                <a:lnTo>
                  <a:pt x="1488" y="494"/>
                </a:lnTo>
                <a:lnTo>
                  <a:pt x="1391" y="408"/>
                </a:lnTo>
                <a:lnTo>
                  <a:pt x="1311" y="346"/>
                </a:lnTo>
                <a:lnTo>
                  <a:pt x="1222" y="310"/>
                </a:lnTo>
                <a:lnTo>
                  <a:pt x="1081" y="310"/>
                </a:lnTo>
                <a:lnTo>
                  <a:pt x="974" y="319"/>
                </a:lnTo>
                <a:lnTo>
                  <a:pt x="886" y="301"/>
                </a:lnTo>
                <a:lnTo>
                  <a:pt x="833" y="186"/>
                </a:lnTo>
                <a:lnTo>
                  <a:pt x="717" y="80"/>
                </a:lnTo>
                <a:lnTo>
                  <a:pt x="619" y="110"/>
                </a:lnTo>
                <a:lnTo>
                  <a:pt x="540" y="124"/>
                </a:lnTo>
                <a:lnTo>
                  <a:pt x="469" y="98"/>
                </a:lnTo>
                <a:lnTo>
                  <a:pt x="354" y="62"/>
                </a:lnTo>
                <a:lnTo>
                  <a:pt x="265" y="36"/>
                </a:lnTo>
                <a:lnTo>
                  <a:pt x="177" y="18"/>
                </a:lnTo>
                <a:lnTo>
                  <a:pt x="106" y="0"/>
                </a:lnTo>
                <a:lnTo>
                  <a:pt x="35" y="27"/>
                </a:lnTo>
                <a:lnTo>
                  <a:pt x="0" y="53"/>
                </a:lnTo>
              </a:path>
            </a:pathLst>
          </a:custGeom>
          <a:noFill/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5410080" y="2971800"/>
            <a:ext cx="304920" cy="152280"/>
          </a:xfrm>
          <a:prstGeom prst="rect">
            <a:avLst/>
          </a:prstGeom>
          <a:solidFill>
            <a:srgbClr val="f1f7e9">
              <a:alpha val="50000"/>
            </a:srgbClr>
          </a:solidFill>
          <a:ln w="9360">
            <a:solidFill>
              <a:srgbClr val="f1f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渭城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4218120" y="2971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阳关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0" name="Oval 9"/>
          <p:cNvSpPr/>
          <p:nvPr/>
        </p:nvSpPr>
        <p:spPr>
          <a:xfrm>
            <a:off x="5410080" y="3200400"/>
            <a:ext cx="76320" cy="763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1" name="Oval 10"/>
          <p:cNvSpPr/>
          <p:nvPr/>
        </p:nvSpPr>
        <p:spPr>
          <a:xfrm>
            <a:off x="4572000" y="2895480"/>
            <a:ext cx="76320" cy="763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2" name="Oval 11"/>
          <p:cNvSpPr/>
          <p:nvPr/>
        </p:nvSpPr>
        <p:spPr>
          <a:xfrm>
            <a:off x="2133720" y="2209680"/>
            <a:ext cx="75960" cy="763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3" name="Rectangle 12">
            <a:hlinkClick r:id="rId3" action="ppaction://hlinksldjump"/>
          </p:cNvPr>
          <p:cNvSpPr/>
          <p:nvPr/>
        </p:nvSpPr>
        <p:spPr>
          <a:xfrm>
            <a:off x="1933560" y="2286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安西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4" name="Freeform 13"/>
          <p:cNvSpPr/>
          <p:nvPr/>
        </p:nvSpPr>
        <p:spPr>
          <a:xfrm>
            <a:off x="5326200" y="3149640"/>
            <a:ext cx="83880" cy="52200"/>
          </a:xfrm>
          <a:custGeom>
            <a:avLst/>
            <a:gdLst/>
            <a:ahLst/>
            <a:rect l="l" t="t" r="r" b="b"/>
            <a:pathLst>
              <a:path w="53" h="33">
                <a:moveTo>
                  <a:pt x="0" y="0"/>
                </a:moveTo>
                <a:lnTo>
                  <a:pt x="53" y="33"/>
                </a:lnTo>
              </a:path>
            </a:pathLst>
          </a:custGeom>
          <a:noFill/>
          <a:ln w="57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2666880" y="380880"/>
            <a:ext cx="6096240" cy="617220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3345480" y="914400"/>
            <a:ext cx="455436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［王维简介］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701--76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），字摩诘，唐朝著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名诗人，世称“王右丞” ，和孟浩然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并称“王孟”。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品特点：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诗中有画，画中有诗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代表作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《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送元二使安西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鸟鸣涧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相思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九月九日忆山东兄弟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3733920" y="380880"/>
            <a:ext cx="350496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送元二使安西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唐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王维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渭城朝雨浥轻尘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客舍青青柳色新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劝君更尽一杯酒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西出阳关无故人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4390200" y="4419720"/>
            <a:ext cx="5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注释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①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使：出使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②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浥：湿润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③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更尽：再饮完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3303720" y="186948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sh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宿舍 ） 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shě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依依不舍）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jūn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君子）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2192760" y="18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舍</a:t>
            </a:r>
            <a:endParaRPr b="0" lang="en-US" sz="7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2268720" y="4464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君</a:t>
            </a:r>
            <a:endParaRPr b="0" lang="en-US" sz="7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6"/>
          <p:cNvSpPr/>
          <p:nvPr/>
        </p:nvSpPr>
        <p:spPr>
          <a:xfrm>
            <a:off x="1295280" y="1371600"/>
            <a:ext cx="49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0" y="384480"/>
            <a:ext cx="9220320" cy="764280"/>
          </a:xfrm>
          <a:prstGeom prst="rect">
            <a:avLst/>
          </a:prstGeom>
          <a:noFill/>
          <a:ln w="9360">
            <a:solidFill>
              <a:srgbClr val="003300"/>
            </a:solidFill>
            <a:prstDash val="dash"/>
            <a:miter/>
          </a:ln>
          <a:effectLst>
            <a:outerShdw dist="17819" dir="2700000" blurRad="0" rotWithShape="0">
              <a:srgbClr val="366b1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渭城朝雨浥轻尘，客舍青青柳色新。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1769400" y="1344960"/>
            <a:ext cx="548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渭城：秦置咸阳县，汉代改称渭城县，唐时属京兆府咸阳县辖区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在今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1"/>
              </a:rPr>
              <a:t>陕西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2"/>
              </a:rPr>
              <a:t>咸阳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市东北，渭水北岸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552600" y="251352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浥：（</a:t>
            </a:r>
            <a:r>
              <a:rPr b="0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y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ì</a:t>
            </a: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）：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湿润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2895480" y="2514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客舍：旅店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6843960" y="25135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柳色：即指初春嫩柳的颜色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9" name="Rectangle 14"/>
          <p:cNvSpPr/>
          <p:nvPr/>
        </p:nvSpPr>
        <p:spPr>
          <a:xfrm>
            <a:off x="1963080" y="3503520"/>
            <a:ext cx="4874760" cy="2104920"/>
          </a:xfrm>
          <a:prstGeom prst="rect">
            <a:avLst/>
          </a:prstGeom>
          <a:noFill/>
          <a:ln cap="rnd" w="9360">
            <a:solidFill>
              <a:srgbClr val="0033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清晨的细雨打湿了渭城的浮尘；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青砖绿瓦的旅店和周围的柳树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都显得格外清新明朗。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90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解答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前两句写离别时的景色，地点是（      ），季节是（     ），从哪里可以看出？“柳”与“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(       )”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谐音，暗含（        ）之意，你感觉这景色如何？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6631920" y="1981080"/>
            <a:ext cx="91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城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渭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1403280" y="2349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春季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8073720" y="2514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留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3492000" y="29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送别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8:36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0:49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