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1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10.wmf" ContentType="image/x-wmf"/>
  <Override PartName="/ppt/media/image31.jpeg" ContentType="image/jpeg"/>
  <Override PartName="/ppt/media/image2.png" ContentType="image/png"/>
  <Override PartName="/ppt/media/image8.wmf" ContentType="image/x-wmf"/>
  <Override PartName="/ppt/media/image33.wmf" ContentType="image/x-wmf"/>
  <Override PartName="/ppt/media/image29.wmf" ContentType="image/x-wmf"/>
  <Override PartName="/ppt/media/image30.wmf" ContentType="image/x-wmf"/>
  <Override PartName="/ppt/media/image6.jpeg" ContentType="image/jpeg"/>
  <Override PartName="/ppt/media/image32.jpeg" ContentType="image/jpeg"/>
  <Override PartName="/ppt/media/image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CAMERA.WAV" ContentType="audio/x-wav"/>
  <Override PartName="/ppt/media/image24.wmf" ContentType="image/x-wmf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26.wmf" ContentType="image/x-wmf"/>
  <Override PartName="/ppt/media/image16.jpeg" ContentType="image/jpeg"/>
  <Override PartName="/ppt/media/image17.wmf" ContentType="image/x-wmf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6AF2E-2AAD-4D04-8B81-2B03EEA79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C05C-BE54-470B-837A-7E31EDA15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B9B1-D919-47FD-9F9B-AA969F132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0972-2574-4D09-805A-A9407A2B39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5CC6-EAA9-4F82-900D-BEDE4B4A50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70A9-9AD7-43F9-9C14-DF63E198D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6B57-D6C8-4846-8755-963A9148D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ED46-8E37-4593-9DF9-E5CE8868D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2D35-1FEC-40A6-8B37-35AFC3852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E7D0-E049-4311-813D-7A666E113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9FA4-5CA3-44ED-9C06-96E815502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BF23-97DD-4D63-878E-4B2984D95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0" y="448308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 flipV="1">
            <a:off x="152280" y="0"/>
            <a:ext cx="0" cy="6858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未知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6" descr="Untitled"/>
          <p:cNvPicPr/>
          <p:nvPr/>
        </p:nvPicPr>
        <p:blipFill>
          <a:blip r:embed="rId2"/>
          <a:stretch/>
        </p:blipFill>
        <p:spPr>
          <a:xfrm>
            <a:off x="6629400" y="6562800"/>
            <a:ext cx="2057400" cy="2952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5" name="未知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未知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未知"/>
          <p:cNvSpPr/>
          <p:nvPr/>
        </p:nvSpPr>
        <p:spPr>
          <a:xfrm>
            <a:off x="0" y="-17640"/>
            <a:ext cx="9144000" cy="167976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未知"/>
          <p:cNvSpPr/>
          <p:nvPr/>
        </p:nvSpPr>
        <p:spPr>
          <a:xfrm>
            <a:off x="0" y="-17640"/>
            <a:ext cx="8388360" cy="106524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未知"/>
          <p:cNvSpPr/>
          <p:nvPr/>
        </p:nvSpPr>
        <p:spPr>
          <a:xfrm>
            <a:off x="0" y="-17640"/>
            <a:ext cx="4578480" cy="45108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cc66"/>
                </a:solidFill>
                <a:uFillTx/>
                <a:latin typeface="Times New Roman"/>
              </a:rPr>
              <a:t>Click to edit the title text format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Line 14"/>
          <p:cNvSpPr/>
          <p:nvPr/>
        </p:nvSpPr>
        <p:spPr>
          <a:xfrm>
            <a:off x="2514600" y="6553080"/>
            <a:ext cx="6629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Line 15"/>
          <p:cNvSpPr/>
          <p:nvPr/>
        </p:nvSpPr>
        <p:spPr>
          <a:xfrm flipH="1">
            <a:off x="0" y="6553080"/>
            <a:ext cx="1295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>
            <a:hlinkClick r:id="" action="ppaction://hlinkshowjump?jump=previousslide"/>
          </p:cNvPr>
          <p:cNvSpPr/>
          <p:nvPr/>
        </p:nvSpPr>
        <p:spPr>
          <a:xfrm>
            <a:off x="990720" y="6477120"/>
            <a:ext cx="533160" cy="228600"/>
          </a:xfrm>
          <a:custGeom>
            <a:avLst/>
            <a:gdLst>
              <a:gd name="textAreaLeft" fmla="*/ 14040 w 533160"/>
              <a:gd name="textAreaRight" fmla="*/ 519120 w 5331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82" y="1350"/>
                </a:lnTo>
                <a:lnTo>
                  <a:pt x="1350" y="135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82" y="20250"/>
                </a:lnTo>
                <a:lnTo>
                  <a:pt x="48982" y="135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8982" y="2025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0332" h="21600">
                <a:moveTo>
                  <a:pt x="18122" y="10800"/>
                </a:moveTo>
                <a:lnTo>
                  <a:pt x="32210" y="3756"/>
                </a:lnTo>
                <a:lnTo>
                  <a:pt x="32210" y="17844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AutoShape 17">
            <a:hlinkClick r:id="" action="ppaction://hlinkshowjump?jump=nextslide"/>
          </p:cNvPr>
          <p:cNvSpPr/>
          <p:nvPr/>
        </p:nvSpPr>
        <p:spPr>
          <a:xfrm>
            <a:off x="1523880" y="6477120"/>
            <a:ext cx="533520" cy="228600"/>
          </a:xfrm>
          <a:custGeom>
            <a:avLst/>
            <a:gdLst>
              <a:gd name="textAreaLeft" fmla="*/ 14040 w 533520"/>
              <a:gd name="textAreaRight" fmla="*/ 519480 w 53352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9016" y="1350"/>
                </a:lnTo>
                <a:lnTo>
                  <a:pt x="1350" y="135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9016" y="20250"/>
                </a:lnTo>
                <a:lnTo>
                  <a:pt x="49016" y="135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9016" y="2025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0366" h="21600">
                <a:moveTo>
                  <a:pt x="18139" y="3756"/>
                </a:moveTo>
                <a:lnTo>
                  <a:pt x="32227" y="10800"/>
                </a:lnTo>
                <a:lnTo>
                  <a:pt x="18139" y="17844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AutoShape 18"/>
          <p:cNvSpPr/>
          <p:nvPr/>
        </p:nvSpPr>
        <p:spPr>
          <a:xfrm>
            <a:off x="2057400" y="6477120"/>
            <a:ext cx="533520" cy="228600"/>
          </a:xfrm>
          <a:custGeom>
            <a:avLst/>
            <a:gdLst>
              <a:gd name="textAreaLeft" fmla="*/ 14040 w 533520"/>
              <a:gd name="textAreaRight" fmla="*/ 519480 w 53352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9016" y="1350"/>
                </a:lnTo>
                <a:lnTo>
                  <a:pt x="1350" y="135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9016" y="20250"/>
                </a:lnTo>
                <a:lnTo>
                  <a:pt x="49016" y="135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9016" y="2025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0366" h="21600">
                <a:moveTo>
                  <a:pt x="25183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50366" h="21600">
                <a:moveTo>
                  <a:pt x="26294" y="14300"/>
                </a:moveTo>
                <a:lnTo>
                  <a:pt x="26294" y="12331"/>
                </a:lnTo>
                <a:cubicBezTo>
                  <a:pt x="26294" y="11500"/>
                  <a:pt x="26627" y="10800"/>
                  <a:pt x="27231" y="10800"/>
                </a:cubicBezTo>
                <a:cubicBezTo>
                  <a:pt x="28368" y="10800"/>
                  <a:pt x="29269" y="9426"/>
                  <a:pt x="29269" y="7834"/>
                </a:cubicBezTo>
                <a:cubicBezTo>
                  <a:pt x="29269" y="5506"/>
                  <a:pt x="27406" y="3756"/>
                  <a:pt x="25183" y="3756"/>
                </a:cubicBezTo>
                <a:cubicBezTo>
                  <a:pt x="22961" y="3756"/>
                  <a:pt x="21281" y="5506"/>
                  <a:pt x="21281" y="7834"/>
                </a:cubicBezTo>
                <a:lnTo>
                  <a:pt x="23144" y="7834"/>
                </a:lnTo>
                <a:cubicBezTo>
                  <a:pt x="23144" y="6688"/>
                  <a:pt x="24072" y="5795"/>
                  <a:pt x="25183" y="5795"/>
                </a:cubicBezTo>
                <a:cubicBezTo>
                  <a:pt x="26294" y="5795"/>
                  <a:pt x="27231" y="6688"/>
                  <a:pt x="27231" y="7834"/>
                </a:cubicBezTo>
                <a:cubicBezTo>
                  <a:pt x="27231" y="8578"/>
                  <a:pt x="26758" y="9313"/>
                  <a:pt x="26294" y="9313"/>
                </a:cubicBezTo>
                <a:cubicBezTo>
                  <a:pt x="25183" y="9313"/>
                  <a:pt x="24072" y="10800"/>
                  <a:pt x="24072" y="12331"/>
                </a:cubicBezTo>
                <a:lnTo>
                  <a:pt x="24072" y="143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AutoShape 19">
            <a:hlinkClick r:id="" action="ppaction://hlinkshowjump?jump=endshow"/>
          </p:cNvPr>
          <p:cNvSpPr/>
          <p:nvPr/>
        </p:nvSpPr>
        <p:spPr>
          <a:xfrm>
            <a:off x="2590920" y="6477120"/>
            <a:ext cx="609480" cy="228600"/>
          </a:xfrm>
          <a:custGeom>
            <a:avLst/>
            <a:gdLst>
              <a:gd name="textAreaLeft" fmla="*/ 14040 w 609480"/>
              <a:gd name="textAreaRight" fmla="*/ 595440 w 60948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82" y="1350"/>
                </a:lnTo>
                <a:lnTo>
                  <a:pt x="1350" y="135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82" y="20250"/>
                </a:lnTo>
                <a:lnTo>
                  <a:pt x="56182" y="135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6182" y="2025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7532" h="21600">
                <a:moveTo>
                  <a:pt x="32284" y="10800"/>
                </a:moveTo>
                <a:lnTo>
                  <a:pt x="21722" y="17844"/>
                </a:lnTo>
                <a:lnTo>
                  <a:pt x="21722" y="3756"/>
                </a:lnTo>
                <a:close/>
              </a:path>
              <a:path fill="darken" w="57532" h="21600">
                <a:moveTo>
                  <a:pt x="34139" y="3756"/>
                </a:moveTo>
                <a:lnTo>
                  <a:pt x="34139" y="17844"/>
                </a:lnTo>
                <a:lnTo>
                  <a:pt x="35810" y="17844"/>
                </a:lnTo>
                <a:lnTo>
                  <a:pt x="35810" y="3756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Line 20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sldNum" idx="1"/>
          </p:nvPr>
        </p:nvSpPr>
        <p:spPr>
          <a:xfrm>
            <a:off x="868680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66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C953-8DAC-4BA1-85EB-724166521CF9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22"/>
          <p:cNvSpPr/>
          <p:nvPr/>
        </p:nvSpPr>
        <p:spPr>
          <a:xfrm>
            <a:off x="6791400" y="6638760"/>
            <a:ext cx="1866960" cy="1526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  <a:ea typeface="黑体"/>
              </a:rPr>
              <a:t>商务礼仪与职业形象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" name="Picture 23" descr="Untitled"/>
          <p:cNvPicPr/>
          <p:nvPr/>
        </p:nvPicPr>
        <p:blipFill>
          <a:blip r:embed="rId3"/>
          <a:stretch/>
        </p:blipFill>
        <p:spPr>
          <a:xfrm>
            <a:off x="6753240" y="6581880"/>
            <a:ext cx="182520" cy="10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31532;&#19968;&#31456; &#31036;&#20202;&#27010;&#36848;" TargetMode="External"/><Relationship Id="rId2" Type="http://schemas.openxmlformats.org/officeDocument/2006/relationships/hyperlink" Target="263,7,&#31532;&#20108;&#31456; &#35851;&#38754;&#31036;&#20202;" TargetMode="External"/><Relationship Id="rId3" Type="http://schemas.openxmlformats.org/officeDocument/2006/relationships/hyperlink" Target="298,26,&#31532;&#22235;&#31456; &#35848;&#35805;&#31036;&#20202;" TargetMode="External"/><Relationship Id="rId4" Type="http://schemas.openxmlformats.org/officeDocument/2006/relationships/hyperlink" Target="325,63,&#31532;&#20845;&#31456; &#26381;&#39280;&#20202;&#23481;&#31036;&#20202;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60,4,&#31036;&#20202;" TargetMode="External"/><Relationship Id="rId2" Type="http://schemas.openxmlformats.org/officeDocument/2006/relationships/hyperlink" Target="261,5,&#31036;&#20202;&#30340;&#37325;&#35201;&#24615;" TargetMode="External"/><Relationship Id="rId3" Type="http://schemas.openxmlformats.org/officeDocument/2006/relationships/hyperlink" Target="262,6,&#31036;&#20202;&#30340;&#32844;&#33021;" TargetMode="External"/><Relationship Id="rId4" Type="http://schemas.openxmlformats.org/officeDocument/2006/relationships/image" Target="../media/image8.wm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300,27,&#20132;&#35848;&#24577;&#21183;&#35821;" TargetMode="External"/><Relationship Id="rId2" Type="http://schemas.openxmlformats.org/officeDocument/2006/relationships/hyperlink" Target="256,28,&#31216;&#21628;" TargetMode="External"/><Relationship Id="rId3" Type="http://schemas.openxmlformats.org/officeDocument/2006/relationships/hyperlink" Target="418,29,&#27491;&#24335;&#22330;&#21512;" TargetMode="External"/><Relationship Id="rId4" Type="http://schemas.openxmlformats.org/officeDocument/2006/relationships/hyperlink" Target="256,30,&#38750;&#27491;&#24335;&#22330;&#21512;" TargetMode="External"/><Relationship Id="rId5" Type="http://schemas.openxmlformats.org/officeDocument/2006/relationships/hyperlink" Target="302,31,&#31216;&#21628;&#20013;&#19977;&#24524;" TargetMode="External"/><Relationship Id="rId6" Type="http://schemas.openxmlformats.org/officeDocument/2006/relationships/hyperlink" Target="256,32,&#22806;&#22269;&#20154;&#22995;&#21517;" TargetMode="External"/><Relationship Id="rId7" Type="http://schemas.openxmlformats.org/officeDocument/2006/relationships/hyperlink" Target="256,33,&#22806;&#22269;&#20154;&#31216;&#21628;" TargetMode="External"/><Relationship Id="rId8" Type="http://schemas.openxmlformats.org/officeDocument/2006/relationships/hyperlink" Target="305,35,&#35848;&#35805;&#20869;&#23481;" TargetMode="External"/><Relationship Id="rId9" Type="http://schemas.openxmlformats.org/officeDocument/2006/relationships/hyperlink" Target="306,37,&#24120;&#29992;&#30340;&#31036;&#35980;&#29992;&#35821;" TargetMode="External"/><Relationship Id="rId10" Type="http://schemas.openxmlformats.org/officeDocument/2006/relationships/hyperlink" Target="307,39,&#29992;&#35789;&#29992;&#35821;&#35201;&#25991;&#38597;" TargetMode="External"/><Relationship Id="rId11" Type="http://schemas.openxmlformats.org/officeDocument/2006/relationships/hyperlink" Target="308,41,&#35328;&#35789;&#30340;&#27807;&#36890;&#25216;&#24039;&#65288;&#35762;&#35805;&#25512;&#38144;&#31561;&#65289;" TargetMode="External"/><Relationship Id="rId12" Type="http://schemas.openxmlformats.org/officeDocument/2006/relationships/hyperlink" Target="309,43,&#20132;&#35848;&#20013;&#30340;&#33402;&#26415;" TargetMode="External"/><Relationship Id="rId13" Type="http://schemas.openxmlformats.org/officeDocument/2006/relationships/hyperlink" Target="256,45,&#38144;&#21806;&#12298;&#26032;&#22411;&#26432;&#34411;&#21058;&#12299;&#27807;&#36890;&#39034;&#24207;" TargetMode="External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327,64,TPO&#30528;&#35013;&#21407;&#21017;" TargetMode="External"/><Relationship Id="rId2" Type="http://schemas.openxmlformats.org/officeDocument/2006/relationships/hyperlink" Target="328,65,&#26381;&#39280;&#19977;&#32654;" TargetMode="External"/><Relationship Id="rId3" Type="http://schemas.openxmlformats.org/officeDocument/2006/relationships/hyperlink" Target="256,67,&#33394;&#24425;&#25645;&#37197;" TargetMode="External"/><Relationship Id="rId4" Type="http://schemas.openxmlformats.org/officeDocument/2006/relationships/hyperlink" Target="256,70,&#30007;&#22763;&#26381;&#39280;&#20202;&#23481;&#65288;&#19968;&#65289;" TargetMode="External"/><Relationship Id="rId5" Type="http://schemas.openxmlformats.org/officeDocument/2006/relationships/hyperlink" Target="256,77,&#22899;&#22763;&#26381;&#39280;&#20202;&#23481;&#65288;&#19968;&#65289;" TargetMode="External"/><Relationship Id="rId6" Type="http://schemas.openxmlformats.org/officeDocument/2006/relationships/image" Target="../media/image29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65,8,&#32422;&#20250;" TargetMode="External"/><Relationship Id="rId2" Type="http://schemas.openxmlformats.org/officeDocument/2006/relationships/hyperlink" Target="266,9,&#33268;&#24847;" TargetMode="External"/><Relationship Id="rId3" Type="http://schemas.openxmlformats.org/officeDocument/2006/relationships/hyperlink" Target="267,10,&#25569;&#25163;" TargetMode="External"/><Relationship Id="rId4" Type="http://schemas.openxmlformats.org/officeDocument/2006/relationships/hyperlink" Target="268,11,&#20171;&#32461;" TargetMode="External"/><Relationship Id="rId5" Type="http://schemas.openxmlformats.org/officeDocument/2006/relationships/hyperlink" Target="269,12,&#36882;&#25509;&#21517;&#29255;" TargetMode="External"/><Relationship Id="rId6" Type="http://schemas.openxmlformats.org/officeDocument/2006/relationships/hyperlink" Target="256,13,&#21517;&#29255;&#23427;&#29992;" TargetMode="External"/><Relationship Id="rId7" Type="http://schemas.openxmlformats.org/officeDocument/2006/relationships/image" Target="../media/image10.wm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audio" Target="../media/CAMERA.WAV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090C-9E2D-4E9B-9B03-B810B8E5EC72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br>
              <a:rPr sz="3600"/>
            </a:br>
            <a:endParaRPr b="1" lang="en-US" sz="36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pic>
        <p:nvPicPr>
          <p:cNvPr id="61" name="Picture 4" descr="ARROW"/>
          <p:cNvPicPr/>
          <p:nvPr/>
        </p:nvPicPr>
        <p:blipFill>
          <a:blip r:embed="rId2"/>
          <a:stretch/>
        </p:blipFill>
        <p:spPr>
          <a:xfrm>
            <a:off x="32004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Untitled"/>
          <p:cNvPicPr/>
          <p:nvPr/>
        </p:nvPicPr>
        <p:blipFill>
          <a:blip r:embed="rId3"/>
          <a:stretch/>
        </p:blipFill>
        <p:spPr>
          <a:xfrm>
            <a:off x="1447920" y="2084400"/>
            <a:ext cx="838080" cy="5065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193824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57080" y="117360"/>
            <a:ext cx="412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商业礼仪与形象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4BA1-F54D-4D55-A8D0-FE54A7756173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握手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握手——当今世界最通用的表示友好、祝贺、感谢、慰问的礼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站立对正，上身稍前，左手垂下，凝视对方，面带微笑，伸出右手，齐腰高度，四指并齐，握住掌心，认真一握，礼毕即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长者、职高者、主人、女士通常先伸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DCA8-DC99-48D8-8AF3-C7CD41FB6283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介绍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自我介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推销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自我形象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价值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重要方法，进入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社交圈的金钥匙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镇定有信心，微笑要自然，不同对象、场合，选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不同语气、方式、内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介绍他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以</a:t>
            </a: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中介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身份介绍原本陌生的人相识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受尊重的一方优先了解对方为原则。先少后老，先低后高，先宾后主，先男后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站在之间，以手示意，面向听者，微笑有礼，口龄伶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CD37-2A03-4299-ACE5-9BE3E97399E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递接名片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递送名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表示愿意交往，主动将自己的重要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信息告诉对方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存放得当，随手可取，站立对正，上身前倾，双握前端，字朝对方，齐胸送出，清楚报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接收名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感谢对方信任，象尊重其主人一样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尊重和爱惜名片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立即起立，面向对方，双接下端，齐胸高度，认真拜读，表示感谢，存放得当，珍惜爱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4D29-45DB-47B1-9F10-606A19B0532F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接待准备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876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环境准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空气、光线、温度、声音、色泽、设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876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备、布置、氛围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876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物质准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相应桌椅、备好茶饮、电话、衣帽架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876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资料贺、有关资料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876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心理准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有一颗诚心，体谅对方，热情有礼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876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蔼可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876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仪表准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发式、容貌、服饰、姿态、言谈、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876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止及卫生等外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8764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8764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E11B-510B-4B6A-B266-0DD76FD930C8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亲切迎客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亲切迎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放下工作，主动迎上，目光相 接，微笑问候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热情接待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四类访客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ff33"/>
                </a:solidFill>
                <a:latin typeface="Times New Roman"/>
              </a:rPr>
              <a:t>预约访客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——有所准备，记住姓名，让客户感 到来访被重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被期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ff33"/>
                </a:solidFill>
                <a:latin typeface="Times New Roman"/>
              </a:rPr>
              <a:t>未预约客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——热情友好，询问来意，依具体情况判断应对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ff33"/>
                </a:solidFill>
                <a:latin typeface="Times New Roman"/>
              </a:rPr>
              <a:t>拒绝访客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——热情坚定的回绝上司明确不接待 或无法接待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访客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ff33"/>
                </a:solidFill>
                <a:latin typeface="Times New Roman"/>
              </a:rPr>
              <a:t>来访团组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——充分准备，热情迎候，并根据拟订好的接待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案诸项落实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5189-D09C-4263-9365-6F36B38491B2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热忱待客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热忱待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作好引路、开关门、引见、 让座、上茶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挂衣帽、送书报 等工作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Times New Roman"/>
              </a:rPr>
              <a:t>引路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—在客左前方，转身照顾，热情介绍，适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当手势，提供服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Times New Roman"/>
              </a:rPr>
              <a:t>开关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五步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Times New Roman"/>
              </a:rPr>
              <a:t>引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—先由高至低介绍客方，再逐一介绍主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Times New Roman"/>
              </a:rPr>
              <a:t>让座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—引导入上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离门远的座位或同排右为上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Times New Roman"/>
              </a:rPr>
              <a:t>上茶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—有可能时征求意愿，手、茶具要清洁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尽量用托盘轻手轻脚送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7A1E-A275-42F2-B7E2-6420B713A0C9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开关门五步曲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66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敲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得到允诺才可开门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、开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知道应用哪只手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（门把对左手，用右手开；门把对右手，用左手开）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明确进门顺序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（外开门，客先入，内开门，已先入）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、挡门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（侧身用手或身挡门，留出入口）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、请进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（礼貌地用语言和手势同时示意请进）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、关门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（进毕再慢慢地关门）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175B-A4E7-458C-A2E3-F64DFE96146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会谈座位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l"/>
          <p:cNvPicPr/>
          <p:nvPr/>
        </p:nvPicPr>
        <p:blipFill>
          <a:blip r:embed="rId1"/>
          <a:stretch/>
        </p:blipFill>
        <p:spPr>
          <a:xfrm>
            <a:off x="2819520" y="1447920"/>
            <a:ext cx="5638680" cy="419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8665-3676-49D1-BC5B-CB733E34F647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谈判座位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i"/>
          <p:cNvPicPr/>
          <p:nvPr/>
        </p:nvPicPr>
        <p:blipFill>
          <a:blip r:embed="rId1"/>
          <a:stretch/>
        </p:blipFill>
        <p:spPr>
          <a:xfrm>
            <a:off x="3733920" y="914400"/>
            <a:ext cx="4425840" cy="5240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7AB8-9A1B-4569-90A9-13967848B289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轿车座位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j"/>
          <p:cNvPicPr/>
          <p:nvPr/>
        </p:nvPicPr>
        <p:blipFill>
          <a:blip r:embed="rId1"/>
          <a:stretch/>
        </p:blipFill>
        <p:spPr>
          <a:xfrm>
            <a:off x="2971800" y="1628640"/>
            <a:ext cx="5508720" cy="465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3C84-3323-4D84-AADD-3672CDCDF52F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目录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3366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 u="sng">
                <a:solidFill>
                  <a:srgbClr val="3366ff"/>
                </a:solidFill>
                <a:uFillTx/>
                <a:latin typeface="宋体"/>
                <a:ea typeface="黑体"/>
                <a:hlinkClick r:id="rId1"/>
              </a:rPr>
              <a:t>第一章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礼仪概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 u="sng">
                <a:solidFill>
                  <a:srgbClr val="3366ff"/>
                </a:solidFill>
                <a:uFillTx/>
                <a:latin typeface="宋体"/>
                <a:ea typeface="黑体"/>
                <a:hlinkClick r:id="rId2"/>
              </a:rPr>
              <a:t>第二章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形态礼仪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2400" spc="-1" strike="noStrike" u="sng">
                <a:solidFill>
                  <a:srgbClr val="3366ff"/>
                </a:solidFill>
                <a:uFillTx/>
                <a:latin typeface="宋体"/>
                <a:hlinkClick r:id="rId3"/>
              </a:rPr>
              <a:t>第三章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交谈礼仪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 u="sng">
                <a:solidFill>
                  <a:srgbClr val="3366ff"/>
                </a:solidFill>
                <a:uFillTx/>
                <a:latin typeface="宋体"/>
                <a:ea typeface="黑体"/>
                <a:hlinkClick r:id="rId4"/>
              </a:rPr>
              <a:t>第四章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服饰礼仪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3366ff"/>
                </a:solidFill>
                <a:latin typeface="宋体"/>
              </a:rPr>
              <a:t>第五章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人际关系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4876920" y="1371600"/>
            <a:ext cx="3848040" cy="4876920"/>
            <a:chOff x="4876920" y="1371600"/>
            <a:chExt cx="3848040" cy="4876920"/>
          </a:xfrm>
        </p:grpSpPr>
        <p:pic>
          <p:nvPicPr>
            <p:cNvPr id="70" name="Picture 5" descr="Untitled"/>
            <p:cNvPicPr/>
            <p:nvPr/>
          </p:nvPicPr>
          <p:blipFill>
            <a:blip r:embed="rId5"/>
            <a:stretch/>
          </p:blipFill>
          <p:spPr>
            <a:xfrm>
              <a:off x="5486400" y="1371600"/>
              <a:ext cx="1683000" cy="19810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1" name="Picture 6" descr="Untitled"/>
            <p:cNvPicPr/>
            <p:nvPr/>
          </p:nvPicPr>
          <p:blipFill>
            <a:blip r:embed="rId6"/>
            <a:stretch/>
          </p:blipFill>
          <p:spPr>
            <a:xfrm>
              <a:off x="6705720" y="3581280"/>
              <a:ext cx="2019240" cy="2438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2" name="Picture 7" descr="Untitled"/>
            <p:cNvPicPr/>
            <p:nvPr/>
          </p:nvPicPr>
          <p:blipFill>
            <a:blip r:embed="rId7"/>
            <a:stretch/>
          </p:blipFill>
          <p:spPr>
            <a:xfrm>
              <a:off x="4876920" y="4114800"/>
              <a:ext cx="1693800" cy="21337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</p:spTree>
  </p:cSld>
  <p:transition spd="med">
    <p:random/>
    <p:sndAc>
      <p:stSnd>
        <p:snd r:embed="rId8" name="CAMERA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86B7-05F2-47A8-BD1B-47A51565CB28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礼貌送客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礼貌送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客户表示告辞后，主方再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言语、行动送客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言语——热情的感谢语、告别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行动——周到的服务（取、穿衣帽，帮提重物等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礼貌身送（适情应对）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热情告别（握手、话语、挥手致意等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送客常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低层送到大门口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499"/>
              </a:spcBef>
              <a:buClr>
                <a:srgbClr val="ffff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高层送到电梯口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499"/>
              </a:spcBef>
              <a:buClr>
                <a:srgbClr val="ffff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有车送到车离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9228-B060-40C2-BA3D-2AE012E4C2EE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" descr="Untitled"/>
          <p:cNvPicPr/>
          <p:nvPr/>
        </p:nvPicPr>
        <p:blipFill>
          <a:blip r:embed="rId1"/>
          <a:srcRect l="0" t="0" r="4996" b="0"/>
          <a:stretch/>
        </p:blipFill>
        <p:spPr>
          <a:xfrm>
            <a:off x="5943600" y="4495680"/>
            <a:ext cx="2895480" cy="185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国际礼宾次序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指国际交往时出席活动的国家、团体、各国人士的位次按某些规则和惯例进行排列的先后次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ff99ff"/>
                </a:solidFill>
                <a:latin typeface="Times New Roman"/>
              </a:rPr>
              <a:t>按外宾的身份与职务的高低顺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常用在官方活动中。团体以团长的身份和职务来排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ff99ff"/>
                </a:solidFill>
                <a:latin typeface="Times New Roman"/>
              </a:rPr>
              <a:t>按参加国国名的字母顺序排列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常用在国际会议和体育比赛中。多用英文字母顺序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ff99ff"/>
                </a:solidFill>
                <a:latin typeface="Times New Roman"/>
              </a:rPr>
              <a:t>按派遣国通知东道主代表团组成的日期排列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有时也按到达地时间先后来排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几种方法结合使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字母相同，再按身份排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1555-0DC0-401E-9A20-A9F9DF75599B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站姿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垂手站姿图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身体挺拢，抬头沉肩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挺胸收腹，双腿并拢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收下颌，双目平视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d"/>
          <p:cNvPicPr/>
          <p:nvPr/>
        </p:nvPicPr>
        <p:blipFill>
          <a:blip r:embed="rId1"/>
          <a:stretch/>
        </p:blipFill>
        <p:spPr>
          <a:xfrm>
            <a:off x="4876920" y="990720"/>
            <a:ext cx="373212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70D8-26FE-412A-AAF4-2BF7B8F20DEA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交手，背手站姿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前交手站姿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后交手站姿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单前手站姿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单背手站姿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0"/>
          <p:cNvPicPr/>
          <p:nvPr/>
        </p:nvPicPr>
        <p:blipFill>
          <a:blip r:embed="rId1"/>
          <a:stretch/>
        </p:blipFill>
        <p:spPr>
          <a:xfrm>
            <a:off x="3352680" y="1828800"/>
            <a:ext cx="5410440" cy="4505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643A-AC30-48E7-8091-A6FF807288A5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坐姿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坐是一种静态造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落坐要先看好位置，轻稳入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坐姿要给人安祥端庄的形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BD07153_"/>
          <p:cNvPicPr/>
          <p:nvPr/>
        </p:nvPicPr>
        <p:blipFill>
          <a:blip r:embed="rId1"/>
          <a:stretch/>
        </p:blipFill>
        <p:spPr>
          <a:xfrm>
            <a:off x="5943600" y="2971800"/>
            <a:ext cx="2843280" cy="3111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FB0E-CF94-4367-A3BE-B5FFB25F4555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垂直式坐姿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腰背挺直，双肩放松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女士双膝并拢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男士膝部分开不超过肩宽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a"/>
          <p:cNvPicPr/>
          <p:nvPr/>
        </p:nvPicPr>
        <p:blipFill>
          <a:blip r:embed="rId1"/>
          <a:stretch/>
        </p:blipFill>
        <p:spPr>
          <a:xfrm>
            <a:off x="5105520" y="2057400"/>
            <a:ext cx="3803400" cy="396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16C6-386C-4E40-A1D0-91A34A4D49D8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侧坐姿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双膝并紧，双脚同时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左放或右放，尤其适宜矮座位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3"/>
          <p:cNvPicPr/>
          <p:nvPr/>
        </p:nvPicPr>
        <p:blipFill>
          <a:blip r:embed="rId1"/>
          <a:stretch/>
        </p:blipFill>
        <p:spPr>
          <a:xfrm>
            <a:off x="990720" y="2895480"/>
            <a:ext cx="7554960" cy="3530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A7ED-D477-4126-B9F4-0CB9732E91DB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重叠式坐姿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膝处重迭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架起的腿不能翅起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更不能摇动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女士要尽力使架起的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腿与支地腿平行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不翅脚尖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h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4295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8BFF-DD0C-4763-BCCE-019E221598E6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交叉式坐姿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双脚踝交叉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或前伸或后屈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只前脚掌着地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c"/>
          <p:cNvPicPr/>
          <p:nvPr/>
        </p:nvPicPr>
        <p:blipFill>
          <a:blip r:embed="rId1"/>
          <a:stretch/>
        </p:blipFill>
        <p:spPr>
          <a:xfrm>
            <a:off x="3581280" y="2286000"/>
            <a:ext cx="5303880" cy="4060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35E7-CB2B-42D3-A1C4-51EC101F9E7F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开关式坐姿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女士双膝并紧，两小腿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前后分开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两脚在一条线上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男士可采取前后分开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也可左右分开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4" descr="b"/>
          <p:cNvPicPr/>
          <p:nvPr/>
        </p:nvPicPr>
        <p:blipFill>
          <a:blip r:embed="rId1"/>
          <a:stretch/>
        </p:blipFill>
        <p:spPr>
          <a:xfrm>
            <a:off x="4648320" y="2362320"/>
            <a:ext cx="4267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5E65-D65B-418A-B569-B7901124579E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第一章 礼仪概述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1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礼仪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2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礼仪的重要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3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礼仪的职能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4" descr="BS00975_"/>
          <p:cNvPicPr/>
          <p:nvPr/>
        </p:nvPicPr>
        <p:blipFill>
          <a:blip r:embed="rId4"/>
          <a:stretch/>
        </p:blipFill>
        <p:spPr>
          <a:xfrm>
            <a:off x="4038480" y="3276720"/>
            <a:ext cx="4584960" cy="282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47F0-5DD1-4EBF-83A0-4C140F362E31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基本手势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手势是体态语言中最重要的传播媒介，是通过手和手指活动传递信息，是展示自己才华和修养的重要的外在形态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手势语作用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、表示形象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、表达感情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BD05537_"/>
          <p:cNvPicPr/>
          <p:nvPr/>
        </p:nvPicPr>
        <p:blipFill>
          <a:blip r:embed="rId1"/>
          <a:stretch/>
        </p:blipFill>
        <p:spPr>
          <a:xfrm>
            <a:off x="5638680" y="2895480"/>
            <a:ext cx="2646360" cy="345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A9C1-1230-4C28-AE67-69C13E120802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基本手势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手势分类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0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．情意手势：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表达动作者的表情，使其内涵丰富，寓意深刻。如：鼓掌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290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．象征手势：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表示某种抽象的信念，且他人予以理解。如：宣誓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290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．形象手势：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在交往中摹拟某种状物，给人一种具体、形象的感觉。如：借钱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290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．指示手势：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指示具体的某项行为和事情的手势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如：请看黑板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1ED2-3F73-4D6E-99C4-FA4C39426273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表情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表情是从人的面貌或姿态上表达内心的思想感情，是人们内心情绪的外在表现，是形体语言中最丰富的部分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感情的表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7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书面语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38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声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55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面部表情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健康的表情是自然诚恳，和蔼可亲的，是一个人优雅风度的重要组成部分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面部五官表情中又以通过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“眼神”和“微笑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传递信息为主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C90E-03A2-405E-B410-677198168171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眼神和微笑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眼神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200" spc="-1" strike="noStrike">
                <a:solidFill>
                  <a:srgbClr val="ffff00"/>
                </a:solidFill>
                <a:latin typeface="Times New Roman"/>
              </a:rPr>
              <a:t>眼睛是心灵的窗口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眼神是面部表情的核心，它不会隐瞒，更不会说谎。目光接触是交往中常见的沟通方式，眼神不同，含义无穷。应真诚、坦然、亲切、有神，目光视线应落在对方双肩和头顶所构成的区域内，不应躲闪或紧盯对方眼睛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微笑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是真正的世界语言，能超越文化而传播，成为</a:t>
            </a:r>
            <a:r>
              <a:rPr b="1" lang="zh-CN" sz="2200" spc="-1" strike="noStrike">
                <a:solidFill>
                  <a:srgbClr val="ffff00"/>
                </a:solidFill>
                <a:latin typeface="Times New Roman"/>
              </a:rPr>
              <a:t>世界通用的货币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。交往中的微笑是对人的尊重、理解和奉献，成为增进友谊的纽带，它如润滑剂，可以化解一切，升华一切。微笑一下并不费力，却产生无穷魅力，受惠者成为富有，施予者并不变穷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D0DB-0293-41DC-89BD-A22B4C8E0ABF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修饰避人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不可在他人面前毫无顾忌地进行“某些”自我形象的维护、修饰动作，而应避开他人耳目到“幕后”进行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i="1" lang="zh-CN" sz="2600" spc="-1" strike="noStrike">
                <a:solidFill>
                  <a:srgbClr val="ff99ff"/>
                </a:solidFill>
                <a:latin typeface="Times New Roman"/>
              </a:rPr>
              <a:t>不在他人面前整理衣服。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如解开衣扣、穿脱衣服、打领带、提裤子、整理内衣、拉提长统丝袜、脱鞋弄鞋垫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i="1" lang="zh-CN" sz="2600" spc="-1" strike="noStrike">
                <a:solidFill>
                  <a:srgbClr val="ff99ff"/>
                </a:solidFill>
                <a:latin typeface="Times New Roman"/>
              </a:rPr>
              <a:t>不在他人面前化妆打扮。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如与他人交往中梳头、抖动头皮屑；在公共场所化妆补妆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9920-A9A4-40A2-8692-788D9D79E997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修饰避人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5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i="1" lang="zh-CN" sz="2600" spc="-1" strike="noStrike">
                <a:solidFill>
                  <a:srgbClr val="ff99ff"/>
                </a:solidFill>
                <a:latin typeface="Times New Roman"/>
              </a:rPr>
              <a:t>不在他人面前做“拾掇”自己的小动作。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如那些当众献丑的抠鼻孔、挖耳朵、搓泥垢、搔痒痒、剔牙齿、抖腿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i="1" lang="zh-CN" sz="2600" spc="-1" strike="noStrike">
                <a:solidFill>
                  <a:srgbClr val="ff99ff"/>
                </a:solidFill>
                <a:latin typeface="Times New Roman"/>
              </a:rPr>
              <a:t>礼貌处理无法控制的修饰行为。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如在打喷嚏、擤鼻涕、打哈欠、咳嗽时，用纸巾捂住口鼻，面向旁边，并说声“对不起”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35A0-4746-41FA-B8B7-5FED95C4232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优先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在公共场所及人际交往中，男士尊重女士、牢记“女士优先”是应有的潇洒风度。表现在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 上下车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进出房门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进出电梯门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上下楼梯（下楼下方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2-3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个台阶）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在无人行道时行走（外侧）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女士进出房间（帮助穿、脱、拿、挂外衣）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79DC-2D48-4A05-AFC3-0516B55FB696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优先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有空位或入座（先请并拉推椅子）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握手（女士先伸手）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介绍（先介绍男干）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就餐（请先尝）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购物（提重物）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吸烟（征得同意）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出现紧急情况（先帮女士逃生）……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8EB2-9162-4D20-A894-6BBA2FA52024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第三章 交谈礼仪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1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交谈态势语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2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称呼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3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正式场合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4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非正式场合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5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称呼中三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6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电话礼仪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7"/>
              </a:rPr>
              <a:t>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581280" y="1828800"/>
            <a:ext cx="533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8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谈话内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9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常用的礼貌用语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10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用词用语要文雅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11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言词的沟通技巧（讲话推销等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12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交谈中的艺术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13"/>
              </a:rPr>
              <a:t>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4" name="CAMERA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516A-4EA0-4C75-AD7D-EFA4DE132B8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交谈态势语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姿态——站、坐姿优雅，手势语清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情——目光专注、注意聆听、产生共鸣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距离——美国爱德华提出四种人际交往距离（私人空间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亲密距离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&lt;50cm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父母、夫妻、情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个人距离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50~120cm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熟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社交距离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20~360cm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联系不多的商务、公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公众距离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360cm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以上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演讲、难于沟通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7723-220C-490E-B5B7-A122D172B9EB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礼仪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礼仪——人们在社会交往活动中应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共同遵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行为规范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准则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要表现在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000" indent="0">
              <a:spcBef>
                <a:spcPts val="60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礼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社会居民为了维持正常的生活秩序而共同遵循   的最起码 道德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000" indent="0">
              <a:spcBef>
                <a:spcPts val="60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礼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社交中迎送往来表示致意、问候、祝颂等惯用  形式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000" indent="0">
              <a:spcBef>
                <a:spcPts val="60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仪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一定场合举行的具有专门程序、规范 化的活动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000" indent="0">
              <a:spcBef>
                <a:spcPts val="60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仪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指人们的容貌、服饰、姿态、风度、举止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EA59-CF55-4588-9461-4BE807333C06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正式场合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．姓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职称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职务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徐教授、郭厂长，爱德华公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．姓名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彭华、吴兰、大卫麦肯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．泛尊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同志、先生、女士、小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．职业称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泛尊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司机同志、秘书小姐、议员先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BD04956_"/>
          <p:cNvPicPr/>
          <p:nvPr/>
        </p:nvPicPr>
        <p:blipFill>
          <a:blip r:embed="rId1"/>
          <a:stretch/>
        </p:blipFill>
        <p:spPr>
          <a:xfrm>
            <a:off x="5105520" y="2590920"/>
            <a:ext cx="3811320" cy="2589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9DE4-B91F-439F-A3BE-05BA112526F4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称呼中三忌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无称呼语，如说：“那个穿红大衣的过来！”，“那个背包的别走！”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二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用“嗨！”、“喂！”等字称呼人，如：“嗨！靠边点！”、“喂！帮我个忙。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三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不用尊称叫人，如把老大爷叫“老头！”、把某某叫“秃头！”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66"/>
                </a:solidFill>
                <a:latin typeface="Times New Roman"/>
                <a:ea typeface="楷体_GB2312"/>
              </a:rPr>
              <a:t>只有在称呼上尊重对方，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imes New Roman"/>
                <a:ea typeface="楷体_GB2312"/>
              </a:rPr>
              <a:t>                           </a:t>
            </a:r>
            <a:r>
              <a:rPr b="1" lang="zh-CN" sz="3600" spc="-1" strike="noStrike">
                <a:solidFill>
                  <a:srgbClr val="99ff66"/>
                </a:solidFill>
                <a:latin typeface="Times New Roman"/>
                <a:ea typeface="楷体_GB2312"/>
              </a:rPr>
              <a:t>才能继续良好的交往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1177-A2EE-429D-9F7F-B39266C342A0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谈话内容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题明确，围绕中心，观点鲜明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句简练、不重复、不罗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言之有据，有理、求实求是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言生动，有趣味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需要时留有余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4" descr="BD05545_"/>
          <p:cNvPicPr/>
          <p:nvPr/>
        </p:nvPicPr>
        <p:blipFill>
          <a:blip r:embed="rId1"/>
          <a:stretch/>
        </p:blipFill>
        <p:spPr>
          <a:xfrm>
            <a:off x="5257800" y="3048120"/>
            <a:ext cx="3338640" cy="3281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A7E0-1053-431C-AB20-D4E7F796C615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谈话内容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涉外谈话注意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不谈论隐私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不谈论荒诞离奇、黄色淫秽、疾病、死亡等不愉快事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不谈论双方国家内政和民族、宗教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不背面议论上司、长辈、同事，回避对方不愿触及的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用共同听懂的语言，讲大家参与的内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可谈论中性的话题（天气、艺术、体育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828E-D4E7-4BB9-B9DF-9F24F930CAE1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常用的礼貌用语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664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问候语：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用于见面时的问候。如“您好！”、“早上好！”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告别语：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用于分别时的告辞或送别。如“再见。”、“晚安。”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答谢语：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答谢语应用的范围很广，有些表示向对方的感谢，如“非常感谢！”、“劳您费心！”。有些表示向对方的应答，如“不必客气。”、“这使我应该做的。”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请托语：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请托语常用在向他人请求。如“请问？”、“拜托您帮我个忙。”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道歉语：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做了不当的或不对的事，应该立即向对方道歉。如说“对不起，实在抱歉。”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09D0-76E6-4FE5-B4B9-FF18FC1CA70F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常用的礼貌用语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9060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征询语：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当要为他人服务时常用征询语。如“需要我帮忙吗？”、“我能为您做些什么吗？”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19060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慰问语：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表示对他人的关切。如他人劳累后，可说“您辛苦了！”、“望您早日康复！”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19060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祝贺语：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当他人取得成果或有喜事，如“恭喜！”、“祝您节日愉快！”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19060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礼赞语：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对人或事表示称颂、赞美。如太好了，美极了，讲得真对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1906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906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DD00448_"/>
          <p:cNvPicPr/>
          <p:nvPr/>
        </p:nvPicPr>
        <p:blipFill>
          <a:blip r:embed="rId1"/>
          <a:stretch/>
        </p:blipFill>
        <p:spPr>
          <a:xfrm>
            <a:off x="4146480" y="5181480"/>
            <a:ext cx="851040" cy="952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DD00448_"/>
          <p:cNvPicPr/>
          <p:nvPr/>
        </p:nvPicPr>
        <p:blipFill>
          <a:blip r:embed="rId2"/>
          <a:stretch/>
        </p:blipFill>
        <p:spPr>
          <a:xfrm>
            <a:off x="2666880" y="5181480"/>
            <a:ext cx="851040" cy="952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DD00448_"/>
          <p:cNvPicPr/>
          <p:nvPr/>
        </p:nvPicPr>
        <p:blipFill>
          <a:blip r:embed="rId3"/>
          <a:stretch/>
        </p:blipFill>
        <p:spPr>
          <a:xfrm>
            <a:off x="5562720" y="5181480"/>
            <a:ext cx="8506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AMERA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C413-31D0-445F-B110-35AFDE901008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用词用语要文雅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人们交流中，言谈用词要文雅，杜绝蔑视语、烦燥语、斗气语。有些话，意思差不多，说法不同就给人不一样的感觉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比如，请对方让开一点儿，可以用“劳驾借光”、“先生，请让一下”、“躲开”、“靠边儿”等同一关系的概念来表达。其中第二句最体现修养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4" descr="EN00349_"/>
          <p:cNvPicPr/>
          <p:nvPr/>
        </p:nvPicPr>
        <p:blipFill>
          <a:blip r:embed="rId1"/>
          <a:stretch/>
        </p:blipFill>
        <p:spPr>
          <a:xfrm>
            <a:off x="4572000" y="4572000"/>
            <a:ext cx="3517920" cy="1987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9DF1-5B86-47EA-A31D-4329AF67C295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用词用语要文雅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6ff33"/>
                </a:solidFill>
                <a:latin typeface="Times New Roman"/>
              </a:rPr>
              <a:t>有些话，用词文雅些，既能讨人喜欢也动听多了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你找谁？”就不如</a:t>
            </a:r>
            <a:r>
              <a:rPr b="0" i="1" lang="zh-CN" sz="2400" spc="-1" strike="noStrike">
                <a:solidFill>
                  <a:srgbClr val="ff99ff"/>
                </a:solidFill>
                <a:latin typeface="Times New Roman"/>
              </a:rPr>
              <a:t>“您找哪一位？”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好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来不了”就不如</a:t>
            </a:r>
            <a:r>
              <a:rPr b="0" i="1" lang="zh-CN" sz="2400" spc="-1" strike="noStrike">
                <a:solidFill>
                  <a:srgbClr val="ff99ff"/>
                </a:solidFill>
                <a:latin typeface="Times New Roman"/>
              </a:rPr>
              <a:t>“真对不起，我确实不能来”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诚恳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不行就算了！”就不如</a:t>
            </a:r>
            <a:r>
              <a:rPr b="0" i="1" lang="zh-CN" sz="2400" spc="-1" strike="noStrike">
                <a:solidFill>
                  <a:srgbClr val="ff99ff"/>
                </a:solidFill>
                <a:latin typeface="Times New Roman"/>
              </a:rPr>
              <a:t>“如果觉得有困难的话，那就不麻烦您了。”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妥帖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干不了”——不如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- - -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有事吗？”——不如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- - -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764E-D2AA-4D2A-8A89-342978E1B4CE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言词的沟通技巧（讲话推销等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76440" indent="0">
              <a:spcBef>
                <a:spcPts val="649"/>
              </a:spcBef>
              <a:buNone/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．声音大小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全场听得见，声音有强弱变化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76440" indent="0">
              <a:spcBef>
                <a:spcPts val="649"/>
              </a:spcBef>
              <a:buNone/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．讲话速度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快慢适中，约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100-120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字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分钟，重要地方放慢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76440" indent="0">
              <a:spcBef>
                <a:spcPts val="649"/>
              </a:spcBef>
              <a:buNone/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．音调变化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根据内容改变，有高昂、有低沉，配合面部表情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76440" indent="0">
              <a:spcBef>
                <a:spcPts val="649"/>
              </a:spcBef>
              <a:buNone/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．重音运用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在关键性词句上加强，时而轻松叙述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882D-85BD-4481-BD6C-C9727A841CD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言词的沟通技巧（讲话推销等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764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．顿挫使用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短暂的顿挫促使听者期待或思考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764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．措辞格调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通俗易懂，深入浅出，避免粗俗或咬文嚼字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764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．逻辑顺序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先后成章，不颠三倒四，举例后能回到中心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764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．情绪修饰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要有表演者精神，依内容体现情意，吸引听众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7644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7644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1584-9B68-44D9-AE00-D078D3B327ED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2" descr="Untitled"/>
          <p:cNvPicPr/>
          <p:nvPr/>
        </p:nvPicPr>
        <p:blipFill>
          <a:blip r:embed="rId1">
            <a:grayscl/>
          </a:blip>
          <a:stretch/>
        </p:blipFill>
        <p:spPr>
          <a:xfrm>
            <a:off x="838080" y="3657600"/>
            <a:ext cx="7391520" cy="2577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礼仪的重要性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</a:rPr>
              <a:t>一、适应对外开放的需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</a:rPr>
              <a:t>二、适应市场经济发展的需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</a:rPr>
              <a:t>三、适应交往中做现代文明人的需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AD43-1AD3-4737-BBD1-90CB51E149D4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交谈中的艺术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耐心倾听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耐心、目光关注，不轻易打断，及时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予以回应，不显烦燥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善于提问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能打开僵局和沉默，善于诱导启发和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提出话题，转到中心主题上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调动气氛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用语言、语调、言词内容，个人情意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营造谈话气氛，调动对方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幽默处理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通过语言反常组合构造幽默意境，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除忧虑愁闷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D997-13D9-4533-B394-61B31BD7B1CD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交谈中的艺术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委婉含蓄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用不直接提及事情不愉快的侧面言词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来替代令人不悦的内涵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模糊回避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在某些语境和环境用宽慰式、回避式、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选择式模糊语言传递信息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言行暗示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通过语言、行为或其它符号把自己的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意向传递给他人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拒绝艺术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通过沉默、转折、诱导等方法否定，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不直接说“不”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3C36-2BBE-425C-8D87-C0F08E3416D1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电话应对基本礼仪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听到铃响，快接电话；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先要问好，再报名称；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姿态正确，微笑说话；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语调稍高，吐字清楚；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听话认真，礼貌应答；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通话简练，等候要短；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礼告结束，后挂轻放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4" descr="Untitled"/>
          <p:cNvPicPr/>
          <p:nvPr/>
        </p:nvPicPr>
        <p:blipFill>
          <a:blip r:embed="rId1"/>
          <a:srcRect l="24708" t="0" r="17644" b="0"/>
          <a:stretch/>
        </p:blipFill>
        <p:spPr>
          <a:xfrm>
            <a:off x="5181480" y="1905120"/>
            <a:ext cx="3200400" cy="336528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1620-6CA1-412D-A5A2-1825624A2433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打出电话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准备通话内容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W2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确定通话方向：代码、号码、人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礼貌对话：称呼、应对、礼貌用语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话精炼：少影响他人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礼告结束：告别用语，轻挂、后挂电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4888-0B6A-44DD-A610-4C51E10E0AB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转接电话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他人、同事电话，有礼接待，礼貌转交，接电话要要礼貌地向转接人表示“谢谢”；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同事外出，代接处理电话并留言备忘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上司电话，先确认对方姓名和身份，再动脑判断，应对或转交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FC45-3C54-48B3-8DE6-7AFC763206D6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电话留言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动请对方留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边备有便笺、笔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笔录牢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W2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对方的联络号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注意复述核查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落上自己的名字、时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放到适当位置（防丢或需保密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确认及时收到留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再次提醒当事人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866F-5E92-4A2F-8967-495BCEA8C066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备忘的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6W2H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7680" indent="0"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何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来电人的姓名、先生、女士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7680" indent="0"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WHO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找何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姓名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7680" indent="0"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WHW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何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来电提及的日期、时间和来电时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7680" indent="0"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WHER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何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来电提及的地点、场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1384-FC69-4C32-9D6E-D9735310DF9A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备忘的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6W2H 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何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来电提及的内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WH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何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来电提及的因由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OW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何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方法、要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OW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UC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做多少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81FE-3EF6-494C-A39A-1464A59B488F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处理不满意电话的技巧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、首先平定自己的情绪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耐心聆听，少插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平服对方情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听到恶语不急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真诚致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、解决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主动表示出解决的态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及时应对，提出办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愉快结束通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2446-393B-4937-AF57-EBC5ED49B045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第四章</a:t>
            </a:r>
            <a:r>
              <a:rPr b="1" lang="en-US" sz="40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服饰礼仪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1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TPO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着装原则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2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服饰三美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3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色彩搭配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4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男士服饰仪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5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女士服饰仪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4" descr="PE02622_"/>
          <p:cNvPicPr/>
          <p:nvPr/>
        </p:nvPicPr>
        <p:blipFill>
          <a:blip r:embed="rId6"/>
          <a:stretch/>
        </p:blipFill>
        <p:spPr>
          <a:xfrm>
            <a:off x="4572000" y="2743200"/>
            <a:ext cx="3997440" cy="3241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6BC8-724F-449C-BB85-10634825904F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礼仪的职能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03240" indent="0">
              <a:spcBef>
                <a:spcPts val="649"/>
              </a:spcBef>
              <a:buNone/>
              <a:tabLst>
                <a:tab algn="l" pos="0"/>
                <a:tab algn="l" pos="208764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国家形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体现一个国家和民族文明程度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经济实力的重要标志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03240" indent="0">
              <a:spcBef>
                <a:spcPts val="649"/>
              </a:spcBef>
              <a:buNone/>
              <a:tabLst>
                <a:tab algn="l" pos="0"/>
                <a:tab algn="l" pos="208764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03240" indent="0">
              <a:spcBef>
                <a:spcPts val="649"/>
              </a:spcBef>
              <a:buNone/>
              <a:tabLst>
                <a:tab algn="l" pos="0"/>
                <a:tab algn="l" pos="208764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组织形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由为实现组织总目标而汇集的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一群人共同塑造的大窗口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03240" indent="0">
              <a:spcBef>
                <a:spcPts val="649"/>
              </a:spcBef>
              <a:buNone/>
              <a:tabLst>
                <a:tab algn="l" pos="0"/>
                <a:tab algn="l" pos="208764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03240" indent="0">
              <a:spcBef>
                <a:spcPts val="649"/>
              </a:spcBef>
              <a:buNone/>
              <a:tabLst>
                <a:tab algn="l" pos="0"/>
                <a:tab algn="l" pos="208764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个人形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显示一个人道德水准和自身修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03240" indent="0">
              <a:spcBef>
                <a:spcPts val="649"/>
              </a:spcBef>
              <a:buNone/>
              <a:tabLst>
                <a:tab algn="l" pos="0"/>
                <a:tab algn="l" pos="208764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养高低的尺度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03240" indent="0">
              <a:spcBef>
                <a:spcPts val="649"/>
              </a:spcBef>
              <a:buNone/>
              <a:tabLst>
                <a:tab algn="l" pos="208764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03240" indent="0">
              <a:spcBef>
                <a:spcPts val="649"/>
              </a:spcBef>
              <a:buNone/>
              <a:tabLst>
                <a:tab algn="l" pos="208764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CFAB-1BA2-4C8C-A1B8-E678AA5031F7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TPO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着装原则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T——</a:t>
            </a: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TIME</a:t>
            </a: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）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穿着要注意年代、季节和一日的各段时间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P——</a:t>
            </a: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PLACE</a:t>
            </a: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）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穿着要适宜场所、地点环境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O——</a:t>
            </a: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OBJECT</a:t>
            </a: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）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穿着要考虑此去的目的及穿衣对象的状况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因此，服装大致可分为：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66"/>
                </a:solidFill>
                <a:latin typeface="Times New Roman"/>
                <a:ea typeface="隶书"/>
              </a:rPr>
              <a:t>上班型——通常恪守传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66"/>
                </a:solidFill>
                <a:latin typeface="Times New Roman"/>
                <a:ea typeface="隶书"/>
              </a:rPr>
              <a:t>社交型——通常追求新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66"/>
                </a:solidFill>
                <a:latin typeface="Times New Roman"/>
                <a:ea typeface="隶书"/>
              </a:rPr>
              <a:t>休闲型——通常图个舒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66"/>
                </a:solidFill>
                <a:latin typeface="Times New Roman"/>
                <a:ea typeface="隶书"/>
              </a:rPr>
              <a:t>专用型——严格遵照岗位要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各类自成一体，不可混淆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96AC-0F80-421E-AB14-5843F69D6DE3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服饰三美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8160">
              <a:spcBef>
                <a:spcPts val="55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形——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  <a:ea typeface="楷体_GB2312"/>
              </a:rPr>
              <a:t>款式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造型和谐巧妙塑造人体形象美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38160">
              <a:spcBef>
                <a:spcPts val="55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色——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  <a:ea typeface="楷体_GB2312"/>
              </a:rPr>
              <a:t>色彩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色彩和谐使他人产生良好的心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       理效应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38160">
              <a:spcBef>
                <a:spcPts val="55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质——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  <a:ea typeface="楷体_GB2312"/>
              </a:rPr>
              <a:t>质料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面料的质感直接影响服饰造型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       与色彩的效果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4" descr="BK00030_"/>
          <p:cNvPicPr/>
          <p:nvPr/>
        </p:nvPicPr>
        <p:blipFill>
          <a:blip r:embed="rId1"/>
          <a:stretch/>
        </p:blipFill>
        <p:spPr>
          <a:xfrm>
            <a:off x="3851280" y="4419720"/>
            <a:ext cx="1440000" cy="1866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BK00030_"/>
          <p:cNvPicPr/>
          <p:nvPr/>
        </p:nvPicPr>
        <p:blipFill>
          <a:blip r:embed="rId2"/>
          <a:stretch/>
        </p:blipFill>
        <p:spPr>
          <a:xfrm>
            <a:off x="2286000" y="4419720"/>
            <a:ext cx="1440000" cy="1866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BK00030_"/>
          <p:cNvPicPr/>
          <p:nvPr/>
        </p:nvPicPr>
        <p:blipFill>
          <a:blip r:embed="rId3"/>
          <a:stretch/>
        </p:blipFill>
        <p:spPr>
          <a:xfrm>
            <a:off x="5410080" y="4419720"/>
            <a:ext cx="1440000" cy="1866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AMERA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AFA6-7D28-44BE-BFFF-57038CD3F6B4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服饰三美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办公室职业人员的服装应简洁大方，使人感到稳重、端庄，高雅无华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办公室职业人员的服装应色泽柔和，使人感到成熟可信，平易近人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白领在办公室应注意不能穿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ff66"/>
                </a:solidFill>
                <a:latin typeface="Times New Roman"/>
              </a:rPr>
              <a:t>“</a:t>
            </a:r>
            <a:r>
              <a:rPr b="1" i="1" lang="zh-CN" sz="2800" spc="-1" strike="noStrike">
                <a:solidFill>
                  <a:srgbClr val="99ff66"/>
                </a:solidFill>
                <a:latin typeface="Times New Roman"/>
              </a:rPr>
              <a:t>紧”、“透”、“露”、“运”、“闲”、“牛”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4C94-5EF9-4BD5-A065-D3B109788654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色彩搭配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要方法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同色搭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色彩相同，通过明度有层次变化相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                   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搭配造成和谐效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浅蓝和深蓝；浅绿和深绿，一般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浅下深，上明下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近色搭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色环上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90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度以内的邻近色、相似色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                   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配形成协调效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绿和蓝中的浅绿和深蓝，黄和绿中的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淡黄和深绿，两色的明度和纯度须错开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深一浅较和谐，鲜绿配明黄就刺眼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7FE9-E7F5-417E-AB98-ACAF8E40760F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色彩搭配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主色搭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选定一种起主导作用的基调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主色，配于其他色造成相互陪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衬、相映成趣之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灰色主色服装中加一道深红装饰色，就很悦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主色起决定影响，装饰色越少越鲜明，多处加色、加多种色就俗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E81F-761A-478F-AD62-988315B0EE1F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男士服饰仪容（一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腰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长短适中，余下部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厘米左右，讲究些可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手表、皮鞋颜色一致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袜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每日换洗，色与鞋配，黑鞋深色袜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前包后包式样，最好皮底，色与裤配，正规西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服为系带皮鞋，清洁  亮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饰物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少、内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2B57-73F3-4373-A868-2CFB253338F4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2" descr="Untitled"/>
          <p:cNvPicPr/>
          <p:nvPr/>
        </p:nvPicPr>
        <p:blipFill>
          <a:blip r:embed="rId1"/>
          <a:stretch/>
        </p:blipFill>
        <p:spPr>
          <a:xfrm>
            <a:off x="5148360" y="1219320"/>
            <a:ext cx="3995640" cy="53337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男士服饰仪容（二）——西装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上装——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身长过虎口，袖长达手腕（比衬衫袖短），肥瘦合体有型，穿好后，衬衫领应高过西装领口</a:t>
            </a:r>
            <a:r>
              <a:rPr b="0" lang="zh-CN" sz="2400" spc="-1" strike="noStrike">
                <a:solidFill>
                  <a:srgbClr val="99ff66"/>
                </a:solidFill>
                <a:latin typeface="Times New Roman"/>
              </a:rPr>
              <a:t>（两露白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着西装，忌衬衫下摆外露，袖不扣紧或翻卷，内着高领衫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胸袋和两侧口袋为装饰袋，不装或很少装物，内侧两袋为实用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4933-60A5-42B6-A54D-D8175F5043B4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男士服饰仪容（二）——西装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粒扣系上扣，三粒扣系上或中扣，单排扣可敝开，双排扣立式系紧，坐姿可敞开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深色西装高雅庄重，适宜各种场合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保持清洁，平整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西裤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合体有型，裤脚达脚背，盖过鞋后沿，腰间以插入一手为宜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西侧袋为装饰袋，后袋为实用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色泽、质地与上装一致为好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BC19-7943-4CD0-A0AB-E3D4350933B3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服饰仪容（一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脸部基本比例图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4" descr="k"/>
          <p:cNvPicPr/>
          <p:nvPr/>
        </p:nvPicPr>
        <p:blipFill>
          <a:blip r:embed="rId1"/>
          <a:stretch/>
        </p:blipFill>
        <p:spPr>
          <a:xfrm>
            <a:off x="4343400" y="137160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EF0D-EE08-4F46-9A0B-6B8D34339A3F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服饰仪容（二）</a:t>
            </a:r>
            <a:br>
              <a:rPr sz="4000"/>
            </a:b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0" lang="zh-CN" sz="3600" spc="-1" strike="noStrike" u="sng">
                <a:solidFill>
                  <a:srgbClr val="ffcc66"/>
                </a:solidFill>
                <a:uFillTx/>
                <a:latin typeface="Times New Roman"/>
              </a:rPr>
              <a:t>——美发、护肤</a:t>
            </a:r>
            <a:endParaRPr b="1" lang="en-US" sz="36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头发护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99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ff"/>
                </a:solidFill>
                <a:latin typeface="Times New Roman"/>
              </a:rPr>
              <a:t>梳理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理顺头发，促进血液循环和皮脂分泌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99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ff"/>
                </a:solidFill>
                <a:latin typeface="Times New Roman"/>
              </a:rPr>
              <a:t>清洗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用适宜洗发剂清除污垢，注意水质、温度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揉搓、风干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99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ff"/>
                </a:solidFill>
                <a:latin typeface="Times New Roman"/>
              </a:rPr>
              <a:t>养护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补充营养，提高生理机能，如用护发素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锔油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99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ff"/>
                </a:solidFill>
                <a:latin typeface="Times New Roman"/>
              </a:rPr>
              <a:t>造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通过吹、烫、或定型剂等整理成型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A1A6-5561-43AC-A57A-5ABEF8D09A17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第二章 形态礼仪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1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约会     姿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2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致意     手势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3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握手     表情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4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介绍     修饰避人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5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递接名片 女士优先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6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亲切迎客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热情待客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礼貌送客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BD05584_"/>
          <p:cNvPicPr/>
          <p:nvPr/>
        </p:nvPicPr>
        <p:blipFill>
          <a:blip r:embed="rId7"/>
          <a:stretch/>
        </p:blipFill>
        <p:spPr>
          <a:xfrm>
            <a:off x="5638680" y="2514600"/>
            <a:ext cx="258948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8" name="CAMERA.WAV"/>
      </p:stSnd>
    </p:sndAc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CAE0-BF68-4A76-8A8E-71AE3BEDAEC7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皮肤性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干性、中性、油性、混合性、过敏性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面部护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洁肤（专用洗面奶或清洁霜，用手指由内向外、由下向上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紧肤（油性）或爽肤（干性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润肤（保持滋润，防止干裂和光照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皮肤保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增加营养，保持水份，充足睡眠，减少暴晒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服饰仪容（二）</a:t>
            </a:r>
            <a:br>
              <a:rPr sz="4000"/>
            </a:b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0" lang="zh-CN" sz="3600" spc="-1" strike="noStrike" u="sng">
                <a:solidFill>
                  <a:srgbClr val="ffcc66"/>
                </a:solidFill>
                <a:uFillTx/>
                <a:latin typeface="Times New Roman"/>
              </a:rPr>
              <a:t>——美发、护肤</a:t>
            </a:r>
            <a:endParaRPr b="1" lang="en-US" sz="36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6404-20B0-4081-BFB8-FA4CF7938390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服饰仪容（三）</a:t>
            </a:r>
            <a:r>
              <a:rPr b="0" lang="zh-CN" sz="3600" spc="-1" strike="noStrike" u="sng">
                <a:solidFill>
                  <a:srgbClr val="ffcc66"/>
                </a:solidFill>
                <a:uFillTx/>
                <a:latin typeface="Times New Roman"/>
              </a:rPr>
              <a:t>——淡妆</a:t>
            </a:r>
            <a:endParaRPr b="1" lang="en-US" sz="36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600" spc="-1" strike="noStrike">
                <a:solidFill>
                  <a:srgbClr val="66ffff"/>
                </a:solidFill>
                <a:latin typeface="Times New Roman"/>
                <a:ea typeface="楷体_GB2312"/>
              </a:rPr>
              <a:t>职业女性上班应化淡妆，不仅对别人是一种尊重，也使自己更充满活力与信心，给生活增添光彩。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化妆要突出自然美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——妆色柔和，不露化妆痕迹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化妆要扬长避短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——自我分析是前提，通过化妆巧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妙掩饰不足，突出优点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化妆要充分体现个体的气质和性格，用化妆品体现魅力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ff66"/>
                </a:solidFill>
                <a:latin typeface="Times New Roman"/>
              </a:rPr>
              <a:t>运用色彩造型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——明暗起伏，凹凸变化，引导切割，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错觉效应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0218-0324-4A1A-A1BD-B4EC1F7BF7E1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服饰仪容（三）</a:t>
            </a:r>
            <a:r>
              <a:rPr b="0" lang="zh-CN" sz="3600" spc="-1" strike="noStrike" u="sng">
                <a:solidFill>
                  <a:srgbClr val="ffcc66"/>
                </a:solidFill>
                <a:uFillTx/>
                <a:latin typeface="Times New Roman"/>
              </a:rPr>
              <a:t>——淡妆</a:t>
            </a:r>
            <a:endParaRPr b="1" lang="en-US" sz="36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66"/>
                </a:solidFill>
                <a:latin typeface="Times New Roman"/>
              </a:rPr>
              <a:t>快速化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备齐化妆品，清洁面部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脸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粉底、腮红（调整和改变肤色，轻柔向上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向外抹匀）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梳理、修眉、打底、描眉（注意色泽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深浅、粗细）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眼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涂眼影（内到外眼角、注意色泽）、画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线（紧贴睫毛根、注意矫形化妆）、卷睫毛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由内向外，由下向上）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先勾唇线、后涂唇膏、加亮点、去浮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A5B8-0F60-4ADC-AC58-A6D4872DBEE0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服饰仪容（四）</a:t>
            </a:r>
            <a:r>
              <a:rPr b="0" lang="zh-CN" sz="3600" spc="-1" strike="noStrike" u="sng">
                <a:solidFill>
                  <a:srgbClr val="ffcc66"/>
                </a:solidFill>
                <a:uFillTx/>
                <a:latin typeface="Times New Roman"/>
              </a:rPr>
              <a:t>——服饰</a:t>
            </a:r>
            <a:endParaRPr b="1" lang="en-US" sz="36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女士办公室服装选择余地极为广阔，裙装、裤装均可，其中以着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西装套裙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最宜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衣服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最好每天变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但不需很多，购衣时要考虑相互关系，让几件衣服搭配出许多花样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衣服要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平整干净，款式大方，色泽与环境相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保持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整体和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内、外衣；上、下装；衣与妆；衣与鞋袜，衣与饰物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D919-06A9-4C64-9E75-7431922CD89F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服饰仪容（四）</a:t>
            </a:r>
            <a:r>
              <a:rPr b="0" lang="zh-CN" sz="3600" spc="-1" strike="noStrike" u="sng">
                <a:solidFill>
                  <a:srgbClr val="ffcc66"/>
                </a:solidFill>
                <a:uFillTx/>
                <a:latin typeface="Times New Roman"/>
              </a:rPr>
              <a:t>——服饰</a:t>
            </a:r>
            <a:endParaRPr b="1" lang="en-US" sz="36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西式套裙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裙长一般至膝上一拳，年长者，冷天可过膝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置一套单色素色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套裙或长裙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以适宜严肃、正规的场合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袜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要求不露袜口，弹性好，裙装通常穿肉色无花透明丝袜，冷天也可穿与裙色相配的深色袜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26B9-CE9B-4AF1-AAE1-AEC5C6DF3019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服饰仪容（四）</a:t>
            </a:r>
            <a:r>
              <a:rPr b="0" lang="zh-CN" sz="3600" spc="-1" strike="noStrike" u="sng">
                <a:solidFill>
                  <a:srgbClr val="ffcc66"/>
                </a:solidFill>
                <a:uFillTx/>
                <a:latin typeface="Times New Roman"/>
              </a:rPr>
              <a:t>——服饰</a:t>
            </a:r>
            <a:endParaRPr b="1" lang="en-US" sz="36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可穿前包后包或前包后露式样，最好穿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跟船型单色皮鞋，色与衣相配，或黑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色鞋，清洁擦亮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饰物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最多不超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件，要与服装、体貌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环境和谐和，饰物间也要相配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指甲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清洁，不涂怪色，长短方便工作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气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香气不浓不怪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842C-2ADD-44B8-A55C-3EDE5E9304E0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第五章  人际关系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人际关系状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同事相处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上司相处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BA43-8A47-4643-BBF7-0791BB9035D9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人际关系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人际关系是指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在社会活动中，人们相互间所结成的各种关系，也可以说是反映人与人之间心理上的距离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人际关系图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Group 4"/>
          <p:cNvGrpSpPr/>
          <p:nvPr/>
        </p:nvGrpSpPr>
        <p:grpSpPr>
          <a:xfrm>
            <a:off x="2438280" y="3657600"/>
            <a:ext cx="4267080" cy="2666520"/>
            <a:chOff x="2438280" y="3657600"/>
            <a:chExt cx="4267080" cy="2666520"/>
          </a:xfrm>
        </p:grpSpPr>
        <p:sp>
          <p:nvSpPr>
            <p:cNvPr id="329" name="Oval 5"/>
            <p:cNvSpPr/>
            <p:nvPr/>
          </p:nvSpPr>
          <p:spPr>
            <a:xfrm>
              <a:off x="3981600" y="4761000"/>
              <a:ext cx="1089360" cy="551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Oval 6"/>
            <p:cNvSpPr/>
            <p:nvPr/>
          </p:nvSpPr>
          <p:spPr>
            <a:xfrm>
              <a:off x="3981600" y="3657600"/>
              <a:ext cx="1089360" cy="551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主管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Oval 7"/>
            <p:cNvSpPr/>
            <p:nvPr/>
          </p:nvSpPr>
          <p:spPr>
            <a:xfrm>
              <a:off x="3981600" y="5772600"/>
              <a:ext cx="1089360" cy="551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朋友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Oval 8"/>
            <p:cNvSpPr/>
            <p:nvPr/>
          </p:nvSpPr>
          <p:spPr>
            <a:xfrm>
              <a:off x="2438280" y="4116960"/>
              <a:ext cx="1089360" cy="551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同事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Oval 9"/>
            <p:cNvSpPr/>
            <p:nvPr/>
          </p:nvSpPr>
          <p:spPr>
            <a:xfrm>
              <a:off x="2438280" y="5036760"/>
              <a:ext cx="1089360" cy="551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家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Oval 10"/>
            <p:cNvSpPr/>
            <p:nvPr/>
          </p:nvSpPr>
          <p:spPr>
            <a:xfrm>
              <a:off x="5616000" y="4116960"/>
              <a:ext cx="1089360" cy="551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客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Oval 11"/>
            <p:cNvSpPr/>
            <p:nvPr/>
          </p:nvSpPr>
          <p:spPr>
            <a:xfrm>
              <a:off x="5616000" y="5036760"/>
              <a:ext cx="1089360" cy="551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Times New Roman"/>
                </a:rPr>
                <a:t>供应商</a:t>
              </a:r>
              <a:endParaRPr b="1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Line 12"/>
            <p:cNvSpPr/>
            <p:nvPr/>
          </p:nvSpPr>
          <p:spPr>
            <a:xfrm>
              <a:off x="5162040" y="3933360"/>
              <a:ext cx="45360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Line 13"/>
            <p:cNvSpPr/>
            <p:nvPr/>
          </p:nvSpPr>
          <p:spPr>
            <a:xfrm flipH="1">
              <a:off x="3527280" y="4025520"/>
              <a:ext cx="363240" cy="183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Line 14"/>
            <p:cNvSpPr/>
            <p:nvPr/>
          </p:nvSpPr>
          <p:spPr>
            <a:xfrm>
              <a:off x="2982960" y="4668840"/>
              <a:ext cx="0" cy="36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Line 15"/>
            <p:cNvSpPr/>
            <p:nvPr/>
          </p:nvSpPr>
          <p:spPr>
            <a:xfrm>
              <a:off x="6251760" y="4668840"/>
              <a:ext cx="0" cy="36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Line 16"/>
            <p:cNvSpPr/>
            <p:nvPr/>
          </p:nvSpPr>
          <p:spPr>
            <a:xfrm>
              <a:off x="3346200" y="5588640"/>
              <a:ext cx="544680" cy="36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Line 17"/>
            <p:cNvSpPr/>
            <p:nvPr/>
          </p:nvSpPr>
          <p:spPr>
            <a:xfrm flipH="1">
              <a:off x="5161680" y="5588640"/>
              <a:ext cx="635400" cy="36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Line 18"/>
            <p:cNvSpPr/>
            <p:nvPr/>
          </p:nvSpPr>
          <p:spPr>
            <a:xfrm>
              <a:off x="4526280" y="4209120"/>
              <a:ext cx="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Line 19"/>
            <p:cNvSpPr/>
            <p:nvPr/>
          </p:nvSpPr>
          <p:spPr>
            <a:xfrm>
              <a:off x="4526280" y="5312880"/>
              <a:ext cx="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Line 20"/>
            <p:cNvSpPr/>
            <p:nvPr/>
          </p:nvSpPr>
          <p:spPr>
            <a:xfrm flipV="1">
              <a:off x="3618720" y="5128920"/>
              <a:ext cx="362880" cy="9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21"/>
            <p:cNvSpPr/>
            <p:nvPr/>
          </p:nvSpPr>
          <p:spPr>
            <a:xfrm>
              <a:off x="3527640" y="4577040"/>
              <a:ext cx="36324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22"/>
            <p:cNvSpPr/>
            <p:nvPr/>
          </p:nvSpPr>
          <p:spPr>
            <a:xfrm flipH="1">
              <a:off x="5161680" y="4577040"/>
              <a:ext cx="54468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Line 23"/>
            <p:cNvSpPr/>
            <p:nvPr/>
          </p:nvSpPr>
          <p:spPr>
            <a:xfrm>
              <a:off x="5162040" y="5128920"/>
              <a:ext cx="453600" cy="183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random/>
    <p:sndAc>
      <p:stSnd>
        <p:snd r:embed="rId1" name="CAMERA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2957-C9AE-4E84-A36D-A76C857D72B1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促进人际吸引的形式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接近性吸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空间距离近，见面机会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相似性吸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处事态度相似，感情融合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互补性吸引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满足需要，我无换他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报答性吸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他对你好，报之以琼瑶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仪表性吸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仪表诱人，第一印象好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F225-C39B-4E66-8627-1FA952F4D5C8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气质类型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4"/>
          <p:cNvGrpSpPr/>
          <p:nvPr/>
        </p:nvGrpSpPr>
        <p:grpSpPr>
          <a:xfrm>
            <a:off x="1303920" y="1066680"/>
            <a:ext cx="6536160" cy="5524200"/>
            <a:chOff x="1303920" y="1066680"/>
            <a:chExt cx="6536160" cy="5524200"/>
          </a:xfrm>
        </p:grpSpPr>
        <p:grpSp>
          <p:nvGrpSpPr>
            <p:cNvPr id="355" name="Group 5"/>
            <p:cNvGrpSpPr/>
            <p:nvPr/>
          </p:nvGrpSpPr>
          <p:grpSpPr>
            <a:xfrm>
              <a:off x="1303920" y="1066680"/>
              <a:ext cx="6536160" cy="5524200"/>
              <a:chOff x="1303920" y="1066680"/>
              <a:chExt cx="6536160" cy="5524200"/>
            </a:xfrm>
          </p:grpSpPr>
          <p:grpSp>
            <p:nvGrpSpPr>
              <p:cNvPr id="356" name="Group 6"/>
              <p:cNvGrpSpPr/>
              <p:nvPr/>
            </p:nvGrpSpPr>
            <p:grpSpPr>
              <a:xfrm>
                <a:off x="2506680" y="1909800"/>
                <a:ext cx="4038480" cy="4038480"/>
                <a:chOff x="2506680" y="1909800"/>
                <a:chExt cx="4038480" cy="4038480"/>
              </a:xfrm>
            </p:grpSpPr>
            <p:sp>
              <p:nvSpPr>
                <p:cNvPr id="357" name="Oval 7"/>
                <p:cNvSpPr/>
                <p:nvPr/>
              </p:nvSpPr>
              <p:spPr>
                <a:xfrm>
                  <a:off x="2506680" y="1909800"/>
                  <a:ext cx="4038480" cy="4038480"/>
                </a:xfrm>
                <a:prstGeom prst="ellipse">
                  <a:avLst/>
                </a:prstGeom>
                <a:solidFill>
                  <a:srgbClr val="3366ff"/>
                </a:solidFill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Line 8"/>
                <p:cNvSpPr/>
                <p:nvPr/>
              </p:nvSpPr>
              <p:spPr>
                <a:xfrm>
                  <a:off x="2506680" y="3890880"/>
                  <a:ext cx="40384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Line 9"/>
                <p:cNvSpPr/>
                <p:nvPr/>
              </p:nvSpPr>
              <p:spPr>
                <a:xfrm>
                  <a:off x="4564080" y="1909800"/>
                  <a:ext cx="0" cy="40384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10"/>
              <p:cNvGrpSpPr/>
              <p:nvPr/>
            </p:nvGrpSpPr>
            <p:grpSpPr>
              <a:xfrm>
                <a:off x="1303920" y="1066680"/>
                <a:ext cx="6536160" cy="5524200"/>
                <a:chOff x="1303920" y="1066680"/>
                <a:chExt cx="6536160" cy="5524200"/>
              </a:xfrm>
            </p:grpSpPr>
            <p:sp>
              <p:nvSpPr>
                <p:cNvPr id="361" name="Text Box 11"/>
                <p:cNvSpPr/>
                <p:nvPr/>
              </p:nvSpPr>
              <p:spPr>
                <a:xfrm>
                  <a:off x="4215240" y="1066680"/>
                  <a:ext cx="729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99ff66"/>
                      </a:solidFill>
                      <a:latin typeface="Times New Roman"/>
                    </a:rPr>
                    <a:t>过敏</a:t>
                  </a:r>
                  <a:endParaRPr b="1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Text Box 12"/>
                <p:cNvSpPr/>
                <p:nvPr/>
              </p:nvSpPr>
              <p:spPr>
                <a:xfrm>
                  <a:off x="1303920" y="3581280"/>
                  <a:ext cx="729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ff99ff"/>
                      </a:solidFill>
                      <a:latin typeface="Times New Roman"/>
                    </a:rPr>
                    <a:t>内向</a:t>
                  </a:r>
                  <a:endParaRPr b="1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Text Box 13"/>
                <p:cNvSpPr/>
                <p:nvPr/>
              </p:nvSpPr>
              <p:spPr>
                <a:xfrm>
                  <a:off x="7110720" y="3581280"/>
                  <a:ext cx="729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ff99ff"/>
                      </a:solidFill>
                      <a:latin typeface="Times New Roman"/>
                    </a:rPr>
                    <a:t>外向</a:t>
                  </a:r>
                  <a:endParaRPr b="1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Text Box 14"/>
                <p:cNvSpPr/>
                <p:nvPr/>
              </p:nvSpPr>
              <p:spPr>
                <a:xfrm>
                  <a:off x="4215240" y="5948280"/>
                  <a:ext cx="729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99ff66"/>
                      </a:solidFill>
                      <a:latin typeface="Times New Roman"/>
                    </a:rPr>
                    <a:t>稳定</a:t>
                  </a:r>
                  <a:endParaRPr b="1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5" name="Rectangle 15"/>
            <p:cNvSpPr/>
            <p:nvPr/>
          </p:nvSpPr>
          <p:spPr>
            <a:xfrm>
              <a:off x="3268800" y="2671560"/>
              <a:ext cx="9144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抑郁质</a:t>
              </a:r>
              <a:br>
                <a:rPr sz="2400"/>
              </a:b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（弱型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Rectangle 16"/>
            <p:cNvSpPr/>
            <p:nvPr/>
          </p:nvSpPr>
          <p:spPr>
            <a:xfrm>
              <a:off x="5097600" y="2747880"/>
              <a:ext cx="914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胆汁质</a:t>
              </a:r>
              <a:br>
                <a:rPr sz="2400"/>
              </a:b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（不可抑制型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Rectangle 17"/>
            <p:cNvSpPr/>
            <p:nvPr/>
          </p:nvSpPr>
          <p:spPr>
            <a:xfrm>
              <a:off x="3192480" y="3967200"/>
              <a:ext cx="914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粘液质</a:t>
              </a:r>
              <a:br>
                <a:rPr sz="2400"/>
              </a:b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（安静型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Rectangle 18"/>
            <p:cNvSpPr/>
            <p:nvPr/>
          </p:nvSpPr>
          <p:spPr>
            <a:xfrm>
              <a:off x="4944960" y="3967200"/>
              <a:ext cx="914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多血质</a:t>
              </a:r>
              <a:br>
                <a:rPr sz="2400"/>
              </a:b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（活泼型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random/>
    <p:sndAc>
      <p:stSnd>
        <p:snd r:embed="rId1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C91F-AA25-408C-B516-8E9721CC3DD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约会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见、召见——身份高的人会见身份低的人；主人会见客人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拜见、拜会——身份低的人会见身份高的人；客人会见主人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Times New Roman"/>
              </a:rPr>
              <a:t>有约在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尊重对方，讲究时效，不做不速之客，确定约会时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Times New Roman"/>
              </a:rPr>
              <a:t>守时践约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既不提前，更不迟到，更改在先，赔礼道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E25C-BF46-4E57-AF70-39A0F23E6F68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约哈里窗户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pic>
        <p:nvPicPr>
          <p:cNvPr id="371" name="Object 3" descr=""/>
          <p:cNvPicPr/>
          <p:nvPr/>
        </p:nvPicPr>
        <p:blipFill>
          <a:blip r:embed="rId1"/>
          <a:stretch/>
        </p:blipFill>
        <p:spPr>
          <a:xfrm>
            <a:off x="917640" y="1828800"/>
            <a:ext cx="7307280" cy="4114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116000" y="587700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免费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模板下载</a:t>
            </a:r>
            <a:r>
              <a:rPr b="1" lang="en-US" sz="16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CAMERA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25D9-6BEC-4A07-9A4F-FED2CB3C80EA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情商（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EQ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测定人的情绪情感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指标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Q   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做事本领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Q 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做人表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4"/>
          <p:cNvSpPr/>
          <p:nvPr/>
        </p:nvSpPr>
        <p:spPr>
          <a:xfrm>
            <a:off x="4572000" y="5867280"/>
            <a:ext cx="3809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5"/>
          <p:cNvSpPr/>
          <p:nvPr/>
        </p:nvSpPr>
        <p:spPr>
          <a:xfrm flipV="1">
            <a:off x="4572000" y="228600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8443440" y="55054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EQ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4480920" y="1619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Q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5626440" y="2457360"/>
            <a:ext cx="2551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情低智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情高智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怀才不遇） （春风得意）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情低智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情高智低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平庸一生） （贵人相助）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4800600" y="3886200"/>
            <a:ext cx="40384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6858000" y="2438280"/>
            <a:ext cx="0" cy="297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780E-1C84-4A92-8DB8-F37EAA431B44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与人相处之道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尊重他人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感谢他人的帮助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关心他人，提供帮助、配合与支持，表现温情与爱心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强加于人，体谅他人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谦虚谨慎，戒骄戒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准确扮演自己的角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保持沟通与交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正确对待他人的成绩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0270-AAB2-43E8-A67F-1A5509D121F7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与同事关系的自我评价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每天上班见了同事，你主动问好，表示致意吗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你能细心察觉同事的情感变化，主动询问表示关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切吗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与同事共同工作时，你采取：齐心协力、漫不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精心、推委、拆台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同事遇到困难，你是：热心帮助、表面应付、不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闻不问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遇到难以分清的工作，你是主动去做，还是推给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别人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40AF-4A30-4F63-A140-7F226E94517A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与同事关系的自我评价</a:t>
            </a:r>
            <a:br>
              <a:rPr sz="4000"/>
            </a:b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你需要同事的帮助，你能礼貌的提出请求吗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你认为同事帮助你是应该的，而不需要感谢吗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同事外出，有访客找他，你能代同事热情接待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处理事由吗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同事外出，有电话找他，你是怎样接应电话的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你了解工作中的信息，你在同事面前是神秘兮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兮，还是共同分享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你怎样给同事留言和写备忘条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F589-F5A6-4904-AB28-DAE6EA1F0E1B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与同事关系的自我评价</a:t>
            </a:r>
            <a:br>
              <a:rPr sz="4000"/>
            </a:b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你取得一些成绩时，你会在同事面前流露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炫耀，甚至吹嘘吗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待同事的缺点或毛病，你是看笑话、夸大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喧扬，还是真诚帮助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看到同事取得成绩或上司表扬，你是祝贺、无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谓，还是有些嫉妒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作中，你能与同事相互切磋、共同商量、交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流体会吗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26D6-E1E8-402E-B710-8497034C9578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与上司相处之道（一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尊重上司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上司也是人，是自然人，是普通人，不是完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上司承担的责任比你大，向家中长子，既要完成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父母交给的任务又要管理好弟妹，实属不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了解上司工作职责、侧重点，了解性格、爱好、       习惯，调整自己适应他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体谅上司苦衷，他们担子更重、工作更艰巨、竞争更激烈，也有难与苦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FC3F-9D8D-4B91-A9E9-55746C6A0493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与上司相处之道（一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对上司的期望值要适当，你无论有多大成绩，在物质和精神方面不苛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善为上司保守工作中和私人的秘密，对他忠诚可靠是必备的素质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适时以适当方式与上司沟通、消除误会，表示敬重，加强感情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在公众中给上司留足面子，如艺术的拒绝工作、委婉的提出意见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25B4-ECD2-46AD-96E7-3E8E4490807D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与上司相处之道（二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提醒自己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自己是下属，认清角色和地位，上司是指挥，自己干具体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上司常有理，下属被上司斥责是理所应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服从上司，按上司指示办事，不自作主张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自觉有效地工作，不靠上司监督催促，主动汇报，争取指导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052E-6EB8-40EB-89A8-5D7A5237B810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与上司相处之道（二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 善待上司的批评指教，能虚心聆听，仔细分析，认真反思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 努力学习，提高自己的业务水平和工作能力，作上司的得力助手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 不背后议论、指责、嘲笑上司，不讲上司的闲话、怪话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 工作中的问题不到不得已的时候，不越级汇报和处理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作好工作是应当的，取得成绩也是上司领导的好，不凌驾于上司之上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A4D1-2EA3-461D-8604-9E1EE55A6497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致意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打招呼——已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相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人在</a:t>
            </a:r>
            <a:r>
              <a:rPr b="1" lang="zh-CN" sz="2800" spc="-1" strike="noStrike">
                <a:solidFill>
                  <a:srgbClr val="ccecff"/>
                </a:solidFill>
                <a:latin typeface="Times New Roman"/>
              </a:rPr>
              <a:t>一天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首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见面时的问候礼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早上的问候礼节是公司员工上班时的头等礼节，切莫忽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男先向女、少先向长、下先向上打招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E57F-1F3E-48A7-9AA4-0ED55C81AA95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与上司相处之道（三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了解上司的类型与特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喜欢独断专行，不相信部属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见机行事，变化多端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总爱指责别人，不严以律己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爱管小事、闲事，唠叨不停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无主见，摇摆不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草率粗心，大事小事不过问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脾气暴躁，爱发牢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8CF1-6996-49F8-8368-62462C740310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YOU ARE WELL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1295280" y="1752480"/>
            <a:ext cx="6705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IF  YOU DRESS WEL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YOU WILL LOOK WEL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IF  YOU LOOK WEL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YOU WILL ACT WEL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IF  YOU ACT WEL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OU ARE WEL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0E33-37E5-428A-9316-E576534C838D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衷心感谢</a:t>
            </a:r>
            <a:br>
              <a:rPr sz="4000"/>
            </a:b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15" name="WordArt 3"/>
          <p:cNvSpPr txBox="1"/>
          <p:nvPr/>
        </p:nvSpPr>
        <p:spPr>
          <a:xfrm>
            <a:off x="2057400" y="3657600"/>
            <a:ext cx="5486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The End</a:t>
            </a:r>
            <a:endParaRPr b="1" lang="en-US" sz="32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193824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使用规范说明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0080-8AFF-48D6-97ED-40B457AA9875}" type="slidenum">
              <a:t>93</a:t>
            </a:fld>
          </a:p>
        </p:txBody>
      </p:sp>
    </p:spTree>
  </p:cSld>
  <p:transition spd="med">
    <p:random/>
    <p:sndAc>
      <p:stSnd>
        <p:snd r:embed="rId26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8T01:12:1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9:17:34Z</dcterms:modified>
  <cp:revision>7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