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F6A2-3600-49BC-A79A-5DE5CB68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D7A1-DA18-4EC4-851D-67D6FC51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7BB-1EE3-4BF1-A914-0AF1C042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34C5-9651-4262-9354-EF5C3CA7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0AF3-0097-4DEE-80D5-A6F9FF26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36C0-3240-4CE1-AF22-5051C96D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D97A-1538-4E63-A6AB-10C6C153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EDB0-F7D7-4933-A781-D75ECE8E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A06-17E8-4D2A-972A-8A1133AE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C927-5B67-411B-949B-786FBDB5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2715-2AC5-4A6B-846A-325BF2D9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21E-9454-4207-A891-0BF76482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</a:tabLst>
              <a:defRPr b="1" lang="zh-CN" sz="1200" spc="-1" strike="noStrike">
                <a:solidFill>
                  <a:srgbClr val="898989"/>
                </a:solidFill>
                <a:latin typeface="华文新魏"/>
              </a:defRPr>
            </a:lvl1pPr>
          </a:lstStyle>
          <a:p>
            <a:pPr marL="914400" indent="0">
              <a:buNone/>
              <a:tabLst>
                <a:tab algn="l" pos="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华文新魏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</a:tabLst>
              <a:defRPr b="1" lang="zh-CN" sz="1200" spc="-1" strike="noStrike">
                <a:solidFill>
                  <a:srgbClr val="898989"/>
                </a:solidFill>
                <a:latin typeface="华文新魏"/>
              </a:defRPr>
            </a:lvl1pPr>
          </a:lstStyle>
          <a:p>
            <a:pPr marL="914400" indent="0" algn="r">
              <a:buNone/>
              <a:tabLst>
                <a:tab algn="l" pos="0"/>
              </a:tabLst>
            </a:pPr>
            <a:fld id="{7650D02A-92D7-4C48-A97D-ADCEF03A389B}" type="slidenum">
              <a:rPr b="1" lang="zh-CN" sz="1200" spc="-1" strike="noStrike">
                <a:solidFill>
                  <a:srgbClr val="898989"/>
                </a:solidFill>
                <a:latin typeface="华文新魏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3"/>
          <p:cNvSpPr/>
          <p:nvPr/>
        </p:nvSpPr>
        <p:spPr>
          <a:xfrm>
            <a:off x="250920" y="1339920"/>
            <a:ext cx="1584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1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模板下载：</a:t>
            </a:r>
            <a:r>
              <a:rPr b="1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1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</a:t>
            </a:r>
            <a:r>
              <a:rPr b="1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行业</a:t>
            </a:r>
            <a:r>
              <a:rPr b="1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1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1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hangye/</a:t>
            </a:r>
            <a:r>
              <a:rPr b="1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1" lang="en-US" sz="300" spc="-1" strike="noStrike">
              <a:solidFill>
                <a:srgbClr val="000000"/>
              </a:solidFill>
              <a:latin typeface="华文新魏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节日</a:t>
            </a:r>
            <a:r>
              <a:rPr b="1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1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1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jieri/</a:t>
            </a:r>
            <a:r>
              <a:rPr b="1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     PPT</a:t>
            </a:r>
            <a:r>
              <a:rPr b="1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素材下载：</a:t>
            </a:r>
            <a:r>
              <a:rPr b="1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sucai/</a:t>
            </a:r>
            <a:endParaRPr b="1" lang="en-US" sz="300" spc="-1" strike="noStrike">
              <a:solidFill>
                <a:srgbClr val="000000"/>
              </a:solidFill>
              <a:latin typeface="华文新魏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1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背景图片：</a:t>
            </a:r>
            <a:r>
              <a:rPr b="1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beijing/</a:t>
            </a:r>
            <a:r>
              <a:rPr b="1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PPT</a:t>
            </a:r>
            <a:r>
              <a:rPr b="1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图表下载：</a:t>
            </a:r>
            <a:r>
              <a:rPr b="1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tubiao/</a:t>
            </a:r>
            <a:r>
              <a:rPr b="1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1" lang="en-US" sz="300" spc="-1" strike="noStrike">
              <a:solidFill>
                <a:srgbClr val="000000"/>
              </a:solidFill>
              <a:latin typeface="华文新魏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优秀</a:t>
            </a:r>
            <a:r>
              <a:rPr b="1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1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下载：</a:t>
            </a:r>
            <a:r>
              <a:rPr b="1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xiazai/</a:t>
            </a:r>
            <a:r>
              <a:rPr b="1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  PPT</a:t>
            </a:r>
            <a:r>
              <a:rPr b="1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1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powerpoint/</a:t>
            </a:r>
            <a:r>
              <a:rPr b="1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1" lang="en-US" sz="300" spc="-1" strike="noStrike">
              <a:solidFill>
                <a:srgbClr val="000000"/>
              </a:solidFill>
              <a:latin typeface="华文新魏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Word</a:t>
            </a:r>
            <a:r>
              <a:rPr b="1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1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word/</a:t>
            </a:r>
            <a:r>
              <a:rPr b="1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Excel</a:t>
            </a:r>
            <a:r>
              <a:rPr b="1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教程：</a:t>
            </a:r>
            <a:r>
              <a:rPr b="1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excel</a:t>
            </a:r>
            <a:r>
              <a:rPr b="1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/</a:t>
            </a:r>
            <a:r>
              <a:rPr b="1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1" lang="en-US" sz="300" spc="-1" strike="noStrike">
              <a:solidFill>
                <a:srgbClr val="000000"/>
              </a:solidFill>
              <a:latin typeface="华文新魏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表格下载：</a:t>
            </a:r>
            <a:r>
              <a:rPr b="1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biaoge/</a:t>
            </a:r>
            <a:r>
              <a:rPr b="1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PPT</a:t>
            </a:r>
            <a:r>
              <a:rPr b="1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课件下载：</a:t>
            </a:r>
            <a:r>
              <a:rPr b="1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kejian/</a:t>
            </a:r>
            <a:r>
              <a:rPr b="1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1" lang="en-US" sz="300" spc="-1" strike="noStrike">
              <a:solidFill>
                <a:srgbClr val="000000"/>
              </a:solidFill>
              <a:latin typeface="华文新魏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范文下载：</a:t>
            </a:r>
            <a:r>
              <a:rPr b="1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fanwen/</a:t>
            </a:r>
            <a:r>
              <a:rPr b="1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     </a:t>
            </a:r>
            <a:endParaRPr b="1" lang="en-US" sz="300" spc="-1" strike="noStrike">
              <a:solidFill>
                <a:srgbClr val="000000"/>
              </a:solidFill>
              <a:latin typeface="华文新魏"/>
            </a:endParaRPr>
          </a:p>
        </p:txBody>
      </p:sp>
      <p:pic>
        <p:nvPicPr>
          <p:cNvPr id="80" name="Picture 2" descr="C:\Users\ian\Desktop\ZERO\zero_equation_020810.jpg"/>
          <p:cNvPicPr/>
          <p:nvPr/>
        </p:nvPicPr>
        <p:blipFill>
          <a:blip r:embed="rId1"/>
          <a:srcRect l="0" t="48469" r="0" b="0"/>
          <a:stretch/>
        </p:blipFill>
        <p:spPr>
          <a:xfrm>
            <a:off x="0" y="0"/>
            <a:ext cx="23660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8680" y="6467400"/>
            <a:ext cx="59054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</a:rPr>
              <a:t>模板素材 </a:t>
            </a:r>
            <a:r>
              <a:rPr b="1" lang="zh-CN" sz="2000" spc="-1" strike="noStrike" u="sng">
                <a:solidFill>
                  <a:srgbClr val="0563c1"/>
                </a:solidFill>
                <a:uFillTx/>
                <a:latin typeface="华文新魏"/>
                <a:hlinkClick r:id="rId2"/>
              </a:rPr>
              <a:t>http://www.eeppt.com/sucai/</a:t>
            </a:r>
            <a:endParaRPr b="1" lang="en-US" sz="20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82" name=""/>
          <p:cNvSpPr/>
          <p:nvPr/>
        </p:nvSpPr>
        <p:spPr>
          <a:xfrm>
            <a:off x="4928040" y="195120"/>
            <a:ext cx="44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宋体"/>
              </a:rPr>
              <a:t>太空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宋体"/>
              </a:rPr>
              <a:t>素材</a:t>
            </a:r>
            <a:endParaRPr b="1" lang="en-US" sz="4000" spc="-1" strike="noStrike">
              <a:solidFill>
                <a:srgbClr val="000000"/>
              </a:solidFill>
              <a:latin typeface="华文新魏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-0.92773 0 E">
                                      <p:cBhvr>
                                        <p:cTn id="6" dur="30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新魏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4D6-CF71-4AA5-BFC1-C8C1259278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10:1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19:36Z</dcterms:modified>
  <cp:revision>37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