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0F5-E677-4F08-A46C-E6E64E54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17D-405A-4A1C-B540-9FAE371F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DA9-22C6-4DD2-AC5A-6C42BC29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4FCC-B9C7-4733-841B-F6B918CF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915D-383C-4B71-8B49-3329CC42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2393-5620-4505-AAA9-CCD3D5AE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2123-8AF4-4648-B387-30A280F6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4404-C7E3-46C6-8DB7-07277157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F76D-96F6-494A-B9B7-DF09C4AA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3F3D-00FD-425F-B029-C2A19ED1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5C69-AEB4-4281-A656-13AF426E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8B0-4B6A-47A3-A6A7-3CE263A2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1BCC-081F-4710-9AF7-FE534604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4F94-AF66-4A9C-BE2F-D63EA544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14F2-33F5-4B05-944F-CEDDAAFF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FBD1-D35E-4750-91B4-DDF96EEB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00AA-89FC-479E-9205-46B85D2D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A61-954C-4335-B168-4E0AA4FA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AE3-AF04-43D4-9B76-1467778B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207-4BD8-4C70-A168-7DB6DE19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D95-16E6-46DC-88F5-A57CBBC0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AFF-81F5-4CAF-B00C-28FC129C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E8B-10BA-46B9-B9B5-E47452B3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BC9-4625-4345-81B7-E3B8E01E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357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8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9DCE-97A6-4B30-93E6-22FC5878B95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1F58-B781-4BF7-8983-3D8123FA7034}" type="slidenum">
              <a:rPr b="0" lang="zh-CN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Symbol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Symbol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Symbol" charset="2"/>
              <a:buChar char="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384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通信</a:t>
            </a:r>
            <a:r>
              <a:rPr b="0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PP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模板免费下载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  <a:ea typeface="宋体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eaeae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B97-3DDB-491F-952C-D970111467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  <a:ea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0:12:4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5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_TemplateID">
    <vt:lpwstr>TC010596762052</vt:lpwstr>
  </property>
</Properties>
</file>