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7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3.gif" ContentType="image/gif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FA1-5532-4458-9E26-CB809A4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E3F-0B37-421C-B9AB-649AE5F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709-C313-49D1-AAD7-9AE8255B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872-DA7D-4AEF-8B91-36A0AAE1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6384-E081-494C-A308-7A04B29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856F-5DE5-4C79-8E7F-47AFCF8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C540-B303-4E5D-88D7-696B133A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8B75-D92A-4ED6-AE8F-326DD5A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4442-CF78-4742-9233-E8D8DAA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4420-C566-4983-943E-E41E04E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CE1F-D482-4450-B4DC-A3701C19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B54-AD48-4197-B1C4-2174FC1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AF5-654B-4CFD-BBC8-B9688B9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D611-DBB7-495D-8D98-486066BA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FB7-1C4B-4EFB-9885-9F4E08A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ED14-5EC2-4F35-9B92-D5E8B366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7707-3572-4D94-87D7-B15A50C3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D03-2ACA-4482-B823-42255EBC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767-8A71-4802-B456-B2B3F308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2E6-20F7-486E-BA19-F4278080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773-237A-4EAC-97CC-3A5FFCA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4F1-130A-4719-8856-0663CE2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C3-8FFD-44CF-A4A0-8A9C203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FAB-69CA-4DE5-9AA2-4BAAE8A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49A-F37F-4AE1-BE78-31561326D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762-3512-4E54-A5C4-6C67FADD8E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180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539640" y="2349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我不能失信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66680" y="1066680"/>
            <a:ext cx="67820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耀如    宋庆龄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叠花篮    解释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歉意      道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2127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763640" y="0"/>
            <a:ext cx="26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83400" y="1052640"/>
            <a:ext cx="67644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耀眼  照耀  闪耀  抽水  解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  歉意  道歉  失信  守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尖尖的嘴巴   红红的眼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叠花篮    甜甜地笑了   扑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63640" y="1700280"/>
            <a:ext cx="5688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耀眼  闪耀  抽水  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  道歉  失信  守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叠花篮    扑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2590920" y="228600"/>
            <a:ext cx="39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       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1815120" y="1143000"/>
            <a:ext cx="12250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嘴                笔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土                灰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5040" y="3200400"/>
            <a:ext cx="42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      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57200" y="4038480"/>
            <a:ext cx="762012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色            竹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）球           （        ）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41280" y="1284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727680" y="1284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69880" y="21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804000" y="2198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267560" y="4048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0440" y="4038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343880" y="5038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584680" y="5170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0051111183432270"/>
          <p:cNvPicPr/>
          <p:nvPr/>
        </p:nvPicPr>
        <p:blipFill>
          <a:blip r:embed="rId1"/>
          <a:srcRect l="0" t="5901" r="0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1979640" y="981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细黑"/>
              </a:rPr>
              <a:t>故事发生在什么间？文中讲到了哪几个人？他们间有着怎样的联系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835280" y="26370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爸爸　　　伯伯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　   宋庆龄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华文细黑"/>
                <a:ea typeface="华文细黑"/>
              </a:rPr>
              <a:t>妈妈　　　小珍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971640" y="26028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55640" y="1341360"/>
            <a:ext cx="7993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故事发生在什么时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文中讲到了几个人？他们是什么关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20051111183432270"/>
          <p:cNvPicPr/>
          <p:nvPr/>
        </p:nvPicPr>
        <p:blipFill>
          <a:blip r:embed="rId1"/>
          <a:srcRect l="0" t="5901" r="0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914400" y="2680200"/>
            <a:ext cx="58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课文讲了一个星期天，宋耀如一家准备到一位朋友家去，二女儿宋庆龄也很想去。她突然想起今天上午要教小珍学叠花篮，爸爸妈妈都劝她改天再教，但她为了守信就留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一男画框1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4961160" y="693720"/>
            <a:ext cx="7902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宋庆龄想不想去伯伯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她为什么停住了脚步不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别人是怎么劝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她是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你从中受到了哪些启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2743200" y="990720"/>
            <a:ext cx="3657600" cy="4800600"/>
          </a:xfrm>
          <a:prstGeom prst="cloudCallout">
            <a:avLst>
              <a:gd name="adj1" fmla="val -49611"/>
              <a:gd name="adj2" fmla="val -9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父亲见庆龄停住了脚步，奇怪地问：“庆龄，你怎么不走啦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94284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olorcool_11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819440" y="83664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楷体_GB2312"/>
              </a:rPr>
              <a:t>信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3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/>
          <p:cNvSpPr/>
          <p:nvPr/>
        </p:nvSpPr>
        <p:spPr>
          <a:xfrm>
            <a:off x="-152280" y="0"/>
            <a:ext cx="5257800" cy="5105520"/>
          </a:xfrm>
          <a:prstGeom prst="cloudCallout">
            <a:avLst>
              <a:gd name="adj1" fmla="val 42574"/>
              <a:gd name="adj2" fmla="val 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行！不行！小珍来了会扑空的，那多不好啊！”庆龄边说边把手抽回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-533520" y="0"/>
            <a:ext cx="5486400" cy="4876920"/>
          </a:xfrm>
          <a:prstGeom prst="cloudCallout">
            <a:avLst>
              <a:gd name="adj1" fmla="val 57291"/>
              <a:gd name="adj2" fmla="val -4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，妈妈。如果我忘记了这件事，明天见到她时，可以道歉；可是我并没有忘记，我不能失信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77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7"/>
          <p:cNvPicPr/>
          <p:nvPr/>
        </p:nvPicPr>
        <p:blipFill>
          <a:blip r:embed="rId2"/>
          <a:stretch/>
        </p:blipFill>
        <p:spPr>
          <a:xfrm>
            <a:off x="3733920" y="3581280"/>
            <a:ext cx="69721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6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762120" y="1143000"/>
            <a:ext cx="38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明白了，我们的庆龄是个守信用的孩子。”妈妈望着庆龄笑了笑，说，“那你就留下来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分角色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33"/>
                </a:solidFill>
                <a:latin typeface="Arial"/>
              </a:rPr>
              <a:t>小组长主持，分配角色，练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33"/>
                </a:solidFill>
                <a:latin typeface="Arial"/>
              </a:rPr>
              <a:t>小组长抽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33"/>
                </a:solidFill>
                <a:latin typeface="Arial"/>
              </a:rPr>
              <a:t>小组比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755640" y="2133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你认为宋庆龄做得对吗？为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1219320" y="1599120"/>
            <a:ext cx="61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你在日常生活中有没有遇到过类似的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02360" y="35812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你是怎么处理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B21965D27FB9EBFF92E7FF42EA385950"/>
          <p:cNvPicPr/>
          <p:nvPr/>
        </p:nvPicPr>
        <p:blipFill>
          <a:blip r:embed="rId2"/>
          <a:stretch/>
        </p:blipFill>
        <p:spPr>
          <a:xfrm>
            <a:off x="533520" y="1523880"/>
            <a:ext cx="1314360" cy="766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B21965D27FB9EBFF92E7FF42EA385950"/>
          <p:cNvPicPr/>
          <p:nvPr/>
        </p:nvPicPr>
        <p:blipFill>
          <a:blip r:embed="rId3"/>
          <a:stretch/>
        </p:blipFill>
        <p:spPr>
          <a:xfrm>
            <a:off x="533520" y="3581280"/>
            <a:ext cx="13143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1042920" y="3374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　俗话说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诺千金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诚实守信是我们做人处事的基本准则，希望以后大家也能像宋庆龄一样重诺言，守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-770760" y="1627920"/>
            <a:ext cx="1064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言不信者，行不果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            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            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 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墨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403280" y="2660760"/>
            <a:ext cx="5410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隶书"/>
                <a:ea typeface="隶书"/>
              </a:rPr>
              <a:t>失信就是失败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             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左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11280" y="4724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一 诺（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nu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)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千 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755640" y="2133720"/>
            <a:ext cx="7854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与朋友交，言而有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言必信，行必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言为重百金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lorcool_11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61080" y="836640"/>
            <a:ext cx="1796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楷体_GB2312"/>
              </a:rPr>
              <a:t>失信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olorcool_11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259720" y="692280"/>
            <a:ext cx="421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楷体_GB2312"/>
              </a:rPr>
              <a:t>我不能失信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我不能失信1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5491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能失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宋庆龄"/>
          <p:cNvPicPr/>
          <p:nvPr/>
        </p:nvPicPr>
        <p:blipFill>
          <a:blip r:embed="rId1"/>
          <a:stretch/>
        </p:blipFill>
        <p:spPr>
          <a:xfrm>
            <a:off x="0" y="476280"/>
            <a:ext cx="4643280" cy="5445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716360" y="0"/>
            <a:ext cx="442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宋庆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杰出的女政治活动家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界和平运动活动家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191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与孙中山结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经担任过中华人民共和国副主席和名誉主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国际上公认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最伟大的女性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5"/>
          <p:cNvPicPr/>
          <p:nvPr/>
        </p:nvPicPr>
        <p:blipFill>
          <a:blip r:embed="rId2"/>
          <a:stretch/>
        </p:blipFill>
        <p:spPr>
          <a:xfrm>
            <a:off x="0" y="836640"/>
            <a:ext cx="3708360" cy="602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图片1"/>
          <p:cNvPicPr/>
          <p:nvPr/>
        </p:nvPicPr>
        <p:blipFill>
          <a:blip r:embed="rId3"/>
          <a:stretch/>
        </p:blipFill>
        <p:spPr>
          <a:xfrm>
            <a:off x="0" y="792000"/>
            <a:ext cx="3780000" cy="609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插图2"/>
          <p:cNvPicPr/>
          <p:nvPr/>
        </p:nvPicPr>
        <p:blipFill>
          <a:blip r:embed="rId4"/>
          <a:stretch/>
        </p:blipFill>
        <p:spPr>
          <a:xfrm>
            <a:off x="0" y="692280"/>
            <a:ext cx="3780000" cy="54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"/>
          <p:cNvPicPr/>
          <p:nvPr/>
        </p:nvPicPr>
        <p:blipFill>
          <a:blip r:embed="rId5"/>
          <a:stretch/>
        </p:blipFill>
        <p:spPr>
          <a:xfrm>
            <a:off x="0" y="4941720"/>
            <a:ext cx="3780000" cy="1916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851280" y="242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宋庆龄生前非常关心少年儿童的身心健康，在条件极为困难的情况下，她倡导和兴办了儿童文化教育的场所和保健机构，在我国起到了示范作用。她一生无私无畏，艰苦奋斗，执着追求。她的高风亮节和坦荡胸怀为我国各族人民所敬仰。她生前一直希望看到祖国统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WordArt 7" descr=""/>
          <p:cNvPicPr/>
          <p:nvPr/>
        </p:nvPicPr>
        <p:blipFill>
          <a:blip r:embed="rId6"/>
          <a:stretch/>
        </p:blipFill>
        <p:spPr>
          <a:xfrm>
            <a:off x="5218200" y="907920"/>
            <a:ext cx="1901880" cy="927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-228600"/>
            <a:ext cx="9677520" cy="7410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411280" y="112536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正确、流利地朗读课文，有感情地朗读人物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把握文章的主要内容，感受宋庆龄诚实守信的可贵品质，使自己在做人做事上获得启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培养独立阅读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52200" y="1989000"/>
            <a:ext cx="1521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533520" y="925560"/>
            <a:ext cx="8001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自由朗读课文，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助拼音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通课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序号标出自然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0:42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20:1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