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6.gif" ContentType="image/gif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1.gif" ContentType="image/gif"/>
  <Override PartName="/ppt/media/image28.jpeg" ContentType="image/jpeg"/>
  <Override PartName="/ppt/media/image34.jpeg" ContentType="image/jpeg"/>
  <Override PartName="/ppt/media/image14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7.jpeg" ContentType="image/jpeg"/>
  <Override PartName="/ppt/media/image5.gif" ContentType="image/gif"/>
  <Override PartName="/ppt/media/image38.jpeg" ContentType="image/jpeg"/>
  <Override PartName="/ppt/media/image32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27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C8FF-66C4-4CF4-AF97-40B909F2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8F1-0A37-4AAF-AF95-6E4DE4C3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6540-BDF4-4E4D-AE0C-C11120AB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F24D-FD1C-4B6C-94B1-84AD16BA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062B-B619-411B-B3DB-FBF94FC4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19AC-4339-457B-B718-09D85F6B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3694-E8A2-4DC4-86EA-5D3A9BAA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DE76-A1C7-4A3C-8CB9-D970E190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7E9E-5D21-4FCA-9FCC-801CE31B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9894-C37E-4E57-83D1-D2407950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F3C4-E026-4A41-93FE-B597F6CC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30F4-6605-44FD-96B6-95DE8DFE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42C6-E61D-4C77-A9F5-141DAC64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F1EC-D76D-4842-9F04-56BF4B7C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AE7B-E55F-40F5-9D1C-C38A2E81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9444-519C-4D5A-A460-DAE422E1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9FA9-750A-41F4-B621-E7467857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34D11-CBB9-4E7C-9F7B-F0463B50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369B8-35F8-4385-96BC-32298FB4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BCBF1-B819-406F-B69D-0D5374B1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DC1FE-07F3-412B-A5B3-CCD2F310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1A277-3FEC-4959-905B-4D832EC5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431C-B5EF-4CB3-99A0-F1BEA9F2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849BB-1166-40A8-BBB3-DE3BA0BC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512B6-B4B6-48AB-A17B-CE6219F9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85E86-5B88-4D07-BE62-732CBAF6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826E8-ED3D-45D5-A094-624FE7F9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1E40E-C657-4EF3-B257-76983F66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C191B-03D4-4A52-8F0E-1D063FE6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0AFFC-B42B-4297-88DB-80B5C6B9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EAE8E-B711-4C6E-B99E-19588FBD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86190-FF6D-488D-A585-74780233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4BE9A-80DA-4178-9A70-19A7792D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EF44-CC70-4391-BEAE-DCC621DB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70393-0804-4AD0-8F9A-2E615FB0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99EB8-9762-49D3-9DCF-835A47C9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A93F1-B829-4F28-AE27-52D11958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47E62-43E0-441C-95C1-BFF2470D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4C024-5E8C-46A0-937C-F420578D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BF11F-689A-404A-9C76-2558E81B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F8BD6-AFA7-4F1F-B271-8616FE0F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2030A-947B-4013-B04F-678FC609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7C532-3D1A-4A55-A915-E6E603E5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86695-3A5D-4933-BC19-B058CE08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D607-0B64-430D-8EDB-CFA91C06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E401C-674A-4A93-9296-0861B6E3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79315-1B9B-4677-A642-48EADF97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A5F65-2F39-4E9F-AF7E-842EF242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AC78B-9760-4071-8182-DF711904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96E74-56F5-4EBE-8A5E-CC22E277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05D58-1074-4131-85BB-5FF60F0A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631C2-22F4-4ECF-8CED-2F1D84E1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0CDB0-0551-4FC3-ABE9-913B7943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72D68-B8CD-4DA1-9249-85DDA3C5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14EC7-B65B-46A5-B2EA-26B66D04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B9A6-15BD-481D-9F10-46F117F7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FFFA7-FCF1-4B1F-8076-C4382C88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670B-AE32-4928-ACA8-3390214F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D4EF-B233-470D-883F-FFBAB51F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0D7-1CBA-48CE-8793-F198F9E3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2553-4025-4765-AA2E-216E742716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3AB8-781C-48A5-8366-ED87A87431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FE50-082F-45B3-8618-720E330260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60BD-EA95-4A8F-BF5B-6637FFAD35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5f5f5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5f5f5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dt" idx="13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5f5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ftr" idx="14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c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cccc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cccc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cc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C998-0BCA-47A2-87A6-13C76175E775}" type="slidenum">
              <a:rPr b="0" lang="zh-CN" sz="14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exercise"/>
          <p:cNvPicPr/>
          <p:nvPr/>
        </p:nvPicPr>
        <p:blipFill>
          <a:blip r:embed="rId2"/>
          <a:srcRect l="-5297" t="-7299" r="13128" b="15197"/>
          <a:stretch/>
        </p:blipFill>
        <p:spPr>
          <a:xfrm>
            <a:off x="-539640" y="-603360"/>
            <a:ext cx="9696240" cy="7461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2143440" y="2349360"/>
            <a:ext cx="486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壁虎借尾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课件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598"/>
          <p:cNvPicPr/>
          <p:nvPr/>
        </p:nvPicPr>
        <p:blipFill>
          <a:blip r:embed="rId1"/>
          <a:stretch/>
        </p:blipFill>
        <p:spPr>
          <a:xfrm>
            <a:off x="0" y="228600"/>
            <a:ext cx="5410080" cy="643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壁虎"/>
          <p:cNvPicPr/>
          <p:nvPr/>
        </p:nvPicPr>
        <p:blipFill>
          <a:blip r:embed="rId1"/>
          <a:stretch/>
        </p:blipFill>
        <p:spPr>
          <a:xfrm>
            <a:off x="1116000" y="0"/>
            <a:ext cx="5888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壁虎3"/>
          <p:cNvPicPr/>
          <p:nvPr/>
        </p:nvPicPr>
        <p:blipFill>
          <a:blip r:embed="rId1"/>
          <a:stretch/>
        </p:blipFill>
        <p:spPr>
          <a:xfrm>
            <a:off x="1116000" y="0"/>
            <a:ext cx="5732640" cy="68612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壁虎4"/>
          <p:cNvPicPr/>
          <p:nvPr/>
        </p:nvPicPr>
        <p:blipFill>
          <a:blip r:embed="rId1"/>
          <a:stretch/>
        </p:blipFill>
        <p:spPr>
          <a:xfrm>
            <a:off x="1182600" y="88920"/>
            <a:ext cx="5405400" cy="66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图片1"/>
          <p:cNvPicPr/>
          <p:nvPr/>
        </p:nvPicPr>
        <p:blipFill>
          <a:blip r:embed="rId1"/>
          <a:srcRect l="5904" t="0" r="0" b="3663"/>
          <a:stretch/>
        </p:blipFill>
        <p:spPr>
          <a:xfrm>
            <a:off x="0" y="-3636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3"/>
          <p:cNvSpPr/>
          <p:nvPr/>
        </p:nvSpPr>
        <p:spPr>
          <a:xfrm>
            <a:off x="2016000" y="1147680"/>
            <a:ext cx="759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壁虎借不到尾巴心情怎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4"/>
          <p:cNvSpPr/>
          <p:nvPr/>
        </p:nvSpPr>
        <p:spPr>
          <a:xfrm>
            <a:off x="4356000" y="3789360"/>
            <a:ext cx="914400" cy="91440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11GT15W340214Q"/>
          <p:cNvPicPr/>
          <p:nvPr/>
        </p:nvPicPr>
        <p:blipFill>
          <a:blip r:embed="rId1"/>
          <a:srcRect l="0" t="0" r="0" b="31853"/>
          <a:stretch/>
        </p:blipFill>
        <p:spPr>
          <a:xfrm>
            <a:off x="2197080" y="27000"/>
            <a:ext cx="4680000" cy="34732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3"/>
          <p:cNvSpPr/>
          <p:nvPr/>
        </p:nvSpPr>
        <p:spPr>
          <a:xfrm>
            <a:off x="0" y="3573360"/>
            <a:ext cx="9144000" cy="3323880"/>
          </a:xfrm>
          <a:prstGeom prst="rect">
            <a:avLst/>
          </a:prstGeom>
          <a:solidFill>
            <a:srgbClr val="ffff99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小壁虎借不到尾巴，心里很难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他爬呀爬，爬回家里找妈妈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11GT15Y2Z33042"/>
          <p:cNvPicPr/>
          <p:nvPr/>
        </p:nvPicPr>
        <p:blipFill>
          <a:blip r:embed="rId1"/>
          <a:srcRect l="0" t="4669" r="0" b="15995"/>
          <a:stretch/>
        </p:blipFill>
        <p:spPr>
          <a:xfrm>
            <a:off x="34920" y="1413000"/>
            <a:ext cx="4898880" cy="518472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11"/>
          <p:cNvGrpSpPr/>
          <p:nvPr/>
        </p:nvGrpSpPr>
        <p:grpSpPr>
          <a:xfrm>
            <a:off x="2124000" y="404640"/>
            <a:ext cx="6443640" cy="1440000"/>
            <a:chOff x="2124000" y="404640"/>
            <a:chExt cx="6443640" cy="1440000"/>
          </a:xfrm>
        </p:grpSpPr>
        <p:sp>
          <p:nvSpPr>
            <p:cNvPr id="269" name="AutoShape 5"/>
            <p:cNvSpPr/>
            <p:nvPr/>
          </p:nvSpPr>
          <p:spPr>
            <a:xfrm>
              <a:off x="2124000" y="404640"/>
              <a:ext cx="6443640" cy="1440000"/>
            </a:xfrm>
            <a:prstGeom prst="wedgeRoundRectCallout">
              <a:avLst>
                <a:gd name="adj1" fmla="val -53472"/>
                <a:gd name="adj2" fmla="val 160143"/>
                <a:gd name="adj3" fmla="val 16667"/>
              </a:avLst>
            </a:prstGeom>
            <a:solidFill>
              <a:srgbClr val="ccff33">
                <a:alpha val="7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6"/>
            <p:cNvSpPr/>
            <p:nvPr/>
          </p:nvSpPr>
          <p:spPr>
            <a:xfrm>
              <a:off x="2484360" y="711000"/>
              <a:ext cx="59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傻孩子，你转过身子看看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2"/>
          <p:cNvGrpSpPr/>
          <p:nvPr/>
        </p:nvGrpSpPr>
        <p:grpSpPr>
          <a:xfrm>
            <a:off x="3492360" y="3139920"/>
            <a:ext cx="5364000" cy="1512720"/>
            <a:chOff x="3492360" y="3139920"/>
            <a:chExt cx="5364000" cy="1512720"/>
          </a:xfrm>
        </p:grpSpPr>
        <p:sp>
          <p:nvSpPr>
            <p:cNvPr id="272" name="AutoShape 7"/>
            <p:cNvSpPr/>
            <p:nvPr/>
          </p:nvSpPr>
          <p:spPr>
            <a:xfrm>
              <a:off x="3492360" y="3139920"/>
              <a:ext cx="5364000" cy="1512720"/>
            </a:xfrm>
            <a:prstGeom prst="wedgeRoundRectCallout">
              <a:avLst>
                <a:gd name="adj1" fmla="val -63555"/>
                <a:gd name="adj2" fmla="val 28490"/>
                <a:gd name="adj3" fmla="val 16667"/>
              </a:avLst>
            </a:prstGeom>
            <a:solidFill>
              <a:srgbClr val="ff99ff">
                <a:alpha val="8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0"/>
            <p:cNvSpPr/>
            <p:nvPr/>
          </p:nvSpPr>
          <p:spPr>
            <a:xfrm>
              <a:off x="6051600" y="344772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长出一条新尾巴啦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5724360" y="333360"/>
            <a:ext cx="2160720" cy="158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bì h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壁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755640" y="2868480"/>
            <a:ext cx="8280360" cy="337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壁虎是一种爬行动物，它的身体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扁平的，尾巴是圆的，四肢短，趾上有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吸盘，能在墙壁、天花板或光滑的地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爬。遇到敌害时，尾巴会自己掉下来迷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惑敌害，不久会再长出一条尾巴来。它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吃蚊、蝇、蛾等小昆虫，对人类有益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1898396_211418000_2"/>
          <p:cNvPicPr/>
          <p:nvPr/>
        </p:nvPicPr>
        <p:blipFill>
          <a:blip r:embed="rId1"/>
          <a:srcRect l="6444" t="12263" r="9393" b="10036"/>
          <a:stretch/>
        </p:blipFill>
        <p:spPr>
          <a:xfrm>
            <a:off x="1187280" y="270000"/>
            <a:ext cx="3386160" cy="207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2010052436658313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684360" y="765000"/>
            <a:ext cx="96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小壁虎到过哪些地方？跟谁借过尾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1724040" y="1341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地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1640520" y="220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2851560" y="1360440"/>
            <a:ext cx="13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河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4427640" y="1341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树上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6444360" y="1341360"/>
            <a:ext cx="13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房檐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3081960" y="220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小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4737600" y="220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老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6659640" y="220500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燕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1"/>
          <p:cNvSpPr/>
          <p:nvPr/>
        </p:nvSpPr>
        <p:spPr>
          <a:xfrm>
            <a:off x="2700360" y="1989000"/>
            <a:ext cx="1511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2"/>
          <p:cNvSpPr/>
          <p:nvPr/>
        </p:nvSpPr>
        <p:spPr>
          <a:xfrm>
            <a:off x="4643280" y="1916280"/>
            <a:ext cx="1584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>
            <a:off x="6588000" y="1916280"/>
            <a:ext cx="1297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4"/>
          <p:cNvSpPr/>
          <p:nvPr/>
        </p:nvSpPr>
        <p:spPr>
          <a:xfrm>
            <a:off x="3059280" y="2852640"/>
            <a:ext cx="792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5"/>
          <p:cNvSpPr/>
          <p:nvPr/>
        </p:nvSpPr>
        <p:spPr>
          <a:xfrm>
            <a:off x="4788000" y="2852640"/>
            <a:ext cx="1152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6"/>
          <p:cNvSpPr/>
          <p:nvPr/>
        </p:nvSpPr>
        <p:spPr>
          <a:xfrm>
            <a:off x="6732720" y="2852640"/>
            <a:ext cx="1008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468360" y="506520"/>
            <a:ext cx="83167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68360" y="258840"/>
            <a:ext cx="7775640" cy="71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bì        hǔ         jiè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壁     虎      借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wén      </a:t>
            </a: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shé         tá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蚊     蛇      逃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nán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jiě         xī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难     姐      新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练习2"/>
          <p:cNvPicPr/>
          <p:nvPr/>
        </p:nvPicPr>
        <p:blipFill>
          <a:blip r:embed="rId1"/>
          <a:srcRect l="0" t="2191" r="0" b="39377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296" name="Line 5"/>
          <p:cNvSpPr/>
          <p:nvPr/>
        </p:nvSpPr>
        <p:spPr>
          <a:xfrm>
            <a:off x="4114800" y="1143000"/>
            <a:ext cx="152388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6"/>
          <p:cNvSpPr/>
          <p:nvPr/>
        </p:nvSpPr>
        <p:spPr>
          <a:xfrm>
            <a:off x="4114800" y="2057400"/>
            <a:ext cx="152388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7"/>
          <p:cNvSpPr/>
          <p:nvPr/>
        </p:nvSpPr>
        <p:spPr>
          <a:xfrm flipV="1">
            <a:off x="4572000" y="114300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8"/>
          <p:cNvSpPr/>
          <p:nvPr/>
        </p:nvSpPr>
        <p:spPr>
          <a:xfrm flipV="1">
            <a:off x="4495680" y="2133360"/>
            <a:ext cx="11430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练习2"/>
          <p:cNvPicPr/>
          <p:nvPr/>
        </p:nvPicPr>
        <p:blipFill>
          <a:blip r:embed="rId1"/>
          <a:srcRect l="0" t="59562" r="0" b="0"/>
          <a:stretch/>
        </p:blipFill>
        <p:spPr>
          <a:xfrm>
            <a:off x="-104760" y="0"/>
            <a:ext cx="9248760" cy="6723000"/>
          </a:xfrm>
          <a:prstGeom prst="rect">
            <a:avLst/>
          </a:prstGeom>
          <a:ln w="0">
            <a:noFill/>
          </a:ln>
        </p:spPr>
      </p:pic>
      <p:sp>
        <p:nvSpPr>
          <p:cNvPr id="303" name="Line 5"/>
          <p:cNvSpPr/>
          <p:nvPr/>
        </p:nvSpPr>
        <p:spPr>
          <a:xfrm>
            <a:off x="3962520" y="1523880"/>
            <a:ext cx="160020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6"/>
          <p:cNvSpPr/>
          <p:nvPr/>
        </p:nvSpPr>
        <p:spPr>
          <a:xfrm>
            <a:off x="3886200" y="2666880"/>
            <a:ext cx="16002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7"/>
          <p:cNvSpPr/>
          <p:nvPr/>
        </p:nvSpPr>
        <p:spPr>
          <a:xfrm flipV="1">
            <a:off x="3886200" y="1599840"/>
            <a:ext cx="175248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8"/>
          <p:cNvSpPr/>
          <p:nvPr/>
        </p:nvSpPr>
        <p:spPr>
          <a:xfrm flipV="1">
            <a:off x="3962520" y="2590920"/>
            <a:ext cx="16761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2"/>
          <p:cNvPicPr/>
          <p:nvPr/>
        </p:nvPicPr>
        <p:blipFill>
          <a:blip r:embed="rId1"/>
          <a:stretch/>
        </p:blipFill>
        <p:spPr>
          <a:xfrm>
            <a:off x="0" y="-326880"/>
            <a:ext cx="9540720" cy="7837200"/>
          </a:xfrm>
          <a:prstGeom prst="rect">
            <a:avLst/>
          </a:prstGeom>
          <a:ln w="0">
            <a:noFill/>
          </a:ln>
        </p:spPr>
      </p:pic>
      <p:sp>
        <p:nvSpPr>
          <p:cNvPr id="308" name="AutoShape 3"/>
          <p:cNvSpPr/>
          <p:nvPr/>
        </p:nvSpPr>
        <p:spPr>
          <a:xfrm>
            <a:off x="539640" y="289080"/>
            <a:ext cx="2087640" cy="76356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684360" y="33012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读读说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476360" y="1700280"/>
            <a:ext cx="7343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游来游去　　飞来飞去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跑来跑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4595760" y="2583000"/>
            <a:ext cx="436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跳来跳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7"/>
          <p:cNvSpPr/>
          <p:nvPr/>
        </p:nvSpPr>
        <p:spPr>
          <a:xfrm>
            <a:off x="2340000" y="4292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8"/>
          <p:cNvSpPr/>
          <p:nvPr/>
        </p:nvSpPr>
        <p:spPr>
          <a:xfrm>
            <a:off x="3851280" y="42354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771640" y="3716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来　　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669960" y="108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"/>
          <p:cNvPicPr/>
          <p:nvPr/>
        </p:nvPicPr>
        <p:blipFill>
          <a:blip r:embed="rId2"/>
          <a:stretch/>
        </p:blipFill>
        <p:spPr>
          <a:xfrm>
            <a:off x="4724280" y="3581280"/>
            <a:ext cx="3276720" cy="32767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"/>
          <p:cNvPicPr/>
          <p:nvPr/>
        </p:nvPicPr>
        <p:blipFill>
          <a:blip r:embed="rId3"/>
          <a:stretch/>
        </p:blipFill>
        <p:spPr>
          <a:xfrm>
            <a:off x="4724280" y="35812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"/>
          <p:cNvPicPr/>
          <p:nvPr/>
        </p:nvPicPr>
        <p:blipFill>
          <a:blip r:embed="rId4"/>
          <a:stretch/>
        </p:blipFill>
        <p:spPr>
          <a:xfrm>
            <a:off x="2743200" y="3733920"/>
            <a:ext cx="3276720" cy="11430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7"/>
          <p:cNvSpPr/>
          <p:nvPr/>
        </p:nvSpPr>
        <p:spPr>
          <a:xfrm>
            <a:off x="990720" y="26668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8" descr=""/>
          <p:cNvPicPr/>
          <p:nvPr/>
        </p:nvPicPr>
        <p:blipFill>
          <a:blip r:embed="rId5"/>
          <a:stretch/>
        </p:blipFill>
        <p:spPr>
          <a:xfrm>
            <a:off x="0" y="1219320"/>
            <a:ext cx="7391520" cy="5029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9"/>
          <p:cNvSpPr/>
          <p:nvPr/>
        </p:nvSpPr>
        <p:spPr>
          <a:xfrm>
            <a:off x="282960" y="260280"/>
            <a:ext cx="917820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选字填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</a:t>
            </a: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摆   摇   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鱼（     ）着尾巴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老牛（   ）着尾巴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燕子（     ）着尾巴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3348000" y="263700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3059280" y="3716280"/>
            <a:ext cx="144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2"/>
          <p:cNvSpPr/>
          <p:nvPr/>
        </p:nvSpPr>
        <p:spPr>
          <a:xfrm>
            <a:off x="3276720" y="48690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480DB-1310-47AF-B104-3A2173786F7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33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84360" y="404640"/>
            <a:ext cx="8413560" cy="71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照样子填一填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鱼     游    来    游       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燕子（     ）来（      ） 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老牛（     ）来（      ） 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壁虎（     ）来（      ） 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2771640" y="27082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2771640" y="393552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2852640" y="51577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">
            <a:hlinkClick r:id="" action="ppaction://hlinkshowjump?jump=nextslide"/>
          </p:cNvPr>
          <p:cNvSpPr/>
          <p:nvPr/>
        </p:nvSpPr>
        <p:spPr>
          <a:xfrm>
            <a:off x="6010200" y="5157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6010200" y="39355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5951520" y="2709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啄木鸟"/>
          <p:cNvPicPr/>
          <p:nvPr/>
        </p:nvPicPr>
        <p:blipFill>
          <a:blip r:embed="rId1"/>
          <a:stretch/>
        </p:blipFill>
        <p:spPr>
          <a:xfrm>
            <a:off x="0" y="1728720"/>
            <a:ext cx="9144000" cy="51292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所知道的形形色色的动物尾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啄木鸟的尾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Less" w="21600" h="21600">
                <a:moveTo>
                  <a:pt x="5244" y="3949"/>
                </a:moveTo>
                <a:lnTo>
                  <a:pt x="12279" y="3949"/>
                </a:lnTo>
                <a:lnTo>
                  <a:pt x="16356" y="7466"/>
                </a:lnTo>
                <a:lnTo>
                  <a:pt x="16356" y="17651"/>
                </a:lnTo>
                <a:lnTo>
                  <a:pt x="5244" y="17651"/>
                </a:lnTo>
                <a:close/>
              </a:path>
              <a:path fill="darken" w="21600" h="21600">
                <a:moveTo>
                  <a:pt x="12279" y="3949"/>
                </a:moveTo>
                <a:lnTo>
                  <a:pt x="16356" y="7466"/>
                </a:lnTo>
                <a:lnTo>
                  <a:pt x="12279" y="746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>
            <a:off x="5148360" y="189000"/>
            <a:ext cx="3744720" cy="273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 Black"/>
                <a:ea typeface="楷体_GB2312"/>
              </a:rPr>
              <a:t>我的尾巴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 Black"/>
                <a:ea typeface="楷体_GB2312"/>
              </a:rPr>
              <a:t>铆钉，铆在树上好啄虫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457200" y="380880"/>
            <a:ext cx="7620120" cy="703440"/>
          </a:xfrm>
          <a:prstGeom prst="rect">
            <a:avLst/>
          </a:prstGeom>
          <a:solidFill>
            <a:srgbClr val="ffff99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它们尾巴的作用，你知道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457200" y="1523880"/>
            <a:ext cx="7924680" cy="764280"/>
          </a:xfrm>
          <a:prstGeom prst="rect">
            <a:avLst/>
          </a:pr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鸟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611280" y="2421000"/>
            <a:ext cx="4647960" cy="642600"/>
          </a:xfrm>
          <a:prstGeom prst="rect">
            <a:avLst/>
          </a:prstGeom>
          <a:solidFill>
            <a:srgbClr val="ffffcc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把尾巴当作飞行器。鸟的尾巴上长着又长又宽的羽毛，这些羽毛展开时好像扇子，能够灵活转动，便于掌握飞行的方向。鸟尾起着舵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7" descr="8b527d2742810051918f9d81"/>
          <p:cNvPicPr/>
          <p:nvPr/>
        </p:nvPicPr>
        <p:blipFill>
          <a:blip r:embed="rId1"/>
          <a:srcRect l="37131" t="0" r="0" b="0"/>
          <a:stretch/>
        </p:blipFill>
        <p:spPr>
          <a:xfrm>
            <a:off x="5003640" y="1197000"/>
            <a:ext cx="3889440" cy="464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380880" y="0"/>
            <a:ext cx="8305920" cy="26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304920" y="0"/>
            <a:ext cx="883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Ptw_112"/>
          <p:cNvPicPr/>
          <p:nvPr/>
        </p:nvPicPr>
        <p:blipFill>
          <a:blip r:embed="rId1"/>
          <a:stretch/>
        </p:blipFill>
        <p:spPr>
          <a:xfrm>
            <a:off x="1116000" y="3627360"/>
            <a:ext cx="6048360" cy="323064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"/>
          <p:cNvSpPr/>
          <p:nvPr/>
        </p:nvSpPr>
        <p:spPr>
          <a:xfrm>
            <a:off x="54000" y="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Times New Roman"/>
              </a:rPr>
              <a:t>袋鼠的尾巴又粗又长，长满肌肉。它既能在袋鼠休息时支撑袋鼠的身体，又能在袋鼠跳跃起帮助袋鼠跳得更快更远。一旦遇到紧急情况，袋鼠在尾巴的帮助下能跳出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zh-CN" sz="4800" spc="-1" strike="noStrike">
                <a:solidFill>
                  <a:srgbClr val="333333"/>
                </a:solidFill>
                <a:latin typeface="Times New Roman"/>
              </a:rPr>
              <a:t>米多远。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Ptw_071"/>
          <p:cNvPicPr/>
          <p:nvPr/>
        </p:nvPicPr>
        <p:blipFill>
          <a:blip r:embed="rId1"/>
          <a:stretch/>
        </p:blipFill>
        <p:spPr>
          <a:xfrm>
            <a:off x="-108000" y="1052640"/>
            <a:ext cx="4378320" cy="518472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3"/>
          <p:cNvSpPr/>
          <p:nvPr/>
        </p:nvSpPr>
        <p:spPr>
          <a:xfrm>
            <a:off x="4343400" y="115920"/>
            <a:ext cx="48006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鹿的尾巴又小又短，然而它却是重要的报警器。当危险带近鹿群时，首先发现敌害的鹿会竖起尾巴，露出下面的亮点，向同伴发出警报。鹿群一接到警报就会马上逃离。</a:t>
            </a:r>
            <a:br>
              <a:rPr sz="4400"/>
            </a:br>
            <a:br>
              <a:rPr sz="5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bj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990720" y="106668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346480" y="497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 flipV="1">
            <a:off x="1219320" y="36576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7543800" y="4572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619280" y="4076640"/>
            <a:ext cx="712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 难 姐 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1403280" y="2492280"/>
            <a:ext cx="81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壁 虎 借 蛇 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3348000" y="20667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5508720" y="20667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6804000" y="2060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2268360" y="37958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3"/>
          <p:cNvSpPr/>
          <p:nvPr/>
        </p:nvSpPr>
        <p:spPr>
          <a:xfrm flipH="1">
            <a:off x="538920" y="404640"/>
            <a:ext cx="2305080" cy="936720"/>
          </a:xfrm>
          <a:prstGeom prst="cloudCallout">
            <a:avLst>
              <a:gd name="adj1" fmla="val -55856"/>
              <a:gd name="adj2" fmla="val 100675"/>
            </a:avLst>
          </a:prstGeom>
          <a:solidFill>
            <a:srgbClr val="66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14"/>
          <p:cNvSpPr txBox="1"/>
          <p:nvPr/>
        </p:nvSpPr>
        <p:spPr>
          <a:xfrm>
            <a:off x="971640" y="62064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我会读</a:t>
            </a:r>
            <a:endParaRPr b="0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685800" y="30492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鳄鱼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—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3048120" y="3049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尾巴当作武器。非洲鳄，见到牛、羚羊、鹿等动物在河边饮水时，便突然把尾巴一扫，把这些动物打入河里，然后张开大嘴，饱餐一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6" descr="206128preview2"/>
          <p:cNvPicPr/>
          <p:nvPr/>
        </p:nvPicPr>
        <p:blipFill>
          <a:blip r:embed="rId1"/>
          <a:stretch/>
        </p:blipFill>
        <p:spPr>
          <a:xfrm>
            <a:off x="1763640" y="3141720"/>
            <a:ext cx="655344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ebe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4"/>
          <p:cNvSpPr/>
          <p:nvPr/>
        </p:nvSpPr>
        <p:spPr>
          <a:xfrm>
            <a:off x="609480" y="76212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松鼠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4356000" y="6206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把尾巴当作交际工具。美洲松鼠在合力对付蛇时，用尾巴传递信息，尾巴猛挥三下，表示总攻开始；挥两下，表示继续进攻；挥一下，表示停止进攻。此外，它们还用尾巴的不同摆动状态，来表示威胁它们生存的蛇的种类、大小、距离和运动方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6" descr="6c63514aed101e3408f7ef69"/>
          <p:cNvPicPr/>
          <p:nvPr/>
        </p:nvPicPr>
        <p:blipFill>
          <a:blip r:embed="rId1"/>
          <a:stretch/>
        </p:blipFill>
        <p:spPr>
          <a:xfrm>
            <a:off x="250920" y="2205000"/>
            <a:ext cx="3508200" cy="407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14467813802942565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狐狸"/>
          <p:cNvPicPr/>
          <p:nvPr/>
        </p:nvPicPr>
        <p:blipFill>
          <a:blip r:embed="rId1"/>
          <a:stretch/>
        </p:blipFill>
        <p:spPr>
          <a:xfrm>
            <a:off x="2743200" y="2133720"/>
            <a:ext cx="6095880" cy="39621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狐狸尾巴的作用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2514600" cy="399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OldDreadfulNo7 BT"/>
                <a:ea typeface="华文行楷"/>
              </a:rPr>
              <a:t>狐狸用尾巴擦掉雪地上的 踪迹，引开猎人的追捕。</a:t>
            </a: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65" name="AutoShape 5"/>
          <p:cNvSpPr/>
          <p:nvPr/>
        </p:nvSpPr>
        <p:spPr>
          <a:xfrm>
            <a:off x="8381880" y="6324480"/>
            <a:ext cx="228600" cy="30492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304920"/>
              <a:gd name="textAreaBottom" fmla="*/ 29088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50" y="27450"/>
                </a:lnTo>
                <a:lnTo>
                  <a:pt x="20250" y="135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350" y="27450"/>
                </a:lnTo>
                <a:lnTo>
                  <a:pt x="20250" y="2745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7450"/>
                </a:lnTo>
                <a:close/>
              </a:path>
              <a:path fill="darkenLess" w="21600" h="28800">
                <a:moveTo>
                  <a:pt x="5244" y="7549"/>
                </a:moveTo>
                <a:lnTo>
                  <a:pt x="12279" y="7549"/>
                </a:lnTo>
                <a:lnTo>
                  <a:pt x="16356" y="11066"/>
                </a:lnTo>
                <a:lnTo>
                  <a:pt x="16356" y="21251"/>
                </a:lnTo>
                <a:lnTo>
                  <a:pt x="5244" y="21251"/>
                </a:lnTo>
                <a:close/>
              </a:path>
              <a:path fill="darken" w="21600" h="28800">
                <a:moveTo>
                  <a:pt x="12279" y="7549"/>
                </a:moveTo>
                <a:lnTo>
                  <a:pt x="16356" y="11066"/>
                </a:lnTo>
                <a:lnTo>
                  <a:pt x="12279" y="11066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老虎尾巴的作用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号称“百兽之王”的老虎，除了有尖牙利齿之外，身后那条又粗又长的尾巴，是它另一个有力武器。当</a:t>
            </a: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老虎攻击猎物扑</a:t>
            </a: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空时，会抡动尾</a:t>
            </a: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巴，像钢鞭似的</a:t>
            </a: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扫向对方，把猎</a:t>
            </a: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物击倒。</a:t>
            </a: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368" name="Picture 4" descr="陆行动物372"/>
          <p:cNvPicPr/>
          <p:nvPr/>
        </p:nvPicPr>
        <p:blipFill>
          <a:blip r:embed="rId1"/>
          <a:srcRect l="0" t="0" r="0" b="5777"/>
          <a:stretch/>
        </p:blipFill>
        <p:spPr>
          <a:xfrm>
            <a:off x="3203640" y="2781360"/>
            <a:ext cx="5181480" cy="3733920"/>
          </a:xfrm>
          <a:prstGeom prst="rect">
            <a:avLst/>
          </a:prstGeom>
          <a:ln w="0">
            <a:noFill/>
          </a:ln>
        </p:spPr>
      </p:pic>
      <p:sp>
        <p:nvSpPr>
          <p:cNvPr id="369" name="AutoShape 5"/>
          <p:cNvSpPr/>
          <p:nvPr/>
        </p:nvSpPr>
        <p:spPr>
          <a:xfrm>
            <a:off x="8381880" y="6248520"/>
            <a:ext cx="304920" cy="304560"/>
          </a:xfrm>
          <a:custGeom>
            <a:avLst/>
            <a:gdLst>
              <a:gd name="textAreaLeft" fmla="*/ 18720 w 304920"/>
              <a:gd name="textAreaRight" fmla="*/ 286200 w 30492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76" y="1350"/>
                </a:lnTo>
                <a:lnTo>
                  <a:pt x="1350" y="135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76" y="20250"/>
                </a:lnTo>
                <a:lnTo>
                  <a:pt x="20276" y="135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6" y="2025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Less" w="21626" h="21600">
                <a:moveTo>
                  <a:pt x="5257" y="3949"/>
                </a:moveTo>
                <a:lnTo>
                  <a:pt x="12292" y="3949"/>
                </a:lnTo>
                <a:lnTo>
                  <a:pt x="16369" y="7466"/>
                </a:lnTo>
                <a:lnTo>
                  <a:pt x="16369" y="17651"/>
                </a:lnTo>
                <a:lnTo>
                  <a:pt x="5257" y="17651"/>
                </a:lnTo>
                <a:close/>
              </a:path>
              <a:path fill="darken" w="21626" h="21600">
                <a:moveTo>
                  <a:pt x="12292" y="3949"/>
                </a:moveTo>
                <a:lnTo>
                  <a:pt x="16369" y="7466"/>
                </a:lnTo>
                <a:lnTo>
                  <a:pt x="12292" y="7466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575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653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728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804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879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6955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8029"/>
                            </p:stCondLst>
                            <p:childTnLst>
                              <p:par>
                                <p:cTn id="41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孔雀尾巴的作用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71" name="Picture 3" descr="鸟类009"/>
          <p:cNvPicPr/>
          <p:nvPr/>
        </p:nvPicPr>
        <p:blipFill>
          <a:blip r:embed="rId1"/>
          <a:stretch/>
        </p:blipFill>
        <p:spPr>
          <a:xfrm>
            <a:off x="0" y="1528920"/>
            <a:ext cx="6934320" cy="532908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4"/>
          <p:cNvSpPr/>
          <p:nvPr/>
        </p:nvSpPr>
        <p:spPr>
          <a:xfrm>
            <a:off x="8229600" y="6095880"/>
            <a:ext cx="304920" cy="30492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Less" w="21600" h="21600">
                <a:moveTo>
                  <a:pt x="5244" y="3949"/>
                </a:moveTo>
                <a:lnTo>
                  <a:pt x="12279" y="3949"/>
                </a:lnTo>
                <a:lnTo>
                  <a:pt x="16356" y="7466"/>
                </a:lnTo>
                <a:lnTo>
                  <a:pt x="16356" y="17651"/>
                </a:lnTo>
                <a:lnTo>
                  <a:pt x="5244" y="17651"/>
                </a:lnTo>
                <a:close/>
              </a:path>
              <a:path fill="darken" w="21600" h="21600">
                <a:moveTo>
                  <a:pt x="12279" y="3949"/>
                </a:moveTo>
                <a:lnTo>
                  <a:pt x="16356" y="7466"/>
                </a:lnTo>
                <a:lnTo>
                  <a:pt x="12279" y="7466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5"/>
          <p:cNvSpPr/>
          <p:nvPr/>
        </p:nvSpPr>
        <p:spPr>
          <a:xfrm>
            <a:off x="5334120" y="3200400"/>
            <a:ext cx="3200400" cy="1447920"/>
          </a:xfrm>
          <a:custGeom>
            <a:avLst/>
            <a:gdLst>
              <a:gd name="textAreaLeft" fmla="*/ 113760 w 3200400"/>
              <a:gd name="textAreaRight" fmla="*/ 3086640 w 3200400"/>
              <a:gd name="textAreaTop" fmla="*/ 113760 h 1447920"/>
              <a:gd name="textAreaBottom" fmla="*/ 1334160 h 1447920"/>
            </a:gdLst>
            <a:ahLst/>
            <a:rect l="textAreaLeft" t="textAreaTop" r="textAreaRight" b="textAreaBottom"/>
            <a:pathLst>
              <a:path w="47737" h="21600">
                <a:moveTo>
                  <a:pt x="2407" y="0"/>
                </a:moveTo>
                <a:arcTo wR="2407" hR="2407" stAng="0" swAng="5400000"/>
                <a:lnTo>
                  <a:pt x="0" y="19193"/>
                </a:lnTo>
                <a:arcTo wR="2407" hR="2407" stAng="16200000" swAng="5400000"/>
                <a:lnTo>
                  <a:pt x="45330" y="21600"/>
                </a:lnTo>
                <a:arcTo wR="2407" hR="2407" stAng="10800000" swAng="5400000"/>
                <a:lnTo>
                  <a:pt x="47737" y="2407"/>
                </a:lnTo>
                <a:arcTo wR="2407" hR="2407" stAng="5400000" swAng="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Arial Black"/>
              </a:rPr>
              <a:t>我的尾巴可以吸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Arial Black"/>
              </a:rPr>
              <a:t>雌孔雀的注意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猴子尾巴的作用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209320" y="1996920"/>
            <a:ext cx="2886120" cy="408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1000" y="1927080"/>
            <a:ext cx="3324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f5f5f"/>
                </a:solidFill>
                <a:latin typeface="Times New Roman"/>
              </a:rPr>
              <a:t>在生在南美洲热带森林中的</a:t>
            </a:r>
            <a:r>
              <a:rPr b="0" lang="zh-CN" sz="2000" spc="-1" strike="noStrike">
                <a:solidFill>
                  <a:srgbClr val="00ff00"/>
                </a:solidFill>
                <a:latin typeface="Times New Roman"/>
              </a:rPr>
              <a:t>蜘蛛猴</a:t>
            </a:r>
            <a:r>
              <a:rPr b="0" lang="zh-CN" sz="2000" spc="-1" strike="noStrike">
                <a:solidFill>
                  <a:srgbClr val="5f5f5f"/>
                </a:solidFill>
                <a:latin typeface="Times New Roman"/>
              </a:rPr>
              <a:t>，有一条比身体还长的尾巴，用处比四肢还大，因此人们管它叫第五只“手”。在吃东西时，蜘蛛猴缠绕长尾，把身体稳稳悬在树枝上，和脚并用地进餐。休息时，它常常倒挂着睡觉，即使睡熟了，尾巴也不会脱落。在树与树之间跳跃游荡时，具有极强卷握力的尾巴也发挥了极大的作用。</a:t>
            </a:r>
            <a:endParaRPr b="1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378" name="Picture 5" descr="蜘蛛猴"/>
          <p:cNvPicPr/>
          <p:nvPr/>
        </p:nvPicPr>
        <p:blipFill>
          <a:blip r:embed="rId1"/>
          <a:srcRect l="0" t="10148" r="0" b="7247"/>
          <a:stretch/>
        </p:blipFill>
        <p:spPr>
          <a:xfrm>
            <a:off x="1258920" y="1628640"/>
            <a:ext cx="3744720" cy="434340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6"/>
          <p:cNvSpPr/>
          <p:nvPr/>
        </p:nvSpPr>
        <p:spPr>
          <a:xfrm>
            <a:off x="8229600" y="6095880"/>
            <a:ext cx="304920" cy="30492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Less" w="21600" h="21600">
                <a:moveTo>
                  <a:pt x="5244" y="3949"/>
                </a:moveTo>
                <a:lnTo>
                  <a:pt x="12279" y="3949"/>
                </a:lnTo>
                <a:lnTo>
                  <a:pt x="16356" y="7466"/>
                </a:lnTo>
                <a:lnTo>
                  <a:pt x="16356" y="17651"/>
                </a:lnTo>
                <a:lnTo>
                  <a:pt x="5244" y="17651"/>
                </a:lnTo>
                <a:close/>
              </a:path>
              <a:path fill="darken" w="21600" h="21600">
                <a:moveTo>
                  <a:pt x="12279" y="3949"/>
                </a:moveTo>
                <a:lnTo>
                  <a:pt x="16356" y="7466"/>
                </a:lnTo>
                <a:lnTo>
                  <a:pt x="12279" y="7466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熊猫尾巴的尾巴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209680" y="1927080"/>
            <a:ext cx="3324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661000" y="1927080"/>
            <a:ext cx="3324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33ff"/>
                </a:solidFill>
                <a:latin typeface="宋体"/>
              </a:rPr>
              <a:t>熊猫</a:t>
            </a:r>
            <a:r>
              <a:rPr b="1" lang="zh-CN" sz="2000" spc="-1" strike="noStrike">
                <a:solidFill>
                  <a:srgbClr val="5f5f5f"/>
                </a:solidFill>
                <a:latin typeface="宋体"/>
              </a:rPr>
              <a:t>的尾巴不象熊类，尤其是在幼小的时候相对的要长些。但她们长大以后，尾巴却相对地变短了，仅只有</a:t>
            </a:r>
            <a:r>
              <a:rPr b="1" lang="en-US" sz="2000" spc="-1" strike="noStrike">
                <a:solidFill>
                  <a:srgbClr val="5f5f5f"/>
                </a:solidFill>
                <a:latin typeface="宋体"/>
              </a:rPr>
              <a:t>10-15</a:t>
            </a:r>
            <a:r>
              <a:rPr b="1" lang="zh-CN" sz="2000" spc="-1" strike="noStrike">
                <a:solidFill>
                  <a:srgbClr val="5f5f5f"/>
                </a:solidFill>
                <a:latin typeface="宋体"/>
              </a:rPr>
              <a:t>厘米。她们的尾巴虽短，但上面生的毛却是毛茸茸的，显得十分蓬松粗大。当她们用肛周腺分泌的气味传递信息时，尾巴的功能起到了粉刷的作用，使气味标志涂得更宽些，能够四处横溢扩散，便于更加有效的交换信息，以代替有声的呼唤。</a:t>
            </a:r>
            <a:endParaRPr b="1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383" name="Picture 5" descr="熊猫"/>
          <p:cNvPicPr/>
          <p:nvPr/>
        </p:nvPicPr>
        <p:blipFill>
          <a:blip r:embed="rId1"/>
          <a:stretch/>
        </p:blipFill>
        <p:spPr>
          <a:xfrm>
            <a:off x="1042920" y="1413000"/>
            <a:ext cx="4419720" cy="4876560"/>
          </a:xfrm>
          <a:prstGeom prst="rect">
            <a:avLst/>
          </a:prstGeom>
          <a:ln w="0">
            <a:noFill/>
          </a:ln>
        </p:spPr>
      </p:pic>
      <p:sp>
        <p:nvSpPr>
          <p:cNvPr id="384" name="AutoShape 6"/>
          <p:cNvSpPr/>
          <p:nvPr/>
        </p:nvSpPr>
        <p:spPr>
          <a:xfrm>
            <a:off x="8229600" y="6095880"/>
            <a:ext cx="304920" cy="30492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Less" w="21600" h="21600">
                <a:moveTo>
                  <a:pt x="5244" y="3949"/>
                </a:moveTo>
                <a:lnTo>
                  <a:pt x="12279" y="3949"/>
                </a:lnTo>
                <a:lnTo>
                  <a:pt x="16356" y="7466"/>
                </a:lnTo>
                <a:lnTo>
                  <a:pt x="16356" y="17651"/>
                </a:lnTo>
                <a:lnTo>
                  <a:pt x="5244" y="17651"/>
                </a:lnTo>
                <a:close/>
              </a:path>
              <a:path fill="darken" w="21600" h="21600">
                <a:moveTo>
                  <a:pt x="12279" y="3949"/>
                </a:moveTo>
                <a:lnTo>
                  <a:pt x="16356" y="7466"/>
                </a:lnTo>
                <a:lnTo>
                  <a:pt x="12279" y="7466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小狗尾巴的作用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86" name="Picture 3" descr="动物-更多052"/>
          <p:cNvPicPr/>
          <p:nvPr/>
        </p:nvPicPr>
        <p:blipFill>
          <a:blip r:embed="rId1"/>
          <a:stretch/>
        </p:blipFill>
        <p:spPr>
          <a:xfrm>
            <a:off x="0" y="3089160"/>
            <a:ext cx="4495680" cy="376884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84582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华文新魏"/>
              </a:rPr>
              <a:t>狗的尾巴</a:t>
            </a:r>
            <a:r>
              <a:rPr b="1" lang="en-US" sz="2400" spc="-1" strike="noStrike">
                <a:solidFill>
                  <a:srgbClr val="5f5f5f"/>
                </a:solidFill>
                <a:latin typeface="Times New Roman"/>
              </a:rPr>
              <a:t>:</a:t>
            </a:r>
            <a:r>
              <a:rPr b="1" lang="zh-CN" sz="1800" spc="-1" strike="noStrike">
                <a:solidFill>
                  <a:srgbClr val="5f5f5f"/>
                </a:solidFill>
                <a:latin typeface="Times New Roman"/>
              </a:rPr>
              <a:t>一般在兴奋或见到主人高兴时，狗就会摇头摆尾，尾巴不仅左有摇摆，还会不断旋动；尾巴翘起，表示喜悦；尾巴下垂，意味危险；尾巴不动，显示不安：尾巴夹起，说明害怕；迅速水平地摇动尾巴，象征着友好。狗尾巴的动作还与主人的音调有关。如果主人用亲切的声音对它说“坏家伙！坏家伙！”它也会摇摆尾巴表示高兴；反之，如果主人用严厉的声音说：“好狗！好狗！”它仍然会夹起尾巴表现不愉快。这就是说，对于狗来说，人们说话的声音仅是声源，是音响信号，而不是语言。</a:t>
            </a:r>
            <a:endParaRPr b="1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388" name="Picture 5" descr="狗2"/>
          <p:cNvPicPr/>
          <p:nvPr/>
        </p:nvPicPr>
        <p:blipFill>
          <a:blip r:embed="rId2"/>
          <a:stretch/>
        </p:blipFill>
        <p:spPr>
          <a:xfrm>
            <a:off x="4495680" y="3124080"/>
            <a:ext cx="4648320" cy="3733920"/>
          </a:xfrm>
          <a:prstGeom prst="rect">
            <a:avLst/>
          </a:prstGeom>
          <a:ln w="0">
            <a:noFill/>
          </a:ln>
        </p:spPr>
      </p:pic>
      <p:sp>
        <p:nvSpPr>
          <p:cNvPr id="389" name="AutoShape 6"/>
          <p:cNvSpPr/>
          <p:nvPr/>
        </p:nvSpPr>
        <p:spPr>
          <a:xfrm>
            <a:off x="8686800" y="6477120"/>
            <a:ext cx="228600" cy="22860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Less" w="21600" h="21600">
                <a:moveTo>
                  <a:pt x="5244" y="3949"/>
                </a:moveTo>
                <a:lnTo>
                  <a:pt x="12279" y="3949"/>
                </a:lnTo>
                <a:lnTo>
                  <a:pt x="16356" y="7466"/>
                </a:lnTo>
                <a:lnTo>
                  <a:pt x="16356" y="17651"/>
                </a:lnTo>
                <a:lnTo>
                  <a:pt x="5244" y="17651"/>
                </a:lnTo>
                <a:close/>
              </a:path>
              <a:path fill="darken" w="21600" h="21600">
                <a:moveTo>
                  <a:pt x="12279" y="3949"/>
                </a:moveTo>
                <a:lnTo>
                  <a:pt x="16356" y="7466"/>
                </a:lnTo>
                <a:lnTo>
                  <a:pt x="12279" y="7466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4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续编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壁虎借尾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》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42472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             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小壁虎爬呀爬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爬到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(    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他看见（        ）。小壁虎说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:“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（    ），您把尾巴借给我行吗？”（    ）说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:“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不行啊，我要用尾巴（    ）。”</a:t>
            </a:r>
            <a:endParaRPr b="1" lang="en-US" sz="40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681120" y="361800"/>
            <a:ext cx="9219960" cy="59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难看   姐姐   新的  逃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甩手   伯伯   阿姨  蝇子    壁虎   蚊子   白蛇  借出</a:t>
            </a: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身  告诉  游来游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25"/>
          <p:cNvPicPr/>
          <p:nvPr/>
        </p:nvPicPr>
        <p:blipFill>
          <a:blip r:embed="rId1"/>
          <a:stretch/>
        </p:blipFill>
        <p:spPr>
          <a:xfrm>
            <a:off x="0" y="3500280"/>
            <a:ext cx="4716360" cy="33577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24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35463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21"/>
          <p:cNvPicPr/>
          <p:nvPr/>
        </p:nvPicPr>
        <p:blipFill>
          <a:blip r:embed="rId3"/>
          <a:stretch/>
        </p:blipFill>
        <p:spPr>
          <a:xfrm>
            <a:off x="0" y="0"/>
            <a:ext cx="4716360" cy="3500280"/>
          </a:xfrm>
          <a:prstGeom prst="rect">
            <a:avLst/>
          </a:prstGeom>
          <a:ln w="0">
            <a:noFill/>
          </a:ln>
        </p:spPr>
      </p:pic>
      <p:sp>
        <p:nvSpPr>
          <p:cNvPr id="395" name="AutoShape 5"/>
          <p:cNvSpPr/>
          <p:nvPr/>
        </p:nvSpPr>
        <p:spPr>
          <a:xfrm>
            <a:off x="5148360" y="3716280"/>
            <a:ext cx="3995640" cy="2592360"/>
          </a:xfrm>
          <a:prstGeom prst="wedgeEllipseCallout">
            <a:avLst>
              <a:gd name="adj1" fmla="val -48726"/>
              <a:gd name="adj2" fmla="val 46203"/>
            </a:avLst>
          </a:prstGeom>
          <a:solidFill>
            <a:srgbClr val="969696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每一样动物的尾巴都有自己的用处，小壁虎借不到尾巴心里很难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5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990720" y="3124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d1"/>
          <p:cNvPicPr/>
          <p:nvPr/>
        </p:nvPicPr>
        <p:blipFill>
          <a:blip r:embed="rId1"/>
          <a:stretch/>
        </p:blipFill>
        <p:spPr>
          <a:xfrm>
            <a:off x="4140360" y="1685880"/>
            <a:ext cx="3543120" cy="3543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d2"/>
          <p:cNvPicPr/>
          <p:nvPr/>
        </p:nvPicPr>
        <p:blipFill>
          <a:blip r:embed="rId2"/>
          <a:stretch/>
        </p:blipFill>
        <p:spPr>
          <a:xfrm>
            <a:off x="4191120" y="1652760"/>
            <a:ext cx="3504960" cy="35049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5"/>
          <p:cNvSpPr/>
          <p:nvPr/>
        </p:nvSpPr>
        <p:spPr>
          <a:xfrm>
            <a:off x="1143000" y="3049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壁虎为什么去借尾巴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295280" y="4952880"/>
            <a:ext cx="815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W020070709675710611712">
            <a:hlinkClick r:id="" action="ppaction://hlinkshowjump?jump=nextslide"/>
          </p:cNvPr>
          <p:cNvPicPr/>
          <p:nvPr/>
        </p:nvPicPr>
        <p:blipFill>
          <a:blip r:embed="rId1">
            <a:lum bright="24000"/>
          </a:blip>
          <a:srcRect l="0" t="0" r="0" b="5347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539640" y="620640"/>
            <a:ext cx="8353440" cy="5086440"/>
          </a:xfrm>
          <a:prstGeom prst="rect">
            <a:avLst/>
          </a:prstGeom>
          <a:solidFill>
            <a:srgbClr val="ffffff">
              <a:alpha val="76000"/>
            </a:srgbClr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684360" y="1052640"/>
            <a:ext cx="8135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壁虎在墙角捉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子，一条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咬住了他的尾巴。小壁虎一挣，挣断尾巴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走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900000" y="3068640"/>
            <a:ext cx="748836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561f"/>
                </a:solidFill>
                <a:latin typeface="宋体"/>
              </a:rPr>
              <a:t>w</a:t>
            </a:r>
            <a:r>
              <a:rPr b="1" lang="en-US" sz="4000" spc="-1" strike="noStrike">
                <a:solidFill>
                  <a:srgbClr val="06561f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06561f"/>
                </a:solidFill>
                <a:latin typeface="宋体"/>
              </a:rPr>
              <a:t>n         sh</a:t>
            </a:r>
            <a:r>
              <a:rPr b="1" lang="en-US" sz="4000" spc="-1" strike="noStrike">
                <a:solidFill>
                  <a:srgbClr val="06561f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06561f"/>
                </a:solidFill>
                <a:latin typeface="宋体"/>
              </a:rPr>
              <a:t>     tá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3300"/>
                </a:solidFill>
                <a:latin typeface="Arial"/>
                <a:ea typeface="楷体_GB2312"/>
              </a:rPr>
              <a:t>蚊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子</a:t>
            </a:r>
            <a:r>
              <a:rPr b="1" lang="zh-CN" sz="5000" spc="-1" strike="noStrike">
                <a:solidFill>
                  <a:srgbClr val="06561f"/>
                </a:solidFill>
                <a:latin typeface="Arial"/>
                <a:ea typeface="楷体_GB2312"/>
              </a:rPr>
              <a:t>    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一条</a:t>
            </a:r>
            <a:r>
              <a:rPr b="1" lang="zh-CN" sz="5000" spc="-1" strike="noStrike">
                <a:solidFill>
                  <a:srgbClr val="ff3300"/>
                </a:solidFill>
                <a:latin typeface="Arial"/>
                <a:ea typeface="楷体_GB2312"/>
              </a:rPr>
              <a:t>蛇</a:t>
            </a:r>
            <a:r>
              <a:rPr b="1" lang="zh-CN" sz="5000" spc="-1" strike="noStrike">
                <a:solidFill>
                  <a:srgbClr val="06561f"/>
                </a:solidFill>
                <a:latin typeface="Arial"/>
                <a:ea typeface="楷体_GB2312"/>
              </a:rPr>
              <a:t>       </a:t>
            </a:r>
            <a:r>
              <a:rPr b="1" lang="zh-CN" sz="5000" spc="-1" strike="noStrike">
                <a:solidFill>
                  <a:srgbClr val="ff3300"/>
                </a:solidFill>
                <a:latin typeface="Arial"/>
                <a:ea typeface="楷体_GB2312"/>
              </a:rPr>
              <a:t>逃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2916360" y="479736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条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(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6084720" y="4797360"/>
            <a:ext cx="23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桃 挑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图片1"/>
          <p:cNvPicPr/>
          <p:nvPr/>
        </p:nvPicPr>
        <p:blipFill>
          <a:blip r:embed="rId1"/>
          <a:srcRect l="30727" t="0" r="0" b="77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1116000" y="655560"/>
            <a:ext cx="698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小壁虎为什么要去借尾巴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835280" y="152388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挣断尾巴（小壁虎为了保护自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1332000" y="285264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小壁虎没有了尾巴怎么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怎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小壁虎2"/>
          <p:cNvPicPr/>
          <p:nvPr/>
        </p:nvPicPr>
        <p:blipFill>
          <a:blip r:embed="rId2"/>
          <a:stretch/>
        </p:blipFill>
        <p:spPr>
          <a:xfrm>
            <a:off x="5796000" y="3789360"/>
            <a:ext cx="3048120" cy="266688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8"/>
          <p:cNvSpPr/>
          <p:nvPr/>
        </p:nvSpPr>
        <p:spPr>
          <a:xfrm>
            <a:off x="3348000" y="3860640"/>
            <a:ext cx="3506760" cy="2376720"/>
          </a:xfrm>
          <a:prstGeom prst="wedgeEllipseCallout">
            <a:avLst>
              <a:gd name="adj1" fmla="val 57425"/>
              <a:gd name="adj2" fmla="val -246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没有尾巴多难看哪！小壁虎想，向谁去借一条尾巴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小壁虎2"/>
          <p:cNvPicPr/>
          <p:nvPr/>
        </p:nvPicPr>
        <p:blipFill>
          <a:blip r:embed="rId1"/>
          <a:stretch/>
        </p:blipFill>
        <p:spPr>
          <a:xfrm>
            <a:off x="4716360" y="4191120"/>
            <a:ext cx="3048120" cy="266688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3"/>
          <p:cNvSpPr/>
          <p:nvPr/>
        </p:nvSpPr>
        <p:spPr>
          <a:xfrm>
            <a:off x="755640" y="692280"/>
            <a:ext cx="5329080" cy="3816360"/>
          </a:xfrm>
          <a:prstGeom prst="cloudCallout">
            <a:avLst>
              <a:gd name="adj1" fmla="val 47824"/>
              <a:gd name="adj2" fmla="val 49791"/>
            </a:avLst>
          </a:prstGeom>
          <a:solidFill>
            <a:srgbClr val="99ccff">
              <a:alpha val="59000"/>
            </a:srgbClr>
          </a:solidFill>
          <a:ln cap="sq"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531800" y="15526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没有尾巴多难看哪！小壁虎想，向谁去借一条尾巴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fishcartoon"/>
          <p:cNvPicPr/>
          <p:nvPr/>
        </p:nvPicPr>
        <p:blipFill>
          <a:blip r:embed="rId1"/>
          <a:stretch/>
        </p:blipFill>
        <p:spPr>
          <a:xfrm>
            <a:off x="863640" y="2781360"/>
            <a:ext cx="1619280" cy="108900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826920" y="378936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小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2011427122334104"/>
          <p:cNvPicPr/>
          <p:nvPr/>
        </p:nvPicPr>
        <p:blipFill>
          <a:blip r:embed="rId2"/>
          <a:stretch/>
        </p:blipFill>
        <p:spPr>
          <a:xfrm>
            <a:off x="2556000" y="765000"/>
            <a:ext cx="4392360" cy="319428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3851280" y="375768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老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8446607_103526421126_2"/>
          <p:cNvPicPr/>
          <p:nvPr/>
        </p:nvPicPr>
        <p:blipFill>
          <a:blip r:embed="rId3"/>
          <a:srcRect l="0" t="-13240" r="0" b="7726"/>
          <a:stretch/>
        </p:blipFill>
        <p:spPr>
          <a:xfrm>
            <a:off x="6877080" y="2282760"/>
            <a:ext cx="1762200" cy="12193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7"/>
          <p:cNvSpPr/>
          <p:nvPr/>
        </p:nvSpPr>
        <p:spPr>
          <a:xfrm>
            <a:off x="6659640" y="375768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燕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2:20:0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24:21Z</dcterms:modified>
  <cp:revision>9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