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E5AA-89D4-4666-A692-82E59453A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9280" y="483408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DD5F-BC26-4784-BEF2-30A73173F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384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10EF-6B14-4F52-BC2E-1A9351AD3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400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08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928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400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08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E00E-A4E6-43D3-8021-A424840F9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63C08-A61C-4443-8C34-A617082C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A1A91-52F9-4742-B654-DE693D5E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75A7E-D59A-488B-A3EF-9AB55D92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C5C98-E443-4C71-8BA4-F097673A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5ACE5-D64C-4985-891A-67F952D5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219640" y="333000"/>
            <a:ext cx="347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CB4D8-2968-4377-B876-659F7413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0AE13-3A1F-477D-98BB-AC927237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9D4F-4D00-4094-8901-65A0DFB5C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384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DF5A7-747E-4EAC-9895-292E633C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A6C7F-BD0F-4421-806B-A7675A51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9280" y="483408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0FFAB-C40D-4CF4-A95C-9B2B6AB7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384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282EE-44CE-4C34-93B6-C6EAA56E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400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908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928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400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908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F7C20-F0C0-4BAE-8B6F-5E46ECEC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2D7F-AE31-46F8-918F-E9D3B50EA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23C0-E1AD-4A20-B6B5-F14BE7B4A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5416-0347-431C-BA72-2366CFF42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219640" y="333000"/>
            <a:ext cx="347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2BE2-A4A3-4D36-8FAA-BC8C06CA2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1BB5-0EC6-4BD0-AFFE-0EBAB9D7F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384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5DDA-D2B2-4243-B550-E20725E86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CCDA-1439-4014-848A-79D1CC67C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597440" y="6244920"/>
            <a:ext cx="1089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1A68-77F7-4BE0-87AD-D201C47B6B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31640" y="1052280"/>
            <a:ext cx="532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15E9-E5E1-48ED-8116-4105918F75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31640" y="1052280"/>
            <a:ext cx="532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780000" y="2637000"/>
            <a:ext cx="40320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134136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金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F3AB-4375-4113-B7A7-EE98B052DB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19280" y="333000"/>
            <a:ext cx="347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3080" y="5950080"/>
            <a:ext cx="4319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13:20:2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25:35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