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12.jpeg" ContentType="image/jpeg"/>
  <Override PartName="/ppt/media/image8.jpeg" ContentType="image/jpeg"/>
  <Override PartName="/ppt/media/image9.png" ContentType="image/png"/>
  <Override PartName="/ppt/media/image1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6510-2FE2-40BF-9AA0-45241D555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7F60A-97D6-4114-83B1-A62D6962A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405B1-8F9A-49E4-8047-FB5811AB2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6740-7F1B-4DCD-8F64-283692ADD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566B-DE4E-46AC-9F1D-3AE537501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47BBD-78DA-4E3E-827B-07B079EF3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AA28-1B50-4CF3-A7D8-D988FD23A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7F87-D619-4C3A-A348-8DDA9280A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9EF1-E542-460C-8FE5-3287E258F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693D-8CB7-4BB9-9204-8F5C9FF87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5E22-44F0-4420-B410-AB807C32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295A-0B58-4EE9-ACAF-CE4F89155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16A8C-59AA-4ECD-9E36-4ECD08AC2D50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70968-767E-438C-9784-E283F53B686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斜纹 14"/>
          <p:cNvSpPr/>
          <p:nvPr/>
        </p:nvSpPr>
        <p:spPr>
          <a:xfrm>
            <a:off x="-17640" y="0"/>
            <a:ext cx="8406000" cy="5235480"/>
          </a:xfrm>
          <a:prstGeom prst="pie">
            <a:avLst/>
          </a:pr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梯形 10"/>
          <p:cNvSpPr/>
          <p:nvPr/>
        </p:nvSpPr>
        <p:spPr>
          <a:xfrm flipV="1" rot="5400000">
            <a:off x="3589920" y="-408240"/>
            <a:ext cx="2211480" cy="5143680"/>
          </a:xfrm>
          <a:custGeom>
            <a:avLst/>
            <a:gdLst>
              <a:gd name="textAreaLeft" fmla="*/ 421200 w 2211480"/>
              <a:gd name="textAreaRight" fmla="*/ 1790280 w 2211480"/>
              <a:gd name="textAreaTop" fmla="*/ 979920 h 5143680"/>
              <a:gd name="textAreaBottom" fmla="*/ 4163760 h 5143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343" y="21600"/>
                </a:lnTo>
                <a:lnTo>
                  <a:pt x="4257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77"/>
          <p:cNvSpPr/>
          <p:nvPr/>
        </p:nvSpPr>
        <p:spPr>
          <a:xfrm>
            <a:off x="5350320" y="2427120"/>
            <a:ext cx="1535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—</a:t>
            </a: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梯形 6"/>
          <p:cNvSpPr/>
          <p:nvPr/>
        </p:nvSpPr>
        <p:spPr>
          <a:xfrm flipV="1" rot="5400000">
            <a:off x="2161440" y="1021320"/>
            <a:ext cx="357120" cy="432000"/>
          </a:xfrm>
          <a:custGeom>
            <a:avLst/>
            <a:gdLst>
              <a:gd name="textAreaLeft" fmla="*/ 54720 w 357120"/>
              <a:gd name="textAreaRight" fmla="*/ 302400 w 357120"/>
              <a:gd name="textAreaTop" fmla="*/ 66240 h 432000"/>
              <a:gd name="textAreaBottom" fmla="*/ 36576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770" y="21600"/>
                </a:lnTo>
                <a:lnTo>
                  <a:pt x="2830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"/>
          <p:cNvSpPr/>
          <p:nvPr/>
        </p:nvSpPr>
        <p:spPr>
          <a:xfrm>
            <a:off x="2517120" y="1668600"/>
            <a:ext cx="4405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JUST</a:t>
            </a: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IN  TIM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0" y="4851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54080" y="6516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项目汇报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TextBox 3"/>
          <p:cNvSpPr/>
          <p:nvPr/>
        </p:nvSpPr>
        <p:spPr>
          <a:xfrm>
            <a:off x="4788000" y="905040"/>
            <a:ext cx="3744720" cy="369720"/>
          </a:xfrm>
          <a:prstGeom prst="rect">
            <a:avLst/>
          </a:prstGeom>
          <a:noFill/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4"/>
          <p:cNvSpPr/>
          <p:nvPr/>
        </p:nvSpPr>
        <p:spPr>
          <a:xfrm>
            <a:off x="4788000" y="2211480"/>
            <a:ext cx="3743280" cy="369720"/>
          </a:xfrm>
          <a:prstGeom prst="rect">
            <a:avLst/>
          </a:prstGeom>
          <a:noFill/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5"/>
          <p:cNvSpPr/>
          <p:nvPr/>
        </p:nvSpPr>
        <p:spPr>
          <a:xfrm>
            <a:off x="4788000" y="3543480"/>
            <a:ext cx="3743280" cy="369720"/>
          </a:xfrm>
          <a:prstGeom prst="rect">
            <a:avLst/>
          </a:prstGeom>
          <a:noFill/>
          <a:ln w="93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六边形 6"/>
          <p:cNvSpPr/>
          <p:nvPr/>
        </p:nvSpPr>
        <p:spPr>
          <a:xfrm>
            <a:off x="1187280" y="2119320"/>
            <a:ext cx="1224000" cy="1044720"/>
          </a:xfrm>
          <a:prstGeom prst="hexagon">
            <a:avLst>
              <a:gd name="adj" fmla="val 24972"/>
              <a:gd name="vf" fmla="val 115470"/>
            </a:avLst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六边形 7"/>
          <p:cNvSpPr/>
          <p:nvPr/>
        </p:nvSpPr>
        <p:spPr>
          <a:xfrm>
            <a:off x="1187280" y="3184560"/>
            <a:ext cx="1224000" cy="1042920"/>
          </a:xfrm>
          <a:prstGeom prst="hexagon">
            <a:avLst>
              <a:gd name="adj" fmla="val 25015"/>
              <a:gd name="vf" fmla="val 115470"/>
            </a:avLst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六边形 8"/>
          <p:cNvSpPr/>
          <p:nvPr/>
        </p:nvSpPr>
        <p:spPr>
          <a:xfrm>
            <a:off x="2195640" y="2643120"/>
            <a:ext cx="1224000" cy="1044720"/>
          </a:xfrm>
          <a:prstGeom prst="hexagon">
            <a:avLst>
              <a:gd name="adj" fmla="val 24972"/>
              <a:gd name="vf" fmla="val 115470"/>
            </a:avLst>
          </a:pr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六边形 9"/>
          <p:cNvSpPr/>
          <p:nvPr/>
        </p:nvSpPr>
        <p:spPr>
          <a:xfrm>
            <a:off x="2206800" y="1584360"/>
            <a:ext cx="1223640" cy="1044720"/>
          </a:xfrm>
          <a:prstGeom prst="hexagon">
            <a:avLst>
              <a:gd name="adj" fmla="val 24965"/>
              <a:gd name="vf" fmla="val 115470"/>
            </a:avLst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六边形 10"/>
          <p:cNvSpPr/>
          <p:nvPr/>
        </p:nvSpPr>
        <p:spPr>
          <a:xfrm>
            <a:off x="179280" y="2643120"/>
            <a:ext cx="1224000" cy="1044720"/>
          </a:xfrm>
          <a:prstGeom prst="hexagon">
            <a:avLst>
              <a:gd name="adj" fmla="val 24972"/>
              <a:gd name="vf" fmla="val 115470"/>
            </a:avLst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六边形 11"/>
          <p:cNvSpPr/>
          <p:nvPr/>
        </p:nvSpPr>
        <p:spPr>
          <a:xfrm>
            <a:off x="3203640" y="3162240"/>
            <a:ext cx="1224000" cy="1044720"/>
          </a:xfrm>
          <a:prstGeom prst="hexagon">
            <a:avLst>
              <a:gd name="adj" fmla="val 24972"/>
              <a:gd name="vf" fmla="val 115470"/>
            </a:avLst>
          </a:pr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12"/>
          <p:cNvSpPr/>
          <p:nvPr/>
        </p:nvSpPr>
        <p:spPr>
          <a:xfrm>
            <a:off x="1522080" y="23986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支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13"/>
          <p:cNvSpPr/>
          <p:nvPr/>
        </p:nvSpPr>
        <p:spPr>
          <a:xfrm>
            <a:off x="2530080" y="29019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提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14"/>
          <p:cNvSpPr/>
          <p:nvPr/>
        </p:nvSpPr>
        <p:spPr>
          <a:xfrm>
            <a:off x="1525320" y="3435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坚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861080" y="3650760"/>
            <a:ext cx="352872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坚守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00"/>
              </a:lnSpc>
              <a:spcBef>
                <a:spcPts val="24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ts val="1800"/>
              </a:lnSpc>
              <a:spcBef>
                <a:spcPts val="24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矩形 16"/>
          <p:cNvSpPr/>
          <p:nvPr/>
        </p:nvSpPr>
        <p:spPr>
          <a:xfrm>
            <a:off x="4896000" y="933480"/>
            <a:ext cx="36018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00000"/>
                </a:solidFill>
                <a:latin typeface="黑体"/>
                <a:ea typeface="黑体"/>
              </a:rPr>
              <a:t>支持</a:t>
            </a:r>
            <a:r>
              <a:rPr b="1" lang="en-US" sz="1800" spc="-1" strike="noStrike">
                <a:solidFill>
                  <a:srgbClr val="c00000"/>
                </a:solidFill>
                <a:latin typeface="黑体"/>
                <a:ea typeface="黑体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ts val="18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ts val="18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ts val="18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17"/>
          <p:cNvSpPr/>
          <p:nvPr/>
        </p:nvSpPr>
        <p:spPr>
          <a:xfrm>
            <a:off x="4861080" y="2301840"/>
            <a:ext cx="363672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36c09"/>
                </a:solidFill>
                <a:latin typeface="黑体"/>
                <a:ea typeface="黑体"/>
              </a:rPr>
              <a:t>提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ts val="18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ts val="18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ts val="18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18"/>
          <p:cNvSpPr/>
          <p:nvPr/>
        </p:nvSpPr>
        <p:spPr>
          <a:xfrm>
            <a:off x="38160" y="349200"/>
            <a:ext cx="8964720" cy="432000"/>
          </a:xfrm>
          <a:prstGeom prst="rect">
            <a:avLst/>
          </a:prstGeom>
          <a:solidFill>
            <a:srgbClr val="dde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19"/>
          <p:cNvSpPr/>
          <p:nvPr/>
        </p:nvSpPr>
        <p:spPr>
          <a:xfrm>
            <a:off x="3780000" y="71280"/>
            <a:ext cx="5256000" cy="12384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剪去单角的矩形 20"/>
          <p:cNvSpPr/>
          <p:nvPr/>
        </p:nvSpPr>
        <p:spPr>
          <a:xfrm flipV="1">
            <a:off x="73080" y="70920"/>
            <a:ext cx="3600360" cy="55584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77"/>
          <p:cNvSpPr/>
          <p:nvPr/>
        </p:nvSpPr>
        <p:spPr>
          <a:xfrm>
            <a:off x="108000" y="42840"/>
            <a:ext cx="35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空心弧 4"/>
          <p:cNvSpPr/>
          <p:nvPr/>
        </p:nvSpPr>
        <p:spPr>
          <a:xfrm>
            <a:off x="3414600" y="1765440"/>
            <a:ext cx="2160720" cy="2158920"/>
          </a:xfrm>
          <a:prstGeom prst="blockArc">
            <a:avLst>
              <a:gd name="adj1" fmla="val 18972003"/>
              <a:gd name="adj2" fmla="val 2627997"/>
              <a:gd name="adj3" fmla="val 7250"/>
            </a:avLst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空心弧 5"/>
          <p:cNvSpPr/>
          <p:nvPr/>
        </p:nvSpPr>
        <p:spPr>
          <a:xfrm rot="18908400">
            <a:off x="3414600" y="1765440"/>
            <a:ext cx="2160720" cy="2158920"/>
          </a:xfrm>
          <a:prstGeom prst="blockArc">
            <a:avLst>
              <a:gd name="adj1" fmla="val 18972003"/>
              <a:gd name="adj2" fmla="val 2627997"/>
              <a:gd name="adj3" fmla="val 7250"/>
            </a:avLst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空心弧 6"/>
          <p:cNvSpPr/>
          <p:nvPr/>
        </p:nvSpPr>
        <p:spPr>
          <a:xfrm flipH="1">
            <a:off x="3371760" y="1765440"/>
            <a:ext cx="2160720" cy="2158920"/>
          </a:xfrm>
          <a:prstGeom prst="blockArc">
            <a:avLst>
              <a:gd name="adj1" fmla="val 18972003"/>
              <a:gd name="adj2" fmla="val 2627997"/>
              <a:gd name="adj3" fmla="val 7250"/>
            </a:avLst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空心弧 7"/>
          <p:cNvSpPr/>
          <p:nvPr/>
        </p:nvSpPr>
        <p:spPr>
          <a:xfrm flipH="1" rot="2691600">
            <a:off x="3371040" y="1765080"/>
            <a:ext cx="2160720" cy="2159280"/>
          </a:xfrm>
          <a:prstGeom prst="blockArc">
            <a:avLst>
              <a:gd name="adj1" fmla="val 18972003"/>
              <a:gd name="adj2" fmla="val 2627997"/>
              <a:gd name="adj3" fmla="val 7250"/>
            </a:avLst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空心弧 8"/>
          <p:cNvSpPr/>
          <p:nvPr/>
        </p:nvSpPr>
        <p:spPr>
          <a:xfrm flipV="1">
            <a:off x="3414600" y="1764720"/>
            <a:ext cx="2160720" cy="2158920"/>
          </a:xfrm>
          <a:prstGeom prst="blockArc">
            <a:avLst>
              <a:gd name="adj1" fmla="val 18972003"/>
              <a:gd name="adj2" fmla="val 2627997"/>
              <a:gd name="adj3" fmla="val 7250"/>
            </a:avLst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空心弧 9"/>
          <p:cNvSpPr/>
          <p:nvPr/>
        </p:nvSpPr>
        <p:spPr>
          <a:xfrm flipV="1" rot="2691600">
            <a:off x="3414600" y="1764360"/>
            <a:ext cx="2160720" cy="2159280"/>
          </a:xfrm>
          <a:prstGeom prst="blockArc">
            <a:avLst>
              <a:gd name="adj1" fmla="val 18972003"/>
              <a:gd name="adj2" fmla="val 2627997"/>
              <a:gd name="adj3" fmla="val 7250"/>
            </a:avLst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空心弧 10"/>
          <p:cNvSpPr/>
          <p:nvPr/>
        </p:nvSpPr>
        <p:spPr>
          <a:xfrm flipH="1" flipV="1">
            <a:off x="3371760" y="1764720"/>
            <a:ext cx="2160720" cy="2158920"/>
          </a:xfrm>
          <a:prstGeom prst="blockArc">
            <a:avLst>
              <a:gd name="adj1" fmla="val 18972003"/>
              <a:gd name="adj2" fmla="val 2627997"/>
              <a:gd name="adj3" fmla="val 7250"/>
            </a:avLst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空心弧 11"/>
          <p:cNvSpPr/>
          <p:nvPr/>
        </p:nvSpPr>
        <p:spPr>
          <a:xfrm flipH="1" flipV="1" rot="18908400">
            <a:off x="3371040" y="1764720"/>
            <a:ext cx="2160720" cy="2158920"/>
          </a:xfrm>
          <a:prstGeom prst="blockArc">
            <a:avLst>
              <a:gd name="adj1" fmla="val 18972003"/>
              <a:gd name="adj2" fmla="val 2627997"/>
              <a:gd name="adj3" fmla="val 7250"/>
            </a:avLst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Picture 3" descr=""/>
          <p:cNvPicPr/>
          <p:nvPr/>
        </p:nvPicPr>
        <p:blipFill>
          <a:blip r:embed="rId1"/>
          <a:stretch/>
        </p:blipFill>
        <p:spPr>
          <a:xfrm>
            <a:off x="3929040" y="1924200"/>
            <a:ext cx="1160640" cy="1625400"/>
          </a:xfrm>
          <a:prstGeom prst="rect">
            <a:avLst/>
          </a:prstGeom>
          <a:ln w="0">
            <a:noFill/>
          </a:ln>
        </p:spPr>
      </p:pic>
      <p:sp>
        <p:nvSpPr>
          <p:cNvPr id="226" name="直接连接符 58"/>
          <p:cNvSpPr/>
          <p:nvPr/>
        </p:nvSpPr>
        <p:spPr>
          <a:xfrm>
            <a:off x="2771640" y="2219400"/>
            <a:ext cx="642960" cy="1443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直接连接符 60"/>
          <p:cNvSpPr/>
          <p:nvPr/>
        </p:nvSpPr>
        <p:spPr>
          <a:xfrm flipV="1">
            <a:off x="5511960" y="2253960"/>
            <a:ext cx="653760" cy="1443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直接连接符 65"/>
          <p:cNvSpPr/>
          <p:nvPr/>
        </p:nvSpPr>
        <p:spPr>
          <a:xfrm flipV="1">
            <a:off x="3213000" y="3763800"/>
            <a:ext cx="480960" cy="3938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直接连接符 67"/>
          <p:cNvSpPr/>
          <p:nvPr/>
        </p:nvSpPr>
        <p:spPr>
          <a:xfrm flipH="1" flipV="1">
            <a:off x="5132160" y="3763800"/>
            <a:ext cx="649080" cy="39384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直接连接符 74"/>
          <p:cNvSpPr/>
          <p:nvPr/>
        </p:nvSpPr>
        <p:spPr>
          <a:xfrm flipV="1">
            <a:off x="4494240" y="1217160"/>
            <a:ext cx="160200" cy="41436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5"/>
          <p:cNvSpPr/>
          <p:nvPr/>
        </p:nvSpPr>
        <p:spPr>
          <a:xfrm>
            <a:off x="4429800" y="89208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6"/>
          <p:cNvSpPr/>
          <p:nvPr/>
        </p:nvSpPr>
        <p:spPr>
          <a:xfrm>
            <a:off x="6303240" y="203508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7"/>
          <p:cNvSpPr/>
          <p:nvPr/>
        </p:nvSpPr>
        <p:spPr>
          <a:xfrm>
            <a:off x="1189800" y="199404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8"/>
          <p:cNvSpPr/>
          <p:nvPr/>
        </p:nvSpPr>
        <p:spPr>
          <a:xfrm>
            <a:off x="1605960" y="437184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矩形 29"/>
          <p:cNvSpPr/>
          <p:nvPr/>
        </p:nvSpPr>
        <p:spPr>
          <a:xfrm>
            <a:off x="6024600" y="418788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30"/>
          <p:cNvSpPr/>
          <p:nvPr/>
        </p:nvSpPr>
        <p:spPr>
          <a:xfrm>
            <a:off x="38160" y="349200"/>
            <a:ext cx="8964720" cy="432000"/>
          </a:xfrm>
          <a:prstGeom prst="rect">
            <a:avLst/>
          </a:prstGeom>
          <a:solidFill>
            <a:srgbClr val="dde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31"/>
          <p:cNvSpPr/>
          <p:nvPr/>
        </p:nvSpPr>
        <p:spPr>
          <a:xfrm>
            <a:off x="3780000" y="71280"/>
            <a:ext cx="5256000" cy="12384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剪去单角的矩形 32"/>
          <p:cNvSpPr/>
          <p:nvPr/>
        </p:nvSpPr>
        <p:spPr>
          <a:xfrm flipV="1">
            <a:off x="73080" y="70920"/>
            <a:ext cx="3600360" cy="55584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Box 77"/>
          <p:cNvSpPr/>
          <p:nvPr/>
        </p:nvSpPr>
        <p:spPr>
          <a:xfrm>
            <a:off x="108000" y="42840"/>
            <a:ext cx="35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云形标注 10"/>
          <p:cNvSpPr/>
          <p:nvPr/>
        </p:nvSpPr>
        <p:spPr>
          <a:xfrm>
            <a:off x="3389400" y="1933560"/>
            <a:ext cx="2268360" cy="1511280"/>
          </a:xfrm>
          <a:prstGeom prst="cloudCallout">
            <a:avLst>
              <a:gd name="adj1" fmla="val -19995"/>
              <a:gd name="adj2" fmla="val 64999"/>
            </a:avLst>
          </a:pr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梯形 15"/>
          <p:cNvSpPr/>
          <p:nvPr/>
        </p:nvSpPr>
        <p:spPr>
          <a:xfrm flipH="1" flipV="1" rot="16200000">
            <a:off x="1275480" y="463320"/>
            <a:ext cx="649440" cy="1979640"/>
          </a:xfrm>
          <a:custGeom>
            <a:avLst/>
            <a:gdLst>
              <a:gd name="textAreaLeft" fmla="*/ 83520 w 649440"/>
              <a:gd name="textAreaRight" fmla="*/ 565920 w 649440"/>
              <a:gd name="textAreaTop" fmla="*/ 254880 h 1979640"/>
              <a:gd name="textAreaBottom" fmla="*/ 1724760 h 19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744" y="21600"/>
                </a:lnTo>
                <a:lnTo>
                  <a:pt x="1856" y="21600"/>
                </a:lnTo>
                <a:close/>
              </a:path>
            </a:pathLst>
          </a:cu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梯形 16"/>
          <p:cNvSpPr/>
          <p:nvPr/>
        </p:nvSpPr>
        <p:spPr>
          <a:xfrm flipH="1" flipV="1" rot="16200000">
            <a:off x="1691640" y="3272400"/>
            <a:ext cx="647640" cy="1981080"/>
          </a:xfrm>
          <a:custGeom>
            <a:avLst/>
            <a:gdLst>
              <a:gd name="textAreaLeft" fmla="*/ 83160 w 647640"/>
              <a:gd name="textAreaRight" fmla="*/ 564480 w 647640"/>
              <a:gd name="textAreaTop" fmla="*/ 254880 h 1981080"/>
              <a:gd name="textAreaBottom" fmla="*/ 172620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744" y="21600"/>
                </a:lnTo>
                <a:lnTo>
                  <a:pt x="1856" y="21600"/>
                </a:lnTo>
                <a:close/>
              </a:path>
            </a:pathLst>
          </a:cu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梯形 17"/>
          <p:cNvSpPr/>
          <p:nvPr/>
        </p:nvSpPr>
        <p:spPr>
          <a:xfrm flipH="1" flipV="1" rot="16200000">
            <a:off x="6689160" y="390960"/>
            <a:ext cx="649080" cy="1979640"/>
          </a:xfrm>
          <a:custGeom>
            <a:avLst/>
            <a:gdLst>
              <a:gd name="textAreaLeft" fmla="*/ 83520 w 649080"/>
              <a:gd name="textAreaRight" fmla="*/ 565560 w 649080"/>
              <a:gd name="textAreaTop" fmla="*/ 254880 h 1979640"/>
              <a:gd name="textAreaBottom" fmla="*/ 1724760 h 19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744" y="21600"/>
                </a:lnTo>
                <a:lnTo>
                  <a:pt x="1856" y="21600"/>
                </a:lnTo>
                <a:close/>
              </a:path>
            </a:pathLst>
          </a:cu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梯形 20"/>
          <p:cNvSpPr/>
          <p:nvPr/>
        </p:nvSpPr>
        <p:spPr>
          <a:xfrm flipH="1" flipV="1" rot="16200000">
            <a:off x="7159680" y="3092040"/>
            <a:ext cx="647640" cy="1979640"/>
          </a:xfrm>
          <a:custGeom>
            <a:avLst/>
            <a:gdLst>
              <a:gd name="textAreaLeft" fmla="*/ 83160 w 647640"/>
              <a:gd name="textAreaRight" fmla="*/ 564480 w 647640"/>
              <a:gd name="textAreaTop" fmla="*/ 254880 h 1979640"/>
              <a:gd name="textAreaBottom" fmla="*/ 1724760 h 197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744" y="21600"/>
                </a:lnTo>
                <a:lnTo>
                  <a:pt x="1856" y="21600"/>
                </a:lnTo>
                <a:close/>
              </a:path>
            </a:pathLst>
          </a:cu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25"/>
          <p:cNvSpPr/>
          <p:nvPr/>
        </p:nvSpPr>
        <p:spPr>
          <a:xfrm rot="1816800">
            <a:off x="2562120" y="1847880"/>
            <a:ext cx="1138320" cy="46080"/>
          </a:xfrm>
          <a:prstGeom prst="rect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26"/>
          <p:cNvSpPr/>
          <p:nvPr/>
        </p:nvSpPr>
        <p:spPr>
          <a:xfrm rot="2088000">
            <a:off x="5275440" y="3475080"/>
            <a:ext cx="1253880" cy="46080"/>
          </a:xfrm>
          <a:prstGeom prst="rect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27"/>
          <p:cNvSpPr/>
          <p:nvPr/>
        </p:nvSpPr>
        <p:spPr>
          <a:xfrm flipV="1" rot="18562200">
            <a:off x="5294160" y="1710360"/>
            <a:ext cx="871920" cy="46080"/>
          </a:xfrm>
          <a:prstGeom prst="rect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28"/>
          <p:cNvSpPr/>
          <p:nvPr/>
        </p:nvSpPr>
        <p:spPr>
          <a:xfrm rot="7951800">
            <a:off x="2921400" y="3765960"/>
            <a:ext cx="952560" cy="46080"/>
          </a:xfrm>
          <a:prstGeom prst="rect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5"/>
          <p:cNvSpPr/>
          <p:nvPr/>
        </p:nvSpPr>
        <p:spPr>
          <a:xfrm>
            <a:off x="593640" y="106056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21"/>
          <p:cNvSpPr/>
          <p:nvPr/>
        </p:nvSpPr>
        <p:spPr>
          <a:xfrm>
            <a:off x="6082920" y="1052640"/>
            <a:ext cx="19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22"/>
          <p:cNvSpPr/>
          <p:nvPr/>
        </p:nvSpPr>
        <p:spPr>
          <a:xfrm>
            <a:off x="1054080" y="394020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23"/>
          <p:cNvSpPr/>
          <p:nvPr/>
        </p:nvSpPr>
        <p:spPr>
          <a:xfrm>
            <a:off x="6504120" y="375912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4044960" y="2054160"/>
            <a:ext cx="873000" cy="1268640"/>
          </a:xfrm>
          <a:prstGeom prst="rect">
            <a:avLst/>
          </a:prstGeom>
          <a:ln w="0">
            <a:noFill/>
          </a:ln>
        </p:spPr>
      </p:pic>
      <p:sp>
        <p:nvSpPr>
          <p:cNvPr id="254" name="矩形 19"/>
          <p:cNvSpPr/>
          <p:nvPr/>
        </p:nvSpPr>
        <p:spPr>
          <a:xfrm>
            <a:off x="38160" y="349200"/>
            <a:ext cx="8964720" cy="432000"/>
          </a:xfrm>
          <a:prstGeom prst="rect">
            <a:avLst/>
          </a:prstGeom>
          <a:solidFill>
            <a:srgbClr val="dde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9"/>
          <p:cNvSpPr/>
          <p:nvPr/>
        </p:nvSpPr>
        <p:spPr>
          <a:xfrm>
            <a:off x="3780000" y="71280"/>
            <a:ext cx="5256000" cy="12384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剪去单角的矩形 30"/>
          <p:cNvSpPr/>
          <p:nvPr/>
        </p:nvSpPr>
        <p:spPr>
          <a:xfrm flipV="1">
            <a:off x="73080" y="70920"/>
            <a:ext cx="3600360" cy="55584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Box 77"/>
          <p:cNvSpPr/>
          <p:nvPr/>
        </p:nvSpPr>
        <p:spPr>
          <a:xfrm>
            <a:off x="108000" y="42840"/>
            <a:ext cx="35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梯形 26"/>
          <p:cNvSpPr/>
          <p:nvPr/>
        </p:nvSpPr>
        <p:spPr>
          <a:xfrm flipV="1" rot="16200000">
            <a:off x="6372000" y="1202400"/>
            <a:ext cx="718920" cy="2735280"/>
          </a:xfrm>
          <a:custGeom>
            <a:avLst/>
            <a:gdLst>
              <a:gd name="textAreaLeft" fmla="*/ 140400 w 718920"/>
              <a:gd name="textAreaRight" fmla="*/ 578520 w 718920"/>
              <a:gd name="textAreaTop" fmla="*/ 534240 h 2735280"/>
              <a:gd name="textAreaBottom" fmla="*/ 2201040 h 27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157" y="21600"/>
                </a:lnTo>
                <a:lnTo>
                  <a:pt x="4443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梯形 30"/>
          <p:cNvSpPr/>
          <p:nvPr/>
        </p:nvSpPr>
        <p:spPr>
          <a:xfrm flipV="1" rot="16200000">
            <a:off x="6371280" y="2283480"/>
            <a:ext cx="720720" cy="2735280"/>
          </a:xfrm>
          <a:custGeom>
            <a:avLst/>
            <a:gdLst>
              <a:gd name="textAreaLeft" fmla="*/ 140760 w 720720"/>
              <a:gd name="textAreaRight" fmla="*/ 579960 w 720720"/>
              <a:gd name="textAreaTop" fmla="*/ 534240 h 2735280"/>
              <a:gd name="textAreaBottom" fmla="*/ 2201040 h 27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157" y="21600"/>
                </a:lnTo>
                <a:lnTo>
                  <a:pt x="4443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斜纹 14"/>
          <p:cNvSpPr/>
          <p:nvPr/>
        </p:nvSpPr>
        <p:spPr>
          <a:xfrm flipV="1">
            <a:off x="0" y="554400"/>
            <a:ext cx="7454880" cy="458820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斜纹 14"/>
          <p:cNvSpPr/>
          <p:nvPr/>
        </p:nvSpPr>
        <p:spPr>
          <a:xfrm>
            <a:off x="0" y="0"/>
            <a:ext cx="7164360" cy="451656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梯形 3"/>
          <p:cNvSpPr/>
          <p:nvPr/>
        </p:nvSpPr>
        <p:spPr>
          <a:xfrm flipH="1" flipV="1" rot="16200000">
            <a:off x="2156760" y="1189440"/>
            <a:ext cx="863640" cy="2762280"/>
          </a:xfrm>
          <a:custGeom>
            <a:avLst/>
            <a:gdLst>
              <a:gd name="textAreaLeft" fmla="*/ 189720 w 863640"/>
              <a:gd name="textAreaRight" fmla="*/ 673920 w 863640"/>
              <a:gd name="textAreaTop" fmla="*/ 607320 h 2762280"/>
              <a:gd name="textAreaBottom" fmla="*/ 2154960 h 276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梯形 4"/>
          <p:cNvSpPr/>
          <p:nvPr/>
        </p:nvSpPr>
        <p:spPr>
          <a:xfrm flipV="1" rot="16200000">
            <a:off x="6371280" y="123120"/>
            <a:ext cx="720720" cy="2735280"/>
          </a:xfrm>
          <a:custGeom>
            <a:avLst/>
            <a:gdLst>
              <a:gd name="textAreaLeft" fmla="*/ 140760 w 720720"/>
              <a:gd name="textAreaRight" fmla="*/ 579960 w 720720"/>
              <a:gd name="textAreaTop" fmla="*/ 534240 h 2735280"/>
              <a:gd name="textAreaBottom" fmla="*/ 2201040 h 27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157" y="21600"/>
                </a:lnTo>
                <a:lnTo>
                  <a:pt x="4443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梯形 7"/>
          <p:cNvSpPr/>
          <p:nvPr/>
        </p:nvSpPr>
        <p:spPr>
          <a:xfrm flipV="1" rot="5400000">
            <a:off x="4549680" y="1180080"/>
            <a:ext cx="692280" cy="647640"/>
          </a:xfrm>
          <a:custGeom>
            <a:avLst/>
            <a:gdLst>
              <a:gd name="textAreaLeft" fmla="*/ 145800 w 692280"/>
              <a:gd name="textAreaRight" fmla="*/ 546480 w 692280"/>
              <a:gd name="textAreaTop" fmla="*/ 136440 h 647640"/>
              <a:gd name="textAreaBottom" fmla="*/ 5112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547" y="21600"/>
                </a:lnTo>
                <a:lnTo>
                  <a:pt x="5053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77"/>
          <p:cNvSpPr/>
          <p:nvPr/>
        </p:nvSpPr>
        <p:spPr>
          <a:xfrm>
            <a:off x="1982880" y="2212920"/>
            <a:ext cx="114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梯形 17"/>
          <p:cNvSpPr/>
          <p:nvPr/>
        </p:nvSpPr>
        <p:spPr>
          <a:xfrm flipV="1" rot="5400000">
            <a:off x="4626000" y="1114560"/>
            <a:ext cx="179280" cy="287280"/>
          </a:xfrm>
          <a:custGeom>
            <a:avLst/>
            <a:gdLst>
              <a:gd name="textAreaLeft" fmla="*/ 39240 w 179280"/>
              <a:gd name="textAreaRight" fmla="*/ 140040 w 179280"/>
              <a:gd name="textAreaTop" fmla="*/ 63000 h 287280"/>
              <a:gd name="textAreaBottom" fmla="*/ 22428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20"/>
          <p:cNvSpPr/>
          <p:nvPr/>
        </p:nvSpPr>
        <p:spPr>
          <a:xfrm>
            <a:off x="4700160" y="12812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梯形 27"/>
          <p:cNvSpPr/>
          <p:nvPr/>
        </p:nvSpPr>
        <p:spPr>
          <a:xfrm flipV="1" rot="5400000">
            <a:off x="4549680" y="2260440"/>
            <a:ext cx="691920" cy="647640"/>
          </a:xfrm>
          <a:custGeom>
            <a:avLst/>
            <a:gdLst>
              <a:gd name="textAreaLeft" fmla="*/ 145800 w 691920"/>
              <a:gd name="textAreaRight" fmla="*/ 546120 w 691920"/>
              <a:gd name="textAreaTop" fmla="*/ 136440 h 647640"/>
              <a:gd name="textAreaBottom" fmla="*/ 5112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547" y="21600"/>
                </a:lnTo>
                <a:lnTo>
                  <a:pt x="5053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梯形 28"/>
          <p:cNvSpPr/>
          <p:nvPr/>
        </p:nvSpPr>
        <p:spPr>
          <a:xfrm flipV="1" rot="5400000">
            <a:off x="4626000" y="2193840"/>
            <a:ext cx="179280" cy="287280"/>
          </a:xfrm>
          <a:custGeom>
            <a:avLst/>
            <a:gdLst>
              <a:gd name="textAreaLeft" fmla="*/ 39240 w 179280"/>
              <a:gd name="textAreaRight" fmla="*/ 140040 w 179280"/>
              <a:gd name="textAreaTop" fmla="*/ 63000 h 287280"/>
              <a:gd name="textAreaBottom" fmla="*/ 22428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梯形 31"/>
          <p:cNvSpPr/>
          <p:nvPr/>
        </p:nvSpPr>
        <p:spPr>
          <a:xfrm flipV="1" rot="5400000">
            <a:off x="4548960" y="3339720"/>
            <a:ext cx="693720" cy="647640"/>
          </a:xfrm>
          <a:custGeom>
            <a:avLst/>
            <a:gdLst>
              <a:gd name="textAreaLeft" fmla="*/ 146160 w 693720"/>
              <a:gd name="textAreaRight" fmla="*/ 547560 w 693720"/>
              <a:gd name="textAreaTop" fmla="*/ 136440 h 647640"/>
              <a:gd name="textAreaBottom" fmla="*/ 5112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547" y="21600"/>
                </a:lnTo>
                <a:lnTo>
                  <a:pt x="5053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梯形 32"/>
          <p:cNvSpPr/>
          <p:nvPr/>
        </p:nvSpPr>
        <p:spPr>
          <a:xfrm flipV="1" rot="5400000">
            <a:off x="4625280" y="3274200"/>
            <a:ext cx="180720" cy="287280"/>
          </a:xfrm>
          <a:custGeom>
            <a:avLst/>
            <a:gdLst>
              <a:gd name="textAreaLeft" fmla="*/ 39600 w 180720"/>
              <a:gd name="textAreaRight" fmla="*/ 141120 w 180720"/>
              <a:gd name="textAreaTop" fmla="*/ 63000 h 287280"/>
              <a:gd name="textAreaBottom" fmla="*/ 22428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21"/>
          <p:cNvSpPr/>
          <p:nvPr/>
        </p:nvSpPr>
        <p:spPr>
          <a:xfrm>
            <a:off x="4663800" y="23385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22"/>
          <p:cNvSpPr/>
          <p:nvPr/>
        </p:nvSpPr>
        <p:spPr>
          <a:xfrm>
            <a:off x="4690800" y="3435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77"/>
          <p:cNvSpPr/>
          <p:nvPr/>
        </p:nvSpPr>
        <p:spPr>
          <a:xfrm>
            <a:off x="5907960" y="1276200"/>
            <a:ext cx="15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回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77"/>
          <p:cNvSpPr/>
          <p:nvPr/>
        </p:nvSpPr>
        <p:spPr>
          <a:xfrm>
            <a:off x="5856480" y="2370240"/>
            <a:ext cx="143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的反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77"/>
          <p:cNvSpPr/>
          <p:nvPr/>
        </p:nvSpPr>
        <p:spPr>
          <a:xfrm>
            <a:off x="5856480" y="3417840"/>
            <a:ext cx="143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的展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圆角矩形 33"/>
          <p:cNvSpPr/>
          <p:nvPr/>
        </p:nvSpPr>
        <p:spPr>
          <a:xfrm>
            <a:off x="826920" y="1441440"/>
            <a:ext cx="613080" cy="2411280"/>
          </a:xfrm>
          <a:custGeom>
            <a:avLst/>
            <a:gdLst>
              <a:gd name="textAreaLeft" fmla="*/ 29880 w 613080"/>
              <a:gd name="textAreaRight" fmla="*/ 583200 w 613080"/>
              <a:gd name="textAreaTop" fmla="*/ 29880 h 2411280"/>
              <a:gd name="textAreaBottom" fmla="*/ 2381400 h 2411280"/>
            </a:gdLst>
            <a:ahLst/>
            <a:rect l="textAreaLeft" t="textAreaTop" r="textAreaRight" b="textAreaBottom"/>
            <a:pathLst>
              <a:path w="21600" h="84917">
                <a:moveTo>
                  <a:pt x="3600" y="0"/>
                </a:moveTo>
                <a:arcTo wR="3600" hR="3600" stAng="16200000" swAng="-5400000"/>
                <a:lnTo>
                  <a:pt x="0" y="81317"/>
                </a:lnTo>
                <a:arcTo wR="3600" hR="3600" stAng="10800000" swAng="-5400000"/>
                <a:lnTo>
                  <a:pt x="18000" y="849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11"/>
          <p:cNvSpPr/>
          <p:nvPr/>
        </p:nvSpPr>
        <p:spPr>
          <a:xfrm>
            <a:off x="611280" y="1276200"/>
            <a:ext cx="7203960" cy="2721240"/>
          </a:xfrm>
          <a:prstGeom prst="rect">
            <a:avLst/>
          </a:prstGeom>
          <a:noFill/>
          <a:ln w="7632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75"/>
          <p:cNvSpPr/>
          <p:nvPr/>
        </p:nvSpPr>
        <p:spPr>
          <a:xfrm>
            <a:off x="7815240" y="1895400"/>
            <a:ext cx="862200" cy="1468440"/>
          </a:xfrm>
          <a:prstGeom prst="rect">
            <a:avLst/>
          </a:prstGeom>
          <a:solidFill>
            <a:srgbClr val="bfbfbf"/>
          </a:solidFill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圆角矩形 13"/>
          <p:cNvSpPr/>
          <p:nvPr/>
        </p:nvSpPr>
        <p:spPr>
          <a:xfrm>
            <a:off x="2189160" y="1441440"/>
            <a:ext cx="611280" cy="2411280"/>
          </a:xfrm>
          <a:custGeom>
            <a:avLst/>
            <a:gdLst>
              <a:gd name="textAreaLeft" fmla="*/ 29520 w 611280"/>
              <a:gd name="textAreaRight" fmla="*/ 581760 w 611280"/>
              <a:gd name="textAreaTop" fmla="*/ 29520 h 2411280"/>
              <a:gd name="textAreaBottom" fmla="*/ 2381760 h 2411280"/>
            </a:gdLst>
            <a:ahLst/>
            <a:rect l="textAreaLeft" t="textAreaTop" r="textAreaRight" b="textAreaBottom"/>
            <a:pathLst>
              <a:path w="21600" h="85167">
                <a:moveTo>
                  <a:pt x="3600" y="0"/>
                </a:moveTo>
                <a:arcTo wR="3600" hR="3600" stAng="16200000" swAng="-5400000"/>
                <a:lnTo>
                  <a:pt x="0" y="81567"/>
                </a:lnTo>
                <a:arcTo wR="3600" hR="3600" stAng="10800000" swAng="-5400000"/>
                <a:lnTo>
                  <a:pt x="18000" y="851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圆角矩形 77"/>
          <p:cNvSpPr/>
          <p:nvPr/>
        </p:nvSpPr>
        <p:spPr>
          <a:xfrm>
            <a:off x="2876400" y="1441440"/>
            <a:ext cx="613080" cy="2411280"/>
          </a:xfrm>
          <a:custGeom>
            <a:avLst/>
            <a:gdLst>
              <a:gd name="textAreaLeft" fmla="*/ 29880 w 613080"/>
              <a:gd name="textAreaRight" fmla="*/ 583200 w 613080"/>
              <a:gd name="textAreaTop" fmla="*/ 29880 h 2411280"/>
              <a:gd name="textAreaBottom" fmla="*/ 2381400 h 2411280"/>
            </a:gdLst>
            <a:ahLst/>
            <a:rect l="textAreaLeft" t="textAreaTop" r="textAreaRight" b="textAreaBottom"/>
            <a:pathLst>
              <a:path w="21600" h="84917">
                <a:moveTo>
                  <a:pt x="3600" y="0"/>
                </a:moveTo>
                <a:arcTo wR="3600" hR="3600" stAng="16200000" swAng="-5400000"/>
                <a:lnTo>
                  <a:pt x="0" y="81317"/>
                </a:lnTo>
                <a:arcTo wR="3600" hR="3600" stAng="10800000" swAng="-5400000"/>
                <a:lnTo>
                  <a:pt x="18000" y="849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圆角矩形 78"/>
          <p:cNvSpPr/>
          <p:nvPr/>
        </p:nvSpPr>
        <p:spPr>
          <a:xfrm>
            <a:off x="4226040" y="1441440"/>
            <a:ext cx="610920" cy="2411280"/>
          </a:xfrm>
          <a:custGeom>
            <a:avLst/>
            <a:gdLst>
              <a:gd name="textAreaLeft" fmla="*/ 29520 w 610920"/>
              <a:gd name="textAreaRight" fmla="*/ 581400 w 610920"/>
              <a:gd name="textAreaTop" fmla="*/ 29520 h 2411280"/>
              <a:gd name="textAreaBottom" fmla="*/ 2381760 h 2411280"/>
            </a:gdLst>
            <a:ahLst/>
            <a:rect l="textAreaLeft" t="textAreaTop" r="textAreaRight" b="textAreaBottom"/>
            <a:pathLst>
              <a:path w="21600" h="85217">
                <a:moveTo>
                  <a:pt x="3600" y="0"/>
                </a:moveTo>
                <a:arcTo wR="3600" hR="3600" stAng="16200000" swAng="-5400000"/>
                <a:lnTo>
                  <a:pt x="0" y="81617"/>
                </a:lnTo>
                <a:arcTo wR="3600" hR="3600" stAng="10800000" swAng="-5400000"/>
                <a:lnTo>
                  <a:pt x="18000" y="852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圆角矩形 79"/>
          <p:cNvSpPr/>
          <p:nvPr/>
        </p:nvSpPr>
        <p:spPr>
          <a:xfrm>
            <a:off x="3544920" y="1441440"/>
            <a:ext cx="612720" cy="2411280"/>
          </a:xfrm>
          <a:custGeom>
            <a:avLst/>
            <a:gdLst>
              <a:gd name="textAreaLeft" fmla="*/ 29880 w 612720"/>
              <a:gd name="textAreaRight" fmla="*/ 582840 w 612720"/>
              <a:gd name="textAreaTop" fmla="*/ 29880 h 2411280"/>
              <a:gd name="textAreaBottom" fmla="*/ 2381400 h 2411280"/>
            </a:gdLst>
            <a:ahLst/>
            <a:rect l="textAreaLeft" t="textAreaTop" r="textAreaRight" b="textAreaBottom"/>
            <a:pathLst>
              <a:path w="21600" h="84967">
                <a:moveTo>
                  <a:pt x="3600" y="0"/>
                </a:moveTo>
                <a:arcTo wR="3600" hR="3600" stAng="16200000" swAng="-5400000"/>
                <a:lnTo>
                  <a:pt x="0" y="81367"/>
                </a:lnTo>
                <a:arcTo wR="3600" hR="3600" stAng="10800000" swAng="-5400000"/>
                <a:lnTo>
                  <a:pt x="18000" y="849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圆角矩形 80"/>
          <p:cNvSpPr/>
          <p:nvPr/>
        </p:nvSpPr>
        <p:spPr>
          <a:xfrm>
            <a:off x="6945480" y="1441440"/>
            <a:ext cx="612720" cy="2411280"/>
          </a:xfrm>
          <a:custGeom>
            <a:avLst/>
            <a:gdLst>
              <a:gd name="textAreaLeft" fmla="*/ 29880 w 612720"/>
              <a:gd name="textAreaRight" fmla="*/ 582840 w 612720"/>
              <a:gd name="textAreaTop" fmla="*/ 29880 h 2411280"/>
              <a:gd name="textAreaBottom" fmla="*/ 2381400 h 2411280"/>
            </a:gdLst>
            <a:ahLst/>
            <a:rect l="textAreaLeft" t="textAreaTop" r="textAreaRight" b="textAreaBottom"/>
            <a:pathLst>
              <a:path w="21600" h="84967">
                <a:moveTo>
                  <a:pt x="3600" y="0"/>
                </a:moveTo>
                <a:arcTo wR="3600" hR="3600" stAng="16200000" swAng="-5400000"/>
                <a:lnTo>
                  <a:pt x="0" y="81367"/>
                </a:lnTo>
                <a:arcTo wR="3600" hR="3600" stAng="10800000" swAng="-5400000"/>
                <a:lnTo>
                  <a:pt x="18000" y="849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圆角矩形 81"/>
          <p:cNvSpPr/>
          <p:nvPr/>
        </p:nvSpPr>
        <p:spPr>
          <a:xfrm>
            <a:off x="4905360" y="1441440"/>
            <a:ext cx="612720" cy="2411280"/>
          </a:xfrm>
          <a:custGeom>
            <a:avLst/>
            <a:gdLst>
              <a:gd name="textAreaLeft" fmla="*/ 29880 w 612720"/>
              <a:gd name="textAreaRight" fmla="*/ 582840 w 612720"/>
              <a:gd name="textAreaTop" fmla="*/ 29880 h 2411280"/>
              <a:gd name="textAreaBottom" fmla="*/ 2381400 h 2411280"/>
            </a:gdLst>
            <a:ahLst/>
            <a:rect l="textAreaLeft" t="textAreaTop" r="textAreaRight" b="textAreaBottom"/>
            <a:pathLst>
              <a:path w="21600" h="84967">
                <a:moveTo>
                  <a:pt x="3600" y="0"/>
                </a:moveTo>
                <a:arcTo wR="3600" hR="3600" stAng="16200000" swAng="-5400000"/>
                <a:lnTo>
                  <a:pt x="0" y="81367"/>
                </a:lnTo>
                <a:arcTo wR="3600" hR="3600" stAng="10800000" swAng="-5400000"/>
                <a:lnTo>
                  <a:pt x="18000" y="849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圆角矩形 82"/>
          <p:cNvSpPr/>
          <p:nvPr/>
        </p:nvSpPr>
        <p:spPr>
          <a:xfrm>
            <a:off x="5584680" y="1441440"/>
            <a:ext cx="613080" cy="2411280"/>
          </a:xfrm>
          <a:custGeom>
            <a:avLst/>
            <a:gdLst>
              <a:gd name="textAreaLeft" fmla="*/ 29880 w 613080"/>
              <a:gd name="textAreaRight" fmla="*/ 583200 w 613080"/>
              <a:gd name="textAreaTop" fmla="*/ 29880 h 2411280"/>
              <a:gd name="textAreaBottom" fmla="*/ 2381400 h 2411280"/>
            </a:gdLst>
            <a:ahLst/>
            <a:rect l="textAreaLeft" t="textAreaTop" r="textAreaRight" b="textAreaBottom"/>
            <a:pathLst>
              <a:path w="21600" h="84917">
                <a:moveTo>
                  <a:pt x="3600" y="0"/>
                </a:moveTo>
                <a:arcTo wR="3600" hR="3600" stAng="16200000" swAng="-5400000"/>
                <a:lnTo>
                  <a:pt x="0" y="81317"/>
                </a:lnTo>
                <a:arcTo wR="3600" hR="3600" stAng="10800000" swAng="-5400000"/>
                <a:lnTo>
                  <a:pt x="18000" y="8491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圆角矩形 83"/>
          <p:cNvSpPr/>
          <p:nvPr/>
        </p:nvSpPr>
        <p:spPr>
          <a:xfrm>
            <a:off x="6265800" y="1441440"/>
            <a:ext cx="611280" cy="2411280"/>
          </a:xfrm>
          <a:custGeom>
            <a:avLst/>
            <a:gdLst>
              <a:gd name="textAreaLeft" fmla="*/ 29520 w 611280"/>
              <a:gd name="textAreaRight" fmla="*/ 581760 w 611280"/>
              <a:gd name="textAreaTop" fmla="*/ 29520 h 2411280"/>
              <a:gd name="textAreaBottom" fmla="*/ 2381760 h 2411280"/>
            </a:gdLst>
            <a:ahLst/>
            <a:rect l="textAreaLeft" t="textAreaTop" r="textAreaRight" b="textAreaBottom"/>
            <a:pathLst>
              <a:path w="21600" h="85167">
                <a:moveTo>
                  <a:pt x="3600" y="0"/>
                </a:moveTo>
                <a:arcTo wR="3600" hR="3600" stAng="16200000" swAng="-5400000"/>
                <a:lnTo>
                  <a:pt x="0" y="81567"/>
                </a:lnTo>
                <a:arcTo wR="3600" hR="3600" stAng="10800000" swAng="-5400000"/>
                <a:lnTo>
                  <a:pt x="18000" y="851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圆角矩形 88"/>
          <p:cNvSpPr/>
          <p:nvPr/>
        </p:nvSpPr>
        <p:spPr>
          <a:xfrm>
            <a:off x="1508040" y="1441440"/>
            <a:ext cx="612720" cy="2411280"/>
          </a:xfrm>
          <a:custGeom>
            <a:avLst/>
            <a:gdLst>
              <a:gd name="textAreaLeft" fmla="*/ 29880 w 612720"/>
              <a:gd name="textAreaRight" fmla="*/ 582840 w 612720"/>
              <a:gd name="textAreaTop" fmla="*/ 29880 h 2411280"/>
              <a:gd name="textAreaBottom" fmla="*/ 2381400 h 2411280"/>
            </a:gdLst>
            <a:ahLst/>
            <a:rect l="textAreaLeft" t="textAreaTop" r="textAreaRight" b="textAreaBottom"/>
            <a:pathLst>
              <a:path w="21600" h="84967">
                <a:moveTo>
                  <a:pt x="3600" y="0"/>
                </a:moveTo>
                <a:arcTo wR="3600" hR="3600" stAng="16200000" swAng="-5400000"/>
                <a:lnTo>
                  <a:pt x="0" y="81367"/>
                </a:lnTo>
                <a:arcTo wR="3600" hR="3600" stAng="10800000" swAng="-5400000"/>
                <a:lnTo>
                  <a:pt x="18000" y="8496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4"/>
          <p:cNvSpPr/>
          <p:nvPr/>
        </p:nvSpPr>
        <p:spPr>
          <a:xfrm>
            <a:off x="971640" y="1635120"/>
            <a:ext cx="4316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1"/>
          <p:cNvSpPr/>
          <p:nvPr/>
        </p:nvSpPr>
        <p:spPr>
          <a:xfrm>
            <a:off x="1598760" y="1635120"/>
            <a:ext cx="4316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35"/>
          <p:cNvSpPr/>
          <p:nvPr/>
        </p:nvSpPr>
        <p:spPr>
          <a:xfrm>
            <a:off x="2279520" y="1635120"/>
            <a:ext cx="432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矩形 36"/>
          <p:cNvSpPr/>
          <p:nvPr/>
        </p:nvSpPr>
        <p:spPr>
          <a:xfrm>
            <a:off x="2967120" y="1635120"/>
            <a:ext cx="4316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矩形 37"/>
          <p:cNvSpPr/>
          <p:nvPr/>
        </p:nvSpPr>
        <p:spPr>
          <a:xfrm>
            <a:off x="4303800" y="1635120"/>
            <a:ext cx="4316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矩形 38"/>
          <p:cNvSpPr/>
          <p:nvPr/>
        </p:nvSpPr>
        <p:spPr>
          <a:xfrm>
            <a:off x="3673440" y="1635120"/>
            <a:ext cx="432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矩形 39"/>
          <p:cNvSpPr/>
          <p:nvPr/>
        </p:nvSpPr>
        <p:spPr>
          <a:xfrm>
            <a:off x="5675400" y="1635120"/>
            <a:ext cx="4316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40"/>
          <p:cNvSpPr/>
          <p:nvPr/>
        </p:nvSpPr>
        <p:spPr>
          <a:xfrm>
            <a:off x="4994280" y="1635120"/>
            <a:ext cx="4316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41"/>
          <p:cNvSpPr/>
          <p:nvPr/>
        </p:nvSpPr>
        <p:spPr>
          <a:xfrm>
            <a:off x="6354720" y="1635120"/>
            <a:ext cx="432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42"/>
          <p:cNvSpPr/>
          <p:nvPr/>
        </p:nvSpPr>
        <p:spPr>
          <a:xfrm>
            <a:off x="7124760" y="1635120"/>
            <a:ext cx="4316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43"/>
          <p:cNvSpPr/>
          <p:nvPr/>
        </p:nvSpPr>
        <p:spPr>
          <a:xfrm>
            <a:off x="38160" y="349200"/>
            <a:ext cx="8964720" cy="432000"/>
          </a:xfrm>
          <a:prstGeom prst="rect">
            <a:avLst/>
          </a:prstGeom>
          <a:solidFill>
            <a:srgbClr val="dde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44"/>
          <p:cNvSpPr/>
          <p:nvPr/>
        </p:nvSpPr>
        <p:spPr>
          <a:xfrm>
            <a:off x="3780000" y="71280"/>
            <a:ext cx="5256000" cy="12384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剪去单角的矩形 45"/>
          <p:cNvSpPr/>
          <p:nvPr/>
        </p:nvSpPr>
        <p:spPr>
          <a:xfrm flipV="1">
            <a:off x="73080" y="70920"/>
            <a:ext cx="3600360" cy="55584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77"/>
          <p:cNvSpPr/>
          <p:nvPr/>
        </p:nvSpPr>
        <p:spPr>
          <a:xfrm>
            <a:off x="108000" y="42840"/>
            <a:ext cx="35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梯形 14"/>
          <p:cNvSpPr/>
          <p:nvPr/>
        </p:nvSpPr>
        <p:spPr>
          <a:xfrm flipV="1" rot="16200000">
            <a:off x="649440" y="732600"/>
            <a:ext cx="3306960" cy="3958920"/>
          </a:xfrm>
          <a:custGeom>
            <a:avLst/>
            <a:gdLst>
              <a:gd name="textAreaLeft" fmla="*/ 456480 w 3306960"/>
              <a:gd name="textAreaRight" fmla="*/ 2850480 w 3306960"/>
              <a:gd name="textAreaTop" fmla="*/ 546840 h 3958920"/>
              <a:gd name="textAreaBottom" fmla="*/ 3412080 h 39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380" y="21600"/>
                </a:lnTo>
                <a:lnTo>
                  <a:pt x="2220" y="21600"/>
                </a:lnTo>
                <a:close/>
              </a:path>
            </a:pathLst>
          </a:cu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梯形 15"/>
          <p:cNvSpPr/>
          <p:nvPr/>
        </p:nvSpPr>
        <p:spPr>
          <a:xfrm flipH="1" flipV="1" rot="5400000">
            <a:off x="5186160" y="731880"/>
            <a:ext cx="3306960" cy="3960720"/>
          </a:xfrm>
          <a:custGeom>
            <a:avLst/>
            <a:gdLst>
              <a:gd name="textAreaLeft" fmla="*/ 456480 w 3306960"/>
              <a:gd name="textAreaRight" fmla="*/ 2850480 w 3306960"/>
              <a:gd name="textAreaTop" fmla="*/ 546840 h 3960720"/>
              <a:gd name="textAreaBottom" fmla="*/ 3413880 h 39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380" y="21600"/>
                </a:lnTo>
                <a:lnTo>
                  <a:pt x="2220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梯形 20"/>
          <p:cNvSpPr/>
          <p:nvPr/>
        </p:nvSpPr>
        <p:spPr>
          <a:xfrm flipV="1" rot="16200000">
            <a:off x="3795480" y="1004040"/>
            <a:ext cx="431640" cy="542880"/>
          </a:xfrm>
          <a:custGeom>
            <a:avLst/>
            <a:gdLst>
              <a:gd name="textAreaLeft" fmla="*/ 59400 w 431640"/>
              <a:gd name="textAreaRight" fmla="*/ 372240 w 431640"/>
              <a:gd name="textAreaTop" fmla="*/ 74880 h 542880"/>
              <a:gd name="textAreaBottom" fmla="*/ 468000 h 54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380" y="21600"/>
                </a:lnTo>
                <a:lnTo>
                  <a:pt x="2220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梯形 21"/>
          <p:cNvSpPr/>
          <p:nvPr/>
        </p:nvSpPr>
        <p:spPr>
          <a:xfrm flipV="1" rot="16200000">
            <a:off x="3795480" y="3878280"/>
            <a:ext cx="432000" cy="542880"/>
          </a:xfrm>
          <a:custGeom>
            <a:avLst/>
            <a:gdLst>
              <a:gd name="textAreaLeft" fmla="*/ 59400 w 432000"/>
              <a:gd name="textAreaRight" fmla="*/ 372600 w 432000"/>
              <a:gd name="textAreaTop" fmla="*/ 74880 h 542880"/>
              <a:gd name="textAreaBottom" fmla="*/ 468000 h 54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380" y="21600"/>
                </a:lnTo>
                <a:lnTo>
                  <a:pt x="2220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梯形 22"/>
          <p:cNvSpPr/>
          <p:nvPr/>
        </p:nvSpPr>
        <p:spPr>
          <a:xfrm flipH="1" flipV="1" rot="5400000">
            <a:off x="4916520" y="1011240"/>
            <a:ext cx="432000" cy="542880"/>
          </a:xfrm>
          <a:custGeom>
            <a:avLst/>
            <a:gdLst>
              <a:gd name="textAreaLeft" fmla="*/ 59400 w 432000"/>
              <a:gd name="textAreaRight" fmla="*/ 372600 w 432000"/>
              <a:gd name="textAreaTop" fmla="*/ 74880 h 542880"/>
              <a:gd name="textAreaBottom" fmla="*/ 468000 h 54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380" y="21600"/>
                </a:lnTo>
                <a:lnTo>
                  <a:pt x="2220" y="21600"/>
                </a:lnTo>
                <a:close/>
              </a:path>
            </a:pathLst>
          </a:cu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梯形 23"/>
          <p:cNvSpPr/>
          <p:nvPr/>
        </p:nvSpPr>
        <p:spPr>
          <a:xfrm flipH="1" flipV="1" rot="5400000">
            <a:off x="4916520" y="3878280"/>
            <a:ext cx="432000" cy="542880"/>
          </a:xfrm>
          <a:custGeom>
            <a:avLst/>
            <a:gdLst>
              <a:gd name="textAreaLeft" fmla="*/ 59400 w 432000"/>
              <a:gd name="textAreaRight" fmla="*/ 372600 w 432000"/>
              <a:gd name="textAreaTop" fmla="*/ 74880 h 542880"/>
              <a:gd name="textAreaBottom" fmla="*/ 468000 h 542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380" y="21600"/>
                </a:lnTo>
                <a:lnTo>
                  <a:pt x="2220" y="21600"/>
                </a:lnTo>
                <a:close/>
              </a:path>
            </a:pathLst>
          </a:cu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4"/>
          <p:cNvSpPr/>
          <p:nvPr/>
        </p:nvSpPr>
        <p:spPr>
          <a:xfrm rot="19358400">
            <a:off x="54000" y="1503360"/>
            <a:ext cx="766800" cy="4608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5"/>
          <p:cNvSpPr/>
          <p:nvPr/>
        </p:nvSpPr>
        <p:spPr>
          <a:xfrm rot="13271400">
            <a:off x="99720" y="3825720"/>
            <a:ext cx="766800" cy="4608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1"/>
          <p:cNvSpPr/>
          <p:nvPr/>
        </p:nvSpPr>
        <p:spPr>
          <a:xfrm>
            <a:off x="611280" y="1487520"/>
            <a:ext cx="33638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黑体"/>
                <a:ea typeface="黑体"/>
              </a:rPr>
              <a:t>XXXXXXXXXXXX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黑体"/>
                <a:ea typeface="黑体"/>
              </a:rPr>
              <a:t>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黑体"/>
                <a:ea typeface="黑体"/>
              </a:rPr>
              <a:t>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黑体"/>
                <a:ea typeface="黑体"/>
              </a:rPr>
              <a:t>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黑体"/>
                <a:ea typeface="黑体"/>
              </a:rPr>
              <a:t>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27"/>
          <p:cNvSpPr/>
          <p:nvPr/>
        </p:nvSpPr>
        <p:spPr>
          <a:xfrm>
            <a:off x="5292720" y="1552680"/>
            <a:ext cx="33638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黑体"/>
                <a:ea typeface="黑体"/>
              </a:rPr>
              <a:t>XXXXXXXXXXXXXXXXXXXXXXXXXX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黑体"/>
                <a:ea typeface="黑体"/>
              </a:rPr>
              <a:t>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黑体"/>
                <a:ea typeface="黑体"/>
              </a:rPr>
              <a:t>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黑体"/>
                <a:ea typeface="黑体"/>
              </a:rPr>
              <a:t>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黑体"/>
                <a:ea typeface="黑体"/>
              </a:rPr>
              <a:t>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矩形 28"/>
          <p:cNvSpPr/>
          <p:nvPr/>
        </p:nvSpPr>
        <p:spPr>
          <a:xfrm>
            <a:off x="38160" y="349200"/>
            <a:ext cx="8964720" cy="432000"/>
          </a:xfrm>
          <a:prstGeom prst="rect">
            <a:avLst/>
          </a:prstGeom>
          <a:solidFill>
            <a:srgbClr val="dde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29"/>
          <p:cNvSpPr/>
          <p:nvPr/>
        </p:nvSpPr>
        <p:spPr>
          <a:xfrm>
            <a:off x="3780000" y="71280"/>
            <a:ext cx="5256000" cy="12384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剪去单角的矩形 30"/>
          <p:cNvSpPr/>
          <p:nvPr/>
        </p:nvSpPr>
        <p:spPr>
          <a:xfrm flipV="1">
            <a:off x="73080" y="70920"/>
            <a:ext cx="3600360" cy="55584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Box 77"/>
          <p:cNvSpPr/>
          <p:nvPr/>
        </p:nvSpPr>
        <p:spPr>
          <a:xfrm>
            <a:off x="108000" y="42840"/>
            <a:ext cx="35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1CC5-304B-4B45-93A6-A5F748379FA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椭圆 3"/>
          <p:cNvSpPr/>
          <p:nvPr/>
        </p:nvSpPr>
        <p:spPr>
          <a:xfrm>
            <a:off x="1776240" y="2657520"/>
            <a:ext cx="1081440" cy="1081080"/>
          </a:xfrm>
          <a:prstGeom prst="ellips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椭圆 4"/>
          <p:cNvSpPr/>
          <p:nvPr/>
        </p:nvSpPr>
        <p:spPr>
          <a:xfrm>
            <a:off x="3373560" y="3467160"/>
            <a:ext cx="1079280" cy="1079280"/>
          </a:xfrm>
          <a:prstGeom prst="ellips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椭圆 5"/>
          <p:cNvSpPr/>
          <p:nvPr/>
        </p:nvSpPr>
        <p:spPr>
          <a:xfrm>
            <a:off x="5084640" y="2311560"/>
            <a:ext cx="1079640" cy="1079280"/>
          </a:xfrm>
          <a:prstGeom prst="ellips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椭圆 6"/>
          <p:cNvSpPr/>
          <p:nvPr/>
        </p:nvSpPr>
        <p:spPr>
          <a:xfrm>
            <a:off x="7016760" y="1023840"/>
            <a:ext cx="1079640" cy="1079640"/>
          </a:xfrm>
          <a:prstGeom prst="ellips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7"/>
          <p:cNvSpPr/>
          <p:nvPr/>
        </p:nvSpPr>
        <p:spPr>
          <a:xfrm rot="2091600">
            <a:off x="2572920" y="3578040"/>
            <a:ext cx="1031760" cy="45720"/>
          </a:xfrm>
          <a:prstGeom prst="rect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9"/>
          <p:cNvSpPr/>
          <p:nvPr/>
        </p:nvSpPr>
        <p:spPr>
          <a:xfrm flipV="1" rot="19426200">
            <a:off x="3990600" y="2817720"/>
            <a:ext cx="3506760" cy="46080"/>
          </a:xfrm>
          <a:prstGeom prst="rect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12"/>
          <p:cNvSpPr/>
          <p:nvPr/>
        </p:nvSpPr>
        <p:spPr>
          <a:xfrm>
            <a:off x="395280" y="2103480"/>
            <a:ext cx="2967120" cy="46836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13"/>
          <p:cNvSpPr/>
          <p:nvPr/>
        </p:nvSpPr>
        <p:spPr>
          <a:xfrm>
            <a:off x="4548240" y="4119480"/>
            <a:ext cx="3116160" cy="46836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14"/>
          <p:cNvSpPr/>
          <p:nvPr/>
        </p:nvSpPr>
        <p:spPr>
          <a:xfrm>
            <a:off x="5051520" y="987480"/>
            <a:ext cx="1873080" cy="46836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15"/>
          <p:cNvSpPr/>
          <p:nvPr/>
        </p:nvSpPr>
        <p:spPr>
          <a:xfrm>
            <a:off x="6348240" y="2921040"/>
            <a:ext cx="2040120" cy="46656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19"/>
          <p:cNvSpPr/>
          <p:nvPr/>
        </p:nvSpPr>
        <p:spPr>
          <a:xfrm>
            <a:off x="1980000" y="2901960"/>
            <a:ext cx="69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20"/>
          <p:cNvSpPr/>
          <p:nvPr/>
        </p:nvSpPr>
        <p:spPr>
          <a:xfrm>
            <a:off x="3584880" y="3716280"/>
            <a:ext cx="69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4</a:t>
            </a:r>
            <a:r>
              <a:rPr b="1" lang="zh-CN" sz="2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矩形 21"/>
          <p:cNvSpPr/>
          <p:nvPr/>
        </p:nvSpPr>
        <p:spPr>
          <a:xfrm>
            <a:off x="5364360" y="2577960"/>
            <a:ext cx="69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7</a:t>
            </a:r>
            <a:r>
              <a:rPr b="1" lang="zh-CN" sz="2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矩形 22"/>
          <p:cNvSpPr/>
          <p:nvPr/>
        </p:nvSpPr>
        <p:spPr>
          <a:xfrm>
            <a:off x="7296480" y="1262160"/>
            <a:ext cx="69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8</a:t>
            </a:r>
            <a:r>
              <a:rPr b="1" lang="zh-CN" sz="28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矩形 23"/>
          <p:cNvSpPr/>
          <p:nvPr/>
        </p:nvSpPr>
        <p:spPr>
          <a:xfrm>
            <a:off x="488880" y="2022480"/>
            <a:ext cx="232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矩形 24"/>
          <p:cNvSpPr/>
          <p:nvPr/>
        </p:nvSpPr>
        <p:spPr>
          <a:xfrm>
            <a:off x="4556160" y="4187880"/>
            <a:ext cx="310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矩形 25"/>
          <p:cNvSpPr/>
          <p:nvPr/>
        </p:nvSpPr>
        <p:spPr>
          <a:xfrm>
            <a:off x="6450480" y="2860560"/>
            <a:ext cx="1726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6"/>
          <p:cNvSpPr/>
          <p:nvPr/>
        </p:nvSpPr>
        <p:spPr>
          <a:xfrm>
            <a:off x="5253120" y="1062000"/>
            <a:ext cx="160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矩形 27"/>
          <p:cNvSpPr/>
          <p:nvPr/>
        </p:nvSpPr>
        <p:spPr>
          <a:xfrm>
            <a:off x="38160" y="349200"/>
            <a:ext cx="8964720" cy="432000"/>
          </a:xfrm>
          <a:prstGeom prst="rect">
            <a:avLst/>
          </a:prstGeom>
          <a:solidFill>
            <a:srgbClr val="dde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9"/>
          <p:cNvSpPr/>
          <p:nvPr/>
        </p:nvSpPr>
        <p:spPr>
          <a:xfrm>
            <a:off x="3780000" y="71280"/>
            <a:ext cx="5256000" cy="12384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剪去单角的矩形 30"/>
          <p:cNvSpPr/>
          <p:nvPr/>
        </p:nvSpPr>
        <p:spPr>
          <a:xfrm flipV="1">
            <a:off x="73080" y="70920"/>
            <a:ext cx="3600360" cy="55584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77"/>
          <p:cNvSpPr/>
          <p:nvPr/>
        </p:nvSpPr>
        <p:spPr>
          <a:xfrm>
            <a:off x="108000" y="42840"/>
            <a:ext cx="35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梯形 23"/>
          <p:cNvSpPr/>
          <p:nvPr/>
        </p:nvSpPr>
        <p:spPr>
          <a:xfrm flipV="1" rot="16200000">
            <a:off x="6371280" y="2212200"/>
            <a:ext cx="720720" cy="2735280"/>
          </a:xfrm>
          <a:custGeom>
            <a:avLst/>
            <a:gdLst>
              <a:gd name="textAreaLeft" fmla="*/ 140760 w 720720"/>
              <a:gd name="textAreaRight" fmla="*/ 579960 w 720720"/>
              <a:gd name="textAreaTop" fmla="*/ 534240 h 2735280"/>
              <a:gd name="textAreaBottom" fmla="*/ 2201040 h 27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157" y="21600"/>
                </a:lnTo>
                <a:lnTo>
                  <a:pt x="4443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梯形 26"/>
          <p:cNvSpPr/>
          <p:nvPr/>
        </p:nvSpPr>
        <p:spPr>
          <a:xfrm flipV="1" rot="16200000">
            <a:off x="6372000" y="1202400"/>
            <a:ext cx="718920" cy="2735280"/>
          </a:xfrm>
          <a:custGeom>
            <a:avLst/>
            <a:gdLst>
              <a:gd name="textAreaLeft" fmla="*/ 140400 w 718920"/>
              <a:gd name="textAreaRight" fmla="*/ 578520 w 718920"/>
              <a:gd name="textAreaTop" fmla="*/ 534240 h 2735280"/>
              <a:gd name="textAreaBottom" fmla="*/ 2201040 h 27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157" y="21600"/>
                </a:lnTo>
                <a:lnTo>
                  <a:pt x="4443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斜纹 14"/>
          <p:cNvSpPr/>
          <p:nvPr/>
        </p:nvSpPr>
        <p:spPr>
          <a:xfrm flipV="1">
            <a:off x="0" y="554400"/>
            <a:ext cx="7454880" cy="458820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斜纹 14"/>
          <p:cNvSpPr/>
          <p:nvPr/>
        </p:nvSpPr>
        <p:spPr>
          <a:xfrm>
            <a:off x="0" y="0"/>
            <a:ext cx="7164360" cy="451656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梯形 3"/>
          <p:cNvSpPr/>
          <p:nvPr/>
        </p:nvSpPr>
        <p:spPr>
          <a:xfrm flipH="1" flipV="1" rot="16200000">
            <a:off x="2156760" y="1189440"/>
            <a:ext cx="863640" cy="2762280"/>
          </a:xfrm>
          <a:custGeom>
            <a:avLst/>
            <a:gdLst>
              <a:gd name="textAreaLeft" fmla="*/ 189720 w 863640"/>
              <a:gd name="textAreaRight" fmla="*/ 673920 w 863640"/>
              <a:gd name="textAreaTop" fmla="*/ 607320 h 2762280"/>
              <a:gd name="textAreaBottom" fmla="*/ 2154960 h 276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梯形 4"/>
          <p:cNvSpPr/>
          <p:nvPr/>
        </p:nvSpPr>
        <p:spPr>
          <a:xfrm flipV="1" rot="16200000">
            <a:off x="6371280" y="123120"/>
            <a:ext cx="720720" cy="2735280"/>
          </a:xfrm>
          <a:custGeom>
            <a:avLst/>
            <a:gdLst>
              <a:gd name="textAreaLeft" fmla="*/ 140760 w 720720"/>
              <a:gd name="textAreaRight" fmla="*/ 579960 w 720720"/>
              <a:gd name="textAreaTop" fmla="*/ 534240 h 2735280"/>
              <a:gd name="textAreaBottom" fmla="*/ 2201040 h 27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157" y="21600"/>
                </a:lnTo>
                <a:lnTo>
                  <a:pt x="4443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梯形 7"/>
          <p:cNvSpPr/>
          <p:nvPr/>
        </p:nvSpPr>
        <p:spPr>
          <a:xfrm flipV="1" rot="5400000">
            <a:off x="4549680" y="1180080"/>
            <a:ext cx="692280" cy="647640"/>
          </a:xfrm>
          <a:custGeom>
            <a:avLst/>
            <a:gdLst>
              <a:gd name="textAreaLeft" fmla="*/ 145800 w 692280"/>
              <a:gd name="textAreaRight" fmla="*/ 546480 w 692280"/>
              <a:gd name="textAreaTop" fmla="*/ 136440 h 647640"/>
              <a:gd name="textAreaBottom" fmla="*/ 5112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547" y="21600"/>
                </a:lnTo>
                <a:lnTo>
                  <a:pt x="5053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77"/>
          <p:cNvSpPr/>
          <p:nvPr/>
        </p:nvSpPr>
        <p:spPr>
          <a:xfrm>
            <a:off x="1982880" y="2212920"/>
            <a:ext cx="114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梯形 17"/>
          <p:cNvSpPr/>
          <p:nvPr/>
        </p:nvSpPr>
        <p:spPr>
          <a:xfrm flipV="1" rot="5400000">
            <a:off x="4626000" y="1114560"/>
            <a:ext cx="179280" cy="287280"/>
          </a:xfrm>
          <a:custGeom>
            <a:avLst/>
            <a:gdLst>
              <a:gd name="textAreaLeft" fmla="*/ 39240 w 179280"/>
              <a:gd name="textAreaRight" fmla="*/ 140040 w 179280"/>
              <a:gd name="textAreaTop" fmla="*/ 63000 h 287280"/>
              <a:gd name="textAreaBottom" fmla="*/ 22428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矩形 20"/>
          <p:cNvSpPr/>
          <p:nvPr/>
        </p:nvSpPr>
        <p:spPr>
          <a:xfrm>
            <a:off x="4670640" y="128124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梯形 27"/>
          <p:cNvSpPr/>
          <p:nvPr/>
        </p:nvSpPr>
        <p:spPr>
          <a:xfrm flipV="1" rot="5400000">
            <a:off x="4549680" y="2260440"/>
            <a:ext cx="691920" cy="647640"/>
          </a:xfrm>
          <a:custGeom>
            <a:avLst/>
            <a:gdLst>
              <a:gd name="textAreaLeft" fmla="*/ 145800 w 691920"/>
              <a:gd name="textAreaRight" fmla="*/ 546120 w 691920"/>
              <a:gd name="textAreaTop" fmla="*/ 136440 h 647640"/>
              <a:gd name="textAreaBottom" fmla="*/ 5112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547" y="21600"/>
                </a:lnTo>
                <a:lnTo>
                  <a:pt x="5053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梯形 28"/>
          <p:cNvSpPr/>
          <p:nvPr/>
        </p:nvSpPr>
        <p:spPr>
          <a:xfrm flipV="1" rot="5400000">
            <a:off x="4626000" y="2193840"/>
            <a:ext cx="179280" cy="287280"/>
          </a:xfrm>
          <a:custGeom>
            <a:avLst/>
            <a:gdLst>
              <a:gd name="textAreaLeft" fmla="*/ 39240 w 179280"/>
              <a:gd name="textAreaRight" fmla="*/ 140040 w 179280"/>
              <a:gd name="textAreaTop" fmla="*/ 63000 h 287280"/>
              <a:gd name="textAreaBottom" fmla="*/ 22428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矩形 21"/>
          <p:cNvSpPr/>
          <p:nvPr/>
        </p:nvSpPr>
        <p:spPr>
          <a:xfrm>
            <a:off x="4633920" y="233856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77"/>
          <p:cNvSpPr/>
          <p:nvPr/>
        </p:nvSpPr>
        <p:spPr>
          <a:xfrm>
            <a:off x="5907960" y="1276200"/>
            <a:ext cx="15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数据盘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77"/>
          <p:cNvSpPr/>
          <p:nvPr/>
        </p:nvSpPr>
        <p:spPr>
          <a:xfrm>
            <a:off x="5856480" y="2370240"/>
            <a:ext cx="143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的反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77"/>
          <p:cNvSpPr/>
          <p:nvPr/>
        </p:nvSpPr>
        <p:spPr>
          <a:xfrm>
            <a:off x="5856480" y="3417840"/>
            <a:ext cx="143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的展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梯形 24"/>
          <p:cNvSpPr/>
          <p:nvPr/>
        </p:nvSpPr>
        <p:spPr>
          <a:xfrm flipV="1" rot="5400000">
            <a:off x="4548960" y="3268440"/>
            <a:ext cx="693720" cy="647640"/>
          </a:xfrm>
          <a:custGeom>
            <a:avLst/>
            <a:gdLst>
              <a:gd name="textAreaLeft" fmla="*/ 146160 w 693720"/>
              <a:gd name="textAreaRight" fmla="*/ 547560 w 693720"/>
              <a:gd name="textAreaTop" fmla="*/ 136440 h 647640"/>
              <a:gd name="textAreaBottom" fmla="*/ 5112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547" y="21600"/>
                </a:lnTo>
                <a:lnTo>
                  <a:pt x="5053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梯形 25"/>
          <p:cNvSpPr/>
          <p:nvPr/>
        </p:nvSpPr>
        <p:spPr>
          <a:xfrm flipV="1" rot="5400000">
            <a:off x="4625640" y="3200760"/>
            <a:ext cx="179640" cy="287280"/>
          </a:xfrm>
          <a:custGeom>
            <a:avLst/>
            <a:gdLst>
              <a:gd name="textAreaLeft" fmla="*/ 39240 w 179640"/>
              <a:gd name="textAreaRight" fmla="*/ 140400 w 179640"/>
              <a:gd name="textAreaTop" fmla="*/ 63000 h 287280"/>
              <a:gd name="textAreaBottom" fmla="*/ 22428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矩形 22"/>
          <p:cNvSpPr/>
          <p:nvPr/>
        </p:nvSpPr>
        <p:spPr>
          <a:xfrm>
            <a:off x="4660920" y="34354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矩形 30"/>
          <p:cNvSpPr/>
          <p:nvPr/>
        </p:nvSpPr>
        <p:spPr>
          <a:xfrm>
            <a:off x="38160" y="349200"/>
            <a:ext cx="8964720" cy="432000"/>
          </a:xfrm>
          <a:prstGeom prst="rect">
            <a:avLst/>
          </a:prstGeom>
          <a:solidFill>
            <a:srgbClr val="dde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矩形 31"/>
          <p:cNvSpPr/>
          <p:nvPr/>
        </p:nvSpPr>
        <p:spPr>
          <a:xfrm>
            <a:off x="3780000" y="71280"/>
            <a:ext cx="5256000" cy="12384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剪去单角的矩形 32"/>
          <p:cNvSpPr/>
          <p:nvPr/>
        </p:nvSpPr>
        <p:spPr>
          <a:xfrm flipV="1">
            <a:off x="73080" y="70920"/>
            <a:ext cx="3600360" cy="55584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77"/>
          <p:cNvSpPr/>
          <p:nvPr/>
        </p:nvSpPr>
        <p:spPr>
          <a:xfrm>
            <a:off x="108000" y="42840"/>
            <a:ext cx="35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矩形 7"/>
          <p:cNvSpPr/>
          <p:nvPr/>
        </p:nvSpPr>
        <p:spPr>
          <a:xfrm>
            <a:off x="1293840" y="1347840"/>
            <a:ext cx="865080" cy="93492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9"/>
          <p:cNvSpPr/>
          <p:nvPr/>
        </p:nvSpPr>
        <p:spPr>
          <a:xfrm>
            <a:off x="2374920" y="1347840"/>
            <a:ext cx="1224000" cy="934920"/>
          </a:xfrm>
          <a:prstGeom prst="rect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矩形 10"/>
          <p:cNvSpPr/>
          <p:nvPr/>
        </p:nvSpPr>
        <p:spPr>
          <a:xfrm>
            <a:off x="3959280" y="1347840"/>
            <a:ext cx="3781440" cy="39528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矩形 11"/>
          <p:cNvSpPr/>
          <p:nvPr/>
        </p:nvSpPr>
        <p:spPr>
          <a:xfrm>
            <a:off x="3959280" y="1851120"/>
            <a:ext cx="4429080" cy="396720"/>
          </a:xfrm>
          <a:prstGeom prst="rect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6"/>
          <p:cNvSpPr/>
          <p:nvPr/>
        </p:nvSpPr>
        <p:spPr>
          <a:xfrm>
            <a:off x="2607120" y="18511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正面报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下箭头 17"/>
          <p:cNvSpPr/>
          <p:nvPr/>
        </p:nvSpPr>
        <p:spPr>
          <a:xfrm flipV="1">
            <a:off x="2411280" y="1418400"/>
            <a:ext cx="360360" cy="360360"/>
          </a:xfrm>
          <a:prstGeom prst="downArrow">
            <a:avLst>
              <a:gd name="adj1" fmla="val 50000"/>
              <a:gd name="adj2" fmla="val 50000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矩形 18"/>
          <p:cNvSpPr/>
          <p:nvPr/>
        </p:nvSpPr>
        <p:spPr>
          <a:xfrm>
            <a:off x="2749320" y="148284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7.1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矩形 19"/>
          <p:cNvSpPr/>
          <p:nvPr/>
        </p:nvSpPr>
        <p:spPr>
          <a:xfrm>
            <a:off x="4024080" y="1368360"/>
            <a:ext cx="81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矩形 20"/>
          <p:cNvSpPr/>
          <p:nvPr/>
        </p:nvSpPr>
        <p:spPr>
          <a:xfrm>
            <a:off x="4024080" y="1882800"/>
            <a:ext cx="81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矩形 21"/>
          <p:cNvSpPr/>
          <p:nvPr/>
        </p:nvSpPr>
        <p:spPr>
          <a:xfrm>
            <a:off x="6991920" y="136836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69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矩形 22"/>
          <p:cNvSpPr/>
          <p:nvPr/>
        </p:nvSpPr>
        <p:spPr>
          <a:xfrm>
            <a:off x="7622280" y="188280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15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矩形 23"/>
          <p:cNvSpPr/>
          <p:nvPr/>
        </p:nvSpPr>
        <p:spPr>
          <a:xfrm>
            <a:off x="1293840" y="2860560"/>
            <a:ext cx="861840" cy="144000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矩形 24"/>
          <p:cNvSpPr/>
          <p:nvPr/>
        </p:nvSpPr>
        <p:spPr>
          <a:xfrm>
            <a:off x="2374920" y="2860560"/>
            <a:ext cx="1224000" cy="1440000"/>
          </a:xfrm>
          <a:prstGeom prst="rect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矩形 25"/>
          <p:cNvSpPr/>
          <p:nvPr/>
        </p:nvSpPr>
        <p:spPr>
          <a:xfrm>
            <a:off x="3959280" y="2860560"/>
            <a:ext cx="1890720" cy="39528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矩形 26"/>
          <p:cNvSpPr/>
          <p:nvPr/>
        </p:nvSpPr>
        <p:spPr>
          <a:xfrm>
            <a:off x="3959280" y="3363840"/>
            <a:ext cx="2844720" cy="395280"/>
          </a:xfrm>
          <a:prstGeom prst="rect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矩形 28"/>
          <p:cNvSpPr/>
          <p:nvPr/>
        </p:nvSpPr>
        <p:spPr>
          <a:xfrm>
            <a:off x="2607120" y="36511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品牌价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下箭头 29"/>
          <p:cNvSpPr/>
          <p:nvPr/>
        </p:nvSpPr>
        <p:spPr>
          <a:xfrm flipV="1">
            <a:off x="2411280" y="3147120"/>
            <a:ext cx="360360" cy="360360"/>
          </a:xfrm>
          <a:prstGeom prst="downArrow">
            <a:avLst>
              <a:gd name="adj1" fmla="val 50000"/>
              <a:gd name="adj2" fmla="val 50000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30"/>
          <p:cNvSpPr/>
          <p:nvPr/>
        </p:nvSpPr>
        <p:spPr>
          <a:xfrm>
            <a:off x="2749320" y="3209760"/>
            <a:ext cx="82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0.3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31"/>
          <p:cNvSpPr/>
          <p:nvPr/>
        </p:nvSpPr>
        <p:spPr>
          <a:xfrm>
            <a:off x="4024080" y="2881440"/>
            <a:ext cx="81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2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32"/>
          <p:cNvSpPr/>
          <p:nvPr/>
        </p:nvSpPr>
        <p:spPr>
          <a:xfrm>
            <a:off x="4024080" y="3394080"/>
            <a:ext cx="81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33"/>
          <p:cNvSpPr/>
          <p:nvPr/>
        </p:nvSpPr>
        <p:spPr>
          <a:xfrm>
            <a:off x="5239800" y="2889360"/>
            <a:ext cx="63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3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34"/>
          <p:cNvSpPr/>
          <p:nvPr/>
        </p:nvSpPr>
        <p:spPr>
          <a:xfrm>
            <a:off x="6081120" y="3384720"/>
            <a:ext cx="75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32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35"/>
          <p:cNvSpPr/>
          <p:nvPr/>
        </p:nvSpPr>
        <p:spPr>
          <a:xfrm>
            <a:off x="3959280" y="3903840"/>
            <a:ext cx="3205080" cy="39672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5" descr=""/>
          <p:cNvPicPr/>
          <p:nvPr/>
        </p:nvPicPr>
        <p:blipFill>
          <a:blip r:embed="rId1"/>
          <a:stretch/>
        </p:blipFill>
        <p:spPr>
          <a:xfrm>
            <a:off x="1368360" y="1512720"/>
            <a:ext cx="792360" cy="536760"/>
          </a:xfrm>
          <a:prstGeom prst="rect">
            <a:avLst/>
          </a:prstGeom>
          <a:ln w="0">
            <a:noFill/>
          </a:ln>
        </p:spPr>
      </p:pic>
      <p:sp>
        <p:nvSpPr>
          <p:cNvPr id="386" name="矩形 39"/>
          <p:cNvSpPr/>
          <p:nvPr/>
        </p:nvSpPr>
        <p:spPr>
          <a:xfrm>
            <a:off x="4024080" y="3932280"/>
            <a:ext cx="81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0"/>
          <p:cNvSpPr/>
          <p:nvPr/>
        </p:nvSpPr>
        <p:spPr>
          <a:xfrm>
            <a:off x="6395400" y="3932280"/>
            <a:ext cx="75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96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亿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Picture 6" descr=""/>
          <p:cNvPicPr/>
          <p:nvPr/>
        </p:nvPicPr>
        <p:blipFill>
          <a:blip r:embed="rId2">
            <a:biLevel thresh="50000"/>
          </a:blip>
          <a:stretch/>
        </p:blipFill>
        <p:spPr>
          <a:xfrm>
            <a:off x="1476360" y="3048120"/>
            <a:ext cx="495360" cy="963360"/>
          </a:xfrm>
          <a:prstGeom prst="rect">
            <a:avLst/>
          </a:prstGeom>
          <a:ln w="0">
            <a:noFill/>
          </a:ln>
        </p:spPr>
      </p:pic>
      <p:sp>
        <p:nvSpPr>
          <p:cNvPr id="389" name="矩形 36"/>
          <p:cNvSpPr/>
          <p:nvPr/>
        </p:nvSpPr>
        <p:spPr>
          <a:xfrm>
            <a:off x="38160" y="349200"/>
            <a:ext cx="8964720" cy="432000"/>
          </a:xfrm>
          <a:prstGeom prst="rect">
            <a:avLst/>
          </a:prstGeom>
          <a:solidFill>
            <a:srgbClr val="dde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矩形 38"/>
          <p:cNvSpPr/>
          <p:nvPr/>
        </p:nvSpPr>
        <p:spPr>
          <a:xfrm>
            <a:off x="3780000" y="71280"/>
            <a:ext cx="5256000" cy="12384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剪去单角的矩形 41"/>
          <p:cNvSpPr/>
          <p:nvPr/>
        </p:nvSpPr>
        <p:spPr>
          <a:xfrm flipV="1">
            <a:off x="73080" y="70920"/>
            <a:ext cx="3600360" cy="55584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77"/>
          <p:cNvSpPr/>
          <p:nvPr/>
        </p:nvSpPr>
        <p:spPr>
          <a:xfrm>
            <a:off x="108000" y="42840"/>
            <a:ext cx="35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79360" y="454968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0623-9477-425D-9078-CEDC549855F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圆角矩形 26"/>
          <p:cNvSpPr/>
          <p:nvPr/>
        </p:nvSpPr>
        <p:spPr>
          <a:xfrm>
            <a:off x="971640" y="3708360"/>
            <a:ext cx="3456000" cy="720720"/>
          </a:xfrm>
          <a:prstGeom prst="roundRect">
            <a:avLst>
              <a:gd name="adj" fmla="val 16667"/>
            </a:avLst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圆角矩形 25"/>
          <p:cNvSpPr/>
          <p:nvPr/>
        </p:nvSpPr>
        <p:spPr>
          <a:xfrm>
            <a:off x="4786200" y="2808360"/>
            <a:ext cx="3456000" cy="720720"/>
          </a:xfrm>
          <a:prstGeom prst="roundRect">
            <a:avLst>
              <a:gd name="adj" fmla="val 16667"/>
            </a:avLst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圆角矩形 4"/>
          <p:cNvSpPr/>
          <p:nvPr/>
        </p:nvSpPr>
        <p:spPr>
          <a:xfrm>
            <a:off x="971640" y="1851120"/>
            <a:ext cx="3456000" cy="720720"/>
          </a:xfrm>
          <a:prstGeom prst="roundRect">
            <a:avLst>
              <a:gd name="adj" fmla="val 16667"/>
            </a:avLst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左箭头 22"/>
          <p:cNvSpPr/>
          <p:nvPr/>
        </p:nvSpPr>
        <p:spPr>
          <a:xfrm>
            <a:off x="1979640" y="3184560"/>
            <a:ext cx="2736720" cy="971640"/>
          </a:xfrm>
          <a:prstGeom prst="leftArrow">
            <a:avLst>
              <a:gd name="adj1" fmla="val 50000"/>
              <a:gd name="adj2" fmla="val 50034"/>
            </a:avLst>
          </a:pr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左箭头 2"/>
          <p:cNvSpPr/>
          <p:nvPr/>
        </p:nvSpPr>
        <p:spPr>
          <a:xfrm>
            <a:off x="1979640" y="1311120"/>
            <a:ext cx="2736720" cy="973440"/>
          </a:xfrm>
          <a:prstGeom prst="leftArrow">
            <a:avLst>
              <a:gd name="adj1" fmla="val 50000"/>
              <a:gd name="adj2" fmla="val 49941"/>
            </a:avLst>
          </a:pr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同侧圆角矩形 1"/>
          <p:cNvSpPr/>
          <p:nvPr/>
        </p:nvSpPr>
        <p:spPr>
          <a:xfrm>
            <a:off x="4356000" y="987480"/>
            <a:ext cx="432000" cy="415620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左箭头 21"/>
          <p:cNvSpPr/>
          <p:nvPr/>
        </p:nvSpPr>
        <p:spPr>
          <a:xfrm flipH="1">
            <a:off x="4355280" y="2247840"/>
            <a:ext cx="2737080" cy="971640"/>
          </a:xfrm>
          <a:prstGeom prst="leftArrow">
            <a:avLst>
              <a:gd name="adj1" fmla="val 50000"/>
              <a:gd name="adj2" fmla="val 50040"/>
            </a:avLst>
          </a:pr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矩形 27"/>
          <p:cNvSpPr/>
          <p:nvPr/>
        </p:nvSpPr>
        <p:spPr>
          <a:xfrm>
            <a:off x="1452600" y="2201760"/>
            <a:ext cx="17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矩形 28"/>
          <p:cNvSpPr/>
          <p:nvPr/>
        </p:nvSpPr>
        <p:spPr>
          <a:xfrm rot="21597000">
            <a:off x="5848560" y="31370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矩形 29"/>
          <p:cNvSpPr/>
          <p:nvPr/>
        </p:nvSpPr>
        <p:spPr>
          <a:xfrm rot="21543600">
            <a:off x="1550880" y="4060800"/>
            <a:ext cx="179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矩形 30"/>
          <p:cNvSpPr/>
          <p:nvPr/>
        </p:nvSpPr>
        <p:spPr>
          <a:xfrm>
            <a:off x="3131640" y="1494000"/>
            <a:ext cx="72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矩形 31"/>
          <p:cNvSpPr/>
          <p:nvPr/>
        </p:nvSpPr>
        <p:spPr>
          <a:xfrm>
            <a:off x="5301000" y="2428920"/>
            <a:ext cx="83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矩形 32"/>
          <p:cNvSpPr/>
          <p:nvPr/>
        </p:nvSpPr>
        <p:spPr>
          <a:xfrm>
            <a:off x="3134160" y="3365640"/>
            <a:ext cx="77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矩形 23"/>
          <p:cNvSpPr/>
          <p:nvPr/>
        </p:nvSpPr>
        <p:spPr>
          <a:xfrm>
            <a:off x="38160" y="349200"/>
            <a:ext cx="8964720" cy="432000"/>
          </a:xfrm>
          <a:prstGeom prst="rect">
            <a:avLst/>
          </a:prstGeom>
          <a:solidFill>
            <a:srgbClr val="dde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矩形 24"/>
          <p:cNvSpPr/>
          <p:nvPr/>
        </p:nvSpPr>
        <p:spPr>
          <a:xfrm>
            <a:off x="3780000" y="71280"/>
            <a:ext cx="5256000" cy="12384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剪去单角的矩形 33"/>
          <p:cNvSpPr/>
          <p:nvPr/>
        </p:nvSpPr>
        <p:spPr>
          <a:xfrm flipV="1">
            <a:off x="73080" y="70920"/>
            <a:ext cx="3600360" cy="55584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77"/>
          <p:cNvSpPr/>
          <p:nvPr/>
        </p:nvSpPr>
        <p:spPr>
          <a:xfrm>
            <a:off x="108000" y="42840"/>
            <a:ext cx="35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梯形 26"/>
          <p:cNvSpPr/>
          <p:nvPr/>
        </p:nvSpPr>
        <p:spPr>
          <a:xfrm flipV="1" rot="16200000">
            <a:off x="6372000" y="1202400"/>
            <a:ext cx="718920" cy="2735280"/>
          </a:xfrm>
          <a:custGeom>
            <a:avLst/>
            <a:gdLst>
              <a:gd name="textAreaLeft" fmla="*/ 140400 w 718920"/>
              <a:gd name="textAreaRight" fmla="*/ 578520 w 718920"/>
              <a:gd name="textAreaTop" fmla="*/ 534240 h 2735280"/>
              <a:gd name="textAreaBottom" fmla="*/ 2201040 h 27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157" y="21600"/>
                </a:lnTo>
                <a:lnTo>
                  <a:pt x="4443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梯形 30"/>
          <p:cNvSpPr/>
          <p:nvPr/>
        </p:nvSpPr>
        <p:spPr>
          <a:xfrm flipV="1" rot="16200000">
            <a:off x="6371280" y="2283480"/>
            <a:ext cx="720720" cy="2735280"/>
          </a:xfrm>
          <a:custGeom>
            <a:avLst/>
            <a:gdLst>
              <a:gd name="textAreaLeft" fmla="*/ 140760 w 720720"/>
              <a:gd name="textAreaRight" fmla="*/ 579960 w 720720"/>
              <a:gd name="textAreaTop" fmla="*/ 534240 h 2735280"/>
              <a:gd name="textAreaBottom" fmla="*/ 2201040 h 27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157" y="21600"/>
                </a:lnTo>
                <a:lnTo>
                  <a:pt x="4443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斜纹 14"/>
          <p:cNvSpPr/>
          <p:nvPr/>
        </p:nvSpPr>
        <p:spPr>
          <a:xfrm flipV="1">
            <a:off x="0" y="554400"/>
            <a:ext cx="7454880" cy="458820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斜纹 14"/>
          <p:cNvSpPr/>
          <p:nvPr/>
        </p:nvSpPr>
        <p:spPr>
          <a:xfrm>
            <a:off x="0" y="0"/>
            <a:ext cx="7164360" cy="451656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梯形 3"/>
          <p:cNvSpPr/>
          <p:nvPr/>
        </p:nvSpPr>
        <p:spPr>
          <a:xfrm flipH="1" flipV="1" rot="16200000">
            <a:off x="2156760" y="1189440"/>
            <a:ext cx="863640" cy="2762280"/>
          </a:xfrm>
          <a:custGeom>
            <a:avLst/>
            <a:gdLst>
              <a:gd name="textAreaLeft" fmla="*/ 189720 w 863640"/>
              <a:gd name="textAreaRight" fmla="*/ 673920 w 863640"/>
              <a:gd name="textAreaTop" fmla="*/ 607320 h 2762280"/>
              <a:gd name="textAreaBottom" fmla="*/ 2154960 h 276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梯形 4"/>
          <p:cNvSpPr/>
          <p:nvPr/>
        </p:nvSpPr>
        <p:spPr>
          <a:xfrm flipV="1" rot="16200000">
            <a:off x="6371280" y="123120"/>
            <a:ext cx="720720" cy="2735280"/>
          </a:xfrm>
          <a:custGeom>
            <a:avLst/>
            <a:gdLst>
              <a:gd name="textAreaLeft" fmla="*/ 140760 w 720720"/>
              <a:gd name="textAreaRight" fmla="*/ 579960 w 720720"/>
              <a:gd name="textAreaTop" fmla="*/ 534240 h 2735280"/>
              <a:gd name="textAreaBottom" fmla="*/ 2201040 h 27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157" y="21600"/>
                </a:lnTo>
                <a:lnTo>
                  <a:pt x="4443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梯形 7"/>
          <p:cNvSpPr/>
          <p:nvPr/>
        </p:nvSpPr>
        <p:spPr>
          <a:xfrm flipV="1" rot="5400000">
            <a:off x="4549680" y="1180080"/>
            <a:ext cx="692280" cy="647640"/>
          </a:xfrm>
          <a:custGeom>
            <a:avLst/>
            <a:gdLst>
              <a:gd name="textAreaLeft" fmla="*/ 145800 w 692280"/>
              <a:gd name="textAreaRight" fmla="*/ 546480 w 692280"/>
              <a:gd name="textAreaTop" fmla="*/ 136440 h 647640"/>
              <a:gd name="textAreaBottom" fmla="*/ 5112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547" y="21600"/>
                </a:lnTo>
                <a:lnTo>
                  <a:pt x="5053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77"/>
          <p:cNvSpPr/>
          <p:nvPr/>
        </p:nvSpPr>
        <p:spPr>
          <a:xfrm>
            <a:off x="1982880" y="2212920"/>
            <a:ext cx="114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梯形 17"/>
          <p:cNvSpPr/>
          <p:nvPr/>
        </p:nvSpPr>
        <p:spPr>
          <a:xfrm flipV="1" rot="5400000">
            <a:off x="4626000" y="1114560"/>
            <a:ext cx="179280" cy="287280"/>
          </a:xfrm>
          <a:custGeom>
            <a:avLst/>
            <a:gdLst>
              <a:gd name="textAreaLeft" fmla="*/ 39240 w 179280"/>
              <a:gd name="textAreaRight" fmla="*/ 140040 w 179280"/>
              <a:gd name="textAreaTop" fmla="*/ 63000 h 287280"/>
              <a:gd name="textAreaBottom" fmla="*/ 22428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20"/>
          <p:cNvSpPr/>
          <p:nvPr/>
        </p:nvSpPr>
        <p:spPr>
          <a:xfrm>
            <a:off x="4700160" y="12812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77"/>
          <p:cNvSpPr/>
          <p:nvPr/>
        </p:nvSpPr>
        <p:spPr>
          <a:xfrm>
            <a:off x="5907960" y="1276200"/>
            <a:ext cx="15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回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77"/>
          <p:cNvSpPr/>
          <p:nvPr/>
        </p:nvSpPr>
        <p:spPr>
          <a:xfrm>
            <a:off x="5856480" y="2370240"/>
            <a:ext cx="143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的反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77"/>
          <p:cNvSpPr/>
          <p:nvPr/>
        </p:nvSpPr>
        <p:spPr>
          <a:xfrm>
            <a:off x="5856480" y="3417840"/>
            <a:ext cx="143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的展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梯形 27"/>
          <p:cNvSpPr/>
          <p:nvPr/>
        </p:nvSpPr>
        <p:spPr>
          <a:xfrm flipV="1" rot="5400000">
            <a:off x="4549680" y="2260440"/>
            <a:ext cx="691920" cy="647640"/>
          </a:xfrm>
          <a:custGeom>
            <a:avLst/>
            <a:gdLst>
              <a:gd name="textAreaLeft" fmla="*/ 145800 w 691920"/>
              <a:gd name="textAreaRight" fmla="*/ 546120 w 691920"/>
              <a:gd name="textAreaTop" fmla="*/ 136440 h 647640"/>
              <a:gd name="textAreaBottom" fmla="*/ 5112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547" y="21600"/>
                </a:lnTo>
                <a:lnTo>
                  <a:pt x="5053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梯形 28"/>
          <p:cNvSpPr/>
          <p:nvPr/>
        </p:nvSpPr>
        <p:spPr>
          <a:xfrm flipV="1" rot="5400000">
            <a:off x="4626000" y="2193840"/>
            <a:ext cx="179280" cy="287280"/>
          </a:xfrm>
          <a:custGeom>
            <a:avLst/>
            <a:gdLst>
              <a:gd name="textAreaLeft" fmla="*/ 39240 w 179280"/>
              <a:gd name="textAreaRight" fmla="*/ 140040 w 179280"/>
              <a:gd name="textAreaTop" fmla="*/ 63000 h 287280"/>
              <a:gd name="textAreaBottom" fmla="*/ 22428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梯形 31"/>
          <p:cNvSpPr/>
          <p:nvPr/>
        </p:nvSpPr>
        <p:spPr>
          <a:xfrm flipV="1" rot="5400000">
            <a:off x="4548960" y="3339720"/>
            <a:ext cx="693720" cy="647640"/>
          </a:xfrm>
          <a:custGeom>
            <a:avLst/>
            <a:gdLst>
              <a:gd name="textAreaLeft" fmla="*/ 146160 w 693720"/>
              <a:gd name="textAreaRight" fmla="*/ 547560 w 693720"/>
              <a:gd name="textAreaTop" fmla="*/ 136440 h 647640"/>
              <a:gd name="textAreaBottom" fmla="*/ 5112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547" y="21600"/>
                </a:lnTo>
                <a:lnTo>
                  <a:pt x="5053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梯形 32"/>
          <p:cNvSpPr/>
          <p:nvPr/>
        </p:nvSpPr>
        <p:spPr>
          <a:xfrm flipV="1" rot="5400000">
            <a:off x="4625280" y="3274200"/>
            <a:ext cx="180720" cy="287280"/>
          </a:xfrm>
          <a:custGeom>
            <a:avLst/>
            <a:gdLst>
              <a:gd name="textAreaLeft" fmla="*/ 39600 w 180720"/>
              <a:gd name="textAreaRight" fmla="*/ 141120 w 180720"/>
              <a:gd name="textAreaTop" fmla="*/ 63000 h 287280"/>
              <a:gd name="textAreaBottom" fmla="*/ 22428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21"/>
          <p:cNvSpPr/>
          <p:nvPr/>
        </p:nvSpPr>
        <p:spPr>
          <a:xfrm>
            <a:off x="4663800" y="23385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22"/>
          <p:cNvSpPr/>
          <p:nvPr/>
        </p:nvSpPr>
        <p:spPr>
          <a:xfrm>
            <a:off x="4690800" y="3435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950C-3AB4-468F-80FB-3281EDC61BB2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"/>
          <p:cNvGrpSpPr/>
          <p:nvPr/>
        </p:nvGrpSpPr>
        <p:grpSpPr>
          <a:xfrm>
            <a:off x="2448000" y="1276200"/>
            <a:ext cx="3816360" cy="3056040"/>
            <a:chOff x="2448000" y="1276200"/>
            <a:chExt cx="3816360" cy="3056040"/>
          </a:xfrm>
        </p:grpSpPr>
        <p:sp>
          <p:nvSpPr>
            <p:cNvPr id="412" name="梯形 2"/>
            <p:cNvSpPr/>
            <p:nvPr/>
          </p:nvSpPr>
          <p:spPr>
            <a:xfrm flipV="1">
              <a:off x="3778560" y="3396600"/>
              <a:ext cx="2485800" cy="930600"/>
            </a:xfrm>
            <a:custGeom>
              <a:avLst/>
              <a:gdLst>
                <a:gd name="textAreaLeft" fmla="*/ 515880 w 2485800"/>
                <a:gd name="textAreaRight" fmla="*/ 1969920 w 2485800"/>
                <a:gd name="textAreaTop" fmla="*/ 192960 h 930600"/>
                <a:gd name="textAreaBottom" fmla="*/ 737640 h 930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682" y="21600"/>
                  </a:lnTo>
                  <a:lnTo>
                    <a:pt x="4918" y="21600"/>
                  </a:lnTo>
                  <a:close/>
                </a:path>
              </a:pathLst>
            </a:custGeom>
            <a:solidFill>
              <a:srgbClr val="b32a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等腰三角形 33"/>
            <p:cNvSpPr/>
            <p:nvPr/>
          </p:nvSpPr>
          <p:spPr>
            <a:xfrm>
              <a:off x="4392360" y="2353320"/>
              <a:ext cx="1224000" cy="988560"/>
            </a:xfrm>
            <a:prstGeom prst="triangle">
              <a:avLst>
                <a:gd name="adj" fmla="val 50000"/>
              </a:avLst>
            </a:prstGeom>
            <a:solidFill>
              <a:srgbClr val="f45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等腰三角形 34"/>
            <p:cNvSpPr/>
            <p:nvPr/>
          </p:nvSpPr>
          <p:spPr>
            <a:xfrm>
              <a:off x="3708360" y="1276200"/>
              <a:ext cx="1330560" cy="1078920"/>
            </a:xfrm>
            <a:prstGeom prst="triangle">
              <a:avLst>
                <a:gd name="adj" fmla="val 50000"/>
              </a:avLst>
            </a:prstGeom>
            <a:solidFill>
              <a:srgbClr val="b32a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平行四边形 5"/>
            <p:cNvSpPr/>
            <p:nvPr/>
          </p:nvSpPr>
          <p:spPr>
            <a:xfrm>
              <a:off x="2448000" y="3397320"/>
              <a:ext cx="1750680" cy="934920"/>
            </a:xfrm>
            <a:prstGeom prst="parallelogram">
              <a:avLst>
                <a:gd name="adj" fmla="val 60129"/>
              </a:avLst>
            </a:prstGeom>
            <a:solidFill>
              <a:srgbClr val="f45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平行四边形 35"/>
            <p:cNvSpPr/>
            <p:nvPr/>
          </p:nvSpPr>
          <p:spPr>
            <a:xfrm>
              <a:off x="3078000" y="2406960"/>
              <a:ext cx="1750680" cy="934920"/>
            </a:xfrm>
            <a:prstGeom prst="parallelogram">
              <a:avLst>
                <a:gd name="adj" fmla="val 61239"/>
              </a:avLst>
            </a:prstGeom>
            <a:solidFill>
              <a:srgbClr val="b32a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7" name="矩形 9"/>
          <p:cNvSpPr/>
          <p:nvPr/>
        </p:nvSpPr>
        <p:spPr>
          <a:xfrm>
            <a:off x="755640" y="2211480"/>
            <a:ext cx="25178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矩形 36"/>
          <p:cNvSpPr/>
          <p:nvPr/>
        </p:nvSpPr>
        <p:spPr>
          <a:xfrm>
            <a:off x="4152960" y="1563840"/>
            <a:ext cx="4489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矩形 37"/>
          <p:cNvSpPr/>
          <p:nvPr/>
        </p:nvSpPr>
        <p:spPr>
          <a:xfrm>
            <a:off x="4802400" y="2558880"/>
            <a:ext cx="4489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矩形 38"/>
          <p:cNvSpPr/>
          <p:nvPr/>
        </p:nvSpPr>
        <p:spPr>
          <a:xfrm>
            <a:off x="4802400" y="3505320"/>
            <a:ext cx="4489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微软雅黑"/>
                <a:ea typeface="微软雅黑"/>
              </a:rPr>
              <a:t>5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矩形 39"/>
          <p:cNvSpPr/>
          <p:nvPr/>
        </p:nvSpPr>
        <p:spPr>
          <a:xfrm>
            <a:off x="3650400" y="2558880"/>
            <a:ext cx="4489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矩形 40"/>
          <p:cNvSpPr/>
          <p:nvPr/>
        </p:nvSpPr>
        <p:spPr>
          <a:xfrm>
            <a:off x="3110760" y="3505320"/>
            <a:ext cx="4489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直接连接符 21"/>
          <p:cNvSpPr/>
          <p:nvPr/>
        </p:nvSpPr>
        <p:spPr>
          <a:xfrm>
            <a:off x="4932360" y="1419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直接连接符 27"/>
          <p:cNvSpPr/>
          <p:nvPr/>
        </p:nvSpPr>
        <p:spPr>
          <a:xfrm>
            <a:off x="5580000" y="2500200"/>
            <a:ext cx="180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直接连接符 28"/>
          <p:cNvSpPr/>
          <p:nvPr/>
        </p:nvSpPr>
        <p:spPr>
          <a:xfrm>
            <a:off x="6272280" y="3651120"/>
            <a:ext cx="144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直接连接符 29"/>
          <p:cNvSpPr/>
          <p:nvPr/>
        </p:nvSpPr>
        <p:spPr>
          <a:xfrm>
            <a:off x="324000" y="365112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直接连接符 30"/>
          <p:cNvSpPr/>
          <p:nvPr/>
        </p:nvSpPr>
        <p:spPr>
          <a:xfrm>
            <a:off x="755640" y="25002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矩形 31"/>
          <p:cNvSpPr/>
          <p:nvPr/>
        </p:nvSpPr>
        <p:spPr>
          <a:xfrm>
            <a:off x="324000" y="3438360"/>
            <a:ext cx="25174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矩形 32"/>
          <p:cNvSpPr/>
          <p:nvPr/>
        </p:nvSpPr>
        <p:spPr>
          <a:xfrm>
            <a:off x="5003640" y="1131840"/>
            <a:ext cx="25178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矩形 41"/>
          <p:cNvSpPr/>
          <p:nvPr/>
        </p:nvSpPr>
        <p:spPr>
          <a:xfrm>
            <a:off x="5616720" y="2211480"/>
            <a:ext cx="251748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矩形 42"/>
          <p:cNvSpPr/>
          <p:nvPr/>
        </p:nvSpPr>
        <p:spPr>
          <a:xfrm>
            <a:off x="6292800" y="3438360"/>
            <a:ext cx="25178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黑体"/>
                <a:ea typeface="黑体"/>
              </a:rPr>
              <a:t>XXXXXXX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矩形 43"/>
          <p:cNvSpPr/>
          <p:nvPr/>
        </p:nvSpPr>
        <p:spPr>
          <a:xfrm>
            <a:off x="38160" y="349200"/>
            <a:ext cx="8964720" cy="432000"/>
          </a:xfrm>
          <a:prstGeom prst="rect">
            <a:avLst/>
          </a:prstGeom>
          <a:solidFill>
            <a:srgbClr val="dde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矩形 44"/>
          <p:cNvSpPr/>
          <p:nvPr/>
        </p:nvSpPr>
        <p:spPr>
          <a:xfrm>
            <a:off x="3780000" y="71280"/>
            <a:ext cx="5256000" cy="12384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剪去单角的矩形 45"/>
          <p:cNvSpPr/>
          <p:nvPr/>
        </p:nvSpPr>
        <p:spPr>
          <a:xfrm flipV="1">
            <a:off x="73080" y="70920"/>
            <a:ext cx="3600360" cy="55584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TextBox 77"/>
          <p:cNvSpPr/>
          <p:nvPr/>
        </p:nvSpPr>
        <p:spPr>
          <a:xfrm>
            <a:off x="108000" y="42840"/>
            <a:ext cx="35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6C58-168C-4615-BEA4-F241A3C251D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斜纹 14"/>
          <p:cNvSpPr/>
          <p:nvPr/>
        </p:nvSpPr>
        <p:spPr>
          <a:xfrm flipV="1">
            <a:off x="0" y="-38880"/>
            <a:ext cx="8407440" cy="523548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梯形 39"/>
          <p:cNvSpPr/>
          <p:nvPr/>
        </p:nvSpPr>
        <p:spPr>
          <a:xfrm flipV="1" rot="5400000">
            <a:off x="3589920" y="-408240"/>
            <a:ext cx="2211480" cy="5143680"/>
          </a:xfrm>
          <a:custGeom>
            <a:avLst/>
            <a:gdLst>
              <a:gd name="textAreaLeft" fmla="*/ 421200 w 2211480"/>
              <a:gd name="textAreaRight" fmla="*/ 1790280 w 2211480"/>
              <a:gd name="textAreaTop" fmla="*/ 979920 h 5143680"/>
              <a:gd name="textAreaBottom" fmla="*/ 4163760 h 5143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343" y="21600"/>
                </a:lnTo>
                <a:lnTo>
                  <a:pt x="4257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梯形 41"/>
          <p:cNvSpPr/>
          <p:nvPr/>
        </p:nvSpPr>
        <p:spPr>
          <a:xfrm flipV="1" rot="5400000">
            <a:off x="6858000" y="2470680"/>
            <a:ext cx="358920" cy="431640"/>
          </a:xfrm>
          <a:custGeom>
            <a:avLst/>
            <a:gdLst>
              <a:gd name="textAreaLeft" fmla="*/ 55080 w 358920"/>
              <a:gd name="textAreaRight" fmla="*/ 303840 w 358920"/>
              <a:gd name="textAreaTop" fmla="*/ 66240 h 431640"/>
              <a:gd name="textAreaBottom" fmla="*/ 365400 h 431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8770" y="21600"/>
                </a:lnTo>
                <a:lnTo>
                  <a:pt x="2830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矩形 42"/>
          <p:cNvSpPr/>
          <p:nvPr/>
        </p:nvSpPr>
        <p:spPr>
          <a:xfrm>
            <a:off x="2670480" y="1739880"/>
            <a:ext cx="396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  YOU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456D-0679-4DBF-814F-0B2688A357A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75CF-E3A8-485A-8378-0DBBC40D79F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梯形 26"/>
          <p:cNvSpPr/>
          <p:nvPr/>
        </p:nvSpPr>
        <p:spPr>
          <a:xfrm flipV="1" rot="16200000">
            <a:off x="6372000" y="1202400"/>
            <a:ext cx="718920" cy="2735280"/>
          </a:xfrm>
          <a:custGeom>
            <a:avLst/>
            <a:gdLst>
              <a:gd name="textAreaLeft" fmla="*/ 140400 w 718920"/>
              <a:gd name="textAreaRight" fmla="*/ 578520 w 718920"/>
              <a:gd name="textAreaTop" fmla="*/ 534240 h 2735280"/>
              <a:gd name="textAreaBottom" fmla="*/ 2201040 h 27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157" y="21600"/>
                </a:lnTo>
                <a:lnTo>
                  <a:pt x="4443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梯形 30"/>
          <p:cNvSpPr/>
          <p:nvPr/>
        </p:nvSpPr>
        <p:spPr>
          <a:xfrm flipV="1" rot="16200000">
            <a:off x="6371280" y="2283480"/>
            <a:ext cx="720720" cy="2735280"/>
          </a:xfrm>
          <a:custGeom>
            <a:avLst/>
            <a:gdLst>
              <a:gd name="textAreaLeft" fmla="*/ 140760 w 720720"/>
              <a:gd name="textAreaRight" fmla="*/ 579960 w 720720"/>
              <a:gd name="textAreaTop" fmla="*/ 534240 h 2735280"/>
              <a:gd name="textAreaBottom" fmla="*/ 2201040 h 27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157" y="21600"/>
                </a:lnTo>
                <a:lnTo>
                  <a:pt x="4443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斜纹 14"/>
          <p:cNvSpPr/>
          <p:nvPr/>
        </p:nvSpPr>
        <p:spPr>
          <a:xfrm flipV="1">
            <a:off x="0" y="554400"/>
            <a:ext cx="7454880" cy="458820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斜纹 14"/>
          <p:cNvSpPr/>
          <p:nvPr/>
        </p:nvSpPr>
        <p:spPr>
          <a:xfrm>
            <a:off x="0" y="0"/>
            <a:ext cx="7164360" cy="451656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梯形 3"/>
          <p:cNvSpPr/>
          <p:nvPr/>
        </p:nvSpPr>
        <p:spPr>
          <a:xfrm flipH="1" flipV="1" rot="16200000">
            <a:off x="2156760" y="1189440"/>
            <a:ext cx="863640" cy="2762280"/>
          </a:xfrm>
          <a:custGeom>
            <a:avLst/>
            <a:gdLst>
              <a:gd name="textAreaLeft" fmla="*/ 189720 w 863640"/>
              <a:gd name="textAreaRight" fmla="*/ 673920 w 863640"/>
              <a:gd name="textAreaTop" fmla="*/ 607320 h 2762280"/>
              <a:gd name="textAreaBottom" fmla="*/ 2154960 h 2762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梯形 4"/>
          <p:cNvSpPr/>
          <p:nvPr/>
        </p:nvSpPr>
        <p:spPr>
          <a:xfrm flipV="1" rot="16200000">
            <a:off x="6371280" y="123120"/>
            <a:ext cx="720720" cy="2735280"/>
          </a:xfrm>
          <a:custGeom>
            <a:avLst/>
            <a:gdLst>
              <a:gd name="textAreaLeft" fmla="*/ 140760 w 720720"/>
              <a:gd name="textAreaRight" fmla="*/ 579960 w 720720"/>
              <a:gd name="textAreaTop" fmla="*/ 534240 h 2735280"/>
              <a:gd name="textAreaBottom" fmla="*/ 2201040 h 27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7157" y="21600"/>
                </a:lnTo>
                <a:lnTo>
                  <a:pt x="4443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梯形 7"/>
          <p:cNvSpPr/>
          <p:nvPr/>
        </p:nvSpPr>
        <p:spPr>
          <a:xfrm flipV="1" rot="5400000">
            <a:off x="4549680" y="1180080"/>
            <a:ext cx="692280" cy="647640"/>
          </a:xfrm>
          <a:custGeom>
            <a:avLst/>
            <a:gdLst>
              <a:gd name="textAreaLeft" fmla="*/ 145800 w 692280"/>
              <a:gd name="textAreaRight" fmla="*/ 546480 w 692280"/>
              <a:gd name="textAreaTop" fmla="*/ 136440 h 647640"/>
              <a:gd name="textAreaBottom" fmla="*/ 5112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547" y="21600"/>
                </a:lnTo>
                <a:lnTo>
                  <a:pt x="5053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77"/>
          <p:cNvSpPr/>
          <p:nvPr/>
        </p:nvSpPr>
        <p:spPr>
          <a:xfrm>
            <a:off x="1982880" y="2212920"/>
            <a:ext cx="114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梯形 17"/>
          <p:cNvSpPr/>
          <p:nvPr/>
        </p:nvSpPr>
        <p:spPr>
          <a:xfrm flipV="1" rot="5400000">
            <a:off x="4626000" y="1114560"/>
            <a:ext cx="179280" cy="287280"/>
          </a:xfrm>
          <a:custGeom>
            <a:avLst/>
            <a:gdLst>
              <a:gd name="textAreaLeft" fmla="*/ 39240 w 179280"/>
              <a:gd name="textAreaRight" fmla="*/ 140040 w 179280"/>
              <a:gd name="textAreaTop" fmla="*/ 63000 h 287280"/>
              <a:gd name="textAreaBottom" fmla="*/ 22428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20"/>
          <p:cNvSpPr/>
          <p:nvPr/>
        </p:nvSpPr>
        <p:spPr>
          <a:xfrm>
            <a:off x="4700160" y="128124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梯形 27"/>
          <p:cNvSpPr/>
          <p:nvPr/>
        </p:nvSpPr>
        <p:spPr>
          <a:xfrm flipV="1" rot="5400000">
            <a:off x="4549680" y="2260440"/>
            <a:ext cx="691920" cy="647640"/>
          </a:xfrm>
          <a:custGeom>
            <a:avLst/>
            <a:gdLst>
              <a:gd name="textAreaLeft" fmla="*/ 145800 w 691920"/>
              <a:gd name="textAreaRight" fmla="*/ 546120 w 691920"/>
              <a:gd name="textAreaTop" fmla="*/ 136440 h 647640"/>
              <a:gd name="textAreaBottom" fmla="*/ 5112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547" y="21600"/>
                </a:lnTo>
                <a:lnTo>
                  <a:pt x="5053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梯形 28"/>
          <p:cNvSpPr/>
          <p:nvPr/>
        </p:nvSpPr>
        <p:spPr>
          <a:xfrm flipV="1" rot="5400000">
            <a:off x="4626000" y="2193840"/>
            <a:ext cx="179280" cy="287280"/>
          </a:xfrm>
          <a:custGeom>
            <a:avLst/>
            <a:gdLst>
              <a:gd name="textAreaLeft" fmla="*/ 39240 w 179280"/>
              <a:gd name="textAreaRight" fmla="*/ 140040 w 179280"/>
              <a:gd name="textAreaTop" fmla="*/ 63000 h 287280"/>
              <a:gd name="textAreaBottom" fmla="*/ 22428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梯形 31"/>
          <p:cNvSpPr/>
          <p:nvPr/>
        </p:nvSpPr>
        <p:spPr>
          <a:xfrm flipV="1" rot="5400000">
            <a:off x="4548960" y="3339720"/>
            <a:ext cx="693720" cy="647640"/>
          </a:xfrm>
          <a:custGeom>
            <a:avLst/>
            <a:gdLst>
              <a:gd name="textAreaLeft" fmla="*/ 146160 w 693720"/>
              <a:gd name="textAreaRight" fmla="*/ 547560 w 693720"/>
              <a:gd name="textAreaTop" fmla="*/ 136440 h 647640"/>
              <a:gd name="textAreaBottom" fmla="*/ 5112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547" y="21600"/>
                </a:lnTo>
                <a:lnTo>
                  <a:pt x="5053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梯形 32"/>
          <p:cNvSpPr/>
          <p:nvPr/>
        </p:nvSpPr>
        <p:spPr>
          <a:xfrm flipV="1" rot="5400000">
            <a:off x="4625280" y="3274200"/>
            <a:ext cx="180720" cy="287280"/>
          </a:xfrm>
          <a:custGeom>
            <a:avLst/>
            <a:gdLst>
              <a:gd name="textAreaLeft" fmla="*/ 39600 w 180720"/>
              <a:gd name="textAreaRight" fmla="*/ 141120 w 180720"/>
              <a:gd name="textAreaTop" fmla="*/ 63000 h 287280"/>
              <a:gd name="textAreaBottom" fmla="*/ 22428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21"/>
          <p:cNvSpPr/>
          <p:nvPr/>
        </p:nvSpPr>
        <p:spPr>
          <a:xfrm>
            <a:off x="4663800" y="233856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22"/>
          <p:cNvSpPr/>
          <p:nvPr/>
        </p:nvSpPr>
        <p:spPr>
          <a:xfrm>
            <a:off x="4690800" y="343548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77"/>
          <p:cNvSpPr/>
          <p:nvPr/>
        </p:nvSpPr>
        <p:spPr>
          <a:xfrm>
            <a:off x="5907960" y="1276200"/>
            <a:ext cx="15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工作回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77"/>
          <p:cNvSpPr/>
          <p:nvPr/>
        </p:nvSpPr>
        <p:spPr>
          <a:xfrm>
            <a:off x="5856480" y="2370240"/>
            <a:ext cx="143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的反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77"/>
          <p:cNvSpPr/>
          <p:nvPr/>
        </p:nvSpPr>
        <p:spPr>
          <a:xfrm>
            <a:off x="5856480" y="3417840"/>
            <a:ext cx="143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r>
              <a:rPr b="1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的展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梯形 35"/>
          <p:cNvSpPr/>
          <p:nvPr/>
        </p:nvSpPr>
        <p:spPr>
          <a:xfrm flipV="1" rot="5400000">
            <a:off x="1069920" y="1734120"/>
            <a:ext cx="268200" cy="1405080"/>
          </a:xfrm>
          <a:custGeom>
            <a:avLst/>
            <a:gdLst>
              <a:gd name="textAreaLeft" fmla="*/ 35640 w 268200"/>
              <a:gd name="textAreaRight" fmla="*/ 232560 w 268200"/>
              <a:gd name="textAreaTop" fmla="*/ 187920 h 1405080"/>
              <a:gd name="textAreaBottom" fmla="*/ 1217160 h 14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547" y="21600"/>
                </a:lnTo>
                <a:lnTo>
                  <a:pt x="2053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梯形 36"/>
          <p:cNvSpPr/>
          <p:nvPr/>
        </p:nvSpPr>
        <p:spPr>
          <a:xfrm flipV="1" rot="5400000">
            <a:off x="1881000" y="3289680"/>
            <a:ext cx="268200" cy="1404720"/>
          </a:xfrm>
          <a:custGeom>
            <a:avLst/>
            <a:gdLst>
              <a:gd name="textAreaLeft" fmla="*/ 35640 w 268200"/>
              <a:gd name="textAreaRight" fmla="*/ 232560 w 268200"/>
              <a:gd name="textAreaTop" fmla="*/ 187920 h 1404720"/>
              <a:gd name="textAreaBottom" fmla="*/ 1216800 h 14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547" y="21600"/>
                </a:lnTo>
                <a:lnTo>
                  <a:pt x="2053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梯形 37"/>
          <p:cNvSpPr/>
          <p:nvPr/>
        </p:nvSpPr>
        <p:spPr>
          <a:xfrm flipH="1" flipV="1" rot="16200000">
            <a:off x="6831000" y="3308040"/>
            <a:ext cx="266760" cy="1405080"/>
          </a:xfrm>
          <a:custGeom>
            <a:avLst/>
            <a:gdLst>
              <a:gd name="textAreaLeft" fmla="*/ 35640 w 266760"/>
              <a:gd name="textAreaRight" fmla="*/ 231120 w 266760"/>
              <a:gd name="textAreaTop" fmla="*/ 187920 h 1405080"/>
              <a:gd name="textAreaBottom" fmla="*/ 1217160 h 140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547" y="21600"/>
                </a:lnTo>
                <a:lnTo>
                  <a:pt x="2053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梯形 38"/>
          <p:cNvSpPr/>
          <p:nvPr/>
        </p:nvSpPr>
        <p:spPr>
          <a:xfrm flipH="1" flipV="1" rot="16200000">
            <a:off x="7661160" y="1657440"/>
            <a:ext cx="268560" cy="1404720"/>
          </a:xfrm>
          <a:custGeom>
            <a:avLst/>
            <a:gdLst>
              <a:gd name="textAreaLeft" fmla="*/ 35640 w 268560"/>
              <a:gd name="textAreaRight" fmla="*/ 232920 w 268560"/>
              <a:gd name="textAreaTop" fmla="*/ 187920 h 1404720"/>
              <a:gd name="textAreaBottom" fmla="*/ 1216800 h 14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547" y="21600"/>
                </a:lnTo>
                <a:lnTo>
                  <a:pt x="2053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梯形 39"/>
          <p:cNvSpPr/>
          <p:nvPr/>
        </p:nvSpPr>
        <p:spPr>
          <a:xfrm flipH="1" flipV="1" rot="16200000">
            <a:off x="6923160" y="72720"/>
            <a:ext cx="268200" cy="1949400"/>
          </a:xfrm>
          <a:custGeom>
            <a:avLst/>
            <a:gdLst>
              <a:gd name="textAreaLeft" fmla="*/ 35640 w 268200"/>
              <a:gd name="textAreaRight" fmla="*/ 232560 w 268200"/>
              <a:gd name="textAreaTop" fmla="*/ 260640 h 1949400"/>
              <a:gd name="textAreaBottom" fmla="*/ 1688760 h 1949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547" y="21600"/>
                </a:lnTo>
                <a:lnTo>
                  <a:pt x="2053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梯形 34"/>
          <p:cNvSpPr/>
          <p:nvPr/>
        </p:nvSpPr>
        <p:spPr>
          <a:xfrm flipV="1" rot="5400000">
            <a:off x="1981080" y="411840"/>
            <a:ext cx="266760" cy="1314360"/>
          </a:xfrm>
          <a:custGeom>
            <a:avLst/>
            <a:gdLst>
              <a:gd name="textAreaLeft" fmla="*/ 35640 w 266760"/>
              <a:gd name="textAreaRight" fmla="*/ 231120 w 266760"/>
              <a:gd name="textAreaTop" fmla="*/ 175680 h 1314360"/>
              <a:gd name="textAreaBottom" fmla="*/ 1138680 h 131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9547" y="21600"/>
                </a:lnTo>
                <a:lnTo>
                  <a:pt x="2053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菱形 4"/>
          <p:cNvSpPr/>
          <p:nvPr/>
        </p:nvSpPr>
        <p:spPr>
          <a:xfrm>
            <a:off x="3419640" y="1635120"/>
            <a:ext cx="2304720" cy="223200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菱形 5"/>
          <p:cNvSpPr/>
          <p:nvPr/>
        </p:nvSpPr>
        <p:spPr>
          <a:xfrm>
            <a:off x="2754360" y="1527120"/>
            <a:ext cx="1189080" cy="118908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菱形 5"/>
          <p:cNvSpPr/>
          <p:nvPr/>
        </p:nvSpPr>
        <p:spPr>
          <a:xfrm>
            <a:off x="2070000" y="2176560"/>
            <a:ext cx="1187640" cy="118728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菱形 5"/>
          <p:cNvSpPr/>
          <p:nvPr/>
        </p:nvSpPr>
        <p:spPr>
          <a:xfrm>
            <a:off x="2717640" y="2824200"/>
            <a:ext cx="1189080" cy="118728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9"/>
          <p:cNvSpPr/>
          <p:nvPr/>
        </p:nvSpPr>
        <p:spPr>
          <a:xfrm>
            <a:off x="38160" y="349200"/>
            <a:ext cx="8964720" cy="432000"/>
          </a:xfrm>
          <a:prstGeom prst="rect">
            <a:avLst/>
          </a:prstGeom>
          <a:solidFill>
            <a:srgbClr val="dde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0"/>
          <p:cNvSpPr/>
          <p:nvPr/>
        </p:nvSpPr>
        <p:spPr>
          <a:xfrm>
            <a:off x="3780000" y="71280"/>
            <a:ext cx="5256000" cy="12384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剪去单角的矩形 11"/>
          <p:cNvSpPr/>
          <p:nvPr/>
        </p:nvSpPr>
        <p:spPr>
          <a:xfrm flipV="1">
            <a:off x="73080" y="70920"/>
            <a:ext cx="3600360" cy="55584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77"/>
          <p:cNvSpPr/>
          <p:nvPr/>
        </p:nvSpPr>
        <p:spPr>
          <a:xfrm>
            <a:off x="108000" y="42840"/>
            <a:ext cx="35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菱形 5"/>
          <p:cNvSpPr/>
          <p:nvPr/>
        </p:nvSpPr>
        <p:spPr>
          <a:xfrm flipV="1">
            <a:off x="5256360" y="1563840"/>
            <a:ext cx="1187280" cy="118872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菱形 5"/>
          <p:cNvSpPr/>
          <p:nvPr/>
        </p:nvSpPr>
        <p:spPr>
          <a:xfrm flipV="1">
            <a:off x="5904000" y="2210760"/>
            <a:ext cx="1189080" cy="118908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菱形 5"/>
          <p:cNvSpPr/>
          <p:nvPr/>
        </p:nvSpPr>
        <p:spPr>
          <a:xfrm flipV="1">
            <a:off x="5219640" y="2824200"/>
            <a:ext cx="1189080" cy="118728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18"/>
          <p:cNvSpPr/>
          <p:nvPr/>
        </p:nvSpPr>
        <p:spPr>
          <a:xfrm>
            <a:off x="3124800" y="177948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9"/>
          <p:cNvSpPr/>
          <p:nvPr/>
        </p:nvSpPr>
        <p:spPr>
          <a:xfrm>
            <a:off x="5626800" y="177948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20"/>
          <p:cNvSpPr/>
          <p:nvPr/>
        </p:nvSpPr>
        <p:spPr>
          <a:xfrm>
            <a:off x="6276240" y="242712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21"/>
          <p:cNvSpPr/>
          <p:nvPr/>
        </p:nvSpPr>
        <p:spPr>
          <a:xfrm>
            <a:off x="2405880" y="242712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22"/>
          <p:cNvSpPr/>
          <p:nvPr/>
        </p:nvSpPr>
        <p:spPr>
          <a:xfrm>
            <a:off x="3124800" y="307656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23"/>
          <p:cNvSpPr/>
          <p:nvPr/>
        </p:nvSpPr>
        <p:spPr>
          <a:xfrm>
            <a:off x="5626800" y="3076560"/>
            <a:ext cx="44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24"/>
          <p:cNvSpPr/>
          <p:nvPr/>
        </p:nvSpPr>
        <p:spPr>
          <a:xfrm>
            <a:off x="1403280" y="885960"/>
            <a:ext cx="190836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ece1"/>
                </a:solidFill>
                <a:latin typeface="微软雅黑"/>
                <a:ea typeface="微软雅黑"/>
              </a:rPr>
              <a:t>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25"/>
          <p:cNvSpPr/>
          <p:nvPr/>
        </p:nvSpPr>
        <p:spPr>
          <a:xfrm>
            <a:off x="412920" y="2211480"/>
            <a:ext cx="1638000" cy="9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ece1"/>
                </a:solidFill>
                <a:latin typeface="微软雅黑"/>
                <a:ea typeface="微软雅黑"/>
              </a:rPr>
              <a:t>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26"/>
          <p:cNvSpPr/>
          <p:nvPr/>
        </p:nvSpPr>
        <p:spPr>
          <a:xfrm>
            <a:off x="1260360" y="3838680"/>
            <a:ext cx="2049480" cy="8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ece1"/>
                </a:solidFill>
                <a:latin typeface="微软雅黑"/>
                <a:ea typeface="微软雅黑"/>
              </a:rPr>
              <a:t>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27"/>
          <p:cNvSpPr/>
          <p:nvPr/>
        </p:nvSpPr>
        <p:spPr>
          <a:xfrm>
            <a:off x="7077240" y="2211480"/>
            <a:ext cx="2039760" cy="8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ece1"/>
                </a:solidFill>
                <a:latin typeface="微软雅黑"/>
                <a:ea typeface="微软雅黑"/>
              </a:rPr>
              <a:t>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28"/>
          <p:cNvSpPr/>
          <p:nvPr/>
        </p:nvSpPr>
        <p:spPr>
          <a:xfrm>
            <a:off x="6054840" y="873000"/>
            <a:ext cx="19796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ece1"/>
                </a:solidFill>
                <a:latin typeface="微软雅黑"/>
                <a:ea typeface="微软雅黑"/>
              </a:rPr>
              <a:t>XXXX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29"/>
          <p:cNvSpPr/>
          <p:nvPr/>
        </p:nvSpPr>
        <p:spPr>
          <a:xfrm>
            <a:off x="6438960" y="3859200"/>
            <a:ext cx="2092320" cy="8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8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eece1"/>
                </a:solidFill>
                <a:latin typeface="微软雅黑"/>
                <a:ea typeface="微软雅黑"/>
              </a:rPr>
              <a:t>XXXXX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 rot="394200">
            <a:off x="4114440" y="2157120"/>
            <a:ext cx="809640" cy="117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"/>
          <p:cNvGrpSpPr/>
          <p:nvPr/>
        </p:nvGrpSpPr>
        <p:grpSpPr>
          <a:xfrm>
            <a:off x="682560" y="1190520"/>
            <a:ext cx="1800360" cy="3311640"/>
            <a:chOff x="682560" y="1190520"/>
            <a:chExt cx="1800360" cy="3311640"/>
          </a:xfrm>
        </p:grpSpPr>
        <p:sp>
          <p:nvSpPr>
            <p:cNvPr id="118" name="矩形 10"/>
            <p:cNvSpPr/>
            <p:nvPr/>
          </p:nvSpPr>
          <p:spPr>
            <a:xfrm>
              <a:off x="682560" y="1190520"/>
              <a:ext cx="1800360" cy="3311640"/>
            </a:xfrm>
            <a:prstGeom prst="rect">
              <a:avLst/>
            </a:prstGeom>
            <a:solidFill>
              <a:srgbClr val="f45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梯形 27"/>
            <p:cNvSpPr/>
            <p:nvPr/>
          </p:nvSpPr>
          <p:spPr>
            <a:xfrm flipV="1" rot="5400000">
              <a:off x="908280" y="1006920"/>
              <a:ext cx="648000" cy="1099800"/>
            </a:xfrm>
            <a:custGeom>
              <a:avLst/>
              <a:gdLst>
                <a:gd name="textAreaLeft" fmla="*/ 142560 w 648000"/>
                <a:gd name="textAreaRight" fmla="*/ 505440 w 648000"/>
                <a:gd name="textAreaTop" fmla="*/ 241920 h 1099800"/>
                <a:gd name="textAreaBottom" fmla="*/ 857880 h 109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32a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矩形 21"/>
            <p:cNvSpPr/>
            <p:nvPr/>
          </p:nvSpPr>
          <p:spPr>
            <a:xfrm>
              <a:off x="715680" y="123444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矩形 28"/>
          <p:cNvSpPr/>
          <p:nvPr/>
        </p:nvSpPr>
        <p:spPr>
          <a:xfrm>
            <a:off x="682560" y="1981080"/>
            <a:ext cx="1873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2657520" y="1190520"/>
            <a:ext cx="1800360" cy="3311640"/>
            <a:chOff x="2657520" y="1190520"/>
            <a:chExt cx="1800360" cy="3311640"/>
          </a:xfrm>
        </p:grpSpPr>
        <p:sp>
          <p:nvSpPr>
            <p:cNvPr id="123" name="矩形 18"/>
            <p:cNvSpPr/>
            <p:nvPr/>
          </p:nvSpPr>
          <p:spPr>
            <a:xfrm>
              <a:off x="2657520" y="1190520"/>
              <a:ext cx="1800360" cy="3311640"/>
            </a:xfrm>
            <a:prstGeom prst="rect">
              <a:avLst/>
            </a:prstGeom>
            <a:solidFill>
              <a:srgbClr val="b32a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梯形 29"/>
            <p:cNvSpPr/>
            <p:nvPr/>
          </p:nvSpPr>
          <p:spPr>
            <a:xfrm flipV="1" rot="5400000">
              <a:off x="2884680" y="999720"/>
              <a:ext cx="648000" cy="1099800"/>
            </a:xfrm>
            <a:custGeom>
              <a:avLst/>
              <a:gdLst>
                <a:gd name="textAreaLeft" fmla="*/ 142560 w 648000"/>
                <a:gd name="textAreaRight" fmla="*/ 505440 w 648000"/>
                <a:gd name="textAreaTop" fmla="*/ 241920 h 1099800"/>
                <a:gd name="textAreaBottom" fmla="*/ 857880 h 109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45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矩形 22"/>
            <p:cNvSpPr/>
            <p:nvPr/>
          </p:nvSpPr>
          <p:spPr>
            <a:xfrm>
              <a:off x="2679120" y="119052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630680" y="1190520"/>
            <a:ext cx="1800360" cy="3311640"/>
            <a:chOff x="4630680" y="1190520"/>
            <a:chExt cx="1800360" cy="3311640"/>
          </a:xfrm>
        </p:grpSpPr>
        <p:sp>
          <p:nvSpPr>
            <p:cNvPr id="127" name="矩形 26"/>
            <p:cNvSpPr/>
            <p:nvPr/>
          </p:nvSpPr>
          <p:spPr>
            <a:xfrm>
              <a:off x="4630680" y="1190520"/>
              <a:ext cx="1800360" cy="3311640"/>
            </a:xfrm>
            <a:prstGeom prst="rect">
              <a:avLst/>
            </a:prstGeom>
            <a:solidFill>
              <a:srgbClr val="f45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梯形 30"/>
            <p:cNvSpPr/>
            <p:nvPr/>
          </p:nvSpPr>
          <p:spPr>
            <a:xfrm flipV="1" rot="5400000">
              <a:off x="4856400" y="989640"/>
              <a:ext cx="648000" cy="1099800"/>
            </a:xfrm>
            <a:custGeom>
              <a:avLst/>
              <a:gdLst>
                <a:gd name="textAreaLeft" fmla="*/ 142560 w 648000"/>
                <a:gd name="textAreaRight" fmla="*/ 505440 w 648000"/>
                <a:gd name="textAreaTop" fmla="*/ 241920 h 1099800"/>
                <a:gd name="textAreaBottom" fmla="*/ 857880 h 109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b32a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矩形 23"/>
            <p:cNvSpPr/>
            <p:nvPr/>
          </p:nvSpPr>
          <p:spPr>
            <a:xfrm>
              <a:off x="4763520" y="121752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6603840" y="1190520"/>
            <a:ext cx="1800360" cy="3326040"/>
            <a:chOff x="6603840" y="1190520"/>
            <a:chExt cx="1800360" cy="3326040"/>
          </a:xfrm>
        </p:grpSpPr>
        <p:sp>
          <p:nvSpPr>
            <p:cNvPr id="131" name="矩形 25"/>
            <p:cNvSpPr/>
            <p:nvPr/>
          </p:nvSpPr>
          <p:spPr>
            <a:xfrm>
              <a:off x="6603840" y="1204200"/>
              <a:ext cx="1800360" cy="3312360"/>
            </a:xfrm>
            <a:prstGeom prst="rect">
              <a:avLst/>
            </a:prstGeom>
            <a:solidFill>
              <a:srgbClr val="b32a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梯形 31"/>
            <p:cNvSpPr/>
            <p:nvPr/>
          </p:nvSpPr>
          <p:spPr>
            <a:xfrm flipV="1" rot="5400000">
              <a:off x="6864840" y="976320"/>
              <a:ext cx="648000" cy="1099800"/>
            </a:xfrm>
            <a:custGeom>
              <a:avLst/>
              <a:gdLst>
                <a:gd name="textAreaLeft" fmla="*/ 142560 w 648000"/>
                <a:gd name="textAreaRight" fmla="*/ 505440 w 648000"/>
                <a:gd name="textAreaTop" fmla="*/ 241920 h 1099800"/>
                <a:gd name="textAreaBottom" fmla="*/ 857880 h 109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45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矩形 32"/>
            <p:cNvSpPr/>
            <p:nvPr/>
          </p:nvSpPr>
          <p:spPr>
            <a:xfrm>
              <a:off x="6603840" y="1191960"/>
              <a:ext cx="1800360" cy="3312360"/>
            </a:xfrm>
            <a:prstGeom prst="rect">
              <a:avLst/>
            </a:prstGeom>
            <a:solidFill>
              <a:srgbClr val="b32a2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梯形 33"/>
            <p:cNvSpPr/>
            <p:nvPr/>
          </p:nvSpPr>
          <p:spPr>
            <a:xfrm flipV="1" rot="5400000">
              <a:off x="6829560" y="964440"/>
              <a:ext cx="648000" cy="1099800"/>
            </a:xfrm>
            <a:custGeom>
              <a:avLst/>
              <a:gdLst>
                <a:gd name="textAreaLeft" fmla="*/ 142560 w 648000"/>
                <a:gd name="textAreaRight" fmla="*/ 505440 w 648000"/>
                <a:gd name="textAreaTop" fmla="*/ 241920 h 1099800"/>
                <a:gd name="textAreaBottom" fmla="*/ 857880 h 1099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f4571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矩形 24"/>
            <p:cNvSpPr/>
            <p:nvPr/>
          </p:nvSpPr>
          <p:spPr>
            <a:xfrm>
              <a:off x="6652800" y="1229760"/>
              <a:ext cx="442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矩形 7"/>
          <p:cNvSpPr/>
          <p:nvPr/>
        </p:nvSpPr>
        <p:spPr>
          <a:xfrm>
            <a:off x="684360" y="2643120"/>
            <a:ext cx="180000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ts val="2299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299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299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6"/>
          <p:cNvSpPr/>
          <p:nvPr/>
        </p:nvSpPr>
        <p:spPr>
          <a:xfrm>
            <a:off x="2861640" y="1981080"/>
            <a:ext cx="129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34"/>
          <p:cNvSpPr/>
          <p:nvPr/>
        </p:nvSpPr>
        <p:spPr>
          <a:xfrm>
            <a:off x="4761720" y="1981080"/>
            <a:ext cx="16682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37"/>
          <p:cNvSpPr/>
          <p:nvPr/>
        </p:nvSpPr>
        <p:spPr>
          <a:xfrm>
            <a:off x="6905160" y="1981080"/>
            <a:ext cx="1296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38"/>
          <p:cNvSpPr/>
          <p:nvPr/>
        </p:nvSpPr>
        <p:spPr>
          <a:xfrm>
            <a:off x="2674800" y="2643120"/>
            <a:ext cx="180036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ts val="2299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299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299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39"/>
          <p:cNvSpPr/>
          <p:nvPr/>
        </p:nvSpPr>
        <p:spPr>
          <a:xfrm>
            <a:off x="4697280" y="2643120"/>
            <a:ext cx="180036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ts val="2299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299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299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40"/>
          <p:cNvSpPr/>
          <p:nvPr/>
        </p:nvSpPr>
        <p:spPr>
          <a:xfrm>
            <a:off x="6653160" y="2643120"/>
            <a:ext cx="180036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ts val="2299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299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ts val="2299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黑体"/>
                <a:ea typeface="黑体"/>
              </a:rPr>
              <a:t>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41"/>
          <p:cNvSpPr/>
          <p:nvPr/>
        </p:nvSpPr>
        <p:spPr>
          <a:xfrm>
            <a:off x="38160" y="349200"/>
            <a:ext cx="8964720" cy="432000"/>
          </a:xfrm>
          <a:prstGeom prst="rect">
            <a:avLst/>
          </a:prstGeom>
          <a:solidFill>
            <a:srgbClr val="dde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2"/>
          <p:cNvSpPr/>
          <p:nvPr/>
        </p:nvSpPr>
        <p:spPr>
          <a:xfrm>
            <a:off x="3780000" y="71280"/>
            <a:ext cx="5256000" cy="12384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剪去单角的矩形 43"/>
          <p:cNvSpPr/>
          <p:nvPr/>
        </p:nvSpPr>
        <p:spPr>
          <a:xfrm flipV="1">
            <a:off x="73080" y="70920"/>
            <a:ext cx="3600360" cy="55584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77"/>
          <p:cNvSpPr/>
          <p:nvPr/>
        </p:nvSpPr>
        <p:spPr>
          <a:xfrm>
            <a:off x="108000" y="42840"/>
            <a:ext cx="35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BDE27-4BBA-4F0E-95C9-92FAD408753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图片 1" descr=""/>
          <p:cNvPicPr/>
          <p:nvPr/>
        </p:nvPicPr>
        <p:blipFill>
          <a:blip r:embed="rId1"/>
          <a:srcRect l="0" t="0" r="0" b="16578"/>
          <a:stretch/>
        </p:blipFill>
        <p:spPr>
          <a:xfrm rot="19312200">
            <a:off x="3663720" y="2395080"/>
            <a:ext cx="1898640" cy="795600"/>
          </a:xfrm>
          <a:prstGeom prst="rect">
            <a:avLst/>
          </a:prstGeom>
          <a:ln w="0">
            <a:noFill/>
          </a:ln>
        </p:spPr>
      </p:pic>
      <p:sp>
        <p:nvSpPr>
          <p:cNvPr id="148" name="梯形 22"/>
          <p:cNvSpPr/>
          <p:nvPr/>
        </p:nvSpPr>
        <p:spPr>
          <a:xfrm flipH="1" flipV="1" rot="16200000">
            <a:off x="1439280" y="375120"/>
            <a:ext cx="718920" cy="2087640"/>
          </a:xfrm>
          <a:custGeom>
            <a:avLst/>
            <a:gdLst>
              <a:gd name="textAreaLeft" fmla="*/ 158040 w 718920"/>
              <a:gd name="textAreaRight" fmla="*/ 560880 w 718920"/>
              <a:gd name="textAreaTop" fmla="*/ 459000 h 2087640"/>
              <a:gd name="textAreaBottom" fmla="*/ 162864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梯形 23"/>
          <p:cNvSpPr/>
          <p:nvPr/>
        </p:nvSpPr>
        <p:spPr>
          <a:xfrm flipH="1" flipV="1" rot="16200000">
            <a:off x="1438920" y="3039840"/>
            <a:ext cx="719280" cy="2087640"/>
          </a:xfrm>
          <a:custGeom>
            <a:avLst/>
            <a:gdLst>
              <a:gd name="textAreaLeft" fmla="*/ 158040 w 719280"/>
              <a:gd name="textAreaRight" fmla="*/ 561240 w 719280"/>
              <a:gd name="textAreaTop" fmla="*/ 459000 h 2087640"/>
              <a:gd name="textAreaBottom" fmla="*/ 1628640 h 20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梯形 24"/>
          <p:cNvSpPr/>
          <p:nvPr/>
        </p:nvSpPr>
        <p:spPr>
          <a:xfrm flipV="1" rot="5400000">
            <a:off x="6858000" y="393480"/>
            <a:ext cx="720720" cy="2051280"/>
          </a:xfrm>
          <a:custGeom>
            <a:avLst/>
            <a:gdLst>
              <a:gd name="textAreaLeft" fmla="*/ 158400 w 720720"/>
              <a:gd name="textAreaRight" fmla="*/ 562320 w 720720"/>
              <a:gd name="textAreaTop" fmla="*/ 451080 h 2051280"/>
              <a:gd name="textAreaBottom" fmla="*/ 1600200 h 205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梯形 25"/>
          <p:cNvSpPr/>
          <p:nvPr/>
        </p:nvSpPr>
        <p:spPr>
          <a:xfrm flipV="1" rot="5400000">
            <a:off x="6858720" y="3058200"/>
            <a:ext cx="719280" cy="2051280"/>
          </a:xfrm>
          <a:custGeom>
            <a:avLst/>
            <a:gdLst>
              <a:gd name="textAreaLeft" fmla="*/ 158040 w 719280"/>
              <a:gd name="textAreaRight" fmla="*/ 561240 w 719280"/>
              <a:gd name="textAreaTop" fmla="*/ 451080 h 2051280"/>
              <a:gd name="textAreaBottom" fmla="*/ 1600200 h 2051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肘形连接符 33"/>
          <p:cNvCxnSpPr/>
          <p:nvPr/>
        </p:nvCxnSpPr>
        <p:spPr>
          <a:xfrm>
            <a:off x="2916360" y="1419120"/>
            <a:ext cx="1296000" cy="1153440"/>
          </a:xfrm>
          <a:prstGeom prst="bentConnector3">
            <a:avLst>
              <a:gd name="adj1" fmla="val 100833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3" name="肘形连接符 41"/>
          <p:cNvCxnSpPr/>
          <p:nvPr/>
        </p:nvCxnSpPr>
        <p:spPr>
          <a:xfrm flipH="1" rot="10800000">
            <a:off x="4932000" y="1418400"/>
            <a:ext cx="1151640" cy="650160"/>
          </a:xfrm>
          <a:prstGeom prst="bentConnector3">
            <a:avLst>
              <a:gd name="adj1" fmla="val -750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4" name="肘形连接符 44"/>
          <p:cNvCxnSpPr/>
          <p:nvPr/>
        </p:nvCxnSpPr>
        <p:spPr>
          <a:xfrm flipV="1">
            <a:off x="2916360" y="3579120"/>
            <a:ext cx="1296000" cy="577080"/>
          </a:xfrm>
          <a:prstGeom prst="bentConnector3">
            <a:avLst>
              <a:gd name="adj1" fmla="val 99194"/>
            </a:avLst>
          </a:prstGeom>
          <a:ln w="28440">
            <a:solidFill>
              <a:srgbClr val="000000"/>
            </a:solidFill>
            <a:miter/>
          </a:ln>
        </p:spPr>
      </p:cxnSp>
      <p:cxnSp>
        <p:nvCxnSpPr>
          <p:cNvPr id="155" name="肘形连接符 49"/>
          <p:cNvCxnSpPr/>
          <p:nvPr/>
        </p:nvCxnSpPr>
        <p:spPr>
          <a:xfrm flipV="1" rot="16200000">
            <a:off x="4894560" y="3038760"/>
            <a:ext cx="1153440" cy="1081800"/>
          </a:xfrm>
          <a:prstGeom prst="bentConnector3">
            <a:avLst>
              <a:gd name="adj1" fmla="val -1654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56" name="矩形 61"/>
          <p:cNvSpPr/>
          <p:nvPr/>
        </p:nvSpPr>
        <p:spPr>
          <a:xfrm>
            <a:off x="6323760" y="123516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62"/>
          <p:cNvSpPr/>
          <p:nvPr/>
        </p:nvSpPr>
        <p:spPr>
          <a:xfrm>
            <a:off x="6323760" y="389880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63"/>
          <p:cNvSpPr/>
          <p:nvPr/>
        </p:nvSpPr>
        <p:spPr>
          <a:xfrm>
            <a:off x="1046160" y="3878280"/>
            <a:ext cx="13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64"/>
          <p:cNvSpPr/>
          <p:nvPr/>
        </p:nvSpPr>
        <p:spPr>
          <a:xfrm>
            <a:off x="1045440" y="1235160"/>
            <a:ext cx="106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梯形 65"/>
          <p:cNvSpPr/>
          <p:nvPr/>
        </p:nvSpPr>
        <p:spPr>
          <a:xfrm flipH="1" flipV="1" rot="16200000">
            <a:off x="2616120" y="1008720"/>
            <a:ext cx="193680" cy="258840"/>
          </a:xfrm>
          <a:custGeom>
            <a:avLst/>
            <a:gdLst>
              <a:gd name="textAreaLeft" fmla="*/ 42480 w 193680"/>
              <a:gd name="textAreaRight" fmla="*/ 151200 w 193680"/>
              <a:gd name="textAreaTop" fmla="*/ 56880 h 258840"/>
              <a:gd name="textAreaBottom" fmla="*/ 201960 h 25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梯形 67"/>
          <p:cNvSpPr/>
          <p:nvPr/>
        </p:nvSpPr>
        <p:spPr>
          <a:xfrm flipH="1" flipV="1" rot="16200000">
            <a:off x="2616120" y="3672360"/>
            <a:ext cx="193680" cy="258840"/>
          </a:xfrm>
          <a:custGeom>
            <a:avLst/>
            <a:gdLst>
              <a:gd name="textAreaLeft" fmla="*/ 42480 w 193680"/>
              <a:gd name="textAreaRight" fmla="*/ 151200 w 193680"/>
              <a:gd name="textAreaTop" fmla="*/ 56880 h 258840"/>
              <a:gd name="textAreaBottom" fmla="*/ 201960 h 25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梯形 68"/>
          <p:cNvSpPr/>
          <p:nvPr/>
        </p:nvSpPr>
        <p:spPr>
          <a:xfrm flipV="1" rot="5400000">
            <a:off x="6225120" y="3680280"/>
            <a:ext cx="193680" cy="258840"/>
          </a:xfrm>
          <a:custGeom>
            <a:avLst/>
            <a:gdLst>
              <a:gd name="textAreaLeft" fmla="*/ 42480 w 193680"/>
              <a:gd name="textAreaRight" fmla="*/ 151200 w 193680"/>
              <a:gd name="textAreaTop" fmla="*/ 56880 h 258840"/>
              <a:gd name="textAreaBottom" fmla="*/ 201960 h 25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梯形 69"/>
          <p:cNvSpPr/>
          <p:nvPr/>
        </p:nvSpPr>
        <p:spPr>
          <a:xfrm flipV="1" rot="5400000">
            <a:off x="6223680" y="1008720"/>
            <a:ext cx="193680" cy="258840"/>
          </a:xfrm>
          <a:custGeom>
            <a:avLst/>
            <a:gdLst>
              <a:gd name="textAreaLeft" fmla="*/ 42480 w 193680"/>
              <a:gd name="textAreaRight" fmla="*/ 151200 w 193680"/>
              <a:gd name="textAreaTop" fmla="*/ 56880 h 258840"/>
              <a:gd name="textAreaBottom" fmla="*/ 201960 h 258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30"/>
          <p:cNvSpPr/>
          <p:nvPr/>
        </p:nvSpPr>
        <p:spPr>
          <a:xfrm>
            <a:off x="38160" y="349200"/>
            <a:ext cx="8964720" cy="432000"/>
          </a:xfrm>
          <a:prstGeom prst="rect">
            <a:avLst/>
          </a:prstGeom>
          <a:solidFill>
            <a:srgbClr val="dde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1"/>
          <p:cNvSpPr/>
          <p:nvPr/>
        </p:nvSpPr>
        <p:spPr>
          <a:xfrm>
            <a:off x="3780000" y="71280"/>
            <a:ext cx="5256000" cy="12384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剪去单角的矩形 32"/>
          <p:cNvSpPr/>
          <p:nvPr/>
        </p:nvSpPr>
        <p:spPr>
          <a:xfrm flipV="1">
            <a:off x="73080" y="70920"/>
            <a:ext cx="3600360" cy="55584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Box 77"/>
          <p:cNvSpPr/>
          <p:nvPr/>
        </p:nvSpPr>
        <p:spPr>
          <a:xfrm>
            <a:off x="108000" y="42840"/>
            <a:ext cx="35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EB4B-4507-4ABC-B48D-F575170220C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饼形 15"/>
          <p:cNvSpPr/>
          <p:nvPr/>
        </p:nvSpPr>
        <p:spPr>
          <a:xfrm flipV="1">
            <a:off x="974880" y="4479120"/>
            <a:ext cx="3597120" cy="684360"/>
          </a:xfrm>
          <a:prstGeom prst="pie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7"/>
          <p:cNvSpPr/>
          <p:nvPr/>
        </p:nvSpPr>
        <p:spPr>
          <a:xfrm rot="16200000">
            <a:off x="889920" y="2823480"/>
            <a:ext cx="3311280" cy="7128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燕尾形箭头 16"/>
          <p:cNvSpPr/>
          <p:nvPr/>
        </p:nvSpPr>
        <p:spPr>
          <a:xfrm>
            <a:off x="804960" y="1300320"/>
            <a:ext cx="3674880" cy="863280"/>
          </a:xfrm>
          <a:custGeom>
            <a:avLst/>
            <a:gdLst>
              <a:gd name="textAreaLeft" fmla="*/ 215640 w 3674880"/>
              <a:gd name="textAreaRight" fmla="*/ 3459240 w 3674880"/>
              <a:gd name="textAreaTop" fmla="*/ 215640 h 863280"/>
              <a:gd name="textAreaBottom" fmla="*/ 647640 h 863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9065" y="5400"/>
                </a:lnTo>
                <a:lnTo>
                  <a:pt x="19065" y="0"/>
                </a:lnTo>
                <a:lnTo>
                  <a:pt x="21600" y="10800"/>
                </a:lnTo>
                <a:lnTo>
                  <a:pt x="19065" y="21600"/>
                </a:lnTo>
                <a:lnTo>
                  <a:pt x="19065" y="16200"/>
                </a:lnTo>
                <a:lnTo>
                  <a:pt x="0" y="16200"/>
                </a:lnTo>
                <a:lnTo>
                  <a:pt x="1268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燕尾形箭头 18"/>
          <p:cNvSpPr/>
          <p:nvPr/>
        </p:nvSpPr>
        <p:spPr>
          <a:xfrm flipH="1">
            <a:off x="1187280" y="2149560"/>
            <a:ext cx="2632320" cy="863640"/>
          </a:xfrm>
          <a:custGeom>
            <a:avLst/>
            <a:gdLst>
              <a:gd name="textAreaLeft" fmla="*/ 216000 w 2632320"/>
              <a:gd name="textAreaRight" fmla="*/ 2416320 w 2632320"/>
              <a:gd name="textAreaTop" fmla="*/ 216000 h 863640"/>
              <a:gd name="textAreaBottom" fmla="*/ 648000 h 863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8053" y="5400"/>
                </a:lnTo>
                <a:lnTo>
                  <a:pt x="18053" y="0"/>
                </a:lnTo>
                <a:lnTo>
                  <a:pt x="21600" y="10800"/>
                </a:lnTo>
                <a:lnTo>
                  <a:pt x="18053" y="21600"/>
                </a:lnTo>
                <a:lnTo>
                  <a:pt x="18053" y="16200"/>
                </a:lnTo>
                <a:lnTo>
                  <a:pt x="0" y="16200"/>
                </a:lnTo>
                <a:lnTo>
                  <a:pt x="1774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燕尾形箭头 20"/>
          <p:cNvSpPr/>
          <p:nvPr/>
        </p:nvSpPr>
        <p:spPr>
          <a:xfrm>
            <a:off x="1476360" y="3121200"/>
            <a:ext cx="2197080" cy="838080"/>
          </a:xfrm>
          <a:custGeom>
            <a:avLst/>
            <a:gdLst>
              <a:gd name="textAreaLeft" fmla="*/ 209520 w 2197080"/>
              <a:gd name="textAreaRight" fmla="*/ 1987560 w 219708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475" y="5400"/>
                </a:lnTo>
                <a:lnTo>
                  <a:pt x="17475" y="0"/>
                </a:lnTo>
                <a:lnTo>
                  <a:pt x="21600" y="10800"/>
                </a:lnTo>
                <a:lnTo>
                  <a:pt x="17475" y="21600"/>
                </a:lnTo>
                <a:lnTo>
                  <a:pt x="17475" y="16200"/>
                </a:lnTo>
                <a:lnTo>
                  <a:pt x="0" y="16200"/>
                </a:lnTo>
                <a:lnTo>
                  <a:pt x="2063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457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图片 1" descr=""/>
          <p:cNvPicPr/>
          <p:nvPr/>
        </p:nvPicPr>
        <p:blipFill>
          <a:blip r:embed="rId1"/>
          <a:stretch/>
        </p:blipFill>
        <p:spPr>
          <a:xfrm>
            <a:off x="4861080" y="1649520"/>
            <a:ext cx="3727440" cy="2309760"/>
          </a:xfrm>
          <a:prstGeom prst="rect">
            <a:avLst/>
          </a:prstGeom>
          <a:ln w="0">
            <a:noFill/>
          </a:ln>
        </p:spPr>
      </p:pic>
      <p:sp>
        <p:nvSpPr>
          <p:cNvPr id="174" name="矩形 22"/>
          <p:cNvSpPr/>
          <p:nvPr/>
        </p:nvSpPr>
        <p:spPr>
          <a:xfrm>
            <a:off x="38160" y="349200"/>
            <a:ext cx="8964720" cy="432000"/>
          </a:xfrm>
          <a:prstGeom prst="rect">
            <a:avLst/>
          </a:prstGeom>
          <a:solidFill>
            <a:srgbClr val="dde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23"/>
          <p:cNvSpPr/>
          <p:nvPr/>
        </p:nvSpPr>
        <p:spPr>
          <a:xfrm>
            <a:off x="3780000" y="71280"/>
            <a:ext cx="5256000" cy="12384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剪去单角的矩形 24"/>
          <p:cNvSpPr/>
          <p:nvPr/>
        </p:nvSpPr>
        <p:spPr>
          <a:xfrm flipV="1">
            <a:off x="73080" y="70920"/>
            <a:ext cx="3600360" cy="55584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77"/>
          <p:cNvSpPr/>
          <p:nvPr/>
        </p:nvSpPr>
        <p:spPr>
          <a:xfrm>
            <a:off x="108000" y="42840"/>
            <a:ext cx="35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梯形 4"/>
          <p:cNvSpPr/>
          <p:nvPr/>
        </p:nvSpPr>
        <p:spPr>
          <a:xfrm flipH="1" flipV="1" rot="16200000">
            <a:off x="6083280" y="2503440"/>
            <a:ext cx="720720" cy="3168720"/>
          </a:xfrm>
          <a:custGeom>
            <a:avLst/>
            <a:gdLst>
              <a:gd name="textAreaLeft" fmla="*/ 158400 w 720720"/>
              <a:gd name="textAreaRight" fmla="*/ 562320 w 720720"/>
              <a:gd name="textAreaTop" fmla="*/ 696600 h 3168720"/>
              <a:gd name="textAreaBottom" fmla="*/ 2472120 h 316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梯形 28"/>
          <p:cNvSpPr/>
          <p:nvPr/>
        </p:nvSpPr>
        <p:spPr>
          <a:xfrm flipH="1" flipV="1" rot="16200000">
            <a:off x="746640" y="1353600"/>
            <a:ext cx="1498680" cy="1379520"/>
          </a:xfrm>
          <a:custGeom>
            <a:avLst/>
            <a:gdLst>
              <a:gd name="textAreaLeft" fmla="*/ 121320 w 1498680"/>
              <a:gd name="textAreaRight" fmla="*/ 1377360 w 1498680"/>
              <a:gd name="textAreaTop" fmla="*/ 111600 h 1379520"/>
              <a:gd name="textAreaBottom" fmla="*/ 1267920 h 137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梯形 29"/>
          <p:cNvSpPr/>
          <p:nvPr/>
        </p:nvSpPr>
        <p:spPr>
          <a:xfrm flipH="1" flipV="1" rot="16200000">
            <a:off x="2916720" y="2845800"/>
            <a:ext cx="1498680" cy="1379520"/>
          </a:xfrm>
          <a:custGeom>
            <a:avLst/>
            <a:gdLst>
              <a:gd name="textAreaLeft" fmla="*/ 121320 w 1498680"/>
              <a:gd name="textAreaRight" fmla="*/ 1377360 w 1498680"/>
              <a:gd name="textAreaTop" fmla="*/ 111600 h 1379520"/>
              <a:gd name="textAreaBottom" fmla="*/ 1267920 h 137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77"/>
          <p:cNvSpPr/>
          <p:nvPr/>
        </p:nvSpPr>
        <p:spPr>
          <a:xfrm>
            <a:off x="919080" y="16365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st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77"/>
          <p:cNvSpPr/>
          <p:nvPr/>
        </p:nvSpPr>
        <p:spPr>
          <a:xfrm>
            <a:off x="3306600" y="32608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方正粗宋简体"/>
                <a:ea typeface="方正粗宋简体"/>
              </a:rPr>
              <a:t>ste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1"/>
          <p:cNvSpPr/>
          <p:nvPr/>
        </p:nvSpPr>
        <p:spPr>
          <a:xfrm>
            <a:off x="2244600" y="1347840"/>
            <a:ext cx="2038320" cy="369720"/>
          </a:xfrm>
          <a:prstGeom prst="rect">
            <a:avLst/>
          </a:prstGeom>
          <a:noFill/>
          <a:ln w="9360">
            <a:solidFill>
              <a:srgbClr val="262626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13"/>
          <p:cNvSpPr/>
          <p:nvPr/>
        </p:nvSpPr>
        <p:spPr>
          <a:xfrm>
            <a:off x="871560" y="2879640"/>
            <a:ext cx="1979640" cy="370080"/>
          </a:xfrm>
          <a:prstGeom prst="rect">
            <a:avLst/>
          </a:prstGeom>
          <a:noFill/>
          <a:ln w="9360">
            <a:solidFill>
              <a:srgbClr val="262626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图片 2" descr=""/>
          <p:cNvPicPr/>
          <p:nvPr/>
        </p:nvPicPr>
        <p:blipFill>
          <a:blip r:embed="rId1"/>
          <a:stretch/>
        </p:blipFill>
        <p:spPr>
          <a:xfrm>
            <a:off x="4861080" y="1316160"/>
            <a:ext cx="3390840" cy="2119320"/>
          </a:xfrm>
          <a:prstGeom prst="rect">
            <a:avLst/>
          </a:prstGeom>
          <a:ln w="0">
            <a:noFill/>
          </a:ln>
        </p:spPr>
      </p:pic>
      <p:sp>
        <p:nvSpPr>
          <p:cNvPr id="186" name="矩形 16"/>
          <p:cNvSpPr/>
          <p:nvPr/>
        </p:nvSpPr>
        <p:spPr>
          <a:xfrm>
            <a:off x="38160" y="349200"/>
            <a:ext cx="8964720" cy="432000"/>
          </a:xfrm>
          <a:prstGeom prst="rect">
            <a:avLst/>
          </a:prstGeom>
          <a:solidFill>
            <a:srgbClr val="dde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17"/>
          <p:cNvSpPr/>
          <p:nvPr/>
        </p:nvSpPr>
        <p:spPr>
          <a:xfrm>
            <a:off x="3780000" y="71280"/>
            <a:ext cx="5256000" cy="12384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剪去单角的矩形 18"/>
          <p:cNvSpPr/>
          <p:nvPr/>
        </p:nvSpPr>
        <p:spPr>
          <a:xfrm flipV="1">
            <a:off x="73080" y="70920"/>
            <a:ext cx="3600360" cy="55584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Box 77"/>
          <p:cNvSpPr/>
          <p:nvPr/>
        </p:nvSpPr>
        <p:spPr>
          <a:xfrm>
            <a:off x="108000" y="42840"/>
            <a:ext cx="35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Box 19"/>
          <p:cNvSpPr/>
          <p:nvPr/>
        </p:nvSpPr>
        <p:spPr>
          <a:xfrm>
            <a:off x="4710240" y="2946240"/>
            <a:ext cx="3606840" cy="370080"/>
          </a:xfrm>
          <a:prstGeom prst="rect">
            <a:avLst/>
          </a:prstGeom>
          <a:noFill/>
          <a:ln w="9360">
            <a:solidFill>
              <a:srgbClr val="c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3"/>
          <p:cNvSpPr/>
          <p:nvPr/>
        </p:nvSpPr>
        <p:spPr>
          <a:xfrm>
            <a:off x="822240" y="1131840"/>
            <a:ext cx="3598920" cy="370080"/>
          </a:xfrm>
          <a:prstGeom prst="rect">
            <a:avLst/>
          </a:prstGeom>
          <a:noFill/>
          <a:ln w="9360">
            <a:solidFill>
              <a:srgbClr val="c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14"/>
          <p:cNvSpPr/>
          <p:nvPr/>
        </p:nvSpPr>
        <p:spPr>
          <a:xfrm>
            <a:off x="4716360" y="1131840"/>
            <a:ext cx="3598920" cy="167184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16"/>
          <p:cNvSpPr/>
          <p:nvPr/>
        </p:nvSpPr>
        <p:spPr>
          <a:xfrm>
            <a:off x="822240" y="2987640"/>
            <a:ext cx="3598920" cy="167184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5"/>
          <p:cNvSpPr/>
          <p:nvPr/>
        </p:nvSpPr>
        <p:spPr>
          <a:xfrm>
            <a:off x="38160" y="349200"/>
            <a:ext cx="8964720" cy="432000"/>
          </a:xfrm>
          <a:prstGeom prst="rect">
            <a:avLst/>
          </a:prstGeom>
          <a:solidFill>
            <a:srgbClr val="dde7e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17"/>
          <p:cNvSpPr/>
          <p:nvPr/>
        </p:nvSpPr>
        <p:spPr>
          <a:xfrm>
            <a:off x="3780000" y="71280"/>
            <a:ext cx="5256000" cy="12384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剪去单角的矩形 20"/>
          <p:cNvSpPr/>
          <p:nvPr/>
        </p:nvSpPr>
        <p:spPr>
          <a:xfrm flipV="1">
            <a:off x="73080" y="70920"/>
            <a:ext cx="3600360" cy="555840"/>
          </a:xfrm>
          <a:prstGeom prst="pie">
            <a:avLst/>
          </a:prstGeom>
          <a:solidFill>
            <a:srgbClr val="b32a2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77"/>
          <p:cNvSpPr/>
          <p:nvPr/>
        </p:nvSpPr>
        <p:spPr>
          <a:xfrm>
            <a:off x="108000" y="42840"/>
            <a:ext cx="356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XXXXXXXXX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4T02:06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8:19:00Z</dcterms:modified>
  <cp:revision>155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