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17AC-7C69-444A-BFC5-71C13B56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E40-68A3-4A58-8070-6237B0AA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4E8-5752-4CBD-853C-52E03D58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C84-64C1-446B-B1EB-5569E316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2FFC-703F-4093-A853-8BC0E0E0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5CD4-192C-47E6-A692-6906C9FF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0871-1D1D-4394-A562-698B9C8D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7C08-A55C-438E-8C77-AA4B2304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0BD1-57C1-4D3B-8797-5FCF4704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5753-22D0-4DDD-840F-5036C863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C077-DDEF-4CEF-8C3C-D1D378E9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5A0-822D-498E-9631-3590BFE1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A8BE-D1B5-4A18-8677-B3A12B16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9671-3873-4046-A295-2A585110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8BE4-A1DE-4E40-9E16-87C99F42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43BC-B272-48A8-A19B-2E62B30C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43AE-63A6-44E1-AC79-FFEDB7B9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7FA-993C-471B-83B6-1B5D81B4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BC6-435B-47DD-8568-0A459C59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4F0-E39A-4D85-A7F6-1A0878D8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373-5C33-4776-B908-27D38CB8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607-A47A-46B3-B2AF-FD961F7C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591-060F-4C75-A7E7-16E007FD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A52-7006-4978-BE4E-5F81F276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5580000" y="0"/>
            <a:ext cx="3048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1B14-0A78-4DE3-A3F4-55D7AED854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5724360" y="4649760"/>
            <a:ext cx="2943360" cy="2208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580000" y="0"/>
            <a:ext cx="3048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0343-65D7-4139-A9DF-A3E10C2DB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724360" y="4649760"/>
            <a:ext cx="2943360" cy="2208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09480" y="117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喜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4FA-AA89-4B02-9D2D-33E589835609}" type="slidenum">
              <a:t>2</a:t>
            </a:fld>
          </a:p>
        </p:txBody>
      </p:sp>
    </p:spTree>
  </p:cSld>
  <p:transition advTm="3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5600"/>
            <a:ext cx="822960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6453360"/>
            <a:ext cx="439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2:25:0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15:14Z</dcterms:modified>
  <cp:revision>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