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0.jpeg" ContentType="image/jpeg"/>
  <Override PartName="/ppt/media/image8.jpeg" ContentType="image/jpeg"/>
  <Override PartName="/ppt/media/image6.tif" ContentType="image/tiff"/>
  <Override PartName="/ppt/media/image15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EB3-90A5-4276-80BE-B43F44E6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01B-C906-43A7-A295-8350F270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A5F18-2D1A-464F-B043-1AB51C23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2EBB0-D8D6-4E0D-B972-09ADF14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27E4C-6878-456B-8676-13BFFDA8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C1AFE-1C74-4441-9708-B96DE719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C9CAC-50BC-4F5B-89C2-7E952219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72231-B0F9-40CA-A1A5-C5A27C4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2A6D2-9BE4-4B78-B15E-4A454F78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3ABE8-97DE-4352-ACD1-18FC80BD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018A3-3F38-4B37-8105-69EDA94D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FE2B0-8B95-4B3C-8452-1D1068A2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E97-90D4-4BE3-8938-AD7755DB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AA48B-E6FA-4326-A485-0BC4A94C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1123E-3196-43D5-953E-3796ED5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BF816-F7C8-45B3-93C3-82B84237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61634-31C4-4668-99C0-B85DCC5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9B07F-3FFE-4565-8A6F-82B2905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71E67-51E1-4A3F-A20A-2A93406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56797-A3A6-40AD-B0BF-B302F0A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55481-FB78-45DB-A858-2485D8D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0B035-69A7-4001-AF55-A5126AD5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9CD25-718E-47D1-9D09-ECBA39EB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6A7-6F18-486B-A834-C9C4B9E3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D76C8-8E6D-4E91-ADAA-EB56F6B0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1D03F-8AFA-40BA-B47F-9BE3213D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F0325-F0F1-4675-B407-6FED3BD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F6B7A-8B30-4648-9B5A-1620775E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58945-11A2-4857-B121-EB1BBFF8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30CB9-D374-47D8-BA2D-78F6AAF7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698EB-0CB5-4D95-ABF6-22116C97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464C1-72B4-494F-BC57-6AFE6CB0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EB9AC-33FE-43D3-87B7-6198D7C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8661E-882B-49F7-9871-430C1343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45B5-DF0D-4E82-9A3A-D28C0E96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412CF-014E-4334-A6FA-3A0CCB5F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19B58-5154-41F4-8DC5-228BFE41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0A348-108D-40D5-8291-36BEAFD6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BE2F7-2AF5-492C-A396-5DA915D1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08BC3-10B1-4608-A1C7-27A6D162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096FE-E5B5-4746-9985-D053AE96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AD645-5D18-4B8F-BD25-EA5D2E71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AE4A1-9C74-4DC0-A7B3-37D5DE80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16C1C-ED3C-4EF9-9737-C420D50E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FD1AD-FF5C-466C-8572-7E48F0AE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4862-BFEF-476F-9D33-AD19F2EC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3E716-CF13-4AD0-9D99-5BE788D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77BBF-8177-446E-A54C-1DE4A279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90D05-81D1-4572-B141-B92EA81C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FC3DA-98BE-4EB6-A731-7C36B935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7524E-1391-4061-BD5D-E1914EA8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C8E2B-1145-4377-8D81-A1054D25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35381-8122-46C3-86A1-C91FFE99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14DC8-AF08-457E-8E99-4325A2A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48808-1098-4C17-AA14-1BF7B2F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7BB2F-BFF8-407A-A2BC-16C3F045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86A1-BACB-4BA4-8469-7150CB0E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EC725-C134-4636-AA31-8D115E2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79C52-4E7F-44D4-BC4D-DC96FA48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7A17F-A933-4B9E-A3F1-E4E3F32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AF7C3-1C22-4433-BD2E-DF90F164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3A0B5-2CD8-4B6A-9715-AB3E8B82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3C527-728A-409F-8309-5A15D1C3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51127-7A68-47EE-93B9-E2D76F65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0E149-AA9E-495A-BE16-B6BE0787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5DA34-D954-4202-B1EC-C30586E1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360A0-0170-4529-99D1-D2F9089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CEEE-8F4D-4445-A7B1-D4EE5FF9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78F1F-9343-43CD-8D6B-43DC0DAC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7E9B3-8DE6-4C7B-A392-0272DF0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0FA96-3B68-46CD-9820-2BCA6F5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271C4-E8D8-48E6-BE2F-D1B7055F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D7E1E-69D8-458D-BA1A-35D9383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416AA-D34D-4BA5-9E6B-F15999D6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0A5CD-8E1F-467D-BE73-97CA38A8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6B624-203E-475A-863E-B3422BCB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C7CBD-099B-4B00-BBC0-9B046A3E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DE76-23DE-4255-AFE1-36BC0972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6889-45D6-4656-AD3B-9CDE85D3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1676-AB95-4049-AFE0-F39A9910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E4B-0E07-4331-94AA-3921D8EF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3194-280F-4A66-BEEC-595552B4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AF36-62D6-4F89-963C-9D10F094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C165-0DCE-48F7-8483-5B624D96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576-E211-4B83-8BBA-56C45E1A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C78F-B677-419A-84C8-D5877071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7CD0-325C-4D26-9A2E-5BA410B0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E93E-C571-49E6-A755-74A06A41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28DA-CF3D-4C66-B49B-151F2A1E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5D8C-02CC-4206-8DD9-11AAC68A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AB66-1990-4678-B914-400CCAFC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B74-3CBB-46E5-95EF-8009D997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FA52-0FF9-4CB2-B4F5-2F8D5AFD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2245-13B6-4229-B70F-BD588B9C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042E-0A7E-4007-8A47-203A732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05F5-DDA7-492B-86D6-DBB510AE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627F-4C93-4B95-95AE-8615D930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94BC-BBC2-4224-B6D0-788C0C38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25AE-CC3A-4879-8F54-B8D959B7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5A617-AACE-40F7-9944-612CF37A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BB1C-B268-43A4-AF06-A266A0CB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E36B-87F8-44D1-B13D-5F3A7059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A69-5590-48B2-958D-633E165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BC71-9080-4F50-BFF5-E83FF9E9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A43F-6410-44A9-9EBE-122BA702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817E-75AD-483E-9D68-1DE1007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61E2-B116-47C4-AD43-AEEF4DE1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C5685-771F-4424-ABCB-E30FA3F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0ABC-451E-4E35-A1FA-9C8BD07C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B13C-54CD-4B07-9DF8-C930111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9402-E961-4BFE-9596-C09E939A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DF61-98D0-4ECF-B14C-45254308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6912-1C09-4411-B6FC-11C023E7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017-9A35-49C7-9FE0-C3C31E61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1B15-4BF2-485C-BEA4-225878B5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E4F2-FC27-4C6C-AF0E-43B78D84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6013-677A-43AC-A85A-4D426FC0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B8D5-287E-4660-84BC-8CE5E652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C27B-F587-4894-9D57-D5818B0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EAC2-FB85-4D1F-807E-5E68D605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1097-29B4-4264-9649-E0B4B5E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0E2A6-9F79-49CA-B1EC-AFBA427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C99D5-FE26-430F-9C6C-5D028C28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A7E52-785B-407C-BE26-B395869D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DE3-AB3E-4DBD-86F3-416141D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B141B-C962-4D1F-BA8D-F5909DF6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90A5-2345-4CCC-88D2-C4D28EEE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C2DA-D0D6-4662-B6A9-EB6CEFD5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A6108-5524-484A-8E7F-03B61CD5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C8B4-6473-4D54-B1F6-8A63AC5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4368-50F8-4B5D-BA32-6B31B6CA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6F758-BEE2-4D30-A95C-81781890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54D57-A489-468A-9B8D-0B8B12A7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30A1-DB87-400E-9B63-D85B9B3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B6DA5-3602-497E-875F-3A3021E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F79-8C59-4A47-BB8D-9DB548D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BD0F-0312-42EC-8F04-73CB733F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E4DB-EE43-46D4-A574-42BD9FA3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D9361-D275-421A-B406-C18A42D5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1299-0293-42C1-A17A-8ABB7503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E7DAF-F8B9-4169-9BCB-8E201558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6A5F-7522-48EA-82CD-E0A17FCF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43ED-3198-497A-B399-EFCDEAC3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1A15C-1331-4872-9E0E-6C28231D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4C2D3-CD8B-41F0-A4C6-5DD81F76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952FC-AB45-4144-920D-BCFFE4D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512-3677-4618-8AA3-512E238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459BD-BE48-4067-8551-F43284C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8C50C-0CFB-40B5-AD91-D912C13F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8028F-EAAD-4B11-A955-9C276B1D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930F5-E5FD-419E-9A1A-E0AF1BA4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77252-9050-4E5A-8746-1C6BCB95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71EAB-9F5B-4C1D-B361-9CC8ED68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63E0-E04E-4761-8537-14711EB2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6497-8926-4CB6-8402-EA24227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7BC53-5096-4289-AC1D-27D40E9F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3D6B6-0E71-49DE-9C75-18C1D98F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B07-A456-4812-A42F-F90E96A3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836D-647C-4DC7-9785-82225E22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90B52-B485-4BD1-A0B4-A5C604FA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DF8C3-15F8-483C-BD1D-73C1C561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B25F1-054F-4FD9-A4DE-F4AE1820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D40FE-BC9F-468D-AD04-9FAA73FC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EEC0E-7457-4908-98A2-49C35405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23BF9-C4E4-4191-94A9-1E6E9E5A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E7A17-0AE9-4C19-AC09-3D048165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40179-313F-4C45-A2BB-0AAFCF4E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4E8E1-98BC-48D3-9F48-ABAD6E66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A6F4-3579-48B3-8CEB-C75FD9CB2E9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0F53-AF57-432B-89A6-17637FD87A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1823-2038-427E-9C1D-C2499272B8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7A60-6130-47EE-B942-BB5E709B1B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B91F-4348-4898-8EC9-88C40F769D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912A-B9FB-41D9-B5EB-BB497684BF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914C-1644-41B2-8F5E-F5654B73BE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4B41-7501-4FF1-9868-D3CD42A01E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BA3F-0464-41B5-A396-C7E99069CE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38EA-A173-499E-ACA1-5141BA39E8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1C12-6F1C-4B45-B8A6-DBF95DA5C3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635C-1076-4980-89EF-06F77BA964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BD57-A390-48E4-B910-F6D72D0839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FBB9-7B9F-4A51-B9EF-06480886D9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t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8247240" y="2381400"/>
            <a:ext cx="29192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音乐时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Calibri"/>
              </a:rPr>
              <a:t>|The Moment of Mus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Calibri"/>
              </a:rPr>
              <a:t>|By Light_N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1"/>
          <p:cNvSpPr/>
          <p:nvPr/>
        </p:nvSpPr>
        <p:spPr>
          <a:xfrm>
            <a:off x="7392960" y="125280"/>
            <a:ext cx="36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音乐时刻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3"/>
          <p:cNvSpPr/>
          <p:nvPr/>
        </p:nvSpPr>
        <p:spPr>
          <a:xfrm>
            <a:off x="257400" y="6504120"/>
            <a:ext cx="288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Russell_Leng_JPAFDD803_"/>
          <p:cNvPicPr/>
          <p:nvPr/>
        </p:nvPicPr>
        <p:blipFill>
          <a:blip r:embed="rId2"/>
          <a:srcRect l="0" t="11457" r="0" b="7125"/>
          <a:stretch/>
        </p:blipFill>
        <p:spPr>
          <a:xfrm>
            <a:off x="5479920" y="0"/>
            <a:ext cx="1187640" cy="84132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5524560" y="43956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M U S I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605040" y="1025640"/>
            <a:ext cx="5054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音乐时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THE MOMENT OF MUSIC,ENJO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260360" y="2916360"/>
            <a:ext cx="987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-22320" y="2836800"/>
            <a:ext cx="12211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音乐是生活中最美好的一面。——恩格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-38160" y="-20520"/>
            <a:ext cx="12271320" cy="6887880"/>
            <a:chOff x="-38160" y="-20520"/>
            <a:chExt cx="12271320" cy="6887880"/>
          </a:xfrm>
        </p:grpSpPr>
        <p:pic>
          <p:nvPicPr>
            <p:cNvPr id="583" name="Picture 3" descr="31"/>
            <p:cNvPicPr/>
            <p:nvPr/>
          </p:nvPicPr>
          <p:blipFill>
            <a:blip r:embed="rId1"/>
            <a:stretch/>
          </p:blipFill>
          <p:spPr>
            <a:xfrm>
              <a:off x="-38160" y="-20520"/>
              <a:ext cx="12242880" cy="68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4"/>
            <p:cNvSpPr/>
            <p:nvPr/>
          </p:nvSpPr>
          <p:spPr>
            <a:xfrm>
              <a:off x="6755760" y="114480"/>
              <a:ext cx="547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目    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5"/>
            <p:cNvSpPr/>
            <p:nvPr/>
          </p:nvSpPr>
          <p:spPr>
            <a:xfrm>
              <a:off x="6990120" y="304920"/>
              <a:ext cx="1743120" cy="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Line 6"/>
            <p:cNvSpPr/>
            <p:nvPr/>
          </p:nvSpPr>
          <p:spPr>
            <a:xfrm>
              <a:off x="10163160" y="299880"/>
              <a:ext cx="1743120" cy="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Text Box 7"/>
            <p:cNvSpPr/>
            <p:nvPr/>
          </p:nvSpPr>
          <p:spPr>
            <a:xfrm>
              <a:off x="6741720" y="1578960"/>
              <a:ext cx="544752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RADIOHEA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K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MU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THE BEATL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GREENDA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COCO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-SINEAD O'CONNO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8" descr="cover"/>
          <p:cNvPicPr/>
          <p:nvPr/>
        </p:nvPicPr>
        <p:blipFill>
          <a:blip r:embed="rId2"/>
          <a:stretch/>
        </p:blipFill>
        <p:spPr>
          <a:xfrm>
            <a:off x="-50760" y="-4680"/>
            <a:ext cx="12212640" cy="68706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9"/>
          <p:cNvSpPr/>
          <p:nvPr/>
        </p:nvSpPr>
        <p:spPr>
          <a:xfrm>
            <a:off x="6769080" y="254160"/>
            <a:ext cx="546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1279440" y="-17640"/>
            <a:ext cx="4130640" cy="400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11" descr="50044_cf006180"/>
          <p:cNvPicPr/>
          <p:nvPr/>
        </p:nvPicPr>
        <p:blipFill>
          <a:blip r:embed="rId3">
            <a:lum bright="12000"/>
          </a:blip>
          <a:srcRect l="13812" t="0" r="11616" b="0"/>
          <a:stretch/>
        </p:blipFill>
        <p:spPr>
          <a:xfrm>
            <a:off x="1465200" y="-17640"/>
            <a:ext cx="3792600" cy="3800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2" descr="contents-none"/>
          <p:cNvPicPr/>
          <p:nvPr/>
        </p:nvPicPr>
        <p:blipFill>
          <a:blip r:embed="rId4"/>
          <a:stretch/>
        </p:blipFill>
        <p:spPr>
          <a:xfrm>
            <a:off x="1547640" y="50760"/>
            <a:ext cx="1229040" cy="12304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3"/>
          <p:cNvSpPr/>
          <p:nvPr/>
        </p:nvSpPr>
        <p:spPr>
          <a:xfrm>
            <a:off x="1552680" y="47628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THE MO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OF 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 flipV="1">
            <a:off x="14400" y="2349000"/>
            <a:ext cx="12163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3"/>
          <p:cNvSpPr/>
          <p:nvPr/>
        </p:nvSpPr>
        <p:spPr>
          <a:xfrm flipV="1">
            <a:off x="22320" y="4797000"/>
            <a:ext cx="12147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4" descr="566d0fdfcc3f257a6227981a"/>
          <p:cNvPicPr/>
          <p:nvPr/>
        </p:nvPicPr>
        <p:blipFill>
          <a:blip r:embed="rId1">
            <a:grayscl/>
          </a:blip>
          <a:srcRect l="11174" t="0" r="14587" b="0"/>
          <a:stretch/>
        </p:blipFill>
        <p:spPr>
          <a:xfrm>
            <a:off x="10507680" y="2600280"/>
            <a:ext cx="1541520" cy="2075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s4020970"/>
          <p:cNvPicPr/>
          <p:nvPr/>
        </p:nvPicPr>
        <p:blipFill>
          <a:blip r:embed="rId2">
            <a:grayscl/>
          </a:blip>
          <a:srcRect l="13297" t="0" r="12557" b="0"/>
          <a:stretch/>
        </p:blipFill>
        <p:spPr>
          <a:xfrm>
            <a:off x="3651120" y="2602080"/>
            <a:ext cx="1516320" cy="2043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10075183168489d16a"/>
          <p:cNvPicPr/>
          <p:nvPr/>
        </p:nvPicPr>
        <p:blipFill>
          <a:blip r:embed="rId3">
            <a:grayscl/>
          </a:blip>
          <a:srcRect l="0" t="6687" r="0" b="13833"/>
          <a:stretch/>
        </p:blipFill>
        <p:spPr>
          <a:xfrm>
            <a:off x="5330880" y="2602080"/>
            <a:ext cx="1536480" cy="20541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150630.31386750_500"/>
          <p:cNvPicPr/>
          <p:nvPr/>
        </p:nvPicPr>
        <p:blipFill>
          <a:blip r:embed="rId4">
            <a:grayscl/>
          </a:blip>
          <a:srcRect l="0" t="0" r="19351" b="0"/>
          <a:stretch/>
        </p:blipFill>
        <p:spPr>
          <a:xfrm>
            <a:off x="7051680" y="2604960"/>
            <a:ext cx="1549440" cy="2073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822469881949863477"/>
          <p:cNvPicPr/>
          <p:nvPr/>
        </p:nvPicPr>
        <p:blipFill>
          <a:blip r:embed="rId5">
            <a:grayscl/>
          </a:blip>
          <a:srcRect l="9541" t="0" r="15528" b="0"/>
          <a:stretch/>
        </p:blipFill>
        <p:spPr>
          <a:xfrm>
            <a:off x="179280" y="2579760"/>
            <a:ext cx="1581120" cy="2089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b_large_rMo5_05bf000053a21261"/>
          <p:cNvPicPr/>
          <p:nvPr/>
        </p:nvPicPr>
        <p:blipFill>
          <a:blip r:embed="rId6">
            <a:grayscl/>
          </a:blip>
          <a:srcRect l="15034" t="0" r="16958" b="0"/>
          <a:stretch/>
        </p:blipFill>
        <p:spPr>
          <a:xfrm>
            <a:off x="8796240" y="2595600"/>
            <a:ext cx="1506600" cy="20415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s300_4631377a5ac87881ffff6e336ec7ca31"/>
          <p:cNvPicPr/>
          <p:nvPr/>
        </p:nvPicPr>
        <p:blipFill>
          <a:blip r:embed="rId7">
            <a:grayscl/>
          </a:blip>
          <a:srcRect l="27904" t="4006" r="0" b="0"/>
          <a:stretch/>
        </p:blipFill>
        <p:spPr>
          <a:xfrm>
            <a:off x="1936800" y="2631960"/>
            <a:ext cx="1501560" cy="20005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"/>
          <p:cNvSpPr/>
          <p:nvPr/>
        </p:nvSpPr>
        <p:spPr>
          <a:xfrm>
            <a:off x="-4680" y="1157400"/>
            <a:ext cx="121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.RADIOHEA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12" descr="822469881949863477"/>
          <p:cNvPicPr/>
          <p:nvPr/>
        </p:nvPicPr>
        <p:blipFill>
          <a:blip r:embed="rId8"/>
          <a:srcRect l="9541" t="0" r="15528" b="0"/>
          <a:stretch/>
        </p:blipFill>
        <p:spPr>
          <a:xfrm>
            <a:off x="174600" y="2575080"/>
            <a:ext cx="1581120" cy="208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351000" y="1117440"/>
            <a:ext cx="658944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528480" y="345960"/>
            <a:ext cx="48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RADIO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4" descr="822469881949863477"/>
          <p:cNvPicPr/>
          <p:nvPr/>
        </p:nvPicPr>
        <p:blipFill>
          <a:blip r:embed="rId2"/>
          <a:srcRect l="9541" t="0" r="15528" b="0"/>
          <a:stretch/>
        </p:blipFill>
        <p:spPr>
          <a:xfrm>
            <a:off x="566640" y="1363680"/>
            <a:ext cx="3500640" cy="46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Picture 5" descr="01300000208201121662166473024"/>
          <p:cNvPicPr/>
          <p:nvPr/>
        </p:nvPicPr>
        <p:blipFill>
          <a:blip r:embed="rId3"/>
          <a:stretch/>
        </p:blipFill>
        <p:spPr>
          <a:xfrm>
            <a:off x="4253040" y="1362240"/>
            <a:ext cx="2458800" cy="19875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single02_b"/>
          <p:cNvPicPr/>
          <p:nvPr/>
        </p:nvPicPr>
        <p:blipFill>
          <a:blip r:embed="rId4"/>
          <a:stretch/>
        </p:blipFill>
        <p:spPr>
          <a:xfrm>
            <a:off x="4257720" y="3508200"/>
            <a:ext cx="2454120" cy="24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0" name="Picture 7" descr="1092P15D4"/>
          <p:cNvPicPr/>
          <p:nvPr/>
        </p:nvPicPr>
        <p:blipFill>
          <a:blip r:embed="rId5"/>
          <a:stretch/>
        </p:blipFill>
        <p:spPr>
          <a:xfrm>
            <a:off x="4863960" y="427212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lable"/>
          <p:cNvPicPr/>
          <p:nvPr/>
        </p:nvPicPr>
        <p:blipFill>
          <a:blip r:embed="rId6"/>
          <a:srcRect l="0" t="13358" r="0" b="0"/>
          <a:stretch/>
        </p:blipFill>
        <p:spPr>
          <a:xfrm>
            <a:off x="9026640" y="-4680"/>
            <a:ext cx="1333440" cy="12826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9"/>
          <p:cNvSpPr/>
          <p:nvPr/>
        </p:nvSpPr>
        <p:spPr>
          <a:xfrm>
            <a:off x="9159480" y="104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lack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7324560" y="1257480"/>
            <a:ext cx="4496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i get home from work and you're still standing in your dressing g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ell what am i to d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i know all the things around your head and what they do to yo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hat are we coming t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hat are we gonna d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lame it on the black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lame it on the falling s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lame it on the satellite that beams me ho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 flipV="1">
            <a:off x="14400" y="2349000"/>
            <a:ext cx="12163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3"/>
          <p:cNvSpPr/>
          <p:nvPr/>
        </p:nvSpPr>
        <p:spPr>
          <a:xfrm flipV="1">
            <a:off x="22320" y="4797000"/>
            <a:ext cx="12147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4" descr="566d0fdfcc3f257a6227981a"/>
          <p:cNvPicPr/>
          <p:nvPr/>
        </p:nvPicPr>
        <p:blipFill>
          <a:blip r:embed="rId1">
            <a:grayscl/>
          </a:blip>
          <a:srcRect l="11174" t="0" r="14587" b="0"/>
          <a:stretch/>
        </p:blipFill>
        <p:spPr>
          <a:xfrm>
            <a:off x="10507680" y="2600280"/>
            <a:ext cx="1541520" cy="20750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s4020970"/>
          <p:cNvPicPr/>
          <p:nvPr/>
        </p:nvPicPr>
        <p:blipFill>
          <a:blip r:embed="rId2">
            <a:grayscl/>
          </a:blip>
          <a:srcRect l="13297" t="0" r="12557" b="0"/>
          <a:stretch/>
        </p:blipFill>
        <p:spPr>
          <a:xfrm>
            <a:off x="3651120" y="2602080"/>
            <a:ext cx="1516320" cy="2043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10075183168489d16a"/>
          <p:cNvPicPr/>
          <p:nvPr/>
        </p:nvPicPr>
        <p:blipFill>
          <a:blip r:embed="rId3">
            <a:grayscl/>
          </a:blip>
          <a:srcRect l="0" t="6687" r="0" b="13833"/>
          <a:stretch/>
        </p:blipFill>
        <p:spPr>
          <a:xfrm>
            <a:off x="5330880" y="2602080"/>
            <a:ext cx="1536480" cy="20541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150630.31386750_500"/>
          <p:cNvPicPr/>
          <p:nvPr/>
        </p:nvPicPr>
        <p:blipFill>
          <a:blip r:embed="rId4">
            <a:grayscl/>
          </a:blip>
          <a:srcRect l="0" t="0" r="19351" b="0"/>
          <a:stretch/>
        </p:blipFill>
        <p:spPr>
          <a:xfrm>
            <a:off x="7051680" y="2604960"/>
            <a:ext cx="1549440" cy="2073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822469881949863477"/>
          <p:cNvPicPr/>
          <p:nvPr/>
        </p:nvPicPr>
        <p:blipFill>
          <a:blip r:embed="rId5">
            <a:grayscl/>
          </a:blip>
          <a:srcRect l="9541" t="0" r="15528" b="0"/>
          <a:stretch/>
        </p:blipFill>
        <p:spPr>
          <a:xfrm>
            <a:off x="179280" y="2579760"/>
            <a:ext cx="1581120" cy="20890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b_large_rMo5_05bf000053a21261"/>
          <p:cNvPicPr/>
          <p:nvPr/>
        </p:nvPicPr>
        <p:blipFill>
          <a:blip r:embed="rId6">
            <a:grayscl/>
          </a:blip>
          <a:srcRect l="15034" t="0" r="16958" b="0"/>
          <a:stretch/>
        </p:blipFill>
        <p:spPr>
          <a:xfrm>
            <a:off x="8796240" y="2595600"/>
            <a:ext cx="1506600" cy="20415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0" descr="s300_4631377a5ac87881ffff6e336ec7ca31"/>
          <p:cNvPicPr/>
          <p:nvPr/>
        </p:nvPicPr>
        <p:blipFill>
          <a:blip r:embed="rId7">
            <a:grayscl/>
          </a:blip>
          <a:srcRect l="27904" t="4006" r="0" b="0"/>
          <a:stretch/>
        </p:blipFill>
        <p:spPr>
          <a:xfrm>
            <a:off x="1936800" y="2631960"/>
            <a:ext cx="1501560" cy="20005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1"/>
          <p:cNvSpPr/>
          <p:nvPr/>
        </p:nvSpPr>
        <p:spPr>
          <a:xfrm>
            <a:off x="-4680" y="1157400"/>
            <a:ext cx="121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5.GREEN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12" descr="150630.31386750_500"/>
          <p:cNvPicPr/>
          <p:nvPr/>
        </p:nvPicPr>
        <p:blipFill>
          <a:blip r:embed="rId8"/>
          <a:srcRect l="0" t="0" r="19351" b="0"/>
          <a:stretch/>
        </p:blipFill>
        <p:spPr>
          <a:xfrm>
            <a:off x="7061040" y="2630520"/>
            <a:ext cx="1549440" cy="2073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-23760" y="-27000"/>
            <a:ext cx="12228480" cy="3305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3" descr="32[转换]"/>
          <p:cNvPicPr/>
          <p:nvPr/>
        </p:nvPicPr>
        <p:blipFill>
          <a:blip r:embed="rId1"/>
          <a:stretch/>
        </p:blipFill>
        <p:spPr>
          <a:xfrm>
            <a:off x="1085760" y="973080"/>
            <a:ext cx="2203560" cy="19368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4078440" y="44280"/>
            <a:ext cx="39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GREEN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789440" y="4052880"/>
            <a:ext cx="3495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ere comes the rain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falling from the st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drenched in my pain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ecoming who we 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as my memory r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but never forgets what I l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925920" y="3517920"/>
            <a:ext cx="34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ummer has come and 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The innocent can never 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like my fathers come to 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even years has gone so 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7" descr="3 3[转换]"/>
          <p:cNvPicPr/>
          <p:nvPr/>
        </p:nvPicPr>
        <p:blipFill>
          <a:blip r:embed="rId2"/>
          <a:stretch/>
        </p:blipFill>
        <p:spPr>
          <a:xfrm>
            <a:off x="5033880" y="987480"/>
            <a:ext cx="2176560" cy="19130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34[转换]"/>
          <p:cNvPicPr/>
          <p:nvPr/>
        </p:nvPicPr>
        <p:blipFill>
          <a:blip r:embed="rId3"/>
          <a:stretch/>
        </p:blipFill>
        <p:spPr>
          <a:xfrm>
            <a:off x="8840880" y="1000080"/>
            <a:ext cx="2219400" cy="19526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9"/>
          <p:cNvSpPr/>
          <p:nvPr/>
        </p:nvSpPr>
        <p:spPr>
          <a:xfrm>
            <a:off x="8566560" y="4068720"/>
            <a:ext cx="3443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ummer has come and 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the innocent can never 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ring out the bells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like we did when spring beg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4366440" y="338940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ake Me Up When September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purple fade"/>
          <p:cNvPicPr/>
          <p:nvPr/>
        </p:nvPicPr>
        <p:blipFill>
          <a:blip r:embed="rId2"/>
          <a:srcRect l="0" t="0" r="0" b="24484"/>
          <a:stretch/>
        </p:blipFill>
        <p:spPr>
          <a:xfrm>
            <a:off x="3400560" y="-2104920"/>
            <a:ext cx="5391000" cy="5189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purple fade"/>
          <p:cNvPicPr/>
          <p:nvPr/>
        </p:nvPicPr>
        <p:blipFill>
          <a:blip r:embed="rId3"/>
          <a:srcRect l="0" t="24484" r="0" b="0"/>
          <a:stretch/>
        </p:blipFill>
        <p:spPr>
          <a:xfrm>
            <a:off x="3395520" y="3100320"/>
            <a:ext cx="5391360" cy="519588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4"/>
          <p:cNvSpPr/>
          <p:nvPr/>
        </p:nvSpPr>
        <p:spPr>
          <a:xfrm>
            <a:off x="4527720" y="2560680"/>
            <a:ext cx="30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2944800" y="3089160"/>
            <a:ext cx="6302520" cy="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4538520" y="3200400"/>
            <a:ext cx="30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Calibri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5:56:48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