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608-431E-4ADC-ADC5-79EBD5B5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D58-F5D6-415F-B0CD-3DE71F5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869-1A21-4A9A-BF0F-1A005E7E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A97-A683-4F24-BA5C-2CC5B3DB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369-AF88-4000-8F21-2C8BFDE8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895-2656-43C8-ABBB-4C5E5B83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DAC-1BD4-4D60-A893-D54F33AB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D8B-9046-493A-8A62-4E11C964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283-09CF-4E04-8EB7-D16CCCC4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142-1D18-4906-8026-373C5D7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4B6-B8DE-4236-A9A9-E87A406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70A-4801-4C71-B3F8-7F999CB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BA62-FE40-42DB-BD01-B0AC6424A8A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147-292D-42D2-B2D2-247EBAC49C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605480" y="12733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721240" y="2425680"/>
            <a:ext cx="31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总结报告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44" name="media1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08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198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1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02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206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7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08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矩形 27"/>
          <p:cNvSpPr/>
          <p:nvPr/>
        </p:nvSpPr>
        <p:spPr>
          <a:xfrm>
            <a:off x="431100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12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879">
                                      <p:cBhvr>
                                        <p:cTn id="253" dur="1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2"/>
          <p:cNvSpPr/>
          <p:nvPr/>
        </p:nvSpPr>
        <p:spPr>
          <a:xfrm>
            <a:off x="4408200" y="26877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18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4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0" y="53211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6"/>
          <p:cNvSpPr/>
          <p:nvPr/>
        </p:nvSpPr>
        <p:spPr>
          <a:xfrm>
            <a:off x="291600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3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6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59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2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63" name="椭圆 10"/>
            <p:cNvSpPr/>
            <p:nvPr/>
          </p:nvSpPr>
          <p:spPr>
            <a:xfrm>
              <a:off x="7093080" y="1712880"/>
              <a:ext cx="50328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879">
                                      <p:cBhvr>
                                        <p:cTn id="67" dur="1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71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442-2796-46A0-955A-2B4C52A95A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55560" y="1490760"/>
            <a:ext cx="1886040" cy="266220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14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1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17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3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20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7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24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27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760" y="53211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79">
                                      <p:cBhvr>
                                        <p:cTn id="141" dur="1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16000" y="4873320"/>
            <a:ext cx="6789960" cy="720"/>
            <a:chOff x="1116000" y="4873320"/>
            <a:chExt cx="6789960" cy="720"/>
          </a:xfrm>
        </p:grpSpPr>
        <p:cxnSp>
          <p:nvCxnSpPr>
            <p:cNvPr id="143" name="直接箭头连接符 7"/>
            <p:cNvCxnSpPr/>
            <p:nvPr/>
          </p:nvCxnSpPr>
          <p:spPr>
            <a:xfrm>
              <a:off x="1116000" y="4873320"/>
              <a:ext cx="67903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144" name=""/>
            <p:cNvSpPr txBox="1"/>
            <p:nvPr/>
          </p:nvSpPr>
          <p:spPr>
            <a:xfrm>
              <a:off x="1116000" y="487332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267560" y="1416960"/>
            <a:ext cx="1080" cy="3608640"/>
            <a:chOff x="1267560" y="1416960"/>
            <a:chExt cx="1080" cy="3608640"/>
          </a:xfrm>
        </p:grpSpPr>
        <p:cxnSp>
          <p:nvCxnSpPr>
            <p:cNvPr id="146" name="直接箭头连接符 8"/>
            <p:cNvCxnSpPr/>
            <p:nvPr/>
          </p:nvCxnSpPr>
          <p:spPr>
            <a:xfrm flipV="1">
              <a:off x="1267920" y="1416960"/>
              <a:ext cx="1080" cy="36090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147" name=""/>
            <p:cNvSpPr txBox="1"/>
            <p:nvPr/>
          </p:nvSpPr>
          <p:spPr>
            <a:xfrm rot="10800000">
              <a:off x="1267560" y="1416960"/>
              <a:ext cx="360" cy="36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41724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FE5-9C4C-4A88-A4BD-05F58A3018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67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70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74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180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79">
                                      <p:cBhvr>
                                        <p:cTn id="188" dur="1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A80-5B97-4C09-8E33-A7DF061124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8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90" name="TextBox 4"/>
          <p:cNvSpPr/>
          <p:nvPr/>
        </p:nvSpPr>
        <p:spPr>
          <a:xfrm>
            <a:off x="708444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4:56:08Z</dcterms:modified>
  <cp:revision>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