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D82-9B04-4FAA-8DCC-C2CC5A8E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953B-DC70-4F02-BA3E-E925D801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828EE-6A1D-49EC-B74E-75115FFE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4B3B3-B520-4B25-B881-3C92FEF6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43BA2-C03F-4104-9834-D4677614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3A898-F62B-430A-9FC9-1FC3E17B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2C3C9-11FD-4CF8-B978-365353E1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E27CB-CB2C-4245-99CD-42DCAB6C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3BE9F-81C1-4C2C-AA65-9CCF759E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BD5D5-D7D7-46DF-8663-82D37E72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C698F-BF32-46CD-8793-4FA641BB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4F73B-4121-4CE0-8479-082B24C5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E8F6-40ED-4236-A838-E77B1480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51896-B613-446D-8B2D-34B7D5D4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DD9C0-146F-4570-92A0-56B1BA51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83F50-8D1B-4C95-A75A-D730152C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F65BA-042C-4A8E-9E8E-0F674B09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95EFE-737E-491A-B754-B883C099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7D77C-051E-4A3D-96F7-7964452E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F3E95-916C-4EE7-90D5-7BB36030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C3E07-A15F-42D4-8BDC-1C95CFFF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2E7B1-95BD-49E4-BC20-47819D99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22D42-AD49-45EC-A23B-37BDE3D9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C57-FDB9-446E-9A47-B628322D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01071-665D-4D47-89CF-6C4C7166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7F8CF-ACF7-48B3-A407-9D28318A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A5676-B59B-4F91-AEBC-5BFD8E75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B9261-C991-4030-95C0-A30B21E1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B67A6-1587-4FA4-B4E3-D35E868A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E9B74-F0CA-49DE-9CED-906831FC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FD7BA-917A-4578-8588-DB9AE37A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F8792-C746-4936-9868-086D331F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1E3AE-6418-4CB1-BB6F-7633C5EF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F3F94-3273-47F3-9630-B666A3D7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718B-9164-43C0-9656-4B75A945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5AB4F-ACF6-477F-9A29-44B2ED32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4B35D-CAD7-427D-8BDA-B1995BE8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9309A-5D43-4348-835C-4F727CB4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1ADF1-F196-4C83-A68C-DF2EF45F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E4052-A328-4451-87FC-47AC1982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7A5A3-AF8C-4920-84C2-6D5A1368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8BD60-92FE-4C39-829F-277606F2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0F305-B2BD-475E-AB0A-E8F5259B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E76D7-CCD7-4C23-B81D-CF5DDDAD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DD6F9-C17D-4FFD-A51A-9AE5B2DA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C52A-54F2-4C38-BF90-A09D698C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D7794-987A-4395-AC87-0F5532A2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01C63-775E-4753-87AB-506A608F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99350-8A97-40B1-A11C-AC000986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B2343-345C-404C-9FD3-716C448A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09EE0-42D1-4E79-A880-6A489DC5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DE19D-7A41-4127-8636-D978FFE3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AE776-9640-4467-BCB1-F51747B5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0AD5B-9105-42DB-8CAE-03F77D5F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324EC-1DD5-455B-9A79-05DBB615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5B6E8-7C22-43BE-8EB9-A3E6DB76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5B82-6DA9-4D21-8D9F-FC4B86CA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4A77E-8D8C-4103-9559-4D1D627E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8B9E7-B9D0-4EB4-BEAC-054D4059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B7C27-7426-45AD-900F-B680C1BB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B86C5-B70E-4BC8-BE6D-D626FE64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89C3CD-1955-47DC-8BA5-02B5B053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711D65-5E87-458E-B40C-3774FB79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AD79D-2DFB-4A81-833A-E7AA2745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E036-6C92-4807-99D4-23315487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50BE-0E78-4022-B996-CD935227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0B64-84D8-4D32-B4C6-DE80B8F8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2D2B-79E9-413B-BCFE-9C785DB7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045-EC42-49D2-83A0-9FEC19A8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B55D-D460-46CB-B769-D1F93297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7573-1BCD-4110-8B03-8640E19F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6E59-24A3-400E-9A9A-8909C148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7C6E-56E0-41C7-ADD2-EF2FB401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4056-2D0B-4B1B-A1D8-56D61A8F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BB208-B7AD-4197-9E0B-23329CED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8D1A2-5E32-44A6-8EA6-74B9CDB8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76E97-D349-4C50-BE6A-102F7AEF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A9A1C-3E14-48DE-81A1-5FCC9557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F2CD4-D311-4FB0-BF2F-E86AB14E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B4AC-5E8A-45CF-9ECE-67B4D7C8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DE45E-2414-4428-A921-A08539D9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92F6B-38F7-446D-8DD7-E0D0EF18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E5B58-A6DB-4FA2-A2DB-E7447CAA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517E6-0009-4EC4-B76C-34F8EE99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02505-9083-4CC0-AF97-A1ABDC72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AA2F6-AD18-4F1C-9833-0658BFB3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491C2-C7ED-4EFA-896D-2901E7B1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CB100-EA2D-48C5-9997-29A923B2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AEA0C-EF0C-4D2D-96A1-8B3D3D10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5492D-5748-46C6-8013-CFA1CF68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16C-B7C1-44AE-B63A-F040CE7B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0D309-A594-4592-A558-320CEDA4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DFAC7-19E7-450D-A4C3-7D9171B5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4E0ED-09FA-4AF2-AF0C-D708BB61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249A6-7642-4EEE-ADF3-C17DE27E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9F5B7-870B-4DA7-A25D-B1C8F0D5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CF1EE-6DF5-4BBC-BFE1-70360647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FC4BB-430E-4108-92FB-E672E21D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F6733-643F-4B56-9CB0-9A187E63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E11AC-8FA6-42D4-A356-9C29069A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B5617-D7F6-400E-9D48-1C74F366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8B6-5FA1-4E3E-9FE0-A240D82A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D6F45-7FA9-4EEB-BA5F-FE13D245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07631-827C-4C64-952E-D7C964C4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83DA9-C79E-485F-BFAE-BF4B2560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C6C44-66E6-4270-8EC8-F5910E60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A6045-25E8-4491-98F6-F2F46565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9812D-70C7-4A8F-B7EC-0F19B2C0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E1643-A90F-4D69-A7CA-B0B56E6E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EE0BE-48A2-4C7D-A419-FE206E7B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4FD71-D4C7-4504-A4A2-18BFE823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D56B2-9ABB-4F05-87B5-D7936D8A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1D7-467A-44D6-85F2-DBF53443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E8002-E5DF-46C6-97A9-C274A498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C1530-6376-443D-AFA8-E61C32E4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01CFC-40BE-4FDC-8C47-E4381942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0C29A-0BB5-4F68-A390-0B36A393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EF636-606D-4B28-B002-B418FBAF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AF6C0-635D-44D6-9EC4-B2442020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F3533-6764-4B7F-95D5-D6BA584F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2FEA4-8AD4-493D-9FEE-80615AD9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EE89E-2098-4E37-BFE5-1EFCDAD1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C85FF-4718-4D9E-9A54-66533490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3AC-4081-4B62-9576-1C0E727A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19578-BFC1-45FF-B244-EEF966A2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778FE-9868-412C-A297-BDE59449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8F059-146C-48AF-B5C2-0FD2244F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64BAD-0B60-4218-97D4-3C568712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CB6F9-4F19-465D-97CF-CB087F9C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0585C-282C-4F95-AB03-085A01DB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8FFFD-C75A-4A46-AA0F-D68ACDF9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DF53B-1F90-4B85-A7C7-677515EB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1D561-8ADB-40B3-A27C-58D9B098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88FD7-B40B-41E6-B41E-E8D39314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1DEE-9697-43C1-B54E-FFED59F6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C2081-C556-4332-871D-F90939D1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2DBA5-C8CD-4347-BA26-ED80176D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75870-3CE1-4A82-8531-5E769DB4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3DCC8-CF4C-4C3C-8A1E-2782A223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1F6C2-8EA5-4F28-8E76-10D2D9B2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E2E7B-C12E-4BA3-ABD6-2F77C9F8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66CDE-F0C8-4001-9AF1-F25F178F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FE062-BB09-4833-B299-FA5C5C29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30D6E-E1B3-45AD-BC8D-F9D06A38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D633D-315F-4226-9ECB-5E7F1D1C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CB3-6CC9-40A9-87FC-FC3345E8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941F8-4305-4542-954E-84450E53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D2DE4-CB36-44ED-8880-1C2A46CF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9FFC6-D6AD-4F1A-938B-ACC40013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5BA34-2E07-475B-B8F0-A47317AD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A282B-BE00-4404-AE24-DEEAEC63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349F9-D30C-432E-A04A-ABEB63AE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D08C5-5E02-4AF6-85CF-036A78AF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B6FEF-0726-40DE-BE6C-E2ABCED9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F73A8-4288-499A-A076-55FB1A96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A6F12-7293-4595-9F9A-E4F708C6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CED0-A901-4CD3-9BF5-DBDA398FEDD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DBDE-BB96-489F-B244-904EDC8FE0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F78C-751C-4EA7-95C2-CE2108DEF8D8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44B3-712F-442A-BF22-F08CD151C666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A763-D80F-4008-8F77-E3343D691FB1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7CF1-6FC8-4EA5-9325-24353E63F8A9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D2F2-B66B-4F6B-B934-6644D95B842A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485B-BD92-48FA-8F36-DCDE1D324702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4E24-7C40-4791-87E9-E63902389EEB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246F-A74B-4C63-80E4-E31F10EEC8D5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C07B-514A-4771-8285-D05B06DDDE77}" type="datetime">
              <a:rPr b="0" lang="zh-CN" sz="10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A2F5-6A5E-41A2-8B5F-6B85615D0F84}" type="slidenum">
              <a:rPr b="0" lang="zh-CN" sz="10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F30F-0890-460E-BE34-EF8BC5908742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E13D-B4E0-4983-8204-3B586AA5904C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7F6C-7117-4AD8-98DB-C60BC3794C42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C00D-D36B-44D0-9763-504804B0DDEB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6ACC-FA69-4D15-AE31-2263C551950E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882E-0AA0-4F6A-9119-5113670A70DC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EDAD-6A32-4B1A-B983-39C03E40D6A6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B1A1-DD25-4DDE-A9BF-B07B2E6F2291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46E0-C24D-44A4-949E-5B5A43121272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F7BB-9250-4437-A32C-F8BBCAEECB4B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9FF3-9809-4049-BDF3-29AA2B5158A6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7D65-5B97-4EE7-88C0-01989FBCD47C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A924-A5DF-4D6C-BDB1-BAC8F3ED1F92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D164-DCE4-470B-8275-93F7C339E1AD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6"/>
          <p:cNvSpPr/>
          <p:nvPr/>
        </p:nvSpPr>
        <p:spPr>
          <a:xfrm>
            <a:off x="1373400" y="1273320"/>
            <a:ext cx="6773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Franklin Gothic Medium"/>
              </a:rPr>
              <a:t>201</a:t>
            </a:r>
            <a:r>
              <a:rPr b="1" lang="zh-CN" sz="166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5</a:t>
            </a:r>
            <a:r>
              <a:rPr b="1" lang="zh-CN" sz="16600" spc="-1" strike="noStrike">
                <a:solidFill>
                  <a:srgbClr val="000000"/>
                </a:solidFill>
                <a:latin typeface="Franklin Gothic Medium"/>
              </a:rPr>
              <a:t>年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9"/>
          <p:cNvSpPr/>
          <p:nvPr/>
        </p:nvSpPr>
        <p:spPr>
          <a:xfrm>
            <a:off x="3772800" y="3794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Medium"/>
              </a:rPr>
              <a:t>年终总结报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4419720" y="4529160"/>
            <a:ext cx="873000" cy="1160280"/>
          </a:xfrm>
          <a:prstGeom prst="rect">
            <a:avLst/>
          </a:prstGeom>
          <a:ln w="0">
            <a:noFill/>
          </a:ln>
        </p:spPr>
      </p:pic>
      <p:pic>
        <p:nvPicPr>
          <p:cNvPr id="536" name="media1.wma" descr=""/>
          <p:cNvPicPr/>
          <p:nvPr/>
        </p:nvPicPr>
        <p:blipFill>
          <a:blip r:embed="rId2"/>
          <a:stretch/>
        </p:blipFill>
        <p:spPr>
          <a:xfrm>
            <a:off x="4130640" y="-8110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37" name="矩形 1"/>
          <p:cNvSpPr/>
          <p:nvPr/>
        </p:nvSpPr>
        <p:spPr>
          <a:xfrm>
            <a:off x="2511000" y="4460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总结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7"/>
          <p:cNvSpPr/>
          <p:nvPr/>
        </p:nvSpPr>
        <p:spPr>
          <a:xfrm>
            <a:off x="314280" y="5376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1">
                                  <p:stCondLst>
                                    <p:cond delay="22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5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61111E-006 3.21865E-006 C 0.00937 -0.00805 0.04514 -0.09629 0.05677 -0.09629 C 0.1302 -0.09629 0.18715 -0.03469 0.18715 0.09017 C 0.18715 0.02719 0.23316 -0.1035 0.26892 -0.1035 C 0.30659 -0.1035 0.3493 -0.01055 0.3493 0.05161 C 0.3493 0.02053 0.43038 -0.15178 0.4493 -0.15178 C 0.46823 -0.15178 0.56284 0.0147 0.56284 0.04661 E">
                                      <p:cBhvr>
                                        <p:cTn id="40" dur="2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矩形 3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圆角矩形 4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圆角矩形 5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圆角矩形 6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圆角矩形 7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7"/>
          <p:cNvGrpSpPr/>
          <p:nvPr/>
        </p:nvGrpSpPr>
        <p:grpSpPr>
          <a:xfrm>
            <a:off x="1994040" y="3132000"/>
            <a:ext cx="502920" cy="642600"/>
            <a:chOff x="1994040" y="3132000"/>
            <a:chExt cx="502920" cy="642600"/>
          </a:xfrm>
        </p:grpSpPr>
        <p:sp>
          <p:nvSpPr>
            <p:cNvPr id="688" name="椭圆 12"/>
            <p:cNvSpPr/>
            <p:nvPr/>
          </p:nvSpPr>
          <p:spPr>
            <a:xfrm>
              <a:off x="1994040" y="323784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矩形 13"/>
            <p:cNvSpPr/>
            <p:nvPr/>
          </p:nvSpPr>
          <p:spPr>
            <a:xfrm>
              <a:off x="20239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矩形 17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11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692" name="椭圆 19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矩形 20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矩形 21"/>
          <p:cNvSpPr/>
          <p:nvPr/>
        </p:nvSpPr>
        <p:spPr>
          <a:xfrm>
            <a:off x="429516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301680" y="3936960"/>
            <a:ext cx="1422360" cy="1911240"/>
          </a:xfrm>
          <a:prstGeom prst="rect">
            <a:avLst/>
          </a:prstGeom>
          <a:ln w="0">
            <a:noFill/>
          </a:ln>
        </p:spPr>
      </p:pic>
      <p:sp>
        <p:nvSpPr>
          <p:cNvPr id="696" name="矩形 23"/>
          <p:cNvSpPr/>
          <p:nvPr/>
        </p:nvSpPr>
        <p:spPr>
          <a:xfrm>
            <a:off x="4301640" y="3198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7"/>
          <p:cNvGrpSpPr/>
          <p:nvPr/>
        </p:nvGrpSpPr>
        <p:grpSpPr>
          <a:xfrm>
            <a:off x="1994040" y="2355840"/>
            <a:ext cx="502920" cy="642600"/>
            <a:chOff x="1994040" y="2355840"/>
            <a:chExt cx="502920" cy="642600"/>
          </a:xfrm>
        </p:grpSpPr>
        <p:sp>
          <p:nvSpPr>
            <p:cNvPr id="698" name="椭圆 25"/>
            <p:cNvSpPr/>
            <p:nvPr/>
          </p:nvSpPr>
          <p:spPr>
            <a:xfrm>
              <a:off x="1994040" y="24616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矩形 26"/>
            <p:cNvSpPr/>
            <p:nvPr/>
          </p:nvSpPr>
          <p:spPr>
            <a:xfrm>
              <a:off x="2023920" y="2355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矩形 27"/>
          <p:cNvSpPr/>
          <p:nvPr/>
        </p:nvSpPr>
        <p:spPr>
          <a:xfrm>
            <a:off x="4311000" y="3917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展望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21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702" name="椭圆 15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矩形 16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245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46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48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4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51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-43199941">
                                      <p:cBhvr>
                                        <p:cTn id="253" dur="175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255" dur="15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75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矩形 2"/>
          <p:cNvSpPr/>
          <p:nvPr/>
        </p:nvSpPr>
        <p:spPr>
          <a:xfrm>
            <a:off x="4408200" y="2687760"/>
            <a:ext cx="28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xiazai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4"/>
          <p:cNvSpPr/>
          <p:nvPr/>
        </p:nvSpPr>
        <p:spPr>
          <a:xfrm>
            <a:off x="3276720" y="712800"/>
            <a:ext cx="5543280" cy="4808520"/>
          </a:xfrm>
          <a:prstGeom prst="rect">
            <a:avLst/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" descr=""/>
          <p:cNvPicPr/>
          <p:nvPr/>
        </p:nvPicPr>
        <p:blipFill>
          <a:blip r:embed="rId1"/>
          <a:stretch/>
        </p:blipFill>
        <p:spPr>
          <a:xfrm>
            <a:off x="345960" y="1346040"/>
            <a:ext cx="2714760" cy="23767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-2697120" y="1308240"/>
            <a:ext cx="2706480" cy="3638520"/>
          </a:xfrm>
          <a:prstGeom prst="rect">
            <a:avLst/>
          </a:prstGeom>
          <a:ln w="0">
            <a:noFill/>
          </a:ln>
        </p:spPr>
      </p:pic>
      <p:sp>
        <p:nvSpPr>
          <p:cNvPr id="708" name="矩形 8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展望未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10"/>
          <p:cNvSpPr/>
          <p:nvPr/>
        </p:nvSpPr>
        <p:spPr>
          <a:xfrm>
            <a:off x="4230720" y="841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</a:rPr>
              <a:t>在新的一年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直接连接符 15"/>
          <p:cNvSpPr/>
          <p:nvPr/>
        </p:nvSpPr>
        <p:spPr>
          <a:xfrm>
            <a:off x="3564000" y="4441680"/>
            <a:ext cx="482436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直接连接符 16"/>
          <p:cNvSpPr/>
          <p:nvPr/>
        </p:nvSpPr>
        <p:spPr>
          <a:xfrm>
            <a:off x="3564000" y="4865760"/>
            <a:ext cx="482436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直接连接符 17"/>
          <p:cNvSpPr/>
          <p:nvPr/>
        </p:nvSpPr>
        <p:spPr>
          <a:xfrm>
            <a:off x="3564000" y="5289480"/>
            <a:ext cx="482436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2" descr=""/>
          <p:cNvPicPr/>
          <p:nvPr/>
        </p:nvPicPr>
        <p:blipFill>
          <a:blip r:embed="rId3"/>
          <a:stretch/>
        </p:blipFill>
        <p:spPr>
          <a:xfrm>
            <a:off x="3564000" y="1488960"/>
            <a:ext cx="4824360" cy="270504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7" descr=""/>
          <p:cNvPicPr/>
          <p:nvPr/>
        </p:nvPicPr>
        <p:blipFill>
          <a:blip r:embed="rId4"/>
          <a:srcRect l="40465" t="12309" r="40465" b="47080"/>
          <a:stretch/>
        </p:blipFill>
        <p:spPr>
          <a:xfrm>
            <a:off x="755640" y="2098800"/>
            <a:ext cx="2709720" cy="3638520"/>
          </a:xfrm>
          <a:prstGeom prst="rect">
            <a:avLst/>
          </a:prstGeom>
          <a:ln w="0">
            <a:noFill/>
          </a:ln>
        </p:spPr>
      </p:pic>
      <p:sp>
        <p:nvSpPr>
          <p:cNvPr id="715" name="矩形 31"/>
          <p:cNvSpPr/>
          <p:nvPr/>
        </p:nvSpPr>
        <p:spPr>
          <a:xfrm>
            <a:off x="1364040" y="37940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2 0.00333 L 0.37778 0.13861 E">
                                      <p:cBhvr>
                                        <p:cTn id="264" dur="1000" fill="hold"/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1" dur="1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32">
                                  <p:stCondLst>
                                    <p:cond delay="250"/>
                                  </p:stCondLst>
                                  <p:childTnLst>
                                    <p:animRot by="120000">
                                      <p:cBhvr>
                                        <p:cTn id="274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75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6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77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8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4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80" dur="20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>
                                  <p:stCondLst>
                                    <p:cond delay="1750"/>
                                  </p:stCondLst>
                                  <p:childTnLst>
                                    <p:animRot by="21600000">
                                      <p:cBhvr>
                                        <p:cTn id="28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矩形 6"/>
          <p:cNvSpPr/>
          <p:nvPr/>
        </p:nvSpPr>
        <p:spPr>
          <a:xfrm>
            <a:off x="2916000" y="1488960"/>
            <a:ext cx="36860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Franklin Gothic Medium"/>
              </a:rPr>
              <a:t>谢谢大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3" descr=""/>
          <p:cNvPicPr/>
          <p:nvPr/>
        </p:nvPicPr>
        <p:blipFill>
          <a:blip r:embed="rId1"/>
          <a:stretch/>
        </p:blipFill>
        <p:spPr>
          <a:xfrm>
            <a:off x="3851280" y="3433680"/>
            <a:ext cx="1809720" cy="1584360"/>
          </a:xfrm>
          <a:prstGeom prst="rect">
            <a:avLst/>
          </a:prstGeom>
          <a:ln w="0">
            <a:noFill/>
          </a:ln>
        </p:spPr>
      </p:pic>
      <p:sp>
        <p:nvSpPr>
          <p:cNvPr id="718" name="Text Box 4"/>
          <p:cNvSpPr/>
          <p:nvPr/>
        </p:nvSpPr>
        <p:spPr>
          <a:xfrm>
            <a:off x="1079640" y="516240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-1100160" y="3784680"/>
            <a:ext cx="871560" cy="1160280"/>
          </a:xfrm>
          <a:prstGeom prst="rect">
            <a:avLst/>
          </a:prstGeom>
          <a:ln w="0">
            <a:noFill/>
          </a:ln>
        </p:spPr>
      </p:pic>
      <p:sp>
        <p:nvSpPr>
          <p:cNvPr id="540" name="矩形 4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5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圆角矩形 7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8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9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8"/>
          <p:cNvGrpSpPr/>
          <p:nvPr/>
        </p:nvGrpSpPr>
        <p:grpSpPr>
          <a:xfrm>
            <a:off x="7081920" y="2352600"/>
            <a:ext cx="504720" cy="642600"/>
            <a:chOff x="7081920" y="2352600"/>
            <a:chExt cx="504720" cy="642600"/>
          </a:xfrm>
        </p:grpSpPr>
        <p:sp>
          <p:nvSpPr>
            <p:cNvPr id="546" name="椭圆 14"/>
            <p:cNvSpPr/>
            <p:nvPr/>
          </p:nvSpPr>
          <p:spPr>
            <a:xfrm>
              <a:off x="7081920" y="2458800"/>
              <a:ext cx="504720" cy="505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15"/>
            <p:cNvSpPr/>
            <p:nvPr/>
          </p:nvSpPr>
          <p:spPr>
            <a:xfrm>
              <a:off x="7112880" y="2352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1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549" name="椭圆 17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18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14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552" name="椭圆 20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21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矩形 12"/>
          <p:cNvSpPr/>
          <p:nvPr/>
        </p:nvSpPr>
        <p:spPr>
          <a:xfrm>
            <a:off x="429516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18"/>
          <p:cNvGrpSpPr/>
          <p:nvPr/>
        </p:nvGrpSpPr>
        <p:grpSpPr>
          <a:xfrm>
            <a:off x="7093080" y="1606680"/>
            <a:ext cx="503280" cy="642600"/>
            <a:chOff x="7093080" y="1606680"/>
            <a:chExt cx="503280" cy="642600"/>
          </a:xfrm>
        </p:grpSpPr>
        <p:sp>
          <p:nvSpPr>
            <p:cNvPr id="556" name="椭圆 10"/>
            <p:cNvSpPr/>
            <p:nvPr/>
          </p:nvSpPr>
          <p:spPr>
            <a:xfrm>
              <a:off x="7093080" y="1712880"/>
              <a:ext cx="503280" cy="504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6"/>
            <p:cNvSpPr/>
            <p:nvPr/>
          </p:nvSpPr>
          <p:spPr>
            <a:xfrm>
              <a:off x="7123320" y="1606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8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324000" y="4433760"/>
            <a:ext cx="871560" cy="11606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3"/>
          <a:srcRect l="40465" t="12309" r="40465" b="47080"/>
          <a:stretch/>
        </p:blipFill>
        <p:spPr>
          <a:xfrm>
            <a:off x="4211640" y="833400"/>
            <a:ext cx="873000" cy="116064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596E-006 L 0.15573 0.11432 E">
                                      <p:cBhvr>
                                        <p:cTn id="46" dur="8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4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8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43199941">
                                      <p:cBhvr>
                                        <p:cTn id="67" dur="175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35">
                                  <p:stCondLst>
                                    <p:cond delay="2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69" dur="15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7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42">
                                  <p:stCondLst>
                                    <p:cond delay="4250"/>
                                  </p:stCondLst>
                                  <p:childTnLst>
                                    <p:animMotion origin="layout" path="M -0.00035 0.00083 L 0.42482 -0.62847 E">
                                      <p:cBhvr>
                                        <p:cTn id="74" dur="8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1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矩形 5"/>
          <p:cNvSpPr/>
          <p:nvPr/>
        </p:nvSpPr>
        <p:spPr>
          <a:xfrm>
            <a:off x="-320760" y="912960"/>
            <a:ext cx="10150560" cy="410508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4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6"/>
          <p:cNvSpPr/>
          <p:nvPr/>
        </p:nvSpPr>
        <p:spPr>
          <a:xfrm>
            <a:off x="539640" y="1128600"/>
            <a:ext cx="5977080" cy="370836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4" descr=""/>
          <p:cNvPicPr/>
          <p:nvPr/>
        </p:nvPicPr>
        <p:blipFill>
          <a:blip r:embed="rId1"/>
          <a:stretch/>
        </p:blipFill>
        <p:spPr>
          <a:xfrm>
            <a:off x="6877080" y="3330720"/>
            <a:ext cx="1828800" cy="1368360"/>
          </a:xfrm>
          <a:prstGeom prst="rect">
            <a:avLst/>
          </a:prstGeom>
          <a:ln w="0">
            <a:noFill/>
          </a:ln>
        </p:spPr>
      </p:pic>
      <p:sp>
        <p:nvSpPr>
          <p:cNvPr id="564" name="矩形 8"/>
          <p:cNvSpPr/>
          <p:nvPr/>
        </p:nvSpPr>
        <p:spPr>
          <a:xfrm>
            <a:off x="906840" y="1254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</a:rPr>
              <a:t>上半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1"/>
          <p:cNvSpPr/>
          <p:nvPr/>
        </p:nvSpPr>
        <p:spPr>
          <a:xfrm>
            <a:off x="755640" y="218448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直接连接符 15"/>
          <p:cNvSpPr/>
          <p:nvPr/>
        </p:nvSpPr>
        <p:spPr>
          <a:xfrm>
            <a:off x="755640" y="2608200"/>
            <a:ext cx="540072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直接连接符 16"/>
          <p:cNvSpPr/>
          <p:nvPr/>
        </p:nvSpPr>
        <p:spPr>
          <a:xfrm>
            <a:off x="755640" y="3032280"/>
            <a:ext cx="540072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直接连接符 17"/>
          <p:cNvSpPr/>
          <p:nvPr/>
        </p:nvSpPr>
        <p:spPr>
          <a:xfrm>
            <a:off x="755640" y="345744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18"/>
          <p:cNvSpPr/>
          <p:nvPr/>
        </p:nvSpPr>
        <p:spPr>
          <a:xfrm>
            <a:off x="755640" y="388152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直接连接符 19"/>
          <p:cNvSpPr/>
          <p:nvPr/>
        </p:nvSpPr>
        <p:spPr>
          <a:xfrm>
            <a:off x="755640" y="430524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直接连接符 20"/>
          <p:cNvSpPr/>
          <p:nvPr/>
        </p:nvSpPr>
        <p:spPr>
          <a:xfrm>
            <a:off x="755640" y="4729320"/>
            <a:ext cx="540072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4233960" y="4586400"/>
            <a:ext cx="873000" cy="116028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2"/>
          <p:cNvSpPr/>
          <p:nvPr/>
        </p:nvSpPr>
        <p:spPr>
          <a:xfrm>
            <a:off x="945000" y="178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2"/>
          <p:cNvSpPr/>
          <p:nvPr/>
        </p:nvSpPr>
        <p:spPr>
          <a:xfrm>
            <a:off x="945000" y="221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3"/>
          <p:cNvSpPr/>
          <p:nvPr/>
        </p:nvSpPr>
        <p:spPr>
          <a:xfrm>
            <a:off x="945000" y="2637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4"/>
          <p:cNvSpPr/>
          <p:nvPr/>
        </p:nvSpPr>
        <p:spPr>
          <a:xfrm>
            <a:off x="945000" y="3060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25"/>
          <p:cNvSpPr/>
          <p:nvPr/>
        </p:nvSpPr>
        <p:spPr>
          <a:xfrm>
            <a:off x="945000" y="348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26"/>
          <p:cNvSpPr/>
          <p:nvPr/>
        </p:nvSpPr>
        <p:spPr>
          <a:xfrm>
            <a:off x="945000" y="390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27"/>
          <p:cNvSpPr/>
          <p:nvPr/>
        </p:nvSpPr>
        <p:spPr>
          <a:xfrm>
            <a:off x="991440" y="4334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绅士猫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6" dur="2" fill="hold">
                                          <p:stCondLst>
                                            <p:cond delay="197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" dur="2" fill="hold">
                                          <p:stCondLst>
                                            <p:cond delay="39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8" dur="2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9" dur="2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DF85-4E3D-447B-B71E-5545B073B9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655560" y="1490760"/>
            <a:ext cx="1886040" cy="2662200"/>
          </a:xfrm>
          <a:prstGeom prst="rect">
            <a:avLst/>
          </a:prstGeom>
          <a:ln w="0">
            <a:noFill/>
          </a:ln>
        </p:spPr>
      </p:pic>
      <p:sp>
        <p:nvSpPr>
          <p:cNvPr id="582" name="矩形 4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5"/>
          <p:cNvSpPr/>
          <p:nvPr/>
        </p:nvSpPr>
        <p:spPr>
          <a:xfrm>
            <a:off x="2843280" y="-595440"/>
            <a:ext cx="5761080" cy="734220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900000" y="4586400"/>
            <a:ext cx="871560" cy="1160280"/>
          </a:xfrm>
          <a:prstGeom prst="rect">
            <a:avLst/>
          </a:prstGeom>
          <a:ln w="0">
            <a:noFill/>
          </a:ln>
        </p:spPr>
      </p:pic>
      <p:sp>
        <p:nvSpPr>
          <p:cNvPr id="585" name="矩形 7"/>
          <p:cNvSpPr/>
          <p:nvPr/>
        </p:nvSpPr>
        <p:spPr>
          <a:xfrm>
            <a:off x="2987640" y="1128600"/>
            <a:ext cx="5400720" cy="370836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8"/>
          <p:cNvSpPr/>
          <p:nvPr/>
        </p:nvSpPr>
        <p:spPr>
          <a:xfrm>
            <a:off x="3156120" y="12542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</a:rPr>
              <a:t>下半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9"/>
          <p:cNvSpPr/>
          <p:nvPr/>
        </p:nvSpPr>
        <p:spPr>
          <a:xfrm>
            <a:off x="3203640" y="218448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10"/>
          <p:cNvSpPr/>
          <p:nvPr/>
        </p:nvSpPr>
        <p:spPr>
          <a:xfrm>
            <a:off x="3203640" y="2608200"/>
            <a:ext cx="487980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直接连接符 11"/>
          <p:cNvSpPr/>
          <p:nvPr/>
        </p:nvSpPr>
        <p:spPr>
          <a:xfrm>
            <a:off x="3203640" y="3032280"/>
            <a:ext cx="487980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直接连接符 12"/>
          <p:cNvSpPr/>
          <p:nvPr/>
        </p:nvSpPr>
        <p:spPr>
          <a:xfrm>
            <a:off x="3203640" y="345744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直接连接符 13"/>
          <p:cNvSpPr/>
          <p:nvPr/>
        </p:nvSpPr>
        <p:spPr>
          <a:xfrm>
            <a:off x="3203640" y="388152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直接连接符 14"/>
          <p:cNvSpPr/>
          <p:nvPr/>
        </p:nvSpPr>
        <p:spPr>
          <a:xfrm>
            <a:off x="3203640" y="430524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15"/>
          <p:cNvSpPr/>
          <p:nvPr/>
        </p:nvSpPr>
        <p:spPr>
          <a:xfrm>
            <a:off x="3203640" y="4729320"/>
            <a:ext cx="487980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16"/>
          <p:cNvSpPr/>
          <p:nvPr/>
        </p:nvSpPr>
        <p:spPr>
          <a:xfrm>
            <a:off x="3203640" y="178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17"/>
          <p:cNvSpPr/>
          <p:nvPr/>
        </p:nvSpPr>
        <p:spPr>
          <a:xfrm>
            <a:off x="3203640" y="2211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18"/>
          <p:cNvSpPr/>
          <p:nvPr/>
        </p:nvSpPr>
        <p:spPr>
          <a:xfrm>
            <a:off x="3203640" y="2637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19"/>
          <p:cNvSpPr/>
          <p:nvPr/>
        </p:nvSpPr>
        <p:spPr>
          <a:xfrm>
            <a:off x="3203640" y="3060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20"/>
          <p:cNvSpPr/>
          <p:nvPr/>
        </p:nvSpPr>
        <p:spPr>
          <a:xfrm>
            <a:off x="3203640" y="3484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21"/>
          <p:cNvSpPr/>
          <p:nvPr/>
        </p:nvSpPr>
        <p:spPr>
          <a:xfrm>
            <a:off x="3203640" y="3908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22"/>
          <p:cNvSpPr/>
          <p:nvPr/>
        </p:nvSpPr>
        <p:spPr>
          <a:xfrm>
            <a:off x="3203640" y="43340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绅士猫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3"/>
          <p:cNvSpPr/>
          <p:nvPr/>
        </p:nvSpPr>
        <p:spPr>
          <a:xfrm>
            <a:off x="144360" y="512604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16" dur="2" fill="hold">
                                          <p:stCondLst>
                                            <p:cond delay="197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" fill="hold">
                                          <p:stCondLst>
                                            <p:cond delay="39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18" dur="2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矩形 4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圆角矩形 5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圆角矩形 6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圆角矩形 7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圆角矩形 8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Group 7"/>
          <p:cNvGrpSpPr/>
          <p:nvPr/>
        </p:nvGrpSpPr>
        <p:grpSpPr>
          <a:xfrm>
            <a:off x="7081920" y="2352600"/>
            <a:ext cx="504720" cy="642600"/>
            <a:chOff x="7081920" y="2352600"/>
            <a:chExt cx="504720" cy="642600"/>
          </a:xfrm>
        </p:grpSpPr>
        <p:sp>
          <p:nvSpPr>
            <p:cNvPr id="608" name="椭圆 10"/>
            <p:cNvSpPr/>
            <p:nvPr/>
          </p:nvSpPr>
          <p:spPr>
            <a:xfrm>
              <a:off x="7081920" y="2458800"/>
              <a:ext cx="504720" cy="505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矩形 11"/>
            <p:cNvSpPr/>
            <p:nvPr/>
          </p:nvSpPr>
          <p:spPr>
            <a:xfrm>
              <a:off x="7112880" y="2352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10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611" name="椭圆 13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14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13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614" name="椭圆 16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矩形 17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矩形 18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17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618" name="椭圆 25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矩形 26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矩形 27"/>
          <p:cNvSpPr/>
          <p:nvPr/>
        </p:nvSpPr>
        <p:spPr>
          <a:xfrm>
            <a:off x="429516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7791480" y="4554360"/>
            <a:ext cx="842760" cy="116064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35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36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38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43199941">
                                      <p:cBhvr>
                                        <p:cTn id="141" dur="175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143" dur="15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75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矩形 35"/>
          <p:cNvSpPr/>
          <p:nvPr/>
        </p:nvSpPr>
        <p:spPr>
          <a:xfrm>
            <a:off x="6372360" y="1201680"/>
            <a:ext cx="1079280" cy="503280"/>
          </a:xfrm>
          <a:prstGeom prst="rect">
            <a:avLst/>
          </a:prstGeom>
          <a:solidFill>
            <a:srgbClr val="3f3f3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直接连接符 30"/>
          <p:cNvSpPr/>
          <p:nvPr/>
        </p:nvSpPr>
        <p:spPr>
          <a:xfrm>
            <a:off x="1332000" y="3936960"/>
            <a:ext cx="6191280" cy="180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直接连接符 29"/>
          <p:cNvSpPr/>
          <p:nvPr/>
        </p:nvSpPr>
        <p:spPr>
          <a:xfrm>
            <a:off x="1317600" y="3073320"/>
            <a:ext cx="6192720" cy="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直接连接符 28"/>
          <p:cNvSpPr/>
          <p:nvPr/>
        </p:nvSpPr>
        <p:spPr>
          <a:xfrm>
            <a:off x="1260360" y="2235240"/>
            <a:ext cx="6191280" cy="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16"/>
          <p:cNvSpPr/>
          <p:nvPr/>
        </p:nvSpPr>
        <p:spPr>
          <a:xfrm>
            <a:off x="2195640" y="3505320"/>
            <a:ext cx="360360" cy="1368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7"/>
          <p:cNvSpPr/>
          <p:nvPr/>
        </p:nvSpPr>
        <p:spPr>
          <a:xfrm>
            <a:off x="3587760" y="2496960"/>
            <a:ext cx="360360" cy="2376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8"/>
          <p:cNvSpPr/>
          <p:nvPr/>
        </p:nvSpPr>
        <p:spPr>
          <a:xfrm>
            <a:off x="4979880" y="3222720"/>
            <a:ext cx="360360" cy="16462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19"/>
          <p:cNvSpPr/>
          <p:nvPr/>
        </p:nvSpPr>
        <p:spPr>
          <a:xfrm>
            <a:off x="6372360" y="3686040"/>
            <a:ext cx="360360" cy="1187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11"/>
          <p:cNvSpPr/>
          <p:nvPr/>
        </p:nvSpPr>
        <p:spPr>
          <a:xfrm>
            <a:off x="1835280" y="2928960"/>
            <a:ext cx="360360" cy="19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12"/>
          <p:cNvSpPr/>
          <p:nvPr/>
        </p:nvSpPr>
        <p:spPr>
          <a:xfrm>
            <a:off x="3227400" y="2136600"/>
            <a:ext cx="360360" cy="27370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3"/>
          <p:cNvSpPr/>
          <p:nvPr/>
        </p:nvSpPr>
        <p:spPr>
          <a:xfrm>
            <a:off x="4619520" y="2786040"/>
            <a:ext cx="360360" cy="2087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14"/>
          <p:cNvSpPr/>
          <p:nvPr/>
        </p:nvSpPr>
        <p:spPr>
          <a:xfrm>
            <a:off x="6012000" y="2928960"/>
            <a:ext cx="360360" cy="19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5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团队成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5" name="直接箭头连接符 7"/>
          <p:cNvCxnSpPr/>
          <p:nvPr/>
        </p:nvCxnSpPr>
        <p:spPr>
          <a:xfrm>
            <a:off x="1116000" y="4873320"/>
            <a:ext cx="6790320" cy="108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  <a:tailEnd len="med" type="arrow" w="med"/>
          </a:ln>
        </p:spPr>
      </p:cxnSp>
      <p:cxnSp>
        <p:nvCxnSpPr>
          <p:cNvPr id="636" name="直接箭头连接符 8"/>
          <p:cNvCxnSpPr/>
          <p:nvPr/>
        </p:nvCxnSpPr>
        <p:spPr>
          <a:xfrm flipV="1">
            <a:off x="1267920" y="1416960"/>
            <a:ext cx="1080" cy="360900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  <a:tailEnd len="med" type="arrow" w="med"/>
          </a:ln>
        </p:spPr>
      </p:cxnSp>
      <p:pic>
        <p:nvPicPr>
          <p:cNvPr id="637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779148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638" name="TextBox 20"/>
          <p:cNvSpPr/>
          <p:nvPr/>
        </p:nvSpPr>
        <p:spPr>
          <a:xfrm>
            <a:off x="1993680" y="4946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21"/>
          <p:cNvSpPr/>
          <p:nvPr/>
        </p:nvSpPr>
        <p:spPr>
          <a:xfrm>
            <a:off x="325008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第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22"/>
          <p:cNvSpPr/>
          <p:nvPr/>
        </p:nvSpPr>
        <p:spPr>
          <a:xfrm>
            <a:off x="466596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第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23"/>
          <p:cNvSpPr/>
          <p:nvPr/>
        </p:nvSpPr>
        <p:spPr>
          <a:xfrm>
            <a:off x="608220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第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24"/>
          <p:cNvSpPr/>
          <p:nvPr/>
        </p:nvSpPr>
        <p:spPr>
          <a:xfrm>
            <a:off x="417240" y="29242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</a:rPr>
              <a:t>10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25"/>
          <p:cNvSpPr/>
          <p:nvPr/>
        </p:nvSpPr>
        <p:spPr>
          <a:xfrm>
            <a:off x="481680" y="37846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</a:rPr>
              <a:t>5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26"/>
          <p:cNvSpPr/>
          <p:nvPr/>
        </p:nvSpPr>
        <p:spPr>
          <a:xfrm>
            <a:off x="417240" y="206532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</a:rPr>
              <a:t>15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31"/>
          <p:cNvSpPr/>
          <p:nvPr/>
        </p:nvSpPr>
        <p:spPr>
          <a:xfrm flipV="1">
            <a:off x="6492960" y="1488960"/>
            <a:ext cx="162000" cy="1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32"/>
          <p:cNvSpPr/>
          <p:nvPr/>
        </p:nvSpPr>
        <p:spPr>
          <a:xfrm flipV="1">
            <a:off x="6492960" y="1272600"/>
            <a:ext cx="16200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33"/>
          <p:cNvSpPr/>
          <p:nvPr/>
        </p:nvSpPr>
        <p:spPr>
          <a:xfrm>
            <a:off x="6778440" y="1201680"/>
            <a:ext cx="5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Franklin Gothic Medium"/>
              </a:rPr>
              <a:t>产品</a:t>
            </a:r>
            <a:r>
              <a:rPr b="0" lang="en-US" sz="1400" spc="-1" strike="noStrike">
                <a:solidFill>
                  <a:srgbClr val="f2f2f2"/>
                </a:solidFill>
                <a:latin typeface="Franklin Gothic Medium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34"/>
          <p:cNvSpPr/>
          <p:nvPr/>
        </p:nvSpPr>
        <p:spPr>
          <a:xfrm>
            <a:off x="6777720" y="141768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Franklin Gothic Medium"/>
              </a:rPr>
              <a:t>产品</a:t>
            </a:r>
            <a:r>
              <a:rPr b="0" lang="en-US" sz="1400" spc="-1" strike="noStrike">
                <a:solidFill>
                  <a:srgbClr val="f2f2f2"/>
                </a:solidFill>
                <a:latin typeface="Franklin Gothic Medium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62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63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65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27E5-CD60-4C07-A377-B41AE40CD7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3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圆角矩形 4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圆角矩形 5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圆角矩形 6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圆角矩形 7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7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656" name="椭圆 12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矩形 13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10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659" name="椭圆 15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16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矩形 17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14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663" name="椭圆 19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矩形 20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矩形 21"/>
          <p:cNvSpPr/>
          <p:nvPr/>
        </p:nvSpPr>
        <p:spPr>
          <a:xfrm>
            <a:off x="429516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779148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667" name="矩形 23"/>
          <p:cNvSpPr/>
          <p:nvPr/>
        </p:nvSpPr>
        <p:spPr>
          <a:xfrm>
            <a:off x="4301640" y="3198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20"/>
          <p:cNvGrpSpPr/>
          <p:nvPr/>
        </p:nvGrpSpPr>
        <p:grpSpPr>
          <a:xfrm>
            <a:off x="1994040" y="2355840"/>
            <a:ext cx="502920" cy="642600"/>
            <a:chOff x="1994040" y="2355840"/>
            <a:chExt cx="502920" cy="642600"/>
          </a:xfrm>
        </p:grpSpPr>
        <p:sp>
          <p:nvSpPr>
            <p:cNvPr id="669" name="椭圆 25"/>
            <p:cNvSpPr/>
            <p:nvPr/>
          </p:nvSpPr>
          <p:spPr>
            <a:xfrm>
              <a:off x="1994040" y="24616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矩形 26"/>
            <p:cNvSpPr/>
            <p:nvPr/>
          </p:nvSpPr>
          <p:spPr>
            <a:xfrm>
              <a:off x="2023920" y="2355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82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83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85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43199941">
                                      <p:cBhvr>
                                        <p:cTn id="188" dur="175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190" dur="15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75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52360" y="156960"/>
            <a:ext cx="68392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52480" y="1058400"/>
            <a:ext cx="74390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6834240" y="277920"/>
            <a:ext cx="115740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"/>
          <p:cNvPicPr/>
          <p:nvPr/>
        </p:nvPicPr>
        <p:blipFill>
          <a:blip r:embed="rId1"/>
          <a:stretch/>
        </p:blipFill>
        <p:spPr>
          <a:xfrm rot="20470800">
            <a:off x="860400" y="1272960"/>
            <a:ext cx="2987640" cy="2484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75" name="Picture 3" descr=""/>
          <p:cNvPicPr/>
          <p:nvPr/>
        </p:nvPicPr>
        <p:blipFill>
          <a:blip r:embed="rId2"/>
          <a:stretch/>
        </p:blipFill>
        <p:spPr>
          <a:xfrm rot="2253600">
            <a:off x="5073480" y="1125000"/>
            <a:ext cx="3121200" cy="1997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76" name="Picture 4" descr=""/>
          <p:cNvPicPr/>
          <p:nvPr/>
        </p:nvPicPr>
        <p:blipFill>
          <a:blip r:embed="rId3"/>
          <a:stretch/>
        </p:blipFill>
        <p:spPr>
          <a:xfrm rot="19870800">
            <a:off x="3790440" y="2730600"/>
            <a:ext cx="312120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77" name="Picture 7" descr=""/>
          <p:cNvPicPr/>
          <p:nvPr/>
        </p:nvPicPr>
        <p:blipFill>
          <a:blip r:embed="rId4"/>
          <a:srcRect l="40465" t="12309" r="40465" b="47080"/>
          <a:stretch/>
        </p:blipFill>
        <p:spPr>
          <a:xfrm>
            <a:off x="250920" y="3289320"/>
            <a:ext cx="1822320" cy="25988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5" descr=""/>
          <p:cNvPicPr/>
          <p:nvPr/>
        </p:nvPicPr>
        <p:blipFill>
          <a:blip r:embed="rId5"/>
          <a:stretch/>
        </p:blipFill>
        <p:spPr>
          <a:xfrm>
            <a:off x="3772080" y="1224000"/>
            <a:ext cx="1800000" cy="1800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79" name="TextBox 4"/>
          <p:cNvSpPr/>
          <p:nvPr/>
        </p:nvSpPr>
        <p:spPr>
          <a:xfrm>
            <a:off x="7084440" y="52340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此页可插入各种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团队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144360" y="512604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209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0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2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4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15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2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0:23:1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23:59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