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AEAF-26BB-49EC-9356-75FFF7241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2FDD-293F-4865-A39C-55FD2738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BFE1-A0F0-4DD9-9B63-0F2A5E26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A6F1-B298-42FB-A5F4-3D04025E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2A5C-D7C2-405F-A9F1-636B78D6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33C0-FC8B-4BAE-AF4D-00741E01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96E3-0C03-498A-8D44-FD16522D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3D56-A374-4156-A352-A63B8A26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1EF0-0B08-4A30-BAFE-3A2C1EF6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07D0-E22A-459D-A6C2-43249F76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9644-9521-45CB-90F5-523B8934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94FF-E3CE-45D9-AC56-81248601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91AC-4640-44D1-84D7-B88E88593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4680" y="477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5ab5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03640" y="1197000"/>
            <a:ext cx="367344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5ab5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83664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别墅风景动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56000" y="1599840"/>
            <a:ext cx="6130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4510080"/>
            <a:ext cx="5643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523C-6026-4899-831A-AC33C93389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17:36:17Z</dcterms:created>
  <dc:creator>幻灯片之家 http://www.eeppt.com; An</dc:creator>
  <dc:description/>
  <cp:keywords>幻灯片之家 http:/www.eeppt.com</cp:keywords>
  <dc:language>en-US</dc:language>
  <cp:lastModifiedBy/>
  <dcterms:modified xsi:type="dcterms:W3CDTF">2015-07-17T01:07:1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