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7D216-01AD-4EC4-9FD4-207ED9B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243D-1BF3-4095-A5BF-F66D2FEC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E9D42-1E24-424A-8D01-DB51B25C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2E16-AC40-444C-99F8-DAAAD3B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F55A6-F197-4AA6-ACB2-953CC72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12778-821A-4FDC-AE4A-73C7E3F1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1792F-3B67-4423-806A-476AC9C2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BB1ED-2C24-4A17-9396-787F5AC4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01D4-E8B8-4C65-83C5-F0BD82E3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799C0-CEB2-476B-A2E3-81BEBB21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65805-379F-4875-B5ED-6294C9C5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6D0F8-E22D-4BFC-A530-53CF49C8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75676-1EFC-468C-BB31-55B9381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ABDC4-1656-4F79-838B-345F1973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B75C5-283F-42CF-9455-D694F7AE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7C712-4BE9-4A3E-92E0-1CBDDDA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07755-880F-436A-BEBA-549B8637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75490-246A-41A5-996F-5A66EF02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AB7E8-C19D-41CA-842C-141FBB6E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B20BF-97E5-4A87-BA22-0862B5A4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A8893-67F3-4862-91D0-FD0C0485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24A98-4160-4977-ACAA-2B570EE3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17615-FD4C-4ABA-921F-CDA0718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BB7AC-528B-4CCC-82EE-285611F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85E9E-C539-4593-AB2C-A0367224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DE4CF-BA2D-4467-8B8D-C921440F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607FE-011B-4A28-894F-3108B4F6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43162-F1FC-4DEC-81C9-B41AD71B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9CDE-C421-46B4-ABF7-B536AE5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243D8-4C61-4831-80B9-C7E2964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385-B8DB-4E78-94A0-3887051A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3C5D7-8491-45EE-98D4-55F0CBA8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41A8D-8FEF-4DBD-8061-FF506D06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A0861-5C66-4136-9C9D-2005452D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CCB7B-7F4F-433F-BF94-69399BF5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E1DCC-092D-4D86-8B4E-660E1E94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2A7BF-CE51-4388-B536-6B867BA4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53169-1EC8-490A-BF81-F9B663C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25AC8-213F-4DEB-BC90-15B7F3E5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434D-E5BA-4BD6-A9BC-AEF1FE6F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D6B65-2280-43EC-BCA2-455C7961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22C-856A-49CA-964D-F3FB7CE7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24892-2EA4-46B1-8326-808A13E8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2B53A-CBAD-4045-9F9D-8EDF9A6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FE8D5-2F32-4B40-B9F2-CC994628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E686A-D987-41DD-8840-09B6B791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50984-00C4-4810-892B-7CD17666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9E680-0107-4F69-B0FC-4B017803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74A90-08E4-4C5A-BE4F-659F858E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1A87E-79A7-474A-96CF-61610280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26D7F-03F4-4B4B-A936-69C441AF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D341C-2905-4F92-9754-4082E4D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FF6-F622-4A79-BC36-C0FD7DF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12204-1088-4BB8-8665-E00D6FDE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66C2C-D2D5-48F3-8990-3C3640FC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DDDC1-1031-4FFE-B9AF-8C66225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AA2A2-AF6C-43D8-ABA2-BBA5E34F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12244-2A0F-4C26-8F17-F3D6A818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68DA9-5284-4FA4-8A8B-BDE913E4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5AB02-50A7-43AA-8C0C-C3FFE616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354-8E91-458D-BF81-0F38F6B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43B-299F-4EE9-9636-29DAFD0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C46-5C17-48DA-BE06-39D29D20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9E2-EB90-4D46-99A6-AA212706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92D-CF59-45A7-BC32-E8BA9EA6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1C0-92A5-489C-9041-0336A6B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600-F44F-4E65-8299-2B2248FE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D44-3DA7-4832-B302-25A7CBC0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D14-D32A-44DF-A4C6-EEF76617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5A0A-D1A3-4B28-9A07-2B2A3E3A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9BFE-BA27-4FE2-901C-367BAA3B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73DA-124D-4496-BB19-32EB5ADE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CA00-2C12-4A2B-BF46-4409E9E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B091-BCB1-490A-8E62-B6227FE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4CA0-5936-42DE-9259-2ACD75C6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F492-534C-4F04-A517-2F419C0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B350-7483-4578-9F1D-DAB14F0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E7F0-623D-41A8-A9CD-5E2306E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E021-454E-496B-AA5E-88F4E056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89F6-3D0D-43F3-B3DC-D92A6CDF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883A-9F4D-499A-8ABE-2FE4DA0E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2BD2-E8A8-470E-8079-E68975A6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39D7-8263-439A-BC6B-5F94332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B1B7-6392-4428-BDC6-3284B1D6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9CD2-4FD1-4640-BEC5-EBCDE1A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9C2C-DDF0-40F6-B502-999DBFBE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3F6E-CD68-4A89-9B56-0CB1A247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4B59-8527-425A-AC1F-FD62247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E99A4-3751-469A-B0E3-C442BBC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4764-94BF-4BD4-8F79-81E5090C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8FDC-15EA-4BA9-8F3C-6F28F8C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E262-F8F6-4E0B-A563-7CB7D9FA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6412-4485-4A9D-B51E-05B09476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7372-8C13-4466-9E6D-6B792186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BD51-29E1-4BB6-92E0-0D7DCE3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9832-036B-4E11-B7D0-1F9C7B67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6BBF7-33BC-4AFA-AB91-E415B22F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04A8-3E2E-471E-8208-D79A635B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365B9-2681-4257-AF13-206A672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C8CE-F40C-44C9-B512-E9EC5E9B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D7C4-D416-4FD4-9C87-CDFDC91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4F0F-3B1A-44B3-A75B-093CC95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B6D5-0087-4296-9BBF-2F376D20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764B2-0DCE-4307-B8FC-11022E6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186D-D336-4598-8818-E9036676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24C02-87A9-4DC0-B386-B93D2555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B626-9DD8-4F8F-9EFB-7CD39AC6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3FAA0-E4FA-47FF-9B9A-C9C9D457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AEE3-C301-4A21-8708-58AA41FF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741EA-583B-4A61-A03C-6924C8C0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977A5-0839-4AF7-A318-FB52AEF3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5CA9-B7DB-4C3E-948C-69C2436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93316-5195-4CC2-B90F-64A93034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27B79-A3D5-48A8-B117-CE1D9D54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28B8-B42A-4017-83C4-E93E3E08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1F41-FE1E-49A1-9BEB-8FAD8FFC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FD6BB-EB70-4A17-8C7C-C07B2143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95D24-9907-462E-8D34-4308C1E1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8C487-72FF-4E19-B653-F3C8DFB1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C66B6-FD4E-4EEF-9B5F-02A5338E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B4DDD-5FB5-46C1-B46F-360FEED7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517D5-0B3B-47F5-B89F-470AD9DF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BA34D-73A7-470A-A22C-B51552AF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45260-B15B-4FC3-BBED-CC0BBAA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93B95-3789-4287-9602-24BF5A4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F050E-AB50-49B6-9D8D-FD27BED7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5DDE-F0E4-4AE6-A245-6EDA62D4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F95D9-C749-41D5-8074-D4CEF79F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5C42-E1B5-4BE0-B452-7185F953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A728B-895D-46EF-9FFC-F1B65704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BC23-D8EB-480E-A4C4-4F24E31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1C7BD-7090-49F3-9DFE-7C9457FE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D014-12B3-44F7-A078-443086F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5A225-9BFA-4033-93AD-0E9A5203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BEA77-97EF-42A3-BD4F-CBC8D8C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7E5E8-7C75-49AC-AC01-62C427A3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61951-ADD6-4151-BF69-36DF22D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6D5D7-7D7C-45C7-A7E7-3F5AE3B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044CE-8C55-464C-98B6-6AC829F0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63B92-B55E-4E04-B06E-AFB9128E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25402-71DC-4CE0-B0EE-C8BE824B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6981C-BD8A-481F-B0E0-6EA7D59E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6CB4-AC60-40EE-92B1-56085D15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49AF6-9367-41EC-8840-D8644404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30BA-CBB5-484C-9F4A-0CF080786CA0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C38B-DBEE-426F-8F13-0FC3887D775E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DCFC-BF6A-46C5-9390-27EE335241ED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AAFE-B936-4C4F-B2E7-190546BAC248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3E6B-CF4D-4881-985F-460765D78E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563-62EA-43EB-B1F9-2BC845FBCA50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8B8-E8AB-49A7-80EC-C881083BC3BB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339-AC7F-47D9-9D82-381643FD2BC1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F677-7385-4C9D-891F-F4EEB2741F3F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5956-BE39-4BAB-B25D-9E66B7C8BB4D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38B8-07DB-45BB-8620-95F3C2EF373D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7D08-57CC-4B83-B2EC-815723AC5182}" type="slidenum">
              <a:rPr b="1" lang="zh-CN" sz="1200" spc="-1" strike="noStrike">
                <a:solidFill>
                  <a:srgbClr val="898989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1187280" y="2173320"/>
            <a:ext cx="527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长方体和正方体的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692360" y="530280"/>
            <a:ext cx="74516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长方体和正方体的认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32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3"/>
          <a:stretch/>
        </p:blipFill>
        <p:spPr>
          <a:xfrm>
            <a:off x="798480" y="87948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534" name="矩形 6"/>
          <p:cNvSpPr/>
          <p:nvPr/>
        </p:nvSpPr>
        <p:spPr>
          <a:xfrm>
            <a:off x="-360" y="6504120"/>
            <a:ext cx="339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3095640" y="2035080"/>
            <a:ext cx="493236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行的棱有几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交并垂直的棱有几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平行的棱有几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条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11" name="Group 26"/>
          <p:cNvGrpSpPr/>
          <p:nvPr/>
        </p:nvGrpSpPr>
        <p:grpSpPr>
          <a:xfrm>
            <a:off x="539640" y="2138400"/>
            <a:ext cx="1944720" cy="2679120"/>
            <a:chOff x="539640" y="2138400"/>
            <a:chExt cx="1944720" cy="2679120"/>
          </a:xfrm>
        </p:grpSpPr>
        <p:grpSp>
          <p:nvGrpSpPr>
            <p:cNvPr id="612" name="Group 22"/>
            <p:cNvGrpSpPr/>
            <p:nvPr/>
          </p:nvGrpSpPr>
          <p:grpSpPr>
            <a:xfrm>
              <a:off x="539640" y="2138400"/>
              <a:ext cx="1603440" cy="2016000"/>
              <a:chOff x="539640" y="2138400"/>
              <a:chExt cx="1603440" cy="2016000"/>
            </a:xfrm>
          </p:grpSpPr>
          <p:sp>
            <p:nvSpPr>
              <p:cNvPr id="613" name="AutoShape 18"/>
              <p:cNvSpPr/>
              <p:nvPr/>
            </p:nvSpPr>
            <p:spPr>
              <a:xfrm>
                <a:off x="539640" y="2138400"/>
                <a:ext cx="1603440" cy="2016000"/>
              </a:xfrm>
              <a:prstGeom prst="cube">
                <a:avLst>
                  <a:gd name="adj" fmla="val 20000"/>
                </a:avLst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4" name="Line 19"/>
              <p:cNvSpPr/>
              <p:nvPr/>
            </p:nvSpPr>
            <p:spPr>
              <a:xfrm>
                <a:off x="861840" y="2138400"/>
                <a:ext cx="0" cy="1728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5" name="Line 20"/>
              <p:cNvSpPr/>
              <p:nvPr/>
            </p:nvSpPr>
            <p:spPr>
              <a:xfrm flipV="1">
                <a:off x="546120" y="3846600"/>
                <a:ext cx="303120" cy="303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6" name="Line 21"/>
              <p:cNvSpPr/>
              <p:nvPr/>
            </p:nvSpPr>
            <p:spPr>
              <a:xfrm>
                <a:off x="857160" y="3834000"/>
                <a:ext cx="12762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617" name="Rectangle 23"/>
            <p:cNvSpPr/>
            <p:nvPr/>
          </p:nvSpPr>
          <p:spPr>
            <a:xfrm>
              <a:off x="1403280" y="2843280"/>
              <a:ext cx="522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8" name="Rectangle 24"/>
            <p:cNvSpPr/>
            <p:nvPr/>
          </p:nvSpPr>
          <p:spPr>
            <a:xfrm>
              <a:off x="1025280" y="4211640"/>
              <a:ext cx="522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9" name="Rectangle 25"/>
            <p:cNvSpPr/>
            <p:nvPr/>
          </p:nvSpPr>
          <p:spPr>
            <a:xfrm>
              <a:off x="1962000" y="3794040"/>
              <a:ext cx="522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284720" y="5108400"/>
            <a:ext cx="3672000" cy="1344600"/>
            <a:chOff x="4284720" y="5108400"/>
            <a:chExt cx="3672000" cy="1344600"/>
          </a:xfrm>
        </p:grpSpPr>
        <p:pic>
          <p:nvPicPr>
            <p:cNvPr id="621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6432480" y="51735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AutoShape 27"/>
            <p:cNvSpPr/>
            <p:nvPr/>
          </p:nvSpPr>
          <p:spPr>
            <a:xfrm>
              <a:off x="4284720" y="5108400"/>
              <a:ext cx="2158920" cy="552600"/>
            </a:xfrm>
            <a:prstGeom prst="wedgeRoundRectCallout">
              <a:avLst>
                <a:gd name="adj1" fmla="val 46546"/>
                <a:gd name="adj2" fmla="val 88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你能发现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546200" y="223344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100160" y="6126120"/>
            <a:ext cx="6765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TextBox 21"/>
          <p:cNvSpPr/>
          <p:nvPr/>
        </p:nvSpPr>
        <p:spPr>
          <a:xfrm>
            <a:off x="969840" y="24559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有（  ）个面，都是（     ）形，也可能有（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相对的面是正方形。长方体相对的面（  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7" name="TextBox 22"/>
          <p:cNvSpPr/>
          <p:nvPr/>
        </p:nvSpPr>
        <p:spPr>
          <a:xfrm>
            <a:off x="969840" y="33735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有（    ）条棱，相对的棱（ 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8" name="TextBox 23"/>
          <p:cNvSpPr/>
          <p:nvPr/>
        </p:nvSpPr>
        <p:spPr>
          <a:xfrm>
            <a:off x="969840" y="39495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有（   ）个顶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9" name="TextBox 24"/>
          <p:cNvSpPr/>
          <p:nvPr/>
        </p:nvSpPr>
        <p:spPr>
          <a:xfrm>
            <a:off x="2689200" y="39481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0" name="TextBox 25"/>
          <p:cNvSpPr/>
          <p:nvPr/>
        </p:nvSpPr>
        <p:spPr>
          <a:xfrm>
            <a:off x="4676760" y="2430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长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7373880" y="2455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2" name="TextBox 27"/>
          <p:cNvSpPr/>
          <p:nvPr/>
        </p:nvSpPr>
        <p:spPr>
          <a:xfrm>
            <a:off x="5881680" y="2816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完全相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3" name="TextBox 28"/>
          <p:cNvSpPr/>
          <p:nvPr/>
        </p:nvSpPr>
        <p:spPr>
          <a:xfrm>
            <a:off x="2637000" y="33717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4" name="TextBox 29"/>
          <p:cNvSpPr/>
          <p:nvPr/>
        </p:nvSpPr>
        <p:spPr>
          <a:xfrm>
            <a:off x="5315040" y="3352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长度相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5" name="TextBox 30"/>
          <p:cNvSpPr/>
          <p:nvPr/>
        </p:nvSpPr>
        <p:spPr>
          <a:xfrm>
            <a:off x="2598840" y="24559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0"/>
          <p:cNvSpPr/>
          <p:nvPr/>
        </p:nvSpPr>
        <p:spPr>
          <a:xfrm>
            <a:off x="3414600" y="43657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611280" y="17478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细木条和橡皮泥，小组同学共同做一个长方体的框架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1042920" y="563580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说一说，在制作的过程中你有什么发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0" name="Rectangle 16"/>
          <p:cNvSpPr/>
          <p:nvPr/>
        </p:nvSpPr>
        <p:spPr>
          <a:xfrm>
            <a:off x="722160" y="1728720"/>
            <a:ext cx="7718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1" name="Picture 12" descr="2副本副本"/>
          <p:cNvPicPr/>
          <p:nvPr/>
        </p:nvPicPr>
        <p:blipFill>
          <a:blip r:embed="rId1"/>
          <a:stretch/>
        </p:blipFill>
        <p:spPr>
          <a:xfrm>
            <a:off x="2843280" y="2421000"/>
            <a:ext cx="5184720" cy="314640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27"/>
          <p:cNvSpPr/>
          <p:nvPr/>
        </p:nvSpPr>
        <p:spPr>
          <a:xfrm>
            <a:off x="971640" y="3144960"/>
            <a:ext cx="1728720" cy="931680"/>
          </a:xfrm>
          <a:prstGeom prst="wedgeRoundRectCallout">
            <a:avLst>
              <a:gd name="adj1" fmla="val 83791"/>
              <a:gd name="adj2" fmla="val -142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需要不同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度的木条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4" name="Rectangle 2"/>
          <p:cNvSpPr/>
          <p:nvPr/>
        </p:nvSpPr>
        <p:spPr>
          <a:xfrm>
            <a:off x="1042920" y="249552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棱可以分成几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交于同一顶点的三条棱长度相等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26920" y="4076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交于一个顶点的三条棱的长度分别叫做长方体的</a:t>
            </a:r>
            <a:r>
              <a:rPr b="1" lang="zh-CN" sz="2000" spc="-1" strike="noStrike">
                <a:solidFill>
                  <a:srgbClr val="cc0099"/>
                </a:solidFill>
                <a:latin typeface="宋体"/>
                <a:ea typeface="宋体"/>
              </a:rPr>
              <a:t>长、宽、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56" name="Group 9"/>
          <p:cNvGrpSpPr/>
          <p:nvPr/>
        </p:nvGrpSpPr>
        <p:grpSpPr>
          <a:xfrm>
            <a:off x="5651640" y="4222800"/>
            <a:ext cx="2184120" cy="1420920"/>
            <a:chOff x="5651640" y="4222800"/>
            <a:chExt cx="2184120" cy="1420920"/>
          </a:xfrm>
        </p:grpSpPr>
        <p:sp>
          <p:nvSpPr>
            <p:cNvPr id="557" name="AutoShape 4"/>
            <p:cNvSpPr/>
            <p:nvPr/>
          </p:nvSpPr>
          <p:spPr>
            <a:xfrm>
              <a:off x="5651640" y="4222800"/>
              <a:ext cx="2184120" cy="1420920"/>
            </a:xfrm>
            <a:prstGeom prst="cube">
              <a:avLst>
                <a:gd name="adj" fmla="val 2692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58" name="Line 5"/>
            <p:cNvSpPr/>
            <p:nvPr/>
          </p:nvSpPr>
          <p:spPr>
            <a:xfrm flipV="1">
              <a:off x="6043320" y="4222800"/>
              <a:ext cx="0" cy="1030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59" name="Line 6"/>
            <p:cNvSpPr/>
            <p:nvPr/>
          </p:nvSpPr>
          <p:spPr>
            <a:xfrm>
              <a:off x="6053040" y="5245200"/>
              <a:ext cx="17679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 flipV="1">
              <a:off x="5651640" y="5254200"/>
              <a:ext cx="390240" cy="389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61" name="Rectangle 10"/>
          <p:cNvSpPr/>
          <p:nvPr/>
        </p:nvSpPr>
        <p:spPr>
          <a:xfrm>
            <a:off x="6443640" y="56088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2" name="Rectangle 11"/>
          <p:cNvSpPr/>
          <p:nvPr/>
        </p:nvSpPr>
        <p:spPr>
          <a:xfrm>
            <a:off x="7013520" y="46926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高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3" name="Rectangle 12"/>
          <p:cNvSpPr/>
          <p:nvPr/>
        </p:nvSpPr>
        <p:spPr>
          <a:xfrm>
            <a:off x="7577280" y="52959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宽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4" name="Group 24"/>
          <p:cNvGrpSpPr/>
          <p:nvPr/>
        </p:nvGrpSpPr>
        <p:grpSpPr>
          <a:xfrm>
            <a:off x="3851280" y="1413000"/>
            <a:ext cx="4621320" cy="1279440"/>
            <a:chOff x="3851280" y="1413000"/>
            <a:chExt cx="4621320" cy="1279440"/>
          </a:xfrm>
        </p:grpSpPr>
        <p:pic>
          <p:nvPicPr>
            <p:cNvPr id="565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6994440" y="1413000"/>
              <a:ext cx="14781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AutoShape 27"/>
            <p:cNvSpPr/>
            <p:nvPr/>
          </p:nvSpPr>
          <p:spPr>
            <a:xfrm>
              <a:off x="3851280" y="1773360"/>
              <a:ext cx="3003480" cy="503280"/>
            </a:xfrm>
            <a:prstGeom prst="wedgeRoundRectCallout">
              <a:avLst>
                <a:gd name="adj1" fmla="val 56870"/>
                <a:gd name="adj2" fmla="val 471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回答下面的问题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5"/>
          <p:cNvSpPr/>
          <p:nvPr/>
        </p:nvSpPr>
        <p:spPr>
          <a:xfrm>
            <a:off x="539640" y="173196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拿一个正方体的物品来观察，想一想它有什么特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体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_____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体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棱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____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9" name="Group 24"/>
          <p:cNvGrpSpPr/>
          <p:nvPr/>
        </p:nvGrpSpPr>
        <p:grpSpPr>
          <a:xfrm>
            <a:off x="7027920" y="3030480"/>
            <a:ext cx="1504800" cy="1796400"/>
            <a:chOff x="7027920" y="3030480"/>
            <a:chExt cx="1504800" cy="1796400"/>
          </a:xfrm>
        </p:grpSpPr>
        <p:grpSp>
          <p:nvGrpSpPr>
            <p:cNvPr id="570" name="Group 20"/>
            <p:cNvGrpSpPr/>
            <p:nvPr/>
          </p:nvGrpSpPr>
          <p:grpSpPr>
            <a:xfrm>
              <a:off x="7027920" y="3030480"/>
              <a:ext cx="1325520" cy="1325520"/>
              <a:chOff x="7027920" y="3030480"/>
              <a:chExt cx="1325520" cy="1325520"/>
            </a:xfrm>
          </p:grpSpPr>
          <p:sp>
            <p:nvSpPr>
              <p:cNvPr id="571" name="AutoShape 16"/>
              <p:cNvSpPr/>
              <p:nvPr/>
            </p:nvSpPr>
            <p:spPr>
              <a:xfrm>
                <a:off x="7027920" y="3030480"/>
                <a:ext cx="1325520" cy="1325520"/>
              </a:xfrm>
              <a:prstGeom prst="cube">
                <a:avLst>
                  <a:gd name="adj" fmla="val 1916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2" name="Line 17"/>
              <p:cNvSpPr/>
              <p:nvPr/>
            </p:nvSpPr>
            <p:spPr>
              <a:xfrm>
                <a:off x="7286760" y="3030480"/>
                <a:ext cx="0" cy="10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3" name="Line 18"/>
              <p:cNvSpPr/>
              <p:nvPr/>
            </p:nvSpPr>
            <p:spPr>
              <a:xfrm>
                <a:off x="7332840" y="4089240"/>
                <a:ext cx="100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74" name="Line 19"/>
              <p:cNvSpPr/>
              <p:nvPr/>
            </p:nvSpPr>
            <p:spPr>
              <a:xfrm flipH="1">
                <a:off x="7032240" y="4092480"/>
                <a:ext cx="25092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75" name="Rectangle 21"/>
            <p:cNvSpPr/>
            <p:nvPr/>
          </p:nvSpPr>
          <p:spPr>
            <a:xfrm>
              <a:off x="7664400" y="3390840"/>
              <a:ext cx="363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棱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76" name="Rectangle 22"/>
            <p:cNvSpPr/>
            <p:nvPr/>
          </p:nvSpPr>
          <p:spPr>
            <a:xfrm>
              <a:off x="7364520" y="4294080"/>
              <a:ext cx="363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棱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77" name="Rectangle 23"/>
            <p:cNvSpPr/>
            <p:nvPr/>
          </p:nvSpPr>
          <p:spPr>
            <a:xfrm>
              <a:off x="8169120" y="4111560"/>
              <a:ext cx="363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</a:rPr>
                <a:t>棱</a:t>
              </a:r>
              <a:endParaRPr b="1" lang="en-US" sz="2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78" name="Rectangle 25"/>
          <p:cNvSpPr/>
          <p:nvPr/>
        </p:nvSpPr>
        <p:spPr>
          <a:xfrm>
            <a:off x="611280" y="42102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通过观察可以知道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体是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个完全相同的正方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成的立体图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2700360" y="2403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都是正方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2900520" y="27748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宋体"/>
                <a:ea typeface="宋体"/>
              </a:rPr>
              <a:t>长度相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1187280" y="17334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剪下本书附页中下面的图样做一个正方体，再量出它的棱长是多少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84" name="Group 13"/>
          <p:cNvGrpSpPr/>
          <p:nvPr/>
        </p:nvGrpSpPr>
        <p:grpSpPr>
          <a:xfrm>
            <a:off x="1463760" y="3429000"/>
            <a:ext cx="5268960" cy="1440000"/>
            <a:chOff x="1463760" y="3429000"/>
            <a:chExt cx="5268960" cy="1440000"/>
          </a:xfrm>
        </p:grpSpPr>
        <p:pic>
          <p:nvPicPr>
            <p:cNvPr id="585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1463760" y="3429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AutoShape 27"/>
            <p:cNvSpPr/>
            <p:nvPr/>
          </p:nvSpPr>
          <p:spPr>
            <a:xfrm>
              <a:off x="3419640" y="3862440"/>
              <a:ext cx="3313080" cy="1006560"/>
            </a:xfrm>
            <a:prstGeom prst="wedgeRoundRectCallout">
              <a:avLst>
                <a:gd name="adj1" fmla="val -60875"/>
                <a:gd name="adj2" fmla="val -19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长方体和正方体有哪些相同点，有哪些不同点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826920" y="2401920"/>
          <a:ext cx="7417080" cy="3117960"/>
        </p:xfrm>
        <a:graphic>
          <a:graphicData uri="http://schemas.openxmlformats.org/drawingml/2006/table">
            <a:tbl>
              <a:tblPr/>
              <a:tblGrid>
                <a:gridCol w="1297080"/>
                <a:gridCol w="1920960"/>
                <a:gridCol w="2098800"/>
                <a:gridCol w="2100240"/>
              </a:tblGrid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体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图形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93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相同点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93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面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棱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顶点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方体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正方体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9" name="Rectangle 33"/>
          <p:cNvSpPr/>
          <p:nvPr/>
        </p:nvSpPr>
        <p:spPr>
          <a:xfrm>
            <a:off x="2690640" y="3716280"/>
            <a:ext cx="100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0" name="Rectangle 34"/>
          <p:cNvSpPr/>
          <p:nvPr/>
        </p:nvSpPr>
        <p:spPr>
          <a:xfrm>
            <a:off x="4618080" y="3716280"/>
            <a:ext cx="1212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1" name="Rectangle 35"/>
          <p:cNvSpPr/>
          <p:nvPr/>
        </p:nvSpPr>
        <p:spPr>
          <a:xfrm>
            <a:off x="6804000" y="3716280"/>
            <a:ext cx="136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2" name="Rectangle 36"/>
          <p:cNvSpPr/>
          <p:nvPr/>
        </p:nvSpPr>
        <p:spPr>
          <a:xfrm>
            <a:off x="2690640" y="4654440"/>
            <a:ext cx="100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3" name="Rectangle 37"/>
          <p:cNvSpPr/>
          <p:nvPr/>
        </p:nvSpPr>
        <p:spPr>
          <a:xfrm>
            <a:off x="4618080" y="4654440"/>
            <a:ext cx="1212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条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4" name="Rectangle 38"/>
          <p:cNvSpPr/>
          <p:nvPr/>
        </p:nvSpPr>
        <p:spPr>
          <a:xfrm>
            <a:off x="6804000" y="465300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宋体"/>
              </a:rPr>
              <a:t>8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  <a:ea typeface="宋体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611280" y="2120760"/>
          <a:ext cx="7921440" cy="3517920"/>
        </p:xfrm>
        <a:graphic>
          <a:graphicData uri="http://schemas.openxmlformats.org/drawingml/2006/table">
            <a:tbl>
              <a:tblPr/>
              <a:tblGrid>
                <a:gridCol w="1306440"/>
                <a:gridCol w="3806640"/>
                <a:gridCol w="2808360"/>
              </a:tblGrid>
              <a:tr h="55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体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图形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93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同点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93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面的形状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棱长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方体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57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正方体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93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57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99"/>
                      </a:solidFill>
                    </a:lnL>
                    <a:lnR w="9360">
                      <a:solidFill>
                        <a:srgbClr val="cc0099"/>
                      </a:solidFill>
                    </a:lnR>
                    <a:lnT w="5760">
                      <a:solidFill>
                        <a:srgbClr val="cc0099"/>
                      </a:solidFill>
                    </a:lnT>
                    <a:lnB w="9360">
                      <a:solidFill>
                        <a:srgbClr val="cc00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7" name="Rectangle 56"/>
          <p:cNvSpPr/>
          <p:nvPr/>
        </p:nvSpPr>
        <p:spPr>
          <a:xfrm>
            <a:off x="5680080" y="3544920"/>
            <a:ext cx="2952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相对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条棱的长度相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8" name="Rectangle 59"/>
          <p:cNvSpPr/>
          <p:nvPr/>
        </p:nvSpPr>
        <p:spPr>
          <a:xfrm>
            <a:off x="5867280" y="4672080"/>
            <a:ext cx="2808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条棱的长度都相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9" name="Rectangle 60"/>
          <p:cNvSpPr/>
          <p:nvPr/>
        </p:nvSpPr>
        <p:spPr>
          <a:xfrm>
            <a:off x="2124000" y="3406680"/>
            <a:ext cx="352764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个长方形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或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个正方形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个长方形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0" name="Rectangle 61"/>
          <p:cNvSpPr/>
          <p:nvPr/>
        </p:nvSpPr>
        <p:spPr>
          <a:xfrm>
            <a:off x="2522520" y="47005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个完全相同的正方形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1116000" y="18860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体可以看成是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长、宽、高都相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长方体。我们可以用下图来表示长方体和正方体的关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02" name="Group 11"/>
          <p:cNvGrpSpPr/>
          <p:nvPr/>
        </p:nvGrpSpPr>
        <p:grpSpPr>
          <a:xfrm>
            <a:off x="2916360" y="3502080"/>
            <a:ext cx="3384360" cy="1727280"/>
            <a:chOff x="2916360" y="3502080"/>
            <a:chExt cx="3384360" cy="1727280"/>
          </a:xfrm>
        </p:grpSpPr>
        <p:sp>
          <p:nvSpPr>
            <p:cNvPr id="603" name="Oval 5"/>
            <p:cNvSpPr/>
            <p:nvPr/>
          </p:nvSpPr>
          <p:spPr>
            <a:xfrm>
              <a:off x="2916360" y="3502080"/>
              <a:ext cx="3384360" cy="17272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4" name="Oval 6"/>
            <p:cNvSpPr/>
            <p:nvPr/>
          </p:nvSpPr>
          <p:spPr>
            <a:xfrm>
              <a:off x="3742920" y="4173480"/>
              <a:ext cx="1730160" cy="882720"/>
            </a:xfrm>
            <a:prstGeom prst="ellipse">
              <a:avLst/>
            </a:prstGeom>
            <a:solidFill>
              <a:srgbClr val="e1f0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5" name="Rectangle 7"/>
            <p:cNvSpPr/>
            <p:nvPr/>
          </p:nvSpPr>
          <p:spPr>
            <a:xfrm>
              <a:off x="4131720" y="3514680"/>
              <a:ext cx="86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长方体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195440" y="4230720"/>
              <a:ext cx="86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正方体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607" name="Rectangle 2"/>
          <p:cNvSpPr/>
          <p:nvPr/>
        </p:nvSpPr>
        <p:spPr>
          <a:xfrm>
            <a:off x="457200" y="41760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>幻灯片之家 http:/www.eeppt.com</cp:keywords>
  <dc:language>en-US</dc:language>
  <cp:lastModifiedBy/>
  <dcterms:modified xsi:type="dcterms:W3CDTF">2015-07-20T06:12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