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chimes.wav" ContentType="audio/x-wav"/>
  <Override PartName="/ppt/media/image14.jpeg" ContentType="image/jpeg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92E7-6DCA-459C-81FE-156B7D48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DF8-8B44-409E-9575-AC64FDA2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B1C-95B7-4657-8346-E652093C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3D9B-4C5C-4D47-B1A2-EA07FD7C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8BF-5886-4051-9372-6B18AE9B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0B5-23EF-4DAE-8BEA-5E8FCD64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7BCB-69C2-482D-8D63-B96D857D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4A8-7FA7-4BAB-906E-0B81823F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2610-1D0D-4AD5-9285-D159923C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F98-F32F-4C58-88B0-3C8A0F47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BFD-6DCA-4CD1-B4DA-61B776B0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49BB-C39C-4964-BB02-AF5E12CB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F5C2-98E4-4387-AE3C-BC9D7F447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浑浊的水"/>
          <p:cNvPicPr/>
          <p:nvPr/>
        </p:nvPicPr>
        <p:blipFill>
          <a:blip r:embed="rId2"/>
          <a:stretch/>
        </p:blipFill>
        <p:spPr>
          <a:xfrm>
            <a:off x="457200" y="560520"/>
            <a:ext cx="8110440" cy="5578200"/>
          </a:xfrm>
          <a:prstGeom prst="rect">
            <a:avLst/>
          </a:prstGeom>
          <a:ln w="0">
            <a:noFill/>
          </a:ln>
        </p:spPr>
      </p:pic>
      <p:pic>
        <p:nvPicPr>
          <p:cNvPr id="42" name="Text Box 9" descr=""/>
          <p:cNvPicPr/>
          <p:nvPr/>
        </p:nvPicPr>
        <p:blipFill>
          <a:blip r:embed="rId3"/>
          <a:stretch/>
        </p:blipFill>
        <p:spPr>
          <a:xfrm>
            <a:off x="738360" y="1103400"/>
            <a:ext cx="7740360" cy="2097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填空：</a:t>
            </a:r>
            <a:endParaRPr b="1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5400" spc="-1" strike="noStrike">
                <a:solidFill>
                  <a:srgbClr val="008080"/>
                </a:solidFill>
                <a:latin typeface="Arial"/>
              </a:rPr>
              <a:t>1.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8080"/>
                </a:solidFill>
                <a:latin typeface="Arial"/>
              </a:rPr>
              <a:t>沙洲坝是个（        ），在（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填空：</a:t>
            </a:r>
            <a:endParaRPr b="1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5400" spc="-1" strike="noStrike">
                <a:solidFill>
                  <a:srgbClr val="008080"/>
                </a:solidFill>
                <a:latin typeface="Arial"/>
              </a:rPr>
              <a:t>1.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8080"/>
                </a:solidFill>
                <a:latin typeface="Arial"/>
              </a:rPr>
              <a:t>沙洲坝是个（小村子），在（瑞金城外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5400" spc="-1" strike="noStrike">
                <a:solidFill>
                  <a:srgbClr val="008080"/>
                </a:solidFill>
                <a:latin typeface="Arial"/>
              </a:rPr>
              <a:t>2.</a:t>
            </a:r>
            <a:r>
              <a:rPr b="1" lang="zh-CN" sz="5400" spc="-1" strike="noStrike">
                <a:solidFill>
                  <a:srgbClr val="008080"/>
                </a:solidFill>
                <a:latin typeface="Arial"/>
              </a:rPr>
              <a:t>毛主席在（           ）住过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-152280" y="1219320"/>
            <a:ext cx="9448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城外有个小村子叫（     ）。（     ）在江西（       ）的时候，就在那儿住过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57200" y="121932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瑞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457200" y="213372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沙洲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219320" y="304812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领导革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648320" y="2133720"/>
            <a:ext cx="25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毛主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52280" y="9144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村子里没有井，吃水要到很远的地方去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04920" y="1752480"/>
            <a:ext cx="899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800600" y="9144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38080" y="17524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很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50920" y="692280"/>
            <a:ext cx="8748720" cy="14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4392360" cy="50022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5937840" y="2852640"/>
            <a:ext cx="231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村子里没有井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吃水要到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很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地方去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屋1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09052408120f5dc607225b3dca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0"/>
          <p:cNvSpPr/>
          <p:nvPr/>
        </p:nvSpPr>
        <p:spPr>
          <a:xfrm>
            <a:off x="5029200" y="533520"/>
            <a:ext cx="3733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Calibri"/>
                <a:ea typeface="楷体_GB2312"/>
              </a:rPr>
              <a:t>沙洲坝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Calibri"/>
                <a:ea typeface="楷体_GB2312"/>
              </a:rPr>
              <a:t>沙洲坝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Calibri"/>
                <a:ea typeface="楷体_GB2312"/>
              </a:rPr>
              <a:t>三天不下雨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Calibri"/>
                <a:ea typeface="楷体_GB2312"/>
              </a:rPr>
              <a:t>无水洗手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艰难挑水"/>
          <p:cNvPicPr/>
          <p:nvPr/>
        </p:nvPicPr>
        <p:blipFill>
          <a:blip r:embed="rId2"/>
          <a:stretch/>
        </p:blipFill>
        <p:spPr>
          <a:xfrm>
            <a:off x="533520" y="152280"/>
            <a:ext cx="4692600" cy="6348600"/>
          </a:xfrm>
          <a:prstGeom prst="rect">
            <a:avLst/>
          </a:prstGeom>
          <a:ln w="0">
            <a:noFill/>
          </a:ln>
        </p:spPr>
      </p:pic>
      <p:sp>
        <p:nvSpPr>
          <p:cNvPr id="81" name="矩形 2"/>
          <p:cNvSpPr/>
          <p:nvPr/>
        </p:nvSpPr>
        <p:spPr>
          <a:xfrm>
            <a:off x="5214960" y="185724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沙洲坝是个缺水的村庄村子里一口井也没有。居住在这儿的人们吃水非常困难，要到几公里以外的小河去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挑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9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4751640" cy="5410080"/>
          </a:xfrm>
          <a:prstGeom prst="rect">
            <a:avLst/>
          </a:prstGeom>
          <a:ln w="0">
            <a:noFill/>
          </a:ln>
        </p:spPr>
      </p:pic>
      <p:sp>
        <p:nvSpPr>
          <p:cNvPr id="84" name="矩形 2"/>
          <p:cNvSpPr/>
          <p:nvPr/>
        </p:nvSpPr>
        <p:spPr>
          <a:xfrm>
            <a:off x="5214960" y="185724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沙洲坝是个缺水的村庄村子里一口井也没有。居住在这儿的人们吃水非常困难，要到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几公里以外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的小河去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挑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挑水3"/>
          <p:cNvPicPr/>
          <p:nvPr/>
        </p:nvPicPr>
        <p:blipFill>
          <a:blip r:embed="rId2"/>
          <a:stretch/>
        </p:blipFill>
        <p:spPr>
          <a:xfrm>
            <a:off x="380880" y="228600"/>
            <a:ext cx="8382240" cy="5029200"/>
          </a:xfrm>
          <a:prstGeom prst="rect">
            <a:avLst/>
          </a:prstGeom>
          <a:ln w="0">
            <a:noFill/>
          </a:ln>
        </p:spPr>
      </p:pic>
      <p:sp>
        <p:nvSpPr>
          <p:cNvPr id="86" name="矩形 2"/>
          <p:cNvSpPr/>
          <p:nvPr/>
        </p:nvSpPr>
        <p:spPr>
          <a:xfrm>
            <a:off x="0" y="5288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楷体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沙洲坝是个缺水的村庄村子里一口井也没有。居住在这儿的人们吃水非常困难，要到几公里以外的小河去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50920" y="692280"/>
            <a:ext cx="8748720" cy="14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200751763530409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763640" y="299736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毛主席就带领战士和乡亲们挖了一口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2174760" y="49528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mao"/>
          <p:cNvPicPr/>
          <p:nvPr/>
        </p:nvPicPr>
        <p:blipFill>
          <a:blip r:embed="rId2"/>
          <a:stretch/>
        </p:blipFill>
        <p:spPr>
          <a:xfrm>
            <a:off x="990720" y="1066680"/>
            <a:ext cx="3449520" cy="48769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5181480" y="2057400"/>
            <a:ext cx="3200400" cy="20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  zhǔ       x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毛 主 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无标题"/>
          <p:cNvPicPr/>
          <p:nvPr/>
        </p:nvPicPr>
        <p:blipFill>
          <a:blip r:embed="rId2"/>
          <a:stretch/>
        </p:blipFill>
        <p:spPr>
          <a:xfrm>
            <a:off x="571680" y="357120"/>
            <a:ext cx="5638680" cy="464832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714240" y="542916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毛主席决定带领红军战士为村里人挖口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692280"/>
            <a:ext cx="8748720" cy="14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200751763530409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无标题"/>
          <p:cNvPicPr/>
          <p:nvPr/>
        </p:nvPicPr>
        <p:blipFill>
          <a:blip r:embed="rId3"/>
          <a:stretch/>
        </p:blipFill>
        <p:spPr>
          <a:xfrm>
            <a:off x="611280" y="1413000"/>
            <a:ext cx="5689440" cy="4824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588000" y="2421000"/>
            <a:ext cx="208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百折不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勇往直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52280" y="9144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村子里没有井，吃水要到很远的地方去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04920" y="1752480"/>
            <a:ext cx="899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毛主席就带领战士和乡亲们挖了一口井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04920" y="259092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带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52280" y="4648320"/>
            <a:ext cx="8763120" cy="916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领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069-3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800600" y="22845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吃水不忘挖井人，时刻想念毛主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"/>
          <p:cNvSpPr/>
          <p:nvPr/>
        </p:nvSpPr>
        <p:spPr>
          <a:xfrm>
            <a:off x="807732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75438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693432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6324480" y="37339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6324480" y="30481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934320" y="3048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228600" y="10666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解放以后，乡亲们在井旁边立了一块石碑，上面刻着：吃水不忘挖井人，时刻想念毛主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35053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想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600200" y="274320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吃水不忘挖井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使用规范说明</a:t>
            </a:r>
            <a:endParaRPr b="1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F76-0F54-4A87-A8C7-B5C7B66CA9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50920" y="692280"/>
            <a:ext cx="8748720" cy="14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724280" y="2819520"/>
            <a:ext cx="5486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吃水不忘挖井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时刻想念毛主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jx3"/>
          <p:cNvPicPr/>
          <p:nvPr/>
        </p:nvPicPr>
        <p:blipFill>
          <a:blip r:embed="rId2"/>
          <a:srcRect l="42227" t="0" r="0" b="3704"/>
          <a:stretch/>
        </p:blipFill>
        <p:spPr>
          <a:xfrm>
            <a:off x="380880" y="914400"/>
            <a:ext cx="4114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W020050918103088216854"/>
          <p:cNvPicPr/>
          <p:nvPr/>
        </p:nvPicPr>
        <p:blipFill>
          <a:blip r:embed="rId2"/>
          <a:stretch/>
        </p:blipFill>
        <p:spPr>
          <a:xfrm>
            <a:off x="1922400" y="352440"/>
            <a:ext cx="5724720" cy="611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2144880" y="0"/>
            <a:ext cx="5689440" cy="40464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0" name="Picture 5" descr=""/>
            <p:cNvPicPr/>
            <p:nvPr/>
          </p:nvPicPr>
          <p:blipFill>
            <a:blip r:embed="rId4"/>
            <a:stretch/>
          </p:blipFill>
          <p:spPr>
            <a:xfrm>
              <a:off x="1835280" y="6453360"/>
              <a:ext cx="60498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6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908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7" descr=""/>
            <p:cNvPicPr/>
            <p:nvPr/>
          </p:nvPicPr>
          <p:blipFill>
            <a:blip r:embed="rId6"/>
            <a:stretch/>
          </p:blipFill>
          <p:spPr>
            <a:xfrm>
              <a:off x="7596360" y="0"/>
              <a:ext cx="1547640" cy="68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8" descr=""/>
            <p:cNvPicPr/>
            <p:nvPr/>
          </p:nvPicPr>
          <p:blipFill>
            <a:blip r:embed="rId7"/>
            <a:stretch/>
          </p:blipFill>
          <p:spPr>
            <a:xfrm>
              <a:off x="1908000" y="0"/>
              <a:ext cx="5904000" cy="40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Text Box 9"/>
          <p:cNvSpPr/>
          <p:nvPr/>
        </p:nvSpPr>
        <p:spPr>
          <a:xfrm>
            <a:off x="7881840" y="836640"/>
            <a:ext cx="13993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吃水不忘挖井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826920" y="836640"/>
            <a:ext cx="13993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时刻想念毛主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611280" y="1539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例：沙洲坝的乡亲们时刻想念着毛主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71640" y="262080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我们时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。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116000" y="39164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刻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116000" y="17431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我很想念在北京工作的爸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00000" y="260820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小鸟十分想念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。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900000" y="36878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想念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图片1"/>
          <p:cNvPicPr/>
          <p:nvPr/>
        </p:nvPicPr>
        <p:blipFill>
          <a:blip r:embed="rId2"/>
          <a:stretch/>
        </p:blipFill>
        <p:spPr>
          <a:xfrm>
            <a:off x="1295280" y="1143000"/>
            <a:ext cx="6600960" cy="3171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685800" y="46483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毛主席被称为“东方巨人”，他是我国著名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军事家、政治家、诗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50920" y="692280"/>
            <a:ext cx="8748720" cy="14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红井"/>
          <p:cNvPicPr/>
          <p:nvPr/>
        </p:nvPicPr>
        <p:blipFill>
          <a:blip r:embed="rId2"/>
          <a:stretch/>
        </p:blipFill>
        <p:spPr>
          <a:xfrm>
            <a:off x="304920" y="1066680"/>
            <a:ext cx="3962160" cy="51055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4356000" y="2309760"/>
            <a:ext cx="478800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红井水，甜又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手捧清泉想恩人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毛主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喝上一口红井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股暖流涌上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2124000" y="1844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红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804000" y="20509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ī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788000" y="285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ě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44364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427640" y="35672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4859280" y="428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5148360" y="4286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uǎ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50920" y="692280"/>
            <a:ext cx="8748720" cy="14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055_jpg"/>
          <p:cNvPicPr/>
          <p:nvPr/>
        </p:nvPicPr>
        <p:blipFill>
          <a:blip r:embed="rId2"/>
          <a:stretch/>
        </p:blipFill>
        <p:spPr>
          <a:xfrm>
            <a:off x="304920" y="914400"/>
            <a:ext cx="4114800" cy="53341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4643280" y="310824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吃水不忘挖井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时刻想念毛主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219320" y="1889280"/>
            <a:ext cx="70102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Times New Roman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谁是挖井人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981080" y="3672000"/>
            <a:ext cx="59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谁不忘挖井人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042920" y="765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了课文，你知道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187280" y="155736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问：谁是挖井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答：毛主席、战士们、乡亲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332000" y="3933720"/>
            <a:ext cx="597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900000" y="836640"/>
            <a:ext cx="936720" cy="649440"/>
          </a:xfrm>
          <a:custGeom>
            <a:avLst/>
            <a:gdLst>
              <a:gd name="textAreaLeft" fmla="*/ 40320 w 936720"/>
              <a:gd name="textAreaRight" fmla="*/ 896400 w 936720"/>
              <a:gd name="textAreaTop" fmla="*/ 40320 h 649440"/>
              <a:gd name="textAreaBottom" fmla="*/ 609120 h 649440"/>
            </a:gdLst>
            <a:ahLst/>
            <a:rect l="textAreaLeft" t="textAreaTop" r="textAreaRight" b="textAreaBottom"/>
            <a:pathLst>
              <a:path w="31149" h="21600">
                <a:moveTo>
                  <a:pt x="0" y="0"/>
                </a:moveTo>
                <a:lnTo>
                  <a:pt x="31149" y="0"/>
                </a:lnTo>
                <a:lnTo>
                  <a:pt x="31149" y="21600"/>
                </a:lnTo>
                <a:lnTo>
                  <a:pt x="0" y="21600"/>
                </a:lnTo>
                <a:close/>
              </a:path>
              <a:path fill="lightenLess" w="31149" h="21600">
                <a:moveTo>
                  <a:pt x="0" y="0"/>
                </a:moveTo>
                <a:lnTo>
                  <a:pt x="31149" y="0"/>
                </a:lnTo>
                <a:lnTo>
                  <a:pt x="29799" y="1350"/>
                </a:lnTo>
                <a:lnTo>
                  <a:pt x="1350" y="1350"/>
                </a:lnTo>
                <a:close/>
              </a:path>
              <a:path fill="darken" w="31149" h="21600">
                <a:moveTo>
                  <a:pt x="31149" y="0"/>
                </a:moveTo>
                <a:lnTo>
                  <a:pt x="31149" y="21600"/>
                </a:lnTo>
                <a:lnTo>
                  <a:pt x="29799" y="20250"/>
                </a:lnTo>
                <a:lnTo>
                  <a:pt x="29799" y="1350"/>
                </a:lnTo>
                <a:close/>
              </a:path>
              <a:path fill="darkenLess" w="31149" h="21600">
                <a:moveTo>
                  <a:pt x="311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799" y="20250"/>
                </a:lnTo>
                <a:close/>
              </a:path>
              <a:path fill="lighten" w="311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149" h="21600">
                <a:moveTo>
                  <a:pt x="15575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31149" h="21600">
                <a:moveTo>
                  <a:pt x="16686" y="14300"/>
                </a:moveTo>
                <a:lnTo>
                  <a:pt x="16686" y="12331"/>
                </a:lnTo>
                <a:cubicBezTo>
                  <a:pt x="16686" y="11500"/>
                  <a:pt x="17018" y="10800"/>
                  <a:pt x="17622" y="10800"/>
                </a:cubicBezTo>
                <a:cubicBezTo>
                  <a:pt x="18760" y="10800"/>
                  <a:pt x="19661" y="9426"/>
                  <a:pt x="19661" y="7834"/>
                </a:cubicBezTo>
                <a:cubicBezTo>
                  <a:pt x="19661" y="5506"/>
                  <a:pt x="17797" y="3756"/>
                  <a:pt x="15575" y="3756"/>
                </a:cubicBezTo>
                <a:cubicBezTo>
                  <a:pt x="13352" y="3756"/>
                  <a:pt x="11672" y="5506"/>
                  <a:pt x="11672" y="7834"/>
                </a:cubicBezTo>
                <a:lnTo>
                  <a:pt x="13536" y="7834"/>
                </a:lnTo>
                <a:cubicBezTo>
                  <a:pt x="13536" y="6688"/>
                  <a:pt x="14463" y="5795"/>
                  <a:pt x="15575" y="5795"/>
                </a:cubicBezTo>
                <a:cubicBezTo>
                  <a:pt x="16686" y="5795"/>
                  <a:pt x="17622" y="6688"/>
                  <a:pt x="17622" y="7834"/>
                </a:cubicBezTo>
                <a:cubicBezTo>
                  <a:pt x="17622" y="8578"/>
                  <a:pt x="17150" y="9313"/>
                  <a:pt x="16686" y="9313"/>
                </a:cubicBezTo>
                <a:cubicBezTo>
                  <a:pt x="15575" y="9313"/>
                  <a:pt x="14463" y="10800"/>
                  <a:pt x="14463" y="12331"/>
                </a:cubicBezTo>
                <a:lnTo>
                  <a:pt x="14463" y="143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187280" y="155736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问：谁是挖井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答：毛主席、战士们、乡亲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332000" y="3933720"/>
            <a:ext cx="59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问：谁不忘挖井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900000" y="836640"/>
            <a:ext cx="936720" cy="649440"/>
          </a:xfrm>
          <a:custGeom>
            <a:avLst/>
            <a:gdLst>
              <a:gd name="textAreaLeft" fmla="*/ 40320 w 936720"/>
              <a:gd name="textAreaRight" fmla="*/ 896400 w 936720"/>
              <a:gd name="textAreaTop" fmla="*/ 40320 h 649440"/>
              <a:gd name="textAreaBottom" fmla="*/ 609120 h 649440"/>
            </a:gdLst>
            <a:ahLst/>
            <a:rect l="textAreaLeft" t="textAreaTop" r="textAreaRight" b="textAreaBottom"/>
            <a:pathLst>
              <a:path w="31149" h="21600">
                <a:moveTo>
                  <a:pt x="0" y="0"/>
                </a:moveTo>
                <a:lnTo>
                  <a:pt x="31149" y="0"/>
                </a:lnTo>
                <a:lnTo>
                  <a:pt x="31149" y="21600"/>
                </a:lnTo>
                <a:lnTo>
                  <a:pt x="0" y="21600"/>
                </a:lnTo>
                <a:close/>
              </a:path>
              <a:path fill="lightenLess" w="31149" h="21600">
                <a:moveTo>
                  <a:pt x="0" y="0"/>
                </a:moveTo>
                <a:lnTo>
                  <a:pt x="31149" y="0"/>
                </a:lnTo>
                <a:lnTo>
                  <a:pt x="29799" y="1350"/>
                </a:lnTo>
                <a:lnTo>
                  <a:pt x="1350" y="1350"/>
                </a:lnTo>
                <a:close/>
              </a:path>
              <a:path fill="darken" w="31149" h="21600">
                <a:moveTo>
                  <a:pt x="31149" y="0"/>
                </a:moveTo>
                <a:lnTo>
                  <a:pt x="31149" y="21600"/>
                </a:lnTo>
                <a:lnTo>
                  <a:pt x="29799" y="20250"/>
                </a:lnTo>
                <a:lnTo>
                  <a:pt x="29799" y="1350"/>
                </a:lnTo>
                <a:close/>
              </a:path>
              <a:path fill="darkenLess" w="31149" h="21600">
                <a:moveTo>
                  <a:pt x="311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799" y="20250"/>
                </a:lnTo>
                <a:close/>
              </a:path>
              <a:path fill="lighten" w="311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149" h="21600">
                <a:moveTo>
                  <a:pt x="15575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31149" h="21600">
                <a:moveTo>
                  <a:pt x="16686" y="14300"/>
                </a:moveTo>
                <a:lnTo>
                  <a:pt x="16686" y="12331"/>
                </a:lnTo>
                <a:cubicBezTo>
                  <a:pt x="16686" y="11500"/>
                  <a:pt x="17018" y="10800"/>
                  <a:pt x="17622" y="10800"/>
                </a:cubicBezTo>
                <a:cubicBezTo>
                  <a:pt x="18760" y="10800"/>
                  <a:pt x="19661" y="9426"/>
                  <a:pt x="19661" y="7834"/>
                </a:cubicBezTo>
                <a:cubicBezTo>
                  <a:pt x="19661" y="5506"/>
                  <a:pt x="17797" y="3756"/>
                  <a:pt x="15575" y="3756"/>
                </a:cubicBezTo>
                <a:cubicBezTo>
                  <a:pt x="13352" y="3756"/>
                  <a:pt x="11672" y="5506"/>
                  <a:pt x="11672" y="7834"/>
                </a:cubicBezTo>
                <a:lnTo>
                  <a:pt x="13536" y="7834"/>
                </a:lnTo>
                <a:cubicBezTo>
                  <a:pt x="13536" y="6688"/>
                  <a:pt x="14463" y="5795"/>
                  <a:pt x="15575" y="5795"/>
                </a:cubicBezTo>
                <a:cubicBezTo>
                  <a:pt x="16686" y="5795"/>
                  <a:pt x="17622" y="6688"/>
                  <a:pt x="17622" y="7834"/>
                </a:cubicBezTo>
                <a:cubicBezTo>
                  <a:pt x="17622" y="8578"/>
                  <a:pt x="17150" y="9313"/>
                  <a:pt x="16686" y="9313"/>
                </a:cubicBezTo>
                <a:cubicBezTo>
                  <a:pt x="15575" y="9313"/>
                  <a:pt x="14463" y="10800"/>
                  <a:pt x="14463" y="12331"/>
                </a:cubicBezTo>
                <a:lnTo>
                  <a:pt x="14463" y="143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187280" y="155736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问：谁是挖井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答：毛主席、战士们、乡亲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332000" y="3933720"/>
            <a:ext cx="59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问：谁不忘挖井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答：沙洲坝的乡亲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900000" y="836640"/>
            <a:ext cx="936720" cy="649440"/>
          </a:xfrm>
          <a:custGeom>
            <a:avLst/>
            <a:gdLst>
              <a:gd name="textAreaLeft" fmla="*/ 40320 w 936720"/>
              <a:gd name="textAreaRight" fmla="*/ 896400 w 936720"/>
              <a:gd name="textAreaTop" fmla="*/ 40320 h 649440"/>
              <a:gd name="textAreaBottom" fmla="*/ 609120 h 649440"/>
            </a:gdLst>
            <a:ahLst/>
            <a:rect l="textAreaLeft" t="textAreaTop" r="textAreaRight" b="textAreaBottom"/>
            <a:pathLst>
              <a:path w="31149" h="21600">
                <a:moveTo>
                  <a:pt x="0" y="0"/>
                </a:moveTo>
                <a:lnTo>
                  <a:pt x="31149" y="0"/>
                </a:lnTo>
                <a:lnTo>
                  <a:pt x="31149" y="21600"/>
                </a:lnTo>
                <a:lnTo>
                  <a:pt x="0" y="21600"/>
                </a:lnTo>
                <a:close/>
              </a:path>
              <a:path fill="lightenLess" w="31149" h="21600">
                <a:moveTo>
                  <a:pt x="0" y="0"/>
                </a:moveTo>
                <a:lnTo>
                  <a:pt x="31149" y="0"/>
                </a:lnTo>
                <a:lnTo>
                  <a:pt x="29799" y="1350"/>
                </a:lnTo>
                <a:lnTo>
                  <a:pt x="1350" y="1350"/>
                </a:lnTo>
                <a:close/>
              </a:path>
              <a:path fill="darken" w="31149" h="21600">
                <a:moveTo>
                  <a:pt x="31149" y="0"/>
                </a:moveTo>
                <a:lnTo>
                  <a:pt x="31149" y="21600"/>
                </a:lnTo>
                <a:lnTo>
                  <a:pt x="29799" y="20250"/>
                </a:lnTo>
                <a:lnTo>
                  <a:pt x="29799" y="1350"/>
                </a:lnTo>
                <a:close/>
              </a:path>
              <a:path fill="darkenLess" w="31149" h="21600">
                <a:moveTo>
                  <a:pt x="311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799" y="20250"/>
                </a:lnTo>
                <a:close/>
              </a:path>
              <a:path fill="lighten" w="311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149" h="21600">
                <a:moveTo>
                  <a:pt x="15575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31149" h="21600">
                <a:moveTo>
                  <a:pt x="16686" y="14300"/>
                </a:moveTo>
                <a:lnTo>
                  <a:pt x="16686" y="12331"/>
                </a:lnTo>
                <a:cubicBezTo>
                  <a:pt x="16686" y="11500"/>
                  <a:pt x="17018" y="10800"/>
                  <a:pt x="17622" y="10800"/>
                </a:cubicBezTo>
                <a:cubicBezTo>
                  <a:pt x="18760" y="10800"/>
                  <a:pt x="19661" y="9426"/>
                  <a:pt x="19661" y="7834"/>
                </a:cubicBezTo>
                <a:cubicBezTo>
                  <a:pt x="19661" y="5506"/>
                  <a:pt x="17797" y="3756"/>
                  <a:pt x="15575" y="3756"/>
                </a:cubicBezTo>
                <a:cubicBezTo>
                  <a:pt x="13352" y="3756"/>
                  <a:pt x="11672" y="5506"/>
                  <a:pt x="11672" y="7834"/>
                </a:cubicBezTo>
                <a:lnTo>
                  <a:pt x="13536" y="7834"/>
                </a:lnTo>
                <a:cubicBezTo>
                  <a:pt x="13536" y="6688"/>
                  <a:pt x="14463" y="5795"/>
                  <a:pt x="15575" y="5795"/>
                </a:cubicBezTo>
                <a:cubicBezTo>
                  <a:pt x="16686" y="5795"/>
                  <a:pt x="17622" y="6688"/>
                  <a:pt x="17622" y="7834"/>
                </a:cubicBezTo>
                <a:cubicBezTo>
                  <a:pt x="17622" y="8578"/>
                  <a:pt x="17150" y="9313"/>
                  <a:pt x="16686" y="9313"/>
                </a:cubicBezTo>
                <a:cubicBezTo>
                  <a:pt x="15575" y="9313"/>
                  <a:pt x="14463" y="10800"/>
                  <a:pt x="14463" y="12331"/>
                </a:cubicBezTo>
                <a:lnTo>
                  <a:pt x="14463" y="143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99"/>
                </a:solidFill>
                <a:latin typeface="Arial"/>
                <a:ea typeface="楷体_GB2312"/>
              </a:rPr>
              <a:t>问：为什么不能忘记挖井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080"/>
                </a:solidFill>
                <a:latin typeface="Arial"/>
                <a:ea typeface="楷体_GB2312"/>
              </a:rPr>
              <a:t>答：因为挖井人关爱乡亲们，让乡亲们吃水不再困难，为他们做了好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50920" y="1628640"/>
            <a:ext cx="7777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忘  挖井  主席  领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革命  解放  战士  刻着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念  瑞金  沙洲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04920" y="6094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99"/>
                </a:solidFill>
                <a:uFillTx/>
                <a:latin typeface="Times New Roman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06280" y="1844640"/>
            <a:ext cx="8686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井（      ）     想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（      ）     念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士（      ）     忘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土（      ）     意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600200" y="2286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187280" y="184464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井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230480" y="2852640"/>
            <a:ext cx="132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开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5796000" y="191628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想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796000" y="2852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念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187280" y="3716280"/>
            <a:ext cx="13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战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187280" y="47102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黄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5724360" y="378936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忘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796000" y="4653000"/>
            <a:ext cx="16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心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04920" y="4572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华文隶书"/>
              </a:rPr>
              <a:t>组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304920" y="4572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华文隶书"/>
              </a:rPr>
              <a:t>组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304920" y="4572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华文隶书"/>
              </a:rPr>
              <a:t>组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304920" y="4572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华文隶书"/>
              </a:rPr>
              <a:t>组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304920" y="4716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华文隶书"/>
              </a:rPr>
              <a:t>组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7"/>
          <p:cNvSpPr/>
          <p:nvPr/>
        </p:nvSpPr>
        <p:spPr>
          <a:xfrm>
            <a:off x="5867280" y="6019920"/>
            <a:ext cx="1295640" cy="457200"/>
          </a:xfrm>
          <a:custGeom>
            <a:avLst/>
            <a:gdLst>
              <a:gd name="textAreaLeft" fmla="*/ 28440 w 1295640"/>
              <a:gd name="textAreaRight" fmla="*/ 1267200 w 129564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830" y="1350"/>
                </a:lnTo>
                <a:lnTo>
                  <a:pt x="1350" y="135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830" y="20250"/>
                </a:lnTo>
                <a:lnTo>
                  <a:pt x="59830" y="135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9830" y="2025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61180" h="21600">
                <a:moveTo>
                  <a:pt x="23546" y="3756"/>
                </a:moveTo>
                <a:lnTo>
                  <a:pt x="37634" y="10800"/>
                </a:lnTo>
                <a:lnTo>
                  <a:pt x="23546" y="17844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下一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900000" y="1484280"/>
          <a:ext cx="3581280" cy="35924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</a:tblGrid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</a:tbl>
          </a:graphicData>
        </a:graphic>
      </p:graphicFrame>
      <p:sp>
        <p:nvSpPr>
          <p:cNvPr id="178" name="Text Box 13"/>
          <p:cNvSpPr/>
          <p:nvPr/>
        </p:nvSpPr>
        <p:spPr>
          <a:xfrm>
            <a:off x="1863720" y="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66"/>
                </a:solidFill>
                <a:latin typeface="Comic Sans MS"/>
              </a:rPr>
              <a:t>jǐ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779480" y="1295280"/>
            <a:ext cx="18572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0" spc="-1" strike="noStrike">
                <a:solidFill>
                  <a:srgbClr val="0000ff"/>
                </a:solidFill>
                <a:latin typeface="Arial"/>
                <a:ea typeface="楷体_GB2312"/>
              </a:rPr>
              <a:t>井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954680" y="29750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4932360" y="148428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打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水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井井有条井底之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539640" y="5157720"/>
            <a:ext cx="860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52280" y="1371600"/>
            <a:ext cx="8991720" cy="31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jīn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hā  zhō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m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zh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xí         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ǐng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ǎ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hě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uǎn            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zh</a:t>
            </a:r>
            <a:r>
              <a:rPr b="0" lang="en-US" sz="2400" spc="-1" strike="noStrike">
                <a:solidFill>
                  <a:srgbClr val="009999"/>
                </a:solidFill>
                <a:latin typeface="宋体"/>
              </a:rPr>
              <a:t>à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shì          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xiāng   qī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yǐ    hò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í   bēi               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xiǎng   ni</a:t>
            </a:r>
            <a:r>
              <a:rPr b="1" lang="en-US" sz="2400" spc="-1" strike="noStrike">
                <a:solidFill>
                  <a:srgbClr val="009999"/>
                </a:solidFill>
                <a:latin typeface="宋体"/>
              </a:rPr>
              <a:t>à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1752480"/>
            <a:ext cx="92962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瑞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金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沙洲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坝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毛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主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席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领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很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    战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士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乡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  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以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碑    想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900000" y="1484280"/>
          <a:ext cx="3581280" cy="35924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</a:tblGrid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</a:tbl>
          </a:graphicData>
        </a:graphic>
      </p:graphicFrame>
      <p:sp>
        <p:nvSpPr>
          <p:cNvPr id="184" name="Text Box 13"/>
          <p:cNvSpPr/>
          <p:nvPr/>
        </p:nvSpPr>
        <p:spPr>
          <a:xfrm>
            <a:off x="1295280" y="0"/>
            <a:ext cx="342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66"/>
                </a:solidFill>
                <a:latin typeface="Comic Sans MS"/>
              </a:rPr>
              <a:t>xiā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1703520" y="1295280"/>
            <a:ext cx="18572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0" spc="-1" strike="noStrike">
                <a:solidFill>
                  <a:srgbClr val="0000ff"/>
                </a:solidFill>
                <a:latin typeface="Arial"/>
                <a:ea typeface="楷体_GB2312"/>
              </a:rPr>
              <a:t>乡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4954680" y="29750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6"/>
          <p:cNvSpPr/>
          <p:nvPr/>
        </p:nvSpPr>
        <p:spPr>
          <a:xfrm>
            <a:off x="4876920" y="990720"/>
            <a:ext cx="3886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家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故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乡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乡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乡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539640" y="5157720"/>
            <a:ext cx="860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900000" y="1484280"/>
          <a:ext cx="3581280" cy="35924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</a:tblGrid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</a:tbl>
          </a:graphicData>
        </a:graphic>
      </p:graphicFrame>
      <p:sp>
        <p:nvSpPr>
          <p:cNvPr id="190" name="Text Box 13"/>
          <p:cNvSpPr/>
          <p:nvPr/>
        </p:nvSpPr>
        <p:spPr>
          <a:xfrm>
            <a:off x="1447920" y="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66"/>
                </a:solidFill>
                <a:latin typeface="Comic Sans MS"/>
              </a:rPr>
              <a:t>mià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1925640" y="1600200"/>
            <a:ext cx="18572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0" spc="-1" strike="noStrike">
                <a:solidFill>
                  <a:srgbClr val="0000ff"/>
                </a:solidFill>
                <a:latin typeface="Arial"/>
                <a:ea typeface="楷体_GB2312"/>
              </a:rPr>
              <a:t>面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4954680" y="29750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4876920" y="990720"/>
            <a:ext cx="3886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面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见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里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外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表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539640" y="5157720"/>
            <a:ext cx="860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900000" y="1484280"/>
          <a:ext cx="3581280" cy="35924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</a:tblGrid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</a:tbl>
          </a:graphicData>
        </a:graphic>
      </p:graphicFrame>
      <p:sp>
        <p:nvSpPr>
          <p:cNvPr id="196" name="Text Box 13"/>
          <p:cNvSpPr/>
          <p:nvPr/>
        </p:nvSpPr>
        <p:spPr>
          <a:xfrm>
            <a:off x="1295280" y="0"/>
            <a:ext cx="342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66"/>
                </a:solidFill>
                <a:latin typeface="Comic Sans MS"/>
              </a:rPr>
              <a:t>wà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1779480" y="1432080"/>
            <a:ext cx="18572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0" spc="-1" strike="noStrike">
                <a:solidFill>
                  <a:srgbClr val="0000ff"/>
                </a:solidFill>
                <a:latin typeface="Arial"/>
                <a:ea typeface="楷体_GB2312"/>
              </a:rPr>
              <a:t>忘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4954680" y="29750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4932360" y="148428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忘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忘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忘恩负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忘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539640" y="5157720"/>
            <a:ext cx="860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900000" y="1484280"/>
          <a:ext cx="3581280" cy="35924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</a:tblGrid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</a:tbl>
          </a:graphicData>
        </a:graphic>
      </p:graphicFrame>
      <p:sp>
        <p:nvSpPr>
          <p:cNvPr id="202" name="Text Box 13"/>
          <p:cNvSpPr/>
          <p:nvPr/>
        </p:nvSpPr>
        <p:spPr>
          <a:xfrm>
            <a:off x="1295280" y="0"/>
            <a:ext cx="342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66"/>
                </a:solidFill>
                <a:latin typeface="Comic Sans MS"/>
              </a:rPr>
              <a:t>xiǎ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779480" y="1219320"/>
            <a:ext cx="18572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0" spc="-1" strike="noStrike">
                <a:solidFill>
                  <a:srgbClr val="0000ff"/>
                </a:solidFill>
                <a:latin typeface="Arial"/>
                <a:ea typeface="楷体_GB2312"/>
              </a:rPr>
              <a:t>想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4954680" y="29750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4876920" y="838080"/>
            <a:ext cx="3886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想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想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思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想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理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539640" y="5157720"/>
            <a:ext cx="860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900000" y="1484280"/>
          <a:ext cx="3581280" cy="35924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</a:tblGrid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</a:tbl>
          </a:graphicData>
        </a:graphic>
      </p:graphicFrame>
      <p:sp>
        <p:nvSpPr>
          <p:cNvPr id="208" name="Text Box 13"/>
          <p:cNvSpPr/>
          <p:nvPr/>
        </p:nvSpPr>
        <p:spPr>
          <a:xfrm>
            <a:off x="1600200" y="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66"/>
                </a:solidFill>
                <a:latin typeface="Comic Sans MS"/>
              </a:rPr>
              <a:t>nià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1925640" y="1295280"/>
            <a:ext cx="18572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0" spc="-1" strike="noStrike">
                <a:solidFill>
                  <a:srgbClr val="0000ff"/>
                </a:solidFill>
                <a:latin typeface="Arial"/>
                <a:ea typeface="楷体_GB2312"/>
              </a:rPr>
              <a:t>念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4954680" y="29750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4932360" y="148428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想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思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怀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念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7"/>
          <p:cNvSpPr/>
          <p:nvPr/>
        </p:nvSpPr>
        <p:spPr>
          <a:xfrm>
            <a:off x="539640" y="5157720"/>
            <a:ext cx="860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0" y="903240"/>
            <a:ext cx="9144000" cy="44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3399"/>
                </a:solidFill>
                <a:latin typeface="华文宋体"/>
                <a:ea typeface="华文宋体"/>
              </a:rPr>
              <a:t>连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宋体"/>
                <a:ea typeface="华文宋体"/>
              </a:rPr>
              <a:t>曹冲        聪明勇敢救出小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宋体"/>
                <a:ea typeface="华文宋体"/>
              </a:rPr>
              <a:t>毛主席      善于动脑筋想办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宋体"/>
                <a:ea typeface="华文宋体"/>
              </a:rPr>
              <a:t>司马光      关心爱护人民群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"/>
          <p:cNvSpPr/>
          <p:nvPr/>
        </p:nvSpPr>
        <p:spPr>
          <a:xfrm>
            <a:off x="1403280" y="2351160"/>
            <a:ext cx="2016360" cy="1149120"/>
          </a:xfrm>
          <a:prstGeom prst="line">
            <a:avLst/>
          </a:prstGeom>
          <a:ln cap="sq"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1835280" y="3500280"/>
            <a:ext cx="1584360" cy="93672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5"/>
          <p:cNvSpPr/>
          <p:nvPr/>
        </p:nvSpPr>
        <p:spPr>
          <a:xfrm flipV="1">
            <a:off x="1905120" y="2492280"/>
            <a:ext cx="1555560" cy="1851120"/>
          </a:xfrm>
          <a:prstGeom prst="line">
            <a:avLst/>
          </a:prstGeom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nextslide"/>
          </p:cNvPr>
          <p:cNvSpPr/>
          <p:nvPr/>
        </p:nvSpPr>
        <p:spPr>
          <a:xfrm>
            <a:off x="7308720" y="6093000"/>
            <a:ext cx="1295640" cy="431640"/>
          </a:xfrm>
          <a:custGeom>
            <a:avLst/>
            <a:gdLst>
              <a:gd name="textAreaLeft" fmla="*/ 26640 w 1295640"/>
              <a:gd name="textAreaRight" fmla="*/ 1269000 w 1295640"/>
              <a:gd name="textAreaTop" fmla="*/ 26640 h 431640"/>
              <a:gd name="textAreaBottom" fmla="*/ 405000 h 431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50" y="1350"/>
                </a:lnTo>
                <a:lnTo>
                  <a:pt x="1350" y="135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50" y="20250"/>
                </a:lnTo>
                <a:lnTo>
                  <a:pt x="63450" y="135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450" y="2025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结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38"/>
          <p:cNvPicPr/>
          <p:nvPr/>
        </p:nvPicPr>
        <p:blipFill>
          <a:blip r:embed="rId2"/>
          <a:stretch/>
        </p:blipFill>
        <p:spPr>
          <a:xfrm>
            <a:off x="914400" y="228600"/>
            <a:ext cx="1127160" cy="1295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2209680" y="762120"/>
            <a:ext cx="30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找一找，写一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187280" y="2133720"/>
            <a:ext cx="547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1258920" y="2133720"/>
            <a:ext cx="504720" cy="43164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1979640" y="2421000"/>
            <a:ext cx="504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2556000" y="213372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想  ）  （     ）   （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2556000" y="328464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河   ）  （     ）   （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2556000" y="4508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）  （     ）   （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1332000" y="4508640"/>
            <a:ext cx="576000" cy="5047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2050920" y="3645000"/>
            <a:ext cx="505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2050920" y="4797360"/>
            <a:ext cx="505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3"/>
          <p:cNvSpPr/>
          <p:nvPr/>
        </p:nvSpPr>
        <p:spPr>
          <a:xfrm>
            <a:off x="1258920" y="3357720"/>
            <a:ext cx="576360" cy="5047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38"/>
          <p:cNvPicPr/>
          <p:nvPr/>
        </p:nvPicPr>
        <p:blipFill>
          <a:blip r:embed="rId2"/>
          <a:stretch/>
        </p:blipFill>
        <p:spPr>
          <a:xfrm>
            <a:off x="914400" y="228600"/>
            <a:ext cx="1127160" cy="12952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2209680" y="762120"/>
            <a:ext cx="30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找一找，写一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187280" y="2133720"/>
            <a:ext cx="547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"/>
          <p:cNvSpPr/>
          <p:nvPr/>
        </p:nvSpPr>
        <p:spPr>
          <a:xfrm>
            <a:off x="1258920" y="2133720"/>
            <a:ext cx="504720" cy="43164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1979640" y="2421000"/>
            <a:ext cx="504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2556000" y="213372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想）  （ 念 ）（ 意）（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2556000" y="3284640"/>
            <a:ext cx="62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河  ）（ 海 ）（ 江 ）（法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（沙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2556000" y="4508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（叫 ）（ 吓 ）（听） （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1258920" y="3357720"/>
            <a:ext cx="576360" cy="5047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1332000" y="4508640"/>
            <a:ext cx="576000" cy="5047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2"/>
          <p:cNvSpPr/>
          <p:nvPr/>
        </p:nvSpPr>
        <p:spPr>
          <a:xfrm>
            <a:off x="2050920" y="3645000"/>
            <a:ext cx="505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3"/>
          <p:cNvSpPr/>
          <p:nvPr/>
        </p:nvSpPr>
        <p:spPr>
          <a:xfrm>
            <a:off x="2050920" y="4797360"/>
            <a:ext cx="505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填空：</a:t>
            </a:r>
            <a:endParaRPr b="1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（    ）石碑    一（    ）井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（    ）鲜花    一（    ）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（    ）山羊    一（    ）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（    ）池塘    一（    ）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个（         ）   一句（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枝（         ）   一双（      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填空：</a:t>
            </a:r>
            <a:endParaRPr b="1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（块）石碑    一（口）井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（束）鲜花    一（棵）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（只）山羊    一（只）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（个）池塘    一（本）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个（学生）   一句（话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枝（毛笔）   一双（手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1752480"/>
            <a:ext cx="92962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瑞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金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沙洲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坝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毛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主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席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领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很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    战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士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乡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  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以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碑    想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BAS0006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979640" y="1773360"/>
            <a:ext cx="630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瑞金城外有个小村子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沙洲坝。毛主席在江西领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革命的时候，就在那儿住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148360" y="2349360"/>
            <a:ext cx="93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763640" y="134136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瑞金城外有个小村子叫沙洲坝。毛主席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在江西领导革命的时候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就在那儿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010640" y="486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692360" y="1341360"/>
            <a:ext cx="66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瑞金城外有个小村子叫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沙洲坝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毛主席在江西领导革命的时候，就在那儿住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7083360" y="486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地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913480" y="1413000"/>
            <a:ext cx="4155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瑞金城外有个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子叫沙洲坝。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毛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席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江西领导革命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候，就在那儿住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7083360" y="486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人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1T06:39:13Z</dcterms:created>
  <dc:creator/>
  <dc:description/>
  <cp:keywords>幻灯片之家 http:/www.eeppt.com</cp:keywords>
  <dc:language>en-US</dc:language>
  <cp:lastModifiedBy/>
  <dcterms:modified xsi:type="dcterms:W3CDTF">2015-07-20T07:44:59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