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B10-13D0-44DD-8CCB-3BA40621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819-766E-4390-AEDD-1BB0CFA9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B36-7C0F-4A51-BC8F-6CADB266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40F-5610-4057-A559-20185AD9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CB28-7398-4566-8243-2A0C3DEF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06BA-3E8A-40B0-A543-2758B135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E17E-7184-430C-A839-E49A9708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50B8-49C4-439D-A0C2-3021C523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6ED-1B13-4C0C-B868-B274D0EF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3F5-6EE9-453B-99E8-B410BB53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F1D-7A43-466B-877C-5925A7F5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EDB-AC2D-40AB-9411-0B8C1DC4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D1D9-4299-4117-BDE7-5CB6F1A90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2.png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4.wmf"/><Relationship Id="rId44" Type="http://schemas.openxmlformats.org/officeDocument/2006/relationships/image" Target="../media/image4.wmf"/><Relationship Id="rId45" Type="http://schemas.openxmlformats.org/officeDocument/2006/relationships/image" Target="../media/image1.png"/><Relationship Id="rId46" Type="http://schemas.openxmlformats.org/officeDocument/2006/relationships/image" Target="../media/image1.png"/><Relationship Id="rId47" Type="http://schemas.openxmlformats.org/officeDocument/2006/relationships/image" Target="../media/image1.png"/><Relationship Id="rId4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3"/>
          <p:cNvGrpSpPr/>
          <p:nvPr/>
        </p:nvGrpSpPr>
        <p:grpSpPr>
          <a:xfrm>
            <a:off x="4319640" y="3141720"/>
            <a:ext cx="1799640" cy="1457280"/>
            <a:chOff x="4319640" y="3141720"/>
            <a:chExt cx="1799640" cy="1457280"/>
          </a:xfrm>
        </p:grpSpPr>
        <p:sp>
          <p:nvSpPr>
            <p:cNvPr id="42" name="Cloud"/>
            <p:cNvSpPr/>
            <p:nvPr/>
          </p:nvSpPr>
          <p:spPr>
            <a:xfrm>
              <a:off x="4803480" y="3633840"/>
              <a:ext cx="1315800" cy="73512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Cloud"/>
            <p:cNvSpPr/>
            <p:nvPr/>
          </p:nvSpPr>
          <p:spPr>
            <a:xfrm>
              <a:off x="4319640" y="371952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Cloud"/>
            <p:cNvSpPr/>
            <p:nvPr/>
          </p:nvSpPr>
          <p:spPr>
            <a:xfrm>
              <a:off x="4803480" y="3862440"/>
              <a:ext cx="1315800" cy="736560"/>
            </a:xfrm>
            <a:custGeom>
              <a:avLst/>
              <a:gdLst>
                <a:gd name="textAreaLeft" fmla="*/ 180720 w 1315800"/>
                <a:gd name="textAreaRight" fmla="*/ 1041120 w 1315800"/>
                <a:gd name="textAreaTop" fmla="*/ 110880 h 736560"/>
                <a:gd name="textAreaBottom" fmla="*/ 590760 h 7365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Cloud"/>
            <p:cNvSpPr/>
            <p:nvPr/>
          </p:nvSpPr>
          <p:spPr>
            <a:xfrm>
              <a:off x="4679640" y="3375000"/>
              <a:ext cx="1028520" cy="735120"/>
            </a:xfrm>
            <a:custGeom>
              <a:avLst/>
              <a:gdLst>
                <a:gd name="textAreaLeft" fmla="*/ 141120 w 1028520"/>
                <a:gd name="textAreaRight" fmla="*/ 814320 w 1028520"/>
                <a:gd name="textAreaTop" fmla="*/ 110880 h 735120"/>
                <a:gd name="textAreaBottom" fmla="*/ 590760 h 73512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Cloud"/>
            <p:cNvSpPr/>
            <p:nvPr/>
          </p:nvSpPr>
          <p:spPr>
            <a:xfrm>
              <a:off x="4966920" y="3141720"/>
              <a:ext cx="576000" cy="880920"/>
            </a:xfrm>
            <a:custGeom>
              <a:avLst/>
              <a:gdLst>
                <a:gd name="textAreaLeft" fmla="*/ 79200 w 576000"/>
                <a:gd name="textAreaRight" fmla="*/ 455400 w 576000"/>
                <a:gd name="textAreaTop" fmla="*/ 133200 h 880920"/>
                <a:gd name="textAreaBottom" fmla="*/ 706320 h 88092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Freeform 4"/>
          <p:cNvSpPr/>
          <p:nvPr/>
        </p:nvSpPr>
        <p:spPr>
          <a:xfrm>
            <a:off x="-36360" y="2852640"/>
            <a:ext cx="9224640" cy="2473560"/>
          </a:xfrm>
          <a:custGeom>
            <a:avLst/>
            <a:gdLst/>
            <a:ahLst/>
            <a:rect l="l" t="t" r="r" b="b"/>
            <a:pathLst>
              <a:path w="5811" h="1558">
                <a:moveTo>
                  <a:pt x="23" y="583"/>
                </a:moveTo>
                <a:cubicBezTo>
                  <a:pt x="342" y="689"/>
                  <a:pt x="488" y="937"/>
                  <a:pt x="635" y="953"/>
                </a:cubicBezTo>
                <a:cubicBezTo>
                  <a:pt x="782" y="969"/>
                  <a:pt x="819" y="706"/>
                  <a:pt x="907" y="681"/>
                </a:cubicBezTo>
                <a:cubicBezTo>
                  <a:pt x="995" y="656"/>
                  <a:pt x="1052" y="861"/>
                  <a:pt x="1166" y="800"/>
                </a:cubicBezTo>
                <a:cubicBezTo>
                  <a:pt x="1280" y="739"/>
                  <a:pt x="1451" y="321"/>
                  <a:pt x="1588" y="318"/>
                </a:cubicBezTo>
                <a:cubicBezTo>
                  <a:pt x="1751" y="431"/>
                  <a:pt x="1987" y="781"/>
                  <a:pt x="1987" y="781"/>
                </a:cubicBezTo>
                <a:cubicBezTo>
                  <a:pt x="2100" y="819"/>
                  <a:pt x="2115" y="538"/>
                  <a:pt x="2268" y="544"/>
                </a:cubicBezTo>
                <a:cubicBezTo>
                  <a:pt x="2516" y="809"/>
                  <a:pt x="2903" y="817"/>
                  <a:pt x="2903" y="817"/>
                </a:cubicBezTo>
                <a:cubicBezTo>
                  <a:pt x="3144" y="728"/>
                  <a:pt x="3630" y="30"/>
                  <a:pt x="3715" y="7"/>
                </a:cubicBezTo>
                <a:cubicBezTo>
                  <a:pt x="3809" y="16"/>
                  <a:pt x="3931" y="137"/>
                  <a:pt x="3992" y="136"/>
                </a:cubicBezTo>
                <a:cubicBezTo>
                  <a:pt x="4053" y="135"/>
                  <a:pt x="4008" y="35"/>
                  <a:pt x="4082" y="0"/>
                </a:cubicBezTo>
                <a:cubicBezTo>
                  <a:pt x="4112" y="25"/>
                  <a:pt x="4355" y="227"/>
                  <a:pt x="4355" y="227"/>
                </a:cubicBezTo>
                <a:cubicBezTo>
                  <a:pt x="4437" y="241"/>
                  <a:pt x="4489" y="35"/>
                  <a:pt x="4574" y="82"/>
                </a:cubicBezTo>
                <a:cubicBezTo>
                  <a:pt x="4659" y="129"/>
                  <a:pt x="4967" y="681"/>
                  <a:pt x="5171" y="726"/>
                </a:cubicBezTo>
                <a:cubicBezTo>
                  <a:pt x="5632" y="715"/>
                  <a:pt x="5699" y="44"/>
                  <a:pt x="5802" y="346"/>
                </a:cubicBezTo>
                <a:cubicBezTo>
                  <a:pt x="5811" y="658"/>
                  <a:pt x="5798" y="462"/>
                  <a:pt x="5798" y="1416"/>
                </a:cubicBezTo>
                <a:cubicBezTo>
                  <a:pt x="4656" y="1435"/>
                  <a:pt x="1477" y="1381"/>
                  <a:pt x="23" y="1371"/>
                </a:cubicBezTo>
                <a:cubicBezTo>
                  <a:pt x="41" y="1060"/>
                  <a:pt x="0" y="1558"/>
                  <a:pt x="23" y="583"/>
                </a:cubicBezTo>
                <a:close/>
              </a:path>
            </a:pathLst>
          </a:custGeom>
          <a:gradFill rotWithShape="0">
            <a:gsLst>
              <a:gs pos="0">
                <a:srgbClr val="9bda07"/>
              </a:gs>
              <a:gs pos="100000">
                <a:srgbClr val="44b8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970"/>
          <p:cNvGrpSpPr/>
          <p:nvPr/>
        </p:nvGrpSpPr>
        <p:grpSpPr>
          <a:xfrm>
            <a:off x="3464640" y="4159080"/>
            <a:ext cx="1395000" cy="898200"/>
            <a:chOff x="3464640" y="4159080"/>
            <a:chExt cx="1395000" cy="898200"/>
          </a:xfrm>
        </p:grpSpPr>
        <p:sp>
          <p:nvSpPr>
            <p:cNvPr id="49" name="Freeform 1971"/>
            <p:cNvSpPr/>
            <p:nvPr/>
          </p:nvSpPr>
          <p:spPr>
            <a:xfrm rot="735600">
              <a:off x="4380840" y="43959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972"/>
            <p:cNvSpPr/>
            <p:nvPr/>
          </p:nvSpPr>
          <p:spPr>
            <a:xfrm rot="735600">
              <a:off x="4133520" y="432828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973"/>
            <p:cNvSpPr/>
            <p:nvPr/>
          </p:nvSpPr>
          <p:spPr>
            <a:xfrm rot="735600">
              <a:off x="3809160" y="42717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974"/>
            <p:cNvSpPr/>
            <p:nvPr/>
          </p:nvSpPr>
          <p:spPr>
            <a:xfrm rot="735600">
              <a:off x="3525840" y="4196160"/>
              <a:ext cx="41688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55"/>
          <p:cNvGrpSpPr/>
          <p:nvPr/>
        </p:nvGrpSpPr>
        <p:grpSpPr>
          <a:xfrm>
            <a:off x="6815880" y="4283640"/>
            <a:ext cx="1492200" cy="1062000"/>
            <a:chOff x="6815880" y="4283640"/>
            <a:chExt cx="1492200" cy="1062000"/>
          </a:xfrm>
        </p:grpSpPr>
        <p:sp>
          <p:nvSpPr>
            <p:cNvPr id="54" name="Freeform 156"/>
            <p:cNvSpPr/>
            <p:nvPr/>
          </p:nvSpPr>
          <p:spPr>
            <a:xfrm rot="1183800">
              <a:off x="7775640" y="466524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57"/>
            <p:cNvSpPr/>
            <p:nvPr/>
          </p:nvSpPr>
          <p:spPr>
            <a:xfrm rot="1183800">
              <a:off x="7525800" y="456120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8"/>
            <p:cNvSpPr/>
            <p:nvPr/>
          </p:nvSpPr>
          <p:spPr>
            <a:xfrm rot="1183800">
              <a:off x="7193880" y="445680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59"/>
            <p:cNvSpPr/>
            <p:nvPr/>
          </p:nvSpPr>
          <p:spPr>
            <a:xfrm rot="1183800">
              <a:off x="6908040" y="4339440"/>
              <a:ext cx="4399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5"/>
          <p:cNvGrpSpPr/>
          <p:nvPr/>
        </p:nvGrpSpPr>
        <p:grpSpPr>
          <a:xfrm>
            <a:off x="2190600" y="4190040"/>
            <a:ext cx="1450800" cy="1080720"/>
            <a:chOff x="2190600" y="4190040"/>
            <a:chExt cx="1450800" cy="1080720"/>
          </a:xfrm>
        </p:grpSpPr>
        <p:sp>
          <p:nvSpPr>
            <p:cNvPr id="59" name="Freeform 146"/>
            <p:cNvSpPr/>
            <p:nvPr/>
          </p:nvSpPr>
          <p:spPr>
            <a:xfrm rot="20841000">
              <a:off x="3137760" y="422568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47"/>
            <p:cNvSpPr/>
            <p:nvPr/>
          </p:nvSpPr>
          <p:spPr>
            <a:xfrm rot="20841000">
              <a:off x="2883600" y="426384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8"/>
            <p:cNvSpPr/>
            <p:nvPr/>
          </p:nvSpPr>
          <p:spPr>
            <a:xfrm rot="20841000">
              <a:off x="2566080" y="435384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49"/>
            <p:cNvSpPr/>
            <p:nvPr/>
          </p:nvSpPr>
          <p:spPr>
            <a:xfrm rot="20841000">
              <a:off x="2276640" y="4400280"/>
              <a:ext cx="416880" cy="8348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50"/>
          <p:cNvGrpSpPr/>
          <p:nvPr/>
        </p:nvGrpSpPr>
        <p:grpSpPr>
          <a:xfrm>
            <a:off x="4932360" y="4230720"/>
            <a:ext cx="2160360" cy="637920"/>
            <a:chOff x="4932360" y="4230720"/>
            <a:chExt cx="2160360" cy="637920"/>
          </a:xfrm>
        </p:grpSpPr>
        <p:sp>
          <p:nvSpPr>
            <p:cNvPr id="64" name="Freeform 151"/>
            <p:cNvSpPr/>
            <p:nvPr/>
          </p:nvSpPr>
          <p:spPr>
            <a:xfrm>
              <a:off x="6397200" y="424440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52"/>
            <p:cNvSpPr/>
            <p:nvPr/>
          </p:nvSpPr>
          <p:spPr>
            <a:xfrm>
              <a:off x="5969520" y="423072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53"/>
            <p:cNvSpPr/>
            <p:nvPr/>
          </p:nvSpPr>
          <p:spPr>
            <a:xfrm>
              <a:off x="5420520" y="424440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54"/>
            <p:cNvSpPr/>
            <p:nvPr/>
          </p:nvSpPr>
          <p:spPr>
            <a:xfrm>
              <a:off x="4932360" y="4230720"/>
              <a:ext cx="6955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40"/>
          <p:cNvGrpSpPr/>
          <p:nvPr/>
        </p:nvGrpSpPr>
        <p:grpSpPr>
          <a:xfrm>
            <a:off x="-24840" y="4489560"/>
            <a:ext cx="2386800" cy="857160"/>
            <a:chOff x="-24840" y="4489560"/>
            <a:chExt cx="2386800" cy="857160"/>
          </a:xfrm>
        </p:grpSpPr>
        <p:sp>
          <p:nvSpPr>
            <p:cNvPr id="69" name="Freeform 141"/>
            <p:cNvSpPr/>
            <p:nvPr/>
          </p:nvSpPr>
          <p:spPr>
            <a:xfrm rot="326400">
              <a:off x="1580760" y="4687920"/>
              <a:ext cx="7531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42"/>
            <p:cNvSpPr/>
            <p:nvPr/>
          </p:nvSpPr>
          <p:spPr>
            <a:xfrm rot="326400">
              <a:off x="1121040" y="4630320"/>
              <a:ext cx="7531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43"/>
            <p:cNvSpPr/>
            <p:nvPr/>
          </p:nvSpPr>
          <p:spPr>
            <a:xfrm rot="326400">
              <a:off x="527760" y="4587480"/>
              <a:ext cx="7531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4"/>
            <p:cNvSpPr/>
            <p:nvPr/>
          </p:nvSpPr>
          <p:spPr>
            <a:xfrm rot="326400">
              <a:off x="2880" y="4523760"/>
              <a:ext cx="753120" cy="624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5"/>
          <p:cNvGrpSpPr/>
          <p:nvPr/>
        </p:nvGrpSpPr>
        <p:grpSpPr>
          <a:xfrm>
            <a:off x="9144000" y="2637000"/>
            <a:ext cx="1366920" cy="792000"/>
            <a:chOff x="9144000" y="2637000"/>
            <a:chExt cx="1366920" cy="792000"/>
          </a:xfrm>
        </p:grpSpPr>
        <p:sp>
          <p:nvSpPr>
            <p:cNvPr id="74" name="Cloud"/>
            <p:cNvSpPr/>
            <p:nvPr/>
          </p:nvSpPr>
          <p:spPr>
            <a:xfrm>
              <a:off x="9343440" y="263700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Cloud"/>
            <p:cNvSpPr/>
            <p:nvPr/>
          </p:nvSpPr>
          <p:spPr>
            <a:xfrm>
              <a:off x="914400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Cloud"/>
            <p:cNvSpPr/>
            <p:nvPr/>
          </p:nvSpPr>
          <p:spPr>
            <a:xfrm>
              <a:off x="9464760" y="2853000"/>
              <a:ext cx="1046160" cy="57600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000"/>
                <a:gd name="textAreaBottom" fmla="*/ 461880 h 5760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Cloud"/>
            <p:cNvSpPr/>
            <p:nvPr/>
          </p:nvSpPr>
          <p:spPr>
            <a:xfrm>
              <a:off x="9343440" y="2779920"/>
              <a:ext cx="1046160" cy="576360"/>
            </a:xfrm>
            <a:custGeom>
              <a:avLst/>
              <a:gdLst>
                <a:gd name="textAreaLeft" fmla="*/ 144000 w 1046160"/>
                <a:gd name="textAreaRight" fmla="*/ 828000 w 1046160"/>
                <a:gd name="textAreaTop" fmla="*/ 87120 h 576360"/>
                <a:gd name="textAreaBottom" fmla="*/ 462240 h 5763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Freeform 5"/>
          <p:cNvSpPr/>
          <p:nvPr/>
        </p:nvSpPr>
        <p:spPr>
          <a:xfrm>
            <a:off x="-538200" y="4365720"/>
            <a:ext cx="10563120" cy="1655640"/>
          </a:xfrm>
          <a:custGeom>
            <a:avLst/>
            <a:gdLst/>
            <a:ahLst/>
            <a:rect l="l" t="t" r="r" b="b"/>
            <a:pathLst>
              <a:path w="6654" h="466">
                <a:moveTo>
                  <a:pt x="323" y="466"/>
                </a:moveTo>
                <a:cubicBezTo>
                  <a:pt x="0" y="396"/>
                  <a:pt x="3133" y="20"/>
                  <a:pt x="4082" y="15"/>
                </a:cubicBezTo>
                <a:cubicBezTo>
                  <a:pt x="5035" y="0"/>
                  <a:pt x="6654" y="358"/>
                  <a:pt x="6019" y="434"/>
                </a:cubicBezTo>
                <a:lnTo>
                  <a:pt x="323" y="46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6"/>
          <p:cNvSpPr/>
          <p:nvPr/>
        </p:nvSpPr>
        <p:spPr>
          <a:xfrm>
            <a:off x="-468360" y="4365720"/>
            <a:ext cx="7094520" cy="1628640"/>
          </a:xfrm>
          <a:custGeom>
            <a:avLst/>
            <a:gdLst/>
            <a:ahLst/>
            <a:rect l="l" t="t" r="r" b="b"/>
            <a:pathLst>
              <a:path w="4469" h="1026">
                <a:moveTo>
                  <a:pt x="242" y="1026"/>
                </a:moveTo>
                <a:cubicBezTo>
                  <a:pt x="0" y="890"/>
                  <a:pt x="1917" y="73"/>
                  <a:pt x="2543" y="46"/>
                </a:cubicBezTo>
                <a:cubicBezTo>
                  <a:pt x="3256" y="0"/>
                  <a:pt x="4469" y="706"/>
                  <a:pt x="3997" y="863"/>
                </a:cubicBezTo>
                <a:lnTo>
                  <a:pt x="242" y="1026"/>
                </a:ln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99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1"/>
          <p:cNvGrpSpPr/>
          <p:nvPr/>
        </p:nvGrpSpPr>
        <p:grpSpPr>
          <a:xfrm>
            <a:off x="2519280" y="2060640"/>
            <a:ext cx="1584000" cy="927000"/>
            <a:chOff x="2519280" y="2060640"/>
            <a:chExt cx="1584000" cy="927000"/>
          </a:xfrm>
        </p:grpSpPr>
        <p:sp>
          <p:nvSpPr>
            <p:cNvPr id="81" name="Cloud"/>
            <p:cNvSpPr/>
            <p:nvPr/>
          </p:nvSpPr>
          <p:spPr>
            <a:xfrm>
              <a:off x="2652120" y="2383920"/>
              <a:ext cx="897120" cy="42804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040"/>
                <a:gd name="textAreaBottom" fmla="*/ 344160 h 42804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Cloud"/>
            <p:cNvSpPr/>
            <p:nvPr/>
          </p:nvSpPr>
          <p:spPr>
            <a:xfrm>
              <a:off x="2519280" y="243288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Cloud"/>
            <p:cNvSpPr/>
            <p:nvPr/>
          </p:nvSpPr>
          <p:spPr>
            <a:xfrm>
              <a:off x="3206160" y="2474640"/>
              <a:ext cx="897120" cy="428760"/>
            </a:xfrm>
            <a:custGeom>
              <a:avLst/>
              <a:gdLst>
                <a:gd name="textAreaLeft" fmla="*/ 123120 w 897120"/>
                <a:gd name="textAreaRight" fmla="*/ 709920 w 89712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Cloud"/>
            <p:cNvSpPr/>
            <p:nvPr/>
          </p:nvSpPr>
          <p:spPr>
            <a:xfrm>
              <a:off x="2567520" y="2233440"/>
              <a:ext cx="701280" cy="427680"/>
            </a:xfrm>
            <a:custGeom>
              <a:avLst/>
              <a:gdLst>
                <a:gd name="textAreaLeft" fmla="*/ 96120 w 701280"/>
                <a:gd name="textAreaRight" fmla="*/ 555120 w 701280"/>
                <a:gd name="textAreaTop" fmla="*/ 64440 h 427680"/>
                <a:gd name="textAreaBottom" fmla="*/ 343800 h 42768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Cloud"/>
            <p:cNvSpPr/>
            <p:nvPr/>
          </p:nvSpPr>
          <p:spPr>
            <a:xfrm>
              <a:off x="2567520" y="2060640"/>
              <a:ext cx="540000" cy="638640"/>
            </a:xfrm>
            <a:custGeom>
              <a:avLst/>
              <a:gdLst>
                <a:gd name="textAreaLeft" fmla="*/ 74520 w 540000"/>
                <a:gd name="textAreaRight" fmla="*/ 427680 w 540000"/>
                <a:gd name="textAreaTop" fmla="*/ 96120 h 638640"/>
                <a:gd name="textAreaBottom" fmla="*/ 513000 h 63864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Cloud"/>
            <p:cNvSpPr/>
            <p:nvPr/>
          </p:nvSpPr>
          <p:spPr>
            <a:xfrm>
              <a:off x="2666520" y="2558880"/>
              <a:ext cx="896760" cy="428760"/>
            </a:xfrm>
            <a:custGeom>
              <a:avLst/>
              <a:gdLst>
                <a:gd name="textAreaLeft" fmla="*/ 123120 w 896760"/>
                <a:gd name="textAreaRight" fmla="*/ 709560 w 896760"/>
                <a:gd name="textAreaTop" fmla="*/ 64440 h 428760"/>
                <a:gd name="textAreaBottom" fmla="*/ 343800 h 4287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2"/>
          <p:cNvGrpSpPr/>
          <p:nvPr/>
        </p:nvGrpSpPr>
        <p:grpSpPr>
          <a:xfrm>
            <a:off x="8064360" y="1701720"/>
            <a:ext cx="936360" cy="576000"/>
            <a:chOff x="8064360" y="1701720"/>
            <a:chExt cx="936360" cy="576000"/>
          </a:xfrm>
        </p:grpSpPr>
        <p:sp>
          <p:nvSpPr>
            <p:cNvPr id="88" name="Cloud"/>
            <p:cNvSpPr/>
            <p:nvPr/>
          </p:nvSpPr>
          <p:spPr>
            <a:xfrm>
              <a:off x="8142840" y="1902600"/>
              <a:ext cx="530280" cy="26604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040"/>
                <a:gd name="textAreaBottom" fmla="*/ 213840 h 26604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Cloud"/>
            <p:cNvSpPr/>
            <p:nvPr/>
          </p:nvSpPr>
          <p:spPr>
            <a:xfrm>
              <a:off x="8064360" y="193320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Cloud"/>
            <p:cNvSpPr/>
            <p:nvPr/>
          </p:nvSpPr>
          <p:spPr>
            <a:xfrm>
              <a:off x="8470440" y="19591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Cloud"/>
            <p:cNvSpPr/>
            <p:nvPr/>
          </p:nvSpPr>
          <p:spPr>
            <a:xfrm>
              <a:off x="8092800" y="1809000"/>
              <a:ext cx="414720" cy="266040"/>
            </a:xfrm>
            <a:custGeom>
              <a:avLst/>
              <a:gdLst>
                <a:gd name="textAreaLeft" fmla="*/ 56880 w 414720"/>
                <a:gd name="textAreaRight" fmla="*/ 328320 w 414720"/>
                <a:gd name="textAreaTop" fmla="*/ 39960 h 266040"/>
                <a:gd name="textAreaBottom" fmla="*/ 213840 h 26604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Cloud"/>
            <p:cNvSpPr/>
            <p:nvPr/>
          </p:nvSpPr>
          <p:spPr>
            <a:xfrm>
              <a:off x="8092800" y="1701720"/>
              <a:ext cx="319320" cy="397080"/>
            </a:xfrm>
            <a:custGeom>
              <a:avLst/>
              <a:gdLst>
                <a:gd name="textAreaLeft" fmla="*/ 43920 w 319320"/>
                <a:gd name="textAreaRight" fmla="*/ 252720 w 319320"/>
                <a:gd name="textAreaTop" fmla="*/ 59760 h 397080"/>
                <a:gd name="textAreaBottom" fmla="*/ 318960 h 39708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Cloud"/>
            <p:cNvSpPr/>
            <p:nvPr/>
          </p:nvSpPr>
          <p:spPr>
            <a:xfrm>
              <a:off x="8151120" y="2011320"/>
              <a:ext cx="530280" cy="266400"/>
            </a:xfrm>
            <a:custGeom>
              <a:avLst/>
              <a:gdLst>
                <a:gd name="textAreaLeft" fmla="*/ 72720 w 530280"/>
                <a:gd name="textAreaRight" fmla="*/ 419760 w 530280"/>
                <a:gd name="textAreaTop" fmla="*/ 39960 h 266400"/>
                <a:gd name="textAreaBottom" fmla="*/ 213840 h 26640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2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utoShape 41"/>
          <p:cNvSpPr/>
          <p:nvPr/>
        </p:nvSpPr>
        <p:spPr>
          <a:xfrm>
            <a:off x="3851280" y="476280"/>
            <a:ext cx="182880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34"/>
          <p:cNvGrpSpPr/>
          <p:nvPr/>
        </p:nvGrpSpPr>
        <p:grpSpPr>
          <a:xfrm>
            <a:off x="1726920" y="4491720"/>
            <a:ext cx="2580840" cy="1374120"/>
            <a:chOff x="1726920" y="4491720"/>
            <a:chExt cx="2580840" cy="1374120"/>
          </a:xfrm>
        </p:grpSpPr>
        <p:sp>
          <p:nvSpPr>
            <p:cNvPr id="96" name="Freeform 135"/>
            <p:cNvSpPr/>
            <p:nvPr/>
          </p:nvSpPr>
          <p:spPr>
            <a:xfrm rot="930000">
              <a:off x="3426480" y="505044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36"/>
            <p:cNvSpPr/>
            <p:nvPr/>
          </p:nvSpPr>
          <p:spPr>
            <a:xfrm rot="930000">
              <a:off x="2957400" y="490392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37"/>
            <p:cNvSpPr/>
            <p:nvPr/>
          </p:nvSpPr>
          <p:spPr>
            <a:xfrm rot="930000">
              <a:off x="2345400" y="475056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38"/>
            <p:cNvSpPr/>
            <p:nvPr/>
          </p:nvSpPr>
          <p:spPr>
            <a:xfrm rot="930000">
              <a:off x="1808640" y="4585320"/>
              <a:ext cx="799200" cy="72180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Freeform 7"/>
          <p:cNvSpPr/>
          <p:nvPr/>
        </p:nvSpPr>
        <p:spPr>
          <a:xfrm>
            <a:off x="0" y="4784760"/>
            <a:ext cx="7631280" cy="2073240"/>
          </a:xfrm>
          <a:custGeom>
            <a:avLst/>
            <a:gdLst/>
            <a:ahLst/>
            <a:rect l="l" t="t" r="r" b="b"/>
            <a:pathLst>
              <a:path w="4807" h="1306">
                <a:moveTo>
                  <a:pt x="0" y="106"/>
                </a:moveTo>
                <a:lnTo>
                  <a:pt x="16" y="1306"/>
                </a:lnTo>
                <a:lnTo>
                  <a:pt x="4289" y="1291"/>
                </a:lnTo>
                <a:cubicBezTo>
                  <a:pt x="4807" y="1172"/>
                  <a:pt x="3572" y="776"/>
                  <a:pt x="3124" y="590"/>
                </a:cubicBezTo>
                <a:cubicBezTo>
                  <a:pt x="2676" y="404"/>
                  <a:pt x="2125" y="255"/>
                  <a:pt x="1604" y="174"/>
                </a:cubicBezTo>
                <a:cubicBezTo>
                  <a:pt x="893" y="0"/>
                  <a:pt x="0" y="106"/>
                  <a:pt x="0" y="106"/>
                </a:cubicBezTo>
                <a:close/>
              </a:path>
            </a:pathLst>
          </a:custGeom>
          <a:gradFill rotWithShape="0">
            <a:gsLst>
              <a:gs pos="0">
                <a:srgbClr val="ccff33"/>
              </a:gs>
              <a:gs pos="100000">
                <a:srgbClr val="00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70"/>
          <p:cNvGrpSpPr/>
          <p:nvPr/>
        </p:nvGrpSpPr>
        <p:grpSpPr>
          <a:xfrm>
            <a:off x="-36360" y="6237360"/>
            <a:ext cx="2549520" cy="647280"/>
            <a:chOff x="-36360" y="6237360"/>
            <a:chExt cx="2549520" cy="647280"/>
          </a:xfrm>
        </p:grpSpPr>
        <p:sp>
          <p:nvSpPr>
            <p:cNvPr id="102" name="Freeform 71"/>
            <p:cNvSpPr/>
            <p:nvPr/>
          </p:nvSpPr>
          <p:spPr>
            <a:xfrm>
              <a:off x="1692360" y="6251400"/>
              <a:ext cx="82080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72"/>
            <p:cNvSpPr/>
            <p:nvPr/>
          </p:nvSpPr>
          <p:spPr>
            <a:xfrm>
              <a:off x="1187640" y="6237360"/>
              <a:ext cx="82080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73"/>
            <p:cNvSpPr/>
            <p:nvPr/>
          </p:nvSpPr>
          <p:spPr>
            <a:xfrm>
              <a:off x="540000" y="6251400"/>
              <a:ext cx="82080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74"/>
            <p:cNvSpPr/>
            <p:nvPr/>
          </p:nvSpPr>
          <p:spPr>
            <a:xfrm>
              <a:off x="-36360" y="6237360"/>
              <a:ext cx="820800" cy="633240"/>
            </a:xfrm>
            <a:custGeom>
              <a:avLst/>
              <a:gdLst/>
              <a:ahLst/>
              <a:rect l="l" t="t" r="r" b="b"/>
              <a:pathLst>
                <a:path w="2304" h="1077">
                  <a:moveTo>
                    <a:pt x="2127" y="132"/>
                  </a:moveTo>
                  <a:lnTo>
                    <a:pt x="2122" y="173"/>
                  </a:lnTo>
                  <a:lnTo>
                    <a:pt x="2123" y="214"/>
                  </a:lnTo>
                  <a:lnTo>
                    <a:pt x="2129" y="255"/>
                  </a:lnTo>
                  <a:lnTo>
                    <a:pt x="2137" y="295"/>
                  </a:lnTo>
                  <a:lnTo>
                    <a:pt x="2146" y="335"/>
                  </a:lnTo>
                  <a:lnTo>
                    <a:pt x="2155" y="376"/>
                  </a:lnTo>
                  <a:lnTo>
                    <a:pt x="2163" y="416"/>
                  </a:lnTo>
                  <a:lnTo>
                    <a:pt x="2168" y="457"/>
                  </a:lnTo>
                  <a:lnTo>
                    <a:pt x="2168" y="524"/>
                  </a:lnTo>
                  <a:lnTo>
                    <a:pt x="2168" y="592"/>
                  </a:lnTo>
                  <a:lnTo>
                    <a:pt x="2168" y="659"/>
                  </a:lnTo>
                  <a:lnTo>
                    <a:pt x="2168" y="727"/>
                  </a:lnTo>
                  <a:lnTo>
                    <a:pt x="2167" y="682"/>
                  </a:lnTo>
                  <a:lnTo>
                    <a:pt x="2162" y="637"/>
                  </a:lnTo>
                  <a:lnTo>
                    <a:pt x="2155" y="593"/>
                  </a:lnTo>
                  <a:lnTo>
                    <a:pt x="2145" y="550"/>
                  </a:lnTo>
                  <a:lnTo>
                    <a:pt x="2134" y="507"/>
                  </a:lnTo>
                  <a:lnTo>
                    <a:pt x="2120" y="464"/>
                  </a:lnTo>
                  <a:lnTo>
                    <a:pt x="2104" y="422"/>
                  </a:lnTo>
                  <a:lnTo>
                    <a:pt x="2086" y="380"/>
                  </a:lnTo>
                  <a:lnTo>
                    <a:pt x="2067" y="340"/>
                  </a:lnTo>
                  <a:lnTo>
                    <a:pt x="2046" y="300"/>
                  </a:lnTo>
                  <a:lnTo>
                    <a:pt x="2024" y="259"/>
                  </a:lnTo>
                  <a:lnTo>
                    <a:pt x="2002" y="220"/>
                  </a:lnTo>
                  <a:lnTo>
                    <a:pt x="1978" y="181"/>
                  </a:lnTo>
                  <a:lnTo>
                    <a:pt x="1955" y="143"/>
                  </a:lnTo>
                  <a:lnTo>
                    <a:pt x="1930" y="106"/>
                  </a:lnTo>
                  <a:lnTo>
                    <a:pt x="1905" y="69"/>
                  </a:lnTo>
                  <a:lnTo>
                    <a:pt x="1911" y="126"/>
                  </a:lnTo>
                  <a:lnTo>
                    <a:pt x="1920" y="180"/>
                  </a:lnTo>
                  <a:lnTo>
                    <a:pt x="1933" y="234"/>
                  </a:lnTo>
                  <a:lnTo>
                    <a:pt x="1947" y="287"/>
                  </a:lnTo>
                  <a:lnTo>
                    <a:pt x="1961" y="341"/>
                  </a:lnTo>
                  <a:lnTo>
                    <a:pt x="1973" y="395"/>
                  </a:lnTo>
                  <a:lnTo>
                    <a:pt x="1983" y="449"/>
                  </a:lnTo>
                  <a:lnTo>
                    <a:pt x="1988" y="506"/>
                  </a:lnTo>
                  <a:lnTo>
                    <a:pt x="1988" y="545"/>
                  </a:lnTo>
                  <a:lnTo>
                    <a:pt x="1988" y="585"/>
                  </a:lnTo>
                  <a:lnTo>
                    <a:pt x="1988" y="627"/>
                  </a:lnTo>
                  <a:lnTo>
                    <a:pt x="1988" y="667"/>
                  </a:lnTo>
                  <a:lnTo>
                    <a:pt x="1986" y="627"/>
                  </a:lnTo>
                  <a:lnTo>
                    <a:pt x="1983" y="586"/>
                  </a:lnTo>
                  <a:lnTo>
                    <a:pt x="1978" y="547"/>
                  </a:lnTo>
                  <a:lnTo>
                    <a:pt x="1971" y="508"/>
                  </a:lnTo>
                  <a:lnTo>
                    <a:pt x="1962" y="469"/>
                  </a:lnTo>
                  <a:lnTo>
                    <a:pt x="1953" y="431"/>
                  </a:lnTo>
                  <a:lnTo>
                    <a:pt x="1941" y="393"/>
                  </a:lnTo>
                  <a:lnTo>
                    <a:pt x="1928" y="355"/>
                  </a:lnTo>
                  <a:lnTo>
                    <a:pt x="1915" y="317"/>
                  </a:lnTo>
                  <a:lnTo>
                    <a:pt x="1898" y="280"/>
                  </a:lnTo>
                  <a:lnTo>
                    <a:pt x="1882" y="244"/>
                  </a:lnTo>
                  <a:lnTo>
                    <a:pt x="1865" y="209"/>
                  </a:lnTo>
                  <a:lnTo>
                    <a:pt x="1846" y="173"/>
                  </a:lnTo>
                  <a:lnTo>
                    <a:pt x="1826" y="137"/>
                  </a:lnTo>
                  <a:lnTo>
                    <a:pt x="1804" y="103"/>
                  </a:lnTo>
                  <a:lnTo>
                    <a:pt x="1782" y="69"/>
                  </a:lnTo>
                  <a:lnTo>
                    <a:pt x="1784" y="165"/>
                  </a:lnTo>
                  <a:lnTo>
                    <a:pt x="1789" y="261"/>
                  </a:lnTo>
                  <a:lnTo>
                    <a:pt x="1796" y="356"/>
                  </a:lnTo>
                  <a:lnTo>
                    <a:pt x="1803" y="451"/>
                  </a:lnTo>
                  <a:lnTo>
                    <a:pt x="1807" y="545"/>
                  </a:lnTo>
                  <a:lnTo>
                    <a:pt x="1810" y="639"/>
                  </a:lnTo>
                  <a:lnTo>
                    <a:pt x="1809" y="735"/>
                  </a:lnTo>
                  <a:lnTo>
                    <a:pt x="1802" y="831"/>
                  </a:lnTo>
                  <a:lnTo>
                    <a:pt x="1798" y="786"/>
                  </a:lnTo>
                  <a:lnTo>
                    <a:pt x="1793" y="740"/>
                  </a:lnTo>
                  <a:lnTo>
                    <a:pt x="1787" y="695"/>
                  </a:lnTo>
                  <a:lnTo>
                    <a:pt x="1781" y="650"/>
                  </a:lnTo>
                  <a:lnTo>
                    <a:pt x="1773" y="605"/>
                  </a:lnTo>
                  <a:lnTo>
                    <a:pt x="1765" y="560"/>
                  </a:lnTo>
                  <a:lnTo>
                    <a:pt x="1754" y="516"/>
                  </a:lnTo>
                  <a:lnTo>
                    <a:pt x="1744" y="472"/>
                  </a:lnTo>
                  <a:lnTo>
                    <a:pt x="1731" y="429"/>
                  </a:lnTo>
                  <a:lnTo>
                    <a:pt x="1718" y="385"/>
                  </a:lnTo>
                  <a:lnTo>
                    <a:pt x="1703" y="342"/>
                  </a:lnTo>
                  <a:lnTo>
                    <a:pt x="1687" y="301"/>
                  </a:lnTo>
                  <a:lnTo>
                    <a:pt x="1668" y="259"/>
                  </a:lnTo>
                  <a:lnTo>
                    <a:pt x="1647" y="218"/>
                  </a:lnTo>
                  <a:lnTo>
                    <a:pt x="1627" y="178"/>
                  </a:lnTo>
                  <a:lnTo>
                    <a:pt x="1602" y="138"/>
                  </a:lnTo>
                  <a:lnTo>
                    <a:pt x="1610" y="223"/>
                  </a:lnTo>
                  <a:lnTo>
                    <a:pt x="1615" y="307"/>
                  </a:lnTo>
                  <a:lnTo>
                    <a:pt x="1615" y="391"/>
                  </a:lnTo>
                  <a:lnTo>
                    <a:pt x="1612" y="475"/>
                  </a:lnTo>
                  <a:lnTo>
                    <a:pt x="1606" y="559"/>
                  </a:lnTo>
                  <a:lnTo>
                    <a:pt x="1598" y="643"/>
                  </a:lnTo>
                  <a:lnTo>
                    <a:pt x="1587" y="727"/>
                  </a:lnTo>
                  <a:lnTo>
                    <a:pt x="1575" y="810"/>
                  </a:lnTo>
                  <a:lnTo>
                    <a:pt x="1574" y="717"/>
                  </a:lnTo>
                  <a:lnTo>
                    <a:pt x="1568" y="623"/>
                  </a:lnTo>
                  <a:lnTo>
                    <a:pt x="1559" y="531"/>
                  </a:lnTo>
                  <a:lnTo>
                    <a:pt x="1546" y="438"/>
                  </a:lnTo>
                  <a:lnTo>
                    <a:pt x="1528" y="347"/>
                  </a:lnTo>
                  <a:lnTo>
                    <a:pt x="1505" y="256"/>
                  </a:lnTo>
                  <a:lnTo>
                    <a:pt x="1477" y="165"/>
                  </a:lnTo>
                  <a:lnTo>
                    <a:pt x="1443" y="76"/>
                  </a:lnTo>
                  <a:lnTo>
                    <a:pt x="1438" y="66"/>
                  </a:lnTo>
                  <a:lnTo>
                    <a:pt x="1432" y="56"/>
                  </a:lnTo>
                  <a:lnTo>
                    <a:pt x="1425" y="45"/>
                  </a:lnTo>
                  <a:lnTo>
                    <a:pt x="1418" y="36"/>
                  </a:lnTo>
                  <a:lnTo>
                    <a:pt x="1409" y="26"/>
                  </a:lnTo>
                  <a:lnTo>
                    <a:pt x="1401" y="18"/>
                  </a:lnTo>
                  <a:lnTo>
                    <a:pt x="1392" y="8"/>
                  </a:lnTo>
                  <a:lnTo>
                    <a:pt x="1381" y="0"/>
                  </a:lnTo>
                  <a:lnTo>
                    <a:pt x="1399" y="58"/>
                  </a:lnTo>
                  <a:lnTo>
                    <a:pt x="1412" y="114"/>
                  </a:lnTo>
                  <a:lnTo>
                    <a:pt x="1424" y="172"/>
                  </a:lnTo>
                  <a:lnTo>
                    <a:pt x="1433" y="229"/>
                  </a:lnTo>
                  <a:lnTo>
                    <a:pt x="1440" y="288"/>
                  </a:lnTo>
                  <a:lnTo>
                    <a:pt x="1443" y="346"/>
                  </a:lnTo>
                  <a:lnTo>
                    <a:pt x="1445" y="404"/>
                  </a:lnTo>
                  <a:lnTo>
                    <a:pt x="1443" y="464"/>
                  </a:lnTo>
                  <a:lnTo>
                    <a:pt x="1439" y="505"/>
                  </a:lnTo>
                  <a:lnTo>
                    <a:pt x="1433" y="545"/>
                  </a:lnTo>
                  <a:lnTo>
                    <a:pt x="1425" y="584"/>
                  </a:lnTo>
                  <a:lnTo>
                    <a:pt x="1416" y="623"/>
                  </a:lnTo>
                  <a:lnTo>
                    <a:pt x="1407" y="662"/>
                  </a:lnTo>
                  <a:lnTo>
                    <a:pt x="1399" y="702"/>
                  </a:lnTo>
                  <a:lnTo>
                    <a:pt x="1393" y="742"/>
                  </a:lnTo>
                  <a:lnTo>
                    <a:pt x="1388" y="782"/>
                  </a:lnTo>
                  <a:lnTo>
                    <a:pt x="1385" y="712"/>
                  </a:lnTo>
                  <a:lnTo>
                    <a:pt x="1380" y="641"/>
                  </a:lnTo>
                  <a:lnTo>
                    <a:pt x="1372" y="570"/>
                  </a:lnTo>
                  <a:lnTo>
                    <a:pt x="1359" y="500"/>
                  </a:lnTo>
                  <a:lnTo>
                    <a:pt x="1340" y="433"/>
                  </a:lnTo>
                  <a:lnTo>
                    <a:pt x="1314" y="369"/>
                  </a:lnTo>
                  <a:lnTo>
                    <a:pt x="1280" y="307"/>
                  </a:lnTo>
                  <a:lnTo>
                    <a:pt x="1236" y="250"/>
                  </a:lnTo>
                  <a:lnTo>
                    <a:pt x="1240" y="316"/>
                  </a:lnTo>
                  <a:lnTo>
                    <a:pt x="1244" y="381"/>
                  </a:lnTo>
                  <a:lnTo>
                    <a:pt x="1249" y="449"/>
                  </a:lnTo>
                  <a:lnTo>
                    <a:pt x="1252" y="516"/>
                  </a:lnTo>
                  <a:lnTo>
                    <a:pt x="1252" y="583"/>
                  </a:lnTo>
                  <a:lnTo>
                    <a:pt x="1249" y="651"/>
                  </a:lnTo>
                  <a:lnTo>
                    <a:pt x="1240" y="717"/>
                  </a:lnTo>
                  <a:lnTo>
                    <a:pt x="1222" y="782"/>
                  </a:lnTo>
                  <a:lnTo>
                    <a:pt x="1219" y="735"/>
                  </a:lnTo>
                  <a:lnTo>
                    <a:pt x="1214" y="688"/>
                  </a:lnTo>
                  <a:lnTo>
                    <a:pt x="1207" y="641"/>
                  </a:lnTo>
                  <a:lnTo>
                    <a:pt x="1199" y="593"/>
                  </a:lnTo>
                  <a:lnTo>
                    <a:pt x="1190" y="546"/>
                  </a:lnTo>
                  <a:lnTo>
                    <a:pt x="1178" y="500"/>
                  </a:lnTo>
                  <a:lnTo>
                    <a:pt x="1165" y="454"/>
                  </a:lnTo>
                  <a:lnTo>
                    <a:pt x="1149" y="408"/>
                  </a:lnTo>
                  <a:lnTo>
                    <a:pt x="1131" y="363"/>
                  </a:lnTo>
                  <a:lnTo>
                    <a:pt x="1112" y="320"/>
                  </a:lnTo>
                  <a:lnTo>
                    <a:pt x="1090" y="278"/>
                  </a:lnTo>
                  <a:lnTo>
                    <a:pt x="1066" y="236"/>
                  </a:lnTo>
                  <a:lnTo>
                    <a:pt x="1039" y="197"/>
                  </a:lnTo>
                  <a:lnTo>
                    <a:pt x="1010" y="159"/>
                  </a:lnTo>
                  <a:lnTo>
                    <a:pt x="979" y="123"/>
                  </a:lnTo>
                  <a:lnTo>
                    <a:pt x="946" y="90"/>
                  </a:lnTo>
                  <a:lnTo>
                    <a:pt x="960" y="175"/>
                  </a:lnTo>
                  <a:lnTo>
                    <a:pt x="977" y="261"/>
                  </a:lnTo>
                  <a:lnTo>
                    <a:pt x="993" y="346"/>
                  </a:lnTo>
                  <a:lnTo>
                    <a:pt x="1009" y="430"/>
                  </a:lnTo>
                  <a:lnTo>
                    <a:pt x="1023" y="514"/>
                  </a:lnTo>
                  <a:lnTo>
                    <a:pt x="1032" y="598"/>
                  </a:lnTo>
                  <a:lnTo>
                    <a:pt x="1037" y="683"/>
                  </a:lnTo>
                  <a:lnTo>
                    <a:pt x="1036" y="768"/>
                  </a:lnTo>
                  <a:lnTo>
                    <a:pt x="1024" y="729"/>
                  </a:lnTo>
                  <a:lnTo>
                    <a:pt x="1008" y="691"/>
                  </a:lnTo>
                  <a:lnTo>
                    <a:pt x="991" y="654"/>
                  </a:lnTo>
                  <a:lnTo>
                    <a:pt x="969" y="619"/>
                  </a:lnTo>
                  <a:lnTo>
                    <a:pt x="946" y="585"/>
                  </a:lnTo>
                  <a:lnTo>
                    <a:pt x="919" y="553"/>
                  </a:lnTo>
                  <a:lnTo>
                    <a:pt x="892" y="523"/>
                  </a:lnTo>
                  <a:lnTo>
                    <a:pt x="862" y="494"/>
                  </a:lnTo>
                  <a:lnTo>
                    <a:pt x="829" y="468"/>
                  </a:lnTo>
                  <a:lnTo>
                    <a:pt x="796" y="444"/>
                  </a:lnTo>
                  <a:lnTo>
                    <a:pt x="760" y="421"/>
                  </a:lnTo>
                  <a:lnTo>
                    <a:pt x="725" y="400"/>
                  </a:lnTo>
                  <a:lnTo>
                    <a:pt x="688" y="381"/>
                  </a:lnTo>
                  <a:lnTo>
                    <a:pt x="650" y="365"/>
                  </a:lnTo>
                  <a:lnTo>
                    <a:pt x="612" y="351"/>
                  </a:lnTo>
                  <a:lnTo>
                    <a:pt x="573" y="340"/>
                  </a:lnTo>
                  <a:lnTo>
                    <a:pt x="596" y="358"/>
                  </a:lnTo>
                  <a:lnTo>
                    <a:pt x="616" y="379"/>
                  </a:lnTo>
                  <a:lnTo>
                    <a:pt x="637" y="401"/>
                  </a:lnTo>
                  <a:lnTo>
                    <a:pt x="655" y="424"/>
                  </a:lnTo>
                  <a:lnTo>
                    <a:pt x="673" y="448"/>
                  </a:lnTo>
                  <a:lnTo>
                    <a:pt x="689" y="474"/>
                  </a:lnTo>
                  <a:lnTo>
                    <a:pt x="703" y="500"/>
                  </a:lnTo>
                  <a:lnTo>
                    <a:pt x="717" y="527"/>
                  </a:lnTo>
                  <a:lnTo>
                    <a:pt x="728" y="554"/>
                  </a:lnTo>
                  <a:lnTo>
                    <a:pt x="737" y="582"/>
                  </a:lnTo>
                  <a:lnTo>
                    <a:pt x="746" y="611"/>
                  </a:lnTo>
                  <a:lnTo>
                    <a:pt x="753" y="639"/>
                  </a:lnTo>
                  <a:lnTo>
                    <a:pt x="759" y="668"/>
                  </a:lnTo>
                  <a:lnTo>
                    <a:pt x="763" y="697"/>
                  </a:lnTo>
                  <a:lnTo>
                    <a:pt x="765" y="726"/>
                  </a:lnTo>
                  <a:lnTo>
                    <a:pt x="766" y="755"/>
                  </a:lnTo>
                  <a:lnTo>
                    <a:pt x="753" y="736"/>
                  </a:lnTo>
                  <a:lnTo>
                    <a:pt x="740" y="718"/>
                  </a:lnTo>
                  <a:lnTo>
                    <a:pt x="727" y="700"/>
                  </a:lnTo>
                  <a:lnTo>
                    <a:pt x="714" y="684"/>
                  </a:lnTo>
                  <a:lnTo>
                    <a:pt x="700" y="668"/>
                  </a:lnTo>
                  <a:lnTo>
                    <a:pt x="687" y="653"/>
                  </a:lnTo>
                  <a:lnTo>
                    <a:pt x="673" y="638"/>
                  </a:lnTo>
                  <a:lnTo>
                    <a:pt x="658" y="624"/>
                  </a:lnTo>
                  <a:lnTo>
                    <a:pt x="643" y="611"/>
                  </a:lnTo>
                  <a:lnTo>
                    <a:pt x="628" y="597"/>
                  </a:lnTo>
                  <a:lnTo>
                    <a:pt x="613" y="584"/>
                  </a:lnTo>
                  <a:lnTo>
                    <a:pt x="596" y="571"/>
                  </a:lnTo>
                  <a:lnTo>
                    <a:pt x="579" y="558"/>
                  </a:lnTo>
                  <a:lnTo>
                    <a:pt x="561" y="545"/>
                  </a:lnTo>
                  <a:lnTo>
                    <a:pt x="544" y="532"/>
                  </a:lnTo>
                  <a:lnTo>
                    <a:pt x="524" y="520"/>
                  </a:lnTo>
                  <a:lnTo>
                    <a:pt x="516" y="508"/>
                  </a:lnTo>
                  <a:lnTo>
                    <a:pt x="503" y="480"/>
                  </a:lnTo>
                  <a:lnTo>
                    <a:pt x="487" y="442"/>
                  </a:lnTo>
                  <a:lnTo>
                    <a:pt x="471" y="400"/>
                  </a:lnTo>
                  <a:lnTo>
                    <a:pt x="454" y="357"/>
                  </a:lnTo>
                  <a:lnTo>
                    <a:pt x="440" y="320"/>
                  </a:lnTo>
                  <a:lnTo>
                    <a:pt x="431" y="295"/>
                  </a:lnTo>
                  <a:lnTo>
                    <a:pt x="427" y="285"/>
                  </a:lnTo>
                  <a:lnTo>
                    <a:pt x="424" y="325"/>
                  </a:lnTo>
                  <a:lnTo>
                    <a:pt x="426" y="380"/>
                  </a:lnTo>
                  <a:lnTo>
                    <a:pt x="432" y="446"/>
                  </a:lnTo>
                  <a:lnTo>
                    <a:pt x="441" y="516"/>
                  </a:lnTo>
                  <a:lnTo>
                    <a:pt x="450" y="586"/>
                  </a:lnTo>
                  <a:lnTo>
                    <a:pt x="456" y="652"/>
                  </a:lnTo>
                  <a:lnTo>
                    <a:pt x="458" y="707"/>
                  </a:lnTo>
                  <a:lnTo>
                    <a:pt x="455" y="748"/>
                  </a:lnTo>
                  <a:lnTo>
                    <a:pt x="442" y="707"/>
                  </a:lnTo>
                  <a:lnTo>
                    <a:pt x="430" y="668"/>
                  </a:lnTo>
                  <a:lnTo>
                    <a:pt x="416" y="628"/>
                  </a:lnTo>
                  <a:lnTo>
                    <a:pt x="401" y="589"/>
                  </a:lnTo>
                  <a:lnTo>
                    <a:pt x="385" y="550"/>
                  </a:lnTo>
                  <a:lnTo>
                    <a:pt x="369" y="510"/>
                  </a:lnTo>
                  <a:lnTo>
                    <a:pt x="351" y="471"/>
                  </a:lnTo>
                  <a:lnTo>
                    <a:pt x="333" y="433"/>
                  </a:lnTo>
                  <a:lnTo>
                    <a:pt x="314" y="395"/>
                  </a:lnTo>
                  <a:lnTo>
                    <a:pt x="295" y="357"/>
                  </a:lnTo>
                  <a:lnTo>
                    <a:pt x="274" y="319"/>
                  </a:lnTo>
                  <a:lnTo>
                    <a:pt x="253" y="282"/>
                  </a:lnTo>
                  <a:lnTo>
                    <a:pt x="233" y="246"/>
                  </a:lnTo>
                  <a:lnTo>
                    <a:pt x="211" y="210"/>
                  </a:lnTo>
                  <a:lnTo>
                    <a:pt x="188" y="174"/>
                  </a:lnTo>
                  <a:lnTo>
                    <a:pt x="165" y="138"/>
                  </a:lnTo>
                  <a:lnTo>
                    <a:pt x="176" y="198"/>
                  </a:lnTo>
                  <a:lnTo>
                    <a:pt x="190" y="257"/>
                  </a:lnTo>
                  <a:lnTo>
                    <a:pt x="204" y="316"/>
                  </a:lnTo>
                  <a:lnTo>
                    <a:pt x="219" y="375"/>
                  </a:lnTo>
                  <a:lnTo>
                    <a:pt x="234" y="433"/>
                  </a:lnTo>
                  <a:lnTo>
                    <a:pt x="248" y="491"/>
                  </a:lnTo>
                  <a:lnTo>
                    <a:pt x="259" y="551"/>
                  </a:lnTo>
                  <a:lnTo>
                    <a:pt x="268" y="609"/>
                  </a:lnTo>
                  <a:lnTo>
                    <a:pt x="268" y="635"/>
                  </a:lnTo>
                  <a:lnTo>
                    <a:pt x="268" y="658"/>
                  </a:lnTo>
                  <a:lnTo>
                    <a:pt x="268" y="681"/>
                  </a:lnTo>
                  <a:lnTo>
                    <a:pt x="268" y="706"/>
                  </a:lnTo>
                  <a:lnTo>
                    <a:pt x="260" y="683"/>
                  </a:lnTo>
                  <a:lnTo>
                    <a:pt x="250" y="660"/>
                  </a:lnTo>
                  <a:lnTo>
                    <a:pt x="240" y="638"/>
                  </a:lnTo>
                  <a:lnTo>
                    <a:pt x="228" y="616"/>
                  </a:lnTo>
                  <a:lnTo>
                    <a:pt x="215" y="596"/>
                  </a:lnTo>
                  <a:lnTo>
                    <a:pt x="202" y="575"/>
                  </a:lnTo>
                  <a:lnTo>
                    <a:pt x="188" y="554"/>
                  </a:lnTo>
                  <a:lnTo>
                    <a:pt x="173" y="535"/>
                  </a:lnTo>
                  <a:lnTo>
                    <a:pt x="157" y="515"/>
                  </a:lnTo>
                  <a:lnTo>
                    <a:pt x="141" y="495"/>
                  </a:lnTo>
                  <a:lnTo>
                    <a:pt x="124" y="477"/>
                  </a:lnTo>
                  <a:lnTo>
                    <a:pt x="107" y="459"/>
                  </a:lnTo>
                  <a:lnTo>
                    <a:pt x="91" y="440"/>
                  </a:lnTo>
                  <a:lnTo>
                    <a:pt x="74" y="423"/>
                  </a:lnTo>
                  <a:lnTo>
                    <a:pt x="56" y="406"/>
                  </a:lnTo>
                  <a:lnTo>
                    <a:pt x="39" y="388"/>
                  </a:lnTo>
                  <a:lnTo>
                    <a:pt x="43" y="431"/>
                  </a:lnTo>
                  <a:lnTo>
                    <a:pt x="51" y="474"/>
                  </a:lnTo>
                  <a:lnTo>
                    <a:pt x="63" y="514"/>
                  </a:lnTo>
                  <a:lnTo>
                    <a:pt x="77" y="554"/>
                  </a:lnTo>
                  <a:lnTo>
                    <a:pt x="90" y="594"/>
                  </a:lnTo>
                  <a:lnTo>
                    <a:pt x="101" y="635"/>
                  </a:lnTo>
                  <a:lnTo>
                    <a:pt x="108" y="677"/>
                  </a:lnTo>
                  <a:lnTo>
                    <a:pt x="109" y="720"/>
                  </a:lnTo>
                  <a:lnTo>
                    <a:pt x="97" y="710"/>
                  </a:lnTo>
                  <a:lnTo>
                    <a:pt x="83" y="698"/>
                  </a:lnTo>
                  <a:lnTo>
                    <a:pt x="70" y="688"/>
                  </a:lnTo>
                  <a:lnTo>
                    <a:pt x="56" y="677"/>
                  </a:lnTo>
                  <a:lnTo>
                    <a:pt x="43" y="668"/>
                  </a:lnTo>
                  <a:lnTo>
                    <a:pt x="29" y="658"/>
                  </a:lnTo>
                  <a:lnTo>
                    <a:pt x="15" y="647"/>
                  </a:lnTo>
                  <a:lnTo>
                    <a:pt x="0" y="638"/>
                  </a:lnTo>
                  <a:lnTo>
                    <a:pt x="0" y="1077"/>
                  </a:lnTo>
                  <a:lnTo>
                    <a:pt x="2304" y="1077"/>
                  </a:lnTo>
                  <a:lnTo>
                    <a:pt x="2304" y="574"/>
                  </a:lnTo>
                  <a:lnTo>
                    <a:pt x="2294" y="522"/>
                  </a:lnTo>
                  <a:lnTo>
                    <a:pt x="2280" y="470"/>
                  </a:lnTo>
                  <a:lnTo>
                    <a:pt x="2265" y="418"/>
                  </a:lnTo>
                  <a:lnTo>
                    <a:pt x="2249" y="368"/>
                  </a:lnTo>
                  <a:lnTo>
                    <a:pt x="2230" y="317"/>
                  </a:lnTo>
                  <a:lnTo>
                    <a:pt x="2211" y="266"/>
                  </a:lnTo>
                  <a:lnTo>
                    <a:pt x="2190" y="217"/>
                  </a:lnTo>
                  <a:lnTo>
                    <a:pt x="2168" y="166"/>
                  </a:lnTo>
                  <a:lnTo>
                    <a:pt x="2162" y="160"/>
                  </a:lnTo>
                  <a:lnTo>
                    <a:pt x="2157" y="153"/>
                  </a:lnTo>
                  <a:lnTo>
                    <a:pt x="2151" y="148"/>
                  </a:lnTo>
                  <a:lnTo>
                    <a:pt x="2145" y="141"/>
                  </a:lnTo>
                  <a:lnTo>
                    <a:pt x="2139" y="136"/>
                  </a:lnTo>
                  <a:lnTo>
                    <a:pt x="2134" y="132"/>
                  </a:lnTo>
                  <a:lnTo>
                    <a:pt x="2130" y="130"/>
                  </a:lnTo>
                  <a:lnTo>
                    <a:pt x="2127" y="132"/>
                  </a:lnTo>
                  <a:close/>
                </a:path>
              </a:pathLst>
            </a:custGeom>
            <a:gradFill rotWithShape="0">
              <a:gsLst>
                <a:gs pos="0">
                  <a:srgbClr val="ccff33"/>
                </a:gs>
                <a:gs pos="100000">
                  <a:srgbClr val="00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39"/>
          <p:cNvGrpSpPr/>
          <p:nvPr/>
        </p:nvGrpSpPr>
        <p:grpSpPr>
          <a:xfrm>
            <a:off x="2015640" y="4724280"/>
            <a:ext cx="7186680" cy="1958760"/>
            <a:chOff x="2015640" y="4724280"/>
            <a:chExt cx="7186680" cy="1958760"/>
          </a:xfrm>
        </p:grpSpPr>
        <p:grpSp>
          <p:nvGrpSpPr>
            <p:cNvPr id="107" name="Group 99"/>
            <p:cNvGrpSpPr/>
            <p:nvPr/>
          </p:nvGrpSpPr>
          <p:grpSpPr>
            <a:xfrm>
              <a:off x="6610320" y="4724280"/>
              <a:ext cx="2549520" cy="647280"/>
              <a:chOff x="6610320" y="4724280"/>
              <a:chExt cx="2549520" cy="647280"/>
            </a:xfrm>
          </p:grpSpPr>
          <p:sp>
            <p:nvSpPr>
              <p:cNvPr id="108" name="Freeform 100"/>
              <p:cNvSpPr/>
              <p:nvPr/>
            </p:nvSpPr>
            <p:spPr>
              <a:xfrm>
                <a:off x="8339040" y="47383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01"/>
              <p:cNvSpPr/>
              <p:nvPr/>
            </p:nvSpPr>
            <p:spPr>
              <a:xfrm>
                <a:off x="7834320" y="472428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2"/>
              <p:cNvSpPr/>
              <p:nvPr/>
            </p:nvSpPr>
            <p:spPr>
              <a:xfrm>
                <a:off x="7186680" y="473832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03"/>
              <p:cNvSpPr/>
              <p:nvPr/>
            </p:nvSpPr>
            <p:spPr>
              <a:xfrm>
                <a:off x="6610320" y="472428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04"/>
            <p:cNvGrpSpPr/>
            <p:nvPr/>
          </p:nvGrpSpPr>
          <p:grpSpPr>
            <a:xfrm>
              <a:off x="2015640" y="4862160"/>
              <a:ext cx="3627720" cy="1820880"/>
              <a:chOff x="2015640" y="4862160"/>
              <a:chExt cx="3627720" cy="1820880"/>
            </a:xfrm>
          </p:grpSpPr>
          <p:sp>
            <p:nvSpPr>
              <p:cNvPr id="113" name="Freeform 105"/>
              <p:cNvSpPr/>
              <p:nvPr/>
            </p:nvSpPr>
            <p:spPr>
              <a:xfrm rot="20519400">
                <a:off x="4406040" y="502020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06"/>
              <p:cNvSpPr/>
              <p:nvPr/>
            </p:nvSpPr>
            <p:spPr>
              <a:xfrm rot="20519400">
                <a:off x="3731400" y="522180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07"/>
              <p:cNvSpPr/>
              <p:nvPr/>
            </p:nvSpPr>
            <p:spPr>
              <a:xfrm rot="20519400">
                <a:off x="2876760" y="551736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08"/>
              <p:cNvSpPr/>
              <p:nvPr/>
            </p:nvSpPr>
            <p:spPr>
              <a:xfrm rot="20519400">
                <a:off x="2107080" y="5749920"/>
                <a:ext cx="1145160" cy="77472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119"/>
            <p:cNvGrpSpPr/>
            <p:nvPr/>
          </p:nvGrpSpPr>
          <p:grpSpPr>
            <a:xfrm>
              <a:off x="4494960" y="4776120"/>
              <a:ext cx="2073960" cy="832680"/>
              <a:chOff x="4494960" y="4776120"/>
              <a:chExt cx="2073960" cy="832680"/>
            </a:xfrm>
          </p:grpSpPr>
          <p:sp>
            <p:nvSpPr>
              <p:cNvPr id="118" name="Freeform 120"/>
              <p:cNvSpPr/>
              <p:nvPr/>
            </p:nvSpPr>
            <p:spPr>
              <a:xfrm rot="21228600">
                <a:off x="5887440" y="48088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21"/>
              <p:cNvSpPr/>
              <p:nvPr/>
            </p:nvSpPr>
            <p:spPr>
              <a:xfrm rot="21228600">
                <a:off x="5489640" y="48376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22"/>
              <p:cNvSpPr/>
              <p:nvPr/>
            </p:nvSpPr>
            <p:spPr>
              <a:xfrm rot="21228600">
                <a:off x="4981680" y="49068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23"/>
              <p:cNvSpPr/>
              <p:nvPr/>
            </p:nvSpPr>
            <p:spPr>
              <a:xfrm rot="21228600">
                <a:off x="4527000" y="49420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124"/>
            <p:cNvGrpSpPr/>
            <p:nvPr/>
          </p:nvGrpSpPr>
          <p:grpSpPr>
            <a:xfrm>
              <a:off x="6035400" y="4725720"/>
              <a:ext cx="2016000" cy="647640"/>
              <a:chOff x="6035400" y="4725720"/>
              <a:chExt cx="2016000" cy="647640"/>
            </a:xfrm>
          </p:grpSpPr>
          <p:sp>
            <p:nvSpPr>
              <p:cNvPr id="123" name="Freeform 125"/>
              <p:cNvSpPr/>
              <p:nvPr/>
            </p:nvSpPr>
            <p:spPr>
              <a:xfrm>
                <a:off x="7402320" y="473976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26"/>
              <p:cNvSpPr/>
              <p:nvPr/>
            </p:nvSpPr>
            <p:spPr>
              <a:xfrm>
                <a:off x="7003440" y="472572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27"/>
              <p:cNvSpPr/>
              <p:nvPr/>
            </p:nvSpPr>
            <p:spPr>
              <a:xfrm>
                <a:off x="6491160" y="473976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28"/>
              <p:cNvSpPr/>
              <p:nvPr/>
            </p:nvSpPr>
            <p:spPr>
              <a:xfrm>
                <a:off x="6035400" y="4725720"/>
                <a:ext cx="649080" cy="63360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129"/>
            <p:cNvGrpSpPr/>
            <p:nvPr/>
          </p:nvGrpSpPr>
          <p:grpSpPr>
            <a:xfrm>
              <a:off x="7186320" y="4724280"/>
              <a:ext cx="2016000" cy="647280"/>
              <a:chOff x="7186320" y="4724280"/>
              <a:chExt cx="2016000" cy="647280"/>
            </a:xfrm>
          </p:grpSpPr>
          <p:sp>
            <p:nvSpPr>
              <p:cNvPr id="128" name="Freeform 130"/>
              <p:cNvSpPr/>
              <p:nvPr/>
            </p:nvSpPr>
            <p:spPr>
              <a:xfrm>
                <a:off x="8553240" y="473832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>
                <a:off x="8154360" y="47242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7642080" y="473832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7186320" y="472428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Freeform 9"/>
          <p:cNvSpPr/>
          <p:nvPr/>
        </p:nvSpPr>
        <p:spPr>
          <a:xfrm>
            <a:off x="1541520" y="5029200"/>
            <a:ext cx="7653240" cy="1854360"/>
          </a:xfrm>
          <a:custGeom>
            <a:avLst/>
            <a:gdLst/>
            <a:ahLst/>
            <a:rect l="l" t="t" r="r" b="b"/>
            <a:pathLst>
              <a:path w="4821" h="1168">
                <a:moveTo>
                  <a:pt x="4821" y="0"/>
                </a:moveTo>
                <a:lnTo>
                  <a:pt x="4821" y="1168"/>
                </a:lnTo>
                <a:lnTo>
                  <a:pt x="469" y="1136"/>
                </a:lnTo>
                <a:cubicBezTo>
                  <a:pt x="0" y="973"/>
                  <a:pt x="1269" y="352"/>
                  <a:pt x="2005" y="192"/>
                </a:cubicBezTo>
                <a:cubicBezTo>
                  <a:pt x="2741" y="32"/>
                  <a:pt x="4821" y="0"/>
                  <a:pt x="4821" y="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100000">
                <a:srgbClr val="ccff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97"/>
          <p:cNvGrpSpPr/>
          <p:nvPr/>
        </p:nvGrpSpPr>
        <p:grpSpPr>
          <a:xfrm>
            <a:off x="2050920" y="6237360"/>
            <a:ext cx="7129440" cy="647280"/>
            <a:chOff x="2050920" y="6237360"/>
            <a:chExt cx="7129440" cy="647280"/>
          </a:xfrm>
        </p:grpSpPr>
        <p:grpSp>
          <p:nvGrpSpPr>
            <p:cNvPr id="134" name="Group 59"/>
            <p:cNvGrpSpPr/>
            <p:nvPr/>
          </p:nvGrpSpPr>
          <p:grpSpPr>
            <a:xfrm>
              <a:off x="6630840" y="6237360"/>
              <a:ext cx="2549520" cy="647280"/>
              <a:chOff x="6630840" y="6237360"/>
              <a:chExt cx="2549520" cy="647280"/>
            </a:xfrm>
          </p:grpSpPr>
          <p:sp>
            <p:nvSpPr>
              <p:cNvPr id="135" name="Freeform 44"/>
              <p:cNvSpPr/>
              <p:nvPr/>
            </p:nvSpPr>
            <p:spPr>
              <a:xfrm>
                <a:off x="835956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785484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720720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8"/>
              <p:cNvSpPr/>
              <p:nvPr/>
            </p:nvSpPr>
            <p:spPr>
              <a:xfrm>
                <a:off x="663084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60"/>
            <p:cNvGrpSpPr/>
            <p:nvPr/>
          </p:nvGrpSpPr>
          <p:grpSpPr>
            <a:xfrm>
              <a:off x="4066920" y="6237360"/>
              <a:ext cx="2549520" cy="647280"/>
              <a:chOff x="4066920" y="6237360"/>
              <a:chExt cx="2549520" cy="647280"/>
            </a:xfrm>
          </p:grpSpPr>
          <p:sp>
            <p:nvSpPr>
              <p:cNvPr id="140" name="Freeform 61"/>
              <p:cNvSpPr/>
              <p:nvPr/>
            </p:nvSpPr>
            <p:spPr>
              <a:xfrm>
                <a:off x="579564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2"/>
              <p:cNvSpPr/>
              <p:nvPr/>
            </p:nvSpPr>
            <p:spPr>
              <a:xfrm>
                <a:off x="529092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63"/>
              <p:cNvSpPr/>
              <p:nvPr/>
            </p:nvSpPr>
            <p:spPr>
              <a:xfrm>
                <a:off x="464328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64"/>
              <p:cNvSpPr/>
              <p:nvPr/>
            </p:nvSpPr>
            <p:spPr>
              <a:xfrm>
                <a:off x="406692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5"/>
            <p:cNvGrpSpPr/>
            <p:nvPr/>
          </p:nvGrpSpPr>
          <p:grpSpPr>
            <a:xfrm>
              <a:off x="2527200" y="6237360"/>
              <a:ext cx="2549520" cy="647280"/>
              <a:chOff x="2527200" y="6237360"/>
              <a:chExt cx="2549520" cy="647280"/>
            </a:xfrm>
          </p:grpSpPr>
          <p:sp>
            <p:nvSpPr>
              <p:cNvPr id="145" name="Freeform 66"/>
              <p:cNvSpPr/>
              <p:nvPr/>
            </p:nvSpPr>
            <p:spPr>
              <a:xfrm>
                <a:off x="425592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67"/>
              <p:cNvSpPr/>
              <p:nvPr/>
            </p:nvSpPr>
            <p:spPr>
              <a:xfrm>
                <a:off x="375120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68"/>
              <p:cNvSpPr/>
              <p:nvPr/>
            </p:nvSpPr>
            <p:spPr>
              <a:xfrm>
                <a:off x="3103560" y="625140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69"/>
              <p:cNvSpPr/>
              <p:nvPr/>
            </p:nvSpPr>
            <p:spPr>
              <a:xfrm>
                <a:off x="2527200" y="6237360"/>
                <a:ext cx="82080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77"/>
            <p:cNvGrpSpPr/>
            <p:nvPr/>
          </p:nvGrpSpPr>
          <p:grpSpPr>
            <a:xfrm>
              <a:off x="2050920" y="6237360"/>
              <a:ext cx="2015640" cy="647280"/>
              <a:chOff x="2050920" y="6237360"/>
              <a:chExt cx="2015640" cy="647280"/>
            </a:xfrm>
          </p:grpSpPr>
          <p:sp>
            <p:nvSpPr>
              <p:cNvPr id="150" name="Freeform 78"/>
              <p:cNvSpPr/>
              <p:nvPr/>
            </p:nvSpPr>
            <p:spPr>
              <a:xfrm>
                <a:off x="341784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79"/>
              <p:cNvSpPr/>
              <p:nvPr/>
            </p:nvSpPr>
            <p:spPr>
              <a:xfrm>
                <a:off x="301860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0"/>
              <p:cNvSpPr/>
              <p:nvPr/>
            </p:nvSpPr>
            <p:spPr>
              <a:xfrm>
                <a:off x="250668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1"/>
              <p:cNvSpPr/>
              <p:nvPr/>
            </p:nvSpPr>
            <p:spPr>
              <a:xfrm>
                <a:off x="205092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82"/>
            <p:cNvGrpSpPr/>
            <p:nvPr/>
          </p:nvGrpSpPr>
          <p:grpSpPr>
            <a:xfrm>
              <a:off x="4284360" y="6237360"/>
              <a:ext cx="2016000" cy="647280"/>
              <a:chOff x="4284360" y="6237360"/>
              <a:chExt cx="2016000" cy="647280"/>
            </a:xfrm>
          </p:grpSpPr>
          <p:sp>
            <p:nvSpPr>
              <p:cNvPr id="155" name="Freeform 83"/>
              <p:cNvSpPr/>
              <p:nvPr/>
            </p:nvSpPr>
            <p:spPr>
              <a:xfrm>
                <a:off x="565128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84"/>
              <p:cNvSpPr/>
              <p:nvPr/>
            </p:nvSpPr>
            <p:spPr>
              <a:xfrm>
                <a:off x="525240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85"/>
              <p:cNvSpPr/>
              <p:nvPr/>
            </p:nvSpPr>
            <p:spPr>
              <a:xfrm>
                <a:off x="474012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86"/>
              <p:cNvSpPr/>
              <p:nvPr/>
            </p:nvSpPr>
            <p:spPr>
              <a:xfrm>
                <a:off x="428436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87"/>
            <p:cNvGrpSpPr/>
            <p:nvPr/>
          </p:nvGrpSpPr>
          <p:grpSpPr>
            <a:xfrm>
              <a:off x="5796000" y="6237360"/>
              <a:ext cx="2015640" cy="647280"/>
              <a:chOff x="5796000" y="6237360"/>
              <a:chExt cx="2015640" cy="647280"/>
            </a:xfrm>
          </p:grpSpPr>
          <p:sp>
            <p:nvSpPr>
              <p:cNvPr id="160" name="Freeform 88"/>
              <p:cNvSpPr/>
              <p:nvPr/>
            </p:nvSpPr>
            <p:spPr>
              <a:xfrm>
                <a:off x="716292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89"/>
              <p:cNvSpPr/>
              <p:nvPr/>
            </p:nvSpPr>
            <p:spPr>
              <a:xfrm>
                <a:off x="676368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0"/>
              <p:cNvSpPr/>
              <p:nvPr/>
            </p:nvSpPr>
            <p:spPr>
              <a:xfrm>
                <a:off x="6251760" y="625140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91"/>
              <p:cNvSpPr/>
              <p:nvPr/>
            </p:nvSpPr>
            <p:spPr>
              <a:xfrm>
                <a:off x="5796000" y="6237360"/>
                <a:ext cx="64872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92"/>
            <p:cNvGrpSpPr/>
            <p:nvPr/>
          </p:nvGrpSpPr>
          <p:grpSpPr>
            <a:xfrm>
              <a:off x="7092720" y="6237360"/>
              <a:ext cx="2016000" cy="647280"/>
              <a:chOff x="7092720" y="6237360"/>
              <a:chExt cx="2016000" cy="647280"/>
            </a:xfrm>
          </p:grpSpPr>
          <p:sp>
            <p:nvSpPr>
              <p:cNvPr id="165" name="Freeform 93"/>
              <p:cNvSpPr/>
              <p:nvPr/>
            </p:nvSpPr>
            <p:spPr>
              <a:xfrm>
                <a:off x="845964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94"/>
              <p:cNvSpPr/>
              <p:nvPr/>
            </p:nvSpPr>
            <p:spPr>
              <a:xfrm>
                <a:off x="806076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95"/>
              <p:cNvSpPr/>
              <p:nvPr/>
            </p:nvSpPr>
            <p:spPr>
              <a:xfrm>
                <a:off x="7548480" y="625140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96"/>
              <p:cNvSpPr/>
              <p:nvPr/>
            </p:nvSpPr>
            <p:spPr>
              <a:xfrm>
                <a:off x="7092720" y="6237360"/>
                <a:ext cx="649080" cy="633240"/>
              </a:xfrm>
              <a:custGeom>
                <a:avLst/>
                <a:gdLst/>
                <a:ahLst/>
                <a:rect l="l" t="t" r="r" b="b"/>
                <a:pathLst>
                  <a:path w="2304" h="1077">
                    <a:moveTo>
                      <a:pt x="2127" y="132"/>
                    </a:moveTo>
                    <a:lnTo>
                      <a:pt x="2122" y="173"/>
                    </a:lnTo>
                    <a:lnTo>
                      <a:pt x="2123" y="214"/>
                    </a:lnTo>
                    <a:lnTo>
                      <a:pt x="2129" y="255"/>
                    </a:lnTo>
                    <a:lnTo>
                      <a:pt x="2137" y="295"/>
                    </a:lnTo>
                    <a:lnTo>
                      <a:pt x="2146" y="335"/>
                    </a:lnTo>
                    <a:lnTo>
                      <a:pt x="2155" y="376"/>
                    </a:lnTo>
                    <a:lnTo>
                      <a:pt x="2163" y="416"/>
                    </a:lnTo>
                    <a:lnTo>
                      <a:pt x="2168" y="457"/>
                    </a:lnTo>
                    <a:lnTo>
                      <a:pt x="2168" y="524"/>
                    </a:lnTo>
                    <a:lnTo>
                      <a:pt x="2168" y="592"/>
                    </a:lnTo>
                    <a:lnTo>
                      <a:pt x="2168" y="659"/>
                    </a:lnTo>
                    <a:lnTo>
                      <a:pt x="2168" y="727"/>
                    </a:lnTo>
                    <a:lnTo>
                      <a:pt x="2167" y="682"/>
                    </a:lnTo>
                    <a:lnTo>
                      <a:pt x="2162" y="637"/>
                    </a:lnTo>
                    <a:lnTo>
                      <a:pt x="2155" y="593"/>
                    </a:lnTo>
                    <a:lnTo>
                      <a:pt x="2145" y="550"/>
                    </a:lnTo>
                    <a:lnTo>
                      <a:pt x="2134" y="507"/>
                    </a:lnTo>
                    <a:lnTo>
                      <a:pt x="2120" y="464"/>
                    </a:lnTo>
                    <a:lnTo>
                      <a:pt x="2104" y="422"/>
                    </a:lnTo>
                    <a:lnTo>
                      <a:pt x="2086" y="380"/>
                    </a:lnTo>
                    <a:lnTo>
                      <a:pt x="2067" y="340"/>
                    </a:lnTo>
                    <a:lnTo>
                      <a:pt x="2046" y="300"/>
                    </a:lnTo>
                    <a:lnTo>
                      <a:pt x="2024" y="259"/>
                    </a:lnTo>
                    <a:lnTo>
                      <a:pt x="2002" y="220"/>
                    </a:lnTo>
                    <a:lnTo>
                      <a:pt x="1978" y="181"/>
                    </a:lnTo>
                    <a:lnTo>
                      <a:pt x="1955" y="143"/>
                    </a:lnTo>
                    <a:lnTo>
                      <a:pt x="1930" y="106"/>
                    </a:lnTo>
                    <a:lnTo>
                      <a:pt x="1905" y="69"/>
                    </a:lnTo>
                    <a:lnTo>
                      <a:pt x="1911" y="126"/>
                    </a:lnTo>
                    <a:lnTo>
                      <a:pt x="1920" y="180"/>
                    </a:lnTo>
                    <a:lnTo>
                      <a:pt x="1933" y="234"/>
                    </a:lnTo>
                    <a:lnTo>
                      <a:pt x="1947" y="287"/>
                    </a:lnTo>
                    <a:lnTo>
                      <a:pt x="1961" y="341"/>
                    </a:lnTo>
                    <a:lnTo>
                      <a:pt x="1973" y="395"/>
                    </a:lnTo>
                    <a:lnTo>
                      <a:pt x="1983" y="449"/>
                    </a:lnTo>
                    <a:lnTo>
                      <a:pt x="1988" y="506"/>
                    </a:lnTo>
                    <a:lnTo>
                      <a:pt x="1988" y="545"/>
                    </a:lnTo>
                    <a:lnTo>
                      <a:pt x="1988" y="585"/>
                    </a:lnTo>
                    <a:lnTo>
                      <a:pt x="1988" y="627"/>
                    </a:lnTo>
                    <a:lnTo>
                      <a:pt x="1988" y="667"/>
                    </a:lnTo>
                    <a:lnTo>
                      <a:pt x="1986" y="627"/>
                    </a:lnTo>
                    <a:lnTo>
                      <a:pt x="1983" y="586"/>
                    </a:lnTo>
                    <a:lnTo>
                      <a:pt x="1978" y="547"/>
                    </a:lnTo>
                    <a:lnTo>
                      <a:pt x="1971" y="508"/>
                    </a:lnTo>
                    <a:lnTo>
                      <a:pt x="1962" y="469"/>
                    </a:lnTo>
                    <a:lnTo>
                      <a:pt x="1953" y="431"/>
                    </a:lnTo>
                    <a:lnTo>
                      <a:pt x="1941" y="393"/>
                    </a:lnTo>
                    <a:lnTo>
                      <a:pt x="1928" y="355"/>
                    </a:lnTo>
                    <a:lnTo>
                      <a:pt x="1915" y="317"/>
                    </a:lnTo>
                    <a:lnTo>
                      <a:pt x="1898" y="280"/>
                    </a:lnTo>
                    <a:lnTo>
                      <a:pt x="1882" y="244"/>
                    </a:lnTo>
                    <a:lnTo>
                      <a:pt x="1865" y="209"/>
                    </a:lnTo>
                    <a:lnTo>
                      <a:pt x="1846" y="173"/>
                    </a:lnTo>
                    <a:lnTo>
                      <a:pt x="1826" y="137"/>
                    </a:lnTo>
                    <a:lnTo>
                      <a:pt x="1804" y="103"/>
                    </a:lnTo>
                    <a:lnTo>
                      <a:pt x="1782" y="69"/>
                    </a:lnTo>
                    <a:lnTo>
                      <a:pt x="1784" y="165"/>
                    </a:lnTo>
                    <a:lnTo>
                      <a:pt x="1789" y="261"/>
                    </a:lnTo>
                    <a:lnTo>
                      <a:pt x="1796" y="356"/>
                    </a:lnTo>
                    <a:lnTo>
                      <a:pt x="1803" y="451"/>
                    </a:lnTo>
                    <a:lnTo>
                      <a:pt x="1807" y="545"/>
                    </a:lnTo>
                    <a:lnTo>
                      <a:pt x="1810" y="639"/>
                    </a:lnTo>
                    <a:lnTo>
                      <a:pt x="1809" y="735"/>
                    </a:lnTo>
                    <a:lnTo>
                      <a:pt x="1802" y="831"/>
                    </a:lnTo>
                    <a:lnTo>
                      <a:pt x="1798" y="786"/>
                    </a:lnTo>
                    <a:lnTo>
                      <a:pt x="1793" y="740"/>
                    </a:lnTo>
                    <a:lnTo>
                      <a:pt x="1787" y="695"/>
                    </a:lnTo>
                    <a:lnTo>
                      <a:pt x="1781" y="650"/>
                    </a:lnTo>
                    <a:lnTo>
                      <a:pt x="1773" y="605"/>
                    </a:lnTo>
                    <a:lnTo>
                      <a:pt x="1765" y="560"/>
                    </a:lnTo>
                    <a:lnTo>
                      <a:pt x="1754" y="516"/>
                    </a:lnTo>
                    <a:lnTo>
                      <a:pt x="1744" y="472"/>
                    </a:lnTo>
                    <a:lnTo>
                      <a:pt x="1731" y="429"/>
                    </a:lnTo>
                    <a:lnTo>
                      <a:pt x="1718" y="385"/>
                    </a:lnTo>
                    <a:lnTo>
                      <a:pt x="1703" y="342"/>
                    </a:lnTo>
                    <a:lnTo>
                      <a:pt x="1687" y="301"/>
                    </a:lnTo>
                    <a:lnTo>
                      <a:pt x="1668" y="259"/>
                    </a:lnTo>
                    <a:lnTo>
                      <a:pt x="1647" y="218"/>
                    </a:lnTo>
                    <a:lnTo>
                      <a:pt x="1627" y="178"/>
                    </a:lnTo>
                    <a:lnTo>
                      <a:pt x="1602" y="138"/>
                    </a:lnTo>
                    <a:lnTo>
                      <a:pt x="1610" y="223"/>
                    </a:lnTo>
                    <a:lnTo>
                      <a:pt x="1615" y="307"/>
                    </a:lnTo>
                    <a:lnTo>
                      <a:pt x="1615" y="391"/>
                    </a:lnTo>
                    <a:lnTo>
                      <a:pt x="1612" y="475"/>
                    </a:lnTo>
                    <a:lnTo>
                      <a:pt x="1606" y="559"/>
                    </a:lnTo>
                    <a:lnTo>
                      <a:pt x="1598" y="643"/>
                    </a:lnTo>
                    <a:lnTo>
                      <a:pt x="1587" y="727"/>
                    </a:lnTo>
                    <a:lnTo>
                      <a:pt x="1575" y="810"/>
                    </a:lnTo>
                    <a:lnTo>
                      <a:pt x="1574" y="717"/>
                    </a:lnTo>
                    <a:lnTo>
                      <a:pt x="1568" y="623"/>
                    </a:lnTo>
                    <a:lnTo>
                      <a:pt x="1559" y="531"/>
                    </a:lnTo>
                    <a:lnTo>
                      <a:pt x="1546" y="438"/>
                    </a:lnTo>
                    <a:lnTo>
                      <a:pt x="1528" y="347"/>
                    </a:lnTo>
                    <a:lnTo>
                      <a:pt x="1505" y="256"/>
                    </a:lnTo>
                    <a:lnTo>
                      <a:pt x="1477" y="165"/>
                    </a:lnTo>
                    <a:lnTo>
                      <a:pt x="1443" y="76"/>
                    </a:lnTo>
                    <a:lnTo>
                      <a:pt x="1438" y="66"/>
                    </a:lnTo>
                    <a:lnTo>
                      <a:pt x="1432" y="56"/>
                    </a:lnTo>
                    <a:lnTo>
                      <a:pt x="1425" y="45"/>
                    </a:lnTo>
                    <a:lnTo>
                      <a:pt x="1418" y="36"/>
                    </a:lnTo>
                    <a:lnTo>
                      <a:pt x="1409" y="26"/>
                    </a:lnTo>
                    <a:lnTo>
                      <a:pt x="1401" y="18"/>
                    </a:lnTo>
                    <a:lnTo>
                      <a:pt x="1392" y="8"/>
                    </a:lnTo>
                    <a:lnTo>
                      <a:pt x="1381" y="0"/>
                    </a:lnTo>
                    <a:lnTo>
                      <a:pt x="1399" y="58"/>
                    </a:lnTo>
                    <a:lnTo>
                      <a:pt x="1412" y="114"/>
                    </a:lnTo>
                    <a:lnTo>
                      <a:pt x="1424" y="172"/>
                    </a:lnTo>
                    <a:lnTo>
                      <a:pt x="1433" y="229"/>
                    </a:lnTo>
                    <a:lnTo>
                      <a:pt x="1440" y="288"/>
                    </a:lnTo>
                    <a:lnTo>
                      <a:pt x="1443" y="346"/>
                    </a:lnTo>
                    <a:lnTo>
                      <a:pt x="1445" y="404"/>
                    </a:lnTo>
                    <a:lnTo>
                      <a:pt x="1443" y="464"/>
                    </a:lnTo>
                    <a:lnTo>
                      <a:pt x="1439" y="505"/>
                    </a:lnTo>
                    <a:lnTo>
                      <a:pt x="1433" y="545"/>
                    </a:lnTo>
                    <a:lnTo>
                      <a:pt x="1425" y="584"/>
                    </a:lnTo>
                    <a:lnTo>
                      <a:pt x="1416" y="623"/>
                    </a:lnTo>
                    <a:lnTo>
                      <a:pt x="1407" y="662"/>
                    </a:lnTo>
                    <a:lnTo>
                      <a:pt x="1399" y="702"/>
                    </a:lnTo>
                    <a:lnTo>
                      <a:pt x="1393" y="742"/>
                    </a:lnTo>
                    <a:lnTo>
                      <a:pt x="1388" y="782"/>
                    </a:lnTo>
                    <a:lnTo>
                      <a:pt x="1385" y="712"/>
                    </a:lnTo>
                    <a:lnTo>
                      <a:pt x="1380" y="641"/>
                    </a:lnTo>
                    <a:lnTo>
                      <a:pt x="1372" y="570"/>
                    </a:lnTo>
                    <a:lnTo>
                      <a:pt x="1359" y="500"/>
                    </a:lnTo>
                    <a:lnTo>
                      <a:pt x="1340" y="433"/>
                    </a:lnTo>
                    <a:lnTo>
                      <a:pt x="1314" y="369"/>
                    </a:lnTo>
                    <a:lnTo>
                      <a:pt x="1280" y="307"/>
                    </a:lnTo>
                    <a:lnTo>
                      <a:pt x="1236" y="250"/>
                    </a:lnTo>
                    <a:lnTo>
                      <a:pt x="1240" y="316"/>
                    </a:lnTo>
                    <a:lnTo>
                      <a:pt x="1244" y="381"/>
                    </a:lnTo>
                    <a:lnTo>
                      <a:pt x="1249" y="449"/>
                    </a:lnTo>
                    <a:lnTo>
                      <a:pt x="1252" y="516"/>
                    </a:lnTo>
                    <a:lnTo>
                      <a:pt x="1252" y="583"/>
                    </a:lnTo>
                    <a:lnTo>
                      <a:pt x="1249" y="651"/>
                    </a:lnTo>
                    <a:lnTo>
                      <a:pt x="1240" y="717"/>
                    </a:lnTo>
                    <a:lnTo>
                      <a:pt x="1222" y="782"/>
                    </a:lnTo>
                    <a:lnTo>
                      <a:pt x="1219" y="735"/>
                    </a:lnTo>
                    <a:lnTo>
                      <a:pt x="1214" y="688"/>
                    </a:lnTo>
                    <a:lnTo>
                      <a:pt x="1207" y="641"/>
                    </a:lnTo>
                    <a:lnTo>
                      <a:pt x="1199" y="593"/>
                    </a:lnTo>
                    <a:lnTo>
                      <a:pt x="1190" y="546"/>
                    </a:lnTo>
                    <a:lnTo>
                      <a:pt x="1178" y="500"/>
                    </a:lnTo>
                    <a:lnTo>
                      <a:pt x="1165" y="454"/>
                    </a:lnTo>
                    <a:lnTo>
                      <a:pt x="1149" y="408"/>
                    </a:lnTo>
                    <a:lnTo>
                      <a:pt x="1131" y="363"/>
                    </a:lnTo>
                    <a:lnTo>
                      <a:pt x="1112" y="320"/>
                    </a:lnTo>
                    <a:lnTo>
                      <a:pt x="1090" y="278"/>
                    </a:lnTo>
                    <a:lnTo>
                      <a:pt x="1066" y="236"/>
                    </a:lnTo>
                    <a:lnTo>
                      <a:pt x="1039" y="197"/>
                    </a:lnTo>
                    <a:lnTo>
                      <a:pt x="1010" y="159"/>
                    </a:lnTo>
                    <a:lnTo>
                      <a:pt x="979" y="123"/>
                    </a:lnTo>
                    <a:lnTo>
                      <a:pt x="946" y="90"/>
                    </a:lnTo>
                    <a:lnTo>
                      <a:pt x="960" y="175"/>
                    </a:lnTo>
                    <a:lnTo>
                      <a:pt x="977" y="261"/>
                    </a:lnTo>
                    <a:lnTo>
                      <a:pt x="993" y="346"/>
                    </a:lnTo>
                    <a:lnTo>
                      <a:pt x="1009" y="430"/>
                    </a:lnTo>
                    <a:lnTo>
                      <a:pt x="1023" y="514"/>
                    </a:lnTo>
                    <a:lnTo>
                      <a:pt x="1032" y="598"/>
                    </a:lnTo>
                    <a:lnTo>
                      <a:pt x="1037" y="683"/>
                    </a:lnTo>
                    <a:lnTo>
                      <a:pt x="1036" y="768"/>
                    </a:lnTo>
                    <a:lnTo>
                      <a:pt x="1024" y="729"/>
                    </a:lnTo>
                    <a:lnTo>
                      <a:pt x="1008" y="691"/>
                    </a:lnTo>
                    <a:lnTo>
                      <a:pt x="991" y="654"/>
                    </a:lnTo>
                    <a:lnTo>
                      <a:pt x="969" y="619"/>
                    </a:lnTo>
                    <a:lnTo>
                      <a:pt x="946" y="585"/>
                    </a:lnTo>
                    <a:lnTo>
                      <a:pt x="919" y="553"/>
                    </a:lnTo>
                    <a:lnTo>
                      <a:pt x="892" y="523"/>
                    </a:lnTo>
                    <a:lnTo>
                      <a:pt x="862" y="494"/>
                    </a:lnTo>
                    <a:lnTo>
                      <a:pt x="829" y="468"/>
                    </a:lnTo>
                    <a:lnTo>
                      <a:pt x="796" y="444"/>
                    </a:lnTo>
                    <a:lnTo>
                      <a:pt x="760" y="421"/>
                    </a:lnTo>
                    <a:lnTo>
                      <a:pt x="725" y="400"/>
                    </a:lnTo>
                    <a:lnTo>
                      <a:pt x="688" y="381"/>
                    </a:lnTo>
                    <a:lnTo>
                      <a:pt x="650" y="365"/>
                    </a:lnTo>
                    <a:lnTo>
                      <a:pt x="612" y="351"/>
                    </a:lnTo>
                    <a:lnTo>
                      <a:pt x="573" y="340"/>
                    </a:lnTo>
                    <a:lnTo>
                      <a:pt x="596" y="358"/>
                    </a:lnTo>
                    <a:lnTo>
                      <a:pt x="616" y="379"/>
                    </a:lnTo>
                    <a:lnTo>
                      <a:pt x="637" y="401"/>
                    </a:lnTo>
                    <a:lnTo>
                      <a:pt x="655" y="424"/>
                    </a:lnTo>
                    <a:lnTo>
                      <a:pt x="673" y="448"/>
                    </a:lnTo>
                    <a:lnTo>
                      <a:pt x="689" y="474"/>
                    </a:lnTo>
                    <a:lnTo>
                      <a:pt x="703" y="500"/>
                    </a:lnTo>
                    <a:lnTo>
                      <a:pt x="717" y="527"/>
                    </a:lnTo>
                    <a:lnTo>
                      <a:pt x="728" y="554"/>
                    </a:lnTo>
                    <a:lnTo>
                      <a:pt x="737" y="582"/>
                    </a:lnTo>
                    <a:lnTo>
                      <a:pt x="746" y="611"/>
                    </a:lnTo>
                    <a:lnTo>
                      <a:pt x="753" y="639"/>
                    </a:lnTo>
                    <a:lnTo>
                      <a:pt x="759" y="668"/>
                    </a:lnTo>
                    <a:lnTo>
                      <a:pt x="763" y="697"/>
                    </a:lnTo>
                    <a:lnTo>
                      <a:pt x="765" y="726"/>
                    </a:lnTo>
                    <a:lnTo>
                      <a:pt x="766" y="755"/>
                    </a:lnTo>
                    <a:lnTo>
                      <a:pt x="753" y="736"/>
                    </a:lnTo>
                    <a:lnTo>
                      <a:pt x="740" y="718"/>
                    </a:lnTo>
                    <a:lnTo>
                      <a:pt x="727" y="700"/>
                    </a:lnTo>
                    <a:lnTo>
                      <a:pt x="714" y="684"/>
                    </a:lnTo>
                    <a:lnTo>
                      <a:pt x="700" y="668"/>
                    </a:lnTo>
                    <a:lnTo>
                      <a:pt x="687" y="653"/>
                    </a:lnTo>
                    <a:lnTo>
                      <a:pt x="673" y="638"/>
                    </a:lnTo>
                    <a:lnTo>
                      <a:pt x="658" y="624"/>
                    </a:lnTo>
                    <a:lnTo>
                      <a:pt x="643" y="611"/>
                    </a:lnTo>
                    <a:lnTo>
                      <a:pt x="628" y="597"/>
                    </a:lnTo>
                    <a:lnTo>
                      <a:pt x="613" y="584"/>
                    </a:lnTo>
                    <a:lnTo>
                      <a:pt x="596" y="571"/>
                    </a:lnTo>
                    <a:lnTo>
                      <a:pt x="579" y="558"/>
                    </a:lnTo>
                    <a:lnTo>
                      <a:pt x="561" y="545"/>
                    </a:lnTo>
                    <a:lnTo>
                      <a:pt x="544" y="532"/>
                    </a:lnTo>
                    <a:lnTo>
                      <a:pt x="524" y="520"/>
                    </a:lnTo>
                    <a:lnTo>
                      <a:pt x="516" y="508"/>
                    </a:lnTo>
                    <a:lnTo>
                      <a:pt x="503" y="480"/>
                    </a:lnTo>
                    <a:lnTo>
                      <a:pt x="487" y="442"/>
                    </a:lnTo>
                    <a:lnTo>
                      <a:pt x="471" y="400"/>
                    </a:lnTo>
                    <a:lnTo>
                      <a:pt x="454" y="357"/>
                    </a:lnTo>
                    <a:lnTo>
                      <a:pt x="440" y="320"/>
                    </a:lnTo>
                    <a:lnTo>
                      <a:pt x="431" y="295"/>
                    </a:lnTo>
                    <a:lnTo>
                      <a:pt x="427" y="285"/>
                    </a:lnTo>
                    <a:lnTo>
                      <a:pt x="424" y="325"/>
                    </a:lnTo>
                    <a:lnTo>
                      <a:pt x="426" y="380"/>
                    </a:lnTo>
                    <a:lnTo>
                      <a:pt x="432" y="446"/>
                    </a:lnTo>
                    <a:lnTo>
                      <a:pt x="441" y="516"/>
                    </a:lnTo>
                    <a:lnTo>
                      <a:pt x="450" y="586"/>
                    </a:lnTo>
                    <a:lnTo>
                      <a:pt x="456" y="652"/>
                    </a:lnTo>
                    <a:lnTo>
                      <a:pt x="458" y="707"/>
                    </a:lnTo>
                    <a:lnTo>
                      <a:pt x="455" y="748"/>
                    </a:lnTo>
                    <a:lnTo>
                      <a:pt x="442" y="707"/>
                    </a:lnTo>
                    <a:lnTo>
                      <a:pt x="430" y="668"/>
                    </a:lnTo>
                    <a:lnTo>
                      <a:pt x="416" y="628"/>
                    </a:lnTo>
                    <a:lnTo>
                      <a:pt x="401" y="589"/>
                    </a:lnTo>
                    <a:lnTo>
                      <a:pt x="385" y="550"/>
                    </a:lnTo>
                    <a:lnTo>
                      <a:pt x="369" y="510"/>
                    </a:lnTo>
                    <a:lnTo>
                      <a:pt x="351" y="471"/>
                    </a:lnTo>
                    <a:lnTo>
                      <a:pt x="333" y="433"/>
                    </a:lnTo>
                    <a:lnTo>
                      <a:pt x="314" y="395"/>
                    </a:lnTo>
                    <a:lnTo>
                      <a:pt x="295" y="357"/>
                    </a:lnTo>
                    <a:lnTo>
                      <a:pt x="274" y="319"/>
                    </a:lnTo>
                    <a:lnTo>
                      <a:pt x="253" y="282"/>
                    </a:lnTo>
                    <a:lnTo>
                      <a:pt x="233" y="246"/>
                    </a:lnTo>
                    <a:lnTo>
                      <a:pt x="211" y="210"/>
                    </a:lnTo>
                    <a:lnTo>
                      <a:pt x="188" y="174"/>
                    </a:lnTo>
                    <a:lnTo>
                      <a:pt x="165" y="138"/>
                    </a:lnTo>
                    <a:lnTo>
                      <a:pt x="176" y="198"/>
                    </a:lnTo>
                    <a:lnTo>
                      <a:pt x="190" y="257"/>
                    </a:lnTo>
                    <a:lnTo>
                      <a:pt x="204" y="316"/>
                    </a:lnTo>
                    <a:lnTo>
                      <a:pt x="219" y="375"/>
                    </a:lnTo>
                    <a:lnTo>
                      <a:pt x="234" y="433"/>
                    </a:lnTo>
                    <a:lnTo>
                      <a:pt x="248" y="491"/>
                    </a:lnTo>
                    <a:lnTo>
                      <a:pt x="259" y="551"/>
                    </a:lnTo>
                    <a:lnTo>
                      <a:pt x="268" y="609"/>
                    </a:lnTo>
                    <a:lnTo>
                      <a:pt x="268" y="635"/>
                    </a:lnTo>
                    <a:lnTo>
                      <a:pt x="268" y="658"/>
                    </a:lnTo>
                    <a:lnTo>
                      <a:pt x="268" y="681"/>
                    </a:lnTo>
                    <a:lnTo>
                      <a:pt x="268" y="706"/>
                    </a:lnTo>
                    <a:lnTo>
                      <a:pt x="260" y="683"/>
                    </a:lnTo>
                    <a:lnTo>
                      <a:pt x="250" y="660"/>
                    </a:lnTo>
                    <a:lnTo>
                      <a:pt x="240" y="638"/>
                    </a:lnTo>
                    <a:lnTo>
                      <a:pt x="228" y="616"/>
                    </a:lnTo>
                    <a:lnTo>
                      <a:pt x="215" y="596"/>
                    </a:lnTo>
                    <a:lnTo>
                      <a:pt x="202" y="575"/>
                    </a:lnTo>
                    <a:lnTo>
                      <a:pt x="188" y="554"/>
                    </a:lnTo>
                    <a:lnTo>
                      <a:pt x="173" y="535"/>
                    </a:lnTo>
                    <a:lnTo>
                      <a:pt x="157" y="515"/>
                    </a:lnTo>
                    <a:lnTo>
                      <a:pt x="141" y="495"/>
                    </a:lnTo>
                    <a:lnTo>
                      <a:pt x="124" y="477"/>
                    </a:lnTo>
                    <a:lnTo>
                      <a:pt x="107" y="459"/>
                    </a:lnTo>
                    <a:lnTo>
                      <a:pt x="91" y="440"/>
                    </a:lnTo>
                    <a:lnTo>
                      <a:pt x="74" y="423"/>
                    </a:lnTo>
                    <a:lnTo>
                      <a:pt x="56" y="406"/>
                    </a:lnTo>
                    <a:lnTo>
                      <a:pt x="39" y="388"/>
                    </a:lnTo>
                    <a:lnTo>
                      <a:pt x="43" y="431"/>
                    </a:lnTo>
                    <a:lnTo>
                      <a:pt x="51" y="474"/>
                    </a:lnTo>
                    <a:lnTo>
                      <a:pt x="63" y="514"/>
                    </a:lnTo>
                    <a:lnTo>
                      <a:pt x="77" y="554"/>
                    </a:lnTo>
                    <a:lnTo>
                      <a:pt x="90" y="594"/>
                    </a:lnTo>
                    <a:lnTo>
                      <a:pt x="101" y="635"/>
                    </a:lnTo>
                    <a:lnTo>
                      <a:pt x="108" y="677"/>
                    </a:lnTo>
                    <a:lnTo>
                      <a:pt x="109" y="720"/>
                    </a:lnTo>
                    <a:lnTo>
                      <a:pt x="97" y="710"/>
                    </a:lnTo>
                    <a:lnTo>
                      <a:pt x="83" y="698"/>
                    </a:lnTo>
                    <a:lnTo>
                      <a:pt x="70" y="688"/>
                    </a:lnTo>
                    <a:lnTo>
                      <a:pt x="56" y="677"/>
                    </a:lnTo>
                    <a:lnTo>
                      <a:pt x="43" y="668"/>
                    </a:lnTo>
                    <a:lnTo>
                      <a:pt x="29" y="658"/>
                    </a:lnTo>
                    <a:lnTo>
                      <a:pt x="15" y="647"/>
                    </a:lnTo>
                    <a:lnTo>
                      <a:pt x="0" y="638"/>
                    </a:lnTo>
                    <a:lnTo>
                      <a:pt x="0" y="1077"/>
                    </a:lnTo>
                    <a:lnTo>
                      <a:pt x="2304" y="1077"/>
                    </a:lnTo>
                    <a:lnTo>
                      <a:pt x="2304" y="574"/>
                    </a:lnTo>
                    <a:lnTo>
                      <a:pt x="2294" y="522"/>
                    </a:lnTo>
                    <a:lnTo>
                      <a:pt x="2280" y="470"/>
                    </a:lnTo>
                    <a:lnTo>
                      <a:pt x="2265" y="418"/>
                    </a:lnTo>
                    <a:lnTo>
                      <a:pt x="2249" y="368"/>
                    </a:lnTo>
                    <a:lnTo>
                      <a:pt x="2230" y="317"/>
                    </a:lnTo>
                    <a:lnTo>
                      <a:pt x="2211" y="266"/>
                    </a:lnTo>
                    <a:lnTo>
                      <a:pt x="2190" y="217"/>
                    </a:lnTo>
                    <a:lnTo>
                      <a:pt x="2168" y="166"/>
                    </a:lnTo>
                    <a:lnTo>
                      <a:pt x="2162" y="160"/>
                    </a:lnTo>
                    <a:lnTo>
                      <a:pt x="2157" y="153"/>
                    </a:lnTo>
                    <a:lnTo>
                      <a:pt x="2151" y="148"/>
                    </a:lnTo>
                    <a:lnTo>
                      <a:pt x="2145" y="141"/>
                    </a:lnTo>
                    <a:lnTo>
                      <a:pt x="2139" y="136"/>
                    </a:lnTo>
                    <a:lnTo>
                      <a:pt x="2134" y="132"/>
                    </a:lnTo>
                    <a:lnTo>
                      <a:pt x="2130" y="130"/>
                    </a:lnTo>
                    <a:lnTo>
                      <a:pt x="2127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ff33"/>
                  </a:gs>
                  <a:gs pos="100000">
                    <a:srgbClr val="00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160"/>
          <p:cNvGrpSpPr/>
          <p:nvPr/>
        </p:nvGrpSpPr>
        <p:grpSpPr>
          <a:xfrm>
            <a:off x="6585480" y="5155200"/>
            <a:ext cx="367920" cy="367920"/>
            <a:chOff x="6585480" y="5155200"/>
            <a:chExt cx="367920" cy="367920"/>
          </a:xfrm>
        </p:grpSpPr>
        <p:grpSp>
          <p:nvGrpSpPr>
            <p:cNvPr id="170" name="Group 161"/>
            <p:cNvGrpSpPr/>
            <p:nvPr/>
          </p:nvGrpSpPr>
          <p:grpSpPr>
            <a:xfrm>
              <a:off x="6588000" y="5157720"/>
              <a:ext cx="363240" cy="363240"/>
              <a:chOff x="6588000" y="5157720"/>
              <a:chExt cx="363240" cy="363240"/>
            </a:xfrm>
          </p:grpSpPr>
          <p:grpSp>
            <p:nvGrpSpPr>
              <p:cNvPr id="171" name="Group 162"/>
              <p:cNvGrpSpPr/>
              <p:nvPr/>
            </p:nvGrpSpPr>
            <p:grpSpPr>
              <a:xfrm>
                <a:off x="6588000" y="5157720"/>
                <a:ext cx="363240" cy="363240"/>
                <a:chOff x="6588000" y="5157720"/>
                <a:chExt cx="363240" cy="363240"/>
              </a:xfrm>
            </p:grpSpPr>
            <p:sp>
              <p:nvSpPr>
                <p:cNvPr id="172" name="Oval 163"/>
                <p:cNvSpPr/>
                <p:nvPr/>
              </p:nvSpPr>
              <p:spPr>
                <a:xfrm>
                  <a:off x="658800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164"/>
                <p:cNvSpPr/>
                <p:nvPr/>
              </p:nvSpPr>
              <p:spPr>
                <a:xfrm rot="5400000">
                  <a:off x="65872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65"/>
              <p:cNvGrpSpPr/>
              <p:nvPr/>
            </p:nvGrpSpPr>
            <p:grpSpPr>
              <a:xfrm>
                <a:off x="6611400" y="5181480"/>
                <a:ext cx="315360" cy="315720"/>
                <a:chOff x="6611400" y="5181480"/>
                <a:chExt cx="315360" cy="315720"/>
              </a:xfrm>
            </p:grpSpPr>
            <p:sp>
              <p:nvSpPr>
                <p:cNvPr id="175" name="Oval 166"/>
                <p:cNvSpPr/>
                <p:nvPr/>
              </p:nvSpPr>
              <p:spPr>
                <a:xfrm rot="2700000">
                  <a:off x="658764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167"/>
                <p:cNvSpPr/>
                <p:nvPr/>
              </p:nvSpPr>
              <p:spPr>
                <a:xfrm rot="8100000">
                  <a:off x="65869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Group 168"/>
            <p:cNvGrpSpPr/>
            <p:nvPr/>
          </p:nvGrpSpPr>
          <p:grpSpPr>
            <a:xfrm>
              <a:off x="6585480" y="5155200"/>
              <a:ext cx="367920" cy="367920"/>
              <a:chOff x="6585480" y="5155200"/>
              <a:chExt cx="367920" cy="367920"/>
            </a:xfrm>
          </p:grpSpPr>
          <p:grpSp>
            <p:nvGrpSpPr>
              <p:cNvPr id="178" name="Group 169"/>
              <p:cNvGrpSpPr/>
              <p:nvPr/>
            </p:nvGrpSpPr>
            <p:grpSpPr>
              <a:xfrm>
                <a:off x="6585480" y="5155200"/>
                <a:ext cx="367920" cy="367920"/>
                <a:chOff x="6585480" y="5155200"/>
                <a:chExt cx="367920" cy="367920"/>
              </a:xfrm>
            </p:grpSpPr>
            <p:sp>
              <p:nvSpPr>
                <p:cNvPr id="179" name="Oval 170"/>
                <p:cNvSpPr/>
                <p:nvPr/>
              </p:nvSpPr>
              <p:spPr>
                <a:xfrm rot="1320000">
                  <a:off x="65876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171"/>
                <p:cNvSpPr/>
                <p:nvPr/>
              </p:nvSpPr>
              <p:spPr>
                <a:xfrm rot="6720000">
                  <a:off x="65872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Group 172"/>
              <p:cNvGrpSpPr/>
              <p:nvPr/>
            </p:nvGrpSpPr>
            <p:grpSpPr>
              <a:xfrm>
                <a:off x="6585840" y="5156280"/>
                <a:ext cx="366480" cy="366480"/>
                <a:chOff x="6585840" y="5156280"/>
                <a:chExt cx="366480" cy="366480"/>
              </a:xfrm>
            </p:grpSpPr>
            <p:sp>
              <p:nvSpPr>
                <p:cNvPr id="182" name="Oval 173"/>
                <p:cNvSpPr/>
                <p:nvPr/>
              </p:nvSpPr>
              <p:spPr>
                <a:xfrm rot="4020000">
                  <a:off x="65876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174"/>
                <p:cNvSpPr/>
                <p:nvPr/>
              </p:nvSpPr>
              <p:spPr>
                <a:xfrm rot="9420000">
                  <a:off x="65872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" name="Oval 175"/>
            <p:cNvSpPr/>
            <p:nvPr/>
          </p:nvSpPr>
          <p:spPr>
            <a:xfrm>
              <a:off x="6710040" y="5285880"/>
              <a:ext cx="118800" cy="1058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176"/>
          <p:cNvGrpSpPr/>
          <p:nvPr/>
        </p:nvGrpSpPr>
        <p:grpSpPr>
          <a:xfrm>
            <a:off x="6082200" y="5226840"/>
            <a:ext cx="367920" cy="367560"/>
            <a:chOff x="6082200" y="5226840"/>
            <a:chExt cx="367920" cy="367560"/>
          </a:xfrm>
        </p:grpSpPr>
        <p:grpSp>
          <p:nvGrpSpPr>
            <p:cNvPr id="186" name="Group 177"/>
            <p:cNvGrpSpPr/>
            <p:nvPr/>
          </p:nvGrpSpPr>
          <p:grpSpPr>
            <a:xfrm>
              <a:off x="6084720" y="5229360"/>
              <a:ext cx="363240" cy="362880"/>
              <a:chOff x="6084720" y="5229360"/>
              <a:chExt cx="363240" cy="362880"/>
            </a:xfrm>
          </p:grpSpPr>
          <p:grpSp>
            <p:nvGrpSpPr>
              <p:cNvPr id="187" name="Group 178"/>
              <p:cNvGrpSpPr/>
              <p:nvPr/>
            </p:nvGrpSpPr>
            <p:grpSpPr>
              <a:xfrm>
                <a:off x="6084720" y="5229360"/>
                <a:ext cx="363240" cy="362880"/>
                <a:chOff x="6084720" y="5229360"/>
                <a:chExt cx="363240" cy="362880"/>
              </a:xfrm>
            </p:grpSpPr>
            <p:sp>
              <p:nvSpPr>
                <p:cNvPr id="188" name="Oval 179"/>
                <p:cNvSpPr/>
                <p:nvPr/>
              </p:nvSpPr>
              <p:spPr>
                <a:xfrm>
                  <a:off x="6084720" y="5370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Oval 180"/>
                <p:cNvSpPr/>
                <p:nvPr/>
              </p:nvSpPr>
              <p:spPr>
                <a:xfrm rot="5400000">
                  <a:off x="608400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81"/>
              <p:cNvGrpSpPr/>
              <p:nvPr/>
            </p:nvGrpSpPr>
            <p:grpSpPr>
              <a:xfrm>
                <a:off x="6108120" y="5253120"/>
                <a:ext cx="315360" cy="315720"/>
                <a:chOff x="6108120" y="5253120"/>
                <a:chExt cx="315360" cy="315720"/>
              </a:xfrm>
            </p:grpSpPr>
            <p:sp>
              <p:nvSpPr>
                <p:cNvPr id="191" name="Oval 182"/>
                <p:cNvSpPr/>
                <p:nvPr/>
              </p:nvSpPr>
              <p:spPr>
                <a:xfrm rot="2700000">
                  <a:off x="608436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Oval 183"/>
                <p:cNvSpPr/>
                <p:nvPr/>
              </p:nvSpPr>
              <p:spPr>
                <a:xfrm rot="8100000">
                  <a:off x="6083640" y="536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" name="Group 184"/>
            <p:cNvGrpSpPr/>
            <p:nvPr/>
          </p:nvGrpSpPr>
          <p:grpSpPr>
            <a:xfrm>
              <a:off x="6082200" y="5226840"/>
              <a:ext cx="367920" cy="367560"/>
              <a:chOff x="6082200" y="5226840"/>
              <a:chExt cx="367920" cy="367560"/>
            </a:xfrm>
          </p:grpSpPr>
          <p:grpSp>
            <p:nvGrpSpPr>
              <p:cNvPr id="194" name="Group 185"/>
              <p:cNvGrpSpPr/>
              <p:nvPr/>
            </p:nvGrpSpPr>
            <p:grpSpPr>
              <a:xfrm>
                <a:off x="6082200" y="5226840"/>
                <a:ext cx="367920" cy="367560"/>
                <a:chOff x="6082200" y="5226840"/>
                <a:chExt cx="367920" cy="367560"/>
              </a:xfrm>
            </p:grpSpPr>
            <p:sp>
              <p:nvSpPr>
                <p:cNvPr id="195" name="Oval 186"/>
                <p:cNvSpPr/>
                <p:nvPr/>
              </p:nvSpPr>
              <p:spPr>
                <a:xfrm rot="1320000">
                  <a:off x="6084360" y="536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Oval 187"/>
                <p:cNvSpPr/>
                <p:nvPr/>
              </p:nvSpPr>
              <p:spPr>
                <a:xfrm rot="6720000">
                  <a:off x="608436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88"/>
              <p:cNvGrpSpPr/>
              <p:nvPr/>
            </p:nvGrpSpPr>
            <p:grpSpPr>
              <a:xfrm>
                <a:off x="6082560" y="5227920"/>
                <a:ext cx="366480" cy="366120"/>
                <a:chOff x="6082560" y="5227920"/>
                <a:chExt cx="366480" cy="366120"/>
              </a:xfrm>
            </p:grpSpPr>
            <p:sp>
              <p:nvSpPr>
                <p:cNvPr id="198" name="Oval 189"/>
                <p:cNvSpPr/>
                <p:nvPr/>
              </p:nvSpPr>
              <p:spPr>
                <a:xfrm rot="4020000">
                  <a:off x="6084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Oval 190"/>
                <p:cNvSpPr/>
                <p:nvPr/>
              </p:nvSpPr>
              <p:spPr>
                <a:xfrm rot="9420000">
                  <a:off x="6084000" y="5369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Oval 191"/>
            <p:cNvSpPr/>
            <p:nvPr/>
          </p:nvSpPr>
          <p:spPr>
            <a:xfrm>
              <a:off x="6206760" y="5357520"/>
              <a:ext cx="118800" cy="105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92"/>
          <p:cNvGrpSpPr/>
          <p:nvPr/>
        </p:nvGrpSpPr>
        <p:grpSpPr>
          <a:xfrm>
            <a:off x="6657120" y="5587200"/>
            <a:ext cx="367920" cy="367560"/>
            <a:chOff x="6657120" y="5587200"/>
            <a:chExt cx="367920" cy="367560"/>
          </a:xfrm>
        </p:grpSpPr>
        <p:grpSp>
          <p:nvGrpSpPr>
            <p:cNvPr id="202" name="Group 193"/>
            <p:cNvGrpSpPr/>
            <p:nvPr/>
          </p:nvGrpSpPr>
          <p:grpSpPr>
            <a:xfrm>
              <a:off x="6659640" y="5589720"/>
              <a:ext cx="363240" cy="362880"/>
              <a:chOff x="6659640" y="5589720"/>
              <a:chExt cx="363240" cy="362880"/>
            </a:xfrm>
          </p:grpSpPr>
          <p:grpSp>
            <p:nvGrpSpPr>
              <p:cNvPr id="203" name="Group 194"/>
              <p:cNvGrpSpPr/>
              <p:nvPr/>
            </p:nvGrpSpPr>
            <p:grpSpPr>
              <a:xfrm>
                <a:off x="6659640" y="5589720"/>
                <a:ext cx="363240" cy="362880"/>
                <a:chOff x="6659640" y="5589720"/>
                <a:chExt cx="363240" cy="362880"/>
              </a:xfrm>
            </p:grpSpPr>
            <p:sp>
              <p:nvSpPr>
                <p:cNvPr id="204" name="Oval 195"/>
                <p:cNvSpPr/>
                <p:nvPr/>
              </p:nvSpPr>
              <p:spPr>
                <a:xfrm>
                  <a:off x="6659640" y="5730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Oval 196"/>
                <p:cNvSpPr/>
                <p:nvPr/>
              </p:nvSpPr>
              <p:spPr>
                <a:xfrm rot="5400000">
                  <a:off x="6658920" y="572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97"/>
              <p:cNvGrpSpPr/>
              <p:nvPr/>
            </p:nvGrpSpPr>
            <p:grpSpPr>
              <a:xfrm>
                <a:off x="6683040" y="5613480"/>
                <a:ext cx="315360" cy="315720"/>
                <a:chOff x="6683040" y="5613480"/>
                <a:chExt cx="315360" cy="315720"/>
              </a:xfrm>
            </p:grpSpPr>
            <p:sp>
              <p:nvSpPr>
                <p:cNvPr id="207" name="Oval 198"/>
                <p:cNvSpPr/>
                <p:nvPr/>
              </p:nvSpPr>
              <p:spPr>
                <a:xfrm rot="2700000">
                  <a:off x="6659280" y="573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Oval 199"/>
                <p:cNvSpPr/>
                <p:nvPr/>
              </p:nvSpPr>
              <p:spPr>
                <a:xfrm rot="8100000">
                  <a:off x="6658560" y="5729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200"/>
            <p:cNvGrpSpPr/>
            <p:nvPr/>
          </p:nvGrpSpPr>
          <p:grpSpPr>
            <a:xfrm>
              <a:off x="6657120" y="5587200"/>
              <a:ext cx="367920" cy="367560"/>
              <a:chOff x="6657120" y="5587200"/>
              <a:chExt cx="367920" cy="367560"/>
            </a:xfrm>
          </p:grpSpPr>
          <p:grpSp>
            <p:nvGrpSpPr>
              <p:cNvPr id="210" name="Group 201"/>
              <p:cNvGrpSpPr/>
              <p:nvPr/>
            </p:nvGrpSpPr>
            <p:grpSpPr>
              <a:xfrm>
                <a:off x="6657120" y="5587200"/>
                <a:ext cx="367920" cy="367560"/>
                <a:chOff x="6657120" y="5587200"/>
                <a:chExt cx="367920" cy="367560"/>
              </a:xfrm>
            </p:grpSpPr>
            <p:sp>
              <p:nvSpPr>
                <p:cNvPr id="211" name="Oval 202"/>
                <p:cNvSpPr/>
                <p:nvPr/>
              </p:nvSpPr>
              <p:spPr>
                <a:xfrm rot="1320000">
                  <a:off x="6659280" y="5730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Oval 203"/>
                <p:cNvSpPr/>
                <p:nvPr/>
              </p:nvSpPr>
              <p:spPr>
                <a:xfrm rot="6720000">
                  <a:off x="6659280" y="572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204"/>
              <p:cNvGrpSpPr/>
              <p:nvPr/>
            </p:nvGrpSpPr>
            <p:grpSpPr>
              <a:xfrm>
                <a:off x="6657480" y="5588280"/>
                <a:ext cx="366480" cy="366120"/>
                <a:chOff x="6657480" y="5588280"/>
                <a:chExt cx="366480" cy="366120"/>
              </a:xfrm>
            </p:grpSpPr>
            <p:sp>
              <p:nvSpPr>
                <p:cNvPr id="214" name="Oval 205"/>
                <p:cNvSpPr/>
                <p:nvPr/>
              </p:nvSpPr>
              <p:spPr>
                <a:xfrm rot="4020000">
                  <a:off x="6658920" y="573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206"/>
                <p:cNvSpPr/>
                <p:nvPr/>
              </p:nvSpPr>
              <p:spPr>
                <a:xfrm rot="9420000">
                  <a:off x="6658920" y="5729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Oval 207"/>
            <p:cNvSpPr/>
            <p:nvPr/>
          </p:nvSpPr>
          <p:spPr>
            <a:xfrm>
              <a:off x="6781680" y="5717880"/>
              <a:ext cx="118800" cy="105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24"/>
          <p:cNvGrpSpPr/>
          <p:nvPr/>
        </p:nvGrpSpPr>
        <p:grpSpPr>
          <a:xfrm>
            <a:off x="7450200" y="5661000"/>
            <a:ext cx="218520" cy="218520"/>
            <a:chOff x="7450200" y="5661000"/>
            <a:chExt cx="218520" cy="218520"/>
          </a:xfrm>
        </p:grpSpPr>
        <p:grpSp>
          <p:nvGrpSpPr>
            <p:cNvPr id="218" name="Group 225"/>
            <p:cNvGrpSpPr/>
            <p:nvPr/>
          </p:nvGrpSpPr>
          <p:grpSpPr>
            <a:xfrm>
              <a:off x="7451640" y="5662440"/>
              <a:ext cx="216000" cy="216000"/>
              <a:chOff x="7451640" y="5662440"/>
              <a:chExt cx="216000" cy="216000"/>
            </a:xfrm>
          </p:grpSpPr>
          <p:grpSp>
            <p:nvGrpSpPr>
              <p:cNvPr id="219" name="Group 226"/>
              <p:cNvGrpSpPr/>
              <p:nvPr/>
            </p:nvGrpSpPr>
            <p:grpSpPr>
              <a:xfrm>
                <a:off x="7451640" y="5662440"/>
                <a:ext cx="216000" cy="216000"/>
                <a:chOff x="7451640" y="5662440"/>
                <a:chExt cx="216000" cy="216000"/>
              </a:xfrm>
            </p:grpSpPr>
            <p:sp>
              <p:nvSpPr>
                <p:cNvPr id="220" name="Oval 227"/>
                <p:cNvSpPr/>
                <p:nvPr/>
              </p:nvSpPr>
              <p:spPr>
                <a:xfrm>
                  <a:off x="7451640" y="5746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Oval 228"/>
                <p:cNvSpPr/>
                <p:nvPr/>
              </p:nvSpPr>
              <p:spPr>
                <a:xfrm rot="54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229"/>
              <p:cNvGrpSpPr/>
              <p:nvPr/>
            </p:nvGrpSpPr>
            <p:grpSpPr>
              <a:xfrm>
                <a:off x="7465680" y="5676480"/>
                <a:ext cx="187560" cy="187560"/>
                <a:chOff x="7465680" y="5676480"/>
                <a:chExt cx="187560" cy="187560"/>
              </a:xfrm>
            </p:grpSpPr>
            <p:sp>
              <p:nvSpPr>
                <p:cNvPr id="223" name="Oval 230"/>
                <p:cNvSpPr/>
                <p:nvPr/>
              </p:nvSpPr>
              <p:spPr>
                <a:xfrm rot="270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Oval 231"/>
                <p:cNvSpPr/>
                <p:nvPr/>
              </p:nvSpPr>
              <p:spPr>
                <a:xfrm rot="810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232"/>
            <p:cNvGrpSpPr/>
            <p:nvPr/>
          </p:nvGrpSpPr>
          <p:grpSpPr>
            <a:xfrm>
              <a:off x="7450200" y="5661000"/>
              <a:ext cx="218520" cy="218520"/>
              <a:chOff x="7450200" y="5661000"/>
              <a:chExt cx="218520" cy="218520"/>
            </a:xfrm>
          </p:grpSpPr>
          <p:grpSp>
            <p:nvGrpSpPr>
              <p:cNvPr id="226" name="Group 233"/>
              <p:cNvGrpSpPr/>
              <p:nvPr/>
            </p:nvGrpSpPr>
            <p:grpSpPr>
              <a:xfrm>
                <a:off x="7450200" y="5661000"/>
                <a:ext cx="218520" cy="218520"/>
                <a:chOff x="7450200" y="5661000"/>
                <a:chExt cx="218520" cy="218520"/>
              </a:xfrm>
            </p:grpSpPr>
            <p:sp>
              <p:nvSpPr>
                <p:cNvPr id="227" name="Oval 234"/>
                <p:cNvSpPr/>
                <p:nvPr/>
              </p:nvSpPr>
              <p:spPr>
                <a:xfrm rot="1320000">
                  <a:off x="7451280" y="574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235"/>
                <p:cNvSpPr/>
                <p:nvPr/>
              </p:nvSpPr>
              <p:spPr>
                <a:xfrm rot="6720000">
                  <a:off x="745128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Group 236"/>
              <p:cNvGrpSpPr/>
              <p:nvPr/>
            </p:nvGrpSpPr>
            <p:grpSpPr>
              <a:xfrm>
                <a:off x="7450920" y="5661360"/>
                <a:ext cx="217800" cy="217800"/>
                <a:chOff x="7450920" y="5661360"/>
                <a:chExt cx="217800" cy="217800"/>
              </a:xfrm>
            </p:grpSpPr>
            <p:sp>
              <p:nvSpPr>
                <p:cNvPr id="230" name="Oval 237"/>
                <p:cNvSpPr/>
                <p:nvPr/>
              </p:nvSpPr>
              <p:spPr>
                <a:xfrm rot="4020000">
                  <a:off x="7450920" y="574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Oval 238"/>
                <p:cNvSpPr/>
                <p:nvPr/>
              </p:nvSpPr>
              <p:spPr>
                <a:xfrm rot="9420000">
                  <a:off x="7451640" y="574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2" name="Oval 239"/>
            <p:cNvSpPr/>
            <p:nvPr/>
          </p:nvSpPr>
          <p:spPr>
            <a:xfrm>
              <a:off x="7524000" y="5738760"/>
              <a:ext cx="70560" cy="6300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240"/>
          <p:cNvGrpSpPr/>
          <p:nvPr/>
        </p:nvGrpSpPr>
        <p:grpSpPr>
          <a:xfrm>
            <a:off x="4421880" y="5371200"/>
            <a:ext cx="367920" cy="367920"/>
            <a:chOff x="4421880" y="5371200"/>
            <a:chExt cx="367920" cy="367920"/>
          </a:xfrm>
        </p:grpSpPr>
        <p:grpSp>
          <p:nvGrpSpPr>
            <p:cNvPr id="234" name="Group 241"/>
            <p:cNvGrpSpPr/>
            <p:nvPr/>
          </p:nvGrpSpPr>
          <p:grpSpPr>
            <a:xfrm>
              <a:off x="4424400" y="5373720"/>
              <a:ext cx="363240" cy="363240"/>
              <a:chOff x="4424400" y="5373720"/>
              <a:chExt cx="363240" cy="363240"/>
            </a:xfrm>
          </p:grpSpPr>
          <p:grpSp>
            <p:nvGrpSpPr>
              <p:cNvPr id="235" name="Group 242"/>
              <p:cNvGrpSpPr/>
              <p:nvPr/>
            </p:nvGrpSpPr>
            <p:grpSpPr>
              <a:xfrm>
                <a:off x="4424400" y="5373720"/>
                <a:ext cx="363240" cy="363240"/>
                <a:chOff x="4424400" y="5373720"/>
                <a:chExt cx="363240" cy="363240"/>
              </a:xfrm>
            </p:grpSpPr>
            <p:sp>
              <p:nvSpPr>
                <p:cNvPr id="236" name="Oval 243"/>
                <p:cNvSpPr/>
                <p:nvPr/>
              </p:nvSpPr>
              <p:spPr>
                <a:xfrm>
                  <a:off x="4424400" y="551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244"/>
                <p:cNvSpPr/>
                <p:nvPr/>
              </p:nvSpPr>
              <p:spPr>
                <a:xfrm rot="5400000">
                  <a:off x="442368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245"/>
              <p:cNvGrpSpPr/>
              <p:nvPr/>
            </p:nvGrpSpPr>
            <p:grpSpPr>
              <a:xfrm>
                <a:off x="4447800" y="5397480"/>
                <a:ext cx="315360" cy="315720"/>
                <a:chOff x="4447800" y="5397480"/>
                <a:chExt cx="315360" cy="315720"/>
              </a:xfrm>
            </p:grpSpPr>
            <p:sp>
              <p:nvSpPr>
                <p:cNvPr id="239" name="Oval 246"/>
                <p:cNvSpPr/>
                <p:nvPr/>
              </p:nvSpPr>
              <p:spPr>
                <a:xfrm rot="2700000">
                  <a:off x="4424040" y="551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Oval 247"/>
                <p:cNvSpPr/>
                <p:nvPr/>
              </p:nvSpPr>
              <p:spPr>
                <a:xfrm rot="8100000">
                  <a:off x="442332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" name="Group 248"/>
            <p:cNvGrpSpPr/>
            <p:nvPr/>
          </p:nvGrpSpPr>
          <p:grpSpPr>
            <a:xfrm>
              <a:off x="4421880" y="5371200"/>
              <a:ext cx="367920" cy="367920"/>
              <a:chOff x="4421880" y="5371200"/>
              <a:chExt cx="367920" cy="367920"/>
            </a:xfrm>
          </p:grpSpPr>
          <p:grpSp>
            <p:nvGrpSpPr>
              <p:cNvPr id="242" name="Group 249"/>
              <p:cNvGrpSpPr/>
              <p:nvPr/>
            </p:nvGrpSpPr>
            <p:grpSpPr>
              <a:xfrm>
                <a:off x="4421880" y="5371200"/>
                <a:ext cx="367920" cy="367920"/>
                <a:chOff x="4421880" y="5371200"/>
                <a:chExt cx="367920" cy="367920"/>
              </a:xfrm>
            </p:grpSpPr>
            <p:sp>
              <p:nvSpPr>
                <p:cNvPr id="243" name="Oval 250"/>
                <p:cNvSpPr/>
                <p:nvPr/>
              </p:nvSpPr>
              <p:spPr>
                <a:xfrm rot="1320000">
                  <a:off x="442404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251"/>
                <p:cNvSpPr/>
                <p:nvPr/>
              </p:nvSpPr>
              <p:spPr>
                <a:xfrm rot="6720000">
                  <a:off x="4423680" y="5513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252"/>
              <p:cNvGrpSpPr/>
              <p:nvPr/>
            </p:nvGrpSpPr>
            <p:grpSpPr>
              <a:xfrm>
                <a:off x="4422240" y="5372280"/>
                <a:ext cx="366480" cy="366480"/>
                <a:chOff x="4422240" y="5372280"/>
                <a:chExt cx="366480" cy="366480"/>
              </a:xfrm>
            </p:grpSpPr>
            <p:sp>
              <p:nvSpPr>
                <p:cNvPr id="246" name="Oval 253"/>
                <p:cNvSpPr/>
                <p:nvPr/>
              </p:nvSpPr>
              <p:spPr>
                <a:xfrm rot="4020000">
                  <a:off x="4424040" y="551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Oval 254"/>
                <p:cNvSpPr/>
                <p:nvPr/>
              </p:nvSpPr>
              <p:spPr>
                <a:xfrm rot="9420000">
                  <a:off x="4423680" y="5513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Oval 255"/>
            <p:cNvSpPr/>
            <p:nvPr/>
          </p:nvSpPr>
          <p:spPr>
            <a:xfrm>
              <a:off x="4546440" y="5501880"/>
              <a:ext cx="118800" cy="105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56"/>
          <p:cNvGrpSpPr/>
          <p:nvPr/>
        </p:nvGrpSpPr>
        <p:grpSpPr>
          <a:xfrm>
            <a:off x="3989880" y="5514120"/>
            <a:ext cx="367920" cy="367920"/>
            <a:chOff x="3989880" y="5514120"/>
            <a:chExt cx="367920" cy="367920"/>
          </a:xfrm>
        </p:grpSpPr>
        <p:grpSp>
          <p:nvGrpSpPr>
            <p:cNvPr id="250" name="Group 257"/>
            <p:cNvGrpSpPr/>
            <p:nvPr/>
          </p:nvGrpSpPr>
          <p:grpSpPr>
            <a:xfrm>
              <a:off x="3992400" y="5516640"/>
              <a:ext cx="363240" cy="363240"/>
              <a:chOff x="3992400" y="5516640"/>
              <a:chExt cx="363240" cy="363240"/>
            </a:xfrm>
          </p:grpSpPr>
          <p:grpSp>
            <p:nvGrpSpPr>
              <p:cNvPr id="251" name="Group 258"/>
              <p:cNvGrpSpPr/>
              <p:nvPr/>
            </p:nvGrpSpPr>
            <p:grpSpPr>
              <a:xfrm>
                <a:off x="3992400" y="5516640"/>
                <a:ext cx="363240" cy="363240"/>
                <a:chOff x="3992400" y="5516640"/>
                <a:chExt cx="363240" cy="363240"/>
              </a:xfrm>
            </p:grpSpPr>
            <p:sp>
              <p:nvSpPr>
                <p:cNvPr id="252" name="Oval 259"/>
                <p:cNvSpPr/>
                <p:nvPr/>
              </p:nvSpPr>
              <p:spPr>
                <a:xfrm>
                  <a:off x="3992400" y="565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Oval 260"/>
                <p:cNvSpPr/>
                <p:nvPr/>
              </p:nvSpPr>
              <p:spPr>
                <a:xfrm rot="5400000">
                  <a:off x="399168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Group 261"/>
              <p:cNvGrpSpPr/>
              <p:nvPr/>
            </p:nvGrpSpPr>
            <p:grpSpPr>
              <a:xfrm>
                <a:off x="4015800" y="5540400"/>
                <a:ext cx="315360" cy="315720"/>
                <a:chOff x="4015800" y="5540400"/>
                <a:chExt cx="315360" cy="315720"/>
              </a:xfrm>
            </p:grpSpPr>
            <p:sp>
              <p:nvSpPr>
                <p:cNvPr id="255" name="Oval 262"/>
                <p:cNvSpPr/>
                <p:nvPr/>
              </p:nvSpPr>
              <p:spPr>
                <a:xfrm rot="2700000">
                  <a:off x="3992040" y="565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63"/>
                <p:cNvSpPr/>
                <p:nvPr/>
              </p:nvSpPr>
              <p:spPr>
                <a:xfrm rot="8100000">
                  <a:off x="399132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264"/>
            <p:cNvGrpSpPr/>
            <p:nvPr/>
          </p:nvGrpSpPr>
          <p:grpSpPr>
            <a:xfrm>
              <a:off x="3989880" y="5514120"/>
              <a:ext cx="367920" cy="367920"/>
              <a:chOff x="3989880" y="5514120"/>
              <a:chExt cx="367920" cy="367920"/>
            </a:xfrm>
          </p:grpSpPr>
          <p:grpSp>
            <p:nvGrpSpPr>
              <p:cNvPr id="258" name="Group 265"/>
              <p:cNvGrpSpPr/>
              <p:nvPr/>
            </p:nvGrpSpPr>
            <p:grpSpPr>
              <a:xfrm>
                <a:off x="3989880" y="5514120"/>
                <a:ext cx="367920" cy="367920"/>
                <a:chOff x="3989880" y="5514120"/>
                <a:chExt cx="367920" cy="367920"/>
              </a:xfrm>
            </p:grpSpPr>
            <p:sp>
              <p:nvSpPr>
                <p:cNvPr id="259" name="Oval 266"/>
                <p:cNvSpPr/>
                <p:nvPr/>
              </p:nvSpPr>
              <p:spPr>
                <a:xfrm rot="1320000">
                  <a:off x="399204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67"/>
                <p:cNvSpPr/>
                <p:nvPr/>
              </p:nvSpPr>
              <p:spPr>
                <a:xfrm rot="6720000">
                  <a:off x="3991680" y="5656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268"/>
              <p:cNvGrpSpPr/>
              <p:nvPr/>
            </p:nvGrpSpPr>
            <p:grpSpPr>
              <a:xfrm>
                <a:off x="3990240" y="5515200"/>
                <a:ext cx="366480" cy="366480"/>
                <a:chOff x="3990240" y="5515200"/>
                <a:chExt cx="366480" cy="366480"/>
              </a:xfrm>
            </p:grpSpPr>
            <p:sp>
              <p:nvSpPr>
                <p:cNvPr id="262" name="Oval 269"/>
                <p:cNvSpPr/>
                <p:nvPr/>
              </p:nvSpPr>
              <p:spPr>
                <a:xfrm rot="4020000">
                  <a:off x="3992040" y="5657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270"/>
                <p:cNvSpPr/>
                <p:nvPr/>
              </p:nvSpPr>
              <p:spPr>
                <a:xfrm rot="9420000">
                  <a:off x="3991680" y="5656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271"/>
            <p:cNvSpPr/>
            <p:nvPr/>
          </p:nvSpPr>
          <p:spPr>
            <a:xfrm>
              <a:off x="4114440" y="5644800"/>
              <a:ext cx="118800" cy="105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288"/>
          <p:cNvGrpSpPr/>
          <p:nvPr/>
        </p:nvGrpSpPr>
        <p:grpSpPr>
          <a:xfrm>
            <a:off x="3705480" y="5805720"/>
            <a:ext cx="218160" cy="218160"/>
            <a:chOff x="3705480" y="5805720"/>
            <a:chExt cx="218160" cy="218160"/>
          </a:xfrm>
        </p:grpSpPr>
        <p:grpSp>
          <p:nvGrpSpPr>
            <p:cNvPr id="266" name="Group 289"/>
            <p:cNvGrpSpPr/>
            <p:nvPr/>
          </p:nvGrpSpPr>
          <p:grpSpPr>
            <a:xfrm>
              <a:off x="3706920" y="5807160"/>
              <a:ext cx="215640" cy="215640"/>
              <a:chOff x="3706920" y="5807160"/>
              <a:chExt cx="215640" cy="215640"/>
            </a:xfrm>
          </p:grpSpPr>
          <p:grpSp>
            <p:nvGrpSpPr>
              <p:cNvPr id="267" name="Group 290"/>
              <p:cNvGrpSpPr/>
              <p:nvPr/>
            </p:nvGrpSpPr>
            <p:grpSpPr>
              <a:xfrm>
                <a:off x="3706920" y="5807160"/>
                <a:ext cx="215640" cy="215640"/>
                <a:chOff x="3706920" y="5807160"/>
                <a:chExt cx="215640" cy="215640"/>
              </a:xfrm>
            </p:grpSpPr>
            <p:sp>
              <p:nvSpPr>
                <p:cNvPr id="268" name="Oval 291"/>
                <p:cNvSpPr/>
                <p:nvPr/>
              </p:nvSpPr>
              <p:spPr>
                <a:xfrm>
                  <a:off x="3706920" y="58906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Oval 292"/>
                <p:cNvSpPr/>
                <p:nvPr/>
              </p:nvSpPr>
              <p:spPr>
                <a:xfrm rot="54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293"/>
              <p:cNvGrpSpPr/>
              <p:nvPr/>
            </p:nvGrpSpPr>
            <p:grpSpPr>
              <a:xfrm>
                <a:off x="3720960" y="5821560"/>
                <a:ext cx="187200" cy="187200"/>
                <a:chOff x="3720960" y="5821560"/>
                <a:chExt cx="187200" cy="187200"/>
              </a:xfrm>
            </p:grpSpPr>
            <p:sp>
              <p:nvSpPr>
                <p:cNvPr id="271" name="Oval 294"/>
                <p:cNvSpPr/>
                <p:nvPr/>
              </p:nvSpPr>
              <p:spPr>
                <a:xfrm rot="27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Oval 295"/>
                <p:cNvSpPr/>
                <p:nvPr/>
              </p:nvSpPr>
              <p:spPr>
                <a:xfrm rot="810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3" name="Group 296"/>
            <p:cNvGrpSpPr/>
            <p:nvPr/>
          </p:nvGrpSpPr>
          <p:grpSpPr>
            <a:xfrm>
              <a:off x="3705480" y="5805720"/>
              <a:ext cx="218160" cy="218160"/>
              <a:chOff x="3705480" y="5805720"/>
              <a:chExt cx="218160" cy="218160"/>
            </a:xfrm>
          </p:grpSpPr>
          <p:grpSp>
            <p:nvGrpSpPr>
              <p:cNvPr id="274" name="Group 297"/>
              <p:cNvGrpSpPr/>
              <p:nvPr/>
            </p:nvGrpSpPr>
            <p:grpSpPr>
              <a:xfrm>
                <a:off x="3705480" y="5805720"/>
                <a:ext cx="218160" cy="218160"/>
                <a:chOff x="3705480" y="5805720"/>
                <a:chExt cx="218160" cy="218160"/>
              </a:xfrm>
            </p:grpSpPr>
            <p:sp>
              <p:nvSpPr>
                <p:cNvPr id="275" name="Oval 298"/>
                <p:cNvSpPr/>
                <p:nvPr/>
              </p:nvSpPr>
              <p:spPr>
                <a:xfrm rot="1320000">
                  <a:off x="3706560" y="58906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Oval 299"/>
                <p:cNvSpPr/>
                <p:nvPr/>
              </p:nvSpPr>
              <p:spPr>
                <a:xfrm rot="67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300"/>
              <p:cNvGrpSpPr/>
              <p:nvPr/>
            </p:nvGrpSpPr>
            <p:grpSpPr>
              <a:xfrm>
                <a:off x="3705480" y="5806080"/>
                <a:ext cx="217800" cy="217800"/>
                <a:chOff x="3705480" y="5806080"/>
                <a:chExt cx="217800" cy="217800"/>
              </a:xfrm>
            </p:grpSpPr>
            <p:sp>
              <p:nvSpPr>
                <p:cNvPr id="278" name="Oval 301"/>
                <p:cNvSpPr/>
                <p:nvPr/>
              </p:nvSpPr>
              <p:spPr>
                <a:xfrm rot="4020000">
                  <a:off x="3706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Oval 302"/>
                <p:cNvSpPr/>
                <p:nvPr/>
              </p:nvSpPr>
              <p:spPr>
                <a:xfrm rot="9420000">
                  <a:off x="3706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0" name="Oval 303"/>
            <p:cNvSpPr/>
            <p:nvPr/>
          </p:nvSpPr>
          <p:spPr>
            <a:xfrm>
              <a:off x="3779280" y="5883120"/>
              <a:ext cx="70200" cy="626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Group 304"/>
          <p:cNvGrpSpPr/>
          <p:nvPr/>
        </p:nvGrpSpPr>
        <p:grpSpPr>
          <a:xfrm>
            <a:off x="8458200" y="5300640"/>
            <a:ext cx="218520" cy="218520"/>
            <a:chOff x="8458200" y="5300640"/>
            <a:chExt cx="218520" cy="218520"/>
          </a:xfrm>
        </p:grpSpPr>
        <p:grpSp>
          <p:nvGrpSpPr>
            <p:cNvPr id="282" name="Group 305"/>
            <p:cNvGrpSpPr/>
            <p:nvPr/>
          </p:nvGrpSpPr>
          <p:grpSpPr>
            <a:xfrm>
              <a:off x="8459640" y="5302080"/>
              <a:ext cx="216000" cy="216000"/>
              <a:chOff x="8459640" y="5302080"/>
              <a:chExt cx="216000" cy="216000"/>
            </a:xfrm>
          </p:grpSpPr>
          <p:grpSp>
            <p:nvGrpSpPr>
              <p:cNvPr id="283" name="Group 306"/>
              <p:cNvGrpSpPr/>
              <p:nvPr/>
            </p:nvGrpSpPr>
            <p:grpSpPr>
              <a:xfrm>
                <a:off x="8459640" y="5302080"/>
                <a:ext cx="216000" cy="216000"/>
                <a:chOff x="8459640" y="5302080"/>
                <a:chExt cx="216000" cy="216000"/>
              </a:xfrm>
            </p:grpSpPr>
            <p:sp>
              <p:nvSpPr>
                <p:cNvPr id="284" name="Oval 307"/>
                <p:cNvSpPr/>
                <p:nvPr/>
              </p:nvSpPr>
              <p:spPr>
                <a:xfrm>
                  <a:off x="8459640" y="5385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308"/>
                <p:cNvSpPr/>
                <p:nvPr/>
              </p:nvSpPr>
              <p:spPr>
                <a:xfrm rot="54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309"/>
              <p:cNvGrpSpPr/>
              <p:nvPr/>
            </p:nvGrpSpPr>
            <p:grpSpPr>
              <a:xfrm>
                <a:off x="8473680" y="5316120"/>
                <a:ext cx="187560" cy="187560"/>
                <a:chOff x="8473680" y="5316120"/>
                <a:chExt cx="187560" cy="187560"/>
              </a:xfrm>
            </p:grpSpPr>
            <p:sp>
              <p:nvSpPr>
                <p:cNvPr id="287" name="Oval 310"/>
                <p:cNvSpPr/>
                <p:nvPr/>
              </p:nvSpPr>
              <p:spPr>
                <a:xfrm rot="270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Oval 311"/>
                <p:cNvSpPr/>
                <p:nvPr/>
              </p:nvSpPr>
              <p:spPr>
                <a:xfrm rot="810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312"/>
            <p:cNvGrpSpPr/>
            <p:nvPr/>
          </p:nvGrpSpPr>
          <p:grpSpPr>
            <a:xfrm>
              <a:off x="8458200" y="5300640"/>
              <a:ext cx="218520" cy="218520"/>
              <a:chOff x="8458200" y="5300640"/>
              <a:chExt cx="218520" cy="218520"/>
            </a:xfrm>
          </p:grpSpPr>
          <p:grpSp>
            <p:nvGrpSpPr>
              <p:cNvPr id="290" name="Group 313"/>
              <p:cNvGrpSpPr/>
              <p:nvPr/>
            </p:nvGrpSpPr>
            <p:grpSpPr>
              <a:xfrm>
                <a:off x="8458200" y="5300640"/>
                <a:ext cx="218520" cy="218520"/>
                <a:chOff x="8458200" y="5300640"/>
                <a:chExt cx="218520" cy="218520"/>
              </a:xfrm>
            </p:grpSpPr>
            <p:sp>
              <p:nvSpPr>
                <p:cNvPr id="291" name="Oval 314"/>
                <p:cNvSpPr/>
                <p:nvPr/>
              </p:nvSpPr>
              <p:spPr>
                <a:xfrm rot="1320000">
                  <a:off x="8459280" y="5385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Oval 315"/>
                <p:cNvSpPr/>
                <p:nvPr/>
              </p:nvSpPr>
              <p:spPr>
                <a:xfrm rot="6720000">
                  <a:off x="845928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316"/>
              <p:cNvGrpSpPr/>
              <p:nvPr/>
            </p:nvGrpSpPr>
            <p:grpSpPr>
              <a:xfrm>
                <a:off x="8458920" y="5301000"/>
                <a:ext cx="217800" cy="217800"/>
                <a:chOff x="8458920" y="5301000"/>
                <a:chExt cx="217800" cy="217800"/>
              </a:xfrm>
            </p:grpSpPr>
            <p:sp>
              <p:nvSpPr>
                <p:cNvPr id="294" name="Oval 317"/>
                <p:cNvSpPr/>
                <p:nvPr/>
              </p:nvSpPr>
              <p:spPr>
                <a:xfrm rot="4020000">
                  <a:off x="8458920" y="5385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Oval 318"/>
                <p:cNvSpPr/>
                <p:nvPr/>
              </p:nvSpPr>
              <p:spPr>
                <a:xfrm rot="9420000">
                  <a:off x="8459640" y="538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6" name="Oval 319"/>
            <p:cNvSpPr/>
            <p:nvPr/>
          </p:nvSpPr>
          <p:spPr>
            <a:xfrm>
              <a:off x="8532000" y="5378400"/>
              <a:ext cx="70560" cy="630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320"/>
          <p:cNvGrpSpPr/>
          <p:nvPr/>
        </p:nvGrpSpPr>
        <p:grpSpPr>
          <a:xfrm>
            <a:off x="5145120" y="5445360"/>
            <a:ext cx="218520" cy="218160"/>
            <a:chOff x="5145120" y="5445360"/>
            <a:chExt cx="218520" cy="218160"/>
          </a:xfrm>
        </p:grpSpPr>
        <p:grpSp>
          <p:nvGrpSpPr>
            <p:cNvPr id="298" name="Group 321"/>
            <p:cNvGrpSpPr/>
            <p:nvPr/>
          </p:nvGrpSpPr>
          <p:grpSpPr>
            <a:xfrm>
              <a:off x="5146560" y="5446800"/>
              <a:ext cx="216000" cy="215640"/>
              <a:chOff x="5146560" y="5446800"/>
              <a:chExt cx="216000" cy="215640"/>
            </a:xfrm>
          </p:grpSpPr>
          <p:grpSp>
            <p:nvGrpSpPr>
              <p:cNvPr id="299" name="Group 322"/>
              <p:cNvGrpSpPr/>
              <p:nvPr/>
            </p:nvGrpSpPr>
            <p:grpSpPr>
              <a:xfrm>
                <a:off x="5146560" y="5446800"/>
                <a:ext cx="216000" cy="215640"/>
                <a:chOff x="5146560" y="5446800"/>
                <a:chExt cx="216000" cy="215640"/>
              </a:xfrm>
            </p:grpSpPr>
            <p:sp>
              <p:nvSpPr>
                <p:cNvPr id="300" name="Oval 323"/>
                <p:cNvSpPr/>
                <p:nvPr/>
              </p:nvSpPr>
              <p:spPr>
                <a:xfrm>
                  <a:off x="5146560" y="553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Oval 324"/>
                <p:cNvSpPr/>
                <p:nvPr/>
              </p:nvSpPr>
              <p:spPr>
                <a:xfrm rot="540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325"/>
              <p:cNvGrpSpPr/>
              <p:nvPr/>
            </p:nvGrpSpPr>
            <p:grpSpPr>
              <a:xfrm>
                <a:off x="5160960" y="5460840"/>
                <a:ext cx="187200" cy="187560"/>
                <a:chOff x="5160960" y="5460840"/>
                <a:chExt cx="187200" cy="187560"/>
              </a:xfrm>
            </p:grpSpPr>
            <p:sp>
              <p:nvSpPr>
                <p:cNvPr id="303" name="Oval 326"/>
                <p:cNvSpPr/>
                <p:nvPr/>
              </p:nvSpPr>
              <p:spPr>
                <a:xfrm rot="2700000">
                  <a:off x="514656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327"/>
                <p:cNvSpPr/>
                <p:nvPr/>
              </p:nvSpPr>
              <p:spPr>
                <a:xfrm rot="810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328"/>
            <p:cNvGrpSpPr/>
            <p:nvPr/>
          </p:nvGrpSpPr>
          <p:grpSpPr>
            <a:xfrm>
              <a:off x="5145120" y="5445360"/>
              <a:ext cx="218520" cy="218160"/>
              <a:chOff x="5145120" y="5445360"/>
              <a:chExt cx="218520" cy="218160"/>
            </a:xfrm>
          </p:grpSpPr>
          <p:grpSp>
            <p:nvGrpSpPr>
              <p:cNvPr id="306" name="Group 329"/>
              <p:cNvGrpSpPr/>
              <p:nvPr/>
            </p:nvGrpSpPr>
            <p:grpSpPr>
              <a:xfrm>
                <a:off x="5145120" y="5445360"/>
                <a:ext cx="218520" cy="218160"/>
                <a:chOff x="5145120" y="5445360"/>
                <a:chExt cx="218520" cy="218160"/>
              </a:xfrm>
            </p:grpSpPr>
            <p:sp>
              <p:nvSpPr>
                <p:cNvPr id="307" name="Oval 330"/>
                <p:cNvSpPr/>
                <p:nvPr/>
              </p:nvSpPr>
              <p:spPr>
                <a:xfrm rot="1320000">
                  <a:off x="5146200" y="552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331"/>
                <p:cNvSpPr/>
                <p:nvPr/>
              </p:nvSpPr>
              <p:spPr>
                <a:xfrm rot="672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Group 332"/>
              <p:cNvGrpSpPr/>
              <p:nvPr/>
            </p:nvGrpSpPr>
            <p:grpSpPr>
              <a:xfrm>
                <a:off x="5145840" y="5445720"/>
                <a:ext cx="217800" cy="217800"/>
                <a:chOff x="5145840" y="5445720"/>
                <a:chExt cx="217800" cy="217800"/>
              </a:xfrm>
            </p:grpSpPr>
            <p:sp>
              <p:nvSpPr>
                <p:cNvPr id="310" name="Oval 333"/>
                <p:cNvSpPr/>
                <p:nvPr/>
              </p:nvSpPr>
              <p:spPr>
                <a:xfrm rot="4020000">
                  <a:off x="5146200" y="552996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Oval 334"/>
                <p:cNvSpPr/>
                <p:nvPr/>
              </p:nvSpPr>
              <p:spPr>
                <a:xfrm rot="9420000">
                  <a:off x="5146560" y="5529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2" name="Oval 335"/>
            <p:cNvSpPr/>
            <p:nvPr/>
          </p:nvSpPr>
          <p:spPr>
            <a:xfrm>
              <a:off x="5218920" y="5522760"/>
              <a:ext cx="70560" cy="626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336"/>
          <p:cNvGrpSpPr/>
          <p:nvPr/>
        </p:nvGrpSpPr>
        <p:grpSpPr>
          <a:xfrm>
            <a:off x="8097840" y="5229360"/>
            <a:ext cx="218520" cy="218520"/>
            <a:chOff x="8097840" y="5229360"/>
            <a:chExt cx="218520" cy="218520"/>
          </a:xfrm>
        </p:grpSpPr>
        <p:grpSp>
          <p:nvGrpSpPr>
            <p:cNvPr id="314" name="Group 337"/>
            <p:cNvGrpSpPr/>
            <p:nvPr/>
          </p:nvGrpSpPr>
          <p:grpSpPr>
            <a:xfrm>
              <a:off x="8099280" y="5230800"/>
              <a:ext cx="216000" cy="216000"/>
              <a:chOff x="8099280" y="5230800"/>
              <a:chExt cx="216000" cy="216000"/>
            </a:xfrm>
          </p:grpSpPr>
          <p:grpSp>
            <p:nvGrpSpPr>
              <p:cNvPr id="315" name="Group 338"/>
              <p:cNvGrpSpPr/>
              <p:nvPr/>
            </p:nvGrpSpPr>
            <p:grpSpPr>
              <a:xfrm>
                <a:off x="8099280" y="5230800"/>
                <a:ext cx="216000" cy="216000"/>
                <a:chOff x="8099280" y="5230800"/>
                <a:chExt cx="216000" cy="216000"/>
              </a:xfrm>
            </p:grpSpPr>
            <p:sp>
              <p:nvSpPr>
                <p:cNvPr id="316" name="Oval 339"/>
                <p:cNvSpPr/>
                <p:nvPr/>
              </p:nvSpPr>
              <p:spPr>
                <a:xfrm>
                  <a:off x="8099280" y="5314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Oval 340"/>
                <p:cNvSpPr/>
                <p:nvPr/>
              </p:nvSpPr>
              <p:spPr>
                <a:xfrm rot="54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Group 341"/>
              <p:cNvGrpSpPr/>
              <p:nvPr/>
            </p:nvGrpSpPr>
            <p:grpSpPr>
              <a:xfrm>
                <a:off x="8113320" y="5244840"/>
                <a:ext cx="187560" cy="187560"/>
                <a:chOff x="8113320" y="5244840"/>
                <a:chExt cx="187560" cy="187560"/>
              </a:xfrm>
            </p:grpSpPr>
            <p:sp>
              <p:nvSpPr>
                <p:cNvPr id="319" name="Oval 342"/>
                <p:cNvSpPr/>
                <p:nvPr/>
              </p:nvSpPr>
              <p:spPr>
                <a:xfrm rot="270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Oval 343"/>
                <p:cNvSpPr/>
                <p:nvPr/>
              </p:nvSpPr>
              <p:spPr>
                <a:xfrm rot="810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Group 344"/>
            <p:cNvGrpSpPr/>
            <p:nvPr/>
          </p:nvGrpSpPr>
          <p:grpSpPr>
            <a:xfrm>
              <a:off x="8097840" y="5229360"/>
              <a:ext cx="218520" cy="218520"/>
              <a:chOff x="8097840" y="5229360"/>
              <a:chExt cx="218520" cy="218520"/>
            </a:xfrm>
          </p:grpSpPr>
          <p:grpSp>
            <p:nvGrpSpPr>
              <p:cNvPr id="322" name="Group 345"/>
              <p:cNvGrpSpPr/>
              <p:nvPr/>
            </p:nvGrpSpPr>
            <p:grpSpPr>
              <a:xfrm>
                <a:off x="8097840" y="5229360"/>
                <a:ext cx="218520" cy="218520"/>
                <a:chOff x="8097840" y="5229360"/>
                <a:chExt cx="218520" cy="218520"/>
              </a:xfrm>
            </p:grpSpPr>
            <p:sp>
              <p:nvSpPr>
                <p:cNvPr id="323" name="Oval 346"/>
                <p:cNvSpPr/>
                <p:nvPr/>
              </p:nvSpPr>
              <p:spPr>
                <a:xfrm rot="1320000">
                  <a:off x="8098920" y="5314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Oval 347"/>
                <p:cNvSpPr/>
                <p:nvPr/>
              </p:nvSpPr>
              <p:spPr>
                <a:xfrm rot="6720000">
                  <a:off x="809892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Group 348"/>
              <p:cNvGrpSpPr/>
              <p:nvPr/>
            </p:nvGrpSpPr>
            <p:grpSpPr>
              <a:xfrm>
                <a:off x="8098560" y="5229720"/>
                <a:ext cx="217800" cy="217800"/>
                <a:chOff x="8098560" y="5229720"/>
                <a:chExt cx="217800" cy="217800"/>
              </a:xfrm>
            </p:grpSpPr>
            <p:sp>
              <p:nvSpPr>
                <p:cNvPr id="326" name="Oval 349"/>
                <p:cNvSpPr/>
                <p:nvPr/>
              </p:nvSpPr>
              <p:spPr>
                <a:xfrm rot="4020000">
                  <a:off x="8098560" y="5313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350"/>
                <p:cNvSpPr/>
                <p:nvPr/>
              </p:nvSpPr>
              <p:spPr>
                <a:xfrm rot="9420000">
                  <a:off x="8099280" y="53136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" name="Oval 351"/>
            <p:cNvSpPr/>
            <p:nvPr/>
          </p:nvSpPr>
          <p:spPr>
            <a:xfrm>
              <a:off x="8171640" y="5307120"/>
              <a:ext cx="70560" cy="6300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352"/>
          <p:cNvGrpSpPr/>
          <p:nvPr/>
        </p:nvGrpSpPr>
        <p:grpSpPr>
          <a:xfrm>
            <a:off x="5650200" y="5372280"/>
            <a:ext cx="218160" cy="218520"/>
            <a:chOff x="5650200" y="5372280"/>
            <a:chExt cx="218160" cy="218520"/>
          </a:xfrm>
        </p:grpSpPr>
        <p:grpSp>
          <p:nvGrpSpPr>
            <p:cNvPr id="330" name="Group 353"/>
            <p:cNvGrpSpPr/>
            <p:nvPr/>
          </p:nvGrpSpPr>
          <p:grpSpPr>
            <a:xfrm>
              <a:off x="5651640" y="5373720"/>
              <a:ext cx="215640" cy="216000"/>
              <a:chOff x="5651640" y="5373720"/>
              <a:chExt cx="215640" cy="216000"/>
            </a:xfrm>
          </p:grpSpPr>
          <p:grpSp>
            <p:nvGrpSpPr>
              <p:cNvPr id="331" name="Group 354"/>
              <p:cNvGrpSpPr/>
              <p:nvPr/>
            </p:nvGrpSpPr>
            <p:grpSpPr>
              <a:xfrm>
                <a:off x="5651640" y="5373720"/>
                <a:ext cx="215640" cy="216000"/>
                <a:chOff x="5651640" y="5373720"/>
                <a:chExt cx="215640" cy="216000"/>
              </a:xfrm>
            </p:grpSpPr>
            <p:sp>
              <p:nvSpPr>
                <p:cNvPr id="332" name="Oval 355"/>
                <p:cNvSpPr/>
                <p:nvPr/>
              </p:nvSpPr>
              <p:spPr>
                <a:xfrm>
                  <a:off x="5651640" y="5457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Oval 356"/>
                <p:cNvSpPr/>
                <p:nvPr/>
              </p:nvSpPr>
              <p:spPr>
                <a:xfrm rot="5400000">
                  <a:off x="565128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Group 357"/>
              <p:cNvGrpSpPr/>
              <p:nvPr/>
            </p:nvGrpSpPr>
            <p:grpSpPr>
              <a:xfrm>
                <a:off x="5665320" y="5388120"/>
                <a:ext cx="187200" cy="187200"/>
                <a:chOff x="5665320" y="5388120"/>
                <a:chExt cx="187200" cy="187200"/>
              </a:xfrm>
            </p:grpSpPr>
            <p:sp>
              <p:nvSpPr>
                <p:cNvPr id="335" name="Oval 358"/>
                <p:cNvSpPr/>
                <p:nvPr/>
              </p:nvSpPr>
              <p:spPr>
                <a:xfrm rot="2700000">
                  <a:off x="5650920" y="54572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359"/>
                <p:cNvSpPr/>
                <p:nvPr/>
              </p:nvSpPr>
              <p:spPr>
                <a:xfrm rot="8100000">
                  <a:off x="565092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7" name="Group 360"/>
            <p:cNvGrpSpPr/>
            <p:nvPr/>
          </p:nvGrpSpPr>
          <p:grpSpPr>
            <a:xfrm>
              <a:off x="5650200" y="5372280"/>
              <a:ext cx="218160" cy="218520"/>
              <a:chOff x="5650200" y="5372280"/>
              <a:chExt cx="218160" cy="218520"/>
            </a:xfrm>
          </p:grpSpPr>
          <p:grpSp>
            <p:nvGrpSpPr>
              <p:cNvPr id="338" name="Group 361"/>
              <p:cNvGrpSpPr/>
              <p:nvPr/>
            </p:nvGrpSpPr>
            <p:grpSpPr>
              <a:xfrm>
                <a:off x="5650200" y="5372280"/>
                <a:ext cx="218160" cy="218520"/>
                <a:chOff x="5650200" y="5372280"/>
                <a:chExt cx="218160" cy="218520"/>
              </a:xfrm>
            </p:grpSpPr>
            <p:sp>
              <p:nvSpPr>
                <p:cNvPr id="339" name="Oval 362"/>
                <p:cNvSpPr/>
                <p:nvPr/>
              </p:nvSpPr>
              <p:spPr>
                <a:xfrm rot="1320000">
                  <a:off x="5651280" y="54576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Oval 363"/>
                <p:cNvSpPr/>
                <p:nvPr/>
              </p:nvSpPr>
              <p:spPr>
                <a:xfrm rot="6720000">
                  <a:off x="565092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364"/>
              <p:cNvGrpSpPr/>
              <p:nvPr/>
            </p:nvGrpSpPr>
            <p:grpSpPr>
              <a:xfrm>
                <a:off x="5650200" y="5372640"/>
                <a:ext cx="217800" cy="217800"/>
                <a:chOff x="5650200" y="5372640"/>
                <a:chExt cx="217800" cy="217800"/>
              </a:xfrm>
            </p:grpSpPr>
            <p:sp>
              <p:nvSpPr>
                <p:cNvPr id="342" name="Oval 365"/>
                <p:cNvSpPr/>
                <p:nvPr/>
              </p:nvSpPr>
              <p:spPr>
                <a:xfrm rot="4020000">
                  <a:off x="5650560" y="5456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Oval 366"/>
                <p:cNvSpPr/>
                <p:nvPr/>
              </p:nvSpPr>
              <p:spPr>
                <a:xfrm rot="9420000">
                  <a:off x="5651280" y="54568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4" name="Oval 367"/>
            <p:cNvSpPr/>
            <p:nvPr/>
          </p:nvSpPr>
          <p:spPr>
            <a:xfrm>
              <a:off x="5724000" y="5450040"/>
              <a:ext cx="70200" cy="6300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368"/>
          <p:cNvGrpSpPr/>
          <p:nvPr/>
        </p:nvGrpSpPr>
        <p:grpSpPr>
          <a:xfrm>
            <a:off x="7595280" y="6021720"/>
            <a:ext cx="146160" cy="146520"/>
            <a:chOff x="7595280" y="6021720"/>
            <a:chExt cx="146160" cy="146520"/>
          </a:xfrm>
        </p:grpSpPr>
        <p:grpSp>
          <p:nvGrpSpPr>
            <p:cNvPr id="346" name="Group 369"/>
            <p:cNvGrpSpPr/>
            <p:nvPr/>
          </p:nvGrpSpPr>
          <p:grpSpPr>
            <a:xfrm>
              <a:off x="7596360" y="6022800"/>
              <a:ext cx="144360" cy="144720"/>
              <a:chOff x="7596360" y="6022800"/>
              <a:chExt cx="144360" cy="144720"/>
            </a:xfrm>
          </p:grpSpPr>
          <p:grpSp>
            <p:nvGrpSpPr>
              <p:cNvPr id="347" name="Group 370"/>
              <p:cNvGrpSpPr/>
              <p:nvPr/>
            </p:nvGrpSpPr>
            <p:grpSpPr>
              <a:xfrm>
                <a:off x="7596360" y="6022800"/>
                <a:ext cx="144360" cy="144720"/>
                <a:chOff x="7596360" y="6022800"/>
                <a:chExt cx="144360" cy="144720"/>
              </a:xfrm>
            </p:grpSpPr>
            <p:sp>
              <p:nvSpPr>
                <p:cNvPr id="348" name="Oval 371"/>
                <p:cNvSpPr/>
                <p:nvPr/>
              </p:nvSpPr>
              <p:spPr>
                <a:xfrm>
                  <a:off x="7596360" y="6078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Oval 372"/>
                <p:cNvSpPr/>
                <p:nvPr/>
              </p:nvSpPr>
              <p:spPr>
                <a:xfrm rot="54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373"/>
              <p:cNvGrpSpPr/>
              <p:nvPr/>
            </p:nvGrpSpPr>
            <p:grpSpPr>
              <a:xfrm>
                <a:off x="7605360" y="6032520"/>
                <a:ext cx="125640" cy="125640"/>
                <a:chOff x="7605360" y="6032520"/>
                <a:chExt cx="125640" cy="125640"/>
              </a:xfrm>
            </p:grpSpPr>
            <p:sp>
              <p:nvSpPr>
                <p:cNvPr id="351" name="Oval 374"/>
                <p:cNvSpPr/>
                <p:nvPr/>
              </p:nvSpPr>
              <p:spPr>
                <a:xfrm rot="270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375"/>
                <p:cNvSpPr/>
                <p:nvPr/>
              </p:nvSpPr>
              <p:spPr>
                <a:xfrm rot="8100000">
                  <a:off x="759564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" name="Group 376"/>
            <p:cNvGrpSpPr/>
            <p:nvPr/>
          </p:nvGrpSpPr>
          <p:grpSpPr>
            <a:xfrm>
              <a:off x="7595280" y="6021720"/>
              <a:ext cx="146160" cy="146520"/>
              <a:chOff x="7595280" y="6021720"/>
              <a:chExt cx="146160" cy="146520"/>
            </a:xfrm>
          </p:grpSpPr>
          <p:grpSp>
            <p:nvGrpSpPr>
              <p:cNvPr id="354" name="Group 377"/>
              <p:cNvGrpSpPr/>
              <p:nvPr/>
            </p:nvGrpSpPr>
            <p:grpSpPr>
              <a:xfrm>
                <a:off x="7595280" y="6021720"/>
                <a:ext cx="146160" cy="146520"/>
                <a:chOff x="7595280" y="6021720"/>
                <a:chExt cx="146160" cy="146520"/>
              </a:xfrm>
            </p:grpSpPr>
            <p:sp>
              <p:nvSpPr>
                <p:cNvPr id="355" name="Oval 378"/>
                <p:cNvSpPr/>
                <p:nvPr/>
              </p:nvSpPr>
              <p:spPr>
                <a:xfrm rot="1320000">
                  <a:off x="7596000" y="607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379"/>
                <p:cNvSpPr/>
                <p:nvPr/>
              </p:nvSpPr>
              <p:spPr>
                <a:xfrm rot="6720000">
                  <a:off x="7595640" y="607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Group 380"/>
              <p:cNvGrpSpPr/>
              <p:nvPr/>
            </p:nvGrpSpPr>
            <p:grpSpPr>
              <a:xfrm>
                <a:off x="7595280" y="6022080"/>
                <a:ext cx="145800" cy="146160"/>
                <a:chOff x="7595280" y="6022080"/>
                <a:chExt cx="145800" cy="146160"/>
              </a:xfrm>
            </p:grpSpPr>
            <p:sp>
              <p:nvSpPr>
                <p:cNvPr id="358" name="Oval 381"/>
                <p:cNvSpPr/>
                <p:nvPr/>
              </p:nvSpPr>
              <p:spPr>
                <a:xfrm rot="4020000">
                  <a:off x="7595640" y="60786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Oval 382"/>
                <p:cNvSpPr/>
                <p:nvPr/>
              </p:nvSpPr>
              <p:spPr>
                <a:xfrm rot="9420000">
                  <a:off x="7596000" y="607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0" name="Oval 383"/>
            <p:cNvSpPr/>
            <p:nvPr/>
          </p:nvSpPr>
          <p:spPr>
            <a:xfrm>
              <a:off x="7644600" y="6073920"/>
              <a:ext cx="47160" cy="4212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384"/>
          <p:cNvGrpSpPr/>
          <p:nvPr/>
        </p:nvGrpSpPr>
        <p:grpSpPr>
          <a:xfrm>
            <a:off x="3850200" y="6166440"/>
            <a:ext cx="146160" cy="146160"/>
            <a:chOff x="3850200" y="6166440"/>
            <a:chExt cx="146160" cy="146160"/>
          </a:xfrm>
        </p:grpSpPr>
        <p:grpSp>
          <p:nvGrpSpPr>
            <p:cNvPr id="362" name="Group 385"/>
            <p:cNvGrpSpPr/>
            <p:nvPr/>
          </p:nvGrpSpPr>
          <p:grpSpPr>
            <a:xfrm>
              <a:off x="3851280" y="6167520"/>
              <a:ext cx="144360" cy="144360"/>
              <a:chOff x="3851280" y="6167520"/>
              <a:chExt cx="144360" cy="144360"/>
            </a:xfrm>
          </p:grpSpPr>
          <p:grpSp>
            <p:nvGrpSpPr>
              <p:cNvPr id="363" name="Group 386"/>
              <p:cNvGrpSpPr/>
              <p:nvPr/>
            </p:nvGrpSpPr>
            <p:grpSpPr>
              <a:xfrm>
                <a:off x="3851280" y="6167520"/>
                <a:ext cx="144360" cy="144360"/>
                <a:chOff x="3851280" y="6167520"/>
                <a:chExt cx="144360" cy="144360"/>
              </a:xfrm>
            </p:grpSpPr>
            <p:sp>
              <p:nvSpPr>
                <p:cNvPr id="364" name="Oval 387"/>
                <p:cNvSpPr/>
                <p:nvPr/>
              </p:nvSpPr>
              <p:spPr>
                <a:xfrm>
                  <a:off x="385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Oval 388"/>
                <p:cNvSpPr/>
                <p:nvPr/>
              </p:nvSpPr>
              <p:spPr>
                <a:xfrm rot="54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Group 389"/>
              <p:cNvGrpSpPr/>
              <p:nvPr/>
            </p:nvGrpSpPr>
            <p:grpSpPr>
              <a:xfrm>
                <a:off x="3860280" y="6176880"/>
                <a:ext cx="125640" cy="125640"/>
                <a:chOff x="3860280" y="6176880"/>
                <a:chExt cx="125640" cy="125640"/>
              </a:xfrm>
            </p:grpSpPr>
            <p:sp>
              <p:nvSpPr>
                <p:cNvPr id="367" name="Oval 390"/>
                <p:cNvSpPr/>
                <p:nvPr/>
              </p:nvSpPr>
              <p:spPr>
                <a:xfrm rot="2700000">
                  <a:off x="385092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Oval 391"/>
                <p:cNvSpPr/>
                <p:nvPr/>
              </p:nvSpPr>
              <p:spPr>
                <a:xfrm rot="810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9" name="Group 392"/>
            <p:cNvGrpSpPr/>
            <p:nvPr/>
          </p:nvGrpSpPr>
          <p:grpSpPr>
            <a:xfrm>
              <a:off x="3850200" y="6166440"/>
              <a:ext cx="146160" cy="146160"/>
              <a:chOff x="3850200" y="6166440"/>
              <a:chExt cx="146160" cy="146160"/>
            </a:xfrm>
          </p:grpSpPr>
          <p:grpSp>
            <p:nvGrpSpPr>
              <p:cNvPr id="370" name="Group 393"/>
              <p:cNvGrpSpPr/>
              <p:nvPr/>
            </p:nvGrpSpPr>
            <p:grpSpPr>
              <a:xfrm>
                <a:off x="3850200" y="6166440"/>
                <a:ext cx="146160" cy="146160"/>
                <a:chOff x="3850200" y="6166440"/>
                <a:chExt cx="146160" cy="146160"/>
              </a:xfrm>
            </p:grpSpPr>
            <p:sp>
              <p:nvSpPr>
                <p:cNvPr id="371" name="Oval 394"/>
                <p:cNvSpPr/>
                <p:nvPr/>
              </p:nvSpPr>
              <p:spPr>
                <a:xfrm rot="13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Oval 395"/>
                <p:cNvSpPr/>
                <p:nvPr/>
              </p:nvSpPr>
              <p:spPr>
                <a:xfrm rot="6720000">
                  <a:off x="385092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Group 396"/>
              <p:cNvGrpSpPr/>
              <p:nvPr/>
            </p:nvGrpSpPr>
            <p:grpSpPr>
              <a:xfrm>
                <a:off x="3850200" y="6166800"/>
                <a:ext cx="145800" cy="145800"/>
                <a:chOff x="3850200" y="6166800"/>
                <a:chExt cx="145800" cy="145800"/>
              </a:xfrm>
            </p:grpSpPr>
            <p:sp>
              <p:nvSpPr>
                <p:cNvPr id="374" name="Oval 397"/>
                <p:cNvSpPr/>
                <p:nvPr/>
              </p:nvSpPr>
              <p:spPr>
                <a:xfrm rot="4020000">
                  <a:off x="385056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Oval 398"/>
                <p:cNvSpPr/>
                <p:nvPr/>
              </p:nvSpPr>
              <p:spPr>
                <a:xfrm rot="9420000">
                  <a:off x="3850920" y="622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6" name="Oval 399"/>
            <p:cNvSpPr/>
            <p:nvPr/>
          </p:nvSpPr>
          <p:spPr>
            <a:xfrm>
              <a:off x="3899520" y="6218280"/>
              <a:ext cx="47160" cy="421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400"/>
          <p:cNvGrpSpPr/>
          <p:nvPr/>
        </p:nvGrpSpPr>
        <p:grpSpPr>
          <a:xfrm>
            <a:off x="8603280" y="5661360"/>
            <a:ext cx="146160" cy="146520"/>
            <a:chOff x="8603280" y="5661360"/>
            <a:chExt cx="146160" cy="146520"/>
          </a:xfrm>
        </p:grpSpPr>
        <p:grpSp>
          <p:nvGrpSpPr>
            <p:cNvPr id="378" name="Group 401"/>
            <p:cNvGrpSpPr/>
            <p:nvPr/>
          </p:nvGrpSpPr>
          <p:grpSpPr>
            <a:xfrm>
              <a:off x="8604360" y="5662440"/>
              <a:ext cx="144360" cy="144720"/>
              <a:chOff x="8604360" y="5662440"/>
              <a:chExt cx="144360" cy="144720"/>
            </a:xfrm>
          </p:grpSpPr>
          <p:grpSp>
            <p:nvGrpSpPr>
              <p:cNvPr id="379" name="Group 402"/>
              <p:cNvGrpSpPr/>
              <p:nvPr/>
            </p:nvGrpSpPr>
            <p:grpSpPr>
              <a:xfrm>
                <a:off x="8604360" y="5662440"/>
                <a:ext cx="144360" cy="144720"/>
                <a:chOff x="8604360" y="5662440"/>
                <a:chExt cx="144360" cy="144720"/>
              </a:xfrm>
            </p:grpSpPr>
            <p:sp>
              <p:nvSpPr>
                <p:cNvPr id="380" name="Oval 403"/>
                <p:cNvSpPr/>
                <p:nvPr/>
              </p:nvSpPr>
              <p:spPr>
                <a:xfrm>
                  <a:off x="8604360" y="5718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Oval 404"/>
                <p:cNvSpPr/>
                <p:nvPr/>
              </p:nvSpPr>
              <p:spPr>
                <a:xfrm rot="54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405"/>
              <p:cNvGrpSpPr/>
              <p:nvPr/>
            </p:nvGrpSpPr>
            <p:grpSpPr>
              <a:xfrm>
                <a:off x="8613360" y="5672160"/>
                <a:ext cx="125640" cy="125640"/>
                <a:chOff x="8613360" y="5672160"/>
                <a:chExt cx="125640" cy="125640"/>
              </a:xfrm>
            </p:grpSpPr>
            <p:sp>
              <p:nvSpPr>
                <p:cNvPr id="383" name="Oval 406"/>
                <p:cNvSpPr/>
                <p:nvPr/>
              </p:nvSpPr>
              <p:spPr>
                <a:xfrm rot="270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Oval 407"/>
                <p:cNvSpPr/>
                <p:nvPr/>
              </p:nvSpPr>
              <p:spPr>
                <a:xfrm rot="8100000">
                  <a:off x="860364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408"/>
            <p:cNvGrpSpPr/>
            <p:nvPr/>
          </p:nvGrpSpPr>
          <p:grpSpPr>
            <a:xfrm>
              <a:off x="8603280" y="5661360"/>
              <a:ext cx="146160" cy="146520"/>
              <a:chOff x="8603280" y="5661360"/>
              <a:chExt cx="146160" cy="146520"/>
            </a:xfrm>
          </p:grpSpPr>
          <p:grpSp>
            <p:nvGrpSpPr>
              <p:cNvPr id="386" name="Group 409"/>
              <p:cNvGrpSpPr/>
              <p:nvPr/>
            </p:nvGrpSpPr>
            <p:grpSpPr>
              <a:xfrm>
                <a:off x="8603280" y="5661360"/>
                <a:ext cx="146160" cy="146520"/>
                <a:chOff x="8603280" y="5661360"/>
                <a:chExt cx="146160" cy="146520"/>
              </a:xfrm>
            </p:grpSpPr>
            <p:sp>
              <p:nvSpPr>
                <p:cNvPr id="387" name="Oval 410"/>
                <p:cNvSpPr/>
                <p:nvPr/>
              </p:nvSpPr>
              <p:spPr>
                <a:xfrm rot="1320000">
                  <a:off x="8604000" y="5718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Oval 411"/>
                <p:cNvSpPr/>
                <p:nvPr/>
              </p:nvSpPr>
              <p:spPr>
                <a:xfrm rot="6720000">
                  <a:off x="8603640" y="57178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Group 412"/>
              <p:cNvGrpSpPr/>
              <p:nvPr/>
            </p:nvGrpSpPr>
            <p:grpSpPr>
              <a:xfrm>
                <a:off x="8603280" y="5661720"/>
                <a:ext cx="145800" cy="146160"/>
                <a:chOff x="8603280" y="5661720"/>
                <a:chExt cx="145800" cy="146160"/>
              </a:xfrm>
            </p:grpSpPr>
            <p:sp>
              <p:nvSpPr>
                <p:cNvPr id="390" name="Oval 413"/>
                <p:cNvSpPr/>
                <p:nvPr/>
              </p:nvSpPr>
              <p:spPr>
                <a:xfrm rot="4020000">
                  <a:off x="8603640" y="57182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Oval 414"/>
                <p:cNvSpPr/>
                <p:nvPr/>
              </p:nvSpPr>
              <p:spPr>
                <a:xfrm rot="9420000">
                  <a:off x="8604000" y="5717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Oval 415"/>
            <p:cNvSpPr/>
            <p:nvPr/>
          </p:nvSpPr>
          <p:spPr>
            <a:xfrm>
              <a:off x="8652600" y="5713560"/>
              <a:ext cx="47160" cy="4212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416"/>
          <p:cNvGrpSpPr/>
          <p:nvPr/>
        </p:nvGrpSpPr>
        <p:grpSpPr>
          <a:xfrm>
            <a:off x="5290200" y="5806080"/>
            <a:ext cx="146160" cy="146160"/>
            <a:chOff x="5290200" y="5806080"/>
            <a:chExt cx="146160" cy="146160"/>
          </a:xfrm>
        </p:grpSpPr>
        <p:grpSp>
          <p:nvGrpSpPr>
            <p:cNvPr id="394" name="Group 417"/>
            <p:cNvGrpSpPr/>
            <p:nvPr/>
          </p:nvGrpSpPr>
          <p:grpSpPr>
            <a:xfrm>
              <a:off x="5291280" y="5807160"/>
              <a:ext cx="144360" cy="144360"/>
              <a:chOff x="5291280" y="5807160"/>
              <a:chExt cx="144360" cy="144360"/>
            </a:xfrm>
          </p:grpSpPr>
          <p:grpSp>
            <p:nvGrpSpPr>
              <p:cNvPr id="395" name="Group 418"/>
              <p:cNvGrpSpPr/>
              <p:nvPr/>
            </p:nvGrpSpPr>
            <p:grpSpPr>
              <a:xfrm>
                <a:off x="5291280" y="5807160"/>
                <a:ext cx="144360" cy="144360"/>
                <a:chOff x="5291280" y="5807160"/>
                <a:chExt cx="144360" cy="144360"/>
              </a:xfrm>
            </p:grpSpPr>
            <p:sp>
              <p:nvSpPr>
                <p:cNvPr id="396" name="Oval 419"/>
                <p:cNvSpPr/>
                <p:nvPr/>
              </p:nvSpPr>
              <p:spPr>
                <a:xfrm>
                  <a:off x="529128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Oval 420"/>
                <p:cNvSpPr/>
                <p:nvPr/>
              </p:nvSpPr>
              <p:spPr>
                <a:xfrm rot="54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Group 421"/>
              <p:cNvGrpSpPr/>
              <p:nvPr/>
            </p:nvGrpSpPr>
            <p:grpSpPr>
              <a:xfrm>
                <a:off x="5300280" y="5816520"/>
                <a:ext cx="125640" cy="125640"/>
                <a:chOff x="5300280" y="5816520"/>
                <a:chExt cx="125640" cy="125640"/>
              </a:xfrm>
            </p:grpSpPr>
            <p:sp>
              <p:nvSpPr>
                <p:cNvPr id="399" name="Oval 422"/>
                <p:cNvSpPr/>
                <p:nvPr/>
              </p:nvSpPr>
              <p:spPr>
                <a:xfrm rot="2700000">
                  <a:off x="5290920" y="586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Oval 423"/>
                <p:cNvSpPr/>
                <p:nvPr/>
              </p:nvSpPr>
              <p:spPr>
                <a:xfrm rot="810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1" name="Group 424"/>
            <p:cNvGrpSpPr/>
            <p:nvPr/>
          </p:nvGrpSpPr>
          <p:grpSpPr>
            <a:xfrm>
              <a:off x="5290200" y="5806080"/>
              <a:ext cx="146160" cy="146160"/>
              <a:chOff x="5290200" y="5806080"/>
              <a:chExt cx="146160" cy="146160"/>
            </a:xfrm>
          </p:grpSpPr>
          <p:grpSp>
            <p:nvGrpSpPr>
              <p:cNvPr id="402" name="Group 425"/>
              <p:cNvGrpSpPr/>
              <p:nvPr/>
            </p:nvGrpSpPr>
            <p:grpSpPr>
              <a:xfrm>
                <a:off x="5290200" y="5806080"/>
                <a:ext cx="146160" cy="146160"/>
                <a:chOff x="5290200" y="5806080"/>
                <a:chExt cx="146160" cy="146160"/>
              </a:xfrm>
            </p:grpSpPr>
            <p:sp>
              <p:nvSpPr>
                <p:cNvPr id="403" name="Oval 426"/>
                <p:cNvSpPr/>
                <p:nvPr/>
              </p:nvSpPr>
              <p:spPr>
                <a:xfrm rot="13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Oval 427"/>
                <p:cNvSpPr/>
                <p:nvPr/>
              </p:nvSpPr>
              <p:spPr>
                <a:xfrm rot="6720000">
                  <a:off x="529092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5" name="Group 428"/>
              <p:cNvGrpSpPr/>
              <p:nvPr/>
            </p:nvGrpSpPr>
            <p:grpSpPr>
              <a:xfrm>
                <a:off x="5290200" y="5806440"/>
                <a:ext cx="145800" cy="145800"/>
                <a:chOff x="5290200" y="5806440"/>
                <a:chExt cx="145800" cy="145800"/>
              </a:xfrm>
            </p:grpSpPr>
            <p:sp>
              <p:nvSpPr>
                <p:cNvPr id="406" name="Oval 429"/>
                <p:cNvSpPr/>
                <p:nvPr/>
              </p:nvSpPr>
              <p:spPr>
                <a:xfrm rot="4020000">
                  <a:off x="5290560" y="586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430"/>
                <p:cNvSpPr/>
                <p:nvPr/>
              </p:nvSpPr>
              <p:spPr>
                <a:xfrm rot="9420000">
                  <a:off x="5290920" y="586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8" name="Oval 431"/>
            <p:cNvSpPr/>
            <p:nvPr/>
          </p:nvSpPr>
          <p:spPr>
            <a:xfrm>
              <a:off x="5339520" y="5857920"/>
              <a:ext cx="47160" cy="421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432"/>
          <p:cNvGrpSpPr/>
          <p:nvPr/>
        </p:nvGrpSpPr>
        <p:grpSpPr>
          <a:xfrm>
            <a:off x="8242920" y="5590080"/>
            <a:ext cx="146160" cy="146160"/>
            <a:chOff x="8242920" y="5590080"/>
            <a:chExt cx="146160" cy="146160"/>
          </a:xfrm>
        </p:grpSpPr>
        <p:grpSp>
          <p:nvGrpSpPr>
            <p:cNvPr id="410" name="Group 433"/>
            <p:cNvGrpSpPr/>
            <p:nvPr/>
          </p:nvGrpSpPr>
          <p:grpSpPr>
            <a:xfrm>
              <a:off x="8244000" y="5591160"/>
              <a:ext cx="144360" cy="144360"/>
              <a:chOff x="8244000" y="5591160"/>
              <a:chExt cx="144360" cy="144360"/>
            </a:xfrm>
          </p:grpSpPr>
          <p:grpSp>
            <p:nvGrpSpPr>
              <p:cNvPr id="411" name="Group 434"/>
              <p:cNvGrpSpPr/>
              <p:nvPr/>
            </p:nvGrpSpPr>
            <p:grpSpPr>
              <a:xfrm>
                <a:off x="8244000" y="5591160"/>
                <a:ext cx="144360" cy="144360"/>
                <a:chOff x="8244000" y="5591160"/>
                <a:chExt cx="144360" cy="144360"/>
              </a:xfrm>
            </p:grpSpPr>
            <p:sp>
              <p:nvSpPr>
                <p:cNvPr id="412" name="Oval 435"/>
                <p:cNvSpPr/>
                <p:nvPr/>
              </p:nvSpPr>
              <p:spPr>
                <a:xfrm>
                  <a:off x="824400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Oval 436"/>
                <p:cNvSpPr/>
                <p:nvPr/>
              </p:nvSpPr>
              <p:spPr>
                <a:xfrm rot="54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4" name="Group 437"/>
              <p:cNvGrpSpPr/>
              <p:nvPr/>
            </p:nvGrpSpPr>
            <p:grpSpPr>
              <a:xfrm>
                <a:off x="8253000" y="5600520"/>
                <a:ext cx="125640" cy="125640"/>
                <a:chOff x="8253000" y="5600520"/>
                <a:chExt cx="125640" cy="125640"/>
              </a:xfrm>
            </p:grpSpPr>
            <p:sp>
              <p:nvSpPr>
                <p:cNvPr id="415" name="Oval 438"/>
                <p:cNvSpPr/>
                <p:nvPr/>
              </p:nvSpPr>
              <p:spPr>
                <a:xfrm rot="2700000">
                  <a:off x="8243640" y="5646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Oval 439"/>
                <p:cNvSpPr/>
                <p:nvPr/>
              </p:nvSpPr>
              <p:spPr>
                <a:xfrm rot="810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" name="Group 440"/>
            <p:cNvGrpSpPr/>
            <p:nvPr/>
          </p:nvGrpSpPr>
          <p:grpSpPr>
            <a:xfrm>
              <a:off x="8242920" y="5590080"/>
              <a:ext cx="146160" cy="146160"/>
              <a:chOff x="8242920" y="5590080"/>
              <a:chExt cx="146160" cy="146160"/>
            </a:xfrm>
          </p:grpSpPr>
          <p:grpSp>
            <p:nvGrpSpPr>
              <p:cNvPr id="418" name="Group 441"/>
              <p:cNvGrpSpPr/>
              <p:nvPr/>
            </p:nvGrpSpPr>
            <p:grpSpPr>
              <a:xfrm>
                <a:off x="8242920" y="5590080"/>
                <a:ext cx="146160" cy="146160"/>
                <a:chOff x="8242920" y="5590080"/>
                <a:chExt cx="146160" cy="146160"/>
              </a:xfrm>
            </p:grpSpPr>
            <p:sp>
              <p:nvSpPr>
                <p:cNvPr id="419" name="Oval 442"/>
                <p:cNvSpPr/>
                <p:nvPr/>
              </p:nvSpPr>
              <p:spPr>
                <a:xfrm rot="13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Oval 443"/>
                <p:cNvSpPr/>
                <p:nvPr/>
              </p:nvSpPr>
              <p:spPr>
                <a:xfrm rot="6720000">
                  <a:off x="824364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Group 444"/>
              <p:cNvGrpSpPr/>
              <p:nvPr/>
            </p:nvGrpSpPr>
            <p:grpSpPr>
              <a:xfrm>
                <a:off x="8242920" y="5590440"/>
                <a:ext cx="145800" cy="145800"/>
                <a:chOff x="8242920" y="5590440"/>
                <a:chExt cx="145800" cy="145800"/>
              </a:xfrm>
            </p:grpSpPr>
            <p:sp>
              <p:nvSpPr>
                <p:cNvPr id="422" name="Oval 445"/>
                <p:cNvSpPr/>
                <p:nvPr/>
              </p:nvSpPr>
              <p:spPr>
                <a:xfrm rot="4020000">
                  <a:off x="8243280" y="5646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Oval 446"/>
                <p:cNvSpPr/>
                <p:nvPr/>
              </p:nvSpPr>
              <p:spPr>
                <a:xfrm rot="9420000">
                  <a:off x="8243640" y="5646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" name="Oval 447"/>
            <p:cNvSpPr/>
            <p:nvPr/>
          </p:nvSpPr>
          <p:spPr>
            <a:xfrm>
              <a:off x="8292240" y="5641920"/>
              <a:ext cx="47160" cy="4212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448"/>
          <p:cNvGrpSpPr/>
          <p:nvPr/>
        </p:nvGrpSpPr>
        <p:grpSpPr>
          <a:xfrm>
            <a:off x="5361480" y="5445720"/>
            <a:ext cx="146160" cy="146160"/>
            <a:chOff x="5361480" y="5445720"/>
            <a:chExt cx="146160" cy="146160"/>
          </a:xfrm>
        </p:grpSpPr>
        <p:grpSp>
          <p:nvGrpSpPr>
            <p:cNvPr id="426" name="Group 449"/>
            <p:cNvGrpSpPr/>
            <p:nvPr/>
          </p:nvGrpSpPr>
          <p:grpSpPr>
            <a:xfrm>
              <a:off x="5362560" y="5446800"/>
              <a:ext cx="144360" cy="144360"/>
              <a:chOff x="5362560" y="5446800"/>
              <a:chExt cx="144360" cy="144360"/>
            </a:xfrm>
          </p:grpSpPr>
          <p:grpSp>
            <p:nvGrpSpPr>
              <p:cNvPr id="427" name="Group 450"/>
              <p:cNvGrpSpPr/>
              <p:nvPr/>
            </p:nvGrpSpPr>
            <p:grpSpPr>
              <a:xfrm>
                <a:off x="5362560" y="5446800"/>
                <a:ext cx="144360" cy="144360"/>
                <a:chOff x="5362560" y="5446800"/>
                <a:chExt cx="144360" cy="144360"/>
              </a:xfrm>
            </p:grpSpPr>
            <p:sp>
              <p:nvSpPr>
                <p:cNvPr id="428" name="Oval 451"/>
                <p:cNvSpPr/>
                <p:nvPr/>
              </p:nvSpPr>
              <p:spPr>
                <a:xfrm>
                  <a:off x="536256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452"/>
                <p:cNvSpPr/>
                <p:nvPr/>
              </p:nvSpPr>
              <p:spPr>
                <a:xfrm rot="54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Group 453"/>
              <p:cNvGrpSpPr/>
              <p:nvPr/>
            </p:nvGrpSpPr>
            <p:grpSpPr>
              <a:xfrm>
                <a:off x="5371560" y="5456160"/>
                <a:ext cx="125640" cy="125640"/>
                <a:chOff x="5371560" y="5456160"/>
                <a:chExt cx="125640" cy="125640"/>
              </a:xfrm>
            </p:grpSpPr>
            <p:sp>
              <p:nvSpPr>
                <p:cNvPr id="431" name="Oval 454"/>
                <p:cNvSpPr/>
                <p:nvPr/>
              </p:nvSpPr>
              <p:spPr>
                <a:xfrm rot="2700000">
                  <a:off x="5362200" y="55026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Oval 455"/>
                <p:cNvSpPr/>
                <p:nvPr/>
              </p:nvSpPr>
              <p:spPr>
                <a:xfrm rot="810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3" name="Group 456"/>
            <p:cNvGrpSpPr/>
            <p:nvPr/>
          </p:nvGrpSpPr>
          <p:grpSpPr>
            <a:xfrm>
              <a:off x="5361480" y="5445720"/>
              <a:ext cx="146160" cy="146160"/>
              <a:chOff x="5361480" y="5445720"/>
              <a:chExt cx="146160" cy="146160"/>
            </a:xfrm>
          </p:grpSpPr>
          <p:grpSp>
            <p:nvGrpSpPr>
              <p:cNvPr id="434" name="Group 457"/>
              <p:cNvGrpSpPr/>
              <p:nvPr/>
            </p:nvGrpSpPr>
            <p:grpSpPr>
              <a:xfrm>
                <a:off x="5361480" y="5445720"/>
                <a:ext cx="146160" cy="146160"/>
                <a:chOff x="5361480" y="5445720"/>
                <a:chExt cx="146160" cy="146160"/>
              </a:xfrm>
            </p:grpSpPr>
            <p:sp>
              <p:nvSpPr>
                <p:cNvPr id="435" name="Oval 458"/>
                <p:cNvSpPr/>
                <p:nvPr/>
              </p:nvSpPr>
              <p:spPr>
                <a:xfrm rot="13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459"/>
                <p:cNvSpPr/>
                <p:nvPr/>
              </p:nvSpPr>
              <p:spPr>
                <a:xfrm rot="6720000">
                  <a:off x="536220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7" name="Group 460"/>
              <p:cNvGrpSpPr/>
              <p:nvPr/>
            </p:nvGrpSpPr>
            <p:grpSpPr>
              <a:xfrm>
                <a:off x="5361480" y="5446080"/>
                <a:ext cx="145800" cy="145800"/>
                <a:chOff x="5361480" y="5446080"/>
                <a:chExt cx="145800" cy="145800"/>
              </a:xfrm>
            </p:grpSpPr>
            <p:sp>
              <p:nvSpPr>
                <p:cNvPr id="438" name="Oval 461"/>
                <p:cNvSpPr/>
                <p:nvPr/>
              </p:nvSpPr>
              <p:spPr>
                <a:xfrm rot="4020000">
                  <a:off x="5361840" y="55022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Oval 462"/>
                <p:cNvSpPr/>
                <p:nvPr/>
              </p:nvSpPr>
              <p:spPr>
                <a:xfrm rot="9420000">
                  <a:off x="5362200" y="55018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Oval 463"/>
            <p:cNvSpPr/>
            <p:nvPr/>
          </p:nvSpPr>
          <p:spPr>
            <a:xfrm>
              <a:off x="5410800" y="5497560"/>
              <a:ext cx="47160" cy="4212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Group 464"/>
          <p:cNvGrpSpPr/>
          <p:nvPr/>
        </p:nvGrpSpPr>
        <p:grpSpPr>
          <a:xfrm>
            <a:off x="1400760" y="5658480"/>
            <a:ext cx="367920" cy="367920"/>
            <a:chOff x="1400760" y="5658480"/>
            <a:chExt cx="367920" cy="367920"/>
          </a:xfrm>
        </p:grpSpPr>
        <p:grpSp>
          <p:nvGrpSpPr>
            <p:cNvPr id="442" name="Group 465"/>
            <p:cNvGrpSpPr/>
            <p:nvPr/>
          </p:nvGrpSpPr>
          <p:grpSpPr>
            <a:xfrm>
              <a:off x="1403280" y="5661000"/>
              <a:ext cx="363240" cy="363240"/>
              <a:chOff x="1403280" y="5661000"/>
              <a:chExt cx="363240" cy="363240"/>
            </a:xfrm>
          </p:grpSpPr>
          <p:grpSp>
            <p:nvGrpSpPr>
              <p:cNvPr id="443" name="Group 466"/>
              <p:cNvGrpSpPr/>
              <p:nvPr/>
            </p:nvGrpSpPr>
            <p:grpSpPr>
              <a:xfrm>
                <a:off x="1403280" y="5661000"/>
                <a:ext cx="363240" cy="363240"/>
                <a:chOff x="1403280" y="5661000"/>
                <a:chExt cx="363240" cy="363240"/>
              </a:xfrm>
            </p:grpSpPr>
            <p:sp>
              <p:nvSpPr>
                <p:cNvPr id="444" name="Oval 467"/>
                <p:cNvSpPr/>
                <p:nvPr/>
              </p:nvSpPr>
              <p:spPr>
                <a:xfrm>
                  <a:off x="140328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Oval 468"/>
                <p:cNvSpPr/>
                <p:nvPr/>
              </p:nvSpPr>
              <p:spPr>
                <a:xfrm rot="5400000">
                  <a:off x="14025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Group 469"/>
              <p:cNvGrpSpPr/>
              <p:nvPr/>
            </p:nvGrpSpPr>
            <p:grpSpPr>
              <a:xfrm>
                <a:off x="1426680" y="5684760"/>
                <a:ext cx="315360" cy="315720"/>
                <a:chOff x="1426680" y="5684760"/>
                <a:chExt cx="315360" cy="315720"/>
              </a:xfrm>
            </p:grpSpPr>
            <p:sp>
              <p:nvSpPr>
                <p:cNvPr id="447" name="Oval 470"/>
                <p:cNvSpPr/>
                <p:nvPr/>
              </p:nvSpPr>
              <p:spPr>
                <a:xfrm rot="2700000">
                  <a:off x="140292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Oval 471"/>
                <p:cNvSpPr/>
                <p:nvPr/>
              </p:nvSpPr>
              <p:spPr>
                <a:xfrm rot="8100000">
                  <a:off x="14022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9" name="Group 472"/>
            <p:cNvGrpSpPr/>
            <p:nvPr/>
          </p:nvGrpSpPr>
          <p:grpSpPr>
            <a:xfrm>
              <a:off x="1400760" y="5658480"/>
              <a:ext cx="367920" cy="367920"/>
              <a:chOff x="1400760" y="5658480"/>
              <a:chExt cx="367920" cy="367920"/>
            </a:xfrm>
          </p:grpSpPr>
          <p:grpSp>
            <p:nvGrpSpPr>
              <p:cNvPr id="450" name="Group 473"/>
              <p:cNvGrpSpPr/>
              <p:nvPr/>
            </p:nvGrpSpPr>
            <p:grpSpPr>
              <a:xfrm>
                <a:off x="1400760" y="5658480"/>
                <a:ext cx="367920" cy="367920"/>
                <a:chOff x="1400760" y="5658480"/>
                <a:chExt cx="367920" cy="367920"/>
              </a:xfrm>
            </p:grpSpPr>
            <p:sp>
              <p:nvSpPr>
                <p:cNvPr id="451" name="Oval 474"/>
                <p:cNvSpPr/>
                <p:nvPr/>
              </p:nvSpPr>
              <p:spPr>
                <a:xfrm rot="1320000">
                  <a:off x="14029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Oval 475"/>
                <p:cNvSpPr/>
                <p:nvPr/>
              </p:nvSpPr>
              <p:spPr>
                <a:xfrm rot="6720000">
                  <a:off x="140256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Group 476"/>
              <p:cNvGrpSpPr/>
              <p:nvPr/>
            </p:nvGrpSpPr>
            <p:grpSpPr>
              <a:xfrm>
                <a:off x="1401120" y="5659560"/>
                <a:ext cx="366480" cy="366480"/>
                <a:chOff x="1401120" y="5659560"/>
                <a:chExt cx="366480" cy="366480"/>
              </a:xfrm>
            </p:grpSpPr>
            <p:sp>
              <p:nvSpPr>
                <p:cNvPr id="454" name="Oval 477"/>
                <p:cNvSpPr/>
                <p:nvPr/>
              </p:nvSpPr>
              <p:spPr>
                <a:xfrm rot="4020000">
                  <a:off x="140292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478"/>
                <p:cNvSpPr/>
                <p:nvPr/>
              </p:nvSpPr>
              <p:spPr>
                <a:xfrm rot="9420000">
                  <a:off x="140256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56" name="Oval 479"/>
            <p:cNvSpPr/>
            <p:nvPr/>
          </p:nvSpPr>
          <p:spPr>
            <a:xfrm>
              <a:off x="1525320" y="5789160"/>
              <a:ext cx="118800" cy="10584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480"/>
          <p:cNvGrpSpPr/>
          <p:nvPr/>
        </p:nvGrpSpPr>
        <p:grpSpPr>
          <a:xfrm>
            <a:off x="2193120" y="5659920"/>
            <a:ext cx="367560" cy="367920"/>
            <a:chOff x="2193120" y="5659920"/>
            <a:chExt cx="367560" cy="367920"/>
          </a:xfrm>
        </p:grpSpPr>
        <p:grpSp>
          <p:nvGrpSpPr>
            <p:cNvPr id="458" name="Group 481"/>
            <p:cNvGrpSpPr/>
            <p:nvPr/>
          </p:nvGrpSpPr>
          <p:grpSpPr>
            <a:xfrm>
              <a:off x="2195640" y="5662440"/>
              <a:ext cx="362880" cy="363240"/>
              <a:chOff x="2195640" y="5662440"/>
              <a:chExt cx="362880" cy="363240"/>
            </a:xfrm>
          </p:grpSpPr>
          <p:grpSp>
            <p:nvGrpSpPr>
              <p:cNvPr id="459" name="Group 482"/>
              <p:cNvGrpSpPr/>
              <p:nvPr/>
            </p:nvGrpSpPr>
            <p:grpSpPr>
              <a:xfrm>
                <a:off x="2195640" y="5662440"/>
                <a:ext cx="362880" cy="363240"/>
                <a:chOff x="2195640" y="5662440"/>
                <a:chExt cx="362880" cy="363240"/>
              </a:xfrm>
            </p:grpSpPr>
            <p:sp>
              <p:nvSpPr>
                <p:cNvPr id="460" name="Oval 483"/>
                <p:cNvSpPr/>
                <p:nvPr/>
              </p:nvSpPr>
              <p:spPr>
                <a:xfrm>
                  <a:off x="2195640" y="58032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Oval 484"/>
                <p:cNvSpPr/>
                <p:nvPr/>
              </p:nvSpPr>
              <p:spPr>
                <a:xfrm rot="5400000">
                  <a:off x="219492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485"/>
              <p:cNvGrpSpPr/>
              <p:nvPr/>
            </p:nvGrpSpPr>
            <p:grpSpPr>
              <a:xfrm>
                <a:off x="2219040" y="5686200"/>
                <a:ext cx="315360" cy="315720"/>
                <a:chOff x="2219040" y="5686200"/>
                <a:chExt cx="315360" cy="315720"/>
              </a:xfrm>
            </p:grpSpPr>
            <p:sp>
              <p:nvSpPr>
                <p:cNvPr id="463" name="Oval 486"/>
                <p:cNvSpPr/>
                <p:nvPr/>
              </p:nvSpPr>
              <p:spPr>
                <a:xfrm rot="2700000">
                  <a:off x="2195280" y="58032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Oval 487"/>
                <p:cNvSpPr/>
                <p:nvPr/>
              </p:nvSpPr>
              <p:spPr>
                <a:xfrm rot="8100000">
                  <a:off x="219492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5" name="Group 488"/>
            <p:cNvGrpSpPr/>
            <p:nvPr/>
          </p:nvGrpSpPr>
          <p:grpSpPr>
            <a:xfrm>
              <a:off x="2193120" y="5659920"/>
              <a:ext cx="367560" cy="367920"/>
              <a:chOff x="2193120" y="5659920"/>
              <a:chExt cx="367560" cy="367920"/>
            </a:xfrm>
          </p:grpSpPr>
          <p:grpSp>
            <p:nvGrpSpPr>
              <p:cNvPr id="466" name="Group 489"/>
              <p:cNvGrpSpPr/>
              <p:nvPr/>
            </p:nvGrpSpPr>
            <p:grpSpPr>
              <a:xfrm>
                <a:off x="2193120" y="5659920"/>
                <a:ext cx="367560" cy="367920"/>
                <a:chOff x="2193120" y="5659920"/>
                <a:chExt cx="367560" cy="367920"/>
              </a:xfrm>
            </p:grpSpPr>
            <p:sp>
              <p:nvSpPr>
                <p:cNvPr id="467" name="Oval 490"/>
                <p:cNvSpPr/>
                <p:nvPr/>
              </p:nvSpPr>
              <p:spPr>
                <a:xfrm rot="1320000">
                  <a:off x="2195280" y="5802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Oval 491"/>
                <p:cNvSpPr/>
                <p:nvPr/>
              </p:nvSpPr>
              <p:spPr>
                <a:xfrm rot="6720000">
                  <a:off x="2194920" y="580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492"/>
              <p:cNvGrpSpPr/>
              <p:nvPr/>
            </p:nvGrpSpPr>
            <p:grpSpPr>
              <a:xfrm>
                <a:off x="2193840" y="5661000"/>
                <a:ext cx="366120" cy="366480"/>
                <a:chOff x="2193840" y="5661000"/>
                <a:chExt cx="366120" cy="366480"/>
              </a:xfrm>
            </p:grpSpPr>
            <p:sp>
              <p:nvSpPr>
                <p:cNvPr id="470" name="Oval 493"/>
                <p:cNvSpPr/>
                <p:nvPr/>
              </p:nvSpPr>
              <p:spPr>
                <a:xfrm rot="4020000">
                  <a:off x="2195280" y="580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Oval 494"/>
                <p:cNvSpPr/>
                <p:nvPr/>
              </p:nvSpPr>
              <p:spPr>
                <a:xfrm rot="9420000">
                  <a:off x="2195280" y="5802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2" name="Oval 495"/>
            <p:cNvSpPr/>
            <p:nvPr/>
          </p:nvSpPr>
          <p:spPr>
            <a:xfrm>
              <a:off x="2317320" y="5790600"/>
              <a:ext cx="118440" cy="10584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496"/>
          <p:cNvGrpSpPr/>
          <p:nvPr/>
        </p:nvGrpSpPr>
        <p:grpSpPr>
          <a:xfrm>
            <a:off x="1113480" y="5082120"/>
            <a:ext cx="367920" cy="367920"/>
            <a:chOff x="1113480" y="5082120"/>
            <a:chExt cx="367920" cy="367920"/>
          </a:xfrm>
        </p:grpSpPr>
        <p:grpSp>
          <p:nvGrpSpPr>
            <p:cNvPr id="474" name="Group 497"/>
            <p:cNvGrpSpPr/>
            <p:nvPr/>
          </p:nvGrpSpPr>
          <p:grpSpPr>
            <a:xfrm>
              <a:off x="1116000" y="5084640"/>
              <a:ext cx="363240" cy="363240"/>
              <a:chOff x="1116000" y="5084640"/>
              <a:chExt cx="363240" cy="363240"/>
            </a:xfrm>
          </p:grpSpPr>
          <p:grpSp>
            <p:nvGrpSpPr>
              <p:cNvPr id="475" name="Group 498"/>
              <p:cNvGrpSpPr/>
              <p:nvPr/>
            </p:nvGrpSpPr>
            <p:grpSpPr>
              <a:xfrm>
                <a:off x="1116000" y="5084640"/>
                <a:ext cx="363240" cy="363240"/>
                <a:chOff x="1116000" y="5084640"/>
                <a:chExt cx="363240" cy="363240"/>
              </a:xfrm>
            </p:grpSpPr>
            <p:sp>
              <p:nvSpPr>
                <p:cNvPr id="476" name="Oval 499"/>
                <p:cNvSpPr/>
                <p:nvPr/>
              </p:nvSpPr>
              <p:spPr>
                <a:xfrm>
                  <a:off x="1116000" y="5225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Oval 500"/>
                <p:cNvSpPr/>
                <p:nvPr/>
              </p:nvSpPr>
              <p:spPr>
                <a:xfrm rot="5400000">
                  <a:off x="111528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Group 501"/>
              <p:cNvGrpSpPr/>
              <p:nvPr/>
            </p:nvGrpSpPr>
            <p:grpSpPr>
              <a:xfrm>
                <a:off x="1139400" y="5108400"/>
                <a:ext cx="315360" cy="315720"/>
                <a:chOff x="1139400" y="5108400"/>
                <a:chExt cx="315360" cy="315720"/>
              </a:xfrm>
            </p:grpSpPr>
            <p:sp>
              <p:nvSpPr>
                <p:cNvPr id="479" name="Oval 502"/>
                <p:cNvSpPr/>
                <p:nvPr/>
              </p:nvSpPr>
              <p:spPr>
                <a:xfrm rot="2700000">
                  <a:off x="1115640" y="5225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503"/>
                <p:cNvSpPr/>
                <p:nvPr/>
              </p:nvSpPr>
              <p:spPr>
                <a:xfrm rot="8100000">
                  <a:off x="111492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Group 504"/>
            <p:cNvGrpSpPr/>
            <p:nvPr/>
          </p:nvGrpSpPr>
          <p:grpSpPr>
            <a:xfrm>
              <a:off x="1113480" y="5082120"/>
              <a:ext cx="367920" cy="367920"/>
              <a:chOff x="1113480" y="5082120"/>
              <a:chExt cx="367920" cy="367920"/>
            </a:xfrm>
          </p:grpSpPr>
          <p:grpSp>
            <p:nvGrpSpPr>
              <p:cNvPr id="482" name="Group 505"/>
              <p:cNvGrpSpPr/>
              <p:nvPr/>
            </p:nvGrpSpPr>
            <p:grpSpPr>
              <a:xfrm>
                <a:off x="1113480" y="5082120"/>
                <a:ext cx="367920" cy="367920"/>
                <a:chOff x="1113480" y="5082120"/>
                <a:chExt cx="367920" cy="367920"/>
              </a:xfrm>
            </p:grpSpPr>
            <p:sp>
              <p:nvSpPr>
                <p:cNvPr id="483" name="Oval 506"/>
                <p:cNvSpPr/>
                <p:nvPr/>
              </p:nvSpPr>
              <p:spPr>
                <a:xfrm rot="1320000">
                  <a:off x="111564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Oval 507"/>
                <p:cNvSpPr/>
                <p:nvPr/>
              </p:nvSpPr>
              <p:spPr>
                <a:xfrm rot="6720000">
                  <a:off x="1115280" y="5224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508"/>
              <p:cNvGrpSpPr/>
              <p:nvPr/>
            </p:nvGrpSpPr>
            <p:grpSpPr>
              <a:xfrm>
                <a:off x="1113840" y="5083200"/>
                <a:ext cx="366480" cy="366480"/>
                <a:chOff x="1113840" y="5083200"/>
                <a:chExt cx="366480" cy="366480"/>
              </a:xfrm>
            </p:grpSpPr>
            <p:sp>
              <p:nvSpPr>
                <p:cNvPr id="486" name="Oval 509"/>
                <p:cNvSpPr/>
                <p:nvPr/>
              </p:nvSpPr>
              <p:spPr>
                <a:xfrm rot="4020000">
                  <a:off x="1115640" y="5225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Oval 510"/>
                <p:cNvSpPr/>
                <p:nvPr/>
              </p:nvSpPr>
              <p:spPr>
                <a:xfrm rot="9420000">
                  <a:off x="1115280" y="5224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8" name="Oval 511"/>
            <p:cNvSpPr/>
            <p:nvPr/>
          </p:nvSpPr>
          <p:spPr>
            <a:xfrm>
              <a:off x="1238040" y="5212800"/>
              <a:ext cx="118800" cy="105840"/>
            </a:xfrm>
            <a:prstGeom prst="ellipse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528"/>
          <p:cNvGrpSpPr/>
          <p:nvPr/>
        </p:nvGrpSpPr>
        <p:grpSpPr>
          <a:xfrm>
            <a:off x="1904040" y="5299560"/>
            <a:ext cx="367920" cy="367920"/>
            <a:chOff x="1904040" y="5299560"/>
            <a:chExt cx="367920" cy="367920"/>
          </a:xfrm>
        </p:grpSpPr>
        <p:grpSp>
          <p:nvGrpSpPr>
            <p:cNvPr id="490" name="Group 529"/>
            <p:cNvGrpSpPr/>
            <p:nvPr/>
          </p:nvGrpSpPr>
          <p:grpSpPr>
            <a:xfrm>
              <a:off x="1906560" y="5302080"/>
              <a:ext cx="363240" cy="363240"/>
              <a:chOff x="1906560" y="5302080"/>
              <a:chExt cx="363240" cy="363240"/>
            </a:xfrm>
          </p:grpSpPr>
          <p:grpSp>
            <p:nvGrpSpPr>
              <p:cNvPr id="491" name="Group 530"/>
              <p:cNvGrpSpPr/>
              <p:nvPr/>
            </p:nvGrpSpPr>
            <p:grpSpPr>
              <a:xfrm>
                <a:off x="1906560" y="5302080"/>
                <a:ext cx="363240" cy="363240"/>
                <a:chOff x="1906560" y="5302080"/>
                <a:chExt cx="363240" cy="363240"/>
              </a:xfrm>
            </p:grpSpPr>
            <p:sp>
              <p:nvSpPr>
                <p:cNvPr id="492" name="Oval 531"/>
                <p:cNvSpPr/>
                <p:nvPr/>
              </p:nvSpPr>
              <p:spPr>
                <a:xfrm>
                  <a:off x="190656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Oval 532"/>
                <p:cNvSpPr/>
                <p:nvPr/>
              </p:nvSpPr>
              <p:spPr>
                <a:xfrm rot="5400000">
                  <a:off x="190584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Group 533"/>
              <p:cNvGrpSpPr/>
              <p:nvPr/>
            </p:nvGrpSpPr>
            <p:grpSpPr>
              <a:xfrm>
                <a:off x="1929960" y="5325840"/>
                <a:ext cx="315360" cy="315720"/>
                <a:chOff x="1929960" y="5325840"/>
                <a:chExt cx="315360" cy="315720"/>
              </a:xfrm>
            </p:grpSpPr>
            <p:sp>
              <p:nvSpPr>
                <p:cNvPr id="495" name="Oval 534"/>
                <p:cNvSpPr/>
                <p:nvPr/>
              </p:nvSpPr>
              <p:spPr>
                <a:xfrm rot="2700000">
                  <a:off x="190620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Oval 535"/>
                <p:cNvSpPr/>
                <p:nvPr/>
              </p:nvSpPr>
              <p:spPr>
                <a:xfrm rot="8100000">
                  <a:off x="190548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7" name="Group 536"/>
            <p:cNvGrpSpPr/>
            <p:nvPr/>
          </p:nvGrpSpPr>
          <p:grpSpPr>
            <a:xfrm>
              <a:off x="1904040" y="5299560"/>
              <a:ext cx="367920" cy="367920"/>
              <a:chOff x="1904040" y="5299560"/>
              <a:chExt cx="367920" cy="367920"/>
            </a:xfrm>
          </p:grpSpPr>
          <p:grpSp>
            <p:nvGrpSpPr>
              <p:cNvPr id="498" name="Group 537"/>
              <p:cNvGrpSpPr/>
              <p:nvPr/>
            </p:nvGrpSpPr>
            <p:grpSpPr>
              <a:xfrm>
                <a:off x="1904040" y="5299560"/>
                <a:ext cx="367920" cy="367920"/>
                <a:chOff x="1904040" y="5299560"/>
                <a:chExt cx="367920" cy="367920"/>
              </a:xfrm>
            </p:grpSpPr>
            <p:sp>
              <p:nvSpPr>
                <p:cNvPr id="499" name="Oval 538"/>
                <p:cNvSpPr/>
                <p:nvPr/>
              </p:nvSpPr>
              <p:spPr>
                <a:xfrm rot="1320000">
                  <a:off x="190620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Oval 539"/>
                <p:cNvSpPr/>
                <p:nvPr/>
              </p:nvSpPr>
              <p:spPr>
                <a:xfrm rot="6720000">
                  <a:off x="190584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Group 540"/>
              <p:cNvGrpSpPr/>
              <p:nvPr/>
            </p:nvGrpSpPr>
            <p:grpSpPr>
              <a:xfrm>
                <a:off x="1904400" y="5300640"/>
                <a:ext cx="366480" cy="366480"/>
                <a:chOff x="1904400" y="5300640"/>
                <a:chExt cx="366480" cy="366480"/>
              </a:xfrm>
            </p:grpSpPr>
            <p:sp>
              <p:nvSpPr>
                <p:cNvPr id="502" name="Oval 541"/>
                <p:cNvSpPr/>
                <p:nvPr/>
              </p:nvSpPr>
              <p:spPr>
                <a:xfrm rot="4020000">
                  <a:off x="190620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542"/>
                <p:cNvSpPr/>
                <p:nvPr/>
              </p:nvSpPr>
              <p:spPr>
                <a:xfrm rot="9420000">
                  <a:off x="190584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4" name="Oval 543"/>
            <p:cNvSpPr/>
            <p:nvPr/>
          </p:nvSpPr>
          <p:spPr>
            <a:xfrm>
              <a:off x="2028600" y="5430240"/>
              <a:ext cx="118800" cy="105840"/>
            </a:xfrm>
            <a:prstGeom prst="ellipse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544"/>
          <p:cNvGrpSpPr/>
          <p:nvPr/>
        </p:nvGrpSpPr>
        <p:grpSpPr>
          <a:xfrm>
            <a:off x="2625840" y="5805720"/>
            <a:ext cx="218520" cy="218160"/>
            <a:chOff x="2625840" y="5805720"/>
            <a:chExt cx="218520" cy="218160"/>
          </a:xfrm>
        </p:grpSpPr>
        <p:grpSp>
          <p:nvGrpSpPr>
            <p:cNvPr id="506" name="Group 545"/>
            <p:cNvGrpSpPr/>
            <p:nvPr/>
          </p:nvGrpSpPr>
          <p:grpSpPr>
            <a:xfrm>
              <a:off x="2627280" y="5807160"/>
              <a:ext cx="216000" cy="215640"/>
              <a:chOff x="2627280" y="5807160"/>
              <a:chExt cx="216000" cy="215640"/>
            </a:xfrm>
          </p:grpSpPr>
          <p:grpSp>
            <p:nvGrpSpPr>
              <p:cNvPr id="507" name="Group 546"/>
              <p:cNvGrpSpPr/>
              <p:nvPr/>
            </p:nvGrpSpPr>
            <p:grpSpPr>
              <a:xfrm>
                <a:off x="2627280" y="5807160"/>
                <a:ext cx="216000" cy="215640"/>
                <a:chOff x="2627280" y="5807160"/>
                <a:chExt cx="216000" cy="215640"/>
              </a:xfrm>
            </p:grpSpPr>
            <p:sp>
              <p:nvSpPr>
                <p:cNvPr id="508" name="Oval 547"/>
                <p:cNvSpPr/>
                <p:nvPr/>
              </p:nvSpPr>
              <p:spPr>
                <a:xfrm>
                  <a:off x="2627280" y="589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Oval 548"/>
                <p:cNvSpPr/>
                <p:nvPr/>
              </p:nvSpPr>
              <p:spPr>
                <a:xfrm rot="540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Group 549"/>
              <p:cNvGrpSpPr/>
              <p:nvPr/>
            </p:nvGrpSpPr>
            <p:grpSpPr>
              <a:xfrm>
                <a:off x="2641680" y="5821200"/>
                <a:ext cx="187200" cy="187560"/>
                <a:chOff x="2641680" y="5821200"/>
                <a:chExt cx="187200" cy="187560"/>
              </a:xfrm>
            </p:grpSpPr>
            <p:sp>
              <p:nvSpPr>
                <p:cNvPr id="511" name="Oval 550"/>
                <p:cNvSpPr/>
                <p:nvPr/>
              </p:nvSpPr>
              <p:spPr>
                <a:xfrm rot="2700000">
                  <a:off x="262728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Oval 551"/>
                <p:cNvSpPr/>
                <p:nvPr/>
              </p:nvSpPr>
              <p:spPr>
                <a:xfrm rot="810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Group 552"/>
            <p:cNvGrpSpPr/>
            <p:nvPr/>
          </p:nvGrpSpPr>
          <p:grpSpPr>
            <a:xfrm>
              <a:off x="2625840" y="5805720"/>
              <a:ext cx="218520" cy="218160"/>
              <a:chOff x="2625840" y="5805720"/>
              <a:chExt cx="218520" cy="218160"/>
            </a:xfrm>
          </p:grpSpPr>
          <p:grpSp>
            <p:nvGrpSpPr>
              <p:cNvPr id="514" name="Group 553"/>
              <p:cNvGrpSpPr/>
              <p:nvPr/>
            </p:nvGrpSpPr>
            <p:grpSpPr>
              <a:xfrm>
                <a:off x="2625840" y="5805720"/>
                <a:ext cx="218520" cy="218160"/>
                <a:chOff x="2625840" y="5805720"/>
                <a:chExt cx="218520" cy="218160"/>
              </a:xfrm>
            </p:grpSpPr>
            <p:sp>
              <p:nvSpPr>
                <p:cNvPr id="515" name="Oval 554"/>
                <p:cNvSpPr/>
                <p:nvPr/>
              </p:nvSpPr>
              <p:spPr>
                <a:xfrm rot="1320000">
                  <a:off x="262692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Oval 555"/>
                <p:cNvSpPr/>
                <p:nvPr/>
              </p:nvSpPr>
              <p:spPr>
                <a:xfrm rot="672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7" name="Group 556"/>
              <p:cNvGrpSpPr/>
              <p:nvPr/>
            </p:nvGrpSpPr>
            <p:grpSpPr>
              <a:xfrm>
                <a:off x="2626560" y="5806080"/>
                <a:ext cx="217800" cy="217800"/>
                <a:chOff x="2626560" y="5806080"/>
                <a:chExt cx="217800" cy="217800"/>
              </a:xfrm>
            </p:grpSpPr>
            <p:sp>
              <p:nvSpPr>
                <p:cNvPr id="518" name="Oval 557"/>
                <p:cNvSpPr/>
                <p:nvPr/>
              </p:nvSpPr>
              <p:spPr>
                <a:xfrm rot="4020000">
                  <a:off x="262692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Oval 558"/>
                <p:cNvSpPr/>
                <p:nvPr/>
              </p:nvSpPr>
              <p:spPr>
                <a:xfrm rot="9420000">
                  <a:off x="262728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0" name="Oval 559"/>
            <p:cNvSpPr/>
            <p:nvPr/>
          </p:nvSpPr>
          <p:spPr>
            <a:xfrm>
              <a:off x="2699640" y="5883120"/>
              <a:ext cx="70560" cy="62640"/>
            </a:xfrm>
            <a:prstGeom prst="ellipse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Group 560"/>
          <p:cNvGrpSpPr/>
          <p:nvPr/>
        </p:nvGrpSpPr>
        <p:grpSpPr>
          <a:xfrm>
            <a:off x="897120" y="5805720"/>
            <a:ext cx="218520" cy="218160"/>
            <a:chOff x="897120" y="5805720"/>
            <a:chExt cx="218520" cy="218160"/>
          </a:xfrm>
        </p:grpSpPr>
        <p:grpSp>
          <p:nvGrpSpPr>
            <p:cNvPr id="522" name="Group 561"/>
            <p:cNvGrpSpPr/>
            <p:nvPr/>
          </p:nvGrpSpPr>
          <p:grpSpPr>
            <a:xfrm>
              <a:off x="898560" y="5807160"/>
              <a:ext cx="216000" cy="215640"/>
              <a:chOff x="898560" y="5807160"/>
              <a:chExt cx="216000" cy="215640"/>
            </a:xfrm>
          </p:grpSpPr>
          <p:grpSp>
            <p:nvGrpSpPr>
              <p:cNvPr id="523" name="Group 562"/>
              <p:cNvGrpSpPr/>
              <p:nvPr/>
            </p:nvGrpSpPr>
            <p:grpSpPr>
              <a:xfrm>
                <a:off x="898560" y="5807160"/>
                <a:ext cx="216000" cy="215640"/>
                <a:chOff x="898560" y="5807160"/>
                <a:chExt cx="216000" cy="215640"/>
              </a:xfrm>
            </p:grpSpPr>
            <p:sp>
              <p:nvSpPr>
                <p:cNvPr id="524" name="Oval 563"/>
                <p:cNvSpPr/>
                <p:nvPr/>
              </p:nvSpPr>
              <p:spPr>
                <a:xfrm>
                  <a:off x="898560" y="58906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Oval 564"/>
                <p:cNvSpPr/>
                <p:nvPr/>
              </p:nvSpPr>
              <p:spPr>
                <a:xfrm rot="540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Group 565"/>
              <p:cNvGrpSpPr/>
              <p:nvPr/>
            </p:nvGrpSpPr>
            <p:grpSpPr>
              <a:xfrm>
                <a:off x="912960" y="5821200"/>
                <a:ext cx="187200" cy="187560"/>
                <a:chOff x="912960" y="5821200"/>
                <a:chExt cx="187200" cy="187560"/>
              </a:xfrm>
            </p:grpSpPr>
            <p:sp>
              <p:nvSpPr>
                <p:cNvPr id="527" name="Oval 566"/>
                <p:cNvSpPr/>
                <p:nvPr/>
              </p:nvSpPr>
              <p:spPr>
                <a:xfrm rot="2700000">
                  <a:off x="89856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567"/>
                <p:cNvSpPr/>
                <p:nvPr/>
              </p:nvSpPr>
              <p:spPr>
                <a:xfrm rot="810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29" name="Group 568"/>
            <p:cNvGrpSpPr/>
            <p:nvPr/>
          </p:nvGrpSpPr>
          <p:grpSpPr>
            <a:xfrm>
              <a:off x="897120" y="5805720"/>
              <a:ext cx="218520" cy="218160"/>
              <a:chOff x="897120" y="5805720"/>
              <a:chExt cx="218520" cy="218160"/>
            </a:xfrm>
          </p:grpSpPr>
          <p:grpSp>
            <p:nvGrpSpPr>
              <p:cNvPr id="530" name="Group 569"/>
              <p:cNvGrpSpPr/>
              <p:nvPr/>
            </p:nvGrpSpPr>
            <p:grpSpPr>
              <a:xfrm>
                <a:off x="897120" y="5805720"/>
                <a:ext cx="218520" cy="218160"/>
                <a:chOff x="897120" y="5805720"/>
                <a:chExt cx="218520" cy="218160"/>
              </a:xfrm>
            </p:grpSpPr>
            <p:sp>
              <p:nvSpPr>
                <p:cNvPr id="531" name="Oval 570"/>
                <p:cNvSpPr/>
                <p:nvPr/>
              </p:nvSpPr>
              <p:spPr>
                <a:xfrm rot="1320000">
                  <a:off x="898200" y="58903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Oval 571"/>
                <p:cNvSpPr/>
                <p:nvPr/>
              </p:nvSpPr>
              <p:spPr>
                <a:xfrm rot="672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Group 572"/>
              <p:cNvGrpSpPr/>
              <p:nvPr/>
            </p:nvGrpSpPr>
            <p:grpSpPr>
              <a:xfrm>
                <a:off x="897840" y="5806080"/>
                <a:ext cx="217800" cy="217800"/>
                <a:chOff x="897840" y="5806080"/>
                <a:chExt cx="217800" cy="217800"/>
              </a:xfrm>
            </p:grpSpPr>
            <p:sp>
              <p:nvSpPr>
                <p:cNvPr id="534" name="Oval 573"/>
                <p:cNvSpPr/>
                <p:nvPr/>
              </p:nvSpPr>
              <p:spPr>
                <a:xfrm rot="4020000">
                  <a:off x="898200" y="58903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Oval 574"/>
                <p:cNvSpPr/>
                <p:nvPr/>
              </p:nvSpPr>
              <p:spPr>
                <a:xfrm rot="9420000">
                  <a:off x="898560" y="58899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6" name="Oval 575"/>
            <p:cNvSpPr/>
            <p:nvPr/>
          </p:nvSpPr>
          <p:spPr>
            <a:xfrm>
              <a:off x="970920" y="5883120"/>
              <a:ext cx="70560" cy="62640"/>
            </a:xfrm>
            <a:prstGeom prst="ellipse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Group 576"/>
          <p:cNvGrpSpPr/>
          <p:nvPr/>
        </p:nvGrpSpPr>
        <p:grpSpPr>
          <a:xfrm>
            <a:off x="3202560" y="6020280"/>
            <a:ext cx="146160" cy="146160"/>
            <a:chOff x="3202560" y="6020280"/>
            <a:chExt cx="146160" cy="146160"/>
          </a:xfrm>
        </p:grpSpPr>
        <p:grpSp>
          <p:nvGrpSpPr>
            <p:cNvPr id="538" name="Group 577"/>
            <p:cNvGrpSpPr/>
            <p:nvPr/>
          </p:nvGrpSpPr>
          <p:grpSpPr>
            <a:xfrm>
              <a:off x="3203640" y="6021360"/>
              <a:ext cx="144360" cy="144360"/>
              <a:chOff x="3203640" y="6021360"/>
              <a:chExt cx="144360" cy="144360"/>
            </a:xfrm>
          </p:grpSpPr>
          <p:grpSp>
            <p:nvGrpSpPr>
              <p:cNvPr id="539" name="Group 578"/>
              <p:cNvGrpSpPr/>
              <p:nvPr/>
            </p:nvGrpSpPr>
            <p:grpSpPr>
              <a:xfrm>
                <a:off x="3203640" y="6021360"/>
                <a:ext cx="144360" cy="144360"/>
                <a:chOff x="3203640" y="6021360"/>
                <a:chExt cx="144360" cy="144360"/>
              </a:xfrm>
            </p:grpSpPr>
            <p:sp>
              <p:nvSpPr>
                <p:cNvPr id="540" name="Oval 579"/>
                <p:cNvSpPr/>
                <p:nvPr/>
              </p:nvSpPr>
              <p:spPr>
                <a:xfrm>
                  <a:off x="320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Oval 580"/>
                <p:cNvSpPr/>
                <p:nvPr/>
              </p:nvSpPr>
              <p:spPr>
                <a:xfrm rot="54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581"/>
              <p:cNvGrpSpPr/>
              <p:nvPr/>
            </p:nvGrpSpPr>
            <p:grpSpPr>
              <a:xfrm>
                <a:off x="3212640" y="6030720"/>
                <a:ext cx="125640" cy="125640"/>
                <a:chOff x="3212640" y="6030720"/>
                <a:chExt cx="125640" cy="125640"/>
              </a:xfrm>
            </p:grpSpPr>
            <p:sp>
              <p:nvSpPr>
                <p:cNvPr id="543" name="Oval 582"/>
                <p:cNvSpPr/>
                <p:nvPr/>
              </p:nvSpPr>
              <p:spPr>
                <a:xfrm rot="2700000">
                  <a:off x="320328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Oval 583"/>
                <p:cNvSpPr/>
                <p:nvPr/>
              </p:nvSpPr>
              <p:spPr>
                <a:xfrm rot="810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Group 584"/>
            <p:cNvGrpSpPr/>
            <p:nvPr/>
          </p:nvGrpSpPr>
          <p:grpSpPr>
            <a:xfrm>
              <a:off x="3202560" y="6020280"/>
              <a:ext cx="146160" cy="146160"/>
              <a:chOff x="3202560" y="6020280"/>
              <a:chExt cx="146160" cy="146160"/>
            </a:xfrm>
          </p:grpSpPr>
          <p:grpSp>
            <p:nvGrpSpPr>
              <p:cNvPr id="546" name="Group 585"/>
              <p:cNvGrpSpPr/>
              <p:nvPr/>
            </p:nvGrpSpPr>
            <p:grpSpPr>
              <a:xfrm>
                <a:off x="3202560" y="6020280"/>
                <a:ext cx="146160" cy="146160"/>
                <a:chOff x="3202560" y="6020280"/>
                <a:chExt cx="146160" cy="146160"/>
              </a:xfrm>
            </p:grpSpPr>
            <p:sp>
              <p:nvSpPr>
                <p:cNvPr id="547" name="Oval 586"/>
                <p:cNvSpPr/>
                <p:nvPr/>
              </p:nvSpPr>
              <p:spPr>
                <a:xfrm rot="13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587"/>
                <p:cNvSpPr/>
                <p:nvPr/>
              </p:nvSpPr>
              <p:spPr>
                <a:xfrm rot="6720000">
                  <a:off x="320328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Group 588"/>
              <p:cNvGrpSpPr/>
              <p:nvPr/>
            </p:nvGrpSpPr>
            <p:grpSpPr>
              <a:xfrm>
                <a:off x="3202560" y="6020640"/>
                <a:ext cx="145800" cy="145800"/>
                <a:chOff x="3202560" y="6020640"/>
                <a:chExt cx="145800" cy="145800"/>
              </a:xfrm>
            </p:grpSpPr>
            <p:sp>
              <p:nvSpPr>
                <p:cNvPr id="550" name="Oval 589"/>
                <p:cNvSpPr/>
                <p:nvPr/>
              </p:nvSpPr>
              <p:spPr>
                <a:xfrm rot="4020000">
                  <a:off x="320292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Oval 590"/>
                <p:cNvSpPr/>
                <p:nvPr/>
              </p:nvSpPr>
              <p:spPr>
                <a:xfrm rot="9420000">
                  <a:off x="3203280" y="6076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2" name="Oval 591"/>
            <p:cNvSpPr/>
            <p:nvPr/>
          </p:nvSpPr>
          <p:spPr>
            <a:xfrm>
              <a:off x="3251880" y="6072120"/>
              <a:ext cx="47160" cy="42120"/>
            </a:xfrm>
            <a:prstGeom prst="ellipse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592"/>
          <p:cNvGrpSpPr/>
          <p:nvPr/>
        </p:nvGrpSpPr>
        <p:grpSpPr>
          <a:xfrm>
            <a:off x="2770560" y="6166440"/>
            <a:ext cx="146520" cy="146160"/>
            <a:chOff x="2770560" y="6166440"/>
            <a:chExt cx="146520" cy="146160"/>
          </a:xfrm>
        </p:grpSpPr>
        <p:grpSp>
          <p:nvGrpSpPr>
            <p:cNvPr id="554" name="Group 593"/>
            <p:cNvGrpSpPr/>
            <p:nvPr/>
          </p:nvGrpSpPr>
          <p:grpSpPr>
            <a:xfrm>
              <a:off x="2771640" y="6167520"/>
              <a:ext cx="144720" cy="144360"/>
              <a:chOff x="2771640" y="6167520"/>
              <a:chExt cx="144720" cy="144360"/>
            </a:xfrm>
          </p:grpSpPr>
          <p:grpSp>
            <p:nvGrpSpPr>
              <p:cNvPr id="555" name="Group 594"/>
              <p:cNvGrpSpPr/>
              <p:nvPr/>
            </p:nvGrpSpPr>
            <p:grpSpPr>
              <a:xfrm>
                <a:off x="2771640" y="6167520"/>
                <a:ext cx="144720" cy="144360"/>
                <a:chOff x="2771640" y="6167520"/>
                <a:chExt cx="144720" cy="144360"/>
              </a:xfrm>
            </p:grpSpPr>
            <p:sp>
              <p:nvSpPr>
                <p:cNvPr id="556" name="Oval 595"/>
                <p:cNvSpPr/>
                <p:nvPr/>
              </p:nvSpPr>
              <p:spPr>
                <a:xfrm>
                  <a:off x="2771640" y="62233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Oval 596"/>
                <p:cNvSpPr/>
                <p:nvPr/>
              </p:nvSpPr>
              <p:spPr>
                <a:xfrm rot="5400000">
                  <a:off x="277128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Group 597"/>
              <p:cNvGrpSpPr/>
              <p:nvPr/>
            </p:nvGrpSpPr>
            <p:grpSpPr>
              <a:xfrm>
                <a:off x="2781000" y="6176880"/>
                <a:ext cx="125640" cy="125640"/>
                <a:chOff x="2781000" y="6176880"/>
                <a:chExt cx="125640" cy="125640"/>
              </a:xfrm>
            </p:grpSpPr>
            <p:sp>
              <p:nvSpPr>
                <p:cNvPr id="559" name="Oval 598"/>
                <p:cNvSpPr/>
                <p:nvPr/>
              </p:nvSpPr>
              <p:spPr>
                <a:xfrm rot="2700000">
                  <a:off x="2771640" y="62233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Oval 599"/>
                <p:cNvSpPr/>
                <p:nvPr/>
              </p:nvSpPr>
              <p:spPr>
                <a:xfrm rot="810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1" name="Group 600"/>
            <p:cNvGrpSpPr/>
            <p:nvPr/>
          </p:nvGrpSpPr>
          <p:grpSpPr>
            <a:xfrm>
              <a:off x="2770560" y="6166440"/>
              <a:ext cx="146520" cy="146160"/>
              <a:chOff x="2770560" y="6166440"/>
              <a:chExt cx="146520" cy="146160"/>
            </a:xfrm>
          </p:grpSpPr>
          <p:grpSp>
            <p:nvGrpSpPr>
              <p:cNvPr id="562" name="Group 601"/>
              <p:cNvGrpSpPr/>
              <p:nvPr/>
            </p:nvGrpSpPr>
            <p:grpSpPr>
              <a:xfrm>
                <a:off x="2770560" y="6166440"/>
                <a:ext cx="146520" cy="146160"/>
                <a:chOff x="2770560" y="6166440"/>
                <a:chExt cx="146520" cy="146160"/>
              </a:xfrm>
            </p:grpSpPr>
            <p:sp>
              <p:nvSpPr>
                <p:cNvPr id="563" name="Oval 602"/>
                <p:cNvSpPr/>
                <p:nvPr/>
              </p:nvSpPr>
              <p:spPr>
                <a:xfrm rot="1320000">
                  <a:off x="277128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Oval 603"/>
                <p:cNvSpPr/>
                <p:nvPr/>
              </p:nvSpPr>
              <p:spPr>
                <a:xfrm rot="67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604"/>
              <p:cNvGrpSpPr/>
              <p:nvPr/>
            </p:nvGrpSpPr>
            <p:grpSpPr>
              <a:xfrm>
                <a:off x="2770920" y="6166800"/>
                <a:ext cx="146160" cy="145800"/>
                <a:chOff x="2770920" y="6166800"/>
                <a:chExt cx="146160" cy="145800"/>
              </a:xfrm>
            </p:grpSpPr>
            <p:sp>
              <p:nvSpPr>
                <p:cNvPr id="566" name="Oval 605"/>
                <p:cNvSpPr/>
                <p:nvPr/>
              </p:nvSpPr>
              <p:spPr>
                <a:xfrm rot="4020000">
                  <a:off x="2771280" y="62229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Oval 606"/>
                <p:cNvSpPr/>
                <p:nvPr/>
              </p:nvSpPr>
              <p:spPr>
                <a:xfrm rot="9420000">
                  <a:off x="2771640" y="62229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" name="Oval 607"/>
            <p:cNvSpPr/>
            <p:nvPr/>
          </p:nvSpPr>
          <p:spPr>
            <a:xfrm>
              <a:off x="2820240" y="6218280"/>
              <a:ext cx="47160" cy="42120"/>
            </a:xfrm>
            <a:prstGeom prst="ellipse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Group 608"/>
          <p:cNvGrpSpPr/>
          <p:nvPr/>
        </p:nvGrpSpPr>
        <p:grpSpPr>
          <a:xfrm>
            <a:off x="5362560" y="5946840"/>
            <a:ext cx="218520" cy="218520"/>
            <a:chOff x="5362560" y="5946840"/>
            <a:chExt cx="218520" cy="218520"/>
          </a:xfrm>
        </p:grpSpPr>
        <p:grpSp>
          <p:nvGrpSpPr>
            <p:cNvPr id="570" name="Group 609"/>
            <p:cNvGrpSpPr/>
            <p:nvPr/>
          </p:nvGrpSpPr>
          <p:grpSpPr>
            <a:xfrm>
              <a:off x="5364000" y="5948280"/>
              <a:ext cx="216000" cy="216000"/>
              <a:chOff x="5364000" y="5948280"/>
              <a:chExt cx="216000" cy="216000"/>
            </a:xfrm>
          </p:grpSpPr>
          <p:grpSp>
            <p:nvGrpSpPr>
              <p:cNvPr id="571" name="Group 610"/>
              <p:cNvGrpSpPr/>
              <p:nvPr/>
            </p:nvGrpSpPr>
            <p:grpSpPr>
              <a:xfrm>
                <a:off x="5364000" y="5948280"/>
                <a:ext cx="216000" cy="216000"/>
                <a:chOff x="5364000" y="5948280"/>
                <a:chExt cx="216000" cy="216000"/>
              </a:xfrm>
            </p:grpSpPr>
            <p:sp>
              <p:nvSpPr>
                <p:cNvPr id="572" name="Oval 611"/>
                <p:cNvSpPr/>
                <p:nvPr/>
              </p:nvSpPr>
              <p:spPr>
                <a:xfrm>
                  <a:off x="5364000" y="6032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Oval 612"/>
                <p:cNvSpPr/>
                <p:nvPr/>
              </p:nvSpPr>
              <p:spPr>
                <a:xfrm rot="54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4" name="Group 613"/>
              <p:cNvGrpSpPr/>
              <p:nvPr/>
            </p:nvGrpSpPr>
            <p:grpSpPr>
              <a:xfrm>
                <a:off x="5378040" y="5962320"/>
                <a:ext cx="187560" cy="187560"/>
                <a:chOff x="5378040" y="5962320"/>
                <a:chExt cx="187560" cy="187560"/>
              </a:xfrm>
            </p:grpSpPr>
            <p:sp>
              <p:nvSpPr>
                <p:cNvPr id="575" name="Oval 614"/>
                <p:cNvSpPr/>
                <p:nvPr/>
              </p:nvSpPr>
              <p:spPr>
                <a:xfrm rot="270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Oval 615"/>
                <p:cNvSpPr/>
                <p:nvPr/>
              </p:nvSpPr>
              <p:spPr>
                <a:xfrm rot="810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7" name="Group 616"/>
            <p:cNvGrpSpPr/>
            <p:nvPr/>
          </p:nvGrpSpPr>
          <p:grpSpPr>
            <a:xfrm>
              <a:off x="5362560" y="5946840"/>
              <a:ext cx="218520" cy="218520"/>
              <a:chOff x="5362560" y="5946840"/>
              <a:chExt cx="218520" cy="218520"/>
            </a:xfrm>
          </p:grpSpPr>
          <p:grpSp>
            <p:nvGrpSpPr>
              <p:cNvPr id="578" name="Group 617"/>
              <p:cNvGrpSpPr/>
              <p:nvPr/>
            </p:nvGrpSpPr>
            <p:grpSpPr>
              <a:xfrm>
                <a:off x="5362560" y="5946840"/>
                <a:ext cx="218520" cy="218520"/>
                <a:chOff x="5362560" y="5946840"/>
                <a:chExt cx="218520" cy="218520"/>
              </a:xfrm>
            </p:grpSpPr>
            <p:sp>
              <p:nvSpPr>
                <p:cNvPr id="579" name="Oval 618"/>
                <p:cNvSpPr/>
                <p:nvPr/>
              </p:nvSpPr>
              <p:spPr>
                <a:xfrm rot="1320000">
                  <a:off x="5363640" y="6031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Oval 619"/>
                <p:cNvSpPr/>
                <p:nvPr/>
              </p:nvSpPr>
              <p:spPr>
                <a:xfrm rot="6720000">
                  <a:off x="536364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1" name="Group 620"/>
              <p:cNvGrpSpPr/>
              <p:nvPr/>
            </p:nvGrpSpPr>
            <p:grpSpPr>
              <a:xfrm>
                <a:off x="5363280" y="5947200"/>
                <a:ext cx="217800" cy="217800"/>
                <a:chOff x="5363280" y="5947200"/>
                <a:chExt cx="217800" cy="217800"/>
              </a:xfrm>
            </p:grpSpPr>
            <p:sp>
              <p:nvSpPr>
                <p:cNvPr id="582" name="Oval 621"/>
                <p:cNvSpPr/>
                <p:nvPr/>
              </p:nvSpPr>
              <p:spPr>
                <a:xfrm rot="4020000">
                  <a:off x="5363280" y="603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Oval 622"/>
                <p:cNvSpPr/>
                <p:nvPr/>
              </p:nvSpPr>
              <p:spPr>
                <a:xfrm rot="9420000">
                  <a:off x="5364000" y="603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4" name="Oval 623"/>
            <p:cNvSpPr/>
            <p:nvPr/>
          </p:nvSpPr>
          <p:spPr>
            <a:xfrm>
              <a:off x="5436360" y="6024600"/>
              <a:ext cx="70560" cy="63000"/>
            </a:xfrm>
            <a:prstGeom prst="ellipse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Group 624"/>
          <p:cNvGrpSpPr/>
          <p:nvPr/>
        </p:nvGrpSpPr>
        <p:grpSpPr>
          <a:xfrm>
            <a:off x="6370920" y="5586480"/>
            <a:ext cx="218160" cy="218520"/>
            <a:chOff x="6370920" y="5586480"/>
            <a:chExt cx="218160" cy="218520"/>
          </a:xfrm>
        </p:grpSpPr>
        <p:grpSp>
          <p:nvGrpSpPr>
            <p:cNvPr id="586" name="Group 625"/>
            <p:cNvGrpSpPr/>
            <p:nvPr/>
          </p:nvGrpSpPr>
          <p:grpSpPr>
            <a:xfrm>
              <a:off x="6372360" y="5587920"/>
              <a:ext cx="215640" cy="216000"/>
              <a:chOff x="6372360" y="5587920"/>
              <a:chExt cx="215640" cy="216000"/>
            </a:xfrm>
          </p:grpSpPr>
          <p:grpSp>
            <p:nvGrpSpPr>
              <p:cNvPr id="587" name="Group 626"/>
              <p:cNvGrpSpPr/>
              <p:nvPr/>
            </p:nvGrpSpPr>
            <p:grpSpPr>
              <a:xfrm>
                <a:off x="6372360" y="5587920"/>
                <a:ext cx="215640" cy="216000"/>
                <a:chOff x="6372360" y="5587920"/>
                <a:chExt cx="215640" cy="216000"/>
              </a:xfrm>
            </p:grpSpPr>
            <p:sp>
              <p:nvSpPr>
                <p:cNvPr id="588" name="Oval 627"/>
                <p:cNvSpPr/>
                <p:nvPr/>
              </p:nvSpPr>
              <p:spPr>
                <a:xfrm>
                  <a:off x="6372360" y="5671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Oval 628"/>
                <p:cNvSpPr/>
                <p:nvPr/>
              </p:nvSpPr>
              <p:spPr>
                <a:xfrm rot="5400000">
                  <a:off x="637200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Group 629"/>
              <p:cNvGrpSpPr/>
              <p:nvPr/>
            </p:nvGrpSpPr>
            <p:grpSpPr>
              <a:xfrm>
                <a:off x="6386040" y="5602320"/>
                <a:ext cx="187200" cy="187200"/>
                <a:chOff x="6386040" y="5602320"/>
                <a:chExt cx="187200" cy="187200"/>
              </a:xfrm>
            </p:grpSpPr>
            <p:sp>
              <p:nvSpPr>
                <p:cNvPr id="591" name="Oval 630"/>
                <p:cNvSpPr/>
                <p:nvPr/>
              </p:nvSpPr>
              <p:spPr>
                <a:xfrm rot="2700000">
                  <a:off x="6371640" y="5671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31"/>
                <p:cNvSpPr/>
                <p:nvPr/>
              </p:nvSpPr>
              <p:spPr>
                <a:xfrm rot="8100000">
                  <a:off x="637164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3" name="Group 632"/>
            <p:cNvGrpSpPr/>
            <p:nvPr/>
          </p:nvGrpSpPr>
          <p:grpSpPr>
            <a:xfrm>
              <a:off x="6370920" y="5586480"/>
              <a:ext cx="218160" cy="218520"/>
              <a:chOff x="6370920" y="5586480"/>
              <a:chExt cx="218160" cy="218520"/>
            </a:xfrm>
          </p:grpSpPr>
          <p:grpSp>
            <p:nvGrpSpPr>
              <p:cNvPr id="594" name="Group 633"/>
              <p:cNvGrpSpPr/>
              <p:nvPr/>
            </p:nvGrpSpPr>
            <p:grpSpPr>
              <a:xfrm>
                <a:off x="6370920" y="5586480"/>
                <a:ext cx="218160" cy="218520"/>
                <a:chOff x="6370920" y="5586480"/>
                <a:chExt cx="218160" cy="218520"/>
              </a:xfrm>
            </p:grpSpPr>
            <p:sp>
              <p:nvSpPr>
                <p:cNvPr id="595" name="Oval 634"/>
                <p:cNvSpPr/>
                <p:nvPr/>
              </p:nvSpPr>
              <p:spPr>
                <a:xfrm rot="1320000">
                  <a:off x="6372000" y="5671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Oval 635"/>
                <p:cNvSpPr/>
                <p:nvPr/>
              </p:nvSpPr>
              <p:spPr>
                <a:xfrm rot="6720000">
                  <a:off x="637164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Group 636"/>
              <p:cNvGrpSpPr/>
              <p:nvPr/>
            </p:nvGrpSpPr>
            <p:grpSpPr>
              <a:xfrm>
                <a:off x="6370920" y="5586840"/>
                <a:ext cx="217800" cy="217800"/>
                <a:chOff x="6370920" y="5586840"/>
                <a:chExt cx="217800" cy="217800"/>
              </a:xfrm>
            </p:grpSpPr>
            <p:sp>
              <p:nvSpPr>
                <p:cNvPr id="598" name="Oval 637"/>
                <p:cNvSpPr/>
                <p:nvPr/>
              </p:nvSpPr>
              <p:spPr>
                <a:xfrm rot="4020000">
                  <a:off x="6371280" y="56710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Oval 638"/>
                <p:cNvSpPr/>
                <p:nvPr/>
              </p:nvSpPr>
              <p:spPr>
                <a:xfrm rot="9420000">
                  <a:off x="6372000" y="567108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0" name="Oval 639"/>
            <p:cNvSpPr/>
            <p:nvPr/>
          </p:nvSpPr>
          <p:spPr>
            <a:xfrm>
              <a:off x="6444720" y="5664240"/>
              <a:ext cx="70200" cy="63000"/>
            </a:xfrm>
            <a:prstGeom prst="ellipse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640"/>
          <p:cNvGrpSpPr/>
          <p:nvPr/>
        </p:nvGrpSpPr>
        <p:grpSpPr>
          <a:xfrm>
            <a:off x="6010560" y="5515200"/>
            <a:ext cx="218160" cy="218520"/>
            <a:chOff x="6010560" y="5515200"/>
            <a:chExt cx="218160" cy="218520"/>
          </a:xfrm>
        </p:grpSpPr>
        <p:grpSp>
          <p:nvGrpSpPr>
            <p:cNvPr id="602" name="Group 641"/>
            <p:cNvGrpSpPr/>
            <p:nvPr/>
          </p:nvGrpSpPr>
          <p:grpSpPr>
            <a:xfrm>
              <a:off x="6012000" y="5516640"/>
              <a:ext cx="215640" cy="216000"/>
              <a:chOff x="6012000" y="5516640"/>
              <a:chExt cx="215640" cy="216000"/>
            </a:xfrm>
          </p:grpSpPr>
          <p:grpSp>
            <p:nvGrpSpPr>
              <p:cNvPr id="603" name="Group 642"/>
              <p:cNvGrpSpPr/>
              <p:nvPr/>
            </p:nvGrpSpPr>
            <p:grpSpPr>
              <a:xfrm>
                <a:off x="6012000" y="5516640"/>
                <a:ext cx="215640" cy="216000"/>
                <a:chOff x="6012000" y="5516640"/>
                <a:chExt cx="215640" cy="216000"/>
              </a:xfrm>
            </p:grpSpPr>
            <p:sp>
              <p:nvSpPr>
                <p:cNvPr id="604" name="Oval 643"/>
                <p:cNvSpPr/>
                <p:nvPr/>
              </p:nvSpPr>
              <p:spPr>
                <a:xfrm>
                  <a:off x="6012000" y="56005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Oval 644"/>
                <p:cNvSpPr/>
                <p:nvPr/>
              </p:nvSpPr>
              <p:spPr>
                <a:xfrm rot="5400000">
                  <a:off x="601164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645"/>
              <p:cNvGrpSpPr/>
              <p:nvPr/>
            </p:nvGrpSpPr>
            <p:grpSpPr>
              <a:xfrm>
                <a:off x="6025680" y="5531040"/>
                <a:ext cx="187200" cy="187200"/>
                <a:chOff x="6025680" y="5531040"/>
                <a:chExt cx="187200" cy="187200"/>
              </a:xfrm>
            </p:grpSpPr>
            <p:sp>
              <p:nvSpPr>
                <p:cNvPr id="607" name="Oval 646"/>
                <p:cNvSpPr/>
                <p:nvPr/>
              </p:nvSpPr>
              <p:spPr>
                <a:xfrm rot="2700000">
                  <a:off x="6011280" y="5600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Oval 647"/>
                <p:cNvSpPr/>
                <p:nvPr/>
              </p:nvSpPr>
              <p:spPr>
                <a:xfrm rot="8100000">
                  <a:off x="601128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9" name="Group 648"/>
            <p:cNvGrpSpPr/>
            <p:nvPr/>
          </p:nvGrpSpPr>
          <p:grpSpPr>
            <a:xfrm>
              <a:off x="6010560" y="5515200"/>
              <a:ext cx="218160" cy="218520"/>
              <a:chOff x="6010560" y="5515200"/>
              <a:chExt cx="218160" cy="218520"/>
            </a:xfrm>
          </p:grpSpPr>
          <p:grpSp>
            <p:nvGrpSpPr>
              <p:cNvPr id="610" name="Group 649"/>
              <p:cNvGrpSpPr/>
              <p:nvPr/>
            </p:nvGrpSpPr>
            <p:grpSpPr>
              <a:xfrm>
                <a:off x="6010560" y="5515200"/>
                <a:ext cx="218160" cy="218520"/>
                <a:chOff x="6010560" y="5515200"/>
                <a:chExt cx="218160" cy="218520"/>
              </a:xfrm>
            </p:grpSpPr>
            <p:sp>
              <p:nvSpPr>
                <p:cNvPr id="611" name="Oval 650"/>
                <p:cNvSpPr/>
                <p:nvPr/>
              </p:nvSpPr>
              <p:spPr>
                <a:xfrm rot="1320000">
                  <a:off x="6011640" y="560052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Oval 651"/>
                <p:cNvSpPr/>
                <p:nvPr/>
              </p:nvSpPr>
              <p:spPr>
                <a:xfrm rot="6720000">
                  <a:off x="601128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Group 652"/>
              <p:cNvGrpSpPr/>
              <p:nvPr/>
            </p:nvGrpSpPr>
            <p:grpSpPr>
              <a:xfrm>
                <a:off x="6010560" y="5515560"/>
                <a:ext cx="217800" cy="217800"/>
                <a:chOff x="6010560" y="5515560"/>
                <a:chExt cx="217800" cy="217800"/>
              </a:xfrm>
            </p:grpSpPr>
            <p:sp>
              <p:nvSpPr>
                <p:cNvPr id="614" name="Oval 653"/>
                <p:cNvSpPr/>
                <p:nvPr/>
              </p:nvSpPr>
              <p:spPr>
                <a:xfrm rot="4020000">
                  <a:off x="6010920" y="5599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Oval 654"/>
                <p:cNvSpPr/>
                <p:nvPr/>
              </p:nvSpPr>
              <p:spPr>
                <a:xfrm rot="9420000">
                  <a:off x="6011640" y="5599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6" name="Oval 655"/>
            <p:cNvSpPr/>
            <p:nvPr/>
          </p:nvSpPr>
          <p:spPr>
            <a:xfrm>
              <a:off x="6084360" y="5592960"/>
              <a:ext cx="70200" cy="63000"/>
            </a:xfrm>
            <a:prstGeom prst="ellipse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656"/>
          <p:cNvGrpSpPr/>
          <p:nvPr/>
        </p:nvGrpSpPr>
        <p:grpSpPr>
          <a:xfrm>
            <a:off x="5794920" y="5875920"/>
            <a:ext cx="146160" cy="146160"/>
            <a:chOff x="5794920" y="5875920"/>
            <a:chExt cx="146160" cy="146160"/>
          </a:xfrm>
        </p:grpSpPr>
        <p:grpSp>
          <p:nvGrpSpPr>
            <p:cNvPr id="618" name="Group 657"/>
            <p:cNvGrpSpPr/>
            <p:nvPr/>
          </p:nvGrpSpPr>
          <p:grpSpPr>
            <a:xfrm>
              <a:off x="5796000" y="5877000"/>
              <a:ext cx="144360" cy="144360"/>
              <a:chOff x="5796000" y="5877000"/>
              <a:chExt cx="144360" cy="144360"/>
            </a:xfrm>
          </p:grpSpPr>
          <p:grpSp>
            <p:nvGrpSpPr>
              <p:cNvPr id="619" name="Group 658"/>
              <p:cNvGrpSpPr/>
              <p:nvPr/>
            </p:nvGrpSpPr>
            <p:grpSpPr>
              <a:xfrm>
                <a:off x="5796000" y="5877000"/>
                <a:ext cx="144360" cy="144360"/>
                <a:chOff x="5796000" y="5877000"/>
                <a:chExt cx="144360" cy="144360"/>
              </a:xfrm>
            </p:grpSpPr>
            <p:sp>
              <p:nvSpPr>
                <p:cNvPr id="620" name="Oval 659"/>
                <p:cNvSpPr/>
                <p:nvPr/>
              </p:nvSpPr>
              <p:spPr>
                <a:xfrm>
                  <a:off x="579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Oval 660"/>
                <p:cNvSpPr/>
                <p:nvPr/>
              </p:nvSpPr>
              <p:spPr>
                <a:xfrm rot="54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2" name="Group 661"/>
              <p:cNvGrpSpPr/>
              <p:nvPr/>
            </p:nvGrpSpPr>
            <p:grpSpPr>
              <a:xfrm>
                <a:off x="5805000" y="5886360"/>
                <a:ext cx="125640" cy="125640"/>
                <a:chOff x="5805000" y="5886360"/>
                <a:chExt cx="125640" cy="125640"/>
              </a:xfrm>
            </p:grpSpPr>
            <p:sp>
              <p:nvSpPr>
                <p:cNvPr id="623" name="Oval 662"/>
                <p:cNvSpPr/>
                <p:nvPr/>
              </p:nvSpPr>
              <p:spPr>
                <a:xfrm rot="2700000">
                  <a:off x="579564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Oval 663"/>
                <p:cNvSpPr/>
                <p:nvPr/>
              </p:nvSpPr>
              <p:spPr>
                <a:xfrm rot="810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5" name="Group 664"/>
            <p:cNvGrpSpPr/>
            <p:nvPr/>
          </p:nvGrpSpPr>
          <p:grpSpPr>
            <a:xfrm>
              <a:off x="5794920" y="5875920"/>
              <a:ext cx="146160" cy="146160"/>
              <a:chOff x="5794920" y="5875920"/>
              <a:chExt cx="146160" cy="146160"/>
            </a:xfrm>
          </p:grpSpPr>
          <p:grpSp>
            <p:nvGrpSpPr>
              <p:cNvPr id="626" name="Group 665"/>
              <p:cNvGrpSpPr/>
              <p:nvPr/>
            </p:nvGrpSpPr>
            <p:grpSpPr>
              <a:xfrm>
                <a:off x="5794920" y="5875920"/>
                <a:ext cx="146160" cy="146160"/>
                <a:chOff x="5794920" y="5875920"/>
                <a:chExt cx="146160" cy="146160"/>
              </a:xfrm>
            </p:grpSpPr>
            <p:sp>
              <p:nvSpPr>
                <p:cNvPr id="627" name="Oval 666"/>
                <p:cNvSpPr/>
                <p:nvPr/>
              </p:nvSpPr>
              <p:spPr>
                <a:xfrm rot="13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Oval 667"/>
                <p:cNvSpPr/>
                <p:nvPr/>
              </p:nvSpPr>
              <p:spPr>
                <a:xfrm rot="6720000">
                  <a:off x="579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9" name="Group 668"/>
              <p:cNvGrpSpPr/>
              <p:nvPr/>
            </p:nvGrpSpPr>
            <p:grpSpPr>
              <a:xfrm>
                <a:off x="5794920" y="5876280"/>
                <a:ext cx="145800" cy="145800"/>
                <a:chOff x="5794920" y="5876280"/>
                <a:chExt cx="145800" cy="145800"/>
              </a:xfrm>
            </p:grpSpPr>
            <p:sp>
              <p:nvSpPr>
                <p:cNvPr id="630" name="Oval 669"/>
                <p:cNvSpPr/>
                <p:nvPr/>
              </p:nvSpPr>
              <p:spPr>
                <a:xfrm rot="4020000">
                  <a:off x="579528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Oval 670"/>
                <p:cNvSpPr/>
                <p:nvPr/>
              </p:nvSpPr>
              <p:spPr>
                <a:xfrm rot="9420000">
                  <a:off x="579564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2" name="Oval 671"/>
            <p:cNvSpPr/>
            <p:nvPr/>
          </p:nvSpPr>
          <p:spPr>
            <a:xfrm>
              <a:off x="5844240" y="5927760"/>
              <a:ext cx="47160" cy="42120"/>
            </a:xfrm>
            <a:prstGeom prst="ellips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672"/>
          <p:cNvGrpSpPr/>
          <p:nvPr/>
        </p:nvGrpSpPr>
        <p:grpSpPr>
          <a:xfrm>
            <a:off x="6515640" y="5947200"/>
            <a:ext cx="146160" cy="146520"/>
            <a:chOff x="6515640" y="5947200"/>
            <a:chExt cx="146160" cy="146520"/>
          </a:xfrm>
        </p:grpSpPr>
        <p:grpSp>
          <p:nvGrpSpPr>
            <p:cNvPr id="634" name="Group 673"/>
            <p:cNvGrpSpPr/>
            <p:nvPr/>
          </p:nvGrpSpPr>
          <p:grpSpPr>
            <a:xfrm>
              <a:off x="6516720" y="5948280"/>
              <a:ext cx="144360" cy="144720"/>
              <a:chOff x="6516720" y="5948280"/>
              <a:chExt cx="144360" cy="144720"/>
            </a:xfrm>
          </p:grpSpPr>
          <p:grpSp>
            <p:nvGrpSpPr>
              <p:cNvPr id="635" name="Group 674"/>
              <p:cNvGrpSpPr/>
              <p:nvPr/>
            </p:nvGrpSpPr>
            <p:grpSpPr>
              <a:xfrm>
                <a:off x="6516720" y="5948280"/>
                <a:ext cx="144360" cy="144720"/>
                <a:chOff x="6516720" y="5948280"/>
                <a:chExt cx="144360" cy="144720"/>
              </a:xfrm>
            </p:grpSpPr>
            <p:sp>
              <p:nvSpPr>
                <p:cNvPr id="636" name="Oval 675"/>
                <p:cNvSpPr/>
                <p:nvPr/>
              </p:nvSpPr>
              <p:spPr>
                <a:xfrm>
                  <a:off x="6516720" y="6004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Oval 676"/>
                <p:cNvSpPr/>
                <p:nvPr/>
              </p:nvSpPr>
              <p:spPr>
                <a:xfrm rot="54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8" name="Group 677"/>
              <p:cNvGrpSpPr/>
              <p:nvPr/>
            </p:nvGrpSpPr>
            <p:grpSpPr>
              <a:xfrm>
                <a:off x="6525720" y="5958000"/>
                <a:ext cx="125640" cy="125640"/>
                <a:chOff x="6525720" y="5958000"/>
                <a:chExt cx="125640" cy="125640"/>
              </a:xfrm>
            </p:grpSpPr>
            <p:sp>
              <p:nvSpPr>
                <p:cNvPr id="639" name="Oval 678"/>
                <p:cNvSpPr/>
                <p:nvPr/>
              </p:nvSpPr>
              <p:spPr>
                <a:xfrm rot="270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Oval 679"/>
                <p:cNvSpPr/>
                <p:nvPr/>
              </p:nvSpPr>
              <p:spPr>
                <a:xfrm rot="8100000">
                  <a:off x="651600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1" name="Group 680"/>
            <p:cNvGrpSpPr/>
            <p:nvPr/>
          </p:nvGrpSpPr>
          <p:grpSpPr>
            <a:xfrm>
              <a:off x="6515640" y="5947200"/>
              <a:ext cx="146160" cy="146520"/>
              <a:chOff x="6515640" y="5947200"/>
              <a:chExt cx="146160" cy="146520"/>
            </a:xfrm>
          </p:grpSpPr>
          <p:grpSp>
            <p:nvGrpSpPr>
              <p:cNvPr id="642" name="Group 681"/>
              <p:cNvGrpSpPr/>
              <p:nvPr/>
            </p:nvGrpSpPr>
            <p:grpSpPr>
              <a:xfrm>
                <a:off x="6515640" y="5947200"/>
                <a:ext cx="146160" cy="146520"/>
                <a:chOff x="6515640" y="5947200"/>
                <a:chExt cx="146160" cy="146520"/>
              </a:xfrm>
            </p:grpSpPr>
            <p:sp>
              <p:nvSpPr>
                <p:cNvPr id="643" name="Oval 682"/>
                <p:cNvSpPr/>
                <p:nvPr/>
              </p:nvSpPr>
              <p:spPr>
                <a:xfrm rot="1320000">
                  <a:off x="6516360" y="6004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Oval 683"/>
                <p:cNvSpPr/>
                <p:nvPr/>
              </p:nvSpPr>
              <p:spPr>
                <a:xfrm rot="6720000">
                  <a:off x="6516000" y="600372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Group 684"/>
              <p:cNvGrpSpPr/>
              <p:nvPr/>
            </p:nvGrpSpPr>
            <p:grpSpPr>
              <a:xfrm>
                <a:off x="6515640" y="5947560"/>
                <a:ext cx="145800" cy="146160"/>
                <a:chOff x="6515640" y="5947560"/>
                <a:chExt cx="145800" cy="146160"/>
              </a:xfrm>
            </p:grpSpPr>
            <p:sp>
              <p:nvSpPr>
                <p:cNvPr id="646" name="Oval 685"/>
                <p:cNvSpPr/>
                <p:nvPr/>
              </p:nvSpPr>
              <p:spPr>
                <a:xfrm rot="4020000">
                  <a:off x="6516000" y="600408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Oval 686"/>
                <p:cNvSpPr/>
                <p:nvPr/>
              </p:nvSpPr>
              <p:spPr>
                <a:xfrm rot="9420000">
                  <a:off x="6516360" y="600372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Oval 687"/>
            <p:cNvSpPr/>
            <p:nvPr/>
          </p:nvSpPr>
          <p:spPr>
            <a:xfrm>
              <a:off x="6564960" y="5999400"/>
              <a:ext cx="47160" cy="42120"/>
            </a:xfrm>
            <a:prstGeom prst="ellips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Group 688"/>
          <p:cNvGrpSpPr/>
          <p:nvPr/>
        </p:nvGrpSpPr>
        <p:grpSpPr>
          <a:xfrm>
            <a:off x="6155280" y="5875920"/>
            <a:ext cx="146160" cy="146160"/>
            <a:chOff x="6155280" y="5875920"/>
            <a:chExt cx="146160" cy="146160"/>
          </a:xfrm>
        </p:grpSpPr>
        <p:grpSp>
          <p:nvGrpSpPr>
            <p:cNvPr id="650" name="Group 689"/>
            <p:cNvGrpSpPr/>
            <p:nvPr/>
          </p:nvGrpSpPr>
          <p:grpSpPr>
            <a:xfrm>
              <a:off x="6156360" y="5877000"/>
              <a:ext cx="144360" cy="144360"/>
              <a:chOff x="6156360" y="5877000"/>
              <a:chExt cx="144360" cy="144360"/>
            </a:xfrm>
          </p:grpSpPr>
          <p:grpSp>
            <p:nvGrpSpPr>
              <p:cNvPr id="651" name="Group 690"/>
              <p:cNvGrpSpPr/>
              <p:nvPr/>
            </p:nvGrpSpPr>
            <p:grpSpPr>
              <a:xfrm>
                <a:off x="6156360" y="5877000"/>
                <a:ext cx="144360" cy="144360"/>
                <a:chOff x="6156360" y="5877000"/>
                <a:chExt cx="144360" cy="144360"/>
              </a:xfrm>
            </p:grpSpPr>
            <p:sp>
              <p:nvSpPr>
                <p:cNvPr id="652" name="Oval 691"/>
                <p:cNvSpPr/>
                <p:nvPr/>
              </p:nvSpPr>
              <p:spPr>
                <a:xfrm>
                  <a:off x="615636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Oval 692"/>
                <p:cNvSpPr/>
                <p:nvPr/>
              </p:nvSpPr>
              <p:spPr>
                <a:xfrm rot="54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Group 693"/>
              <p:cNvGrpSpPr/>
              <p:nvPr/>
            </p:nvGrpSpPr>
            <p:grpSpPr>
              <a:xfrm>
                <a:off x="6165360" y="5886360"/>
                <a:ext cx="125640" cy="125640"/>
                <a:chOff x="6165360" y="5886360"/>
                <a:chExt cx="125640" cy="125640"/>
              </a:xfrm>
            </p:grpSpPr>
            <p:sp>
              <p:nvSpPr>
                <p:cNvPr id="655" name="Oval 694"/>
                <p:cNvSpPr/>
                <p:nvPr/>
              </p:nvSpPr>
              <p:spPr>
                <a:xfrm rot="2700000">
                  <a:off x="6156000" y="5932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Oval 695"/>
                <p:cNvSpPr/>
                <p:nvPr/>
              </p:nvSpPr>
              <p:spPr>
                <a:xfrm rot="810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7" name="Group 696"/>
            <p:cNvGrpSpPr/>
            <p:nvPr/>
          </p:nvGrpSpPr>
          <p:grpSpPr>
            <a:xfrm>
              <a:off x="6155280" y="5875920"/>
              <a:ext cx="146160" cy="146160"/>
              <a:chOff x="6155280" y="5875920"/>
              <a:chExt cx="146160" cy="146160"/>
            </a:xfrm>
          </p:grpSpPr>
          <p:grpSp>
            <p:nvGrpSpPr>
              <p:cNvPr id="658" name="Group 697"/>
              <p:cNvGrpSpPr/>
              <p:nvPr/>
            </p:nvGrpSpPr>
            <p:grpSpPr>
              <a:xfrm>
                <a:off x="6155280" y="5875920"/>
                <a:ext cx="146160" cy="146160"/>
                <a:chOff x="6155280" y="5875920"/>
                <a:chExt cx="146160" cy="146160"/>
              </a:xfrm>
            </p:grpSpPr>
            <p:sp>
              <p:nvSpPr>
                <p:cNvPr id="659" name="Oval 698"/>
                <p:cNvSpPr/>
                <p:nvPr/>
              </p:nvSpPr>
              <p:spPr>
                <a:xfrm rot="13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699"/>
                <p:cNvSpPr/>
                <p:nvPr/>
              </p:nvSpPr>
              <p:spPr>
                <a:xfrm rot="6720000">
                  <a:off x="615600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700"/>
              <p:cNvGrpSpPr/>
              <p:nvPr/>
            </p:nvGrpSpPr>
            <p:grpSpPr>
              <a:xfrm>
                <a:off x="6155280" y="5876280"/>
                <a:ext cx="145800" cy="145800"/>
                <a:chOff x="6155280" y="5876280"/>
                <a:chExt cx="145800" cy="145800"/>
              </a:xfrm>
            </p:grpSpPr>
            <p:sp>
              <p:nvSpPr>
                <p:cNvPr id="662" name="Oval 701"/>
                <p:cNvSpPr/>
                <p:nvPr/>
              </p:nvSpPr>
              <p:spPr>
                <a:xfrm rot="4020000">
                  <a:off x="6155640" y="5932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Oval 702"/>
                <p:cNvSpPr/>
                <p:nvPr/>
              </p:nvSpPr>
              <p:spPr>
                <a:xfrm rot="9420000">
                  <a:off x="6156000" y="593208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" name="Oval 703"/>
            <p:cNvSpPr/>
            <p:nvPr/>
          </p:nvSpPr>
          <p:spPr>
            <a:xfrm>
              <a:off x="6204600" y="5927760"/>
              <a:ext cx="47160" cy="42120"/>
            </a:xfrm>
            <a:prstGeom prst="ellips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Group 704"/>
          <p:cNvGrpSpPr/>
          <p:nvPr/>
        </p:nvGrpSpPr>
        <p:grpSpPr>
          <a:xfrm>
            <a:off x="358920" y="5731200"/>
            <a:ext cx="218520" cy="218160"/>
            <a:chOff x="358920" y="5731200"/>
            <a:chExt cx="218520" cy="218160"/>
          </a:xfrm>
        </p:grpSpPr>
        <p:grpSp>
          <p:nvGrpSpPr>
            <p:cNvPr id="666" name="Group 705"/>
            <p:cNvGrpSpPr/>
            <p:nvPr/>
          </p:nvGrpSpPr>
          <p:grpSpPr>
            <a:xfrm>
              <a:off x="360360" y="5732640"/>
              <a:ext cx="216000" cy="215640"/>
              <a:chOff x="360360" y="5732640"/>
              <a:chExt cx="216000" cy="215640"/>
            </a:xfrm>
          </p:grpSpPr>
          <p:grpSp>
            <p:nvGrpSpPr>
              <p:cNvPr id="667" name="Group 706"/>
              <p:cNvGrpSpPr/>
              <p:nvPr/>
            </p:nvGrpSpPr>
            <p:grpSpPr>
              <a:xfrm>
                <a:off x="360360" y="5732640"/>
                <a:ext cx="216000" cy="215640"/>
                <a:chOff x="360360" y="5732640"/>
                <a:chExt cx="216000" cy="215640"/>
              </a:xfrm>
            </p:grpSpPr>
            <p:sp>
              <p:nvSpPr>
                <p:cNvPr id="668" name="Oval 707"/>
                <p:cNvSpPr/>
                <p:nvPr/>
              </p:nvSpPr>
              <p:spPr>
                <a:xfrm>
                  <a:off x="360360" y="5816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Oval 708"/>
                <p:cNvSpPr/>
                <p:nvPr/>
              </p:nvSpPr>
              <p:spPr>
                <a:xfrm rot="540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709"/>
              <p:cNvGrpSpPr/>
              <p:nvPr/>
            </p:nvGrpSpPr>
            <p:grpSpPr>
              <a:xfrm>
                <a:off x="374760" y="5746680"/>
                <a:ext cx="187200" cy="187560"/>
                <a:chOff x="374760" y="5746680"/>
                <a:chExt cx="187200" cy="187560"/>
              </a:xfrm>
            </p:grpSpPr>
            <p:sp>
              <p:nvSpPr>
                <p:cNvPr id="671" name="Oval 710"/>
                <p:cNvSpPr/>
                <p:nvPr/>
              </p:nvSpPr>
              <p:spPr>
                <a:xfrm rot="2700000">
                  <a:off x="36036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Oval 711"/>
                <p:cNvSpPr/>
                <p:nvPr/>
              </p:nvSpPr>
              <p:spPr>
                <a:xfrm rot="810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Group 712"/>
            <p:cNvGrpSpPr/>
            <p:nvPr/>
          </p:nvGrpSpPr>
          <p:grpSpPr>
            <a:xfrm>
              <a:off x="358920" y="5731200"/>
              <a:ext cx="218520" cy="218160"/>
              <a:chOff x="358920" y="5731200"/>
              <a:chExt cx="218520" cy="218160"/>
            </a:xfrm>
          </p:grpSpPr>
          <p:grpSp>
            <p:nvGrpSpPr>
              <p:cNvPr id="674" name="Group 713"/>
              <p:cNvGrpSpPr/>
              <p:nvPr/>
            </p:nvGrpSpPr>
            <p:grpSpPr>
              <a:xfrm>
                <a:off x="358920" y="5731200"/>
                <a:ext cx="218520" cy="218160"/>
                <a:chOff x="358920" y="5731200"/>
                <a:chExt cx="218520" cy="218160"/>
              </a:xfrm>
            </p:grpSpPr>
            <p:sp>
              <p:nvSpPr>
                <p:cNvPr id="675" name="Oval 714"/>
                <p:cNvSpPr/>
                <p:nvPr/>
              </p:nvSpPr>
              <p:spPr>
                <a:xfrm rot="1320000">
                  <a:off x="360000" y="5815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Oval 715"/>
                <p:cNvSpPr/>
                <p:nvPr/>
              </p:nvSpPr>
              <p:spPr>
                <a:xfrm rot="672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Group 716"/>
              <p:cNvGrpSpPr/>
              <p:nvPr/>
            </p:nvGrpSpPr>
            <p:grpSpPr>
              <a:xfrm>
                <a:off x="359640" y="5731560"/>
                <a:ext cx="217800" cy="217800"/>
                <a:chOff x="359640" y="5731560"/>
                <a:chExt cx="217800" cy="217800"/>
              </a:xfrm>
            </p:grpSpPr>
            <p:sp>
              <p:nvSpPr>
                <p:cNvPr id="678" name="Oval 717"/>
                <p:cNvSpPr/>
                <p:nvPr/>
              </p:nvSpPr>
              <p:spPr>
                <a:xfrm rot="4020000">
                  <a:off x="360000" y="5815800"/>
                  <a:ext cx="21564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Oval 718"/>
                <p:cNvSpPr/>
                <p:nvPr/>
              </p:nvSpPr>
              <p:spPr>
                <a:xfrm rot="9420000">
                  <a:off x="360360" y="581544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0" name="Oval 719"/>
            <p:cNvSpPr/>
            <p:nvPr/>
          </p:nvSpPr>
          <p:spPr>
            <a:xfrm>
              <a:off x="432720" y="5808600"/>
              <a:ext cx="70560" cy="62640"/>
            </a:xfrm>
            <a:prstGeom prst="ellipse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Group 720"/>
          <p:cNvGrpSpPr/>
          <p:nvPr/>
        </p:nvGrpSpPr>
        <p:grpSpPr>
          <a:xfrm>
            <a:off x="-1440" y="5659560"/>
            <a:ext cx="218520" cy="218520"/>
            <a:chOff x="-1440" y="5659560"/>
            <a:chExt cx="218520" cy="218520"/>
          </a:xfrm>
        </p:grpSpPr>
        <p:grpSp>
          <p:nvGrpSpPr>
            <p:cNvPr id="682" name="Group 721"/>
            <p:cNvGrpSpPr/>
            <p:nvPr/>
          </p:nvGrpSpPr>
          <p:grpSpPr>
            <a:xfrm>
              <a:off x="0" y="5661000"/>
              <a:ext cx="216000" cy="216000"/>
              <a:chOff x="0" y="5661000"/>
              <a:chExt cx="216000" cy="216000"/>
            </a:xfrm>
          </p:grpSpPr>
          <p:grpSp>
            <p:nvGrpSpPr>
              <p:cNvPr id="683" name="Group 722"/>
              <p:cNvGrpSpPr/>
              <p:nvPr/>
            </p:nvGrpSpPr>
            <p:grpSpPr>
              <a:xfrm>
                <a:off x="0" y="5661000"/>
                <a:ext cx="216000" cy="216000"/>
                <a:chOff x="0" y="5661000"/>
                <a:chExt cx="216000" cy="216000"/>
              </a:xfrm>
            </p:grpSpPr>
            <p:sp>
              <p:nvSpPr>
                <p:cNvPr id="684" name="Oval 723"/>
                <p:cNvSpPr/>
                <p:nvPr/>
              </p:nvSpPr>
              <p:spPr>
                <a:xfrm>
                  <a:off x="0" y="574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Oval 724"/>
                <p:cNvSpPr/>
                <p:nvPr/>
              </p:nvSpPr>
              <p:spPr>
                <a:xfrm rot="5400000">
                  <a:off x="-36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Group 725"/>
              <p:cNvGrpSpPr/>
              <p:nvPr/>
            </p:nvGrpSpPr>
            <p:grpSpPr>
              <a:xfrm>
                <a:off x="14040" y="5675040"/>
                <a:ext cx="187560" cy="187560"/>
                <a:chOff x="14040" y="5675040"/>
                <a:chExt cx="187560" cy="187560"/>
              </a:xfrm>
            </p:grpSpPr>
            <p:sp>
              <p:nvSpPr>
                <p:cNvPr id="687" name="Oval 726"/>
                <p:cNvSpPr/>
                <p:nvPr/>
              </p:nvSpPr>
              <p:spPr>
                <a:xfrm rot="270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Oval 727"/>
                <p:cNvSpPr/>
                <p:nvPr/>
              </p:nvSpPr>
              <p:spPr>
                <a:xfrm rot="810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" name="Group 728"/>
            <p:cNvGrpSpPr/>
            <p:nvPr/>
          </p:nvGrpSpPr>
          <p:grpSpPr>
            <a:xfrm>
              <a:off x="-1440" y="5659560"/>
              <a:ext cx="218520" cy="218520"/>
              <a:chOff x="-1440" y="5659560"/>
              <a:chExt cx="218520" cy="218520"/>
            </a:xfrm>
          </p:grpSpPr>
          <p:grpSp>
            <p:nvGrpSpPr>
              <p:cNvPr id="690" name="Group 729"/>
              <p:cNvGrpSpPr/>
              <p:nvPr/>
            </p:nvGrpSpPr>
            <p:grpSpPr>
              <a:xfrm>
                <a:off x="-1440" y="5659560"/>
                <a:ext cx="218520" cy="218520"/>
                <a:chOff x="-1440" y="5659560"/>
                <a:chExt cx="218520" cy="218520"/>
              </a:xfrm>
            </p:grpSpPr>
            <p:sp>
              <p:nvSpPr>
                <p:cNvPr id="691" name="Oval 730"/>
                <p:cNvSpPr/>
                <p:nvPr/>
              </p:nvSpPr>
              <p:spPr>
                <a:xfrm rot="1320000">
                  <a:off x="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Oval 731"/>
                <p:cNvSpPr/>
                <p:nvPr/>
              </p:nvSpPr>
              <p:spPr>
                <a:xfrm rot="6720000">
                  <a:off x="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Group 732"/>
              <p:cNvGrpSpPr/>
              <p:nvPr/>
            </p:nvGrpSpPr>
            <p:grpSpPr>
              <a:xfrm>
                <a:off x="-720" y="5659920"/>
                <a:ext cx="217800" cy="217800"/>
                <a:chOff x="-720" y="5659920"/>
                <a:chExt cx="217800" cy="217800"/>
              </a:xfrm>
            </p:grpSpPr>
            <p:sp>
              <p:nvSpPr>
                <p:cNvPr id="694" name="Oval 733"/>
                <p:cNvSpPr/>
                <p:nvPr/>
              </p:nvSpPr>
              <p:spPr>
                <a:xfrm rot="4020000">
                  <a:off x="-36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Oval 734"/>
                <p:cNvSpPr/>
                <p:nvPr/>
              </p:nvSpPr>
              <p:spPr>
                <a:xfrm rot="9420000">
                  <a:off x="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6" name="Oval 735"/>
            <p:cNvSpPr/>
            <p:nvPr/>
          </p:nvSpPr>
          <p:spPr>
            <a:xfrm>
              <a:off x="72360" y="5737320"/>
              <a:ext cx="70560" cy="63000"/>
            </a:xfrm>
            <a:prstGeom prst="ellipse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736"/>
          <p:cNvGrpSpPr/>
          <p:nvPr/>
        </p:nvGrpSpPr>
        <p:grpSpPr>
          <a:xfrm>
            <a:off x="503640" y="6091920"/>
            <a:ext cx="146520" cy="146160"/>
            <a:chOff x="503640" y="6091920"/>
            <a:chExt cx="146520" cy="146160"/>
          </a:xfrm>
        </p:grpSpPr>
        <p:grpSp>
          <p:nvGrpSpPr>
            <p:cNvPr id="698" name="Group 737"/>
            <p:cNvGrpSpPr/>
            <p:nvPr/>
          </p:nvGrpSpPr>
          <p:grpSpPr>
            <a:xfrm>
              <a:off x="504720" y="6093000"/>
              <a:ext cx="144720" cy="144360"/>
              <a:chOff x="504720" y="6093000"/>
              <a:chExt cx="144720" cy="144360"/>
            </a:xfrm>
          </p:grpSpPr>
          <p:grpSp>
            <p:nvGrpSpPr>
              <p:cNvPr id="699" name="Group 738"/>
              <p:cNvGrpSpPr/>
              <p:nvPr/>
            </p:nvGrpSpPr>
            <p:grpSpPr>
              <a:xfrm>
                <a:off x="504720" y="6093000"/>
                <a:ext cx="144720" cy="144360"/>
                <a:chOff x="504720" y="6093000"/>
                <a:chExt cx="144720" cy="144360"/>
              </a:xfrm>
            </p:grpSpPr>
            <p:sp>
              <p:nvSpPr>
                <p:cNvPr id="700" name="Oval 739"/>
                <p:cNvSpPr/>
                <p:nvPr/>
              </p:nvSpPr>
              <p:spPr>
                <a:xfrm>
                  <a:off x="504720" y="6148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Oval 740"/>
                <p:cNvSpPr/>
                <p:nvPr/>
              </p:nvSpPr>
              <p:spPr>
                <a:xfrm rot="5400000">
                  <a:off x="50436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" name="Group 741"/>
              <p:cNvGrpSpPr/>
              <p:nvPr/>
            </p:nvGrpSpPr>
            <p:grpSpPr>
              <a:xfrm>
                <a:off x="514080" y="6102360"/>
                <a:ext cx="125640" cy="125640"/>
                <a:chOff x="514080" y="6102360"/>
                <a:chExt cx="125640" cy="125640"/>
              </a:xfrm>
            </p:grpSpPr>
            <p:sp>
              <p:nvSpPr>
                <p:cNvPr id="703" name="Oval 742"/>
                <p:cNvSpPr/>
                <p:nvPr/>
              </p:nvSpPr>
              <p:spPr>
                <a:xfrm rot="2700000">
                  <a:off x="504720" y="6148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Oval 743"/>
                <p:cNvSpPr/>
                <p:nvPr/>
              </p:nvSpPr>
              <p:spPr>
                <a:xfrm rot="810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5" name="Group 744"/>
            <p:cNvGrpSpPr/>
            <p:nvPr/>
          </p:nvGrpSpPr>
          <p:grpSpPr>
            <a:xfrm>
              <a:off x="503640" y="6091920"/>
              <a:ext cx="146520" cy="146160"/>
              <a:chOff x="503640" y="6091920"/>
              <a:chExt cx="146520" cy="146160"/>
            </a:xfrm>
          </p:grpSpPr>
          <p:grpSp>
            <p:nvGrpSpPr>
              <p:cNvPr id="706" name="Group 745"/>
              <p:cNvGrpSpPr/>
              <p:nvPr/>
            </p:nvGrpSpPr>
            <p:grpSpPr>
              <a:xfrm>
                <a:off x="503640" y="6091920"/>
                <a:ext cx="146520" cy="146160"/>
                <a:chOff x="503640" y="6091920"/>
                <a:chExt cx="146520" cy="146160"/>
              </a:xfrm>
            </p:grpSpPr>
            <p:sp>
              <p:nvSpPr>
                <p:cNvPr id="707" name="Oval 746"/>
                <p:cNvSpPr/>
                <p:nvPr/>
              </p:nvSpPr>
              <p:spPr>
                <a:xfrm rot="1320000">
                  <a:off x="50436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Oval 747"/>
                <p:cNvSpPr/>
                <p:nvPr/>
              </p:nvSpPr>
              <p:spPr>
                <a:xfrm rot="67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Group 748"/>
              <p:cNvGrpSpPr/>
              <p:nvPr/>
            </p:nvGrpSpPr>
            <p:grpSpPr>
              <a:xfrm>
                <a:off x="504000" y="6092280"/>
                <a:ext cx="146160" cy="145800"/>
                <a:chOff x="504000" y="6092280"/>
                <a:chExt cx="146160" cy="145800"/>
              </a:xfrm>
            </p:grpSpPr>
            <p:sp>
              <p:nvSpPr>
                <p:cNvPr id="710" name="Oval 749"/>
                <p:cNvSpPr/>
                <p:nvPr/>
              </p:nvSpPr>
              <p:spPr>
                <a:xfrm rot="4020000">
                  <a:off x="504360" y="614844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Oval 750"/>
                <p:cNvSpPr/>
                <p:nvPr/>
              </p:nvSpPr>
              <p:spPr>
                <a:xfrm rot="9420000">
                  <a:off x="504720" y="614844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2" name="Oval 751"/>
            <p:cNvSpPr/>
            <p:nvPr/>
          </p:nvSpPr>
          <p:spPr>
            <a:xfrm>
              <a:off x="553320" y="6143760"/>
              <a:ext cx="47160" cy="42120"/>
            </a:xfrm>
            <a:prstGeom prst="ellipse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752"/>
          <p:cNvGrpSpPr/>
          <p:nvPr/>
        </p:nvGrpSpPr>
        <p:grpSpPr>
          <a:xfrm>
            <a:off x="143280" y="6020280"/>
            <a:ext cx="146520" cy="146160"/>
            <a:chOff x="143280" y="6020280"/>
            <a:chExt cx="146520" cy="146160"/>
          </a:xfrm>
        </p:grpSpPr>
        <p:grpSp>
          <p:nvGrpSpPr>
            <p:cNvPr id="714" name="Group 753"/>
            <p:cNvGrpSpPr/>
            <p:nvPr/>
          </p:nvGrpSpPr>
          <p:grpSpPr>
            <a:xfrm>
              <a:off x="144360" y="6021360"/>
              <a:ext cx="144720" cy="144360"/>
              <a:chOff x="144360" y="6021360"/>
              <a:chExt cx="144720" cy="144360"/>
            </a:xfrm>
          </p:grpSpPr>
          <p:grpSp>
            <p:nvGrpSpPr>
              <p:cNvPr id="715" name="Group 754"/>
              <p:cNvGrpSpPr/>
              <p:nvPr/>
            </p:nvGrpSpPr>
            <p:grpSpPr>
              <a:xfrm>
                <a:off x="144360" y="6021360"/>
                <a:ext cx="144720" cy="144360"/>
                <a:chOff x="144360" y="6021360"/>
                <a:chExt cx="144720" cy="144360"/>
              </a:xfrm>
            </p:grpSpPr>
            <p:sp>
              <p:nvSpPr>
                <p:cNvPr id="716" name="Oval 755"/>
                <p:cNvSpPr/>
                <p:nvPr/>
              </p:nvSpPr>
              <p:spPr>
                <a:xfrm>
                  <a:off x="144360" y="607716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Oval 756"/>
                <p:cNvSpPr/>
                <p:nvPr/>
              </p:nvSpPr>
              <p:spPr>
                <a:xfrm rot="5400000">
                  <a:off x="14364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8" name="Group 757"/>
              <p:cNvGrpSpPr/>
              <p:nvPr/>
            </p:nvGrpSpPr>
            <p:grpSpPr>
              <a:xfrm>
                <a:off x="153720" y="6030720"/>
                <a:ext cx="125640" cy="125640"/>
                <a:chOff x="153720" y="6030720"/>
                <a:chExt cx="125640" cy="125640"/>
              </a:xfrm>
            </p:grpSpPr>
            <p:sp>
              <p:nvSpPr>
                <p:cNvPr id="719" name="Oval 758"/>
                <p:cNvSpPr/>
                <p:nvPr/>
              </p:nvSpPr>
              <p:spPr>
                <a:xfrm rot="2700000">
                  <a:off x="144360" y="607716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Oval 759"/>
                <p:cNvSpPr/>
                <p:nvPr/>
              </p:nvSpPr>
              <p:spPr>
                <a:xfrm rot="810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1" name="Group 760"/>
            <p:cNvGrpSpPr/>
            <p:nvPr/>
          </p:nvGrpSpPr>
          <p:grpSpPr>
            <a:xfrm>
              <a:off x="143280" y="6020280"/>
              <a:ext cx="146520" cy="146160"/>
              <a:chOff x="143280" y="6020280"/>
              <a:chExt cx="146520" cy="146160"/>
            </a:xfrm>
          </p:grpSpPr>
          <p:grpSp>
            <p:nvGrpSpPr>
              <p:cNvPr id="722" name="Group 761"/>
              <p:cNvGrpSpPr/>
              <p:nvPr/>
            </p:nvGrpSpPr>
            <p:grpSpPr>
              <a:xfrm>
                <a:off x="143280" y="6020280"/>
                <a:ext cx="146520" cy="146160"/>
                <a:chOff x="143280" y="6020280"/>
                <a:chExt cx="146520" cy="146160"/>
              </a:xfrm>
            </p:grpSpPr>
            <p:sp>
              <p:nvSpPr>
                <p:cNvPr id="723" name="Oval 762"/>
                <p:cNvSpPr/>
                <p:nvPr/>
              </p:nvSpPr>
              <p:spPr>
                <a:xfrm rot="1320000">
                  <a:off x="14400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Oval 763"/>
                <p:cNvSpPr/>
                <p:nvPr/>
              </p:nvSpPr>
              <p:spPr>
                <a:xfrm rot="67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Group 764"/>
              <p:cNvGrpSpPr/>
              <p:nvPr/>
            </p:nvGrpSpPr>
            <p:grpSpPr>
              <a:xfrm>
                <a:off x="143640" y="6020640"/>
                <a:ext cx="146160" cy="145800"/>
                <a:chOff x="143640" y="6020640"/>
                <a:chExt cx="146160" cy="145800"/>
              </a:xfrm>
            </p:grpSpPr>
            <p:sp>
              <p:nvSpPr>
                <p:cNvPr id="726" name="Oval 765"/>
                <p:cNvSpPr/>
                <p:nvPr/>
              </p:nvSpPr>
              <p:spPr>
                <a:xfrm rot="4020000">
                  <a:off x="144000" y="6076800"/>
                  <a:ext cx="14436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Oval 766"/>
                <p:cNvSpPr/>
                <p:nvPr/>
              </p:nvSpPr>
              <p:spPr>
                <a:xfrm rot="9420000">
                  <a:off x="144360" y="6076800"/>
                  <a:ext cx="144720" cy="327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8" name="Oval 767"/>
            <p:cNvSpPr/>
            <p:nvPr/>
          </p:nvSpPr>
          <p:spPr>
            <a:xfrm>
              <a:off x="192960" y="6072120"/>
              <a:ext cx="47160" cy="42120"/>
            </a:xfrm>
            <a:prstGeom prst="ellipse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768"/>
          <p:cNvGrpSpPr/>
          <p:nvPr/>
        </p:nvGrpSpPr>
        <p:grpSpPr>
          <a:xfrm>
            <a:off x="7593840" y="5226840"/>
            <a:ext cx="367560" cy="367560"/>
            <a:chOff x="7593840" y="5226840"/>
            <a:chExt cx="367560" cy="367560"/>
          </a:xfrm>
        </p:grpSpPr>
        <p:grpSp>
          <p:nvGrpSpPr>
            <p:cNvPr id="730" name="Group 769"/>
            <p:cNvGrpSpPr/>
            <p:nvPr/>
          </p:nvGrpSpPr>
          <p:grpSpPr>
            <a:xfrm>
              <a:off x="7596360" y="5229360"/>
              <a:ext cx="362880" cy="362880"/>
              <a:chOff x="7596360" y="5229360"/>
              <a:chExt cx="362880" cy="362880"/>
            </a:xfrm>
          </p:grpSpPr>
          <p:grpSp>
            <p:nvGrpSpPr>
              <p:cNvPr id="731" name="Group 770"/>
              <p:cNvGrpSpPr/>
              <p:nvPr/>
            </p:nvGrpSpPr>
            <p:grpSpPr>
              <a:xfrm>
                <a:off x="7596360" y="5229360"/>
                <a:ext cx="362880" cy="362880"/>
                <a:chOff x="7596360" y="5229360"/>
                <a:chExt cx="362880" cy="362880"/>
              </a:xfrm>
            </p:grpSpPr>
            <p:sp>
              <p:nvSpPr>
                <p:cNvPr id="732" name="Oval 771"/>
                <p:cNvSpPr/>
                <p:nvPr/>
              </p:nvSpPr>
              <p:spPr>
                <a:xfrm>
                  <a:off x="7596360" y="537012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Oval 772"/>
                <p:cNvSpPr/>
                <p:nvPr/>
              </p:nvSpPr>
              <p:spPr>
                <a:xfrm rot="5400000">
                  <a:off x="7595640" y="536940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Group 773"/>
              <p:cNvGrpSpPr/>
              <p:nvPr/>
            </p:nvGrpSpPr>
            <p:grpSpPr>
              <a:xfrm>
                <a:off x="7619760" y="5253120"/>
                <a:ext cx="315360" cy="315720"/>
                <a:chOff x="7619760" y="5253120"/>
                <a:chExt cx="315360" cy="315720"/>
              </a:xfrm>
            </p:grpSpPr>
            <p:sp>
              <p:nvSpPr>
                <p:cNvPr id="735" name="Oval 774"/>
                <p:cNvSpPr/>
                <p:nvPr/>
              </p:nvSpPr>
              <p:spPr>
                <a:xfrm rot="2700000">
                  <a:off x="7596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Oval 775"/>
                <p:cNvSpPr/>
                <p:nvPr/>
              </p:nvSpPr>
              <p:spPr>
                <a:xfrm rot="8100000">
                  <a:off x="759564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7" name="Group 776"/>
            <p:cNvGrpSpPr/>
            <p:nvPr/>
          </p:nvGrpSpPr>
          <p:grpSpPr>
            <a:xfrm>
              <a:off x="7593840" y="5226840"/>
              <a:ext cx="367560" cy="367560"/>
              <a:chOff x="7593840" y="5226840"/>
              <a:chExt cx="367560" cy="367560"/>
            </a:xfrm>
          </p:grpSpPr>
          <p:grpSp>
            <p:nvGrpSpPr>
              <p:cNvPr id="738" name="Group 777"/>
              <p:cNvGrpSpPr/>
              <p:nvPr/>
            </p:nvGrpSpPr>
            <p:grpSpPr>
              <a:xfrm>
                <a:off x="7593840" y="5226840"/>
                <a:ext cx="367560" cy="367560"/>
                <a:chOff x="7593840" y="5226840"/>
                <a:chExt cx="367560" cy="367560"/>
              </a:xfrm>
            </p:grpSpPr>
            <p:sp>
              <p:nvSpPr>
                <p:cNvPr id="739" name="Oval 778"/>
                <p:cNvSpPr/>
                <p:nvPr/>
              </p:nvSpPr>
              <p:spPr>
                <a:xfrm rot="1320000">
                  <a:off x="759600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Oval 779"/>
                <p:cNvSpPr/>
                <p:nvPr/>
              </p:nvSpPr>
              <p:spPr>
                <a:xfrm rot="67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1" name="Group 780"/>
              <p:cNvGrpSpPr/>
              <p:nvPr/>
            </p:nvGrpSpPr>
            <p:grpSpPr>
              <a:xfrm>
                <a:off x="7594560" y="5227920"/>
                <a:ext cx="366120" cy="366120"/>
                <a:chOff x="7594560" y="5227920"/>
                <a:chExt cx="366120" cy="366120"/>
              </a:xfrm>
            </p:grpSpPr>
            <p:sp>
              <p:nvSpPr>
                <p:cNvPr id="742" name="Oval 781"/>
                <p:cNvSpPr/>
                <p:nvPr/>
              </p:nvSpPr>
              <p:spPr>
                <a:xfrm rot="4020000">
                  <a:off x="7595640" y="5369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Oval 782"/>
                <p:cNvSpPr/>
                <p:nvPr/>
              </p:nvSpPr>
              <p:spPr>
                <a:xfrm rot="9420000">
                  <a:off x="7596000" y="53690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4" name="Oval 783"/>
            <p:cNvSpPr/>
            <p:nvPr/>
          </p:nvSpPr>
          <p:spPr>
            <a:xfrm>
              <a:off x="7718040" y="5357520"/>
              <a:ext cx="118440" cy="105840"/>
            </a:xfrm>
            <a:prstGeom prst="ellipse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Group 784"/>
          <p:cNvGrpSpPr/>
          <p:nvPr/>
        </p:nvGrpSpPr>
        <p:grpSpPr>
          <a:xfrm>
            <a:off x="7810560" y="5659560"/>
            <a:ext cx="218520" cy="218520"/>
            <a:chOff x="7810560" y="5659560"/>
            <a:chExt cx="218520" cy="218520"/>
          </a:xfrm>
        </p:grpSpPr>
        <p:grpSp>
          <p:nvGrpSpPr>
            <p:cNvPr id="746" name="Group 785"/>
            <p:cNvGrpSpPr/>
            <p:nvPr/>
          </p:nvGrpSpPr>
          <p:grpSpPr>
            <a:xfrm>
              <a:off x="7812000" y="5661000"/>
              <a:ext cx="216000" cy="216000"/>
              <a:chOff x="7812000" y="5661000"/>
              <a:chExt cx="216000" cy="216000"/>
            </a:xfrm>
          </p:grpSpPr>
          <p:grpSp>
            <p:nvGrpSpPr>
              <p:cNvPr id="747" name="Group 786"/>
              <p:cNvGrpSpPr/>
              <p:nvPr/>
            </p:nvGrpSpPr>
            <p:grpSpPr>
              <a:xfrm>
                <a:off x="7812000" y="5661000"/>
                <a:ext cx="216000" cy="216000"/>
                <a:chOff x="7812000" y="5661000"/>
                <a:chExt cx="216000" cy="216000"/>
              </a:xfrm>
            </p:grpSpPr>
            <p:sp>
              <p:nvSpPr>
                <p:cNvPr id="748" name="Oval 787"/>
                <p:cNvSpPr/>
                <p:nvPr/>
              </p:nvSpPr>
              <p:spPr>
                <a:xfrm>
                  <a:off x="7812000" y="574488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Oval 788"/>
                <p:cNvSpPr/>
                <p:nvPr/>
              </p:nvSpPr>
              <p:spPr>
                <a:xfrm rot="54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0" name="Group 789"/>
              <p:cNvGrpSpPr/>
              <p:nvPr/>
            </p:nvGrpSpPr>
            <p:grpSpPr>
              <a:xfrm>
                <a:off x="7826040" y="5675040"/>
                <a:ext cx="187560" cy="187560"/>
                <a:chOff x="7826040" y="5675040"/>
                <a:chExt cx="187560" cy="187560"/>
              </a:xfrm>
            </p:grpSpPr>
            <p:sp>
              <p:nvSpPr>
                <p:cNvPr id="751" name="Oval 790"/>
                <p:cNvSpPr/>
                <p:nvPr/>
              </p:nvSpPr>
              <p:spPr>
                <a:xfrm rot="270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Oval 791"/>
                <p:cNvSpPr/>
                <p:nvPr/>
              </p:nvSpPr>
              <p:spPr>
                <a:xfrm rot="810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Group 792"/>
            <p:cNvGrpSpPr/>
            <p:nvPr/>
          </p:nvGrpSpPr>
          <p:grpSpPr>
            <a:xfrm>
              <a:off x="7810560" y="5659560"/>
              <a:ext cx="218520" cy="218520"/>
              <a:chOff x="7810560" y="5659560"/>
              <a:chExt cx="218520" cy="218520"/>
            </a:xfrm>
          </p:grpSpPr>
          <p:grpSp>
            <p:nvGrpSpPr>
              <p:cNvPr id="754" name="Group 793"/>
              <p:cNvGrpSpPr/>
              <p:nvPr/>
            </p:nvGrpSpPr>
            <p:grpSpPr>
              <a:xfrm>
                <a:off x="7810560" y="5659560"/>
                <a:ext cx="218520" cy="218520"/>
                <a:chOff x="7810560" y="5659560"/>
                <a:chExt cx="218520" cy="218520"/>
              </a:xfrm>
            </p:grpSpPr>
            <p:sp>
              <p:nvSpPr>
                <p:cNvPr id="755" name="Oval 794"/>
                <p:cNvSpPr/>
                <p:nvPr/>
              </p:nvSpPr>
              <p:spPr>
                <a:xfrm rot="1320000">
                  <a:off x="7811640" y="574452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Oval 795"/>
                <p:cNvSpPr/>
                <p:nvPr/>
              </p:nvSpPr>
              <p:spPr>
                <a:xfrm rot="6720000">
                  <a:off x="781164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Group 796"/>
              <p:cNvGrpSpPr/>
              <p:nvPr/>
            </p:nvGrpSpPr>
            <p:grpSpPr>
              <a:xfrm>
                <a:off x="7811280" y="5659920"/>
                <a:ext cx="217800" cy="217800"/>
                <a:chOff x="7811280" y="5659920"/>
                <a:chExt cx="217800" cy="217800"/>
              </a:xfrm>
            </p:grpSpPr>
            <p:sp>
              <p:nvSpPr>
                <p:cNvPr id="758" name="Oval 797"/>
                <p:cNvSpPr/>
                <p:nvPr/>
              </p:nvSpPr>
              <p:spPr>
                <a:xfrm rot="4020000">
                  <a:off x="7811280" y="574416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Oval 798"/>
                <p:cNvSpPr/>
                <p:nvPr/>
              </p:nvSpPr>
              <p:spPr>
                <a:xfrm rot="9420000">
                  <a:off x="7812000" y="5743800"/>
                  <a:ext cx="216000" cy="489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240" bIns="-12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0" name="Oval 799"/>
            <p:cNvSpPr/>
            <p:nvPr/>
          </p:nvSpPr>
          <p:spPr>
            <a:xfrm>
              <a:off x="7884360" y="5737320"/>
              <a:ext cx="70560" cy="63000"/>
            </a:xfrm>
            <a:prstGeom prst="ellipse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Group 800"/>
          <p:cNvGrpSpPr/>
          <p:nvPr/>
        </p:nvGrpSpPr>
        <p:grpSpPr>
          <a:xfrm>
            <a:off x="8314560" y="5731560"/>
            <a:ext cx="367560" cy="367920"/>
            <a:chOff x="8314560" y="5731560"/>
            <a:chExt cx="367560" cy="367920"/>
          </a:xfrm>
        </p:grpSpPr>
        <p:grpSp>
          <p:nvGrpSpPr>
            <p:cNvPr id="762" name="Group 801"/>
            <p:cNvGrpSpPr/>
            <p:nvPr/>
          </p:nvGrpSpPr>
          <p:grpSpPr>
            <a:xfrm>
              <a:off x="8317080" y="5734080"/>
              <a:ext cx="362880" cy="363240"/>
              <a:chOff x="8317080" y="5734080"/>
              <a:chExt cx="362880" cy="363240"/>
            </a:xfrm>
          </p:grpSpPr>
          <p:grpSp>
            <p:nvGrpSpPr>
              <p:cNvPr id="763" name="Group 802"/>
              <p:cNvGrpSpPr/>
              <p:nvPr/>
            </p:nvGrpSpPr>
            <p:grpSpPr>
              <a:xfrm>
                <a:off x="8317080" y="5734080"/>
                <a:ext cx="362880" cy="363240"/>
                <a:chOff x="8317080" y="5734080"/>
                <a:chExt cx="362880" cy="363240"/>
              </a:xfrm>
            </p:grpSpPr>
            <p:sp>
              <p:nvSpPr>
                <p:cNvPr id="764" name="Oval 803"/>
                <p:cNvSpPr/>
                <p:nvPr/>
              </p:nvSpPr>
              <p:spPr>
                <a:xfrm>
                  <a:off x="8317080" y="587484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Oval 804"/>
                <p:cNvSpPr/>
                <p:nvPr/>
              </p:nvSpPr>
              <p:spPr>
                <a:xfrm rot="5400000">
                  <a:off x="831636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Group 805"/>
              <p:cNvGrpSpPr/>
              <p:nvPr/>
            </p:nvGrpSpPr>
            <p:grpSpPr>
              <a:xfrm>
                <a:off x="8340480" y="5757840"/>
                <a:ext cx="315360" cy="315720"/>
                <a:chOff x="8340480" y="5757840"/>
                <a:chExt cx="315360" cy="315720"/>
              </a:xfrm>
            </p:grpSpPr>
            <p:sp>
              <p:nvSpPr>
                <p:cNvPr id="767" name="Oval 806"/>
                <p:cNvSpPr/>
                <p:nvPr/>
              </p:nvSpPr>
              <p:spPr>
                <a:xfrm rot="2700000">
                  <a:off x="8316720" y="5874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Oval 807"/>
                <p:cNvSpPr/>
                <p:nvPr/>
              </p:nvSpPr>
              <p:spPr>
                <a:xfrm rot="8100000">
                  <a:off x="831636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9" name="Group 808"/>
            <p:cNvGrpSpPr/>
            <p:nvPr/>
          </p:nvGrpSpPr>
          <p:grpSpPr>
            <a:xfrm>
              <a:off x="8314560" y="5731560"/>
              <a:ext cx="367560" cy="367920"/>
              <a:chOff x="8314560" y="5731560"/>
              <a:chExt cx="367560" cy="367920"/>
            </a:xfrm>
          </p:grpSpPr>
          <p:grpSp>
            <p:nvGrpSpPr>
              <p:cNvPr id="770" name="Group 809"/>
              <p:cNvGrpSpPr/>
              <p:nvPr/>
            </p:nvGrpSpPr>
            <p:grpSpPr>
              <a:xfrm>
                <a:off x="8314560" y="5731560"/>
                <a:ext cx="367560" cy="367920"/>
                <a:chOff x="8314560" y="5731560"/>
                <a:chExt cx="367560" cy="367920"/>
              </a:xfrm>
            </p:grpSpPr>
            <p:sp>
              <p:nvSpPr>
                <p:cNvPr id="771" name="Oval 810"/>
                <p:cNvSpPr/>
                <p:nvPr/>
              </p:nvSpPr>
              <p:spPr>
                <a:xfrm rot="1320000">
                  <a:off x="8316720" y="587448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Oval 811"/>
                <p:cNvSpPr/>
                <p:nvPr/>
              </p:nvSpPr>
              <p:spPr>
                <a:xfrm rot="6720000">
                  <a:off x="8316360" y="5874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Group 812"/>
              <p:cNvGrpSpPr/>
              <p:nvPr/>
            </p:nvGrpSpPr>
            <p:grpSpPr>
              <a:xfrm>
                <a:off x="8315280" y="5732640"/>
                <a:ext cx="366120" cy="366480"/>
                <a:chOff x="8315280" y="5732640"/>
                <a:chExt cx="366120" cy="366480"/>
              </a:xfrm>
            </p:grpSpPr>
            <p:sp>
              <p:nvSpPr>
                <p:cNvPr id="774" name="Oval 813"/>
                <p:cNvSpPr/>
                <p:nvPr/>
              </p:nvSpPr>
              <p:spPr>
                <a:xfrm rot="4020000">
                  <a:off x="8316720" y="5874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Oval 814"/>
                <p:cNvSpPr/>
                <p:nvPr/>
              </p:nvSpPr>
              <p:spPr>
                <a:xfrm rot="9420000">
                  <a:off x="8316720" y="5873760"/>
                  <a:ext cx="36288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76" name="Oval 815"/>
            <p:cNvSpPr/>
            <p:nvPr/>
          </p:nvSpPr>
          <p:spPr>
            <a:xfrm>
              <a:off x="8438760" y="5862240"/>
              <a:ext cx="118440" cy="105840"/>
            </a:xfrm>
            <a:prstGeom prst="ellipse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" name="Group 816"/>
          <p:cNvGrpSpPr/>
          <p:nvPr/>
        </p:nvGrpSpPr>
        <p:grpSpPr>
          <a:xfrm>
            <a:off x="8777880" y="5155200"/>
            <a:ext cx="367920" cy="367920"/>
            <a:chOff x="8777880" y="5155200"/>
            <a:chExt cx="367920" cy="367920"/>
          </a:xfrm>
        </p:grpSpPr>
        <p:grpSp>
          <p:nvGrpSpPr>
            <p:cNvPr id="778" name="Group 817"/>
            <p:cNvGrpSpPr/>
            <p:nvPr/>
          </p:nvGrpSpPr>
          <p:grpSpPr>
            <a:xfrm>
              <a:off x="8780400" y="5157720"/>
              <a:ext cx="363240" cy="363240"/>
              <a:chOff x="8780400" y="5157720"/>
              <a:chExt cx="363240" cy="363240"/>
            </a:xfrm>
          </p:grpSpPr>
          <p:grpSp>
            <p:nvGrpSpPr>
              <p:cNvPr id="779" name="Group 818"/>
              <p:cNvGrpSpPr/>
              <p:nvPr/>
            </p:nvGrpSpPr>
            <p:grpSpPr>
              <a:xfrm>
                <a:off x="8780400" y="5157720"/>
                <a:ext cx="363240" cy="363240"/>
                <a:chOff x="8780400" y="5157720"/>
                <a:chExt cx="363240" cy="363240"/>
              </a:xfrm>
            </p:grpSpPr>
            <p:sp>
              <p:nvSpPr>
                <p:cNvPr id="780" name="Oval 819"/>
                <p:cNvSpPr/>
                <p:nvPr/>
              </p:nvSpPr>
              <p:spPr>
                <a:xfrm>
                  <a:off x="878040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Oval 820"/>
                <p:cNvSpPr/>
                <p:nvPr/>
              </p:nvSpPr>
              <p:spPr>
                <a:xfrm rot="5400000">
                  <a:off x="877968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2" name="Group 821"/>
              <p:cNvGrpSpPr/>
              <p:nvPr/>
            </p:nvGrpSpPr>
            <p:grpSpPr>
              <a:xfrm>
                <a:off x="8803800" y="5181480"/>
                <a:ext cx="315360" cy="315720"/>
                <a:chOff x="8803800" y="5181480"/>
                <a:chExt cx="315360" cy="315720"/>
              </a:xfrm>
            </p:grpSpPr>
            <p:sp>
              <p:nvSpPr>
                <p:cNvPr id="783" name="Oval 822"/>
                <p:cNvSpPr/>
                <p:nvPr/>
              </p:nvSpPr>
              <p:spPr>
                <a:xfrm rot="2700000">
                  <a:off x="8780040" y="5298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Oval 823"/>
                <p:cNvSpPr/>
                <p:nvPr/>
              </p:nvSpPr>
              <p:spPr>
                <a:xfrm rot="8100000">
                  <a:off x="877932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5" name="Group 824"/>
            <p:cNvGrpSpPr/>
            <p:nvPr/>
          </p:nvGrpSpPr>
          <p:grpSpPr>
            <a:xfrm>
              <a:off x="8777880" y="5155200"/>
              <a:ext cx="367920" cy="367920"/>
              <a:chOff x="8777880" y="5155200"/>
              <a:chExt cx="367920" cy="367920"/>
            </a:xfrm>
          </p:grpSpPr>
          <p:grpSp>
            <p:nvGrpSpPr>
              <p:cNvPr id="786" name="Group 825"/>
              <p:cNvGrpSpPr/>
              <p:nvPr/>
            </p:nvGrpSpPr>
            <p:grpSpPr>
              <a:xfrm>
                <a:off x="8777880" y="5155200"/>
                <a:ext cx="367920" cy="367920"/>
                <a:chOff x="8777880" y="5155200"/>
                <a:chExt cx="367920" cy="367920"/>
              </a:xfrm>
            </p:grpSpPr>
            <p:sp>
              <p:nvSpPr>
                <p:cNvPr id="787" name="Oval 826"/>
                <p:cNvSpPr/>
                <p:nvPr/>
              </p:nvSpPr>
              <p:spPr>
                <a:xfrm rot="1320000">
                  <a:off x="87800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Oval 827"/>
                <p:cNvSpPr/>
                <p:nvPr/>
              </p:nvSpPr>
              <p:spPr>
                <a:xfrm rot="6720000">
                  <a:off x="8779680" y="5297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Group 828"/>
              <p:cNvGrpSpPr/>
              <p:nvPr/>
            </p:nvGrpSpPr>
            <p:grpSpPr>
              <a:xfrm>
                <a:off x="8778240" y="5156280"/>
                <a:ext cx="366480" cy="366480"/>
                <a:chOff x="8778240" y="5156280"/>
                <a:chExt cx="366480" cy="366480"/>
              </a:xfrm>
            </p:grpSpPr>
            <p:sp>
              <p:nvSpPr>
                <p:cNvPr id="790" name="Oval 829"/>
                <p:cNvSpPr/>
                <p:nvPr/>
              </p:nvSpPr>
              <p:spPr>
                <a:xfrm rot="4020000">
                  <a:off x="8780040" y="5298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Oval 830"/>
                <p:cNvSpPr/>
                <p:nvPr/>
              </p:nvSpPr>
              <p:spPr>
                <a:xfrm rot="9420000">
                  <a:off x="8779680" y="5297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Oval 831"/>
            <p:cNvSpPr/>
            <p:nvPr/>
          </p:nvSpPr>
          <p:spPr>
            <a:xfrm>
              <a:off x="8902440" y="5285880"/>
              <a:ext cx="118800" cy="105840"/>
            </a:xfrm>
            <a:prstGeom prst="ellipse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999"/>
          <p:cNvGrpSpPr/>
          <p:nvPr/>
        </p:nvGrpSpPr>
        <p:grpSpPr>
          <a:xfrm>
            <a:off x="-576720" y="-431280"/>
            <a:ext cx="2798280" cy="1760760"/>
            <a:chOff x="-576720" y="-431280"/>
            <a:chExt cx="2798280" cy="1760760"/>
          </a:xfrm>
        </p:grpSpPr>
        <p:sp>
          <p:nvSpPr>
            <p:cNvPr id="794" name="Freeform 1000"/>
            <p:cNvSpPr/>
            <p:nvPr/>
          </p:nvSpPr>
          <p:spPr>
            <a:xfrm flipH="1" rot="7023600">
              <a:off x="739800" y="-576720"/>
              <a:ext cx="275040" cy="215640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001"/>
            <p:cNvSpPr/>
            <p:nvPr/>
          </p:nvSpPr>
          <p:spPr>
            <a:xfrm flipH="1" rot="7023600">
              <a:off x="-110880" y="98640"/>
              <a:ext cx="30600" cy="8316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Group 1002"/>
            <p:cNvGrpSpPr/>
            <p:nvPr/>
          </p:nvGrpSpPr>
          <p:grpSpPr>
            <a:xfrm>
              <a:off x="-576720" y="73800"/>
              <a:ext cx="857880" cy="716400"/>
              <a:chOff x="-576720" y="73800"/>
              <a:chExt cx="857880" cy="716400"/>
            </a:xfrm>
          </p:grpSpPr>
          <p:grpSp>
            <p:nvGrpSpPr>
              <p:cNvPr id="797" name="Group 1003"/>
              <p:cNvGrpSpPr/>
              <p:nvPr/>
            </p:nvGrpSpPr>
            <p:grpSpPr>
              <a:xfrm>
                <a:off x="-576720" y="73800"/>
                <a:ext cx="825120" cy="716400"/>
                <a:chOff x="-576720" y="73800"/>
                <a:chExt cx="825120" cy="716400"/>
              </a:xfrm>
            </p:grpSpPr>
            <p:sp>
              <p:nvSpPr>
                <p:cNvPr id="798" name="Freeform 1004"/>
                <p:cNvSpPr/>
                <p:nvPr/>
              </p:nvSpPr>
              <p:spPr>
                <a:xfrm flipH="1" rot="6883200">
                  <a:off x="-376200" y="91800"/>
                  <a:ext cx="424440" cy="712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005"/>
                <p:cNvSpPr/>
                <p:nvPr/>
              </p:nvSpPr>
              <p:spPr>
                <a:xfrm flipH="1" rot="6883200">
                  <a:off x="-313560" y="274320"/>
                  <a:ext cx="359640" cy="3387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006"/>
                <p:cNvSpPr/>
                <p:nvPr/>
              </p:nvSpPr>
              <p:spPr>
                <a:xfrm flipH="1" rot="6883200">
                  <a:off x="-340200" y="189000"/>
                  <a:ext cx="523800" cy="4208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007"/>
                <p:cNvSpPr/>
                <p:nvPr/>
              </p:nvSpPr>
              <p:spPr>
                <a:xfrm flipH="1" rot="6883200">
                  <a:off x="-250920" y="469080"/>
                  <a:ext cx="170280" cy="41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008"/>
                <p:cNvSpPr/>
                <p:nvPr/>
              </p:nvSpPr>
              <p:spPr>
                <a:xfrm flipH="1" rot="6883200">
                  <a:off x="-140040" y="415440"/>
                  <a:ext cx="219960" cy="15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009"/>
                <p:cNvSpPr/>
                <p:nvPr/>
              </p:nvSpPr>
              <p:spPr>
                <a:xfrm flipH="1" rot="6883200">
                  <a:off x="-67680" y="384840"/>
                  <a:ext cx="242640" cy="2059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010"/>
                <p:cNvSpPr/>
                <p:nvPr/>
              </p:nvSpPr>
              <p:spPr>
                <a:xfrm flipH="1" rot="6883200">
                  <a:off x="-292680" y="492480"/>
                  <a:ext cx="100800" cy="262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011"/>
                <p:cNvSpPr/>
                <p:nvPr/>
              </p:nvSpPr>
              <p:spPr>
                <a:xfrm flipH="1" rot="6883200">
                  <a:off x="-337680" y="520560"/>
                  <a:ext cx="52560" cy="104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012"/>
                <p:cNvSpPr/>
                <p:nvPr/>
              </p:nvSpPr>
              <p:spPr>
                <a:xfrm flipH="1" rot="6883200">
                  <a:off x="-351000" y="458640"/>
                  <a:ext cx="38520" cy="734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013"/>
                <p:cNvSpPr/>
                <p:nvPr/>
              </p:nvSpPr>
              <p:spPr>
                <a:xfrm flipH="1" rot="6883200">
                  <a:off x="-339120" y="390960"/>
                  <a:ext cx="67320" cy="1346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1014"/>
                <p:cNvSpPr/>
                <p:nvPr/>
              </p:nvSpPr>
              <p:spPr>
                <a:xfrm flipH="1" rot="6883200">
                  <a:off x="-321120" y="283320"/>
                  <a:ext cx="107640" cy="2372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015"/>
                <p:cNvSpPr/>
                <p:nvPr/>
              </p:nvSpPr>
              <p:spPr>
                <a:xfrm flipH="1" rot="6883200">
                  <a:off x="-287640" y="167040"/>
                  <a:ext cx="115920" cy="3463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1016"/>
                <p:cNvSpPr/>
                <p:nvPr/>
              </p:nvSpPr>
              <p:spPr>
                <a:xfrm flipH="1" rot="6883200">
                  <a:off x="-339120" y="227520"/>
                  <a:ext cx="12600" cy="1378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017"/>
                <p:cNvSpPr/>
                <p:nvPr/>
              </p:nvSpPr>
              <p:spPr>
                <a:xfrm flipH="1" rot="6883200">
                  <a:off x="-228600" y="64800"/>
                  <a:ext cx="79920" cy="4266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1018"/>
                <p:cNvSpPr/>
                <p:nvPr/>
              </p:nvSpPr>
              <p:spPr>
                <a:xfrm flipH="1" rot="6883200">
                  <a:off x="-256320" y="314280"/>
                  <a:ext cx="59400" cy="676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019"/>
                <p:cNvSpPr/>
                <p:nvPr/>
              </p:nvSpPr>
              <p:spPr>
                <a:xfrm flipH="1" rot="6883200">
                  <a:off x="-354600" y="329040"/>
                  <a:ext cx="28800" cy="1087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1020"/>
                <p:cNvSpPr/>
                <p:nvPr/>
              </p:nvSpPr>
              <p:spPr>
                <a:xfrm flipH="1" rot="6883200">
                  <a:off x="-207000" y="497520"/>
                  <a:ext cx="62640" cy="234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021"/>
                <p:cNvSpPr/>
                <p:nvPr/>
              </p:nvSpPr>
              <p:spPr>
                <a:xfrm flipH="1" rot="6883200">
                  <a:off x="-166680" y="522000"/>
                  <a:ext cx="38520" cy="421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022"/>
                <p:cNvSpPr/>
                <p:nvPr/>
              </p:nvSpPr>
              <p:spPr>
                <a:xfrm flipH="1" rot="6883200">
                  <a:off x="-300960" y="339840"/>
                  <a:ext cx="12600" cy="2592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1023"/>
                <p:cNvSpPr/>
                <p:nvPr/>
              </p:nvSpPr>
              <p:spPr>
                <a:xfrm flipH="1" rot="6883200">
                  <a:off x="-96120" y="524160"/>
                  <a:ext cx="11160" cy="1512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1024"/>
                <p:cNvSpPr/>
                <p:nvPr/>
              </p:nvSpPr>
              <p:spPr>
                <a:xfrm flipH="1" rot="6883200">
                  <a:off x="1440" y="519480"/>
                  <a:ext cx="12600" cy="205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1025"/>
                <p:cNvSpPr/>
                <p:nvPr/>
              </p:nvSpPr>
              <p:spPr>
                <a:xfrm flipH="1" rot="6883200">
                  <a:off x="-230400" y="557640"/>
                  <a:ext cx="9720" cy="93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0" name="Group 1026"/>
              <p:cNvGrpSpPr/>
              <p:nvPr/>
            </p:nvGrpSpPr>
            <p:grpSpPr>
              <a:xfrm>
                <a:off x="216720" y="231480"/>
                <a:ext cx="64440" cy="51840"/>
                <a:chOff x="216720" y="231480"/>
                <a:chExt cx="64440" cy="51840"/>
              </a:xfrm>
            </p:grpSpPr>
            <p:sp>
              <p:nvSpPr>
                <p:cNvPr id="821" name="Freeform 1027"/>
                <p:cNvSpPr/>
                <p:nvPr/>
              </p:nvSpPr>
              <p:spPr>
                <a:xfrm flipH="1" rot="11248200">
                  <a:off x="218880" y="234720"/>
                  <a:ext cx="59040" cy="44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028"/>
                <p:cNvSpPr/>
                <p:nvPr/>
              </p:nvSpPr>
              <p:spPr>
                <a:xfrm flipH="1" rot="14895000">
                  <a:off x="226080" y="236520"/>
                  <a:ext cx="22680" cy="360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Group 1029"/>
            <p:cNvGrpSpPr/>
            <p:nvPr/>
          </p:nvGrpSpPr>
          <p:grpSpPr>
            <a:xfrm>
              <a:off x="48240" y="206640"/>
              <a:ext cx="913320" cy="833400"/>
              <a:chOff x="48240" y="206640"/>
              <a:chExt cx="913320" cy="833400"/>
            </a:xfrm>
          </p:grpSpPr>
          <p:grpSp>
            <p:nvGrpSpPr>
              <p:cNvPr id="824" name="Group 1030"/>
              <p:cNvGrpSpPr/>
              <p:nvPr/>
            </p:nvGrpSpPr>
            <p:grpSpPr>
              <a:xfrm>
                <a:off x="48240" y="206640"/>
                <a:ext cx="913320" cy="833400"/>
                <a:chOff x="48240" y="206640"/>
                <a:chExt cx="913320" cy="833400"/>
              </a:xfrm>
            </p:grpSpPr>
            <p:sp>
              <p:nvSpPr>
                <p:cNvPr id="825" name="Freeform 1031"/>
                <p:cNvSpPr/>
                <p:nvPr/>
              </p:nvSpPr>
              <p:spPr>
                <a:xfrm flipH="1" rot="2120400">
                  <a:off x="210600" y="441360"/>
                  <a:ext cx="686520" cy="44028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1032"/>
                <p:cNvSpPr/>
                <p:nvPr/>
              </p:nvSpPr>
              <p:spPr>
                <a:xfrm flipH="1" rot="2120400">
                  <a:off x="249120" y="527400"/>
                  <a:ext cx="582120" cy="209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033"/>
                <p:cNvSpPr/>
                <p:nvPr/>
              </p:nvSpPr>
              <p:spPr>
                <a:xfrm flipH="1" rot="2120400">
                  <a:off x="45360" y="427680"/>
                  <a:ext cx="847440" cy="260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1034"/>
                <p:cNvSpPr/>
                <p:nvPr/>
              </p:nvSpPr>
              <p:spPr>
                <a:xfrm flipH="1" rot="2120400">
                  <a:off x="473040" y="677160"/>
                  <a:ext cx="275400" cy="2520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1035"/>
                <p:cNvSpPr/>
                <p:nvPr/>
              </p:nvSpPr>
              <p:spPr>
                <a:xfrm flipH="1" rot="2120400">
                  <a:off x="406080" y="529200"/>
                  <a:ext cx="356040" cy="961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1036"/>
                <p:cNvSpPr/>
                <p:nvPr/>
              </p:nvSpPr>
              <p:spPr>
                <a:xfrm flipH="1" rot="2120400">
                  <a:off x="361080" y="437760"/>
                  <a:ext cx="392760" cy="127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037"/>
                <p:cNvSpPr/>
                <p:nvPr/>
              </p:nvSpPr>
              <p:spPr>
                <a:xfrm flipH="1" rot="2120400">
                  <a:off x="567360" y="756360"/>
                  <a:ext cx="163080" cy="162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1038"/>
                <p:cNvSpPr/>
                <p:nvPr/>
              </p:nvSpPr>
              <p:spPr>
                <a:xfrm flipH="1" rot="2120400">
                  <a:off x="648360" y="832680"/>
                  <a:ext cx="85320" cy="68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1039"/>
                <p:cNvSpPr/>
                <p:nvPr/>
              </p:nvSpPr>
              <p:spPr>
                <a:xfrm flipH="1" rot="2120400">
                  <a:off x="624240" y="811800"/>
                  <a:ext cx="62280" cy="450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1040"/>
                <p:cNvSpPr/>
                <p:nvPr/>
              </p:nvSpPr>
              <p:spPr>
                <a:xfrm flipH="1" rot="2120400">
                  <a:off x="543600" y="747000"/>
                  <a:ext cx="109080" cy="83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041"/>
                <p:cNvSpPr/>
                <p:nvPr/>
              </p:nvSpPr>
              <p:spPr>
                <a:xfrm flipH="1" rot="2120400">
                  <a:off x="426960" y="646200"/>
                  <a:ext cx="174960" cy="1465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1042"/>
                <p:cNvSpPr/>
                <p:nvPr/>
              </p:nvSpPr>
              <p:spPr>
                <a:xfrm flipH="1" rot="2120400">
                  <a:off x="329040" y="541800"/>
                  <a:ext cx="187560" cy="213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043"/>
                <p:cNvSpPr/>
                <p:nvPr/>
              </p:nvSpPr>
              <p:spPr>
                <a:xfrm flipH="1" rot="2120400">
                  <a:off x="377280" y="665640"/>
                  <a:ext cx="20520" cy="85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044"/>
                <p:cNvSpPr/>
                <p:nvPr/>
              </p:nvSpPr>
              <p:spPr>
                <a:xfrm flipH="1" rot="2120400">
                  <a:off x="264960" y="442080"/>
                  <a:ext cx="129600" cy="2635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1045"/>
                <p:cNvSpPr/>
                <p:nvPr/>
              </p:nvSpPr>
              <p:spPr>
                <a:xfrm flipH="1" rot="2120400">
                  <a:off x="385200" y="630360"/>
                  <a:ext cx="96120" cy="414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1046"/>
                <p:cNvSpPr/>
                <p:nvPr/>
              </p:nvSpPr>
              <p:spPr>
                <a:xfrm flipH="1" rot="2120400">
                  <a:off x="482760" y="736200"/>
                  <a:ext cx="46440" cy="67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1047"/>
                <p:cNvSpPr/>
                <p:nvPr/>
              </p:nvSpPr>
              <p:spPr>
                <a:xfrm flipH="1" rot="2120400">
                  <a:off x="588600" y="703800"/>
                  <a:ext cx="101160" cy="144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048"/>
                <p:cNvSpPr/>
                <p:nvPr/>
              </p:nvSpPr>
              <p:spPr>
                <a:xfrm flipH="1" rot="2120400">
                  <a:off x="646920" y="695880"/>
                  <a:ext cx="62280" cy="255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1049"/>
                <p:cNvSpPr/>
                <p:nvPr/>
              </p:nvSpPr>
              <p:spPr>
                <a:xfrm flipH="1" rot="2120400">
                  <a:off x="444240" y="703800"/>
                  <a:ext cx="20520" cy="158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1050"/>
                <p:cNvSpPr/>
                <p:nvPr/>
              </p:nvSpPr>
              <p:spPr>
                <a:xfrm flipH="1" rot="2120400">
                  <a:off x="639360" y="647640"/>
                  <a:ext cx="18000" cy="93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1051"/>
                <p:cNvSpPr/>
                <p:nvPr/>
              </p:nvSpPr>
              <p:spPr>
                <a:xfrm flipH="1" rot="2120400">
                  <a:off x="613800" y="561600"/>
                  <a:ext cx="20520" cy="129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052"/>
                <p:cNvSpPr/>
                <p:nvPr/>
              </p:nvSpPr>
              <p:spPr>
                <a:xfrm flipH="1" rot="2120400">
                  <a:off x="712800" y="783720"/>
                  <a:ext cx="15840" cy="57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7" name="Group 1053"/>
              <p:cNvGrpSpPr/>
              <p:nvPr/>
            </p:nvGrpSpPr>
            <p:grpSpPr>
              <a:xfrm>
                <a:off x="219960" y="267480"/>
                <a:ext cx="80280" cy="56880"/>
                <a:chOff x="219960" y="267480"/>
                <a:chExt cx="80280" cy="56880"/>
              </a:xfrm>
            </p:grpSpPr>
            <p:sp>
              <p:nvSpPr>
                <p:cNvPr id="848" name="Freeform 1054"/>
                <p:cNvSpPr/>
                <p:nvPr/>
              </p:nvSpPr>
              <p:spPr>
                <a:xfrm flipH="1" rot="6484800">
                  <a:off x="241560" y="259200"/>
                  <a:ext cx="36360" cy="7272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055"/>
                <p:cNvSpPr/>
                <p:nvPr/>
              </p:nvSpPr>
              <p:spPr>
                <a:xfrm flipH="1" rot="10131600">
                  <a:off x="237240" y="29052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0" name="Group 1056"/>
            <p:cNvGrpSpPr/>
            <p:nvPr/>
          </p:nvGrpSpPr>
          <p:grpSpPr>
            <a:xfrm>
              <a:off x="15840" y="-431280"/>
              <a:ext cx="1297080" cy="973440"/>
              <a:chOff x="15840" y="-431280"/>
              <a:chExt cx="1297080" cy="973440"/>
            </a:xfrm>
          </p:grpSpPr>
          <p:grpSp>
            <p:nvGrpSpPr>
              <p:cNvPr id="851" name="Group 1057"/>
              <p:cNvGrpSpPr/>
              <p:nvPr/>
            </p:nvGrpSpPr>
            <p:grpSpPr>
              <a:xfrm>
                <a:off x="15840" y="-431280"/>
                <a:ext cx="764280" cy="776160"/>
                <a:chOff x="15840" y="-431280"/>
                <a:chExt cx="764280" cy="776160"/>
              </a:xfrm>
            </p:grpSpPr>
            <p:grpSp>
              <p:nvGrpSpPr>
                <p:cNvPr id="852" name="Group 1058"/>
                <p:cNvGrpSpPr/>
                <p:nvPr/>
              </p:nvGrpSpPr>
              <p:grpSpPr>
                <a:xfrm>
                  <a:off x="15840" y="-431280"/>
                  <a:ext cx="764280" cy="726840"/>
                  <a:chOff x="15840" y="-431280"/>
                  <a:chExt cx="764280" cy="726840"/>
                </a:xfrm>
              </p:grpSpPr>
              <p:sp>
                <p:nvSpPr>
                  <p:cNvPr id="853" name="Freeform 1059"/>
                  <p:cNvSpPr/>
                  <p:nvPr/>
                </p:nvSpPr>
                <p:spPr>
                  <a:xfrm rot="7164000">
                    <a:off x="202680" y="-428400"/>
                    <a:ext cx="390240" cy="65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Freeform 1060"/>
                  <p:cNvSpPr/>
                  <p:nvPr/>
                </p:nvSpPr>
                <p:spPr>
                  <a:xfrm rot="7164000">
                    <a:off x="245160" y="-230400"/>
                    <a:ext cx="33084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Freeform 1061"/>
                  <p:cNvSpPr/>
                  <p:nvPr/>
                </p:nvSpPr>
                <p:spPr>
                  <a:xfrm rot="7164000">
                    <a:off x="167040" y="-204120"/>
                    <a:ext cx="481680" cy="38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Freeform 1062"/>
                  <p:cNvSpPr/>
                  <p:nvPr/>
                </p:nvSpPr>
                <p:spPr>
                  <a:xfrm rot="7164000">
                    <a:off x="349560" y="-143280"/>
                    <a:ext cx="1566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Freeform 1063"/>
                  <p:cNvSpPr/>
                  <p:nvPr/>
                </p:nvSpPr>
                <p:spPr>
                  <a:xfrm rot="7164000">
                    <a:off x="402840" y="-96120"/>
                    <a:ext cx="2023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Freeform 1064"/>
                  <p:cNvSpPr/>
                  <p:nvPr/>
                </p:nvSpPr>
                <p:spPr>
                  <a:xfrm rot="7164000">
                    <a:off x="433800" y="-53280"/>
                    <a:ext cx="2232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Freeform 1065"/>
                  <p:cNvSpPr/>
                  <p:nvPr/>
                </p:nvSpPr>
                <p:spPr>
                  <a:xfrm rot="7164000">
                    <a:off x="351360" y="-201240"/>
                    <a:ext cx="928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Freeform 1066"/>
                  <p:cNvSpPr/>
                  <p:nvPr/>
                </p:nvSpPr>
                <p:spPr>
                  <a:xfrm rot="7164000">
                    <a:off x="351360" y="-255600"/>
                    <a:ext cx="4860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Freeform 1067"/>
                  <p:cNvSpPr/>
                  <p:nvPr/>
                </p:nvSpPr>
                <p:spPr>
                  <a:xfrm rot="7164000">
                    <a:off x="324720" y="-283680"/>
                    <a:ext cx="35280" cy="67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Freeform 1068"/>
                  <p:cNvSpPr/>
                  <p:nvPr/>
                </p:nvSpPr>
                <p:spPr>
                  <a:xfrm rot="7164000">
                    <a:off x="297000" y="-272880"/>
                    <a:ext cx="61920" cy="124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Freeform 1069"/>
                  <p:cNvSpPr/>
                  <p:nvPr/>
                </p:nvSpPr>
                <p:spPr>
                  <a:xfrm rot="7164000">
                    <a:off x="258120" y="-261360"/>
                    <a:ext cx="99000" cy="218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Freeform 1070"/>
                  <p:cNvSpPr/>
                  <p:nvPr/>
                </p:nvSpPr>
                <p:spPr>
                  <a:xfrm rot="7164000">
                    <a:off x="227880" y="-250560"/>
                    <a:ext cx="106560" cy="31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Freeform 1071"/>
                  <p:cNvSpPr/>
                  <p:nvPr/>
                </p:nvSpPr>
                <p:spPr>
                  <a:xfrm rot="7164000">
                    <a:off x="187560" y="-208080"/>
                    <a:ext cx="115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Freeform 1072"/>
                  <p:cNvSpPr/>
                  <p:nvPr/>
                </p:nvSpPr>
                <p:spPr>
                  <a:xfrm rot="7164000">
                    <a:off x="220680" y="-223200"/>
                    <a:ext cx="73440" cy="3934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Freeform 1073"/>
                  <p:cNvSpPr/>
                  <p:nvPr/>
                </p:nvSpPr>
                <p:spPr>
                  <a:xfrm rot="7164000">
                    <a:off x="262080" y="-123480"/>
                    <a:ext cx="543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Freeform 1074"/>
                  <p:cNvSpPr/>
                  <p:nvPr/>
                </p:nvSpPr>
                <p:spPr>
                  <a:xfrm rot="7164000">
                    <a:off x="240840" y="-246600"/>
                    <a:ext cx="2628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Freeform 1075"/>
                  <p:cNvSpPr/>
                  <p:nvPr/>
                </p:nvSpPr>
                <p:spPr>
                  <a:xfrm rot="7164000">
                    <a:off x="407520" y="-152640"/>
                    <a:ext cx="576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Freeform 1076"/>
                  <p:cNvSpPr/>
                  <p:nvPr/>
                </p:nvSpPr>
                <p:spPr>
                  <a:xfrm rot="7164000">
                    <a:off x="459720" y="-157680"/>
                    <a:ext cx="352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Freeform 1077"/>
                  <p:cNvSpPr/>
                  <p:nvPr/>
                </p:nvSpPr>
                <p:spPr>
                  <a:xfrm rot="7164000">
                    <a:off x="250200" y="-158040"/>
                    <a:ext cx="11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Freeform 1078"/>
                  <p:cNvSpPr/>
                  <p:nvPr/>
                </p:nvSpPr>
                <p:spPr>
                  <a:xfrm rot="7164000">
                    <a:off x="495000" y="-96840"/>
                    <a:ext cx="1008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Freeform 1079"/>
                  <p:cNvSpPr/>
                  <p:nvPr/>
                </p:nvSpPr>
                <p:spPr>
                  <a:xfrm rot="7164000">
                    <a:off x="545760" y="-25200"/>
                    <a:ext cx="115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Freeform 1080"/>
                  <p:cNvSpPr/>
                  <p:nvPr/>
                </p:nvSpPr>
                <p:spPr>
                  <a:xfrm rot="7164000">
                    <a:off x="444960" y="-210960"/>
                    <a:ext cx="90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5" name="Group 1081"/>
                <p:cNvGrpSpPr/>
                <p:nvPr/>
              </p:nvGrpSpPr>
              <p:grpSpPr>
                <a:xfrm>
                  <a:off x="444960" y="277200"/>
                  <a:ext cx="67320" cy="67680"/>
                  <a:chOff x="444960" y="277200"/>
                  <a:chExt cx="67320" cy="67680"/>
                </a:xfrm>
              </p:grpSpPr>
              <p:sp>
                <p:nvSpPr>
                  <p:cNvPr id="876" name="Freeform 1082"/>
                  <p:cNvSpPr/>
                  <p:nvPr/>
                </p:nvSpPr>
                <p:spPr>
                  <a:xfrm rot="2799000">
                    <a:off x="451080" y="290520"/>
                    <a:ext cx="543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Freeform 1083"/>
                  <p:cNvSpPr/>
                  <p:nvPr/>
                </p:nvSpPr>
                <p:spPr>
                  <a:xfrm rot="20752800">
                    <a:off x="460080" y="288000"/>
                    <a:ext cx="208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8" name="Group 1084"/>
              <p:cNvGrpSpPr/>
              <p:nvPr/>
            </p:nvGrpSpPr>
            <p:grpSpPr>
              <a:xfrm>
                <a:off x="450720" y="33480"/>
                <a:ext cx="862200" cy="508680"/>
                <a:chOff x="450720" y="33480"/>
                <a:chExt cx="862200" cy="508680"/>
              </a:xfrm>
            </p:grpSpPr>
            <p:grpSp>
              <p:nvGrpSpPr>
                <p:cNvPr id="879" name="Group 1085"/>
                <p:cNvGrpSpPr/>
                <p:nvPr/>
              </p:nvGrpSpPr>
              <p:grpSpPr>
                <a:xfrm>
                  <a:off x="450720" y="33480"/>
                  <a:ext cx="862200" cy="508680"/>
                  <a:chOff x="450720" y="33480"/>
                  <a:chExt cx="862200" cy="508680"/>
                </a:xfrm>
              </p:grpSpPr>
              <p:sp>
                <p:nvSpPr>
                  <p:cNvPr id="880" name="Freeform 1086"/>
                  <p:cNvSpPr/>
                  <p:nvPr/>
                </p:nvSpPr>
                <p:spPr>
                  <a:xfrm rot="11388000">
                    <a:off x="660240" y="83160"/>
                    <a:ext cx="622440" cy="40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Freeform 1087"/>
                  <p:cNvSpPr/>
                  <p:nvPr/>
                </p:nvSpPr>
                <p:spPr>
                  <a:xfrm rot="11388000">
                    <a:off x="679320" y="200880"/>
                    <a:ext cx="52776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Freeform 1088"/>
                  <p:cNvSpPr/>
                  <p:nvPr/>
                </p:nvSpPr>
                <p:spPr>
                  <a:xfrm rot="11388000">
                    <a:off x="465480" y="178920"/>
                    <a:ext cx="76824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Freeform 1089"/>
                  <p:cNvSpPr/>
                  <p:nvPr/>
                </p:nvSpPr>
                <p:spPr>
                  <a:xfrm rot="11388000">
                    <a:off x="900720" y="294840"/>
                    <a:ext cx="2494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Freeform 1090"/>
                  <p:cNvSpPr/>
                  <p:nvPr/>
                </p:nvSpPr>
                <p:spPr>
                  <a:xfrm rot="11388000">
                    <a:off x="773640" y="318240"/>
                    <a:ext cx="32292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Freeform 1091"/>
                  <p:cNvSpPr/>
                  <p:nvPr/>
                </p:nvSpPr>
                <p:spPr>
                  <a:xfrm rot="11388000">
                    <a:off x="693000" y="335880"/>
                    <a:ext cx="35568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Freeform 1092"/>
                  <p:cNvSpPr/>
                  <p:nvPr/>
                </p:nvSpPr>
                <p:spPr>
                  <a:xfrm rot="11388000">
                    <a:off x="1024200" y="275040"/>
                    <a:ext cx="1479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Freeform 1093"/>
                  <p:cNvSpPr/>
                  <p:nvPr/>
                </p:nvSpPr>
                <p:spPr>
                  <a:xfrm rot="11388000">
                    <a:off x="1132200" y="260640"/>
                    <a:ext cx="7740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Freeform 1094"/>
                  <p:cNvSpPr/>
                  <p:nvPr/>
                </p:nvSpPr>
                <p:spPr>
                  <a:xfrm rot="11388000">
                    <a:off x="1119240" y="219960"/>
                    <a:ext cx="5652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Freeform 1095"/>
                  <p:cNvSpPr/>
                  <p:nvPr/>
                </p:nvSpPr>
                <p:spPr>
                  <a:xfrm rot="11388000">
                    <a:off x="1031760" y="195840"/>
                    <a:ext cx="9864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Freeform 1096"/>
                  <p:cNvSpPr/>
                  <p:nvPr/>
                </p:nvSpPr>
                <p:spPr>
                  <a:xfrm rot="11388000">
                    <a:off x="905040" y="156240"/>
                    <a:ext cx="158040" cy="13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Freeform 1097"/>
                  <p:cNvSpPr/>
                  <p:nvPr/>
                </p:nvSpPr>
                <p:spPr>
                  <a:xfrm rot="11388000">
                    <a:off x="794160" y="111240"/>
                    <a:ext cx="16992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Freeform 1098"/>
                  <p:cNvSpPr/>
                  <p:nvPr/>
                </p:nvSpPr>
                <p:spPr>
                  <a:xfrm rot="11388000">
                    <a:off x="885600" y="108720"/>
                    <a:ext cx="183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Freeform 1099"/>
                  <p:cNvSpPr/>
                  <p:nvPr/>
                </p:nvSpPr>
                <p:spPr>
                  <a:xfrm rot="11388000">
                    <a:off x="712440" y="76320"/>
                    <a:ext cx="117360" cy="24480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Freeform 1100"/>
                  <p:cNvSpPr/>
                  <p:nvPr/>
                </p:nvSpPr>
                <p:spPr>
                  <a:xfrm rot="11388000">
                    <a:off x="843120" y="196200"/>
                    <a:ext cx="87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Freeform 1101"/>
                  <p:cNvSpPr/>
                  <p:nvPr/>
                </p:nvSpPr>
                <p:spPr>
                  <a:xfrm rot="11388000">
                    <a:off x="988920" y="154440"/>
                    <a:ext cx="42120" cy="6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840" bIns="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Freeform 1102"/>
                  <p:cNvSpPr/>
                  <p:nvPr/>
                </p:nvSpPr>
                <p:spPr>
                  <a:xfrm rot="11388000">
                    <a:off x="1010880" y="304560"/>
                    <a:ext cx="9216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Freeform 1103"/>
                  <p:cNvSpPr/>
                  <p:nvPr/>
                </p:nvSpPr>
                <p:spPr>
                  <a:xfrm rot="11388000">
                    <a:off x="1051560" y="327240"/>
                    <a:ext cx="565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Freeform 1104"/>
                  <p:cNvSpPr/>
                  <p:nvPr/>
                </p:nvSpPr>
                <p:spPr>
                  <a:xfrm rot="11388000">
                    <a:off x="930960" y="182160"/>
                    <a:ext cx="183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1105"/>
                  <p:cNvSpPr/>
                  <p:nvPr/>
                </p:nvSpPr>
                <p:spPr>
                  <a:xfrm rot="11388000">
                    <a:off x="1017000" y="352080"/>
                    <a:ext cx="165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1106"/>
                  <p:cNvSpPr/>
                  <p:nvPr/>
                </p:nvSpPr>
                <p:spPr>
                  <a:xfrm rot="11388000">
                    <a:off x="946080" y="389880"/>
                    <a:ext cx="1836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1107"/>
                  <p:cNvSpPr/>
                  <p:nvPr/>
                </p:nvSpPr>
                <p:spPr>
                  <a:xfrm rot="11388000">
                    <a:off x="1150560" y="313200"/>
                    <a:ext cx="1440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2" name="Group 1108"/>
                <p:cNvGrpSpPr/>
                <p:nvPr/>
              </p:nvGrpSpPr>
              <p:grpSpPr>
                <a:xfrm>
                  <a:off x="507960" y="307440"/>
                  <a:ext cx="74160" cy="60480"/>
                  <a:chOff x="507960" y="307440"/>
                  <a:chExt cx="74160" cy="60480"/>
                </a:xfrm>
              </p:grpSpPr>
              <p:sp>
                <p:nvSpPr>
                  <p:cNvPr id="903" name="Freeform 1109"/>
                  <p:cNvSpPr/>
                  <p:nvPr/>
                </p:nvSpPr>
                <p:spPr>
                  <a:xfrm rot="7023600">
                    <a:off x="527760" y="304560"/>
                    <a:ext cx="342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Freeform 1110"/>
                  <p:cNvSpPr/>
                  <p:nvPr/>
                </p:nvSpPr>
                <p:spPr>
                  <a:xfrm rot="3376800">
                    <a:off x="529200" y="320040"/>
                    <a:ext cx="331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05" name="Group 1111"/>
            <p:cNvGrpSpPr/>
            <p:nvPr/>
          </p:nvGrpSpPr>
          <p:grpSpPr>
            <a:xfrm>
              <a:off x="1062000" y="537480"/>
              <a:ext cx="749160" cy="784800"/>
              <a:chOff x="1062000" y="537480"/>
              <a:chExt cx="749160" cy="784800"/>
            </a:xfrm>
          </p:grpSpPr>
          <p:grpSp>
            <p:nvGrpSpPr>
              <p:cNvPr id="906" name="Group 1112"/>
              <p:cNvGrpSpPr/>
              <p:nvPr/>
            </p:nvGrpSpPr>
            <p:grpSpPr>
              <a:xfrm>
                <a:off x="1062000" y="537480"/>
                <a:ext cx="749160" cy="784800"/>
                <a:chOff x="1062000" y="537480"/>
                <a:chExt cx="749160" cy="784800"/>
              </a:xfrm>
            </p:grpSpPr>
            <p:sp>
              <p:nvSpPr>
                <p:cNvPr id="907" name="Freeform 1113"/>
                <p:cNvSpPr/>
                <p:nvPr/>
              </p:nvSpPr>
              <p:spPr>
                <a:xfrm flipH="1" rot="2658600">
                  <a:off x="1164960" y="785160"/>
                  <a:ext cx="596880" cy="38268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114"/>
                <p:cNvSpPr/>
                <p:nvPr/>
              </p:nvSpPr>
              <p:spPr>
                <a:xfrm flipH="1" rot="2658600">
                  <a:off x="1202040" y="858600"/>
                  <a:ext cx="506160" cy="1818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1115"/>
                <p:cNvSpPr/>
                <p:nvPr/>
              </p:nvSpPr>
              <p:spPr>
                <a:xfrm flipH="1" rot="2658600">
                  <a:off x="1035360" y="762480"/>
                  <a:ext cx="736920" cy="22572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1116"/>
                <p:cNvSpPr/>
                <p:nvPr/>
              </p:nvSpPr>
              <p:spPr>
                <a:xfrm flipH="1" rot="2658600">
                  <a:off x="1388520" y="996840"/>
                  <a:ext cx="239400" cy="223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117"/>
                <p:cNvSpPr/>
                <p:nvPr/>
              </p:nvSpPr>
              <p:spPr>
                <a:xfrm flipH="1" rot="2658600">
                  <a:off x="1346400" y="865800"/>
                  <a:ext cx="309600" cy="835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1118"/>
                <p:cNvSpPr/>
                <p:nvPr/>
              </p:nvSpPr>
              <p:spPr>
                <a:xfrm flipH="1" rot="2658600">
                  <a:off x="1317240" y="784440"/>
                  <a:ext cx="341640" cy="110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1119"/>
                <p:cNvSpPr/>
                <p:nvPr/>
              </p:nvSpPr>
              <p:spPr>
                <a:xfrm flipH="1" rot="2658600">
                  <a:off x="1460160" y="1069920"/>
                  <a:ext cx="141840" cy="140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1120"/>
                <p:cNvSpPr/>
                <p:nvPr/>
              </p:nvSpPr>
              <p:spPr>
                <a:xfrm flipH="1" rot="2658600">
                  <a:off x="1521000" y="1141200"/>
                  <a:ext cx="7416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121"/>
                <p:cNvSpPr/>
                <p:nvPr/>
              </p:nvSpPr>
              <p:spPr>
                <a:xfrm flipH="1" rot="2658600">
                  <a:off x="1500480" y="1118520"/>
                  <a:ext cx="54360" cy="3888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1122"/>
                <p:cNvSpPr/>
                <p:nvPr/>
              </p:nvSpPr>
              <p:spPr>
                <a:xfrm flipH="1" rot="2658600">
                  <a:off x="1437840" y="1054080"/>
                  <a:ext cx="94680" cy="727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123"/>
                <p:cNvSpPr/>
                <p:nvPr/>
              </p:nvSpPr>
              <p:spPr>
                <a:xfrm flipH="1" rot="2658600">
                  <a:off x="1346400" y="957240"/>
                  <a:ext cx="151560" cy="1270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1124"/>
                <p:cNvSpPr/>
                <p:nvPr/>
              </p:nvSpPr>
              <p:spPr>
                <a:xfrm flipH="1" rot="2658600">
                  <a:off x="1271880" y="854280"/>
                  <a:ext cx="163080" cy="185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125"/>
                <p:cNvSpPr/>
                <p:nvPr/>
              </p:nvSpPr>
              <p:spPr>
                <a:xfrm flipH="1" rot="2658600">
                  <a:off x="1306080" y="956520"/>
                  <a:ext cx="17640" cy="7344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1126"/>
                <p:cNvSpPr/>
                <p:nvPr/>
              </p:nvSpPr>
              <p:spPr>
                <a:xfrm flipH="1" rot="2658600">
                  <a:off x="1226160" y="755280"/>
                  <a:ext cx="112680" cy="2289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1127"/>
                <p:cNvSpPr/>
                <p:nvPr/>
              </p:nvSpPr>
              <p:spPr>
                <a:xfrm flipH="1" rot="2658600">
                  <a:off x="1319040" y="932040"/>
                  <a:ext cx="83520" cy="363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128"/>
                <p:cNvSpPr/>
                <p:nvPr/>
              </p:nvSpPr>
              <p:spPr>
                <a:xfrm flipH="1" rot="2658600">
                  <a:off x="1388160" y="1033200"/>
                  <a:ext cx="40320" cy="58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1129"/>
                <p:cNvSpPr/>
                <p:nvPr/>
              </p:nvSpPr>
              <p:spPr>
                <a:xfrm flipH="1" rot="2658600">
                  <a:off x="1485720" y="1023840"/>
                  <a:ext cx="88200" cy="126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1130"/>
                <p:cNvSpPr/>
                <p:nvPr/>
              </p:nvSpPr>
              <p:spPr>
                <a:xfrm flipH="1" rot="2658600">
                  <a:off x="1536480" y="1021320"/>
                  <a:ext cx="54360" cy="223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1131"/>
                <p:cNvSpPr/>
                <p:nvPr/>
              </p:nvSpPr>
              <p:spPr>
                <a:xfrm flipH="1" rot="2658600">
                  <a:off x="1363320" y="998640"/>
                  <a:ext cx="17640" cy="136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1132"/>
                <p:cNvSpPr/>
                <p:nvPr/>
              </p:nvSpPr>
              <p:spPr>
                <a:xfrm flipH="1" rot="2658600">
                  <a:off x="1538280" y="97704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1133"/>
                <p:cNvSpPr/>
                <p:nvPr/>
              </p:nvSpPr>
              <p:spPr>
                <a:xfrm flipH="1" rot="2658600">
                  <a:off x="1527840" y="89964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134"/>
                <p:cNvSpPr/>
                <p:nvPr/>
              </p:nvSpPr>
              <p:spPr>
                <a:xfrm flipH="1" rot="2658600">
                  <a:off x="1583280" y="1103040"/>
                  <a:ext cx="1368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Group 1135"/>
              <p:cNvGrpSpPr/>
              <p:nvPr/>
            </p:nvGrpSpPr>
            <p:grpSpPr>
              <a:xfrm>
                <a:off x="1226160" y="593640"/>
                <a:ext cx="70560" cy="56880"/>
                <a:chOff x="1226160" y="593640"/>
                <a:chExt cx="70560" cy="56880"/>
              </a:xfrm>
            </p:grpSpPr>
            <p:sp>
              <p:nvSpPr>
                <p:cNvPr id="930" name="Freeform 1136"/>
                <p:cNvSpPr/>
                <p:nvPr/>
              </p:nvSpPr>
              <p:spPr>
                <a:xfrm flipH="1" rot="7023600">
                  <a:off x="1245240" y="590400"/>
                  <a:ext cx="31680" cy="630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137"/>
                <p:cNvSpPr/>
                <p:nvPr/>
              </p:nvSpPr>
              <p:spPr>
                <a:xfrm flipH="1" rot="10670400">
                  <a:off x="1240920" y="616680"/>
                  <a:ext cx="31680" cy="194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2" name="Group 1138"/>
            <p:cNvGrpSpPr/>
            <p:nvPr/>
          </p:nvGrpSpPr>
          <p:grpSpPr>
            <a:xfrm>
              <a:off x="1191960" y="317880"/>
              <a:ext cx="675360" cy="352080"/>
              <a:chOff x="1191960" y="317880"/>
              <a:chExt cx="675360" cy="352080"/>
            </a:xfrm>
          </p:grpSpPr>
          <p:grpSp>
            <p:nvGrpSpPr>
              <p:cNvPr id="933" name="Group 1139"/>
              <p:cNvGrpSpPr/>
              <p:nvPr/>
            </p:nvGrpSpPr>
            <p:grpSpPr>
              <a:xfrm>
                <a:off x="1191960" y="317880"/>
                <a:ext cx="675360" cy="352080"/>
                <a:chOff x="1191960" y="317880"/>
                <a:chExt cx="675360" cy="352080"/>
              </a:xfrm>
            </p:grpSpPr>
            <p:sp>
              <p:nvSpPr>
                <p:cNvPr id="934" name="Freeform 1140"/>
                <p:cNvSpPr/>
                <p:nvPr/>
              </p:nvSpPr>
              <p:spPr>
                <a:xfrm rot="10594800">
                  <a:off x="1350720" y="332280"/>
                  <a:ext cx="507240" cy="32256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1141"/>
                <p:cNvSpPr/>
                <p:nvPr/>
              </p:nvSpPr>
              <p:spPr>
                <a:xfrm rot="10594800">
                  <a:off x="1369080" y="429840"/>
                  <a:ext cx="430200" cy="1530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1142"/>
                <p:cNvSpPr/>
                <p:nvPr/>
              </p:nvSpPr>
              <p:spPr>
                <a:xfrm rot="10594800">
                  <a:off x="1196640" y="429840"/>
                  <a:ext cx="626760" cy="1904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1143"/>
                <p:cNvSpPr/>
                <p:nvPr/>
              </p:nvSpPr>
              <p:spPr>
                <a:xfrm rot="10594800">
                  <a:off x="1549080" y="488880"/>
                  <a:ext cx="203400" cy="187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1144"/>
                <p:cNvSpPr/>
                <p:nvPr/>
              </p:nvSpPr>
              <p:spPr>
                <a:xfrm rot="10594800">
                  <a:off x="1458720" y="523440"/>
                  <a:ext cx="263160" cy="698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1145"/>
                <p:cNvSpPr/>
                <p:nvPr/>
              </p:nvSpPr>
              <p:spPr>
                <a:xfrm rot="10594800">
                  <a:off x="1399320" y="548280"/>
                  <a:ext cx="290160" cy="928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1146"/>
                <p:cNvSpPr/>
                <p:nvPr/>
              </p:nvSpPr>
              <p:spPr>
                <a:xfrm rot="10594800">
                  <a:off x="1644120" y="461160"/>
                  <a:ext cx="120600" cy="118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1147"/>
                <p:cNvSpPr/>
                <p:nvPr/>
              </p:nvSpPr>
              <p:spPr>
                <a:xfrm rot="10594800">
                  <a:off x="1726920" y="436680"/>
                  <a:ext cx="6300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1148"/>
                <p:cNvSpPr/>
                <p:nvPr/>
              </p:nvSpPr>
              <p:spPr>
                <a:xfrm rot="10594800">
                  <a:off x="1712880" y="410040"/>
                  <a:ext cx="46080" cy="324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1149"/>
                <p:cNvSpPr/>
                <p:nvPr/>
              </p:nvSpPr>
              <p:spPr>
                <a:xfrm rot="10594800">
                  <a:off x="1641960" y="402480"/>
                  <a:ext cx="80640" cy="608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1150"/>
                <p:cNvSpPr/>
                <p:nvPr/>
              </p:nvSpPr>
              <p:spPr>
                <a:xfrm rot="10594800">
                  <a:off x="1537560" y="389520"/>
                  <a:ext cx="129240" cy="1069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1151"/>
                <p:cNvSpPr/>
                <p:nvPr/>
              </p:nvSpPr>
              <p:spPr>
                <a:xfrm rot="10594800">
                  <a:off x="1447560" y="372600"/>
                  <a:ext cx="138600" cy="1566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1152"/>
                <p:cNvSpPr/>
                <p:nvPr/>
              </p:nvSpPr>
              <p:spPr>
                <a:xfrm rot="10594800">
                  <a:off x="1509840" y="369720"/>
                  <a:ext cx="15120" cy="619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1153"/>
                <p:cNvSpPr/>
                <p:nvPr/>
              </p:nvSpPr>
              <p:spPr>
                <a:xfrm rot="10594800">
                  <a:off x="1381680" y="365400"/>
                  <a:ext cx="95760" cy="1926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1154"/>
                <p:cNvSpPr/>
                <p:nvPr/>
              </p:nvSpPr>
              <p:spPr>
                <a:xfrm rot="10594800">
                  <a:off x="1488600" y="438480"/>
                  <a:ext cx="70920" cy="306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1155"/>
                <p:cNvSpPr/>
                <p:nvPr/>
              </p:nvSpPr>
              <p:spPr>
                <a:xfrm rot="10594800">
                  <a:off x="1599120" y="384120"/>
                  <a:ext cx="34200" cy="489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1156"/>
                <p:cNvSpPr/>
                <p:nvPr/>
              </p:nvSpPr>
              <p:spPr>
                <a:xfrm rot="10594800">
                  <a:off x="1639440" y="491040"/>
                  <a:ext cx="74880" cy="104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1157"/>
                <p:cNvSpPr/>
                <p:nvPr/>
              </p:nvSpPr>
              <p:spPr>
                <a:xfrm rot="10594800">
                  <a:off x="1677240" y="504000"/>
                  <a:ext cx="46080" cy="187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158"/>
                <p:cNvSpPr/>
                <p:nvPr/>
              </p:nvSpPr>
              <p:spPr>
                <a:xfrm rot="10594800">
                  <a:off x="1554120" y="419040"/>
                  <a:ext cx="1512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159"/>
                <p:cNvSpPr/>
                <p:nvPr/>
              </p:nvSpPr>
              <p:spPr>
                <a:xfrm rot="10594800">
                  <a:off x="1653480" y="532800"/>
                  <a:ext cx="1332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160"/>
                <p:cNvSpPr/>
                <p:nvPr/>
              </p:nvSpPr>
              <p:spPr>
                <a:xfrm rot="10594800">
                  <a:off x="1604160" y="574560"/>
                  <a:ext cx="15120" cy="86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161"/>
                <p:cNvSpPr/>
                <p:nvPr/>
              </p:nvSpPr>
              <p:spPr>
                <a:xfrm rot="10594800">
                  <a:off x="1752120" y="478800"/>
                  <a:ext cx="1152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6" name="Group 1162"/>
              <p:cNvGrpSpPr/>
              <p:nvPr/>
            </p:nvGrpSpPr>
            <p:grpSpPr>
              <a:xfrm>
                <a:off x="1248120" y="587160"/>
                <a:ext cx="58680" cy="39600"/>
                <a:chOff x="1248120" y="587160"/>
                <a:chExt cx="58680" cy="39600"/>
              </a:xfrm>
            </p:grpSpPr>
            <p:sp>
              <p:nvSpPr>
                <p:cNvPr id="957" name="Freeform 1163"/>
                <p:cNvSpPr/>
                <p:nvPr/>
              </p:nvSpPr>
              <p:spPr>
                <a:xfrm rot="6231000">
                  <a:off x="1263960" y="580320"/>
                  <a:ext cx="26640" cy="53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1164"/>
                <p:cNvSpPr/>
                <p:nvPr/>
              </p:nvSpPr>
              <p:spPr>
                <a:xfrm rot="2583600">
                  <a:off x="1263240" y="594000"/>
                  <a:ext cx="27000" cy="162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59" name="Group 1165"/>
            <p:cNvGrpSpPr/>
            <p:nvPr/>
          </p:nvGrpSpPr>
          <p:grpSpPr>
            <a:xfrm>
              <a:off x="1652760" y="805320"/>
              <a:ext cx="568800" cy="524160"/>
              <a:chOff x="1652760" y="805320"/>
              <a:chExt cx="568800" cy="524160"/>
            </a:xfrm>
          </p:grpSpPr>
          <p:grpSp>
            <p:nvGrpSpPr>
              <p:cNvPr id="960" name="Group 1166"/>
              <p:cNvGrpSpPr/>
              <p:nvPr/>
            </p:nvGrpSpPr>
            <p:grpSpPr>
              <a:xfrm>
                <a:off x="1656000" y="805320"/>
                <a:ext cx="565560" cy="524160"/>
                <a:chOff x="1656000" y="805320"/>
                <a:chExt cx="565560" cy="524160"/>
              </a:xfrm>
            </p:grpSpPr>
            <p:sp>
              <p:nvSpPr>
                <p:cNvPr id="961" name="Freeform 1167"/>
                <p:cNvSpPr/>
                <p:nvPr/>
              </p:nvSpPr>
              <p:spPr>
                <a:xfrm rot="15123000">
                  <a:off x="1770480" y="851760"/>
                  <a:ext cx="336240" cy="4856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1168"/>
                <p:cNvSpPr/>
                <p:nvPr/>
              </p:nvSpPr>
              <p:spPr>
                <a:xfrm rot="15123000">
                  <a:off x="1775520" y="971280"/>
                  <a:ext cx="284760" cy="2311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1169"/>
                <p:cNvSpPr/>
                <p:nvPr/>
              </p:nvSpPr>
              <p:spPr>
                <a:xfrm rot="15123000">
                  <a:off x="1675080" y="903240"/>
                  <a:ext cx="414720" cy="287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1170"/>
                <p:cNvSpPr/>
                <p:nvPr/>
              </p:nvSpPr>
              <p:spPr>
                <a:xfrm rot="15123000">
                  <a:off x="1871280" y="1113480"/>
                  <a:ext cx="134640" cy="284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1171"/>
                <p:cNvSpPr/>
                <p:nvPr/>
              </p:nvSpPr>
              <p:spPr>
                <a:xfrm rot="15123000">
                  <a:off x="1757160" y="1059840"/>
                  <a:ext cx="174240" cy="1062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1172"/>
                <p:cNvSpPr/>
                <p:nvPr/>
              </p:nvSpPr>
              <p:spPr>
                <a:xfrm rot="15123000">
                  <a:off x="1690560" y="1028160"/>
                  <a:ext cx="192240" cy="14040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1173"/>
                <p:cNvSpPr/>
                <p:nvPr/>
              </p:nvSpPr>
              <p:spPr>
                <a:xfrm rot="15123000">
                  <a:off x="1950480" y="1139400"/>
                  <a:ext cx="79920" cy="176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1174"/>
                <p:cNvSpPr/>
                <p:nvPr/>
              </p:nvSpPr>
              <p:spPr>
                <a:xfrm rot="15123000">
                  <a:off x="2016000" y="1168560"/>
                  <a:ext cx="41760" cy="72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1175"/>
                <p:cNvSpPr/>
                <p:nvPr/>
              </p:nvSpPr>
              <p:spPr>
                <a:xfrm rot="15123000">
                  <a:off x="2037960" y="1126800"/>
                  <a:ext cx="30600" cy="4968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1176"/>
                <p:cNvSpPr/>
                <p:nvPr/>
              </p:nvSpPr>
              <p:spPr>
                <a:xfrm rot="15123000">
                  <a:off x="2009880" y="1073520"/>
                  <a:ext cx="53280" cy="92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1177"/>
                <p:cNvSpPr/>
                <p:nvPr/>
              </p:nvSpPr>
              <p:spPr>
                <a:xfrm rot="15123000">
                  <a:off x="1970640" y="990720"/>
                  <a:ext cx="85320" cy="16200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1178"/>
                <p:cNvSpPr/>
                <p:nvPr/>
              </p:nvSpPr>
              <p:spPr>
                <a:xfrm rot="15123000">
                  <a:off x="1944000" y="901800"/>
                  <a:ext cx="92160" cy="2358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1179"/>
                <p:cNvSpPr/>
                <p:nvPr/>
              </p:nvSpPr>
              <p:spPr>
                <a:xfrm rot="15123000">
                  <a:off x="2058840" y="950760"/>
                  <a:ext cx="10080" cy="93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1180"/>
                <p:cNvSpPr/>
                <p:nvPr/>
              </p:nvSpPr>
              <p:spPr>
                <a:xfrm rot="15123000">
                  <a:off x="1932840" y="820080"/>
                  <a:ext cx="63000" cy="29088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1181"/>
                <p:cNvSpPr/>
                <p:nvPr/>
              </p:nvSpPr>
              <p:spPr>
                <a:xfrm rot="15123000">
                  <a:off x="1964160" y="1002600"/>
                  <a:ext cx="46800" cy="46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1182"/>
                <p:cNvSpPr/>
                <p:nvPr/>
              </p:nvSpPr>
              <p:spPr>
                <a:xfrm rot="15123000">
                  <a:off x="2053080" y="1029240"/>
                  <a:ext cx="23040" cy="741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1183"/>
                <p:cNvSpPr/>
                <p:nvPr/>
              </p:nvSpPr>
              <p:spPr>
                <a:xfrm rot="15123000">
                  <a:off x="1920240" y="1135440"/>
                  <a:ext cx="49320" cy="158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1184"/>
                <p:cNvSpPr/>
                <p:nvPr/>
              </p:nvSpPr>
              <p:spPr>
                <a:xfrm rot="15123000">
                  <a:off x="1908000" y="115128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185"/>
                <p:cNvSpPr/>
                <p:nvPr/>
              </p:nvSpPr>
              <p:spPr>
                <a:xfrm rot="15123000">
                  <a:off x="2028960" y="1028520"/>
                  <a:ext cx="10080" cy="172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186"/>
                <p:cNvSpPr/>
                <p:nvPr/>
              </p:nvSpPr>
              <p:spPr>
                <a:xfrm rot="15123000">
                  <a:off x="1880280" y="1144800"/>
                  <a:ext cx="8640" cy="104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187"/>
                <p:cNvSpPr/>
                <p:nvPr/>
              </p:nvSpPr>
              <p:spPr>
                <a:xfrm rot="15123000">
                  <a:off x="1811520" y="1128960"/>
                  <a:ext cx="10080" cy="140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188"/>
                <p:cNvSpPr/>
                <p:nvPr/>
              </p:nvSpPr>
              <p:spPr>
                <a:xfrm rot="15123000">
                  <a:off x="1972440" y="1186560"/>
                  <a:ext cx="7560" cy="720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3" name="Group 1189"/>
              <p:cNvGrpSpPr/>
              <p:nvPr/>
            </p:nvGrpSpPr>
            <p:grpSpPr>
              <a:xfrm>
                <a:off x="1652760" y="887760"/>
                <a:ext cx="43200" cy="36000"/>
                <a:chOff x="1652760" y="887760"/>
                <a:chExt cx="43200" cy="36000"/>
              </a:xfrm>
            </p:grpSpPr>
            <p:sp>
              <p:nvSpPr>
                <p:cNvPr id="984" name="Freeform 1190"/>
                <p:cNvSpPr/>
                <p:nvPr/>
              </p:nvSpPr>
              <p:spPr>
                <a:xfrm rot="10758000">
                  <a:off x="1652760" y="887760"/>
                  <a:ext cx="39960" cy="35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1191"/>
                <p:cNvSpPr/>
                <p:nvPr/>
              </p:nvSpPr>
              <p:spPr>
                <a:xfrm rot="7111800">
                  <a:off x="1671840" y="891720"/>
                  <a:ext cx="18000" cy="24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6" name="Group 1192"/>
          <p:cNvGrpSpPr/>
          <p:nvPr/>
        </p:nvGrpSpPr>
        <p:grpSpPr>
          <a:xfrm>
            <a:off x="-148680" y="30240"/>
            <a:ext cx="2057760" cy="1569240"/>
            <a:chOff x="-148680" y="30240"/>
            <a:chExt cx="2057760" cy="1569240"/>
          </a:xfrm>
        </p:grpSpPr>
        <p:sp>
          <p:nvSpPr>
            <p:cNvPr id="987" name="Freeform 1193"/>
            <p:cNvSpPr/>
            <p:nvPr/>
          </p:nvSpPr>
          <p:spPr>
            <a:xfrm flipH="1" rot="4059600">
              <a:off x="671040" y="-159120"/>
              <a:ext cx="216720" cy="175932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194"/>
            <p:cNvSpPr/>
            <p:nvPr/>
          </p:nvSpPr>
          <p:spPr>
            <a:xfrm flipH="1" rot="4059600">
              <a:off x="25920" y="1093680"/>
              <a:ext cx="24120" cy="6768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9" name="Group 1195"/>
            <p:cNvGrpSpPr/>
            <p:nvPr/>
          </p:nvGrpSpPr>
          <p:grpSpPr>
            <a:xfrm>
              <a:off x="-145800" y="944640"/>
              <a:ext cx="668880" cy="654840"/>
              <a:chOff x="-145800" y="944640"/>
              <a:chExt cx="668880" cy="654840"/>
            </a:xfrm>
          </p:grpSpPr>
          <p:grpSp>
            <p:nvGrpSpPr>
              <p:cNvPr id="990" name="Group 1196"/>
              <p:cNvGrpSpPr/>
              <p:nvPr/>
            </p:nvGrpSpPr>
            <p:grpSpPr>
              <a:xfrm>
                <a:off x="-145800" y="988920"/>
                <a:ext cx="668880" cy="610560"/>
                <a:chOff x="-145800" y="988920"/>
                <a:chExt cx="668880" cy="610560"/>
              </a:xfrm>
            </p:grpSpPr>
            <p:sp>
              <p:nvSpPr>
                <p:cNvPr id="991" name="Freeform 1197"/>
                <p:cNvSpPr/>
                <p:nvPr/>
              </p:nvSpPr>
              <p:spPr>
                <a:xfrm flipH="1" rot="3919200">
                  <a:off x="20880" y="1034640"/>
                  <a:ext cx="334800" cy="5821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1198"/>
                <p:cNvSpPr/>
                <p:nvPr/>
              </p:nvSpPr>
              <p:spPr>
                <a:xfrm flipH="1" rot="3919200">
                  <a:off x="60480" y="1166040"/>
                  <a:ext cx="284040" cy="2764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1199"/>
                <p:cNvSpPr/>
                <p:nvPr/>
              </p:nvSpPr>
              <p:spPr>
                <a:xfrm flipH="1" rot="3919200">
                  <a:off x="-1440" y="1076400"/>
                  <a:ext cx="413640" cy="34380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1200"/>
                <p:cNvSpPr/>
                <p:nvPr/>
              </p:nvSpPr>
              <p:spPr>
                <a:xfrm flipH="1" rot="3919200">
                  <a:off x="146160" y="1331280"/>
                  <a:ext cx="134280" cy="3420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1201"/>
                <p:cNvSpPr/>
                <p:nvPr/>
              </p:nvSpPr>
              <p:spPr>
                <a:xfrm flipH="1" rot="3919200">
                  <a:off x="201240" y="1203480"/>
                  <a:ext cx="173520" cy="1270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1202"/>
                <p:cNvSpPr/>
                <p:nvPr/>
              </p:nvSpPr>
              <p:spPr>
                <a:xfrm flipH="1" rot="3919200">
                  <a:off x="234360" y="1129320"/>
                  <a:ext cx="191520" cy="168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1203"/>
                <p:cNvSpPr/>
                <p:nvPr/>
              </p:nvSpPr>
              <p:spPr>
                <a:xfrm flipH="1" rot="3919200">
                  <a:off x="141480" y="1392120"/>
                  <a:ext cx="79560" cy="21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1204"/>
                <p:cNvSpPr/>
                <p:nvPr/>
              </p:nvSpPr>
              <p:spPr>
                <a:xfrm flipH="1" rot="3919200">
                  <a:off x="136440" y="1450080"/>
                  <a:ext cx="41400" cy="86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1205"/>
                <p:cNvSpPr/>
                <p:nvPr/>
              </p:nvSpPr>
              <p:spPr>
                <a:xfrm flipH="1" rot="3919200">
                  <a:off x="112320" y="1422360"/>
                  <a:ext cx="30240" cy="594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1206"/>
                <p:cNvSpPr/>
                <p:nvPr/>
              </p:nvSpPr>
              <p:spPr>
                <a:xfrm flipH="1" rot="3919200">
                  <a:off x="92160" y="1361520"/>
                  <a:ext cx="52920" cy="110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1207"/>
                <p:cNvSpPr/>
                <p:nvPr/>
              </p:nvSpPr>
              <p:spPr>
                <a:xfrm flipH="1" rot="3919200">
                  <a:off x="62640" y="1269000"/>
                  <a:ext cx="84960" cy="1929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1208"/>
                <p:cNvSpPr/>
                <p:nvPr/>
              </p:nvSpPr>
              <p:spPr>
                <a:xfrm flipH="1" rot="3919200">
                  <a:off x="41400" y="1169640"/>
                  <a:ext cx="91440" cy="2826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209"/>
                <p:cNvSpPr/>
                <p:nvPr/>
              </p:nvSpPr>
              <p:spPr>
                <a:xfrm flipH="1" rot="3919200">
                  <a:off x="360" y="1294200"/>
                  <a:ext cx="9720" cy="11304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210"/>
                <p:cNvSpPr/>
                <p:nvPr/>
              </p:nvSpPr>
              <p:spPr>
                <a:xfrm flipH="1" rot="3919200">
                  <a:off x="40680" y="1080360"/>
                  <a:ext cx="63000" cy="3481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211"/>
                <p:cNvSpPr/>
                <p:nvPr/>
              </p:nvSpPr>
              <p:spPr>
                <a:xfrm flipH="1" rot="3919200">
                  <a:off x="70560" y="1285560"/>
                  <a:ext cx="46800" cy="55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212"/>
                <p:cNvSpPr/>
                <p:nvPr/>
              </p:nvSpPr>
              <p:spPr>
                <a:xfrm flipH="1" rot="3919200">
                  <a:off x="42840" y="1355400"/>
                  <a:ext cx="22680" cy="889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213"/>
                <p:cNvSpPr/>
                <p:nvPr/>
              </p:nvSpPr>
              <p:spPr>
                <a:xfrm flipH="1" rot="3919200">
                  <a:off x="194400" y="1354680"/>
                  <a:ext cx="48960" cy="1908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1214"/>
                <p:cNvSpPr/>
                <p:nvPr/>
              </p:nvSpPr>
              <p:spPr>
                <a:xfrm flipH="1" rot="3919200">
                  <a:off x="240480" y="1347120"/>
                  <a:ext cx="30240" cy="338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1215"/>
                <p:cNvSpPr/>
                <p:nvPr/>
              </p:nvSpPr>
              <p:spPr>
                <a:xfrm flipH="1" rot="3919200">
                  <a:off x="55080" y="1346040"/>
                  <a:ext cx="9720" cy="21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1216"/>
                <p:cNvSpPr/>
                <p:nvPr/>
              </p:nvSpPr>
              <p:spPr>
                <a:xfrm flipH="1" rot="3919200">
                  <a:off x="274680" y="1317240"/>
                  <a:ext cx="8640" cy="122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1217"/>
                <p:cNvSpPr/>
                <p:nvPr/>
              </p:nvSpPr>
              <p:spPr>
                <a:xfrm flipH="1" rot="3919200">
                  <a:off x="325080" y="1253880"/>
                  <a:ext cx="9720" cy="165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1218"/>
                <p:cNvSpPr/>
                <p:nvPr/>
              </p:nvSpPr>
              <p:spPr>
                <a:xfrm flipH="1" rot="3919200">
                  <a:off x="221040" y="1417320"/>
                  <a:ext cx="7560" cy="79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3" name="Group 1219"/>
              <p:cNvGrpSpPr/>
              <p:nvPr/>
            </p:nvGrpSpPr>
            <p:grpSpPr>
              <a:xfrm>
                <a:off x="264600" y="944640"/>
                <a:ext cx="59760" cy="58680"/>
                <a:chOff x="264600" y="944640"/>
                <a:chExt cx="59760" cy="58680"/>
              </a:xfrm>
            </p:grpSpPr>
            <p:sp>
              <p:nvSpPr>
                <p:cNvPr id="1014" name="Freeform 1220"/>
                <p:cNvSpPr/>
                <p:nvPr/>
              </p:nvSpPr>
              <p:spPr>
                <a:xfrm flipH="1" rot="8284200">
                  <a:off x="270000" y="956160"/>
                  <a:ext cx="4860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1221"/>
                <p:cNvSpPr/>
                <p:nvPr/>
              </p:nvSpPr>
              <p:spPr>
                <a:xfrm flipH="1" rot="11931000">
                  <a:off x="276480" y="964080"/>
                  <a:ext cx="18000" cy="295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6" name="Group 1222"/>
            <p:cNvGrpSpPr/>
            <p:nvPr/>
          </p:nvGrpSpPr>
          <p:grpSpPr>
            <a:xfrm>
              <a:off x="235080" y="762120"/>
              <a:ext cx="784080" cy="473040"/>
              <a:chOff x="235080" y="762120"/>
              <a:chExt cx="784080" cy="473040"/>
            </a:xfrm>
          </p:grpSpPr>
          <p:grpSp>
            <p:nvGrpSpPr>
              <p:cNvPr id="1017" name="Group 1223"/>
              <p:cNvGrpSpPr/>
              <p:nvPr/>
            </p:nvGrpSpPr>
            <p:grpSpPr>
              <a:xfrm>
                <a:off x="235080" y="762120"/>
                <a:ext cx="784080" cy="473040"/>
                <a:chOff x="235080" y="762120"/>
                <a:chExt cx="784080" cy="473040"/>
              </a:xfrm>
            </p:grpSpPr>
            <p:sp>
              <p:nvSpPr>
                <p:cNvPr id="1018" name="Freeform 1224"/>
                <p:cNvSpPr/>
                <p:nvPr/>
              </p:nvSpPr>
              <p:spPr>
                <a:xfrm flipH="1" rot="20756400">
                  <a:off x="425160" y="824760"/>
                  <a:ext cx="560160" cy="347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1225"/>
                <p:cNvSpPr/>
                <p:nvPr/>
              </p:nvSpPr>
              <p:spPr>
                <a:xfrm flipH="1" rot="20756400">
                  <a:off x="441720" y="909000"/>
                  <a:ext cx="474480" cy="16524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1226"/>
                <p:cNvSpPr/>
                <p:nvPr/>
              </p:nvSpPr>
              <p:spPr>
                <a:xfrm flipH="1" rot="20756400">
                  <a:off x="249480" y="894240"/>
                  <a:ext cx="691560" cy="20520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1227"/>
                <p:cNvSpPr/>
                <p:nvPr/>
              </p:nvSpPr>
              <p:spPr>
                <a:xfrm flipH="1" rot="20756400">
                  <a:off x="640080" y="968760"/>
                  <a:ext cx="22464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1228"/>
                <p:cNvSpPr/>
                <p:nvPr/>
              </p:nvSpPr>
              <p:spPr>
                <a:xfrm flipH="1" rot="20756400">
                  <a:off x="523080" y="898560"/>
                  <a:ext cx="290520" cy="756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1229"/>
                <p:cNvSpPr/>
                <p:nvPr/>
              </p:nvSpPr>
              <p:spPr>
                <a:xfrm flipH="1" rot="20756400">
                  <a:off x="447840" y="864000"/>
                  <a:ext cx="320400" cy="100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1230"/>
                <p:cNvSpPr/>
                <p:nvPr/>
              </p:nvSpPr>
              <p:spPr>
                <a:xfrm flipH="1" rot="20756400">
                  <a:off x="751680" y="987120"/>
                  <a:ext cx="133200" cy="12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1231"/>
                <p:cNvSpPr/>
                <p:nvPr/>
              </p:nvSpPr>
              <p:spPr>
                <a:xfrm flipH="1" rot="20756400">
                  <a:off x="850320" y="1001520"/>
                  <a:ext cx="6948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1232"/>
                <p:cNvSpPr/>
                <p:nvPr/>
              </p:nvSpPr>
              <p:spPr>
                <a:xfrm flipH="1" rot="20756400">
                  <a:off x="839160" y="1007280"/>
                  <a:ext cx="50760" cy="356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233"/>
                <p:cNvSpPr/>
                <p:nvPr/>
              </p:nvSpPr>
              <p:spPr>
                <a:xfrm flipH="1" rot="20756400">
                  <a:off x="761760" y="1002960"/>
                  <a:ext cx="88920" cy="658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234"/>
                <p:cNvSpPr/>
                <p:nvPr/>
              </p:nvSpPr>
              <p:spPr>
                <a:xfrm flipH="1" rot="20756400">
                  <a:off x="648000" y="993960"/>
                  <a:ext cx="142200" cy="1155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1235"/>
                <p:cNvSpPr/>
                <p:nvPr/>
              </p:nvSpPr>
              <p:spPr>
                <a:xfrm flipH="1" rot="20756400">
                  <a:off x="550800" y="986040"/>
                  <a:ext cx="153000" cy="168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1236"/>
                <p:cNvSpPr/>
                <p:nvPr/>
              </p:nvSpPr>
              <p:spPr>
                <a:xfrm flipH="1" rot="20756400">
                  <a:off x="635040" y="1088640"/>
                  <a:ext cx="16560" cy="67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1237"/>
                <p:cNvSpPr/>
                <p:nvPr/>
              </p:nvSpPr>
              <p:spPr>
                <a:xfrm flipH="1" rot="20756400">
                  <a:off x="477720" y="984600"/>
                  <a:ext cx="105840" cy="207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1238"/>
                <p:cNvSpPr/>
                <p:nvPr/>
              </p:nvSpPr>
              <p:spPr>
                <a:xfrm flipH="1" rot="20756400">
                  <a:off x="594360" y="1049760"/>
                  <a:ext cx="78120" cy="32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1239"/>
                <p:cNvSpPr/>
                <p:nvPr/>
              </p:nvSpPr>
              <p:spPr>
                <a:xfrm flipH="1" rot="20756400">
                  <a:off x="726840" y="1055520"/>
                  <a:ext cx="37800" cy="525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1240"/>
                <p:cNvSpPr/>
                <p:nvPr/>
              </p:nvSpPr>
              <p:spPr>
                <a:xfrm flipH="1" rot="20756400">
                  <a:off x="739080" y="966600"/>
                  <a:ext cx="8244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1241"/>
                <p:cNvSpPr/>
                <p:nvPr/>
              </p:nvSpPr>
              <p:spPr>
                <a:xfrm flipH="1" rot="20756400">
                  <a:off x="773640" y="937080"/>
                  <a:ext cx="50760" cy="205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1242"/>
                <p:cNvSpPr/>
                <p:nvPr/>
              </p:nvSpPr>
              <p:spPr>
                <a:xfrm flipH="1" rot="20756400">
                  <a:off x="673560" y="1077120"/>
                  <a:ext cx="16560" cy="126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1243"/>
                <p:cNvSpPr/>
                <p:nvPr/>
              </p:nvSpPr>
              <p:spPr>
                <a:xfrm flipH="1" rot="20756400">
                  <a:off x="741960" y="932040"/>
                  <a:ext cx="1476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1244"/>
                <p:cNvSpPr/>
                <p:nvPr/>
              </p:nvSpPr>
              <p:spPr>
                <a:xfrm flipH="1" rot="20756400">
                  <a:off x="675720" y="902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1245"/>
                <p:cNvSpPr/>
                <p:nvPr/>
              </p:nvSpPr>
              <p:spPr>
                <a:xfrm flipH="1" rot="20756400">
                  <a:off x="864000" y="958680"/>
                  <a:ext cx="1296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0" name="Group 1246"/>
              <p:cNvGrpSpPr/>
              <p:nvPr/>
            </p:nvGrpSpPr>
            <p:grpSpPr>
              <a:xfrm>
                <a:off x="291960" y="963720"/>
                <a:ext cx="65520" cy="55440"/>
                <a:chOff x="291960" y="963720"/>
                <a:chExt cx="65520" cy="55440"/>
              </a:xfrm>
            </p:grpSpPr>
            <p:sp>
              <p:nvSpPr>
                <p:cNvPr id="1041" name="Freeform 1247"/>
                <p:cNvSpPr/>
                <p:nvPr/>
              </p:nvSpPr>
              <p:spPr>
                <a:xfrm flipH="1" rot="3520800">
                  <a:off x="309960" y="961920"/>
                  <a:ext cx="28800" cy="590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1248"/>
                <p:cNvSpPr/>
                <p:nvPr/>
              </p:nvSpPr>
              <p:spPr>
                <a:xfrm flipH="1" rot="7167600">
                  <a:off x="311040" y="98784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3" name="Group 1249"/>
            <p:cNvGrpSpPr/>
            <p:nvPr/>
          </p:nvGrpSpPr>
          <p:grpSpPr>
            <a:xfrm>
              <a:off x="-148680" y="265680"/>
              <a:ext cx="1146240" cy="711360"/>
              <a:chOff x="-148680" y="265680"/>
              <a:chExt cx="1146240" cy="711360"/>
            </a:xfrm>
          </p:grpSpPr>
          <p:grpSp>
            <p:nvGrpSpPr>
              <p:cNvPr id="1044" name="Group 1250"/>
              <p:cNvGrpSpPr/>
              <p:nvPr/>
            </p:nvGrpSpPr>
            <p:grpSpPr>
              <a:xfrm>
                <a:off x="-148680" y="468000"/>
                <a:ext cx="624600" cy="509040"/>
                <a:chOff x="-148680" y="468000"/>
                <a:chExt cx="624600" cy="509040"/>
              </a:xfrm>
            </p:grpSpPr>
            <p:grpSp>
              <p:nvGrpSpPr>
                <p:cNvPr id="1045" name="Group 1251"/>
                <p:cNvGrpSpPr/>
                <p:nvPr/>
              </p:nvGrpSpPr>
              <p:grpSpPr>
                <a:xfrm>
                  <a:off x="-148680" y="468000"/>
                  <a:ext cx="609480" cy="509040"/>
                  <a:chOff x="-148680" y="468000"/>
                  <a:chExt cx="609480" cy="509040"/>
                </a:xfrm>
              </p:grpSpPr>
              <p:sp>
                <p:nvSpPr>
                  <p:cNvPr id="1046" name="Freeform 1252"/>
                  <p:cNvSpPr/>
                  <p:nvPr/>
                </p:nvSpPr>
                <p:spPr>
                  <a:xfrm rot="4199400">
                    <a:off x="2160" y="435600"/>
                    <a:ext cx="307440" cy="5367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Freeform 1253"/>
                  <p:cNvSpPr/>
                  <p:nvPr/>
                </p:nvSpPr>
                <p:spPr>
                  <a:xfrm rot="4199400">
                    <a:off x="48240" y="581400"/>
                    <a:ext cx="26100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Freeform 1254"/>
                  <p:cNvSpPr/>
                  <p:nvPr/>
                </p:nvSpPr>
                <p:spPr>
                  <a:xfrm rot="4199400">
                    <a:off x="26280" y="585360"/>
                    <a:ext cx="37980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Freeform 1255"/>
                  <p:cNvSpPr/>
                  <p:nvPr/>
                </p:nvSpPr>
                <p:spPr>
                  <a:xfrm rot="4199400">
                    <a:off x="96120" y="658440"/>
                    <a:ext cx="1234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Freeform 1256"/>
                  <p:cNvSpPr/>
                  <p:nvPr/>
                </p:nvSpPr>
                <p:spPr>
                  <a:xfrm rot="4199400">
                    <a:off x="179280" y="619920"/>
                    <a:ext cx="15948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1257"/>
                  <p:cNvSpPr/>
                  <p:nvPr/>
                </p:nvSpPr>
                <p:spPr>
                  <a:xfrm rot="4199400">
                    <a:off x="233280" y="609120"/>
                    <a:ext cx="176040" cy="15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Freeform 1258"/>
                  <p:cNvSpPr/>
                  <p:nvPr/>
                </p:nvSpPr>
                <p:spPr>
                  <a:xfrm rot="4199400">
                    <a:off x="65520" y="648720"/>
                    <a:ext cx="730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Freeform 1259"/>
                  <p:cNvSpPr/>
                  <p:nvPr/>
                </p:nvSpPr>
                <p:spPr>
                  <a:xfrm rot="4199400">
                    <a:off x="32760" y="636840"/>
                    <a:ext cx="381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Freeform 1260"/>
                  <p:cNvSpPr/>
                  <p:nvPr/>
                </p:nvSpPr>
                <p:spPr>
                  <a:xfrm rot="4199400">
                    <a:off x="19800" y="633960"/>
                    <a:ext cx="27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Freeform 1261"/>
                  <p:cNvSpPr/>
                  <p:nvPr/>
                </p:nvSpPr>
                <p:spPr>
                  <a:xfrm rot="4199400">
                    <a:off x="26280" y="639360"/>
                    <a:ext cx="4860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Freeform 1262"/>
                  <p:cNvSpPr/>
                  <p:nvPr/>
                </p:nvSpPr>
                <p:spPr>
                  <a:xfrm rot="4199400">
                    <a:off x="36360" y="643320"/>
                    <a:ext cx="7812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1263"/>
                  <p:cNvSpPr/>
                  <p:nvPr/>
                </p:nvSpPr>
                <p:spPr>
                  <a:xfrm rot="4199400">
                    <a:off x="56520" y="649080"/>
                    <a:ext cx="83880" cy="26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1264"/>
                  <p:cNvSpPr/>
                  <p:nvPr/>
                </p:nvSpPr>
                <p:spPr>
                  <a:xfrm rot="4199400">
                    <a:off x="14760" y="755280"/>
                    <a:ext cx="90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Freeform 1265"/>
                  <p:cNvSpPr/>
                  <p:nvPr/>
                </p:nvSpPr>
                <p:spPr>
                  <a:xfrm rot="4199400">
                    <a:off x="96120" y="666360"/>
                    <a:ext cx="57960" cy="321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Freeform 1266"/>
                  <p:cNvSpPr/>
                  <p:nvPr/>
                </p:nvSpPr>
                <p:spPr>
                  <a:xfrm rot="4199400">
                    <a:off x="80640" y="748440"/>
                    <a:ext cx="428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Freeform 1267"/>
                  <p:cNvSpPr/>
                  <p:nvPr/>
                </p:nvSpPr>
                <p:spPr>
                  <a:xfrm rot="4199400">
                    <a:off x="9000" y="701280"/>
                    <a:ext cx="2124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Freeform 1268"/>
                  <p:cNvSpPr/>
                  <p:nvPr/>
                </p:nvSpPr>
                <p:spPr>
                  <a:xfrm rot="4199400">
                    <a:off x="128160" y="651240"/>
                    <a:ext cx="4536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Freeform 1269"/>
                  <p:cNvSpPr/>
                  <p:nvPr/>
                </p:nvSpPr>
                <p:spPr>
                  <a:xfrm rot="4199400">
                    <a:off x="160920" y="620640"/>
                    <a:ext cx="277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Freeform 1270"/>
                  <p:cNvSpPr/>
                  <p:nvPr/>
                </p:nvSpPr>
                <p:spPr>
                  <a:xfrm rot="4199400">
                    <a:off x="47160" y="757440"/>
                    <a:ext cx="900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Freeform 1271"/>
                  <p:cNvSpPr/>
                  <p:nvPr/>
                </p:nvSpPr>
                <p:spPr>
                  <a:xfrm rot="4199400">
                    <a:off x="212400" y="641520"/>
                    <a:ext cx="792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Freeform 1272"/>
                  <p:cNvSpPr/>
                  <p:nvPr/>
                </p:nvSpPr>
                <p:spPr>
                  <a:xfrm rot="4199400">
                    <a:off x="285120" y="646920"/>
                    <a:ext cx="90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Freeform 1273"/>
                  <p:cNvSpPr/>
                  <p:nvPr/>
                </p:nvSpPr>
                <p:spPr>
                  <a:xfrm rot="4199400">
                    <a:off x="115200" y="614880"/>
                    <a:ext cx="6840" cy="72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8" name="Group 1274"/>
                <p:cNvGrpSpPr/>
                <p:nvPr/>
              </p:nvGrpSpPr>
              <p:grpSpPr>
                <a:xfrm>
                  <a:off x="428400" y="848520"/>
                  <a:ext cx="47520" cy="34920"/>
                  <a:chOff x="428400" y="848520"/>
                  <a:chExt cx="47520" cy="34920"/>
                </a:xfrm>
              </p:grpSpPr>
              <p:sp>
                <p:nvSpPr>
                  <p:cNvPr id="1069" name="Freeform 1275"/>
                  <p:cNvSpPr/>
                  <p:nvPr/>
                </p:nvSpPr>
                <p:spPr>
                  <a:xfrm rot="21435000">
                    <a:off x="430920" y="849240"/>
                    <a:ext cx="442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Freeform 1276"/>
                  <p:cNvSpPr/>
                  <p:nvPr/>
                </p:nvSpPr>
                <p:spPr>
                  <a:xfrm rot="17788200">
                    <a:off x="435600" y="854280"/>
                    <a:ext cx="165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1" name="Group 1277"/>
              <p:cNvGrpSpPr/>
              <p:nvPr/>
            </p:nvGrpSpPr>
            <p:grpSpPr>
              <a:xfrm>
                <a:off x="339120" y="265680"/>
                <a:ext cx="658440" cy="641160"/>
                <a:chOff x="339120" y="265680"/>
                <a:chExt cx="658440" cy="641160"/>
              </a:xfrm>
            </p:grpSpPr>
            <p:grpSp>
              <p:nvGrpSpPr>
                <p:cNvPr id="1072" name="Group 1278"/>
                <p:cNvGrpSpPr/>
                <p:nvPr/>
              </p:nvGrpSpPr>
              <p:grpSpPr>
                <a:xfrm>
                  <a:off x="339120" y="265680"/>
                  <a:ext cx="658440" cy="641160"/>
                  <a:chOff x="339120" y="265680"/>
                  <a:chExt cx="658440" cy="641160"/>
                </a:xfrm>
              </p:grpSpPr>
              <p:sp>
                <p:nvSpPr>
                  <p:cNvPr id="1073" name="Freeform 1279"/>
                  <p:cNvSpPr/>
                  <p:nvPr/>
                </p:nvSpPr>
                <p:spPr>
                  <a:xfrm rot="8424000">
                    <a:off x="444600" y="390240"/>
                    <a:ext cx="507960" cy="32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Freeform 1280"/>
                  <p:cNvSpPr/>
                  <p:nvPr/>
                </p:nvSpPr>
                <p:spPr>
                  <a:xfrm rot="8424000">
                    <a:off x="475200" y="497880"/>
                    <a:ext cx="4305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Freeform 1281"/>
                  <p:cNvSpPr/>
                  <p:nvPr/>
                </p:nvSpPr>
                <p:spPr>
                  <a:xfrm rot="8424000">
                    <a:off x="327960" y="537480"/>
                    <a:ext cx="62712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Freeform 1282"/>
                  <p:cNvSpPr/>
                  <p:nvPr/>
                </p:nvSpPr>
                <p:spPr>
                  <a:xfrm rot="8424000">
                    <a:off x="637200" y="519120"/>
                    <a:ext cx="2037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Freeform 1283"/>
                  <p:cNvSpPr/>
                  <p:nvPr/>
                </p:nvSpPr>
                <p:spPr>
                  <a:xfrm rot="8424000">
                    <a:off x="594000" y="577440"/>
                    <a:ext cx="26352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Freeform 1284"/>
                  <p:cNvSpPr/>
                  <p:nvPr/>
                </p:nvSpPr>
                <p:spPr>
                  <a:xfrm rot="8424000">
                    <a:off x="564480" y="622440"/>
                    <a:ext cx="29052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Freeform 1285"/>
                  <p:cNvSpPr/>
                  <p:nvPr/>
                </p:nvSpPr>
                <p:spPr>
                  <a:xfrm rot="8424000">
                    <a:off x="703800" y="464760"/>
                    <a:ext cx="12060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Freeform 1286"/>
                  <p:cNvSpPr/>
                  <p:nvPr/>
                </p:nvSpPr>
                <p:spPr>
                  <a:xfrm rot="8424000">
                    <a:off x="759960" y="414360"/>
                    <a:ext cx="630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Freeform 1287"/>
                  <p:cNvSpPr/>
                  <p:nvPr/>
                </p:nvSpPr>
                <p:spPr>
                  <a:xfrm rot="8424000">
                    <a:off x="741960" y="403200"/>
                    <a:ext cx="4644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Freeform 1288"/>
                  <p:cNvSpPr/>
                  <p:nvPr/>
                </p:nvSpPr>
                <p:spPr>
                  <a:xfrm rot="8424000">
                    <a:off x="685440" y="425880"/>
                    <a:ext cx="806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Freeform 1289"/>
                  <p:cNvSpPr/>
                  <p:nvPr/>
                </p:nvSpPr>
                <p:spPr>
                  <a:xfrm rot="8424000">
                    <a:off x="603000" y="458640"/>
                    <a:ext cx="128880" cy="10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Freeform 1290"/>
                  <p:cNvSpPr/>
                  <p:nvPr/>
                </p:nvSpPr>
                <p:spPr>
                  <a:xfrm rot="8424000">
                    <a:off x="534240" y="490680"/>
                    <a:ext cx="1386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Freeform 1291"/>
                  <p:cNvSpPr/>
                  <p:nvPr/>
                </p:nvSpPr>
                <p:spPr>
                  <a:xfrm rot="8424000">
                    <a:off x="566280" y="496800"/>
                    <a:ext cx="151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Freeform 1292"/>
                  <p:cNvSpPr/>
                  <p:nvPr/>
                </p:nvSpPr>
                <p:spPr>
                  <a:xfrm rot="8424000">
                    <a:off x="491040" y="533520"/>
                    <a:ext cx="9576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Freeform 1293"/>
                  <p:cNvSpPr/>
                  <p:nvPr/>
                </p:nvSpPr>
                <p:spPr>
                  <a:xfrm rot="8424000">
                    <a:off x="574920" y="551520"/>
                    <a:ext cx="709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Freeform 1294"/>
                  <p:cNvSpPr/>
                  <p:nvPr/>
                </p:nvSpPr>
                <p:spPr>
                  <a:xfrm rot="8424000">
                    <a:off x="641160" y="451440"/>
                    <a:ext cx="3420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Freeform 1295"/>
                  <p:cNvSpPr/>
                  <p:nvPr/>
                </p:nvSpPr>
                <p:spPr>
                  <a:xfrm rot="8424000">
                    <a:off x="721440" y="506520"/>
                    <a:ext cx="748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Freeform 1296"/>
                  <p:cNvSpPr/>
                  <p:nvPr/>
                </p:nvSpPr>
                <p:spPr>
                  <a:xfrm rot="8424000">
                    <a:off x="764640" y="501840"/>
                    <a:ext cx="4644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Freeform 1297"/>
                  <p:cNvSpPr/>
                  <p:nvPr/>
                </p:nvSpPr>
                <p:spPr>
                  <a:xfrm rot="8424000">
                    <a:off x="615960" y="515520"/>
                    <a:ext cx="1512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Freeform 1298"/>
                  <p:cNvSpPr/>
                  <p:nvPr/>
                </p:nvSpPr>
                <p:spPr>
                  <a:xfrm rot="8424000">
                    <a:off x="762480" y="550080"/>
                    <a:ext cx="1368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Freeform 1299"/>
                  <p:cNvSpPr/>
                  <p:nvPr/>
                </p:nvSpPr>
                <p:spPr>
                  <a:xfrm rot="8424000">
                    <a:off x="748440" y="613080"/>
                    <a:ext cx="1512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Freeform 1300"/>
                  <p:cNvSpPr/>
                  <p:nvPr/>
                </p:nvSpPr>
                <p:spPr>
                  <a:xfrm rot="8424000">
                    <a:off x="810000" y="449280"/>
                    <a:ext cx="1152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5" name="Group 1301"/>
                <p:cNvGrpSpPr/>
                <p:nvPr/>
              </p:nvGrpSpPr>
              <p:grpSpPr>
                <a:xfrm>
                  <a:off x="472320" y="815040"/>
                  <a:ext cx="59400" cy="45360"/>
                  <a:chOff x="472320" y="815040"/>
                  <a:chExt cx="59400" cy="45360"/>
                </a:xfrm>
              </p:grpSpPr>
              <p:sp>
                <p:nvSpPr>
                  <p:cNvPr id="1096" name="Freeform 1302"/>
                  <p:cNvSpPr/>
                  <p:nvPr/>
                </p:nvSpPr>
                <p:spPr>
                  <a:xfrm rot="4059600">
                    <a:off x="488160" y="811080"/>
                    <a:ext cx="2700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Freeform 1303"/>
                  <p:cNvSpPr/>
                  <p:nvPr/>
                </p:nvSpPr>
                <p:spPr>
                  <a:xfrm rot="412800">
                    <a:off x="484920" y="825480"/>
                    <a:ext cx="270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98" name="Group 1304"/>
            <p:cNvGrpSpPr/>
            <p:nvPr/>
          </p:nvGrpSpPr>
          <p:grpSpPr>
            <a:xfrm>
              <a:off x="983160" y="433080"/>
              <a:ext cx="657360" cy="344160"/>
              <a:chOff x="983160" y="433080"/>
              <a:chExt cx="657360" cy="344160"/>
            </a:xfrm>
          </p:grpSpPr>
          <p:grpSp>
            <p:nvGrpSpPr>
              <p:cNvPr id="1099" name="Group 1305"/>
              <p:cNvGrpSpPr/>
              <p:nvPr/>
            </p:nvGrpSpPr>
            <p:grpSpPr>
              <a:xfrm>
                <a:off x="983160" y="433080"/>
                <a:ext cx="657360" cy="344160"/>
                <a:chOff x="983160" y="433080"/>
                <a:chExt cx="657360" cy="344160"/>
              </a:xfrm>
            </p:grpSpPr>
            <p:sp>
              <p:nvSpPr>
                <p:cNvPr id="1100" name="Freeform 1306"/>
                <p:cNvSpPr/>
                <p:nvPr/>
              </p:nvSpPr>
              <p:spPr>
                <a:xfrm flipH="1" rot="21294600">
                  <a:off x="1140840" y="453960"/>
                  <a:ext cx="487080" cy="3020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1307"/>
                <p:cNvSpPr/>
                <p:nvPr/>
              </p:nvSpPr>
              <p:spPr>
                <a:xfrm flipH="1" rot="21294600">
                  <a:off x="1157400" y="523800"/>
                  <a:ext cx="412920" cy="1432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1308"/>
                <p:cNvSpPr/>
                <p:nvPr/>
              </p:nvSpPr>
              <p:spPr>
                <a:xfrm flipH="1" rot="21294600">
                  <a:off x="989640" y="500040"/>
                  <a:ext cx="601560" cy="1785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1309"/>
                <p:cNvSpPr/>
                <p:nvPr/>
              </p:nvSpPr>
              <p:spPr>
                <a:xfrm flipH="1" rot="21294600">
                  <a:off x="1329480" y="585360"/>
                  <a:ext cx="195480" cy="176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1310"/>
                <p:cNvSpPr/>
                <p:nvPr/>
              </p:nvSpPr>
              <p:spPr>
                <a:xfrm flipH="1" rot="21294600">
                  <a:off x="1234800" y="514080"/>
                  <a:ext cx="252720" cy="6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1311"/>
                <p:cNvSpPr/>
                <p:nvPr/>
              </p:nvSpPr>
              <p:spPr>
                <a:xfrm flipH="1" rot="21294600">
                  <a:off x="1173240" y="476280"/>
                  <a:ext cx="278640" cy="87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1312"/>
                <p:cNvSpPr/>
                <p:nvPr/>
              </p:nvSpPr>
              <p:spPr>
                <a:xfrm flipH="1" rot="21294600">
                  <a:off x="1423800" y="610560"/>
                  <a:ext cx="115920" cy="108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1313"/>
                <p:cNvSpPr/>
                <p:nvPr/>
              </p:nvSpPr>
              <p:spPr>
                <a:xfrm flipH="1" rot="21294600">
                  <a:off x="1508040" y="632160"/>
                  <a:ext cx="60480" cy="43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1314"/>
                <p:cNvSpPr/>
                <p:nvPr/>
              </p:nvSpPr>
              <p:spPr>
                <a:xfrm flipH="1" rot="21294600">
                  <a:off x="1495800" y="633960"/>
                  <a:ext cx="44280" cy="309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1315"/>
                <p:cNvSpPr/>
                <p:nvPr/>
              </p:nvSpPr>
              <p:spPr>
                <a:xfrm flipH="1" rot="21294600">
                  <a:off x="1427760" y="622080"/>
                  <a:ext cx="77400" cy="572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1316"/>
                <p:cNvSpPr/>
                <p:nvPr/>
              </p:nvSpPr>
              <p:spPr>
                <a:xfrm flipH="1" rot="21294600">
                  <a:off x="1327320" y="602280"/>
                  <a:ext cx="123840" cy="1004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1317"/>
                <p:cNvSpPr/>
                <p:nvPr/>
              </p:nvSpPr>
              <p:spPr>
                <a:xfrm flipH="1" rot="21294600">
                  <a:off x="1240920" y="582840"/>
                  <a:ext cx="132840" cy="1465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1318"/>
                <p:cNvSpPr/>
                <p:nvPr/>
              </p:nvSpPr>
              <p:spPr>
                <a:xfrm flipH="1" rot="21294600">
                  <a:off x="1308240" y="674280"/>
                  <a:ext cx="14400" cy="58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1319"/>
                <p:cNvSpPr/>
                <p:nvPr/>
              </p:nvSpPr>
              <p:spPr>
                <a:xfrm flipH="1" rot="21294600">
                  <a:off x="1176480" y="568440"/>
                  <a:ext cx="91800" cy="180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1320"/>
                <p:cNvSpPr/>
                <p:nvPr/>
              </p:nvSpPr>
              <p:spPr>
                <a:xfrm flipH="1" rot="21294600">
                  <a:off x="1279800" y="639000"/>
                  <a:ext cx="68040" cy="2808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1321"/>
                <p:cNvSpPr/>
                <p:nvPr/>
              </p:nvSpPr>
              <p:spPr>
                <a:xfrm flipH="1" rot="21294600">
                  <a:off x="1391760" y="659160"/>
                  <a:ext cx="32760" cy="464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1322"/>
                <p:cNvSpPr/>
                <p:nvPr/>
              </p:nvSpPr>
              <p:spPr>
                <a:xfrm flipH="1" rot="21294600">
                  <a:off x="1416960" y="587880"/>
                  <a:ext cx="72000" cy="972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1323"/>
                <p:cNvSpPr/>
                <p:nvPr/>
              </p:nvSpPr>
              <p:spPr>
                <a:xfrm flipH="1" rot="21294600">
                  <a:off x="1449360" y="564840"/>
                  <a:ext cx="44280" cy="176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1324"/>
                <p:cNvSpPr/>
                <p:nvPr/>
              </p:nvSpPr>
              <p:spPr>
                <a:xfrm flipH="1" rot="21294600">
                  <a:off x="1345680" y="669600"/>
                  <a:ext cx="14400" cy="104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1325"/>
                <p:cNvSpPr/>
                <p:nvPr/>
              </p:nvSpPr>
              <p:spPr>
                <a:xfrm flipH="1" rot="21294600">
                  <a:off x="1424160" y="554400"/>
                  <a:ext cx="12960" cy="64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1326"/>
                <p:cNvSpPr/>
                <p:nvPr/>
              </p:nvSpPr>
              <p:spPr>
                <a:xfrm flipH="1" rot="21294600">
                  <a:off x="1371600" y="52056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1327"/>
                <p:cNvSpPr/>
                <p:nvPr/>
              </p:nvSpPr>
              <p:spPr>
                <a:xfrm flipH="1" rot="21294600">
                  <a:off x="1526040" y="593280"/>
                  <a:ext cx="1116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Group 1328"/>
              <p:cNvGrpSpPr/>
              <p:nvPr/>
            </p:nvGrpSpPr>
            <p:grpSpPr>
              <a:xfrm>
                <a:off x="1030320" y="525600"/>
                <a:ext cx="57240" cy="43200"/>
                <a:chOff x="1030320" y="525600"/>
                <a:chExt cx="57240" cy="43200"/>
              </a:xfrm>
            </p:grpSpPr>
            <p:sp>
              <p:nvSpPr>
                <p:cNvPr id="1123" name="Freeform 1329"/>
                <p:cNvSpPr/>
                <p:nvPr/>
              </p:nvSpPr>
              <p:spPr>
                <a:xfrm flipH="1" rot="4059600">
                  <a:off x="1045800" y="521280"/>
                  <a:ext cx="25200" cy="514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1330"/>
                <p:cNvSpPr/>
                <p:nvPr/>
              </p:nvSpPr>
              <p:spPr>
                <a:xfrm flipH="1" rot="7706400">
                  <a:off x="1045800" y="544320"/>
                  <a:ext cx="25920" cy="15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5" name="Group 1331"/>
            <p:cNvGrpSpPr/>
            <p:nvPr/>
          </p:nvGrpSpPr>
          <p:grpSpPr>
            <a:xfrm>
              <a:off x="919440" y="30240"/>
              <a:ext cx="471240" cy="565920"/>
              <a:chOff x="919440" y="30240"/>
              <a:chExt cx="471240" cy="565920"/>
            </a:xfrm>
          </p:grpSpPr>
          <p:grpSp>
            <p:nvGrpSpPr>
              <p:cNvPr id="1126" name="Group 1332"/>
              <p:cNvGrpSpPr/>
              <p:nvPr/>
            </p:nvGrpSpPr>
            <p:grpSpPr>
              <a:xfrm>
                <a:off x="919440" y="30240"/>
                <a:ext cx="471240" cy="565920"/>
                <a:chOff x="919440" y="30240"/>
                <a:chExt cx="471240" cy="565920"/>
              </a:xfrm>
            </p:grpSpPr>
            <p:sp>
              <p:nvSpPr>
                <p:cNvPr id="1127" name="Freeform 1333"/>
                <p:cNvSpPr/>
                <p:nvPr/>
              </p:nvSpPr>
              <p:spPr>
                <a:xfrm rot="7630800">
                  <a:off x="957240" y="144720"/>
                  <a:ext cx="414000" cy="253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1334"/>
                <p:cNvSpPr/>
                <p:nvPr/>
              </p:nvSpPr>
              <p:spPr>
                <a:xfrm rot="7630800">
                  <a:off x="986040" y="231120"/>
                  <a:ext cx="351000" cy="1206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1335"/>
                <p:cNvSpPr/>
                <p:nvPr/>
              </p:nvSpPr>
              <p:spPr>
                <a:xfrm rot="7630800">
                  <a:off x="878040" y="272160"/>
                  <a:ext cx="511200" cy="149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1336"/>
                <p:cNvSpPr/>
                <p:nvPr/>
              </p:nvSpPr>
              <p:spPr>
                <a:xfrm rot="7630800">
                  <a:off x="1108800" y="237960"/>
                  <a:ext cx="165960" cy="14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1337"/>
                <p:cNvSpPr/>
                <p:nvPr/>
              </p:nvSpPr>
              <p:spPr>
                <a:xfrm rot="7630800">
                  <a:off x="1088640" y="286200"/>
                  <a:ext cx="214920" cy="558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1338"/>
                <p:cNvSpPr/>
                <p:nvPr/>
              </p:nvSpPr>
              <p:spPr>
                <a:xfrm rot="7630800">
                  <a:off x="1074600" y="325080"/>
                  <a:ext cx="236880" cy="73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1339"/>
                <p:cNvSpPr/>
                <p:nvPr/>
              </p:nvSpPr>
              <p:spPr>
                <a:xfrm rot="7630800">
                  <a:off x="1152360" y="190800"/>
                  <a:ext cx="98280" cy="93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1340"/>
                <p:cNvSpPr/>
                <p:nvPr/>
              </p:nvSpPr>
              <p:spPr>
                <a:xfrm rot="7630800">
                  <a:off x="1187640" y="146880"/>
                  <a:ext cx="51480" cy="36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1341"/>
                <p:cNvSpPr/>
                <p:nvPr/>
              </p:nvSpPr>
              <p:spPr>
                <a:xfrm rot="7630800">
                  <a:off x="1175040" y="142920"/>
                  <a:ext cx="37440" cy="259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1342"/>
                <p:cNvSpPr/>
                <p:nvPr/>
              </p:nvSpPr>
              <p:spPr>
                <a:xfrm rot="7630800">
                  <a:off x="1136520" y="168480"/>
                  <a:ext cx="65520" cy="47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1343"/>
                <p:cNvSpPr/>
                <p:nvPr/>
              </p:nvSpPr>
              <p:spPr>
                <a:xfrm rot="7630800">
                  <a:off x="1080360" y="205200"/>
                  <a:ext cx="105120" cy="838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1344"/>
                <p:cNvSpPr/>
                <p:nvPr/>
              </p:nvSpPr>
              <p:spPr>
                <a:xfrm rot="7630800">
                  <a:off x="1036440" y="243360"/>
                  <a:ext cx="113040" cy="122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1345"/>
                <p:cNvSpPr/>
                <p:nvPr/>
              </p:nvSpPr>
              <p:spPr>
                <a:xfrm rot="7630800">
                  <a:off x="1056960" y="252720"/>
                  <a:ext cx="12240" cy="48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1346"/>
                <p:cNvSpPr/>
                <p:nvPr/>
              </p:nvSpPr>
              <p:spPr>
                <a:xfrm rot="7630800">
                  <a:off x="1013400" y="288360"/>
                  <a:ext cx="78120" cy="1519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1347"/>
                <p:cNvSpPr/>
                <p:nvPr/>
              </p:nvSpPr>
              <p:spPr>
                <a:xfrm rot="7630800">
                  <a:off x="1069200" y="290160"/>
                  <a:ext cx="57960" cy="2412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1348"/>
                <p:cNvSpPr/>
                <p:nvPr/>
              </p:nvSpPr>
              <p:spPr>
                <a:xfrm rot="7630800">
                  <a:off x="1105560" y="200880"/>
                  <a:ext cx="28080" cy="392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1349"/>
                <p:cNvSpPr/>
                <p:nvPr/>
              </p:nvSpPr>
              <p:spPr>
                <a:xfrm rot="7630800">
                  <a:off x="1172880" y="224280"/>
                  <a:ext cx="61200" cy="86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1350"/>
                <p:cNvSpPr/>
                <p:nvPr/>
              </p:nvSpPr>
              <p:spPr>
                <a:xfrm rot="7630800">
                  <a:off x="1208160" y="215280"/>
                  <a:ext cx="37440" cy="147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1351"/>
                <p:cNvSpPr/>
                <p:nvPr/>
              </p:nvSpPr>
              <p:spPr>
                <a:xfrm rot="7630800">
                  <a:off x="1094760" y="258840"/>
                  <a:ext cx="12240" cy="90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1352"/>
                <p:cNvSpPr/>
                <p:nvPr/>
              </p:nvSpPr>
              <p:spPr>
                <a:xfrm rot="7630800">
                  <a:off x="1213920" y="256680"/>
                  <a:ext cx="10800" cy="54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1353"/>
                <p:cNvSpPr/>
                <p:nvPr/>
              </p:nvSpPr>
              <p:spPr>
                <a:xfrm rot="7630800">
                  <a:off x="1213920" y="30780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1354"/>
                <p:cNvSpPr/>
                <p:nvPr/>
              </p:nvSpPr>
              <p:spPr>
                <a:xfrm rot="7630800">
                  <a:off x="1234080" y="16848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9" name="Group 1355"/>
              <p:cNvGrpSpPr/>
              <p:nvPr/>
            </p:nvGrpSpPr>
            <p:grpSpPr>
              <a:xfrm>
                <a:off x="1035360" y="510840"/>
                <a:ext cx="47160" cy="42120"/>
                <a:chOff x="1035360" y="510840"/>
                <a:chExt cx="47160" cy="42120"/>
              </a:xfrm>
            </p:grpSpPr>
            <p:sp>
              <p:nvSpPr>
                <p:cNvPr id="1150" name="Freeform 1356"/>
                <p:cNvSpPr/>
                <p:nvPr/>
              </p:nvSpPr>
              <p:spPr>
                <a:xfrm rot="3266400">
                  <a:off x="1048320" y="510120"/>
                  <a:ext cx="20880" cy="432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1357"/>
                <p:cNvSpPr/>
                <p:nvPr/>
              </p:nvSpPr>
              <p:spPr>
                <a:xfrm rot="21219600">
                  <a:off x="1044360" y="52272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2" name="Group 1358"/>
            <p:cNvGrpSpPr/>
            <p:nvPr/>
          </p:nvGrpSpPr>
          <p:grpSpPr>
            <a:xfrm>
              <a:off x="1434240" y="141840"/>
              <a:ext cx="474840" cy="468000"/>
              <a:chOff x="1434240" y="141840"/>
              <a:chExt cx="474840" cy="468000"/>
            </a:xfrm>
          </p:grpSpPr>
          <p:grpSp>
            <p:nvGrpSpPr>
              <p:cNvPr id="1153" name="Group 1359"/>
              <p:cNvGrpSpPr/>
              <p:nvPr/>
            </p:nvGrpSpPr>
            <p:grpSpPr>
              <a:xfrm>
                <a:off x="1455840" y="141840"/>
                <a:ext cx="453240" cy="468000"/>
                <a:chOff x="1455840" y="141840"/>
                <a:chExt cx="453240" cy="468000"/>
              </a:xfrm>
            </p:grpSpPr>
            <p:sp>
              <p:nvSpPr>
                <p:cNvPr id="1154" name="Freeform 1360"/>
                <p:cNvSpPr/>
                <p:nvPr/>
              </p:nvSpPr>
              <p:spPr>
                <a:xfrm rot="12159000">
                  <a:off x="1577880" y="177120"/>
                  <a:ext cx="264960" cy="3967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1361"/>
                <p:cNvSpPr/>
                <p:nvPr/>
              </p:nvSpPr>
              <p:spPr>
                <a:xfrm rot="12159000">
                  <a:off x="1582920" y="290880"/>
                  <a:ext cx="224640" cy="1879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1362"/>
                <p:cNvSpPr/>
                <p:nvPr/>
              </p:nvSpPr>
              <p:spPr>
                <a:xfrm rot="12159000">
                  <a:off x="1488240" y="268560"/>
                  <a:ext cx="327240" cy="2343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1363"/>
                <p:cNvSpPr/>
                <p:nvPr/>
              </p:nvSpPr>
              <p:spPr>
                <a:xfrm rot="12159000">
                  <a:off x="1676160" y="381600"/>
                  <a:ext cx="106560" cy="230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364"/>
                <p:cNvSpPr/>
                <p:nvPr/>
              </p:nvSpPr>
              <p:spPr>
                <a:xfrm rot="12159000">
                  <a:off x="1602720" y="401040"/>
                  <a:ext cx="137520" cy="860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365"/>
                <p:cNvSpPr/>
                <p:nvPr/>
              </p:nvSpPr>
              <p:spPr>
                <a:xfrm rot="12159000">
                  <a:off x="1557000" y="415440"/>
                  <a:ext cx="151560" cy="114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366"/>
                <p:cNvSpPr/>
                <p:nvPr/>
              </p:nvSpPr>
              <p:spPr>
                <a:xfrm rot="12159000">
                  <a:off x="1737720" y="364680"/>
                  <a:ext cx="63000" cy="144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367"/>
                <p:cNvSpPr/>
                <p:nvPr/>
              </p:nvSpPr>
              <p:spPr>
                <a:xfrm rot="12159000">
                  <a:off x="1791360" y="352440"/>
                  <a:ext cx="3276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368"/>
                <p:cNvSpPr/>
                <p:nvPr/>
              </p:nvSpPr>
              <p:spPr>
                <a:xfrm rot="12159000">
                  <a:off x="1791720" y="314280"/>
                  <a:ext cx="23760" cy="403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1369"/>
                <p:cNvSpPr/>
                <p:nvPr/>
              </p:nvSpPr>
              <p:spPr>
                <a:xfrm rot="12159000">
                  <a:off x="1755000" y="290520"/>
                  <a:ext cx="42120" cy="748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1370"/>
                <p:cNvSpPr/>
                <p:nvPr/>
              </p:nvSpPr>
              <p:spPr>
                <a:xfrm rot="12159000">
                  <a:off x="1701720" y="252000"/>
                  <a:ext cx="67320" cy="1317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1371"/>
                <p:cNvSpPr/>
                <p:nvPr/>
              </p:nvSpPr>
              <p:spPr>
                <a:xfrm rot="12159000">
                  <a:off x="1656000" y="208080"/>
                  <a:ext cx="72360" cy="1922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1372"/>
                <p:cNvSpPr/>
                <p:nvPr/>
              </p:nvSpPr>
              <p:spPr>
                <a:xfrm rot="12159000">
                  <a:off x="1713960" y="209520"/>
                  <a:ext cx="8280" cy="766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1373"/>
                <p:cNvSpPr/>
                <p:nvPr/>
              </p:nvSpPr>
              <p:spPr>
                <a:xfrm rot="12159000">
                  <a:off x="1622520" y="174600"/>
                  <a:ext cx="50040" cy="23724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1374"/>
                <p:cNvSpPr/>
                <p:nvPr/>
              </p:nvSpPr>
              <p:spPr>
                <a:xfrm rot="12159000">
                  <a:off x="1675800" y="290880"/>
                  <a:ext cx="37080" cy="37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1375"/>
                <p:cNvSpPr/>
                <p:nvPr/>
              </p:nvSpPr>
              <p:spPr>
                <a:xfrm rot="12159000">
                  <a:off x="1750320" y="252720"/>
                  <a:ext cx="17640" cy="6048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1376"/>
                <p:cNvSpPr/>
                <p:nvPr/>
              </p:nvSpPr>
              <p:spPr>
                <a:xfrm rot="12159000">
                  <a:off x="1722960" y="390960"/>
                  <a:ext cx="38520" cy="129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1377"/>
                <p:cNvSpPr/>
                <p:nvPr/>
              </p:nvSpPr>
              <p:spPr>
                <a:xfrm rot="12159000">
                  <a:off x="1731960" y="410760"/>
                  <a:ext cx="23760" cy="230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1378"/>
                <p:cNvSpPr/>
                <p:nvPr/>
              </p:nvSpPr>
              <p:spPr>
                <a:xfrm rot="12159000">
                  <a:off x="1721160" y="279000"/>
                  <a:ext cx="8280" cy="144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1379"/>
                <p:cNvSpPr/>
                <p:nvPr/>
              </p:nvSpPr>
              <p:spPr>
                <a:xfrm rot="12159000">
                  <a:off x="1710720" y="434520"/>
                  <a:ext cx="6480" cy="792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1380"/>
                <p:cNvSpPr/>
                <p:nvPr/>
              </p:nvSpPr>
              <p:spPr>
                <a:xfrm rot="12159000">
                  <a:off x="1666080" y="468000"/>
                  <a:ext cx="828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1381"/>
                <p:cNvSpPr/>
                <p:nvPr/>
              </p:nvSpPr>
              <p:spPr>
                <a:xfrm rot="12159000">
                  <a:off x="1783080" y="399600"/>
                  <a:ext cx="6120" cy="57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6" name="Group 1382"/>
              <p:cNvGrpSpPr/>
              <p:nvPr/>
            </p:nvGrpSpPr>
            <p:grpSpPr>
              <a:xfrm>
                <a:off x="1434240" y="421560"/>
                <a:ext cx="42840" cy="43560"/>
                <a:chOff x="1434240" y="421560"/>
                <a:chExt cx="42840" cy="43560"/>
              </a:xfrm>
            </p:grpSpPr>
            <p:sp>
              <p:nvSpPr>
                <p:cNvPr id="1177" name="Freeform 1383"/>
                <p:cNvSpPr/>
                <p:nvPr/>
              </p:nvSpPr>
              <p:spPr>
                <a:xfrm rot="7794000">
                  <a:off x="1438920" y="42912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1384"/>
                <p:cNvSpPr/>
                <p:nvPr/>
              </p:nvSpPr>
              <p:spPr>
                <a:xfrm rot="4147200">
                  <a:off x="1451520" y="428040"/>
                  <a:ext cx="14040" cy="2016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9" name="Group 1385"/>
          <p:cNvGrpSpPr/>
          <p:nvPr/>
        </p:nvGrpSpPr>
        <p:grpSpPr>
          <a:xfrm>
            <a:off x="-192600" y="755640"/>
            <a:ext cx="1492920" cy="1305000"/>
            <a:chOff x="-192600" y="755640"/>
            <a:chExt cx="1492920" cy="1305000"/>
          </a:xfrm>
        </p:grpSpPr>
        <p:sp>
          <p:nvSpPr>
            <p:cNvPr id="1180" name="Freeform 1386"/>
            <p:cNvSpPr/>
            <p:nvPr/>
          </p:nvSpPr>
          <p:spPr>
            <a:xfrm flipH="1" rot="4059600">
              <a:off x="374760" y="722160"/>
              <a:ext cx="216720" cy="119052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387"/>
            <p:cNvSpPr/>
            <p:nvPr/>
          </p:nvSpPr>
          <p:spPr>
            <a:xfrm flipH="1" rot="4059600">
              <a:off x="-19440" y="1599120"/>
              <a:ext cx="24120" cy="4572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2" name="Group 1388"/>
            <p:cNvGrpSpPr/>
            <p:nvPr/>
          </p:nvGrpSpPr>
          <p:grpSpPr>
            <a:xfrm>
              <a:off x="-123840" y="1514160"/>
              <a:ext cx="497520" cy="546480"/>
              <a:chOff x="-123840" y="1514160"/>
              <a:chExt cx="497520" cy="546480"/>
            </a:xfrm>
          </p:grpSpPr>
          <p:grpSp>
            <p:nvGrpSpPr>
              <p:cNvPr id="1183" name="Group 1389"/>
              <p:cNvGrpSpPr/>
              <p:nvPr/>
            </p:nvGrpSpPr>
            <p:grpSpPr>
              <a:xfrm>
                <a:off x="-123840" y="1518840"/>
                <a:ext cx="497520" cy="541800"/>
                <a:chOff x="-123840" y="1518840"/>
                <a:chExt cx="497520" cy="541800"/>
              </a:xfrm>
            </p:grpSpPr>
            <p:sp>
              <p:nvSpPr>
                <p:cNvPr id="1184" name="Freeform 1390"/>
                <p:cNvSpPr/>
                <p:nvPr/>
              </p:nvSpPr>
              <p:spPr>
                <a:xfrm flipH="1" rot="3919200">
                  <a:off x="-42120" y="1629000"/>
                  <a:ext cx="334800" cy="3938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1391"/>
                <p:cNvSpPr/>
                <p:nvPr/>
              </p:nvSpPr>
              <p:spPr>
                <a:xfrm flipH="1" rot="3919200">
                  <a:off x="-10080" y="1714320"/>
                  <a:ext cx="284040" cy="18684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1392"/>
                <p:cNvSpPr/>
                <p:nvPr/>
              </p:nvSpPr>
              <p:spPr>
                <a:xfrm flipH="1" rot="3919200">
                  <a:off x="-79920" y="1638720"/>
                  <a:ext cx="413640" cy="2325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1393"/>
                <p:cNvSpPr/>
                <p:nvPr/>
              </p:nvSpPr>
              <p:spPr>
                <a:xfrm flipH="1" rot="3919200">
                  <a:off x="78480" y="1838160"/>
                  <a:ext cx="134280" cy="230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1394"/>
                <p:cNvSpPr/>
                <p:nvPr/>
              </p:nvSpPr>
              <p:spPr>
                <a:xfrm flipH="1" rot="3919200">
                  <a:off x="104040" y="1739880"/>
                  <a:ext cx="173520" cy="860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1395"/>
                <p:cNvSpPr/>
                <p:nvPr/>
              </p:nvSpPr>
              <p:spPr>
                <a:xfrm flipH="1" rot="3919200">
                  <a:off x="118800" y="1680120"/>
                  <a:ext cx="191520" cy="1137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1396"/>
                <p:cNvSpPr/>
                <p:nvPr/>
              </p:nvSpPr>
              <p:spPr>
                <a:xfrm flipH="1" rot="3919200">
                  <a:off x="89280" y="1890000"/>
                  <a:ext cx="79560" cy="147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1397"/>
                <p:cNvSpPr/>
                <p:nvPr/>
              </p:nvSpPr>
              <p:spPr>
                <a:xfrm flipH="1" rot="3919200">
                  <a:off x="96120" y="1940760"/>
                  <a:ext cx="4140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1398"/>
                <p:cNvSpPr/>
                <p:nvPr/>
              </p:nvSpPr>
              <p:spPr>
                <a:xfrm flipH="1" rot="3919200">
                  <a:off x="79920" y="1917720"/>
                  <a:ext cx="30240" cy="403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1399"/>
                <p:cNvSpPr/>
                <p:nvPr/>
              </p:nvSpPr>
              <p:spPr>
                <a:xfrm flipH="1" rot="3919200">
                  <a:off x="58320" y="1865880"/>
                  <a:ext cx="52920" cy="74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1400"/>
                <p:cNvSpPr/>
                <p:nvPr/>
              </p:nvSpPr>
              <p:spPr>
                <a:xfrm flipH="1" rot="3919200">
                  <a:off x="26280" y="1787400"/>
                  <a:ext cx="84960" cy="1306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1401"/>
                <p:cNvSpPr/>
                <p:nvPr/>
              </p:nvSpPr>
              <p:spPr>
                <a:xfrm flipH="1" rot="3919200">
                  <a:off x="2520" y="1703880"/>
                  <a:ext cx="91440" cy="1915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402"/>
                <p:cNvSpPr/>
                <p:nvPr/>
              </p:nvSpPr>
              <p:spPr>
                <a:xfrm flipH="1" rot="3919200">
                  <a:off x="-11520" y="1789200"/>
                  <a:ext cx="9720" cy="76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1403"/>
                <p:cNvSpPr/>
                <p:nvPr/>
              </p:nvSpPr>
              <p:spPr>
                <a:xfrm flipH="1" rot="3919200">
                  <a:off x="-1080" y="1626120"/>
                  <a:ext cx="63000" cy="23544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1404"/>
                <p:cNvSpPr/>
                <p:nvPr/>
              </p:nvSpPr>
              <p:spPr>
                <a:xfrm flipH="1" rot="3919200">
                  <a:off x="30240" y="1783440"/>
                  <a:ext cx="46800" cy="37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1405"/>
                <p:cNvSpPr/>
                <p:nvPr/>
              </p:nvSpPr>
              <p:spPr>
                <a:xfrm flipH="1" rot="3919200">
                  <a:off x="24120" y="1849320"/>
                  <a:ext cx="22680" cy="601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406"/>
                <p:cNvSpPr/>
                <p:nvPr/>
              </p:nvSpPr>
              <p:spPr>
                <a:xfrm flipH="1" rot="3919200">
                  <a:off x="126720" y="1859760"/>
                  <a:ext cx="48960" cy="129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1407"/>
                <p:cNvSpPr/>
                <p:nvPr/>
              </p:nvSpPr>
              <p:spPr>
                <a:xfrm flipH="1" rot="3919200">
                  <a:off x="163080" y="1858680"/>
                  <a:ext cx="30240" cy="230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1408"/>
                <p:cNvSpPr/>
                <p:nvPr/>
              </p:nvSpPr>
              <p:spPr>
                <a:xfrm flipH="1" rot="3919200">
                  <a:off x="29880" y="1832040"/>
                  <a:ext cx="9720" cy="144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409"/>
                <p:cNvSpPr/>
                <p:nvPr/>
              </p:nvSpPr>
              <p:spPr>
                <a:xfrm flipH="1" rot="3919200">
                  <a:off x="185760" y="183060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1410"/>
                <p:cNvSpPr/>
                <p:nvPr/>
              </p:nvSpPr>
              <p:spPr>
                <a:xfrm flipH="1" rot="3919200">
                  <a:off x="215640" y="177840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1411"/>
                <p:cNvSpPr/>
                <p:nvPr/>
              </p:nvSpPr>
              <p:spPr>
                <a:xfrm flipH="1" rot="3919200">
                  <a:off x="159840" y="191772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412"/>
              <p:cNvGrpSpPr/>
              <p:nvPr/>
            </p:nvGrpSpPr>
            <p:grpSpPr>
              <a:xfrm>
                <a:off x="134640" y="1514160"/>
                <a:ext cx="47880" cy="48240"/>
                <a:chOff x="134640" y="1514160"/>
                <a:chExt cx="47880" cy="48240"/>
              </a:xfrm>
            </p:grpSpPr>
            <p:sp>
              <p:nvSpPr>
                <p:cNvPr id="1207" name="Freeform 1413"/>
                <p:cNvSpPr/>
                <p:nvPr/>
              </p:nvSpPr>
              <p:spPr>
                <a:xfrm flipH="1" rot="8284200">
                  <a:off x="141840" y="1520640"/>
                  <a:ext cx="3276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1414"/>
                <p:cNvSpPr/>
                <p:nvPr/>
              </p:nvSpPr>
              <p:spPr>
                <a:xfrm flipH="1" rot="11931000">
                  <a:off x="142560" y="153180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9" name="Group 1415"/>
            <p:cNvGrpSpPr/>
            <p:nvPr/>
          </p:nvGrpSpPr>
          <p:grpSpPr>
            <a:xfrm>
              <a:off x="130680" y="1356480"/>
              <a:ext cx="555480" cy="429120"/>
              <a:chOff x="130680" y="1356480"/>
              <a:chExt cx="555480" cy="429120"/>
            </a:xfrm>
          </p:grpSpPr>
          <p:grpSp>
            <p:nvGrpSpPr>
              <p:cNvPr id="1210" name="Group 1416"/>
              <p:cNvGrpSpPr/>
              <p:nvPr/>
            </p:nvGrpSpPr>
            <p:grpSpPr>
              <a:xfrm>
                <a:off x="130680" y="1356480"/>
                <a:ext cx="555480" cy="429120"/>
                <a:chOff x="130680" y="1356480"/>
                <a:chExt cx="555480" cy="429120"/>
              </a:xfrm>
            </p:grpSpPr>
            <p:sp>
              <p:nvSpPr>
                <p:cNvPr id="1211" name="Freeform 1417"/>
                <p:cNvSpPr/>
                <p:nvPr/>
              </p:nvSpPr>
              <p:spPr>
                <a:xfrm flipH="1" rot="20756400">
                  <a:off x="270360" y="1397160"/>
                  <a:ext cx="379080" cy="347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1418"/>
                <p:cNvSpPr/>
                <p:nvPr/>
              </p:nvSpPr>
              <p:spPr>
                <a:xfrm flipH="1" rot="20756400">
                  <a:off x="280080" y="1479960"/>
                  <a:ext cx="321480" cy="1648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419"/>
                <p:cNvSpPr/>
                <p:nvPr/>
              </p:nvSpPr>
              <p:spPr>
                <a:xfrm flipH="1" rot="20756400">
                  <a:off x="148320" y="1458360"/>
                  <a:ext cx="468360" cy="20520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1420"/>
                <p:cNvSpPr/>
                <p:nvPr/>
              </p:nvSpPr>
              <p:spPr>
                <a:xfrm flipH="1" rot="20756400">
                  <a:off x="414720" y="1545120"/>
                  <a:ext cx="15192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1421"/>
                <p:cNvSpPr/>
                <p:nvPr/>
              </p:nvSpPr>
              <p:spPr>
                <a:xfrm flipH="1" rot="20756400">
                  <a:off x="330840" y="1469520"/>
                  <a:ext cx="196560" cy="752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1422"/>
                <p:cNvSpPr/>
                <p:nvPr/>
              </p:nvSpPr>
              <p:spPr>
                <a:xfrm flipH="1" rot="20756400">
                  <a:off x="277200" y="1431000"/>
                  <a:ext cx="216720" cy="100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423"/>
                <p:cNvSpPr/>
                <p:nvPr/>
              </p:nvSpPr>
              <p:spPr>
                <a:xfrm flipH="1" rot="20756400">
                  <a:off x="492840" y="1568160"/>
                  <a:ext cx="90360" cy="126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1424"/>
                <p:cNvSpPr/>
                <p:nvPr/>
              </p:nvSpPr>
              <p:spPr>
                <a:xfrm flipH="1" rot="20756400">
                  <a:off x="561600" y="1587240"/>
                  <a:ext cx="4716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1425"/>
                <p:cNvSpPr/>
                <p:nvPr/>
              </p:nvSpPr>
              <p:spPr>
                <a:xfrm flipH="1" rot="20756400">
                  <a:off x="555480" y="1591200"/>
                  <a:ext cx="34200" cy="356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1426"/>
                <p:cNvSpPr/>
                <p:nvPr/>
              </p:nvSpPr>
              <p:spPr>
                <a:xfrm flipH="1" rot="20756400">
                  <a:off x="502200" y="1582200"/>
                  <a:ext cx="60120" cy="651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427"/>
                <p:cNvSpPr/>
                <p:nvPr/>
              </p:nvSpPr>
              <p:spPr>
                <a:xfrm flipH="1" rot="20756400">
                  <a:off x="424800" y="1566000"/>
                  <a:ext cx="96120" cy="11556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1428"/>
                <p:cNvSpPr/>
                <p:nvPr/>
              </p:nvSpPr>
              <p:spPr>
                <a:xfrm flipH="1" rot="20756400">
                  <a:off x="359280" y="1551600"/>
                  <a:ext cx="103320" cy="16884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1429"/>
                <p:cNvSpPr/>
                <p:nvPr/>
              </p:nvSpPr>
              <p:spPr>
                <a:xfrm flipH="1" rot="20756400">
                  <a:off x="421200" y="1654560"/>
                  <a:ext cx="11160" cy="669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430"/>
                <p:cNvSpPr/>
                <p:nvPr/>
              </p:nvSpPr>
              <p:spPr>
                <a:xfrm flipH="1" rot="20756400">
                  <a:off x="308880" y="1542240"/>
                  <a:ext cx="71640" cy="207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1431"/>
                <p:cNvSpPr/>
                <p:nvPr/>
              </p:nvSpPr>
              <p:spPr>
                <a:xfrm flipH="1" rot="20756400">
                  <a:off x="387720" y="1614960"/>
                  <a:ext cx="52920" cy="32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1432"/>
                <p:cNvSpPr/>
                <p:nvPr/>
              </p:nvSpPr>
              <p:spPr>
                <a:xfrm flipH="1" rot="20756400">
                  <a:off x="480960" y="1629360"/>
                  <a:ext cx="25560" cy="529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433"/>
                <p:cNvSpPr/>
                <p:nvPr/>
              </p:nvSpPr>
              <p:spPr>
                <a:xfrm flipH="1" rot="20756400">
                  <a:off x="482040" y="1545120"/>
                  <a:ext cx="5580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1434"/>
                <p:cNvSpPr/>
                <p:nvPr/>
              </p:nvSpPr>
              <p:spPr>
                <a:xfrm flipH="1" rot="20756400">
                  <a:off x="504360" y="1517400"/>
                  <a:ext cx="34200" cy="201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Freeform 1435"/>
                <p:cNvSpPr/>
                <p:nvPr/>
              </p:nvSpPr>
              <p:spPr>
                <a:xfrm flipH="1" rot="20756400">
                  <a:off x="444600" y="1646640"/>
                  <a:ext cx="11160" cy="12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436"/>
                <p:cNvSpPr/>
                <p:nvPr/>
              </p:nvSpPr>
              <p:spPr>
                <a:xfrm flipH="1" rot="20756400">
                  <a:off x="481320" y="1509480"/>
                  <a:ext cx="1008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Freeform 1437"/>
                <p:cNvSpPr/>
                <p:nvPr/>
              </p:nvSpPr>
              <p:spPr>
                <a:xfrm flipH="1" rot="20756400">
                  <a:off x="432000" y="147564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1438"/>
                <p:cNvSpPr/>
                <p:nvPr/>
              </p:nvSpPr>
              <p:spPr>
                <a:xfrm flipH="1" rot="20756400">
                  <a:off x="567720" y="1544040"/>
                  <a:ext cx="864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3" name="Group 1439"/>
              <p:cNvGrpSpPr/>
              <p:nvPr/>
            </p:nvGrpSpPr>
            <p:grpSpPr>
              <a:xfrm>
                <a:off x="148320" y="1494360"/>
                <a:ext cx="48960" cy="45360"/>
                <a:chOff x="148320" y="1494360"/>
                <a:chExt cx="48960" cy="45360"/>
              </a:xfrm>
            </p:grpSpPr>
            <p:sp>
              <p:nvSpPr>
                <p:cNvPr id="1234" name="Freeform 1440"/>
                <p:cNvSpPr/>
                <p:nvPr/>
              </p:nvSpPr>
              <p:spPr>
                <a:xfrm flipH="1" rot="3520800">
                  <a:off x="158400" y="1496880"/>
                  <a:ext cx="28800" cy="3996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441"/>
                <p:cNvSpPr/>
                <p:nvPr/>
              </p:nvSpPr>
              <p:spPr>
                <a:xfrm flipH="1" rot="7167600">
                  <a:off x="164520" y="1513440"/>
                  <a:ext cx="20160" cy="176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6" name="Group 1442"/>
            <p:cNvGrpSpPr/>
            <p:nvPr/>
          </p:nvGrpSpPr>
          <p:grpSpPr>
            <a:xfrm>
              <a:off x="-192600" y="921960"/>
              <a:ext cx="836640" cy="570960"/>
              <a:chOff x="-192600" y="921960"/>
              <a:chExt cx="836640" cy="570960"/>
            </a:xfrm>
          </p:grpSpPr>
          <p:grpSp>
            <p:nvGrpSpPr>
              <p:cNvPr id="1237" name="Group 1443"/>
              <p:cNvGrpSpPr/>
              <p:nvPr/>
            </p:nvGrpSpPr>
            <p:grpSpPr>
              <a:xfrm>
                <a:off x="-192600" y="1026720"/>
                <a:ext cx="448200" cy="466200"/>
                <a:chOff x="-192600" y="1026720"/>
                <a:chExt cx="448200" cy="466200"/>
              </a:xfrm>
            </p:grpSpPr>
            <p:grpSp>
              <p:nvGrpSpPr>
                <p:cNvPr id="1238" name="Group 1444"/>
                <p:cNvGrpSpPr/>
                <p:nvPr/>
              </p:nvGrpSpPr>
              <p:grpSpPr>
                <a:xfrm>
                  <a:off x="-192600" y="1026720"/>
                  <a:ext cx="446760" cy="466200"/>
                  <a:chOff x="-192600" y="1026720"/>
                  <a:chExt cx="446760" cy="466200"/>
                </a:xfrm>
              </p:grpSpPr>
              <p:sp>
                <p:nvSpPr>
                  <p:cNvPr id="1239" name="Freeform 1445"/>
                  <p:cNvSpPr/>
                  <p:nvPr/>
                </p:nvSpPr>
                <p:spPr>
                  <a:xfrm rot="4199400">
                    <a:off x="-122760" y="1051200"/>
                    <a:ext cx="3074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0" name="Freeform 1446"/>
                  <p:cNvSpPr/>
                  <p:nvPr/>
                </p:nvSpPr>
                <p:spPr>
                  <a:xfrm rot="4199400">
                    <a:off x="-82440" y="1154520"/>
                    <a:ext cx="2610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Freeform 1447"/>
                  <p:cNvSpPr/>
                  <p:nvPr/>
                </p:nvSpPr>
                <p:spPr>
                  <a:xfrm rot="4199400">
                    <a:off x="-111600" y="1170360"/>
                    <a:ext cx="379800" cy="214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Freeform 1448"/>
                  <p:cNvSpPr/>
                  <p:nvPr/>
                </p:nvSpPr>
                <p:spPr>
                  <a:xfrm rot="4199400">
                    <a:off x="-32400" y="1193400"/>
                    <a:ext cx="1234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Freeform 1449"/>
                  <p:cNvSpPr/>
                  <p:nvPr/>
                </p:nvSpPr>
                <p:spPr>
                  <a:xfrm rot="4199400">
                    <a:off x="22680" y="1179720"/>
                    <a:ext cx="159480" cy="78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Freeform 1450"/>
                  <p:cNvSpPr/>
                  <p:nvPr/>
                </p:nvSpPr>
                <p:spPr>
                  <a:xfrm rot="4199400">
                    <a:off x="58680" y="1180800"/>
                    <a:ext cx="17604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Freeform 1451"/>
                  <p:cNvSpPr/>
                  <p:nvPr/>
                </p:nvSpPr>
                <p:spPr>
                  <a:xfrm rot="4199400">
                    <a:off x="-48240" y="1176840"/>
                    <a:ext cx="730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Freeform 1452"/>
                  <p:cNvSpPr/>
                  <p:nvPr/>
                </p:nvSpPr>
                <p:spPr>
                  <a:xfrm rot="4199400">
                    <a:off x="-68760" y="1158480"/>
                    <a:ext cx="3816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Freeform 1453"/>
                  <p:cNvSpPr/>
                  <p:nvPr/>
                </p:nvSpPr>
                <p:spPr>
                  <a:xfrm rot="4199400">
                    <a:off x="-73800" y="1160640"/>
                    <a:ext cx="2772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Freeform 1454"/>
                  <p:cNvSpPr/>
                  <p:nvPr/>
                </p:nvSpPr>
                <p:spPr>
                  <a:xfrm rot="4199400">
                    <a:off x="-69480" y="1173960"/>
                    <a:ext cx="48600" cy="687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960" bIns="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Freeform 1455"/>
                  <p:cNvSpPr/>
                  <p:nvPr/>
                </p:nvSpPr>
                <p:spPr>
                  <a:xfrm rot="4199400">
                    <a:off x="-62280" y="1191960"/>
                    <a:ext cx="7812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Freeform 1456"/>
                  <p:cNvSpPr/>
                  <p:nvPr/>
                </p:nvSpPr>
                <p:spPr>
                  <a:xfrm rot="4199400">
                    <a:off x="-43200" y="1211400"/>
                    <a:ext cx="8388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Freeform 1457"/>
                  <p:cNvSpPr/>
                  <p:nvPr/>
                </p:nvSpPr>
                <p:spPr>
                  <a:xfrm rot="4199400">
                    <a:off x="-60480" y="1282320"/>
                    <a:ext cx="9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Freeform 1458"/>
                  <p:cNvSpPr/>
                  <p:nvPr/>
                </p:nvSpPr>
                <p:spPr>
                  <a:xfrm rot="4199400">
                    <a:off x="-6480" y="1239480"/>
                    <a:ext cx="5796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Freeform 1459"/>
                  <p:cNvSpPr/>
                  <p:nvPr/>
                </p:nvSpPr>
                <p:spPr>
                  <a:xfrm rot="4199400">
                    <a:off x="-21600" y="1277280"/>
                    <a:ext cx="428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Freeform 1460"/>
                  <p:cNvSpPr/>
                  <p:nvPr/>
                </p:nvSpPr>
                <p:spPr>
                  <a:xfrm rot="4199400">
                    <a:off x="-72720" y="1228320"/>
                    <a:ext cx="212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Freeform 1461"/>
                  <p:cNvSpPr/>
                  <p:nvPr/>
                </p:nvSpPr>
                <p:spPr>
                  <a:xfrm rot="4199400">
                    <a:off x="720" y="1183680"/>
                    <a:ext cx="453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Freeform 1462"/>
                  <p:cNvSpPr/>
                  <p:nvPr/>
                </p:nvSpPr>
                <p:spPr>
                  <a:xfrm rot="4199400">
                    <a:off x="23760" y="1158840"/>
                    <a:ext cx="277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Freeform 1463"/>
                  <p:cNvSpPr/>
                  <p:nvPr/>
                </p:nvSpPr>
                <p:spPr>
                  <a:xfrm rot="4199400">
                    <a:off x="-41040" y="1276560"/>
                    <a:ext cx="90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Freeform 1464"/>
                  <p:cNvSpPr/>
                  <p:nvPr/>
                </p:nvSpPr>
                <p:spPr>
                  <a:xfrm rot="4199400">
                    <a:off x="64440" y="1180800"/>
                    <a:ext cx="79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Freeform 1465"/>
                  <p:cNvSpPr/>
                  <p:nvPr/>
                </p:nvSpPr>
                <p:spPr>
                  <a:xfrm rot="4199400">
                    <a:off x="117360" y="1193760"/>
                    <a:ext cx="900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Freeform 1466"/>
                  <p:cNvSpPr/>
                  <p:nvPr/>
                </p:nvSpPr>
                <p:spPr>
                  <a:xfrm rot="4199400">
                    <a:off x="-8280" y="1143360"/>
                    <a:ext cx="684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" name="Group 1467"/>
                <p:cNvGrpSpPr/>
                <p:nvPr/>
              </p:nvGrpSpPr>
              <p:grpSpPr>
                <a:xfrm>
                  <a:off x="222120" y="1382400"/>
                  <a:ext cx="33480" cy="34200"/>
                  <a:chOff x="222120" y="1382400"/>
                  <a:chExt cx="33480" cy="34200"/>
                </a:xfrm>
              </p:grpSpPr>
              <p:sp>
                <p:nvSpPr>
                  <p:cNvPr id="1262" name="Freeform 1468"/>
                  <p:cNvSpPr/>
                  <p:nvPr/>
                </p:nvSpPr>
                <p:spPr>
                  <a:xfrm rot="21435000">
                    <a:off x="224640" y="1382760"/>
                    <a:ext cx="3024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Freeform 1469"/>
                  <p:cNvSpPr/>
                  <p:nvPr/>
                </p:nvSpPr>
                <p:spPr>
                  <a:xfrm rot="17788200">
                    <a:off x="225360" y="1391400"/>
                    <a:ext cx="1656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4" name="Group 1470"/>
              <p:cNvGrpSpPr/>
              <p:nvPr/>
            </p:nvGrpSpPr>
            <p:grpSpPr>
              <a:xfrm>
                <a:off x="151200" y="921960"/>
                <a:ext cx="492840" cy="504000"/>
                <a:chOff x="151200" y="921960"/>
                <a:chExt cx="492840" cy="504000"/>
              </a:xfrm>
            </p:grpSpPr>
            <p:grpSp>
              <p:nvGrpSpPr>
                <p:cNvPr id="1265" name="Group 1471"/>
                <p:cNvGrpSpPr/>
                <p:nvPr/>
              </p:nvGrpSpPr>
              <p:grpSpPr>
                <a:xfrm>
                  <a:off x="151200" y="921960"/>
                  <a:ext cx="492840" cy="504000"/>
                  <a:chOff x="151200" y="921960"/>
                  <a:chExt cx="492840" cy="504000"/>
                </a:xfrm>
              </p:grpSpPr>
              <p:sp>
                <p:nvSpPr>
                  <p:cNvPr id="1266" name="Freeform 1472"/>
                  <p:cNvSpPr/>
                  <p:nvPr/>
                </p:nvSpPr>
                <p:spPr>
                  <a:xfrm rot="8424000">
                    <a:off x="236880" y="994320"/>
                    <a:ext cx="343800" cy="32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Freeform 1473"/>
                  <p:cNvSpPr/>
                  <p:nvPr/>
                </p:nvSpPr>
                <p:spPr>
                  <a:xfrm rot="8424000">
                    <a:off x="259560" y="1097280"/>
                    <a:ext cx="29124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Freeform 1474"/>
                  <p:cNvSpPr/>
                  <p:nvPr/>
                </p:nvSpPr>
                <p:spPr>
                  <a:xfrm rot="8424000">
                    <a:off x="162720" y="1121760"/>
                    <a:ext cx="42444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Freeform 1475"/>
                  <p:cNvSpPr/>
                  <p:nvPr/>
                </p:nvSpPr>
                <p:spPr>
                  <a:xfrm rot="8424000">
                    <a:off x="368280" y="1132200"/>
                    <a:ext cx="1378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Freeform 1476"/>
                  <p:cNvSpPr/>
                  <p:nvPr/>
                </p:nvSpPr>
                <p:spPr>
                  <a:xfrm rot="8424000">
                    <a:off x="350280" y="1177200"/>
                    <a:ext cx="178200" cy="7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Freeform 1477"/>
                  <p:cNvSpPr/>
                  <p:nvPr/>
                </p:nvSpPr>
                <p:spPr>
                  <a:xfrm rot="8424000">
                    <a:off x="338040" y="1212120"/>
                    <a:ext cx="19656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Freeform 1478"/>
                  <p:cNvSpPr/>
                  <p:nvPr/>
                </p:nvSpPr>
                <p:spPr>
                  <a:xfrm rot="8424000">
                    <a:off x="407160" y="1089360"/>
                    <a:ext cx="817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Freeform 1479"/>
                  <p:cNvSpPr/>
                  <p:nvPr/>
                </p:nvSpPr>
                <p:spPr>
                  <a:xfrm rot="8424000">
                    <a:off x="440280" y="1050120"/>
                    <a:ext cx="424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Freeform 1480"/>
                  <p:cNvSpPr/>
                  <p:nvPr/>
                </p:nvSpPr>
                <p:spPr>
                  <a:xfrm rot="8424000">
                    <a:off x="425160" y="1034640"/>
                    <a:ext cx="309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Freeform 1481"/>
                  <p:cNvSpPr/>
                  <p:nvPr/>
                </p:nvSpPr>
                <p:spPr>
                  <a:xfrm rot="8424000">
                    <a:off x="387720" y="1045800"/>
                    <a:ext cx="5436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Freeform 1482"/>
                  <p:cNvSpPr/>
                  <p:nvPr/>
                </p:nvSpPr>
                <p:spPr>
                  <a:xfrm rot="8424000">
                    <a:off x="333360" y="1062000"/>
                    <a:ext cx="8676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Freeform 1483"/>
                  <p:cNvSpPr/>
                  <p:nvPr/>
                </p:nvSpPr>
                <p:spPr>
                  <a:xfrm rot="8424000">
                    <a:off x="286920" y="1076400"/>
                    <a:ext cx="9360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Freeform 1484"/>
                  <p:cNvSpPr/>
                  <p:nvPr/>
                </p:nvSpPr>
                <p:spPr>
                  <a:xfrm rot="8424000">
                    <a:off x="298800" y="1083240"/>
                    <a:ext cx="100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Freeform 1485"/>
                  <p:cNvSpPr/>
                  <p:nvPr/>
                </p:nvSpPr>
                <p:spPr>
                  <a:xfrm rot="8424000">
                    <a:off x="258840" y="1100880"/>
                    <a:ext cx="64800" cy="19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Freeform 1486"/>
                  <p:cNvSpPr/>
                  <p:nvPr/>
                </p:nvSpPr>
                <p:spPr>
                  <a:xfrm rot="8424000">
                    <a:off x="315360" y="1139040"/>
                    <a:ext cx="478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Freeform 1487"/>
                  <p:cNvSpPr/>
                  <p:nvPr/>
                </p:nvSpPr>
                <p:spPr>
                  <a:xfrm rot="8424000">
                    <a:off x="352080" y="1058400"/>
                    <a:ext cx="230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Freeform 1488"/>
                  <p:cNvSpPr/>
                  <p:nvPr/>
                </p:nvSpPr>
                <p:spPr>
                  <a:xfrm rot="8424000">
                    <a:off x="425160" y="1124280"/>
                    <a:ext cx="50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Freeform 1489"/>
                  <p:cNvSpPr/>
                  <p:nvPr/>
                </p:nvSpPr>
                <p:spPr>
                  <a:xfrm rot="8424000">
                    <a:off x="458640" y="1124640"/>
                    <a:ext cx="309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4" name="Freeform 1490"/>
                  <p:cNvSpPr/>
                  <p:nvPr/>
                </p:nvSpPr>
                <p:spPr>
                  <a:xfrm rot="8424000">
                    <a:off x="337680" y="1110960"/>
                    <a:ext cx="100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Freeform 1491"/>
                  <p:cNvSpPr/>
                  <p:nvPr/>
                </p:nvSpPr>
                <p:spPr>
                  <a:xfrm rot="8424000">
                    <a:off x="460800" y="1164600"/>
                    <a:ext cx="900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Freeform 1492"/>
                  <p:cNvSpPr/>
                  <p:nvPr/>
                </p:nvSpPr>
                <p:spPr>
                  <a:xfrm rot="8424000">
                    <a:off x="459720" y="1216440"/>
                    <a:ext cx="100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Freeform 1493"/>
                  <p:cNvSpPr/>
                  <p:nvPr/>
                </p:nvSpPr>
                <p:spPr>
                  <a:xfrm rot="8424000">
                    <a:off x="482760" y="1083960"/>
                    <a:ext cx="792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8" name="Group 1494"/>
                <p:cNvGrpSpPr/>
                <p:nvPr/>
              </p:nvGrpSpPr>
              <p:grpSpPr>
                <a:xfrm>
                  <a:off x="273960" y="1379160"/>
                  <a:ext cx="43560" cy="38880"/>
                  <a:chOff x="273960" y="1379160"/>
                  <a:chExt cx="43560" cy="38880"/>
                </a:xfrm>
              </p:grpSpPr>
              <p:sp>
                <p:nvSpPr>
                  <p:cNvPr id="1289" name="Freeform 1495"/>
                  <p:cNvSpPr/>
                  <p:nvPr/>
                </p:nvSpPr>
                <p:spPr>
                  <a:xfrm rot="4059600">
                    <a:off x="281880" y="1380240"/>
                    <a:ext cx="2700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Freeform 1496"/>
                  <p:cNvSpPr/>
                  <p:nvPr/>
                </p:nvSpPr>
                <p:spPr>
                  <a:xfrm rot="412800">
                    <a:off x="283680" y="1385280"/>
                    <a:ext cx="183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91" name="Group 1497"/>
            <p:cNvGrpSpPr/>
            <p:nvPr/>
          </p:nvGrpSpPr>
          <p:grpSpPr>
            <a:xfrm>
              <a:off x="629280" y="1105560"/>
              <a:ext cx="453600" cy="330120"/>
              <a:chOff x="629280" y="1105560"/>
              <a:chExt cx="453600" cy="330120"/>
            </a:xfrm>
          </p:grpSpPr>
          <p:grpSp>
            <p:nvGrpSpPr>
              <p:cNvPr id="1292" name="Group 1498"/>
              <p:cNvGrpSpPr/>
              <p:nvPr/>
            </p:nvGrpSpPr>
            <p:grpSpPr>
              <a:xfrm>
                <a:off x="629280" y="1105560"/>
                <a:ext cx="453600" cy="330120"/>
                <a:chOff x="629280" y="1105560"/>
                <a:chExt cx="453600" cy="330120"/>
              </a:xfrm>
            </p:grpSpPr>
            <p:sp>
              <p:nvSpPr>
                <p:cNvPr id="1293" name="Freeform 1499"/>
                <p:cNvSpPr/>
                <p:nvPr/>
              </p:nvSpPr>
              <p:spPr>
                <a:xfrm flipH="1" rot="21294600">
                  <a:off x="740160" y="1119240"/>
                  <a:ext cx="329760" cy="3020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1500"/>
                <p:cNvSpPr/>
                <p:nvPr/>
              </p:nvSpPr>
              <p:spPr>
                <a:xfrm flipH="1" rot="21294600">
                  <a:off x="749880" y="1188360"/>
                  <a:ext cx="279720" cy="14328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1501"/>
                <p:cNvSpPr/>
                <p:nvPr/>
              </p:nvSpPr>
              <p:spPr>
                <a:xfrm flipH="1" rot="21294600">
                  <a:off x="635400" y="1162440"/>
                  <a:ext cx="407520" cy="1785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502"/>
                <p:cNvSpPr/>
                <p:nvPr/>
              </p:nvSpPr>
              <p:spPr>
                <a:xfrm flipH="1" rot="21294600">
                  <a:off x="867960" y="1251720"/>
                  <a:ext cx="132120" cy="1764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1503"/>
                <p:cNvSpPr/>
                <p:nvPr/>
              </p:nvSpPr>
              <p:spPr>
                <a:xfrm flipH="1" rot="21294600">
                  <a:off x="802080" y="1178640"/>
                  <a:ext cx="171000" cy="6588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1504"/>
                <p:cNvSpPr/>
                <p:nvPr/>
              </p:nvSpPr>
              <p:spPr>
                <a:xfrm flipH="1" rot="21294600">
                  <a:off x="759240" y="1139400"/>
                  <a:ext cx="188640" cy="871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1505"/>
                <p:cNvSpPr/>
                <p:nvPr/>
              </p:nvSpPr>
              <p:spPr>
                <a:xfrm flipH="1" rot="21294600">
                  <a:off x="933120" y="1278360"/>
                  <a:ext cx="78480" cy="111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506"/>
                <p:cNvSpPr/>
                <p:nvPr/>
              </p:nvSpPr>
              <p:spPr>
                <a:xfrm flipH="1" rot="21294600">
                  <a:off x="989280" y="1301400"/>
                  <a:ext cx="41040" cy="43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1507"/>
                <p:cNvSpPr/>
                <p:nvPr/>
              </p:nvSpPr>
              <p:spPr>
                <a:xfrm flipH="1" rot="21294600">
                  <a:off x="982080" y="1302480"/>
                  <a:ext cx="29880" cy="309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1508"/>
                <p:cNvSpPr/>
                <p:nvPr/>
              </p:nvSpPr>
              <p:spPr>
                <a:xfrm flipH="1" rot="21294600">
                  <a:off x="936360" y="1289880"/>
                  <a:ext cx="52200" cy="572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1509"/>
                <p:cNvSpPr/>
                <p:nvPr/>
              </p:nvSpPr>
              <p:spPr>
                <a:xfrm flipH="1" rot="21294600">
                  <a:off x="867240" y="1267560"/>
                  <a:ext cx="83880" cy="1004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510"/>
                <p:cNvSpPr/>
                <p:nvPr/>
              </p:nvSpPr>
              <p:spPr>
                <a:xfrm flipH="1" rot="21294600">
                  <a:off x="808920" y="1245960"/>
                  <a:ext cx="90000" cy="14688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Freeform 1511"/>
                <p:cNvSpPr/>
                <p:nvPr/>
              </p:nvSpPr>
              <p:spPr>
                <a:xfrm flipH="1" rot="21294600">
                  <a:off x="855360" y="1337040"/>
                  <a:ext cx="9720" cy="5868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Freeform 1512"/>
                <p:cNvSpPr/>
                <p:nvPr/>
              </p:nvSpPr>
              <p:spPr>
                <a:xfrm flipH="1" rot="21294600">
                  <a:off x="765360" y="1228680"/>
                  <a:ext cx="62280" cy="1807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1513"/>
                <p:cNvSpPr/>
                <p:nvPr/>
              </p:nvSpPr>
              <p:spPr>
                <a:xfrm flipH="1" rot="21294600">
                  <a:off x="834840" y="1302120"/>
                  <a:ext cx="45720" cy="284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514"/>
                <p:cNvSpPr/>
                <p:nvPr/>
              </p:nvSpPr>
              <p:spPr>
                <a:xfrm flipH="1" rot="21294600">
                  <a:off x="911520" y="1324800"/>
                  <a:ext cx="22320" cy="464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515"/>
                <p:cNvSpPr/>
                <p:nvPr/>
              </p:nvSpPr>
              <p:spPr>
                <a:xfrm flipH="1" rot="21294600">
                  <a:off x="927000" y="1254960"/>
                  <a:ext cx="48600" cy="972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1516"/>
                <p:cNvSpPr/>
                <p:nvPr/>
              </p:nvSpPr>
              <p:spPr>
                <a:xfrm flipH="1" rot="21294600">
                  <a:off x="948600" y="1232640"/>
                  <a:ext cx="29880" cy="1764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1517"/>
                <p:cNvSpPr/>
                <p:nvPr/>
              </p:nvSpPr>
              <p:spPr>
                <a:xfrm flipH="1" rot="21294600">
                  <a:off x="880200" y="1333440"/>
                  <a:ext cx="9720" cy="1080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1518"/>
                <p:cNvSpPr/>
                <p:nvPr/>
              </p:nvSpPr>
              <p:spPr>
                <a:xfrm flipH="1" rot="21294600">
                  <a:off x="930960" y="122076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1519"/>
                <p:cNvSpPr/>
                <p:nvPr/>
              </p:nvSpPr>
              <p:spPr>
                <a:xfrm flipH="1" rot="21294600">
                  <a:off x="894240" y="1185120"/>
                  <a:ext cx="9720" cy="864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1520"/>
                <p:cNvSpPr/>
                <p:nvPr/>
              </p:nvSpPr>
              <p:spPr>
                <a:xfrm flipH="1" rot="21294600">
                  <a:off x="1000800" y="1262520"/>
                  <a:ext cx="756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5" name="Group 1521"/>
              <p:cNvGrpSpPr/>
              <p:nvPr/>
            </p:nvGrpSpPr>
            <p:grpSpPr>
              <a:xfrm>
                <a:off x="644760" y="1166040"/>
                <a:ext cx="41760" cy="36360"/>
                <a:chOff x="644760" y="1166040"/>
                <a:chExt cx="41760" cy="36360"/>
              </a:xfrm>
            </p:grpSpPr>
            <p:sp>
              <p:nvSpPr>
                <p:cNvPr id="1316" name="Freeform 1522"/>
                <p:cNvSpPr/>
                <p:nvPr/>
              </p:nvSpPr>
              <p:spPr>
                <a:xfrm flipH="1" rot="4059600">
                  <a:off x="652680" y="1167120"/>
                  <a:ext cx="25200" cy="3456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1523"/>
                <p:cNvSpPr/>
                <p:nvPr/>
              </p:nvSpPr>
              <p:spPr>
                <a:xfrm flipH="1" rot="7706400">
                  <a:off x="657720" y="1181520"/>
                  <a:ext cx="17280" cy="154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8" name="Group 1524"/>
            <p:cNvGrpSpPr/>
            <p:nvPr/>
          </p:nvGrpSpPr>
          <p:grpSpPr>
            <a:xfrm>
              <a:off x="528480" y="755640"/>
              <a:ext cx="371520" cy="427320"/>
              <a:chOff x="528480" y="755640"/>
              <a:chExt cx="371520" cy="427320"/>
            </a:xfrm>
          </p:grpSpPr>
          <p:grpSp>
            <p:nvGrpSpPr>
              <p:cNvPr id="1319" name="Group 1525"/>
              <p:cNvGrpSpPr/>
              <p:nvPr/>
            </p:nvGrpSpPr>
            <p:grpSpPr>
              <a:xfrm>
                <a:off x="528480" y="755640"/>
                <a:ext cx="371520" cy="427320"/>
                <a:chOff x="528480" y="755640"/>
                <a:chExt cx="371520" cy="427320"/>
              </a:xfrm>
            </p:grpSpPr>
            <p:sp>
              <p:nvSpPr>
                <p:cNvPr id="1320" name="Freeform 1526"/>
                <p:cNvSpPr/>
                <p:nvPr/>
              </p:nvSpPr>
              <p:spPr>
                <a:xfrm rot="7630800">
                  <a:off x="573840" y="816840"/>
                  <a:ext cx="280440" cy="253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1527"/>
                <p:cNvSpPr/>
                <p:nvPr/>
              </p:nvSpPr>
              <p:spPr>
                <a:xfrm rot="7630800">
                  <a:off x="595440" y="898920"/>
                  <a:ext cx="237600" cy="1206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1528"/>
                <p:cNvSpPr/>
                <p:nvPr/>
              </p:nvSpPr>
              <p:spPr>
                <a:xfrm rot="7630800">
                  <a:off x="525240" y="924840"/>
                  <a:ext cx="345960" cy="149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1529"/>
                <p:cNvSpPr/>
                <p:nvPr/>
              </p:nvSpPr>
              <p:spPr>
                <a:xfrm rot="7630800">
                  <a:off x="677520" y="919440"/>
                  <a:ext cx="112680" cy="147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1530"/>
                <p:cNvSpPr/>
                <p:nvPr/>
              </p:nvSpPr>
              <p:spPr>
                <a:xfrm rot="7630800">
                  <a:off x="675000" y="954720"/>
                  <a:ext cx="145440" cy="554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1531"/>
                <p:cNvSpPr/>
                <p:nvPr/>
              </p:nvSpPr>
              <p:spPr>
                <a:xfrm rot="7630800">
                  <a:off x="672840" y="983160"/>
                  <a:ext cx="160560" cy="73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1532"/>
                <p:cNvSpPr/>
                <p:nvPr/>
              </p:nvSpPr>
              <p:spPr>
                <a:xfrm rot="7630800">
                  <a:off x="701280" y="884520"/>
                  <a:ext cx="66600" cy="100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1533"/>
                <p:cNvSpPr/>
                <p:nvPr/>
              </p:nvSpPr>
              <p:spPr>
                <a:xfrm rot="7630800">
                  <a:off x="720000" y="851760"/>
                  <a:ext cx="34920" cy="36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1534"/>
                <p:cNvSpPr/>
                <p:nvPr/>
              </p:nvSpPr>
              <p:spPr>
                <a:xfrm rot="7630800">
                  <a:off x="708840" y="843120"/>
                  <a:ext cx="25200" cy="2628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1535"/>
                <p:cNvSpPr/>
                <p:nvPr/>
              </p:nvSpPr>
              <p:spPr>
                <a:xfrm rot="7630800">
                  <a:off x="683280" y="858240"/>
                  <a:ext cx="44280" cy="47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1536"/>
                <p:cNvSpPr/>
                <p:nvPr/>
              </p:nvSpPr>
              <p:spPr>
                <a:xfrm rot="7630800">
                  <a:off x="646920" y="877320"/>
                  <a:ext cx="71280" cy="838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537"/>
                <p:cNvSpPr/>
                <p:nvPr/>
              </p:nvSpPr>
              <p:spPr>
                <a:xfrm rot="7630800">
                  <a:off x="617400" y="897480"/>
                  <a:ext cx="76320" cy="1231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538"/>
                <p:cNvSpPr/>
                <p:nvPr/>
              </p:nvSpPr>
              <p:spPr>
                <a:xfrm rot="7630800">
                  <a:off x="621360" y="908640"/>
                  <a:ext cx="8280" cy="49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1539"/>
                <p:cNvSpPr/>
                <p:nvPr/>
              </p:nvSpPr>
              <p:spPr>
                <a:xfrm rot="7630800">
                  <a:off x="603360" y="924480"/>
                  <a:ext cx="52920" cy="1519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1540"/>
                <p:cNvSpPr/>
                <p:nvPr/>
              </p:nvSpPr>
              <p:spPr>
                <a:xfrm rot="7630800">
                  <a:off x="640800" y="945720"/>
                  <a:ext cx="39240" cy="23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1541"/>
                <p:cNvSpPr/>
                <p:nvPr/>
              </p:nvSpPr>
              <p:spPr>
                <a:xfrm rot="7630800">
                  <a:off x="657360" y="876600"/>
                  <a:ext cx="18360" cy="3888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1542"/>
                <p:cNvSpPr/>
                <p:nvPr/>
              </p:nvSpPr>
              <p:spPr>
                <a:xfrm rot="7630800">
                  <a:off x="721440" y="911880"/>
                  <a:ext cx="41400" cy="75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1543"/>
                <p:cNvSpPr/>
                <p:nvPr/>
              </p:nvSpPr>
              <p:spPr>
                <a:xfrm rot="7630800">
                  <a:off x="748800" y="907560"/>
                  <a:ext cx="25200" cy="147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1544"/>
                <p:cNvSpPr/>
                <p:nvPr/>
              </p:nvSpPr>
              <p:spPr>
                <a:xfrm rot="7630800">
                  <a:off x="651960" y="923040"/>
                  <a:ext cx="8280" cy="936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1545"/>
                <p:cNvSpPr/>
                <p:nvPr/>
              </p:nvSpPr>
              <p:spPr>
                <a:xfrm rot="7630800">
                  <a:off x="756720" y="939960"/>
                  <a:ext cx="7200" cy="54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1546"/>
                <p:cNvSpPr/>
                <p:nvPr/>
              </p:nvSpPr>
              <p:spPr>
                <a:xfrm rot="7630800">
                  <a:off x="765000" y="980640"/>
                  <a:ext cx="8280" cy="75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1547"/>
                <p:cNvSpPr/>
                <p:nvPr/>
              </p:nvSpPr>
              <p:spPr>
                <a:xfrm rot="7630800">
                  <a:off x="759960" y="87336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2" name="Group 1548"/>
              <p:cNvGrpSpPr/>
              <p:nvPr/>
            </p:nvGrpSpPr>
            <p:grpSpPr>
              <a:xfrm>
                <a:off x="648720" y="1137600"/>
                <a:ext cx="36000" cy="34200"/>
                <a:chOff x="648720" y="1137600"/>
                <a:chExt cx="36000" cy="34200"/>
              </a:xfrm>
            </p:grpSpPr>
            <p:sp>
              <p:nvSpPr>
                <p:cNvPr id="1343" name="Freeform 1549"/>
                <p:cNvSpPr/>
                <p:nvPr/>
              </p:nvSpPr>
              <p:spPr>
                <a:xfrm rot="3266400">
                  <a:off x="655920" y="1139760"/>
                  <a:ext cx="20880" cy="2952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1550"/>
                <p:cNvSpPr/>
                <p:nvPr/>
              </p:nvSpPr>
              <p:spPr>
                <a:xfrm rot="21219600">
                  <a:off x="655200" y="1145520"/>
                  <a:ext cx="15120" cy="122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5" name="Group 1551"/>
            <p:cNvGrpSpPr/>
            <p:nvPr/>
          </p:nvGrpSpPr>
          <p:grpSpPr>
            <a:xfrm>
              <a:off x="890280" y="918000"/>
              <a:ext cx="410040" cy="350280"/>
              <a:chOff x="890280" y="918000"/>
              <a:chExt cx="410040" cy="350280"/>
            </a:xfrm>
          </p:grpSpPr>
          <p:grpSp>
            <p:nvGrpSpPr>
              <p:cNvPr id="1346" name="Group 1552"/>
              <p:cNvGrpSpPr/>
              <p:nvPr/>
            </p:nvGrpSpPr>
            <p:grpSpPr>
              <a:xfrm>
                <a:off x="890280" y="918000"/>
                <a:ext cx="410040" cy="350280"/>
                <a:chOff x="890280" y="918000"/>
                <a:chExt cx="410040" cy="350280"/>
              </a:xfrm>
            </p:grpSpPr>
            <p:sp>
              <p:nvSpPr>
                <p:cNvPr id="1347" name="Freeform 1553"/>
                <p:cNvSpPr/>
                <p:nvPr/>
              </p:nvSpPr>
              <p:spPr>
                <a:xfrm rot="12159000">
                  <a:off x="993960" y="958680"/>
                  <a:ext cx="264960" cy="2689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1554"/>
                <p:cNvSpPr/>
                <p:nvPr/>
              </p:nvSpPr>
              <p:spPr>
                <a:xfrm rot="12159000">
                  <a:off x="1000440" y="1034640"/>
                  <a:ext cx="224640" cy="12744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1555"/>
                <p:cNvSpPr/>
                <p:nvPr/>
              </p:nvSpPr>
              <p:spPr>
                <a:xfrm rot="12159000">
                  <a:off x="907920" y="1014840"/>
                  <a:ext cx="327240" cy="158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1556"/>
                <p:cNvSpPr/>
                <p:nvPr/>
              </p:nvSpPr>
              <p:spPr>
                <a:xfrm rot="12159000">
                  <a:off x="1092600" y="1100520"/>
                  <a:ext cx="106560" cy="1548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1557"/>
                <p:cNvSpPr/>
                <p:nvPr/>
              </p:nvSpPr>
              <p:spPr>
                <a:xfrm rot="12159000">
                  <a:off x="1028160" y="1109520"/>
                  <a:ext cx="137520" cy="583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1558"/>
                <p:cNvSpPr/>
                <p:nvPr/>
              </p:nvSpPr>
              <p:spPr>
                <a:xfrm rot="12159000">
                  <a:off x="987840" y="111672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1559"/>
                <p:cNvSpPr/>
                <p:nvPr/>
              </p:nvSpPr>
              <p:spPr>
                <a:xfrm rot="12159000">
                  <a:off x="1150200" y="1092240"/>
                  <a:ext cx="63000" cy="972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560"/>
                <p:cNvSpPr/>
                <p:nvPr/>
              </p:nvSpPr>
              <p:spPr>
                <a:xfrm rot="12159000">
                  <a:off x="1200600" y="1087920"/>
                  <a:ext cx="32760" cy="39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1561"/>
                <p:cNvSpPr/>
                <p:nvPr/>
              </p:nvSpPr>
              <p:spPr>
                <a:xfrm rot="12159000">
                  <a:off x="1198080" y="1060920"/>
                  <a:ext cx="23760" cy="273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1562"/>
                <p:cNvSpPr/>
                <p:nvPr/>
              </p:nvSpPr>
              <p:spPr>
                <a:xfrm rot="12159000">
                  <a:off x="1161720" y="1040400"/>
                  <a:ext cx="42120" cy="507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1563"/>
                <p:cNvSpPr/>
                <p:nvPr/>
              </p:nvSpPr>
              <p:spPr>
                <a:xfrm rot="12159000">
                  <a:off x="1109520" y="1009800"/>
                  <a:ext cx="67320" cy="892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1564"/>
                <p:cNvSpPr/>
                <p:nvPr/>
              </p:nvSpPr>
              <p:spPr>
                <a:xfrm rot="12159000">
                  <a:off x="1064520" y="974520"/>
                  <a:ext cx="72360" cy="13032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565"/>
                <p:cNvSpPr/>
                <p:nvPr/>
              </p:nvSpPr>
              <p:spPr>
                <a:xfrm rot="12159000">
                  <a:off x="1114920" y="975960"/>
                  <a:ext cx="8280" cy="5184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1566"/>
                <p:cNvSpPr/>
                <p:nvPr/>
              </p:nvSpPr>
              <p:spPr>
                <a:xfrm rot="12159000">
                  <a:off x="1031760" y="946440"/>
                  <a:ext cx="50040" cy="1605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1567"/>
                <p:cNvSpPr/>
                <p:nvPr/>
              </p:nvSpPr>
              <p:spPr>
                <a:xfrm rot="12159000">
                  <a:off x="1084320" y="1030320"/>
                  <a:ext cx="37080" cy="255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1568"/>
                <p:cNvSpPr/>
                <p:nvPr/>
              </p:nvSpPr>
              <p:spPr>
                <a:xfrm rot="12159000">
                  <a:off x="1152720" y="1010880"/>
                  <a:ext cx="17640" cy="410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569"/>
                <p:cNvSpPr/>
                <p:nvPr/>
              </p:nvSpPr>
              <p:spPr>
                <a:xfrm rot="12159000">
                  <a:off x="1139760" y="1108440"/>
                  <a:ext cx="38520" cy="86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1570"/>
                <p:cNvSpPr/>
                <p:nvPr/>
              </p:nvSpPr>
              <p:spPr>
                <a:xfrm rot="12159000">
                  <a:off x="1152000" y="1123920"/>
                  <a:ext cx="23760" cy="151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1571"/>
                <p:cNvSpPr/>
                <p:nvPr/>
              </p:nvSpPr>
              <p:spPr>
                <a:xfrm rot="12159000">
                  <a:off x="1126440" y="1025640"/>
                  <a:ext cx="8280" cy="100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1572"/>
                <p:cNvSpPr/>
                <p:nvPr/>
              </p:nvSpPr>
              <p:spPr>
                <a:xfrm rot="12159000">
                  <a:off x="1134000" y="113688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573"/>
                <p:cNvSpPr/>
                <p:nvPr/>
              </p:nvSpPr>
              <p:spPr>
                <a:xfrm rot="12159000">
                  <a:off x="1095480" y="1155960"/>
                  <a:ext cx="8280" cy="79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1574"/>
                <p:cNvSpPr/>
                <p:nvPr/>
              </p:nvSpPr>
              <p:spPr>
                <a:xfrm rot="12159000">
                  <a:off x="1198800" y="1119960"/>
                  <a:ext cx="6120" cy="396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9" name="Group 1575"/>
              <p:cNvGrpSpPr/>
              <p:nvPr/>
            </p:nvGrpSpPr>
            <p:grpSpPr>
              <a:xfrm>
                <a:off x="896040" y="1093320"/>
                <a:ext cx="36000" cy="35280"/>
                <a:chOff x="896040" y="1093320"/>
                <a:chExt cx="36000" cy="35280"/>
              </a:xfrm>
            </p:grpSpPr>
            <p:sp>
              <p:nvSpPr>
                <p:cNvPr id="1370" name="Freeform 1576"/>
                <p:cNvSpPr/>
                <p:nvPr/>
              </p:nvSpPr>
              <p:spPr>
                <a:xfrm rot="7794000">
                  <a:off x="902880" y="1096560"/>
                  <a:ext cx="22320" cy="280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577"/>
                <p:cNvSpPr/>
                <p:nvPr/>
              </p:nvSpPr>
              <p:spPr>
                <a:xfrm rot="4147200">
                  <a:off x="909360" y="1100520"/>
                  <a:ext cx="14040" cy="13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2" name="Group 1771"/>
          <p:cNvGrpSpPr/>
          <p:nvPr/>
        </p:nvGrpSpPr>
        <p:grpSpPr>
          <a:xfrm>
            <a:off x="-429120" y="358920"/>
            <a:ext cx="2053800" cy="1433880"/>
            <a:chOff x="-429120" y="358920"/>
            <a:chExt cx="2053800" cy="1433880"/>
          </a:xfrm>
        </p:grpSpPr>
        <p:sp>
          <p:nvSpPr>
            <p:cNvPr id="1373" name="Freeform 1772"/>
            <p:cNvSpPr/>
            <p:nvPr/>
          </p:nvSpPr>
          <p:spPr>
            <a:xfrm flipH="1" rot="7023600">
              <a:off x="530640" y="392760"/>
              <a:ext cx="275040" cy="1503000"/>
            </a:xfrm>
            <a:custGeom>
              <a:avLst/>
              <a:gdLst/>
              <a:ahLst/>
              <a:rect l="l" t="t" r="r" b="b"/>
              <a:pathLst>
                <a:path w="2573" h="12419">
                  <a:moveTo>
                    <a:pt x="103" y="11997"/>
                  </a:moveTo>
                  <a:lnTo>
                    <a:pt x="103" y="11955"/>
                  </a:lnTo>
                  <a:lnTo>
                    <a:pt x="113" y="11851"/>
                  </a:lnTo>
                  <a:lnTo>
                    <a:pt x="124" y="11788"/>
                  </a:lnTo>
                  <a:lnTo>
                    <a:pt x="135" y="11737"/>
                  </a:lnTo>
                  <a:lnTo>
                    <a:pt x="150" y="11690"/>
                  </a:lnTo>
                  <a:lnTo>
                    <a:pt x="160" y="11669"/>
                  </a:lnTo>
                  <a:lnTo>
                    <a:pt x="170" y="11658"/>
                  </a:lnTo>
                  <a:lnTo>
                    <a:pt x="228" y="11596"/>
                  </a:lnTo>
                  <a:lnTo>
                    <a:pt x="264" y="11555"/>
                  </a:lnTo>
                  <a:lnTo>
                    <a:pt x="300" y="11503"/>
                  </a:lnTo>
                  <a:lnTo>
                    <a:pt x="332" y="11445"/>
                  </a:lnTo>
                  <a:lnTo>
                    <a:pt x="368" y="11378"/>
                  </a:lnTo>
                  <a:lnTo>
                    <a:pt x="394" y="11305"/>
                  </a:lnTo>
                  <a:lnTo>
                    <a:pt x="410" y="11221"/>
                  </a:lnTo>
                  <a:lnTo>
                    <a:pt x="447" y="11071"/>
                  </a:lnTo>
                  <a:lnTo>
                    <a:pt x="504" y="10821"/>
                  </a:lnTo>
                  <a:lnTo>
                    <a:pt x="670" y="10144"/>
                  </a:lnTo>
                  <a:lnTo>
                    <a:pt x="831" y="9488"/>
                  </a:lnTo>
                  <a:lnTo>
                    <a:pt x="883" y="9254"/>
                  </a:lnTo>
                  <a:lnTo>
                    <a:pt x="904" y="9140"/>
                  </a:lnTo>
                  <a:lnTo>
                    <a:pt x="909" y="9056"/>
                  </a:lnTo>
                  <a:lnTo>
                    <a:pt x="914" y="9004"/>
                  </a:lnTo>
                  <a:lnTo>
                    <a:pt x="919" y="8983"/>
                  </a:lnTo>
                  <a:lnTo>
                    <a:pt x="930" y="8973"/>
                  </a:lnTo>
                  <a:lnTo>
                    <a:pt x="946" y="8963"/>
                  </a:lnTo>
                  <a:lnTo>
                    <a:pt x="966" y="8958"/>
                  </a:lnTo>
                  <a:lnTo>
                    <a:pt x="981" y="8946"/>
                  </a:lnTo>
                  <a:lnTo>
                    <a:pt x="1003" y="8921"/>
                  </a:lnTo>
                  <a:lnTo>
                    <a:pt x="1023" y="8884"/>
                  </a:lnTo>
                  <a:lnTo>
                    <a:pt x="1050" y="8833"/>
                  </a:lnTo>
                  <a:lnTo>
                    <a:pt x="1106" y="8708"/>
                  </a:lnTo>
                  <a:lnTo>
                    <a:pt x="1169" y="8556"/>
                  </a:lnTo>
                  <a:lnTo>
                    <a:pt x="1231" y="8395"/>
                  </a:lnTo>
                  <a:lnTo>
                    <a:pt x="1288" y="8239"/>
                  </a:lnTo>
                  <a:lnTo>
                    <a:pt x="1335" y="8104"/>
                  </a:lnTo>
                  <a:lnTo>
                    <a:pt x="1367" y="7999"/>
                  </a:lnTo>
                  <a:lnTo>
                    <a:pt x="1445" y="7755"/>
                  </a:lnTo>
                  <a:lnTo>
                    <a:pt x="1554" y="7401"/>
                  </a:lnTo>
                  <a:lnTo>
                    <a:pt x="1606" y="7213"/>
                  </a:lnTo>
                  <a:lnTo>
                    <a:pt x="1647" y="7026"/>
                  </a:lnTo>
                  <a:lnTo>
                    <a:pt x="1669" y="6943"/>
                  </a:lnTo>
                  <a:lnTo>
                    <a:pt x="1679" y="6860"/>
                  </a:lnTo>
                  <a:lnTo>
                    <a:pt x="1689" y="6786"/>
                  </a:lnTo>
                  <a:lnTo>
                    <a:pt x="1689" y="6719"/>
                  </a:lnTo>
                  <a:lnTo>
                    <a:pt x="1694" y="6651"/>
                  </a:lnTo>
                  <a:lnTo>
                    <a:pt x="1699" y="6558"/>
                  </a:lnTo>
                  <a:lnTo>
                    <a:pt x="1731" y="6318"/>
                  </a:lnTo>
                  <a:lnTo>
                    <a:pt x="1772" y="6032"/>
                  </a:lnTo>
                  <a:lnTo>
                    <a:pt x="1814" y="5730"/>
                  </a:lnTo>
                  <a:lnTo>
                    <a:pt x="1902" y="5163"/>
                  </a:lnTo>
                  <a:lnTo>
                    <a:pt x="1934" y="4955"/>
                  </a:lnTo>
                  <a:lnTo>
                    <a:pt x="1939" y="4877"/>
                  </a:lnTo>
                  <a:lnTo>
                    <a:pt x="1944" y="4830"/>
                  </a:lnTo>
                  <a:lnTo>
                    <a:pt x="1949" y="4236"/>
                  </a:lnTo>
                  <a:lnTo>
                    <a:pt x="1964" y="3133"/>
                  </a:lnTo>
                  <a:lnTo>
                    <a:pt x="1970" y="2555"/>
                  </a:lnTo>
                  <a:lnTo>
                    <a:pt x="1970" y="2050"/>
                  </a:lnTo>
                  <a:lnTo>
                    <a:pt x="1964" y="1686"/>
                  </a:lnTo>
                  <a:lnTo>
                    <a:pt x="1959" y="1571"/>
                  </a:lnTo>
                  <a:lnTo>
                    <a:pt x="1954" y="1541"/>
                  </a:lnTo>
                  <a:lnTo>
                    <a:pt x="1954" y="1524"/>
                  </a:lnTo>
                  <a:lnTo>
                    <a:pt x="1918" y="1457"/>
                  </a:lnTo>
                  <a:lnTo>
                    <a:pt x="1892" y="1399"/>
                  </a:lnTo>
                  <a:lnTo>
                    <a:pt x="1887" y="1374"/>
                  </a:lnTo>
                  <a:lnTo>
                    <a:pt x="1882" y="1347"/>
                  </a:lnTo>
                  <a:lnTo>
                    <a:pt x="1882" y="1327"/>
                  </a:lnTo>
                  <a:lnTo>
                    <a:pt x="1892" y="1311"/>
                  </a:lnTo>
                  <a:lnTo>
                    <a:pt x="1897" y="1306"/>
                  </a:lnTo>
                  <a:lnTo>
                    <a:pt x="1907" y="1301"/>
                  </a:lnTo>
                  <a:lnTo>
                    <a:pt x="1923" y="1306"/>
                  </a:lnTo>
                  <a:lnTo>
                    <a:pt x="1944" y="1311"/>
                  </a:lnTo>
                  <a:lnTo>
                    <a:pt x="1964" y="1322"/>
                  </a:lnTo>
                  <a:lnTo>
                    <a:pt x="1986" y="1332"/>
                  </a:lnTo>
                  <a:lnTo>
                    <a:pt x="2006" y="1337"/>
                  </a:lnTo>
                  <a:lnTo>
                    <a:pt x="2022" y="1337"/>
                  </a:lnTo>
                  <a:lnTo>
                    <a:pt x="2027" y="1332"/>
                  </a:lnTo>
                  <a:lnTo>
                    <a:pt x="2032" y="1322"/>
                  </a:lnTo>
                  <a:lnTo>
                    <a:pt x="2214" y="775"/>
                  </a:lnTo>
                  <a:lnTo>
                    <a:pt x="2386" y="265"/>
                  </a:lnTo>
                  <a:lnTo>
                    <a:pt x="2376" y="228"/>
                  </a:lnTo>
                  <a:lnTo>
                    <a:pt x="2360" y="140"/>
                  </a:lnTo>
                  <a:lnTo>
                    <a:pt x="2360" y="93"/>
                  </a:lnTo>
                  <a:lnTo>
                    <a:pt x="2360" y="51"/>
                  </a:lnTo>
                  <a:lnTo>
                    <a:pt x="2365" y="20"/>
                  </a:lnTo>
                  <a:lnTo>
                    <a:pt x="2376" y="10"/>
                  </a:lnTo>
                  <a:lnTo>
                    <a:pt x="2386" y="5"/>
                  </a:lnTo>
                  <a:lnTo>
                    <a:pt x="2396" y="0"/>
                  </a:lnTo>
                  <a:lnTo>
                    <a:pt x="2401" y="5"/>
                  </a:lnTo>
                  <a:lnTo>
                    <a:pt x="2417" y="15"/>
                  </a:lnTo>
                  <a:lnTo>
                    <a:pt x="2423" y="36"/>
                  </a:lnTo>
                  <a:lnTo>
                    <a:pt x="2428" y="67"/>
                  </a:lnTo>
                  <a:lnTo>
                    <a:pt x="2438" y="130"/>
                  </a:lnTo>
                  <a:lnTo>
                    <a:pt x="2448" y="155"/>
                  </a:lnTo>
                  <a:lnTo>
                    <a:pt x="2464" y="177"/>
                  </a:lnTo>
                  <a:lnTo>
                    <a:pt x="2485" y="187"/>
                  </a:lnTo>
                  <a:lnTo>
                    <a:pt x="2505" y="197"/>
                  </a:lnTo>
                  <a:lnTo>
                    <a:pt x="2547" y="213"/>
                  </a:lnTo>
                  <a:lnTo>
                    <a:pt x="2563" y="218"/>
                  </a:lnTo>
                  <a:lnTo>
                    <a:pt x="2568" y="228"/>
                  </a:lnTo>
                  <a:lnTo>
                    <a:pt x="2573" y="233"/>
                  </a:lnTo>
                  <a:lnTo>
                    <a:pt x="2568" y="245"/>
                  </a:lnTo>
                  <a:lnTo>
                    <a:pt x="2531" y="275"/>
                  </a:lnTo>
                  <a:lnTo>
                    <a:pt x="2490" y="327"/>
                  </a:lnTo>
                  <a:lnTo>
                    <a:pt x="2443" y="390"/>
                  </a:lnTo>
                  <a:lnTo>
                    <a:pt x="2423" y="421"/>
                  </a:lnTo>
                  <a:lnTo>
                    <a:pt x="2406" y="457"/>
                  </a:lnTo>
                  <a:lnTo>
                    <a:pt x="2334" y="650"/>
                  </a:lnTo>
                  <a:lnTo>
                    <a:pt x="2219" y="999"/>
                  </a:lnTo>
                  <a:lnTo>
                    <a:pt x="2163" y="1186"/>
                  </a:lnTo>
                  <a:lnTo>
                    <a:pt x="2116" y="1363"/>
                  </a:lnTo>
                  <a:lnTo>
                    <a:pt x="2084" y="1504"/>
                  </a:lnTo>
                  <a:lnTo>
                    <a:pt x="2074" y="1556"/>
                  </a:lnTo>
                  <a:lnTo>
                    <a:pt x="2074" y="1592"/>
                  </a:lnTo>
                  <a:lnTo>
                    <a:pt x="2074" y="1706"/>
                  </a:lnTo>
                  <a:lnTo>
                    <a:pt x="2074" y="1915"/>
                  </a:lnTo>
                  <a:lnTo>
                    <a:pt x="2069" y="2456"/>
                  </a:lnTo>
                  <a:lnTo>
                    <a:pt x="2053" y="3195"/>
                  </a:lnTo>
                  <a:lnTo>
                    <a:pt x="2064" y="3185"/>
                  </a:lnTo>
                  <a:lnTo>
                    <a:pt x="2089" y="3164"/>
                  </a:lnTo>
                  <a:lnTo>
                    <a:pt x="2106" y="3154"/>
                  </a:lnTo>
                  <a:lnTo>
                    <a:pt x="2116" y="3154"/>
                  </a:lnTo>
                  <a:lnTo>
                    <a:pt x="2121" y="3159"/>
                  </a:lnTo>
                  <a:lnTo>
                    <a:pt x="2121" y="3174"/>
                  </a:lnTo>
                  <a:lnTo>
                    <a:pt x="2111" y="3227"/>
                  </a:lnTo>
                  <a:lnTo>
                    <a:pt x="2089" y="3284"/>
                  </a:lnTo>
                  <a:lnTo>
                    <a:pt x="2069" y="3352"/>
                  </a:lnTo>
                  <a:lnTo>
                    <a:pt x="2064" y="3394"/>
                  </a:lnTo>
                  <a:lnTo>
                    <a:pt x="2064" y="3435"/>
                  </a:lnTo>
                  <a:lnTo>
                    <a:pt x="2058" y="3747"/>
                  </a:lnTo>
                  <a:lnTo>
                    <a:pt x="2043" y="4356"/>
                  </a:lnTo>
                  <a:lnTo>
                    <a:pt x="2032" y="4705"/>
                  </a:lnTo>
                  <a:lnTo>
                    <a:pt x="2022" y="5048"/>
                  </a:lnTo>
                  <a:lnTo>
                    <a:pt x="2001" y="5360"/>
                  </a:lnTo>
                  <a:lnTo>
                    <a:pt x="1981" y="5610"/>
                  </a:lnTo>
                  <a:lnTo>
                    <a:pt x="1954" y="5834"/>
                  </a:lnTo>
                  <a:lnTo>
                    <a:pt x="1923" y="6058"/>
                  </a:lnTo>
                  <a:lnTo>
                    <a:pt x="1850" y="6490"/>
                  </a:lnTo>
                  <a:lnTo>
                    <a:pt x="1819" y="6673"/>
                  </a:lnTo>
                  <a:lnTo>
                    <a:pt x="1799" y="6818"/>
                  </a:lnTo>
                  <a:lnTo>
                    <a:pt x="1794" y="6922"/>
                  </a:lnTo>
                  <a:lnTo>
                    <a:pt x="1794" y="6953"/>
                  </a:lnTo>
                  <a:lnTo>
                    <a:pt x="1804" y="6974"/>
                  </a:lnTo>
                  <a:lnTo>
                    <a:pt x="1819" y="6985"/>
                  </a:lnTo>
                  <a:lnTo>
                    <a:pt x="1834" y="6990"/>
                  </a:lnTo>
                  <a:lnTo>
                    <a:pt x="1866" y="6990"/>
                  </a:lnTo>
                  <a:lnTo>
                    <a:pt x="1876" y="6990"/>
                  </a:lnTo>
                  <a:lnTo>
                    <a:pt x="1887" y="6995"/>
                  </a:lnTo>
                  <a:lnTo>
                    <a:pt x="1897" y="7010"/>
                  </a:lnTo>
                  <a:lnTo>
                    <a:pt x="1902" y="7031"/>
                  </a:lnTo>
                  <a:lnTo>
                    <a:pt x="1897" y="7063"/>
                  </a:lnTo>
                  <a:lnTo>
                    <a:pt x="1887" y="7100"/>
                  </a:lnTo>
                  <a:lnTo>
                    <a:pt x="1866" y="7130"/>
                  </a:lnTo>
                  <a:lnTo>
                    <a:pt x="1845" y="7162"/>
                  </a:lnTo>
                  <a:lnTo>
                    <a:pt x="1804" y="7208"/>
                  </a:lnTo>
                  <a:lnTo>
                    <a:pt x="1782" y="7224"/>
                  </a:lnTo>
                  <a:lnTo>
                    <a:pt x="1076" y="9108"/>
                  </a:lnTo>
                  <a:lnTo>
                    <a:pt x="571" y="11174"/>
                  </a:lnTo>
                  <a:lnTo>
                    <a:pt x="582" y="11201"/>
                  </a:lnTo>
                  <a:lnTo>
                    <a:pt x="587" y="11243"/>
                  </a:lnTo>
                  <a:lnTo>
                    <a:pt x="582" y="11294"/>
                  </a:lnTo>
                  <a:lnTo>
                    <a:pt x="571" y="11331"/>
                  </a:lnTo>
                  <a:lnTo>
                    <a:pt x="550" y="11378"/>
                  </a:lnTo>
                  <a:lnTo>
                    <a:pt x="487" y="11492"/>
                  </a:lnTo>
                  <a:lnTo>
                    <a:pt x="457" y="11550"/>
                  </a:lnTo>
                  <a:lnTo>
                    <a:pt x="431" y="11606"/>
                  </a:lnTo>
                  <a:lnTo>
                    <a:pt x="410" y="11658"/>
                  </a:lnTo>
                  <a:lnTo>
                    <a:pt x="405" y="11695"/>
                  </a:lnTo>
                  <a:lnTo>
                    <a:pt x="399" y="11737"/>
                  </a:lnTo>
                  <a:lnTo>
                    <a:pt x="389" y="11783"/>
                  </a:lnTo>
                  <a:lnTo>
                    <a:pt x="352" y="11898"/>
                  </a:lnTo>
                  <a:lnTo>
                    <a:pt x="312" y="12018"/>
                  </a:lnTo>
                  <a:lnTo>
                    <a:pt x="259" y="12122"/>
                  </a:lnTo>
                  <a:lnTo>
                    <a:pt x="197" y="12220"/>
                  </a:lnTo>
                  <a:lnTo>
                    <a:pt x="113" y="12330"/>
                  </a:lnTo>
                  <a:lnTo>
                    <a:pt x="77" y="12377"/>
                  </a:lnTo>
                  <a:lnTo>
                    <a:pt x="40" y="12408"/>
                  </a:lnTo>
                  <a:lnTo>
                    <a:pt x="25" y="12419"/>
                  </a:lnTo>
                  <a:lnTo>
                    <a:pt x="15" y="12419"/>
                  </a:lnTo>
                  <a:lnTo>
                    <a:pt x="5" y="12419"/>
                  </a:lnTo>
                  <a:lnTo>
                    <a:pt x="0" y="12413"/>
                  </a:lnTo>
                  <a:lnTo>
                    <a:pt x="0" y="12397"/>
                  </a:lnTo>
                  <a:lnTo>
                    <a:pt x="0" y="12377"/>
                  </a:lnTo>
                  <a:lnTo>
                    <a:pt x="10" y="12320"/>
                  </a:lnTo>
                  <a:lnTo>
                    <a:pt x="40" y="12185"/>
                  </a:lnTo>
                  <a:lnTo>
                    <a:pt x="82" y="12055"/>
                  </a:lnTo>
                  <a:lnTo>
                    <a:pt x="103" y="1199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1773"/>
            <p:cNvSpPr/>
            <p:nvPr/>
          </p:nvSpPr>
          <p:spPr>
            <a:xfrm flipH="1" rot="7023600">
              <a:off x="-41760" y="896040"/>
              <a:ext cx="30600" cy="57960"/>
            </a:xfrm>
            <a:custGeom>
              <a:avLst/>
              <a:gdLst/>
              <a:ahLst/>
              <a:rect l="l" t="t" r="r" b="b"/>
              <a:pathLst>
                <a:path w="297" h="479">
                  <a:moveTo>
                    <a:pt x="265" y="0"/>
                  </a:moveTo>
                  <a:lnTo>
                    <a:pt x="249" y="5"/>
                  </a:lnTo>
                  <a:lnTo>
                    <a:pt x="228" y="10"/>
                  </a:lnTo>
                  <a:lnTo>
                    <a:pt x="202" y="22"/>
                  </a:lnTo>
                  <a:lnTo>
                    <a:pt x="177" y="37"/>
                  </a:lnTo>
                  <a:lnTo>
                    <a:pt x="145" y="57"/>
                  </a:lnTo>
                  <a:lnTo>
                    <a:pt x="120" y="89"/>
                  </a:lnTo>
                  <a:lnTo>
                    <a:pt x="93" y="130"/>
                  </a:lnTo>
                  <a:lnTo>
                    <a:pt x="73" y="182"/>
                  </a:lnTo>
                  <a:lnTo>
                    <a:pt x="52" y="245"/>
                  </a:lnTo>
                  <a:lnTo>
                    <a:pt x="31" y="312"/>
                  </a:lnTo>
                  <a:lnTo>
                    <a:pt x="10" y="375"/>
                  </a:lnTo>
                  <a:lnTo>
                    <a:pt x="5" y="427"/>
                  </a:lnTo>
                  <a:lnTo>
                    <a:pt x="0" y="464"/>
                  </a:lnTo>
                  <a:lnTo>
                    <a:pt x="5" y="474"/>
                  </a:lnTo>
                  <a:lnTo>
                    <a:pt x="10" y="479"/>
                  </a:lnTo>
                  <a:lnTo>
                    <a:pt x="20" y="474"/>
                  </a:lnTo>
                  <a:lnTo>
                    <a:pt x="36" y="464"/>
                  </a:lnTo>
                  <a:lnTo>
                    <a:pt x="73" y="422"/>
                  </a:lnTo>
                  <a:lnTo>
                    <a:pt x="125" y="359"/>
                  </a:lnTo>
                  <a:lnTo>
                    <a:pt x="177" y="282"/>
                  </a:lnTo>
                  <a:lnTo>
                    <a:pt x="228" y="204"/>
                  </a:lnTo>
                  <a:lnTo>
                    <a:pt x="270" y="125"/>
                  </a:lnTo>
                  <a:lnTo>
                    <a:pt x="280" y="89"/>
                  </a:lnTo>
                  <a:lnTo>
                    <a:pt x="290" y="63"/>
                  </a:lnTo>
                  <a:lnTo>
                    <a:pt x="297" y="37"/>
                  </a:lnTo>
                  <a:lnTo>
                    <a:pt x="297" y="16"/>
                  </a:lnTo>
                  <a:lnTo>
                    <a:pt x="285" y="5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5" name="Group 1774"/>
            <p:cNvGrpSpPr/>
            <p:nvPr/>
          </p:nvGrpSpPr>
          <p:grpSpPr>
            <a:xfrm>
              <a:off x="-429120" y="865440"/>
              <a:ext cx="641520" cy="652320"/>
              <a:chOff x="-429120" y="865440"/>
              <a:chExt cx="641520" cy="652320"/>
            </a:xfrm>
          </p:grpSpPr>
          <p:grpSp>
            <p:nvGrpSpPr>
              <p:cNvPr id="1376" name="Group 1775"/>
              <p:cNvGrpSpPr/>
              <p:nvPr/>
            </p:nvGrpSpPr>
            <p:grpSpPr>
              <a:xfrm>
                <a:off x="-429120" y="865440"/>
                <a:ext cx="628920" cy="652320"/>
                <a:chOff x="-429120" y="865440"/>
                <a:chExt cx="628920" cy="652320"/>
              </a:xfrm>
            </p:grpSpPr>
            <p:sp>
              <p:nvSpPr>
                <p:cNvPr id="1377" name="Freeform 1776"/>
                <p:cNvSpPr/>
                <p:nvPr/>
              </p:nvSpPr>
              <p:spPr>
                <a:xfrm flipH="1" rot="6883200">
                  <a:off x="-327240" y="972360"/>
                  <a:ext cx="424440" cy="4968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1777"/>
                <p:cNvSpPr/>
                <p:nvPr/>
              </p:nvSpPr>
              <p:spPr>
                <a:xfrm flipH="1" rot="6883200">
                  <a:off x="-270360" y="1095120"/>
                  <a:ext cx="359640" cy="236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1778"/>
                <p:cNvSpPr/>
                <p:nvPr/>
              </p:nvSpPr>
              <p:spPr>
                <a:xfrm flipH="1" rot="6883200">
                  <a:off x="-306360" y="1017720"/>
                  <a:ext cx="523800" cy="2937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779"/>
                <p:cNvSpPr/>
                <p:nvPr/>
              </p:nvSpPr>
              <p:spPr>
                <a:xfrm flipH="1" rot="6883200">
                  <a:off x="-205560" y="1245600"/>
                  <a:ext cx="170280" cy="29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1780"/>
                <p:cNvSpPr/>
                <p:nvPr/>
              </p:nvSpPr>
              <p:spPr>
                <a:xfrm flipH="1" rot="6883200">
                  <a:off x="-128880" y="1194120"/>
                  <a:ext cx="219960" cy="1087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Freeform 1781"/>
                <p:cNvSpPr/>
                <p:nvPr/>
              </p:nvSpPr>
              <p:spPr>
                <a:xfrm flipH="1" rot="6883200">
                  <a:off x="-75960" y="1161360"/>
                  <a:ext cx="242640" cy="14364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782"/>
                <p:cNvSpPr/>
                <p:nvPr/>
              </p:nvSpPr>
              <p:spPr>
                <a:xfrm flipH="1" rot="6883200">
                  <a:off x="-230040" y="1275120"/>
                  <a:ext cx="100800" cy="183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1783"/>
                <p:cNvSpPr/>
                <p:nvPr/>
              </p:nvSpPr>
              <p:spPr>
                <a:xfrm flipH="1" rot="6883200">
                  <a:off x="-259920" y="1307520"/>
                  <a:ext cx="52560" cy="720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Freeform 1784"/>
                <p:cNvSpPr/>
                <p:nvPr/>
              </p:nvSpPr>
              <p:spPr>
                <a:xfrm flipH="1" rot="6883200">
                  <a:off x="-264960" y="1259640"/>
                  <a:ext cx="38520" cy="507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785"/>
                <p:cNvSpPr/>
                <p:nvPr/>
              </p:nvSpPr>
              <p:spPr>
                <a:xfrm flipH="1" rot="6883200">
                  <a:off x="-255240" y="1199520"/>
                  <a:ext cx="67320" cy="939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1786"/>
                <p:cNvSpPr/>
                <p:nvPr/>
              </p:nvSpPr>
              <p:spPr>
                <a:xfrm flipH="1" rot="6883200">
                  <a:off x="-240120" y="1106280"/>
                  <a:ext cx="107640" cy="16524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787"/>
                <p:cNvSpPr/>
                <p:nvPr/>
              </p:nvSpPr>
              <p:spPr>
                <a:xfrm flipH="1" rot="6883200">
                  <a:off x="-209520" y="1005480"/>
                  <a:ext cx="115920" cy="2415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1788"/>
                <p:cNvSpPr/>
                <p:nvPr/>
              </p:nvSpPr>
              <p:spPr>
                <a:xfrm flipH="1" rot="6883200">
                  <a:off x="-230040" y="1048320"/>
                  <a:ext cx="12600" cy="961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1789"/>
                <p:cNvSpPr/>
                <p:nvPr/>
              </p:nvSpPr>
              <p:spPr>
                <a:xfrm flipH="1" rot="6883200">
                  <a:off x="-153360" y="914040"/>
                  <a:ext cx="79920" cy="2973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790"/>
                <p:cNvSpPr/>
                <p:nvPr/>
              </p:nvSpPr>
              <p:spPr>
                <a:xfrm flipH="1" rot="6883200">
                  <a:off x="-179280" y="1109880"/>
                  <a:ext cx="59400" cy="471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791"/>
                <p:cNvSpPr/>
                <p:nvPr/>
              </p:nvSpPr>
              <p:spPr>
                <a:xfrm flipH="1" rot="6883200">
                  <a:off x="-253080" y="1142280"/>
                  <a:ext cx="28800" cy="7560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Freeform 1792"/>
                <p:cNvSpPr/>
                <p:nvPr/>
              </p:nvSpPr>
              <p:spPr>
                <a:xfrm flipH="1" rot="6883200">
                  <a:off x="-162000" y="1271880"/>
                  <a:ext cx="62640" cy="162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793"/>
                <p:cNvSpPr/>
                <p:nvPr/>
              </p:nvSpPr>
              <p:spPr>
                <a:xfrm flipH="1" rot="6883200">
                  <a:off x="-132480" y="1293480"/>
                  <a:ext cx="38520" cy="291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794"/>
                <p:cNvSpPr/>
                <p:nvPr/>
              </p:nvSpPr>
              <p:spPr>
                <a:xfrm flipH="1" rot="6883200">
                  <a:off x="-207720" y="1136160"/>
                  <a:ext cx="12600" cy="1836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795"/>
                <p:cNvSpPr/>
                <p:nvPr/>
              </p:nvSpPr>
              <p:spPr>
                <a:xfrm flipH="1" rot="6883200">
                  <a:off x="-73800" y="1285920"/>
                  <a:ext cx="11160" cy="104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1796"/>
                <p:cNvSpPr/>
                <p:nvPr/>
              </p:nvSpPr>
              <p:spPr>
                <a:xfrm flipH="1" rot="6883200">
                  <a:off x="-1080" y="1270440"/>
                  <a:ext cx="12600" cy="147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797"/>
                <p:cNvSpPr/>
                <p:nvPr/>
              </p:nvSpPr>
              <p:spPr>
                <a:xfrm flipH="1" rot="6883200">
                  <a:off x="-178200" y="1332360"/>
                  <a:ext cx="9720" cy="648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Group 1798"/>
              <p:cNvGrpSpPr/>
              <p:nvPr/>
            </p:nvGrpSpPr>
            <p:grpSpPr>
              <a:xfrm>
                <a:off x="165600" y="991080"/>
                <a:ext cx="46800" cy="49680"/>
                <a:chOff x="165600" y="991080"/>
                <a:chExt cx="46800" cy="49680"/>
              </a:xfrm>
            </p:grpSpPr>
            <p:sp>
              <p:nvSpPr>
                <p:cNvPr id="1400" name="Freeform 1799"/>
                <p:cNvSpPr/>
                <p:nvPr/>
              </p:nvSpPr>
              <p:spPr>
                <a:xfrm flipH="1" rot="11248200">
                  <a:off x="168120" y="993600"/>
                  <a:ext cx="41040" cy="446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800"/>
                <p:cNvSpPr/>
                <p:nvPr/>
              </p:nvSpPr>
              <p:spPr>
                <a:xfrm flipH="1" rot="14895000">
                  <a:off x="169920" y="1000800"/>
                  <a:ext cx="22680" cy="2520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2" name="Group 1801"/>
            <p:cNvGrpSpPr/>
            <p:nvPr/>
          </p:nvGrpSpPr>
          <p:grpSpPr>
            <a:xfrm>
              <a:off x="36360" y="972360"/>
              <a:ext cx="691920" cy="676080"/>
              <a:chOff x="36360" y="972360"/>
              <a:chExt cx="691920" cy="676080"/>
            </a:xfrm>
          </p:grpSpPr>
          <p:grpSp>
            <p:nvGrpSpPr>
              <p:cNvPr id="1403" name="Group 1802"/>
              <p:cNvGrpSpPr/>
              <p:nvPr/>
            </p:nvGrpSpPr>
            <p:grpSpPr>
              <a:xfrm>
                <a:off x="36360" y="972360"/>
                <a:ext cx="691920" cy="676080"/>
                <a:chOff x="36360" y="972360"/>
                <a:chExt cx="691920" cy="676080"/>
              </a:xfrm>
            </p:grpSpPr>
            <p:sp>
              <p:nvSpPr>
                <p:cNvPr id="1404" name="Freeform 1803"/>
                <p:cNvSpPr/>
                <p:nvPr/>
              </p:nvSpPr>
              <p:spPr>
                <a:xfrm flipH="1" rot="2120400">
                  <a:off x="166320" y="1109880"/>
                  <a:ext cx="478440" cy="44064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Freeform 1804"/>
                <p:cNvSpPr/>
                <p:nvPr/>
              </p:nvSpPr>
              <p:spPr>
                <a:xfrm flipH="1" rot="2120400">
                  <a:off x="195840" y="1201320"/>
                  <a:ext cx="405720" cy="20916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Freeform 1805"/>
                <p:cNvSpPr/>
                <p:nvPr/>
              </p:nvSpPr>
              <p:spPr>
                <a:xfrm flipH="1" rot="2120400">
                  <a:off x="56520" y="1118880"/>
                  <a:ext cx="590760" cy="2602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Freeform 1806"/>
                <p:cNvSpPr/>
                <p:nvPr/>
              </p:nvSpPr>
              <p:spPr>
                <a:xfrm flipH="1" rot="2120400">
                  <a:off x="350640" y="1334880"/>
                  <a:ext cx="191880" cy="255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8" name="Freeform 1807"/>
                <p:cNvSpPr/>
                <p:nvPr/>
              </p:nvSpPr>
              <p:spPr>
                <a:xfrm flipH="1" rot="2120400">
                  <a:off x="317160" y="1201680"/>
                  <a:ext cx="248400" cy="961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Freeform 1808"/>
                <p:cNvSpPr/>
                <p:nvPr/>
              </p:nvSpPr>
              <p:spPr>
                <a:xfrm flipH="1" rot="2120400">
                  <a:off x="294480" y="1122480"/>
                  <a:ext cx="273600" cy="12708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Freeform 1809"/>
                <p:cNvSpPr/>
                <p:nvPr/>
              </p:nvSpPr>
              <p:spPr>
                <a:xfrm flipH="1" rot="2120400">
                  <a:off x="409320" y="1400760"/>
                  <a:ext cx="113760" cy="1620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Freeform 1810"/>
                <p:cNvSpPr/>
                <p:nvPr/>
              </p:nvSpPr>
              <p:spPr>
                <a:xfrm flipH="1" rot="2120400">
                  <a:off x="459360" y="1464120"/>
                  <a:ext cx="59400" cy="612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Freeform 1811"/>
                <p:cNvSpPr/>
                <p:nvPr/>
              </p:nvSpPr>
              <p:spPr>
                <a:xfrm flipH="1" rot="2120400">
                  <a:off x="439200" y="1448280"/>
                  <a:ext cx="43560" cy="4500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Freeform 1812"/>
                <p:cNvSpPr/>
                <p:nvPr/>
              </p:nvSpPr>
              <p:spPr>
                <a:xfrm flipH="1" rot="2120400">
                  <a:off x="385200" y="1395360"/>
                  <a:ext cx="75960" cy="8352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Freeform 1813"/>
                <p:cNvSpPr/>
                <p:nvPr/>
              </p:nvSpPr>
              <p:spPr>
                <a:xfrm flipH="1" rot="2120400">
                  <a:off x="304920" y="1314720"/>
                  <a:ext cx="122040" cy="1465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Freeform 1814"/>
                <p:cNvSpPr/>
                <p:nvPr/>
              </p:nvSpPr>
              <p:spPr>
                <a:xfrm flipH="1" rot="2120400">
                  <a:off x="237600" y="1230480"/>
                  <a:ext cx="130680" cy="2142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Freeform 1815"/>
                <p:cNvSpPr/>
                <p:nvPr/>
              </p:nvSpPr>
              <p:spPr>
                <a:xfrm flipH="1" rot="2120400">
                  <a:off x="258480" y="1352880"/>
                  <a:ext cx="14040" cy="853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Freeform 1816"/>
                <p:cNvSpPr/>
                <p:nvPr/>
              </p:nvSpPr>
              <p:spPr>
                <a:xfrm flipH="1" rot="2120400">
                  <a:off x="194040" y="1151640"/>
                  <a:ext cx="90360" cy="26352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Freeform 1817"/>
                <p:cNvSpPr/>
                <p:nvPr/>
              </p:nvSpPr>
              <p:spPr>
                <a:xfrm flipH="1" rot="2120400">
                  <a:off x="276480" y="1316880"/>
                  <a:ext cx="66960" cy="4176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Freeform 1818"/>
                <p:cNvSpPr/>
                <p:nvPr/>
              </p:nvSpPr>
              <p:spPr>
                <a:xfrm flipH="1" rot="2120400">
                  <a:off x="335520" y="1400400"/>
                  <a:ext cx="32400" cy="67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Freeform 1819"/>
                <p:cNvSpPr/>
                <p:nvPr/>
              </p:nvSpPr>
              <p:spPr>
                <a:xfrm flipH="1" rot="2120400">
                  <a:off x="430920" y="1355040"/>
                  <a:ext cx="70560" cy="140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1" name="Freeform 1820"/>
                <p:cNvSpPr/>
                <p:nvPr/>
              </p:nvSpPr>
              <p:spPr>
                <a:xfrm flipH="1" rot="2120400">
                  <a:off x="475920" y="1341720"/>
                  <a:ext cx="43560" cy="255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Freeform 1821"/>
                <p:cNvSpPr/>
                <p:nvPr/>
              </p:nvSpPr>
              <p:spPr>
                <a:xfrm flipH="1" rot="2120400">
                  <a:off x="311760" y="138132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Freeform 1822"/>
                <p:cNvSpPr/>
                <p:nvPr/>
              </p:nvSpPr>
              <p:spPr>
                <a:xfrm flipH="1" rot="2120400">
                  <a:off x="476280" y="1303560"/>
                  <a:ext cx="12600" cy="936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Freeform 1823"/>
                <p:cNvSpPr/>
                <p:nvPr/>
              </p:nvSpPr>
              <p:spPr>
                <a:xfrm flipH="1" rot="2120400">
                  <a:off x="468360" y="123012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Freeform 1824"/>
                <p:cNvSpPr/>
                <p:nvPr/>
              </p:nvSpPr>
              <p:spPr>
                <a:xfrm flipH="1" rot="2120400">
                  <a:off x="515880" y="1415880"/>
                  <a:ext cx="10440" cy="61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6" name="Group 1825"/>
              <p:cNvGrpSpPr/>
              <p:nvPr/>
            </p:nvGrpSpPr>
            <p:grpSpPr>
              <a:xfrm>
                <a:off x="191880" y="985320"/>
                <a:ext cx="59040" cy="50040"/>
                <a:chOff x="191880" y="985320"/>
                <a:chExt cx="59040" cy="50040"/>
              </a:xfrm>
            </p:grpSpPr>
            <p:sp>
              <p:nvSpPr>
                <p:cNvPr id="1427" name="Freeform 1826"/>
                <p:cNvSpPr/>
                <p:nvPr/>
              </p:nvSpPr>
              <p:spPr>
                <a:xfrm flipH="1" rot="6484800">
                  <a:off x="203040" y="984960"/>
                  <a:ext cx="36360" cy="5040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827"/>
                <p:cNvSpPr/>
                <p:nvPr/>
              </p:nvSpPr>
              <p:spPr>
                <a:xfrm flipH="1" rot="10131600">
                  <a:off x="205200" y="1005120"/>
                  <a:ext cx="25560" cy="2232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9" name="Group 1828"/>
            <p:cNvGrpSpPr/>
            <p:nvPr/>
          </p:nvGrpSpPr>
          <p:grpSpPr>
            <a:xfrm>
              <a:off x="82800" y="358920"/>
              <a:ext cx="927360" cy="819720"/>
              <a:chOff x="82800" y="358920"/>
              <a:chExt cx="927360" cy="819720"/>
            </a:xfrm>
          </p:grpSpPr>
          <p:grpSp>
            <p:nvGrpSpPr>
              <p:cNvPr id="1430" name="Group 1829"/>
              <p:cNvGrpSpPr/>
              <p:nvPr/>
            </p:nvGrpSpPr>
            <p:grpSpPr>
              <a:xfrm>
                <a:off x="82800" y="358920"/>
                <a:ext cx="590760" cy="647640"/>
                <a:chOff x="82800" y="358920"/>
                <a:chExt cx="590760" cy="647640"/>
              </a:xfrm>
            </p:grpSpPr>
            <p:grpSp>
              <p:nvGrpSpPr>
                <p:cNvPr id="1431" name="Group 1830"/>
                <p:cNvGrpSpPr/>
                <p:nvPr/>
              </p:nvGrpSpPr>
              <p:grpSpPr>
                <a:xfrm>
                  <a:off x="82800" y="358920"/>
                  <a:ext cx="590760" cy="641160"/>
                  <a:chOff x="82800" y="358920"/>
                  <a:chExt cx="590760" cy="641160"/>
                </a:xfrm>
              </p:grpSpPr>
              <p:sp>
                <p:nvSpPr>
                  <p:cNvPr id="1432" name="Freeform 1831"/>
                  <p:cNvSpPr/>
                  <p:nvPr/>
                </p:nvSpPr>
                <p:spPr>
                  <a:xfrm rot="7164000">
                    <a:off x="182880" y="412200"/>
                    <a:ext cx="390240" cy="45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Freeform 1832"/>
                  <p:cNvSpPr/>
                  <p:nvPr/>
                </p:nvSpPr>
                <p:spPr>
                  <a:xfrm rot="7164000">
                    <a:off x="219600" y="554400"/>
                    <a:ext cx="33084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Freeform 1833"/>
                  <p:cNvSpPr/>
                  <p:nvPr/>
                </p:nvSpPr>
                <p:spPr>
                  <a:xfrm rot="7164000">
                    <a:off x="133200" y="587880"/>
                    <a:ext cx="48168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5" name="Freeform 1834"/>
                  <p:cNvSpPr/>
                  <p:nvPr/>
                </p:nvSpPr>
                <p:spPr>
                  <a:xfrm rot="7164000">
                    <a:off x="326160" y="601920"/>
                    <a:ext cx="1566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Freeform 1835"/>
                  <p:cNvSpPr/>
                  <p:nvPr/>
                </p:nvSpPr>
                <p:spPr>
                  <a:xfrm rot="7164000">
                    <a:off x="348480" y="647280"/>
                    <a:ext cx="20232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Freeform 1836"/>
                  <p:cNvSpPr/>
                  <p:nvPr/>
                </p:nvSpPr>
                <p:spPr>
                  <a:xfrm rot="7164000">
                    <a:off x="361440" y="686880"/>
                    <a:ext cx="22320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Freeform 1837"/>
                  <p:cNvSpPr/>
                  <p:nvPr/>
                </p:nvSpPr>
                <p:spPr>
                  <a:xfrm rot="7164000">
                    <a:off x="343800" y="550080"/>
                    <a:ext cx="928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Freeform 1838"/>
                  <p:cNvSpPr/>
                  <p:nvPr/>
                </p:nvSpPr>
                <p:spPr>
                  <a:xfrm rot="7164000">
                    <a:off x="357120" y="501120"/>
                    <a:ext cx="486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Freeform 1839"/>
                  <p:cNvSpPr/>
                  <p:nvPr/>
                </p:nvSpPr>
                <p:spPr>
                  <a:xfrm rot="7164000">
                    <a:off x="337320" y="485280"/>
                    <a:ext cx="3528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Freeform 1840"/>
                  <p:cNvSpPr/>
                  <p:nvPr/>
                </p:nvSpPr>
                <p:spPr>
                  <a:xfrm rot="7164000">
                    <a:off x="307080" y="504000"/>
                    <a:ext cx="6192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Freeform 1841"/>
                  <p:cNvSpPr/>
                  <p:nvPr/>
                </p:nvSpPr>
                <p:spPr>
                  <a:xfrm rot="7164000">
                    <a:off x="265680" y="528480"/>
                    <a:ext cx="990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Freeform 1842"/>
                  <p:cNvSpPr/>
                  <p:nvPr/>
                </p:nvSpPr>
                <p:spPr>
                  <a:xfrm rot="7164000">
                    <a:off x="233640" y="553320"/>
                    <a:ext cx="106560" cy="22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Freeform 1843"/>
                  <p:cNvSpPr/>
                  <p:nvPr/>
                </p:nvSpPr>
                <p:spPr>
                  <a:xfrm rot="7164000">
                    <a:off x="220320" y="582120"/>
                    <a:ext cx="115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Freeform 1844"/>
                  <p:cNvSpPr/>
                  <p:nvPr/>
                </p:nvSpPr>
                <p:spPr>
                  <a:xfrm rot="7164000">
                    <a:off x="223200" y="590040"/>
                    <a:ext cx="73440" cy="27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6" name="Freeform 1845"/>
                  <p:cNvSpPr/>
                  <p:nvPr/>
                </p:nvSpPr>
                <p:spPr>
                  <a:xfrm rot="7164000">
                    <a:off x="266400" y="640440"/>
                    <a:ext cx="5436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7" name="Freeform 1846"/>
                  <p:cNvSpPr/>
                  <p:nvPr/>
                </p:nvSpPr>
                <p:spPr>
                  <a:xfrm rot="7164000">
                    <a:off x="266400" y="534960"/>
                    <a:ext cx="2628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8" name="Freeform 1847"/>
                  <p:cNvSpPr/>
                  <p:nvPr/>
                </p:nvSpPr>
                <p:spPr>
                  <a:xfrm rot="7164000">
                    <a:off x="384480" y="589680"/>
                    <a:ext cx="576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9" name="Freeform 1848"/>
                  <p:cNvSpPr/>
                  <p:nvPr/>
                </p:nvSpPr>
                <p:spPr>
                  <a:xfrm rot="7164000">
                    <a:off x="426600" y="582120"/>
                    <a:ext cx="352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Freeform 1849"/>
                  <p:cNvSpPr/>
                  <p:nvPr/>
                </p:nvSpPr>
                <p:spPr>
                  <a:xfrm rot="7164000">
                    <a:off x="268920" y="608400"/>
                    <a:ext cx="115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Freeform 1850"/>
                  <p:cNvSpPr/>
                  <p:nvPr/>
                </p:nvSpPr>
                <p:spPr>
                  <a:xfrm rot="7164000">
                    <a:off x="450000" y="632520"/>
                    <a:ext cx="100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2" name="Freeform 1851"/>
                  <p:cNvSpPr/>
                  <p:nvPr/>
                </p:nvSpPr>
                <p:spPr>
                  <a:xfrm rot="7164000">
                    <a:off x="479160" y="693000"/>
                    <a:ext cx="1152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Freeform 1852"/>
                  <p:cNvSpPr/>
                  <p:nvPr/>
                </p:nvSpPr>
                <p:spPr>
                  <a:xfrm rot="7164000">
                    <a:off x="427320" y="532440"/>
                    <a:ext cx="9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4" name="Group 1853"/>
                <p:cNvGrpSpPr/>
                <p:nvPr/>
              </p:nvGrpSpPr>
              <p:grpSpPr>
                <a:xfrm>
                  <a:off x="361080" y="950760"/>
                  <a:ext cx="55800" cy="55800"/>
                  <a:chOff x="361080" y="950760"/>
                  <a:chExt cx="55800" cy="55800"/>
                </a:xfrm>
              </p:grpSpPr>
              <p:sp>
                <p:nvSpPr>
                  <p:cNvPr id="1455" name="Freeform 1854"/>
                  <p:cNvSpPr/>
                  <p:nvPr/>
                </p:nvSpPr>
                <p:spPr>
                  <a:xfrm rot="2799000">
                    <a:off x="369720" y="957960"/>
                    <a:ext cx="378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Freeform 1855"/>
                  <p:cNvSpPr/>
                  <p:nvPr/>
                </p:nvSpPr>
                <p:spPr>
                  <a:xfrm rot="20752800">
                    <a:off x="372240" y="962280"/>
                    <a:ext cx="208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7" name="Group 1856"/>
              <p:cNvGrpSpPr/>
              <p:nvPr/>
            </p:nvGrpSpPr>
            <p:grpSpPr>
              <a:xfrm>
                <a:off x="391680" y="701640"/>
                <a:ext cx="618480" cy="477000"/>
                <a:chOff x="391680" y="701640"/>
                <a:chExt cx="618480" cy="477000"/>
              </a:xfrm>
            </p:grpSpPr>
            <p:grpSp>
              <p:nvGrpSpPr>
                <p:cNvPr id="1458" name="Group 1857"/>
                <p:cNvGrpSpPr/>
                <p:nvPr/>
              </p:nvGrpSpPr>
              <p:grpSpPr>
                <a:xfrm>
                  <a:off x="391680" y="701640"/>
                  <a:ext cx="618480" cy="477000"/>
                  <a:chOff x="391680" y="701640"/>
                  <a:chExt cx="618480" cy="477000"/>
                </a:xfrm>
              </p:grpSpPr>
              <p:sp>
                <p:nvSpPr>
                  <p:cNvPr id="1459" name="Freeform 1858"/>
                  <p:cNvSpPr/>
                  <p:nvPr/>
                </p:nvSpPr>
                <p:spPr>
                  <a:xfrm rot="11388000">
                    <a:off x="544680" y="735480"/>
                    <a:ext cx="433800" cy="40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962" h="4106">
                        <a:moveTo>
                          <a:pt x="0" y="3065"/>
                        </a:moveTo>
                        <a:lnTo>
                          <a:pt x="47" y="3055"/>
                        </a:lnTo>
                        <a:lnTo>
                          <a:pt x="150" y="3044"/>
                        </a:lnTo>
                        <a:lnTo>
                          <a:pt x="260" y="3034"/>
                        </a:lnTo>
                        <a:lnTo>
                          <a:pt x="302" y="3034"/>
                        </a:lnTo>
                        <a:lnTo>
                          <a:pt x="317" y="3034"/>
                        </a:lnTo>
                        <a:lnTo>
                          <a:pt x="327" y="3039"/>
                        </a:lnTo>
                        <a:lnTo>
                          <a:pt x="281" y="3117"/>
                        </a:lnTo>
                        <a:lnTo>
                          <a:pt x="322" y="3102"/>
                        </a:lnTo>
                        <a:lnTo>
                          <a:pt x="421" y="3065"/>
                        </a:lnTo>
                        <a:lnTo>
                          <a:pt x="474" y="3055"/>
                        </a:lnTo>
                        <a:lnTo>
                          <a:pt x="526" y="3049"/>
                        </a:lnTo>
                        <a:lnTo>
                          <a:pt x="546" y="3049"/>
                        </a:lnTo>
                        <a:lnTo>
                          <a:pt x="562" y="3060"/>
                        </a:lnTo>
                        <a:lnTo>
                          <a:pt x="577" y="3065"/>
                        </a:lnTo>
                        <a:lnTo>
                          <a:pt x="582" y="3080"/>
                        </a:lnTo>
                        <a:lnTo>
                          <a:pt x="536" y="3169"/>
                        </a:lnTo>
                        <a:lnTo>
                          <a:pt x="593" y="3154"/>
                        </a:lnTo>
                        <a:lnTo>
                          <a:pt x="723" y="3127"/>
                        </a:lnTo>
                        <a:lnTo>
                          <a:pt x="796" y="3122"/>
                        </a:lnTo>
                        <a:lnTo>
                          <a:pt x="863" y="3117"/>
                        </a:lnTo>
                        <a:lnTo>
                          <a:pt x="910" y="3117"/>
                        </a:lnTo>
                        <a:lnTo>
                          <a:pt x="926" y="3122"/>
                        </a:lnTo>
                        <a:lnTo>
                          <a:pt x="936" y="3132"/>
                        </a:lnTo>
                        <a:lnTo>
                          <a:pt x="941" y="3159"/>
                        </a:lnTo>
                        <a:lnTo>
                          <a:pt x="936" y="3185"/>
                        </a:lnTo>
                        <a:lnTo>
                          <a:pt x="926" y="3211"/>
                        </a:lnTo>
                        <a:lnTo>
                          <a:pt x="915" y="3242"/>
                        </a:lnTo>
                        <a:lnTo>
                          <a:pt x="884" y="3289"/>
                        </a:lnTo>
                        <a:lnTo>
                          <a:pt x="873" y="3310"/>
                        </a:lnTo>
                        <a:lnTo>
                          <a:pt x="900" y="3294"/>
                        </a:lnTo>
                        <a:lnTo>
                          <a:pt x="936" y="3284"/>
                        </a:lnTo>
                        <a:lnTo>
                          <a:pt x="978" y="3268"/>
                        </a:lnTo>
                        <a:lnTo>
                          <a:pt x="1030" y="3257"/>
                        </a:lnTo>
                        <a:lnTo>
                          <a:pt x="1082" y="3257"/>
                        </a:lnTo>
                        <a:lnTo>
                          <a:pt x="1133" y="3262"/>
                        </a:lnTo>
                        <a:lnTo>
                          <a:pt x="1160" y="3268"/>
                        </a:lnTo>
                        <a:lnTo>
                          <a:pt x="1185" y="3279"/>
                        </a:lnTo>
                        <a:lnTo>
                          <a:pt x="1191" y="3299"/>
                        </a:lnTo>
                        <a:lnTo>
                          <a:pt x="1201" y="3341"/>
                        </a:lnTo>
                        <a:lnTo>
                          <a:pt x="1196" y="3367"/>
                        </a:lnTo>
                        <a:lnTo>
                          <a:pt x="1196" y="3387"/>
                        </a:lnTo>
                        <a:lnTo>
                          <a:pt x="1180" y="3404"/>
                        </a:lnTo>
                        <a:lnTo>
                          <a:pt x="1175" y="3409"/>
                        </a:lnTo>
                        <a:lnTo>
                          <a:pt x="1165" y="3414"/>
                        </a:lnTo>
                        <a:lnTo>
                          <a:pt x="1155" y="3409"/>
                        </a:lnTo>
                        <a:lnTo>
                          <a:pt x="1165" y="3404"/>
                        </a:lnTo>
                        <a:lnTo>
                          <a:pt x="1191" y="3392"/>
                        </a:lnTo>
                        <a:lnTo>
                          <a:pt x="1227" y="3382"/>
                        </a:lnTo>
                        <a:lnTo>
                          <a:pt x="1269" y="3377"/>
                        </a:lnTo>
                        <a:lnTo>
                          <a:pt x="1305" y="3382"/>
                        </a:lnTo>
                        <a:lnTo>
                          <a:pt x="1320" y="3387"/>
                        </a:lnTo>
                        <a:lnTo>
                          <a:pt x="1337" y="3392"/>
                        </a:lnTo>
                        <a:lnTo>
                          <a:pt x="1347" y="3404"/>
                        </a:lnTo>
                        <a:lnTo>
                          <a:pt x="1357" y="3419"/>
                        </a:lnTo>
                        <a:lnTo>
                          <a:pt x="1357" y="3450"/>
                        </a:lnTo>
                        <a:lnTo>
                          <a:pt x="1352" y="3487"/>
                        </a:lnTo>
                        <a:lnTo>
                          <a:pt x="1342" y="3517"/>
                        </a:lnTo>
                        <a:lnTo>
                          <a:pt x="1326" y="3544"/>
                        </a:lnTo>
                        <a:lnTo>
                          <a:pt x="1290" y="3591"/>
                        </a:lnTo>
                        <a:lnTo>
                          <a:pt x="1274" y="3612"/>
                        </a:lnTo>
                        <a:lnTo>
                          <a:pt x="1315" y="3596"/>
                        </a:lnTo>
                        <a:lnTo>
                          <a:pt x="1409" y="3570"/>
                        </a:lnTo>
                        <a:lnTo>
                          <a:pt x="1456" y="3559"/>
                        </a:lnTo>
                        <a:lnTo>
                          <a:pt x="1503" y="3549"/>
                        </a:lnTo>
                        <a:lnTo>
                          <a:pt x="1534" y="3549"/>
                        </a:lnTo>
                        <a:lnTo>
                          <a:pt x="1550" y="3554"/>
                        </a:lnTo>
                        <a:lnTo>
                          <a:pt x="1555" y="3559"/>
                        </a:lnTo>
                        <a:lnTo>
                          <a:pt x="1560" y="3570"/>
                        </a:lnTo>
                        <a:lnTo>
                          <a:pt x="1560" y="3586"/>
                        </a:lnTo>
                        <a:lnTo>
                          <a:pt x="1555" y="3606"/>
                        </a:lnTo>
                        <a:lnTo>
                          <a:pt x="1550" y="3617"/>
                        </a:lnTo>
                        <a:lnTo>
                          <a:pt x="1544" y="3622"/>
                        </a:lnTo>
                        <a:lnTo>
                          <a:pt x="1565" y="3612"/>
                        </a:lnTo>
                        <a:lnTo>
                          <a:pt x="1622" y="3581"/>
                        </a:lnTo>
                        <a:lnTo>
                          <a:pt x="1659" y="3570"/>
                        </a:lnTo>
                        <a:lnTo>
                          <a:pt x="1695" y="3559"/>
                        </a:lnTo>
                        <a:lnTo>
                          <a:pt x="1737" y="3559"/>
                        </a:lnTo>
                        <a:lnTo>
                          <a:pt x="1779" y="3564"/>
                        </a:lnTo>
                        <a:lnTo>
                          <a:pt x="1799" y="3575"/>
                        </a:lnTo>
                        <a:lnTo>
                          <a:pt x="1814" y="3586"/>
                        </a:lnTo>
                        <a:lnTo>
                          <a:pt x="1856" y="3622"/>
                        </a:lnTo>
                        <a:lnTo>
                          <a:pt x="1898" y="3669"/>
                        </a:lnTo>
                        <a:lnTo>
                          <a:pt x="1929" y="3731"/>
                        </a:lnTo>
                        <a:lnTo>
                          <a:pt x="1951" y="3794"/>
                        </a:lnTo>
                        <a:lnTo>
                          <a:pt x="1956" y="3824"/>
                        </a:lnTo>
                        <a:lnTo>
                          <a:pt x="1961" y="3861"/>
                        </a:lnTo>
                        <a:lnTo>
                          <a:pt x="1956" y="3893"/>
                        </a:lnTo>
                        <a:lnTo>
                          <a:pt x="1951" y="3929"/>
                        </a:lnTo>
                        <a:lnTo>
                          <a:pt x="1939" y="3961"/>
                        </a:lnTo>
                        <a:lnTo>
                          <a:pt x="1924" y="3991"/>
                        </a:lnTo>
                        <a:lnTo>
                          <a:pt x="2116" y="3893"/>
                        </a:lnTo>
                        <a:lnTo>
                          <a:pt x="2106" y="3971"/>
                        </a:lnTo>
                        <a:lnTo>
                          <a:pt x="2132" y="3949"/>
                        </a:lnTo>
                        <a:lnTo>
                          <a:pt x="2189" y="3903"/>
                        </a:lnTo>
                        <a:lnTo>
                          <a:pt x="2226" y="3882"/>
                        </a:lnTo>
                        <a:lnTo>
                          <a:pt x="2257" y="3866"/>
                        </a:lnTo>
                        <a:lnTo>
                          <a:pt x="2268" y="3866"/>
                        </a:lnTo>
                        <a:lnTo>
                          <a:pt x="2283" y="3866"/>
                        </a:lnTo>
                        <a:lnTo>
                          <a:pt x="2293" y="3872"/>
                        </a:lnTo>
                        <a:lnTo>
                          <a:pt x="2303" y="3882"/>
                        </a:lnTo>
                        <a:lnTo>
                          <a:pt x="2314" y="3903"/>
                        </a:lnTo>
                        <a:lnTo>
                          <a:pt x="2314" y="3919"/>
                        </a:lnTo>
                        <a:lnTo>
                          <a:pt x="2308" y="3929"/>
                        </a:lnTo>
                        <a:lnTo>
                          <a:pt x="2298" y="3934"/>
                        </a:lnTo>
                        <a:lnTo>
                          <a:pt x="2278" y="3944"/>
                        </a:lnTo>
                        <a:lnTo>
                          <a:pt x="2268" y="3944"/>
                        </a:lnTo>
                        <a:lnTo>
                          <a:pt x="2548" y="3789"/>
                        </a:lnTo>
                        <a:lnTo>
                          <a:pt x="2574" y="3914"/>
                        </a:lnTo>
                        <a:lnTo>
                          <a:pt x="2595" y="3887"/>
                        </a:lnTo>
                        <a:lnTo>
                          <a:pt x="2620" y="3861"/>
                        </a:lnTo>
                        <a:lnTo>
                          <a:pt x="2652" y="3836"/>
                        </a:lnTo>
                        <a:lnTo>
                          <a:pt x="2688" y="3809"/>
                        </a:lnTo>
                        <a:lnTo>
                          <a:pt x="2709" y="3804"/>
                        </a:lnTo>
                        <a:lnTo>
                          <a:pt x="2725" y="3799"/>
                        </a:lnTo>
                        <a:lnTo>
                          <a:pt x="2745" y="3799"/>
                        </a:lnTo>
                        <a:lnTo>
                          <a:pt x="2767" y="3804"/>
                        </a:lnTo>
                        <a:lnTo>
                          <a:pt x="2782" y="3809"/>
                        </a:lnTo>
                        <a:lnTo>
                          <a:pt x="2803" y="3824"/>
                        </a:lnTo>
                        <a:lnTo>
                          <a:pt x="2814" y="3846"/>
                        </a:lnTo>
                        <a:lnTo>
                          <a:pt x="2829" y="3866"/>
                        </a:lnTo>
                        <a:lnTo>
                          <a:pt x="2844" y="3914"/>
                        </a:lnTo>
                        <a:lnTo>
                          <a:pt x="2850" y="3961"/>
                        </a:lnTo>
                        <a:lnTo>
                          <a:pt x="2844" y="4002"/>
                        </a:lnTo>
                        <a:lnTo>
                          <a:pt x="2839" y="4044"/>
                        </a:lnTo>
                        <a:lnTo>
                          <a:pt x="2829" y="4075"/>
                        </a:lnTo>
                        <a:lnTo>
                          <a:pt x="2819" y="4106"/>
                        </a:lnTo>
                        <a:lnTo>
                          <a:pt x="3074" y="3903"/>
                        </a:lnTo>
                        <a:lnTo>
                          <a:pt x="3099" y="3991"/>
                        </a:lnTo>
                        <a:lnTo>
                          <a:pt x="3286" y="3726"/>
                        </a:lnTo>
                        <a:lnTo>
                          <a:pt x="3307" y="3804"/>
                        </a:lnTo>
                        <a:lnTo>
                          <a:pt x="3338" y="3757"/>
                        </a:lnTo>
                        <a:lnTo>
                          <a:pt x="3411" y="3654"/>
                        </a:lnTo>
                        <a:lnTo>
                          <a:pt x="3453" y="3591"/>
                        </a:lnTo>
                        <a:lnTo>
                          <a:pt x="3489" y="3523"/>
                        </a:lnTo>
                        <a:lnTo>
                          <a:pt x="3521" y="3466"/>
                        </a:lnTo>
                        <a:lnTo>
                          <a:pt x="3541" y="3419"/>
                        </a:lnTo>
                        <a:lnTo>
                          <a:pt x="3551" y="3529"/>
                        </a:lnTo>
                        <a:lnTo>
                          <a:pt x="3562" y="3507"/>
                        </a:lnTo>
                        <a:lnTo>
                          <a:pt x="3593" y="3455"/>
                        </a:lnTo>
                        <a:lnTo>
                          <a:pt x="3635" y="3372"/>
                        </a:lnTo>
                        <a:lnTo>
                          <a:pt x="3650" y="3325"/>
                        </a:lnTo>
                        <a:lnTo>
                          <a:pt x="3666" y="3274"/>
                        </a:lnTo>
                        <a:lnTo>
                          <a:pt x="3692" y="3180"/>
                        </a:lnTo>
                        <a:lnTo>
                          <a:pt x="3723" y="3102"/>
                        </a:lnTo>
                        <a:lnTo>
                          <a:pt x="3760" y="3023"/>
                        </a:lnTo>
                        <a:lnTo>
                          <a:pt x="3807" y="3117"/>
                        </a:lnTo>
                        <a:lnTo>
                          <a:pt x="3832" y="3080"/>
                        </a:lnTo>
                        <a:lnTo>
                          <a:pt x="3858" y="3039"/>
                        </a:lnTo>
                        <a:lnTo>
                          <a:pt x="3890" y="2977"/>
                        </a:lnTo>
                        <a:lnTo>
                          <a:pt x="3920" y="2898"/>
                        </a:lnTo>
                        <a:lnTo>
                          <a:pt x="3947" y="2805"/>
                        </a:lnTo>
                        <a:lnTo>
                          <a:pt x="3952" y="2753"/>
                        </a:lnTo>
                        <a:lnTo>
                          <a:pt x="3957" y="2695"/>
                        </a:lnTo>
                        <a:lnTo>
                          <a:pt x="3962" y="2633"/>
                        </a:lnTo>
                        <a:lnTo>
                          <a:pt x="3957" y="2565"/>
                        </a:lnTo>
                        <a:lnTo>
                          <a:pt x="3942" y="2410"/>
                        </a:lnTo>
                        <a:lnTo>
                          <a:pt x="3915" y="2222"/>
                        </a:lnTo>
                        <a:lnTo>
                          <a:pt x="3885" y="2019"/>
                        </a:lnTo>
                        <a:lnTo>
                          <a:pt x="3853" y="1821"/>
                        </a:lnTo>
                        <a:lnTo>
                          <a:pt x="3791" y="1483"/>
                        </a:lnTo>
                        <a:lnTo>
                          <a:pt x="3760" y="1342"/>
                        </a:lnTo>
                        <a:lnTo>
                          <a:pt x="3728" y="1327"/>
                        </a:lnTo>
                        <a:lnTo>
                          <a:pt x="3692" y="1306"/>
                        </a:lnTo>
                        <a:lnTo>
                          <a:pt x="3640" y="1269"/>
                        </a:lnTo>
                        <a:lnTo>
                          <a:pt x="3583" y="1227"/>
                        </a:lnTo>
                        <a:lnTo>
                          <a:pt x="3521" y="1165"/>
                        </a:lnTo>
                        <a:lnTo>
                          <a:pt x="3448" y="1092"/>
                        </a:lnTo>
                        <a:lnTo>
                          <a:pt x="3375" y="1004"/>
                        </a:lnTo>
                        <a:lnTo>
                          <a:pt x="3209" y="770"/>
                        </a:lnTo>
                        <a:lnTo>
                          <a:pt x="3109" y="629"/>
                        </a:lnTo>
                        <a:lnTo>
                          <a:pt x="3001" y="488"/>
                        </a:lnTo>
                        <a:lnTo>
                          <a:pt x="2881" y="348"/>
                        </a:lnTo>
                        <a:lnTo>
                          <a:pt x="2824" y="285"/>
                        </a:lnTo>
                        <a:lnTo>
                          <a:pt x="2762" y="223"/>
                        </a:lnTo>
                        <a:lnTo>
                          <a:pt x="2699" y="166"/>
                        </a:lnTo>
                        <a:lnTo>
                          <a:pt x="2632" y="120"/>
                        </a:lnTo>
                        <a:lnTo>
                          <a:pt x="2569" y="72"/>
                        </a:lnTo>
                        <a:lnTo>
                          <a:pt x="2501" y="36"/>
                        </a:lnTo>
                        <a:lnTo>
                          <a:pt x="2532" y="113"/>
                        </a:lnTo>
                        <a:lnTo>
                          <a:pt x="2485" y="88"/>
                        </a:lnTo>
                        <a:lnTo>
                          <a:pt x="2433" y="67"/>
                        </a:lnTo>
                        <a:lnTo>
                          <a:pt x="2371" y="46"/>
                        </a:lnTo>
                        <a:lnTo>
                          <a:pt x="2298" y="20"/>
                        </a:lnTo>
                        <a:lnTo>
                          <a:pt x="2221" y="5"/>
                        </a:lnTo>
                        <a:lnTo>
                          <a:pt x="2148" y="0"/>
                        </a:lnTo>
                        <a:lnTo>
                          <a:pt x="2116" y="0"/>
                        </a:lnTo>
                        <a:lnTo>
                          <a:pt x="2080" y="5"/>
                        </a:lnTo>
                        <a:lnTo>
                          <a:pt x="2184" y="108"/>
                        </a:lnTo>
                        <a:lnTo>
                          <a:pt x="2002" y="93"/>
                        </a:lnTo>
                        <a:lnTo>
                          <a:pt x="1841" y="88"/>
                        </a:lnTo>
                        <a:lnTo>
                          <a:pt x="1768" y="88"/>
                        </a:lnTo>
                        <a:lnTo>
                          <a:pt x="1711" y="98"/>
                        </a:lnTo>
                        <a:lnTo>
                          <a:pt x="1804" y="140"/>
                        </a:lnTo>
                        <a:lnTo>
                          <a:pt x="1679" y="140"/>
                        </a:lnTo>
                        <a:lnTo>
                          <a:pt x="1565" y="150"/>
                        </a:lnTo>
                        <a:lnTo>
                          <a:pt x="1513" y="155"/>
                        </a:lnTo>
                        <a:lnTo>
                          <a:pt x="1467" y="166"/>
                        </a:lnTo>
                        <a:lnTo>
                          <a:pt x="1503" y="250"/>
                        </a:lnTo>
                        <a:lnTo>
                          <a:pt x="1373" y="260"/>
                        </a:lnTo>
                        <a:lnTo>
                          <a:pt x="1258" y="270"/>
                        </a:lnTo>
                        <a:lnTo>
                          <a:pt x="1201" y="280"/>
                        </a:lnTo>
                        <a:lnTo>
                          <a:pt x="1150" y="296"/>
                        </a:lnTo>
                        <a:lnTo>
                          <a:pt x="1232" y="353"/>
                        </a:lnTo>
                        <a:lnTo>
                          <a:pt x="1248" y="369"/>
                        </a:lnTo>
                        <a:lnTo>
                          <a:pt x="1263" y="390"/>
                        </a:lnTo>
                        <a:lnTo>
                          <a:pt x="1285" y="415"/>
                        </a:lnTo>
                        <a:lnTo>
                          <a:pt x="1300" y="452"/>
                        </a:lnTo>
                        <a:lnTo>
                          <a:pt x="1310" y="488"/>
                        </a:lnTo>
                        <a:lnTo>
                          <a:pt x="1310" y="535"/>
                        </a:lnTo>
                        <a:lnTo>
                          <a:pt x="1305" y="562"/>
                        </a:lnTo>
                        <a:lnTo>
                          <a:pt x="1300" y="587"/>
                        </a:lnTo>
                        <a:lnTo>
                          <a:pt x="1180" y="577"/>
                        </a:lnTo>
                        <a:lnTo>
                          <a:pt x="1269" y="645"/>
                        </a:lnTo>
                        <a:lnTo>
                          <a:pt x="1332" y="697"/>
                        </a:lnTo>
                        <a:lnTo>
                          <a:pt x="1357" y="723"/>
                        </a:lnTo>
                        <a:lnTo>
                          <a:pt x="1368" y="744"/>
                        </a:lnTo>
                        <a:lnTo>
                          <a:pt x="1368" y="754"/>
                        </a:lnTo>
                        <a:lnTo>
                          <a:pt x="1368" y="759"/>
                        </a:lnTo>
                        <a:lnTo>
                          <a:pt x="1352" y="764"/>
                        </a:lnTo>
                        <a:lnTo>
                          <a:pt x="1332" y="770"/>
                        </a:lnTo>
                        <a:lnTo>
                          <a:pt x="1305" y="764"/>
                        </a:lnTo>
                        <a:lnTo>
                          <a:pt x="1258" y="759"/>
                        </a:lnTo>
                        <a:lnTo>
                          <a:pt x="1232" y="754"/>
                        </a:lnTo>
                        <a:lnTo>
                          <a:pt x="1285" y="884"/>
                        </a:lnTo>
                        <a:lnTo>
                          <a:pt x="1160" y="894"/>
                        </a:lnTo>
                        <a:lnTo>
                          <a:pt x="1056" y="910"/>
                        </a:lnTo>
                        <a:lnTo>
                          <a:pt x="968" y="926"/>
                        </a:lnTo>
                        <a:lnTo>
                          <a:pt x="983" y="931"/>
                        </a:lnTo>
                        <a:lnTo>
                          <a:pt x="1019" y="952"/>
                        </a:lnTo>
                        <a:lnTo>
                          <a:pt x="1035" y="962"/>
                        </a:lnTo>
                        <a:lnTo>
                          <a:pt x="1050" y="977"/>
                        </a:lnTo>
                        <a:lnTo>
                          <a:pt x="1061" y="994"/>
                        </a:lnTo>
                        <a:lnTo>
                          <a:pt x="1071" y="1014"/>
                        </a:lnTo>
                        <a:lnTo>
                          <a:pt x="1066" y="1019"/>
                        </a:lnTo>
                        <a:lnTo>
                          <a:pt x="1061" y="1030"/>
                        </a:lnTo>
                        <a:lnTo>
                          <a:pt x="1035" y="1040"/>
                        </a:lnTo>
                        <a:lnTo>
                          <a:pt x="998" y="1051"/>
                        </a:lnTo>
                        <a:lnTo>
                          <a:pt x="951" y="1061"/>
                        </a:lnTo>
                        <a:lnTo>
                          <a:pt x="873" y="1072"/>
                        </a:lnTo>
                        <a:lnTo>
                          <a:pt x="838" y="1072"/>
                        </a:lnTo>
                        <a:lnTo>
                          <a:pt x="926" y="1139"/>
                        </a:lnTo>
                        <a:lnTo>
                          <a:pt x="936" y="1155"/>
                        </a:lnTo>
                        <a:lnTo>
                          <a:pt x="941" y="1171"/>
                        </a:lnTo>
                        <a:lnTo>
                          <a:pt x="941" y="1197"/>
                        </a:lnTo>
                        <a:lnTo>
                          <a:pt x="941" y="1222"/>
                        </a:lnTo>
                        <a:lnTo>
                          <a:pt x="926" y="1249"/>
                        </a:lnTo>
                        <a:lnTo>
                          <a:pt x="900" y="1279"/>
                        </a:lnTo>
                        <a:lnTo>
                          <a:pt x="863" y="1306"/>
                        </a:lnTo>
                        <a:lnTo>
                          <a:pt x="879" y="1311"/>
                        </a:lnTo>
                        <a:lnTo>
                          <a:pt x="894" y="1316"/>
                        </a:lnTo>
                        <a:lnTo>
                          <a:pt x="915" y="1327"/>
                        </a:lnTo>
                        <a:lnTo>
                          <a:pt x="931" y="1337"/>
                        </a:lnTo>
                        <a:lnTo>
                          <a:pt x="941" y="1358"/>
                        </a:lnTo>
                        <a:lnTo>
                          <a:pt x="941" y="1379"/>
                        </a:lnTo>
                        <a:lnTo>
                          <a:pt x="936" y="1409"/>
                        </a:lnTo>
                        <a:lnTo>
                          <a:pt x="921" y="1436"/>
                        </a:lnTo>
                        <a:lnTo>
                          <a:pt x="900" y="1462"/>
                        </a:lnTo>
                        <a:lnTo>
                          <a:pt x="879" y="1477"/>
                        </a:lnTo>
                        <a:lnTo>
                          <a:pt x="858" y="1488"/>
                        </a:lnTo>
                        <a:lnTo>
                          <a:pt x="821" y="1499"/>
                        </a:lnTo>
                        <a:lnTo>
                          <a:pt x="806" y="1499"/>
                        </a:lnTo>
                        <a:lnTo>
                          <a:pt x="821" y="1509"/>
                        </a:lnTo>
                        <a:lnTo>
                          <a:pt x="858" y="1524"/>
                        </a:lnTo>
                        <a:lnTo>
                          <a:pt x="873" y="1539"/>
                        </a:lnTo>
                        <a:lnTo>
                          <a:pt x="889" y="1556"/>
                        </a:lnTo>
                        <a:lnTo>
                          <a:pt x="894" y="1571"/>
                        </a:lnTo>
                        <a:lnTo>
                          <a:pt x="884" y="1592"/>
                        </a:lnTo>
                        <a:lnTo>
                          <a:pt x="868" y="1613"/>
                        </a:lnTo>
                        <a:lnTo>
                          <a:pt x="838" y="1623"/>
                        </a:lnTo>
                        <a:lnTo>
                          <a:pt x="806" y="1639"/>
                        </a:lnTo>
                        <a:lnTo>
                          <a:pt x="769" y="1649"/>
                        </a:lnTo>
                        <a:lnTo>
                          <a:pt x="713" y="1659"/>
                        </a:lnTo>
                        <a:lnTo>
                          <a:pt x="686" y="1664"/>
                        </a:lnTo>
                        <a:lnTo>
                          <a:pt x="702" y="1676"/>
                        </a:lnTo>
                        <a:lnTo>
                          <a:pt x="738" y="1701"/>
                        </a:lnTo>
                        <a:lnTo>
                          <a:pt x="754" y="1717"/>
                        </a:lnTo>
                        <a:lnTo>
                          <a:pt x="759" y="1728"/>
                        </a:lnTo>
                        <a:lnTo>
                          <a:pt x="759" y="1738"/>
                        </a:lnTo>
                        <a:lnTo>
                          <a:pt x="754" y="1743"/>
                        </a:lnTo>
                        <a:lnTo>
                          <a:pt x="733" y="1753"/>
                        </a:lnTo>
                        <a:lnTo>
                          <a:pt x="666" y="1779"/>
                        </a:lnTo>
                        <a:lnTo>
                          <a:pt x="588" y="1806"/>
                        </a:lnTo>
                        <a:lnTo>
                          <a:pt x="499" y="1847"/>
                        </a:lnTo>
                        <a:lnTo>
                          <a:pt x="531" y="1847"/>
                        </a:lnTo>
                        <a:lnTo>
                          <a:pt x="593" y="1858"/>
                        </a:lnTo>
                        <a:lnTo>
                          <a:pt x="629" y="1868"/>
                        </a:lnTo>
                        <a:lnTo>
                          <a:pt x="666" y="1883"/>
                        </a:lnTo>
                        <a:lnTo>
                          <a:pt x="691" y="1904"/>
                        </a:lnTo>
                        <a:lnTo>
                          <a:pt x="697" y="1915"/>
                        </a:lnTo>
                        <a:lnTo>
                          <a:pt x="702" y="1931"/>
                        </a:lnTo>
                        <a:lnTo>
                          <a:pt x="702" y="1961"/>
                        </a:lnTo>
                        <a:lnTo>
                          <a:pt x="691" y="1993"/>
                        </a:lnTo>
                        <a:lnTo>
                          <a:pt x="676" y="2024"/>
                        </a:lnTo>
                        <a:lnTo>
                          <a:pt x="656" y="2055"/>
                        </a:lnTo>
                        <a:lnTo>
                          <a:pt x="629" y="2081"/>
                        </a:lnTo>
                        <a:lnTo>
                          <a:pt x="609" y="2103"/>
                        </a:lnTo>
                        <a:lnTo>
                          <a:pt x="582" y="2123"/>
                        </a:lnTo>
                        <a:lnTo>
                          <a:pt x="562" y="2128"/>
                        </a:lnTo>
                        <a:lnTo>
                          <a:pt x="551" y="2133"/>
                        </a:lnTo>
                        <a:lnTo>
                          <a:pt x="551" y="2138"/>
                        </a:lnTo>
                        <a:lnTo>
                          <a:pt x="582" y="2149"/>
                        </a:lnTo>
                        <a:lnTo>
                          <a:pt x="598" y="2154"/>
                        </a:lnTo>
                        <a:lnTo>
                          <a:pt x="619" y="2165"/>
                        </a:lnTo>
                        <a:lnTo>
                          <a:pt x="629" y="2175"/>
                        </a:lnTo>
                        <a:lnTo>
                          <a:pt x="634" y="2191"/>
                        </a:lnTo>
                        <a:lnTo>
                          <a:pt x="624" y="2211"/>
                        </a:lnTo>
                        <a:lnTo>
                          <a:pt x="614" y="2233"/>
                        </a:lnTo>
                        <a:lnTo>
                          <a:pt x="593" y="2248"/>
                        </a:lnTo>
                        <a:lnTo>
                          <a:pt x="567" y="2263"/>
                        </a:lnTo>
                        <a:lnTo>
                          <a:pt x="526" y="2285"/>
                        </a:lnTo>
                        <a:lnTo>
                          <a:pt x="504" y="2295"/>
                        </a:lnTo>
                        <a:lnTo>
                          <a:pt x="531" y="2295"/>
                        </a:lnTo>
                        <a:lnTo>
                          <a:pt x="582" y="2305"/>
                        </a:lnTo>
                        <a:lnTo>
                          <a:pt x="603" y="2315"/>
                        </a:lnTo>
                        <a:lnTo>
                          <a:pt x="624" y="2326"/>
                        </a:lnTo>
                        <a:lnTo>
                          <a:pt x="629" y="2336"/>
                        </a:lnTo>
                        <a:lnTo>
                          <a:pt x="629" y="2341"/>
                        </a:lnTo>
                        <a:lnTo>
                          <a:pt x="629" y="2352"/>
                        </a:lnTo>
                        <a:lnTo>
                          <a:pt x="624" y="2363"/>
                        </a:lnTo>
                        <a:lnTo>
                          <a:pt x="603" y="2388"/>
                        </a:lnTo>
                        <a:lnTo>
                          <a:pt x="577" y="2398"/>
                        </a:lnTo>
                        <a:lnTo>
                          <a:pt x="556" y="2410"/>
                        </a:lnTo>
                        <a:lnTo>
                          <a:pt x="531" y="2420"/>
                        </a:lnTo>
                        <a:lnTo>
                          <a:pt x="489" y="2420"/>
                        </a:lnTo>
                        <a:lnTo>
                          <a:pt x="468" y="2420"/>
                        </a:lnTo>
                        <a:lnTo>
                          <a:pt x="484" y="2425"/>
                        </a:lnTo>
                        <a:lnTo>
                          <a:pt x="514" y="2430"/>
                        </a:lnTo>
                        <a:lnTo>
                          <a:pt x="526" y="2440"/>
                        </a:lnTo>
                        <a:lnTo>
                          <a:pt x="536" y="2451"/>
                        </a:lnTo>
                        <a:lnTo>
                          <a:pt x="536" y="2461"/>
                        </a:lnTo>
                        <a:lnTo>
                          <a:pt x="531" y="2477"/>
                        </a:lnTo>
                        <a:lnTo>
                          <a:pt x="509" y="2498"/>
                        </a:lnTo>
                        <a:lnTo>
                          <a:pt x="479" y="2518"/>
                        </a:lnTo>
                        <a:lnTo>
                          <a:pt x="400" y="2565"/>
                        </a:lnTo>
                        <a:lnTo>
                          <a:pt x="297" y="2617"/>
                        </a:lnTo>
                        <a:lnTo>
                          <a:pt x="317" y="2623"/>
                        </a:lnTo>
                        <a:lnTo>
                          <a:pt x="364" y="2633"/>
                        </a:lnTo>
                        <a:lnTo>
                          <a:pt x="379" y="2643"/>
                        </a:lnTo>
                        <a:lnTo>
                          <a:pt x="390" y="2654"/>
                        </a:lnTo>
                        <a:lnTo>
                          <a:pt x="395" y="2659"/>
                        </a:lnTo>
                        <a:lnTo>
                          <a:pt x="395" y="2665"/>
                        </a:lnTo>
                        <a:lnTo>
                          <a:pt x="379" y="2680"/>
                        </a:lnTo>
                        <a:lnTo>
                          <a:pt x="317" y="2711"/>
                        </a:lnTo>
                        <a:lnTo>
                          <a:pt x="250" y="2737"/>
                        </a:lnTo>
                        <a:lnTo>
                          <a:pt x="162" y="2763"/>
                        </a:lnTo>
                        <a:lnTo>
                          <a:pt x="182" y="2779"/>
                        </a:lnTo>
                        <a:lnTo>
                          <a:pt x="213" y="2810"/>
                        </a:lnTo>
                        <a:lnTo>
                          <a:pt x="229" y="2825"/>
                        </a:lnTo>
                        <a:lnTo>
                          <a:pt x="234" y="2847"/>
                        </a:lnTo>
                        <a:lnTo>
                          <a:pt x="234" y="2852"/>
                        </a:lnTo>
                        <a:lnTo>
                          <a:pt x="234" y="2862"/>
                        </a:lnTo>
                        <a:lnTo>
                          <a:pt x="229" y="2867"/>
                        </a:lnTo>
                        <a:lnTo>
                          <a:pt x="219" y="2872"/>
                        </a:lnTo>
                        <a:lnTo>
                          <a:pt x="187" y="2893"/>
                        </a:lnTo>
                        <a:lnTo>
                          <a:pt x="156" y="2919"/>
                        </a:lnTo>
                        <a:lnTo>
                          <a:pt x="83" y="2982"/>
                        </a:lnTo>
                        <a:lnTo>
                          <a:pt x="0" y="3065"/>
                        </a:lnTo>
                        <a:close/>
                      </a:path>
                    </a:pathLst>
                  </a:custGeom>
                  <a:solidFill>
                    <a:srgbClr val="33cc33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0" name="Freeform 1859"/>
                  <p:cNvSpPr/>
                  <p:nvPr/>
                </p:nvSpPr>
                <p:spPr>
                  <a:xfrm rot="11388000">
                    <a:off x="558000" y="855000"/>
                    <a:ext cx="367920" cy="193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64" h="1941">
                        <a:moveTo>
                          <a:pt x="0" y="1941"/>
                        </a:moveTo>
                        <a:lnTo>
                          <a:pt x="141" y="1936"/>
                        </a:lnTo>
                        <a:lnTo>
                          <a:pt x="463" y="1916"/>
                        </a:lnTo>
                        <a:lnTo>
                          <a:pt x="655" y="1899"/>
                        </a:lnTo>
                        <a:lnTo>
                          <a:pt x="842" y="1874"/>
                        </a:lnTo>
                        <a:lnTo>
                          <a:pt x="1014" y="1848"/>
                        </a:lnTo>
                        <a:lnTo>
                          <a:pt x="1087" y="1837"/>
                        </a:lnTo>
                        <a:lnTo>
                          <a:pt x="1149" y="1822"/>
                        </a:lnTo>
                        <a:lnTo>
                          <a:pt x="1311" y="1775"/>
                        </a:lnTo>
                        <a:lnTo>
                          <a:pt x="1550" y="1717"/>
                        </a:lnTo>
                        <a:lnTo>
                          <a:pt x="1846" y="1644"/>
                        </a:lnTo>
                        <a:lnTo>
                          <a:pt x="2179" y="1551"/>
                        </a:lnTo>
                        <a:lnTo>
                          <a:pt x="2346" y="1499"/>
                        </a:lnTo>
                        <a:lnTo>
                          <a:pt x="2517" y="1442"/>
                        </a:lnTo>
                        <a:lnTo>
                          <a:pt x="2683" y="1379"/>
                        </a:lnTo>
                        <a:lnTo>
                          <a:pt x="2845" y="1312"/>
                        </a:lnTo>
                        <a:lnTo>
                          <a:pt x="2995" y="1244"/>
                        </a:lnTo>
                        <a:lnTo>
                          <a:pt x="3135" y="1172"/>
                        </a:lnTo>
                        <a:lnTo>
                          <a:pt x="3260" y="1093"/>
                        </a:lnTo>
                        <a:lnTo>
                          <a:pt x="3317" y="1052"/>
                        </a:lnTo>
                        <a:lnTo>
                          <a:pt x="3364" y="1010"/>
                        </a:lnTo>
                        <a:lnTo>
                          <a:pt x="3235" y="432"/>
                        </a:lnTo>
                        <a:lnTo>
                          <a:pt x="3177" y="380"/>
                        </a:lnTo>
                        <a:lnTo>
                          <a:pt x="3053" y="266"/>
                        </a:lnTo>
                        <a:lnTo>
                          <a:pt x="2975" y="198"/>
                        </a:lnTo>
                        <a:lnTo>
                          <a:pt x="2907" y="125"/>
                        </a:lnTo>
                        <a:lnTo>
                          <a:pt x="2845" y="58"/>
                        </a:lnTo>
                        <a:lnTo>
                          <a:pt x="2803" y="0"/>
                        </a:lnTo>
                        <a:lnTo>
                          <a:pt x="2704" y="52"/>
                        </a:lnTo>
                        <a:lnTo>
                          <a:pt x="2444" y="193"/>
                        </a:lnTo>
                        <a:lnTo>
                          <a:pt x="2064" y="401"/>
                        </a:lnTo>
                        <a:lnTo>
                          <a:pt x="1840" y="531"/>
                        </a:lnTo>
                        <a:lnTo>
                          <a:pt x="1612" y="672"/>
                        </a:lnTo>
                        <a:lnTo>
                          <a:pt x="1373" y="817"/>
                        </a:lnTo>
                        <a:lnTo>
                          <a:pt x="1134" y="973"/>
                        </a:lnTo>
                        <a:lnTo>
                          <a:pt x="900" y="1135"/>
                        </a:lnTo>
                        <a:lnTo>
                          <a:pt x="677" y="1296"/>
                        </a:lnTo>
                        <a:lnTo>
                          <a:pt x="468" y="1462"/>
                        </a:lnTo>
                        <a:lnTo>
                          <a:pt x="370" y="1546"/>
                        </a:lnTo>
                        <a:lnTo>
                          <a:pt x="281" y="1629"/>
                        </a:lnTo>
                        <a:lnTo>
                          <a:pt x="198" y="1707"/>
                        </a:lnTo>
                        <a:lnTo>
                          <a:pt x="125" y="1786"/>
                        </a:lnTo>
                        <a:lnTo>
                          <a:pt x="58" y="1864"/>
                        </a:lnTo>
                        <a:lnTo>
                          <a:pt x="0" y="194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9900"/>
                      </a:gs>
                      <a:gs pos="100000">
                        <a:srgbClr val="43b44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1" name="Freeform 1860"/>
                  <p:cNvSpPr/>
                  <p:nvPr/>
                </p:nvSpPr>
                <p:spPr>
                  <a:xfrm rot="11388000">
                    <a:off x="407880" y="837720"/>
                    <a:ext cx="53532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88" h="2436">
                        <a:moveTo>
                          <a:pt x="0" y="2436"/>
                        </a:moveTo>
                        <a:lnTo>
                          <a:pt x="358" y="2296"/>
                        </a:lnTo>
                        <a:lnTo>
                          <a:pt x="1169" y="1968"/>
                        </a:lnTo>
                        <a:lnTo>
                          <a:pt x="1628" y="1786"/>
                        </a:lnTo>
                        <a:lnTo>
                          <a:pt x="2044" y="1609"/>
                        </a:lnTo>
                        <a:lnTo>
                          <a:pt x="2381" y="1457"/>
                        </a:lnTo>
                        <a:lnTo>
                          <a:pt x="2501" y="1400"/>
                        </a:lnTo>
                        <a:lnTo>
                          <a:pt x="2584" y="1359"/>
                        </a:lnTo>
                        <a:lnTo>
                          <a:pt x="2828" y="1213"/>
                        </a:lnTo>
                        <a:lnTo>
                          <a:pt x="3057" y="1083"/>
                        </a:lnTo>
                        <a:lnTo>
                          <a:pt x="3250" y="979"/>
                        </a:lnTo>
                        <a:lnTo>
                          <a:pt x="3322" y="942"/>
                        </a:lnTo>
                        <a:lnTo>
                          <a:pt x="3380" y="922"/>
                        </a:lnTo>
                        <a:lnTo>
                          <a:pt x="3469" y="885"/>
                        </a:lnTo>
                        <a:lnTo>
                          <a:pt x="3634" y="812"/>
                        </a:lnTo>
                        <a:lnTo>
                          <a:pt x="3853" y="708"/>
                        </a:lnTo>
                        <a:lnTo>
                          <a:pt x="4103" y="583"/>
                        </a:lnTo>
                        <a:lnTo>
                          <a:pt x="4352" y="458"/>
                        </a:lnTo>
                        <a:lnTo>
                          <a:pt x="4587" y="333"/>
                        </a:lnTo>
                        <a:lnTo>
                          <a:pt x="4685" y="276"/>
                        </a:lnTo>
                        <a:lnTo>
                          <a:pt x="4774" y="219"/>
                        </a:lnTo>
                        <a:lnTo>
                          <a:pt x="4841" y="172"/>
                        </a:lnTo>
                        <a:lnTo>
                          <a:pt x="4888" y="136"/>
                        </a:lnTo>
                        <a:lnTo>
                          <a:pt x="4888" y="115"/>
                        </a:lnTo>
                        <a:lnTo>
                          <a:pt x="4888" y="73"/>
                        </a:lnTo>
                        <a:lnTo>
                          <a:pt x="4882" y="47"/>
                        </a:lnTo>
                        <a:lnTo>
                          <a:pt x="4877" y="26"/>
                        </a:lnTo>
                        <a:lnTo>
                          <a:pt x="4867" y="11"/>
                        </a:lnTo>
                        <a:lnTo>
                          <a:pt x="4846" y="0"/>
                        </a:lnTo>
                        <a:lnTo>
                          <a:pt x="4836" y="0"/>
                        </a:lnTo>
                        <a:lnTo>
                          <a:pt x="4826" y="6"/>
                        </a:lnTo>
                        <a:lnTo>
                          <a:pt x="4799" y="26"/>
                        </a:lnTo>
                        <a:lnTo>
                          <a:pt x="4727" y="109"/>
                        </a:lnTo>
                        <a:lnTo>
                          <a:pt x="4680" y="161"/>
                        </a:lnTo>
                        <a:lnTo>
                          <a:pt x="4628" y="219"/>
                        </a:lnTo>
                        <a:lnTo>
                          <a:pt x="4560" y="271"/>
                        </a:lnTo>
                        <a:lnTo>
                          <a:pt x="4524" y="297"/>
                        </a:lnTo>
                        <a:lnTo>
                          <a:pt x="4482" y="318"/>
                        </a:lnTo>
                        <a:lnTo>
                          <a:pt x="4233" y="443"/>
                        </a:lnTo>
                        <a:lnTo>
                          <a:pt x="3900" y="604"/>
                        </a:lnTo>
                        <a:lnTo>
                          <a:pt x="3593" y="745"/>
                        </a:lnTo>
                        <a:lnTo>
                          <a:pt x="3484" y="792"/>
                        </a:lnTo>
                        <a:lnTo>
                          <a:pt x="3422" y="817"/>
                        </a:lnTo>
                        <a:lnTo>
                          <a:pt x="3380" y="833"/>
                        </a:lnTo>
                        <a:lnTo>
                          <a:pt x="3317" y="864"/>
                        </a:lnTo>
                        <a:lnTo>
                          <a:pt x="3172" y="947"/>
                        </a:lnTo>
                        <a:lnTo>
                          <a:pt x="3010" y="1047"/>
                        </a:lnTo>
                        <a:lnTo>
                          <a:pt x="2875" y="1135"/>
                        </a:lnTo>
                        <a:lnTo>
                          <a:pt x="2730" y="1224"/>
                        </a:lnTo>
                        <a:lnTo>
                          <a:pt x="2533" y="1327"/>
                        </a:lnTo>
                        <a:lnTo>
                          <a:pt x="2329" y="1437"/>
                        </a:lnTo>
                        <a:lnTo>
                          <a:pt x="2152" y="1520"/>
                        </a:lnTo>
                        <a:lnTo>
                          <a:pt x="1726" y="1702"/>
                        </a:lnTo>
                        <a:lnTo>
                          <a:pt x="999" y="2014"/>
                        </a:lnTo>
                        <a:lnTo>
                          <a:pt x="0" y="243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2" name="Freeform 1861"/>
                  <p:cNvSpPr/>
                  <p:nvPr/>
                </p:nvSpPr>
                <p:spPr>
                  <a:xfrm rot="11388000">
                    <a:off x="712800" y="943920"/>
                    <a:ext cx="1738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97" h="240">
                        <a:moveTo>
                          <a:pt x="0" y="5"/>
                        </a:moveTo>
                        <a:lnTo>
                          <a:pt x="198" y="17"/>
                        </a:lnTo>
                        <a:lnTo>
                          <a:pt x="411" y="27"/>
                        </a:lnTo>
                        <a:lnTo>
                          <a:pt x="656" y="47"/>
                        </a:lnTo>
                        <a:lnTo>
                          <a:pt x="921" y="79"/>
                        </a:lnTo>
                        <a:lnTo>
                          <a:pt x="1051" y="95"/>
                        </a:lnTo>
                        <a:lnTo>
                          <a:pt x="1176" y="115"/>
                        </a:lnTo>
                        <a:lnTo>
                          <a:pt x="1285" y="142"/>
                        </a:lnTo>
                        <a:lnTo>
                          <a:pt x="1389" y="172"/>
                        </a:lnTo>
                        <a:lnTo>
                          <a:pt x="1472" y="204"/>
                        </a:lnTo>
                        <a:lnTo>
                          <a:pt x="1509" y="219"/>
                        </a:lnTo>
                        <a:lnTo>
                          <a:pt x="1540" y="240"/>
                        </a:lnTo>
                        <a:lnTo>
                          <a:pt x="1597" y="225"/>
                        </a:lnTo>
                        <a:lnTo>
                          <a:pt x="1571" y="214"/>
                        </a:lnTo>
                        <a:lnTo>
                          <a:pt x="1487" y="183"/>
                        </a:lnTo>
                        <a:lnTo>
                          <a:pt x="1358" y="142"/>
                        </a:lnTo>
                        <a:lnTo>
                          <a:pt x="1176" y="100"/>
                        </a:lnTo>
                        <a:lnTo>
                          <a:pt x="1067" y="73"/>
                        </a:lnTo>
                        <a:lnTo>
                          <a:pt x="947" y="53"/>
                        </a:lnTo>
                        <a:lnTo>
                          <a:pt x="811" y="37"/>
                        </a:lnTo>
                        <a:lnTo>
                          <a:pt x="671" y="22"/>
                        </a:lnTo>
                        <a:lnTo>
                          <a:pt x="521" y="11"/>
                        </a:lnTo>
                        <a:lnTo>
                          <a:pt x="354" y="0"/>
                        </a:lnTo>
                        <a:lnTo>
                          <a:pt x="182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3" name="Freeform 1862"/>
                  <p:cNvSpPr/>
                  <p:nvPr/>
                </p:nvSpPr>
                <p:spPr>
                  <a:xfrm rot="11388000">
                    <a:off x="620640" y="972360"/>
                    <a:ext cx="22500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59" h="906">
                        <a:moveTo>
                          <a:pt x="0" y="427"/>
                        </a:moveTo>
                        <a:lnTo>
                          <a:pt x="141" y="448"/>
                        </a:lnTo>
                        <a:lnTo>
                          <a:pt x="463" y="505"/>
                        </a:lnTo>
                        <a:lnTo>
                          <a:pt x="640" y="542"/>
                        </a:lnTo>
                        <a:lnTo>
                          <a:pt x="806" y="578"/>
                        </a:lnTo>
                        <a:lnTo>
                          <a:pt x="879" y="599"/>
                        </a:lnTo>
                        <a:lnTo>
                          <a:pt x="941" y="619"/>
                        </a:lnTo>
                        <a:lnTo>
                          <a:pt x="989" y="641"/>
                        </a:lnTo>
                        <a:lnTo>
                          <a:pt x="1024" y="661"/>
                        </a:lnTo>
                        <a:lnTo>
                          <a:pt x="1061" y="677"/>
                        </a:lnTo>
                        <a:lnTo>
                          <a:pt x="1108" y="698"/>
                        </a:lnTo>
                        <a:lnTo>
                          <a:pt x="1171" y="719"/>
                        </a:lnTo>
                        <a:lnTo>
                          <a:pt x="1238" y="744"/>
                        </a:lnTo>
                        <a:lnTo>
                          <a:pt x="1404" y="781"/>
                        </a:lnTo>
                        <a:lnTo>
                          <a:pt x="1581" y="823"/>
                        </a:lnTo>
                        <a:lnTo>
                          <a:pt x="1893" y="879"/>
                        </a:lnTo>
                        <a:lnTo>
                          <a:pt x="2034" y="906"/>
                        </a:lnTo>
                        <a:lnTo>
                          <a:pt x="2059" y="854"/>
                        </a:lnTo>
                        <a:lnTo>
                          <a:pt x="1924" y="833"/>
                        </a:lnTo>
                        <a:lnTo>
                          <a:pt x="1623" y="781"/>
                        </a:lnTo>
                        <a:lnTo>
                          <a:pt x="1456" y="749"/>
                        </a:lnTo>
                        <a:lnTo>
                          <a:pt x="1295" y="714"/>
                        </a:lnTo>
                        <a:lnTo>
                          <a:pt x="1165" y="682"/>
                        </a:lnTo>
                        <a:lnTo>
                          <a:pt x="1118" y="666"/>
                        </a:lnTo>
                        <a:lnTo>
                          <a:pt x="1087" y="651"/>
                        </a:lnTo>
                        <a:lnTo>
                          <a:pt x="1056" y="630"/>
                        </a:lnTo>
                        <a:lnTo>
                          <a:pt x="1019" y="604"/>
                        </a:lnTo>
                        <a:lnTo>
                          <a:pt x="936" y="531"/>
                        </a:lnTo>
                        <a:lnTo>
                          <a:pt x="723" y="329"/>
                        </a:lnTo>
                        <a:lnTo>
                          <a:pt x="609" y="219"/>
                        </a:lnTo>
                        <a:lnTo>
                          <a:pt x="495" y="125"/>
                        </a:lnTo>
                        <a:lnTo>
                          <a:pt x="442" y="84"/>
                        </a:lnTo>
                        <a:lnTo>
                          <a:pt x="390" y="47"/>
                        </a:lnTo>
                        <a:lnTo>
                          <a:pt x="343" y="21"/>
                        </a:lnTo>
                        <a:lnTo>
                          <a:pt x="302" y="0"/>
                        </a:lnTo>
                        <a:lnTo>
                          <a:pt x="562" y="234"/>
                        </a:lnTo>
                        <a:lnTo>
                          <a:pt x="759" y="417"/>
                        </a:lnTo>
                        <a:lnTo>
                          <a:pt x="837" y="494"/>
                        </a:lnTo>
                        <a:lnTo>
                          <a:pt x="889" y="552"/>
                        </a:lnTo>
                        <a:lnTo>
                          <a:pt x="775" y="531"/>
                        </a:lnTo>
                        <a:lnTo>
                          <a:pt x="515" y="479"/>
                        </a:lnTo>
                        <a:lnTo>
                          <a:pt x="365" y="459"/>
                        </a:lnTo>
                        <a:lnTo>
                          <a:pt x="218" y="437"/>
                        </a:lnTo>
                        <a:lnTo>
                          <a:pt x="94" y="427"/>
                        </a:lnTo>
                        <a:lnTo>
                          <a:pt x="41" y="427"/>
                        </a:lnTo>
                        <a:lnTo>
                          <a:pt x="0" y="42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Freeform 1863"/>
                  <p:cNvSpPr/>
                  <p:nvPr/>
                </p:nvSpPr>
                <p:spPr>
                  <a:xfrm rot="11388000">
                    <a:off x="561240" y="992160"/>
                    <a:ext cx="24804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7" h="1181">
                        <a:moveTo>
                          <a:pt x="0" y="286"/>
                        </a:moveTo>
                        <a:lnTo>
                          <a:pt x="156" y="339"/>
                        </a:lnTo>
                        <a:lnTo>
                          <a:pt x="514" y="469"/>
                        </a:lnTo>
                        <a:lnTo>
                          <a:pt x="712" y="546"/>
                        </a:lnTo>
                        <a:lnTo>
                          <a:pt x="900" y="624"/>
                        </a:lnTo>
                        <a:lnTo>
                          <a:pt x="1050" y="692"/>
                        </a:lnTo>
                        <a:lnTo>
                          <a:pt x="1107" y="724"/>
                        </a:lnTo>
                        <a:lnTo>
                          <a:pt x="1149" y="749"/>
                        </a:lnTo>
                        <a:lnTo>
                          <a:pt x="1107" y="776"/>
                        </a:lnTo>
                        <a:lnTo>
                          <a:pt x="1008" y="822"/>
                        </a:lnTo>
                        <a:lnTo>
                          <a:pt x="940" y="848"/>
                        </a:lnTo>
                        <a:lnTo>
                          <a:pt x="868" y="874"/>
                        </a:lnTo>
                        <a:lnTo>
                          <a:pt x="785" y="896"/>
                        </a:lnTo>
                        <a:lnTo>
                          <a:pt x="701" y="906"/>
                        </a:lnTo>
                        <a:lnTo>
                          <a:pt x="743" y="906"/>
                        </a:lnTo>
                        <a:lnTo>
                          <a:pt x="790" y="901"/>
                        </a:lnTo>
                        <a:lnTo>
                          <a:pt x="853" y="896"/>
                        </a:lnTo>
                        <a:lnTo>
                          <a:pt x="925" y="884"/>
                        </a:lnTo>
                        <a:lnTo>
                          <a:pt x="1008" y="864"/>
                        </a:lnTo>
                        <a:lnTo>
                          <a:pt x="1092" y="833"/>
                        </a:lnTo>
                        <a:lnTo>
                          <a:pt x="1170" y="796"/>
                        </a:lnTo>
                        <a:lnTo>
                          <a:pt x="1305" y="859"/>
                        </a:lnTo>
                        <a:lnTo>
                          <a:pt x="1617" y="989"/>
                        </a:lnTo>
                        <a:lnTo>
                          <a:pt x="1794" y="1061"/>
                        </a:lnTo>
                        <a:lnTo>
                          <a:pt x="1965" y="1124"/>
                        </a:lnTo>
                        <a:lnTo>
                          <a:pt x="2043" y="1145"/>
                        </a:lnTo>
                        <a:lnTo>
                          <a:pt x="2111" y="1166"/>
                        </a:lnTo>
                        <a:lnTo>
                          <a:pt x="2168" y="1176"/>
                        </a:lnTo>
                        <a:lnTo>
                          <a:pt x="2210" y="1181"/>
                        </a:lnTo>
                        <a:lnTo>
                          <a:pt x="2267" y="1161"/>
                        </a:lnTo>
                        <a:lnTo>
                          <a:pt x="2230" y="1156"/>
                        </a:lnTo>
                        <a:lnTo>
                          <a:pt x="2142" y="1124"/>
                        </a:lnTo>
                        <a:lnTo>
                          <a:pt x="2095" y="1109"/>
                        </a:lnTo>
                        <a:lnTo>
                          <a:pt x="2048" y="1088"/>
                        </a:lnTo>
                        <a:lnTo>
                          <a:pt x="2007" y="1061"/>
                        </a:lnTo>
                        <a:lnTo>
                          <a:pt x="1981" y="1041"/>
                        </a:lnTo>
                        <a:lnTo>
                          <a:pt x="1856" y="869"/>
                        </a:lnTo>
                        <a:lnTo>
                          <a:pt x="1746" y="724"/>
                        </a:lnTo>
                        <a:lnTo>
                          <a:pt x="1617" y="552"/>
                        </a:lnTo>
                        <a:lnTo>
                          <a:pt x="1471" y="380"/>
                        </a:lnTo>
                        <a:lnTo>
                          <a:pt x="1399" y="297"/>
                        </a:lnTo>
                        <a:lnTo>
                          <a:pt x="1326" y="219"/>
                        </a:lnTo>
                        <a:lnTo>
                          <a:pt x="1252" y="151"/>
                        </a:lnTo>
                        <a:lnTo>
                          <a:pt x="1180" y="89"/>
                        </a:lnTo>
                        <a:lnTo>
                          <a:pt x="1112" y="37"/>
                        </a:lnTo>
                        <a:lnTo>
                          <a:pt x="1050" y="0"/>
                        </a:lnTo>
                        <a:lnTo>
                          <a:pt x="1149" y="94"/>
                        </a:lnTo>
                        <a:lnTo>
                          <a:pt x="1247" y="192"/>
                        </a:lnTo>
                        <a:lnTo>
                          <a:pt x="1377" y="327"/>
                        </a:lnTo>
                        <a:lnTo>
                          <a:pt x="1513" y="484"/>
                        </a:lnTo>
                        <a:lnTo>
                          <a:pt x="1653" y="651"/>
                        </a:lnTo>
                        <a:lnTo>
                          <a:pt x="1716" y="739"/>
                        </a:lnTo>
                        <a:lnTo>
                          <a:pt x="1778" y="833"/>
                        </a:lnTo>
                        <a:lnTo>
                          <a:pt x="1835" y="921"/>
                        </a:lnTo>
                        <a:lnTo>
                          <a:pt x="1888" y="1015"/>
                        </a:lnTo>
                        <a:lnTo>
                          <a:pt x="1846" y="1009"/>
                        </a:lnTo>
                        <a:lnTo>
                          <a:pt x="1794" y="994"/>
                        </a:lnTo>
                        <a:lnTo>
                          <a:pt x="1706" y="963"/>
                        </a:lnTo>
                        <a:lnTo>
                          <a:pt x="1591" y="916"/>
                        </a:lnTo>
                        <a:lnTo>
                          <a:pt x="1435" y="848"/>
                        </a:lnTo>
                        <a:lnTo>
                          <a:pt x="1242" y="749"/>
                        </a:lnTo>
                        <a:lnTo>
                          <a:pt x="1003" y="614"/>
                        </a:lnTo>
                        <a:lnTo>
                          <a:pt x="951" y="541"/>
                        </a:lnTo>
                        <a:lnTo>
                          <a:pt x="894" y="458"/>
                        </a:lnTo>
                        <a:lnTo>
                          <a:pt x="816" y="369"/>
                        </a:lnTo>
                        <a:lnTo>
                          <a:pt x="770" y="322"/>
                        </a:lnTo>
                        <a:lnTo>
                          <a:pt x="723" y="276"/>
                        </a:lnTo>
                        <a:lnTo>
                          <a:pt x="670" y="229"/>
                        </a:lnTo>
                        <a:lnTo>
                          <a:pt x="613" y="187"/>
                        </a:lnTo>
                        <a:lnTo>
                          <a:pt x="556" y="151"/>
                        </a:lnTo>
                        <a:lnTo>
                          <a:pt x="494" y="120"/>
                        </a:lnTo>
                        <a:lnTo>
                          <a:pt x="431" y="94"/>
                        </a:lnTo>
                        <a:lnTo>
                          <a:pt x="369" y="78"/>
                        </a:lnTo>
                        <a:lnTo>
                          <a:pt x="436" y="114"/>
                        </a:lnTo>
                        <a:lnTo>
                          <a:pt x="509" y="162"/>
                        </a:lnTo>
                        <a:lnTo>
                          <a:pt x="593" y="219"/>
                        </a:lnTo>
                        <a:lnTo>
                          <a:pt x="681" y="292"/>
                        </a:lnTo>
                        <a:lnTo>
                          <a:pt x="775" y="374"/>
                        </a:lnTo>
                        <a:lnTo>
                          <a:pt x="816" y="422"/>
                        </a:lnTo>
                        <a:lnTo>
                          <a:pt x="853" y="469"/>
                        </a:lnTo>
                        <a:lnTo>
                          <a:pt x="889" y="515"/>
                        </a:lnTo>
                        <a:lnTo>
                          <a:pt x="915" y="567"/>
                        </a:lnTo>
                        <a:lnTo>
                          <a:pt x="800" y="526"/>
                        </a:lnTo>
                        <a:lnTo>
                          <a:pt x="525" y="432"/>
                        </a:lnTo>
                        <a:lnTo>
                          <a:pt x="369" y="380"/>
                        </a:lnTo>
                        <a:lnTo>
                          <a:pt x="224" y="339"/>
                        </a:lnTo>
                        <a:lnTo>
                          <a:pt x="94" y="302"/>
                        </a:lnTo>
                        <a:lnTo>
                          <a:pt x="0" y="28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Freeform 1864"/>
                  <p:cNvSpPr/>
                  <p:nvPr/>
                </p:nvSpPr>
                <p:spPr>
                  <a:xfrm rot="11388000">
                    <a:off x="800640" y="920520"/>
                    <a:ext cx="102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946" h="155">
                        <a:moveTo>
                          <a:pt x="0" y="30"/>
                        </a:moveTo>
                        <a:lnTo>
                          <a:pt x="103" y="30"/>
                        </a:lnTo>
                        <a:lnTo>
                          <a:pt x="213" y="30"/>
                        </a:lnTo>
                        <a:lnTo>
                          <a:pt x="343" y="42"/>
                        </a:lnTo>
                        <a:lnTo>
                          <a:pt x="488" y="52"/>
                        </a:lnTo>
                        <a:lnTo>
                          <a:pt x="634" y="78"/>
                        </a:lnTo>
                        <a:lnTo>
                          <a:pt x="702" y="93"/>
                        </a:lnTo>
                        <a:lnTo>
                          <a:pt x="764" y="109"/>
                        </a:lnTo>
                        <a:lnTo>
                          <a:pt x="826" y="130"/>
                        </a:lnTo>
                        <a:lnTo>
                          <a:pt x="879" y="155"/>
                        </a:lnTo>
                        <a:lnTo>
                          <a:pt x="946" y="135"/>
                        </a:lnTo>
                        <a:lnTo>
                          <a:pt x="857" y="104"/>
                        </a:lnTo>
                        <a:lnTo>
                          <a:pt x="764" y="72"/>
                        </a:lnTo>
                        <a:lnTo>
                          <a:pt x="634" y="42"/>
                        </a:lnTo>
                        <a:lnTo>
                          <a:pt x="488" y="15"/>
                        </a:lnTo>
                        <a:lnTo>
                          <a:pt x="410" y="5"/>
                        </a:lnTo>
                        <a:lnTo>
                          <a:pt x="332" y="0"/>
                        </a:lnTo>
                        <a:lnTo>
                          <a:pt x="250" y="0"/>
                        </a:lnTo>
                        <a:lnTo>
                          <a:pt x="166" y="5"/>
                        </a:lnTo>
                        <a:lnTo>
                          <a:pt x="83" y="1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6" name="Freeform 1865"/>
                  <p:cNvSpPr/>
                  <p:nvPr/>
                </p:nvSpPr>
                <p:spPr>
                  <a:xfrm rot="11388000">
                    <a:off x="877320" y="902880"/>
                    <a:ext cx="5400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9" h="53">
                        <a:moveTo>
                          <a:pt x="0" y="47"/>
                        </a:moveTo>
                        <a:lnTo>
                          <a:pt x="53" y="36"/>
                        </a:lnTo>
                        <a:lnTo>
                          <a:pt x="110" y="31"/>
                        </a:lnTo>
                        <a:lnTo>
                          <a:pt x="172" y="21"/>
                        </a:lnTo>
                        <a:lnTo>
                          <a:pt x="245" y="16"/>
                        </a:lnTo>
                        <a:lnTo>
                          <a:pt x="323" y="21"/>
                        </a:lnTo>
                        <a:lnTo>
                          <a:pt x="385" y="31"/>
                        </a:lnTo>
                        <a:lnTo>
                          <a:pt x="417" y="42"/>
                        </a:lnTo>
                        <a:lnTo>
                          <a:pt x="442" y="53"/>
                        </a:lnTo>
                        <a:lnTo>
                          <a:pt x="499" y="36"/>
                        </a:lnTo>
                        <a:lnTo>
                          <a:pt x="474" y="21"/>
                        </a:lnTo>
                        <a:lnTo>
                          <a:pt x="432" y="11"/>
                        </a:lnTo>
                        <a:lnTo>
                          <a:pt x="380" y="5"/>
                        </a:lnTo>
                        <a:lnTo>
                          <a:pt x="312" y="0"/>
                        </a:lnTo>
                        <a:lnTo>
                          <a:pt x="224" y="5"/>
                        </a:lnTo>
                        <a:lnTo>
                          <a:pt x="120" y="21"/>
                        </a:lnTo>
                        <a:lnTo>
                          <a:pt x="0" y="4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Freeform 1866"/>
                  <p:cNvSpPr/>
                  <p:nvPr/>
                </p:nvSpPr>
                <p:spPr>
                  <a:xfrm rot="11388000">
                    <a:off x="869040" y="864000"/>
                    <a:ext cx="392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411">
                        <a:moveTo>
                          <a:pt x="0" y="411"/>
                        </a:moveTo>
                        <a:lnTo>
                          <a:pt x="57" y="370"/>
                        </a:lnTo>
                        <a:lnTo>
                          <a:pt x="119" y="323"/>
                        </a:lnTo>
                        <a:lnTo>
                          <a:pt x="187" y="271"/>
                        </a:lnTo>
                        <a:lnTo>
                          <a:pt x="254" y="203"/>
                        </a:lnTo>
                        <a:lnTo>
                          <a:pt x="286" y="172"/>
                        </a:lnTo>
                        <a:lnTo>
                          <a:pt x="312" y="135"/>
                        </a:lnTo>
                        <a:lnTo>
                          <a:pt x="332" y="99"/>
                        </a:lnTo>
                        <a:lnTo>
                          <a:pt x="348" y="63"/>
                        </a:lnTo>
                        <a:lnTo>
                          <a:pt x="359" y="31"/>
                        </a:lnTo>
                        <a:lnTo>
                          <a:pt x="359" y="0"/>
                        </a:lnTo>
                        <a:lnTo>
                          <a:pt x="296" y="26"/>
                        </a:lnTo>
                        <a:lnTo>
                          <a:pt x="296" y="31"/>
                        </a:lnTo>
                        <a:lnTo>
                          <a:pt x="301" y="42"/>
                        </a:lnTo>
                        <a:lnTo>
                          <a:pt x="301" y="63"/>
                        </a:lnTo>
                        <a:lnTo>
                          <a:pt x="291" y="99"/>
                        </a:lnTo>
                        <a:lnTo>
                          <a:pt x="264" y="146"/>
                        </a:lnTo>
                        <a:lnTo>
                          <a:pt x="207" y="213"/>
                        </a:lnTo>
                        <a:lnTo>
                          <a:pt x="124" y="302"/>
                        </a:lnTo>
                        <a:lnTo>
                          <a:pt x="0" y="41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Freeform 1867"/>
                  <p:cNvSpPr/>
                  <p:nvPr/>
                </p:nvSpPr>
                <p:spPr>
                  <a:xfrm rot="11388000">
                    <a:off x="808560" y="842760"/>
                    <a:ext cx="68760" cy="77760"/>
                  </a:xfrm>
                  <a:custGeom>
                    <a:avLst/>
                    <a:gdLst/>
                    <a:ahLst/>
                    <a:rect l="l" t="t" r="r" b="b"/>
                    <a:pathLst>
                      <a:path w="629" h="776">
                        <a:moveTo>
                          <a:pt x="0" y="776"/>
                        </a:moveTo>
                        <a:lnTo>
                          <a:pt x="93" y="697"/>
                        </a:lnTo>
                        <a:lnTo>
                          <a:pt x="192" y="609"/>
                        </a:lnTo>
                        <a:lnTo>
                          <a:pt x="302" y="500"/>
                        </a:lnTo>
                        <a:lnTo>
                          <a:pt x="353" y="442"/>
                        </a:lnTo>
                        <a:lnTo>
                          <a:pt x="405" y="380"/>
                        </a:lnTo>
                        <a:lnTo>
                          <a:pt x="452" y="317"/>
                        </a:lnTo>
                        <a:lnTo>
                          <a:pt x="494" y="255"/>
                        </a:lnTo>
                        <a:lnTo>
                          <a:pt x="530" y="192"/>
                        </a:lnTo>
                        <a:lnTo>
                          <a:pt x="551" y="130"/>
                        </a:lnTo>
                        <a:lnTo>
                          <a:pt x="567" y="73"/>
                        </a:lnTo>
                        <a:lnTo>
                          <a:pt x="567" y="47"/>
                        </a:lnTo>
                        <a:lnTo>
                          <a:pt x="562" y="20"/>
                        </a:lnTo>
                        <a:lnTo>
                          <a:pt x="629" y="0"/>
                        </a:lnTo>
                        <a:lnTo>
                          <a:pt x="624" y="20"/>
                        </a:lnTo>
                        <a:lnTo>
                          <a:pt x="603" y="83"/>
                        </a:lnTo>
                        <a:lnTo>
                          <a:pt x="567" y="172"/>
                        </a:lnTo>
                        <a:lnTo>
                          <a:pt x="540" y="229"/>
                        </a:lnTo>
                        <a:lnTo>
                          <a:pt x="509" y="287"/>
                        </a:lnTo>
                        <a:lnTo>
                          <a:pt x="473" y="344"/>
                        </a:lnTo>
                        <a:lnTo>
                          <a:pt x="427" y="411"/>
                        </a:lnTo>
                        <a:lnTo>
                          <a:pt x="374" y="474"/>
                        </a:lnTo>
                        <a:lnTo>
                          <a:pt x="317" y="536"/>
                        </a:lnTo>
                        <a:lnTo>
                          <a:pt x="250" y="604"/>
                        </a:lnTo>
                        <a:lnTo>
                          <a:pt x="177" y="666"/>
                        </a:lnTo>
                        <a:lnTo>
                          <a:pt x="93" y="724"/>
                        </a:lnTo>
                        <a:lnTo>
                          <a:pt x="0" y="776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Freeform 1868"/>
                  <p:cNvSpPr/>
                  <p:nvPr/>
                </p:nvSpPr>
                <p:spPr>
                  <a:xfrm rot="11388000">
                    <a:off x="718920" y="808560"/>
                    <a:ext cx="110160" cy="13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03" h="1358">
                        <a:moveTo>
                          <a:pt x="0" y="1358"/>
                        </a:moveTo>
                        <a:lnTo>
                          <a:pt x="145" y="1187"/>
                        </a:lnTo>
                        <a:lnTo>
                          <a:pt x="296" y="1010"/>
                        </a:lnTo>
                        <a:lnTo>
                          <a:pt x="472" y="791"/>
                        </a:lnTo>
                        <a:lnTo>
                          <a:pt x="649" y="562"/>
                        </a:lnTo>
                        <a:lnTo>
                          <a:pt x="728" y="448"/>
                        </a:lnTo>
                        <a:lnTo>
                          <a:pt x="801" y="339"/>
                        </a:lnTo>
                        <a:lnTo>
                          <a:pt x="863" y="234"/>
                        </a:lnTo>
                        <a:lnTo>
                          <a:pt x="915" y="146"/>
                        </a:lnTo>
                        <a:lnTo>
                          <a:pt x="946" y="62"/>
                        </a:lnTo>
                        <a:lnTo>
                          <a:pt x="956" y="31"/>
                        </a:lnTo>
                        <a:lnTo>
                          <a:pt x="961" y="0"/>
                        </a:lnTo>
                        <a:lnTo>
                          <a:pt x="1003" y="10"/>
                        </a:lnTo>
                        <a:lnTo>
                          <a:pt x="998" y="26"/>
                        </a:lnTo>
                        <a:lnTo>
                          <a:pt x="978" y="84"/>
                        </a:lnTo>
                        <a:lnTo>
                          <a:pt x="936" y="182"/>
                        </a:lnTo>
                        <a:lnTo>
                          <a:pt x="899" y="249"/>
                        </a:lnTo>
                        <a:lnTo>
                          <a:pt x="858" y="328"/>
                        </a:lnTo>
                        <a:lnTo>
                          <a:pt x="801" y="411"/>
                        </a:lnTo>
                        <a:lnTo>
                          <a:pt x="733" y="511"/>
                        </a:lnTo>
                        <a:lnTo>
                          <a:pt x="649" y="624"/>
                        </a:lnTo>
                        <a:lnTo>
                          <a:pt x="556" y="744"/>
                        </a:lnTo>
                        <a:lnTo>
                          <a:pt x="442" y="880"/>
                        </a:lnTo>
                        <a:lnTo>
                          <a:pt x="312" y="1025"/>
                        </a:lnTo>
                        <a:lnTo>
                          <a:pt x="166" y="1187"/>
                        </a:lnTo>
                        <a:lnTo>
                          <a:pt x="0" y="1358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Freeform 1869"/>
                  <p:cNvSpPr/>
                  <p:nvPr/>
                </p:nvSpPr>
                <p:spPr>
                  <a:xfrm rot="11388000">
                    <a:off x="642240" y="769320"/>
                    <a:ext cx="11844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081" h="1995">
                        <a:moveTo>
                          <a:pt x="0" y="1995"/>
                        </a:moveTo>
                        <a:lnTo>
                          <a:pt x="167" y="1745"/>
                        </a:lnTo>
                        <a:lnTo>
                          <a:pt x="332" y="1485"/>
                        </a:lnTo>
                        <a:lnTo>
                          <a:pt x="531" y="1166"/>
                        </a:lnTo>
                        <a:lnTo>
                          <a:pt x="624" y="1001"/>
                        </a:lnTo>
                        <a:lnTo>
                          <a:pt x="723" y="834"/>
                        </a:lnTo>
                        <a:lnTo>
                          <a:pt x="806" y="667"/>
                        </a:lnTo>
                        <a:lnTo>
                          <a:pt x="884" y="511"/>
                        </a:lnTo>
                        <a:lnTo>
                          <a:pt x="946" y="365"/>
                        </a:lnTo>
                        <a:lnTo>
                          <a:pt x="998" y="230"/>
                        </a:lnTo>
                        <a:lnTo>
                          <a:pt x="1013" y="172"/>
                        </a:lnTo>
                        <a:lnTo>
                          <a:pt x="1025" y="115"/>
                        </a:lnTo>
                        <a:lnTo>
                          <a:pt x="1030" y="69"/>
                        </a:lnTo>
                        <a:lnTo>
                          <a:pt x="1030" y="27"/>
                        </a:lnTo>
                        <a:lnTo>
                          <a:pt x="1081" y="0"/>
                        </a:lnTo>
                        <a:lnTo>
                          <a:pt x="1081" y="22"/>
                        </a:lnTo>
                        <a:lnTo>
                          <a:pt x="1066" y="100"/>
                        </a:lnTo>
                        <a:lnTo>
                          <a:pt x="1050" y="157"/>
                        </a:lnTo>
                        <a:lnTo>
                          <a:pt x="1030" y="235"/>
                        </a:lnTo>
                        <a:lnTo>
                          <a:pt x="998" y="324"/>
                        </a:lnTo>
                        <a:lnTo>
                          <a:pt x="951" y="433"/>
                        </a:lnTo>
                        <a:lnTo>
                          <a:pt x="894" y="558"/>
                        </a:lnTo>
                        <a:lnTo>
                          <a:pt x="821" y="704"/>
                        </a:lnTo>
                        <a:lnTo>
                          <a:pt x="733" y="864"/>
                        </a:lnTo>
                        <a:lnTo>
                          <a:pt x="629" y="1047"/>
                        </a:lnTo>
                        <a:lnTo>
                          <a:pt x="504" y="1250"/>
                        </a:lnTo>
                        <a:lnTo>
                          <a:pt x="359" y="1474"/>
                        </a:lnTo>
                        <a:lnTo>
                          <a:pt x="192" y="1723"/>
                        </a:lnTo>
                        <a:lnTo>
                          <a:pt x="0" y="199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Freeform 1870"/>
                  <p:cNvSpPr/>
                  <p:nvPr/>
                </p:nvSpPr>
                <p:spPr>
                  <a:xfrm rot="11388000">
                    <a:off x="708480" y="765720"/>
                    <a:ext cx="12960" cy="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5" h="797">
                        <a:moveTo>
                          <a:pt x="0" y="797"/>
                        </a:moveTo>
                        <a:lnTo>
                          <a:pt x="31" y="708"/>
                        </a:lnTo>
                        <a:lnTo>
                          <a:pt x="57" y="608"/>
                        </a:lnTo>
                        <a:lnTo>
                          <a:pt x="77" y="495"/>
                        </a:lnTo>
                        <a:lnTo>
                          <a:pt x="89" y="432"/>
                        </a:lnTo>
                        <a:lnTo>
                          <a:pt x="94" y="370"/>
                        </a:lnTo>
                        <a:lnTo>
                          <a:pt x="99" y="307"/>
                        </a:lnTo>
                        <a:lnTo>
                          <a:pt x="94" y="250"/>
                        </a:lnTo>
                        <a:lnTo>
                          <a:pt x="89" y="193"/>
                        </a:lnTo>
                        <a:lnTo>
                          <a:pt x="72" y="140"/>
                        </a:lnTo>
                        <a:lnTo>
                          <a:pt x="52" y="93"/>
                        </a:lnTo>
                        <a:lnTo>
                          <a:pt x="20" y="51"/>
                        </a:lnTo>
                        <a:lnTo>
                          <a:pt x="57" y="0"/>
                        </a:lnTo>
                        <a:lnTo>
                          <a:pt x="67" y="16"/>
                        </a:lnTo>
                        <a:lnTo>
                          <a:pt x="83" y="51"/>
                        </a:lnTo>
                        <a:lnTo>
                          <a:pt x="104" y="114"/>
                        </a:lnTo>
                        <a:lnTo>
                          <a:pt x="114" y="156"/>
                        </a:lnTo>
                        <a:lnTo>
                          <a:pt x="119" y="203"/>
                        </a:lnTo>
                        <a:lnTo>
                          <a:pt x="125" y="260"/>
                        </a:lnTo>
                        <a:lnTo>
                          <a:pt x="125" y="318"/>
                        </a:lnTo>
                        <a:lnTo>
                          <a:pt x="125" y="385"/>
                        </a:lnTo>
                        <a:lnTo>
                          <a:pt x="114" y="453"/>
                        </a:lnTo>
                        <a:lnTo>
                          <a:pt x="99" y="531"/>
                        </a:lnTo>
                        <a:lnTo>
                          <a:pt x="72" y="614"/>
                        </a:lnTo>
                        <a:lnTo>
                          <a:pt x="42" y="703"/>
                        </a:lnTo>
                        <a:lnTo>
                          <a:pt x="0" y="797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Freeform 1871"/>
                  <p:cNvSpPr/>
                  <p:nvPr/>
                </p:nvSpPr>
                <p:spPr>
                  <a:xfrm rot="11388000">
                    <a:off x="585000" y="740520"/>
                    <a:ext cx="8172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749" h="2451">
                        <a:moveTo>
                          <a:pt x="0" y="2451"/>
                        </a:moveTo>
                        <a:lnTo>
                          <a:pt x="57" y="2306"/>
                        </a:lnTo>
                        <a:lnTo>
                          <a:pt x="192" y="1957"/>
                        </a:lnTo>
                        <a:lnTo>
                          <a:pt x="270" y="1734"/>
                        </a:lnTo>
                        <a:lnTo>
                          <a:pt x="348" y="1509"/>
                        </a:lnTo>
                        <a:lnTo>
                          <a:pt x="416" y="1285"/>
                        </a:lnTo>
                        <a:lnTo>
                          <a:pt x="442" y="1182"/>
                        </a:lnTo>
                        <a:lnTo>
                          <a:pt x="462" y="1082"/>
                        </a:lnTo>
                        <a:lnTo>
                          <a:pt x="499" y="895"/>
                        </a:lnTo>
                        <a:lnTo>
                          <a:pt x="530" y="713"/>
                        </a:lnTo>
                        <a:lnTo>
                          <a:pt x="587" y="385"/>
                        </a:lnTo>
                        <a:lnTo>
                          <a:pt x="614" y="250"/>
                        </a:lnTo>
                        <a:lnTo>
                          <a:pt x="634" y="141"/>
                        </a:lnTo>
                        <a:lnTo>
                          <a:pt x="660" y="63"/>
                        </a:lnTo>
                        <a:lnTo>
                          <a:pt x="671" y="36"/>
                        </a:lnTo>
                        <a:lnTo>
                          <a:pt x="681" y="16"/>
                        </a:lnTo>
                        <a:lnTo>
                          <a:pt x="749" y="0"/>
                        </a:lnTo>
                        <a:lnTo>
                          <a:pt x="722" y="109"/>
                        </a:lnTo>
                        <a:lnTo>
                          <a:pt x="655" y="365"/>
                        </a:lnTo>
                        <a:lnTo>
                          <a:pt x="582" y="666"/>
                        </a:lnTo>
                        <a:lnTo>
                          <a:pt x="556" y="807"/>
                        </a:lnTo>
                        <a:lnTo>
                          <a:pt x="540" y="910"/>
                        </a:lnTo>
                        <a:lnTo>
                          <a:pt x="535" y="958"/>
                        </a:lnTo>
                        <a:lnTo>
                          <a:pt x="540" y="1015"/>
                        </a:lnTo>
                        <a:lnTo>
                          <a:pt x="556" y="1130"/>
                        </a:lnTo>
                        <a:lnTo>
                          <a:pt x="582" y="1265"/>
                        </a:lnTo>
                        <a:lnTo>
                          <a:pt x="614" y="1400"/>
                        </a:lnTo>
                        <a:lnTo>
                          <a:pt x="639" y="1535"/>
                        </a:lnTo>
                        <a:lnTo>
                          <a:pt x="660" y="1666"/>
                        </a:lnTo>
                        <a:lnTo>
                          <a:pt x="660" y="1728"/>
                        </a:lnTo>
                        <a:lnTo>
                          <a:pt x="660" y="1786"/>
                        </a:lnTo>
                        <a:lnTo>
                          <a:pt x="649" y="1837"/>
                        </a:lnTo>
                        <a:lnTo>
                          <a:pt x="639" y="1879"/>
                        </a:lnTo>
                        <a:lnTo>
                          <a:pt x="639" y="1811"/>
                        </a:lnTo>
                        <a:lnTo>
                          <a:pt x="634" y="1734"/>
                        </a:lnTo>
                        <a:lnTo>
                          <a:pt x="629" y="1639"/>
                        </a:lnTo>
                        <a:lnTo>
                          <a:pt x="614" y="1525"/>
                        </a:lnTo>
                        <a:lnTo>
                          <a:pt x="592" y="1400"/>
                        </a:lnTo>
                        <a:lnTo>
                          <a:pt x="561" y="1275"/>
                        </a:lnTo>
                        <a:lnTo>
                          <a:pt x="540" y="1212"/>
                        </a:lnTo>
                        <a:lnTo>
                          <a:pt x="514" y="1150"/>
                        </a:lnTo>
                        <a:lnTo>
                          <a:pt x="462" y="1317"/>
                        </a:lnTo>
                        <a:lnTo>
                          <a:pt x="405" y="1494"/>
                        </a:lnTo>
                        <a:lnTo>
                          <a:pt x="332" y="1702"/>
                        </a:lnTo>
                        <a:lnTo>
                          <a:pt x="249" y="1926"/>
                        </a:lnTo>
                        <a:lnTo>
                          <a:pt x="160" y="2139"/>
                        </a:lnTo>
                        <a:lnTo>
                          <a:pt x="120" y="2233"/>
                        </a:lnTo>
                        <a:lnTo>
                          <a:pt x="78" y="2321"/>
                        </a:lnTo>
                        <a:lnTo>
                          <a:pt x="36" y="2394"/>
                        </a:lnTo>
                        <a:lnTo>
                          <a:pt x="0" y="2451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3" name="Freeform 1872"/>
                  <p:cNvSpPr/>
                  <p:nvPr/>
                </p:nvSpPr>
                <p:spPr>
                  <a:xfrm rot="11388000">
                    <a:off x="676080" y="853560"/>
                    <a:ext cx="608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557" h="380">
                        <a:moveTo>
                          <a:pt x="0" y="380"/>
                        </a:moveTo>
                        <a:lnTo>
                          <a:pt x="53" y="333"/>
                        </a:lnTo>
                        <a:lnTo>
                          <a:pt x="115" y="287"/>
                        </a:lnTo>
                        <a:lnTo>
                          <a:pt x="188" y="229"/>
                        </a:lnTo>
                        <a:lnTo>
                          <a:pt x="272" y="172"/>
                        </a:lnTo>
                        <a:lnTo>
                          <a:pt x="360" y="125"/>
                        </a:lnTo>
                        <a:lnTo>
                          <a:pt x="407" y="98"/>
                        </a:lnTo>
                        <a:lnTo>
                          <a:pt x="454" y="83"/>
                        </a:lnTo>
                        <a:lnTo>
                          <a:pt x="495" y="68"/>
                        </a:lnTo>
                        <a:lnTo>
                          <a:pt x="536" y="57"/>
                        </a:lnTo>
                        <a:lnTo>
                          <a:pt x="557" y="0"/>
                        </a:lnTo>
                        <a:lnTo>
                          <a:pt x="506" y="21"/>
                        </a:lnTo>
                        <a:lnTo>
                          <a:pt x="442" y="47"/>
                        </a:lnTo>
                        <a:lnTo>
                          <a:pt x="365" y="83"/>
                        </a:lnTo>
                        <a:lnTo>
                          <a:pt x="277" y="135"/>
                        </a:lnTo>
                        <a:lnTo>
                          <a:pt x="183" y="203"/>
                        </a:lnTo>
                        <a:lnTo>
                          <a:pt x="137" y="240"/>
                        </a:lnTo>
                        <a:lnTo>
                          <a:pt x="89" y="281"/>
                        </a:lnTo>
                        <a:lnTo>
                          <a:pt x="42" y="328"/>
                        </a:lnTo>
                        <a:lnTo>
                          <a:pt x="0" y="38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4" name="Freeform 1873"/>
                  <p:cNvSpPr/>
                  <p:nvPr/>
                </p:nvSpPr>
                <p:spPr>
                  <a:xfrm rot="11388000">
                    <a:off x="780840" y="806040"/>
                    <a:ext cx="2916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635">
                        <a:moveTo>
                          <a:pt x="0" y="635"/>
                        </a:moveTo>
                        <a:lnTo>
                          <a:pt x="41" y="577"/>
                        </a:lnTo>
                        <a:lnTo>
                          <a:pt x="83" y="521"/>
                        </a:lnTo>
                        <a:lnTo>
                          <a:pt x="125" y="447"/>
                        </a:lnTo>
                        <a:lnTo>
                          <a:pt x="166" y="359"/>
                        </a:lnTo>
                        <a:lnTo>
                          <a:pt x="187" y="312"/>
                        </a:lnTo>
                        <a:lnTo>
                          <a:pt x="198" y="260"/>
                        </a:lnTo>
                        <a:lnTo>
                          <a:pt x="208" y="214"/>
                        </a:lnTo>
                        <a:lnTo>
                          <a:pt x="218" y="162"/>
                        </a:lnTo>
                        <a:lnTo>
                          <a:pt x="218" y="115"/>
                        </a:lnTo>
                        <a:lnTo>
                          <a:pt x="208" y="68"/>
                        </a:lnTo>
                        <a:lnTo>
                          <a:pt x="260" y="0"/>
                        </a:lnTo>
                        <a:lnTo>
                          <a:pt x="265" y="57"/>
                        </a:lnTo>
                        <a:lnTo>
                          <a:pt x="260" y="120"/>
                        </a:lnTo>
                        <a:lnTo>
                          <a:pt x="250" y="203"/>
                        </a:lnTo>
                        <a:lnTo>
                          <a:pt x="233" y="255"/>
                        </a:lnTo>
                        <a:lnTo>
                          <a:pt x="218" y="302"/>
                        </a:lnTo>
                        <a:lnTo>
                          <a:pt x="198" y="354"/>
                        </a:lnTo>
                        <a:lnTo>
                          <a:pt x="171" y="412"/>
                        </a:lnTo>
                        <a:lnTo>
                          <a:pt x="140" y="464"/>
                        </a:lnTo>
                        <a:lnTo>
                          <a:pt x="98" y="521"/>
                        </a:lnTo>
                        <a:lnTo>
                          <a:pt x="51" y="577"/>
                        </a:lnTo>
                        <a:lnTo>
                          <a:pt x="0" y="635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5" name="Freeform 1874"/>
                  <p:cNvSpPr/>
                  <p:nvPr/>
                </p:nvSpPr>
                <p:spPr>
                  <a:xfrm rot="11388000">
                    <a:off x="789120" y="951840"/>
                    <a:ext cx="64080" cy="1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130">
                        <a:moveTo>
                          <a:pt x="0" y="104"/>
                        </a:moveTo>
                        <a:lnTo>
                          <a:pt x="62" y="114"/>
                        </a:lnTo>
                        <a:lnTo>
                          <a:pt x="125" y="114"/>
                        </a:lnTo>
                        <a:lnTo>
                          <a:pt x="209" y="114"/>
                        </a:lnTo>
                        <a:lnTo>
                          <a:pt x="297" y="104"/>
                        </a:lnTo>
                        <a:lnTo>
                          <a:pt x="339" y="94"/>
                        </a:lnTo>
                        <a:lnTo>
                          <a:pt x="385" y="84"/>
                        </a:lnTo>
                        <a:lnTo>
                          <a:pt x="427" y="67"/>
                        </a:lnTo>
                        <a:lnTo>
                          <a:pt x="469" y="52"/>
                        </a:lnTo>
                        <a:lnTo>
                          <a:pt x="504" y="26"/>
                        </a:lnTo>
                        <a:lnTo>
                          <a:pt x="536" y="0"/>
                        </a:lnTo>
                        <a:lnTo>
                          <a:pt x="583" y="16"/>
                        </a:lnTo>
                        <a:lnTo>
                          <a:pt x="546" y="42"/>
                        </a:lnTo>
                        <a:lnTo>
                          <a:pt x="499" y="67"/>
                        </a:lnTo>
                        <a:lnTo>
                          <a:pt x="437" y="94"/>
                        </a:lnTo>
                        <a:lnTo>
                          <a:pt x="354" y="114"/>
                        </a:lnTo>
                        <a:lnTo>
                          <a:pt x="307" y="125"/>
                        </a:lnTo>
                        <a:lnTo>
                          <a:pt x="255" y="130"/>
                        </a:lnTo>
                        <a:lnTo>
                          <a:pt x="197" y="130"/>
                        </a:lnTo>
                        <a:lnTo>
                          <a:pt x="135" y="125"/>
                        </a:lnTo>
                        <a:lnTo>
                          <a:pt x="68" y="12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6" name="Freeform 1875"/>
                  <p:cNvSpPr/>
                  <p:nvPr/>
                </p:nvSpPr>
                <p:spPr>
                  <a:xfrm rot="11388000">
                    <a:off x="816480" y="972720"/>
                    <a:ext cx="3924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9" h="240">
                        <a:moveTo>
                          <a:pt x="0" y="0"/>
                        </a:moveTo>
                        <a:lnTo>
                          <a:pt x="36" y="21"/>
                        </a:lnTo>
                        <a:lnTo>
                          <a:pt x="124" y="73"/>
                        </a:lnTo>
                        <a:lnTo>
                          <a:pt x="177" y="105"/>
                        </a:lnTo>
                        <a:lnTo>
                          <a:pt x="229" y="146"/>
                        </a:lnTo>
                        <a:lnTo>
                          <a:pt x="276" y="188"/>
                        </a:lnTo>
                        <a:lnTo>
                          <a:pt x="312" y="235"/>
                        </a:lnTo>
                        <a:lnTo>
                          <a:pt x="359" y="240"/>
                        </a:lnTo>
                        <a:lnTo>
                          <a:pt x="338" y="213"/>
                        </a:lnTo>
                        <a:lnTo>
                          <a:pt x="312" y="188"/>
                        </a:lnTo>
                        <a:lnTo>
                          <a:pt x="276" y="151"/>
                        </a:lnTo>
                        <a:lnTo>
                          <a:pt x="224" y="115"/>
                        </a:lnTo>
                        <a:lnTo>
                          <a:pt x="166" y="73"/>
                        </a:lnTo>
                        <a:lnTo>
                          <a:pt x="89" y="3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4a721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7" name="Freeform 1876"/>
                  <p:cNvSpPr/>
                  <p:nvPr/>
                </p:nvSpPr>
                <p:spPr>
                  <a:xfrm rot="11388000">
                    <a:off x="738360" y="837720"/>
                    <a:ext cx="12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4" h="146">
                        <a:moveTo>
                          <a:pt x="47" y="146"/>
                        </a:moveTo>
                        <a:lnTo>
                          <a:pt x="57" y="146"/>
                        </a:lnTo>
                        <a:lnTo>
                          <a:pt x="93" y="141"/>
                        </a:lnTo>
                        <a:lnTo>
                          <a:pt x="109" y="130"/>
                        </a:lnTo>
                        <a:lnTo>
                          <a:pt x="119" y="120"/>
                        </a:lnTo>
                        <a:lnTo>
                          <a:pt x="124" y="104"/>
                        </a:lnTo>
                        <a:lnTo>
                          <a:pt x="124" y="84"/>
                        </a:lnTo>
                        <a:lnTo>
                          <a:pt x="114" y="57"/>
                        </a:lnTo>
                        <a:lnTo>
                          <a:pt x="104" y="37"/>
                        </a:lnTo>
                        <a:lnTo>
                          <a:pt x="87" y="21"/>
                        </a:lnTo>
                        <a:lnTo>
                          <a:pt x="72" y="5"/>
                        </a:lnTo>
                        <a:lnTo>
                          <a:pt x="57" y="0"/>
                        </a:lnTo>
                        <a:lnTo>
                          <a:pt x="41" y="0"/>
                        </a:lnTo>
                        <a:lnTo>
                          <a:pt x="25" y="11"/>
                        </a:lnTo>
                        <a:lnTo>
                          <a:pt x="10" y="32"/>
                        </a:lnTo>
                        <a:lnTo>
                          <a:pt x="0" y="57"/>
                        </a:lnTo>
                        <a:lnTo>
                          <a:pt x="0" y="79"/>
                        </a:lnTo>
                        <a:lnTo>
                          <a:pt x="5" y="99"/>
                        </a:lnTo>
                        <a:lnTo>
                          <a:pt x="15" y="115"/>
                        </a:lnTo>
                        <a:lnTo>
                          <a:pt x="36" y="141"/>
                        </a:lnTo>
                        <a:lnTo>
                          <a:pt x="47" y="146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Freeform 1877"/>
                  <p:cNvSpPr/>
                  <p:nvPr/>
                </p:nvSpPr>
                <p:spPr>
                  <a:xfrm rot="11388000">
                    <a:off x="791280" y="1001160"/>
                    <a:ext cx="115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" h="78">
                        <a:moveTo>
                          <a:pt x="0" y="57"/>
                        </a:moveTo>
                        <a:lnTo>
                          <a:pt x="15" y="62"/>
                        </a:lnTo>
                        <a:lnTo>
                          <a:pt x="46" y="73"/>
                        </a:lnTo>
                        <a:lnTo>
                          <a:pt x="62" y="78"/>
                        </a:lnTo>
                        <a:lnTo>
                          <a:pt x="78" y="78"/>
                        </a:lnTo>
                        <a:lnTo>
                          <a:pt x="93" y="67"/>
                        </a:lnTo>
                        <a:lnTo>
                          <a:pt x="98" y="57"/>
                        </a:lnTo>
                        <a:lnTo>
                          <a:pt x="98" y="41"/>
                        </a:lnTo>
                        <a:lnTo>
                          <a:pt x="88" y="25"/>
                        </a:lnTo>
                        <a:lnTo>
                          <a:pt x="73" y="20"/>
                        </a:lnTo>
                        <a:lnTo>
                          <a:pt x="56" y="10"/>
                        </a:lnTo>
                        <a:lnTo>
                          <a:pt x="15" y="5"/>
                        </a:lnTo>
                        <a:lnTo>
                          <a:pt x="0" y="0"/>
                        </a:lnTo>
                        <a:lnTo>
                          <a:pt x="0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Freeform 1878"/>
                  <p:cNvSpPr/>
                  <p:nvPr/>
                </p:nvSpPr>
                <p:spPr>
                  <a:xfrm rot="11388000">
                    <a:off x="739080" y="1041840"/>
                    <a:ext cx="129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125">
                        <a:moveTo>
                          <a:pt x="0" y="58"/>
                        </a:moveTo>
                        <a:lnTo>
                          <a:pt x="5" y="73"/>
                        </a:lnTo>
                        <a:lnTo>
                          <a:pt x="25" y="105"/>
                        </a:lnTo>
                        <a:lnTo>
                          <a:pt x="42" y="115"/>
                        </a:lnTo>
                        <a:lnTo>
                          <a:pt x="57" y="125"/>
                        </a:lnTo>
                        <a:lnTo>
                          <a:pt x="77" y="125"/>
                        </a:lnTo>
                        <a:lnTo>
                          <a:pt x="98" y="115"/>
                        </a:lnTo>
                        <a:lnTo>
                          <a:pt x="114" y="94"/>
                        </a:lnTo>
                        <a:lnTo>
                          <a:pt x="119" y="78"/>
                        </a:lnTo>
                        <a:lnTo>
                          <a:pt x="119" y="58"/>
                        </a:lnTo>
                        <a:lnTo>
                          <a:pt x="114" y="42"/>
                        </a:lnTo>
                        <a:lnTo>
                          <a:pt x="98" y="26"/>
                        </a:lnTo>
                        <a:lnTo>
                          <a:pt x="82" y="11"/>
                        </a:lnTo>
                        <a:lnTo>
                          <a:pt x="67" y="5"/>
                        </a:lnTo>
                        <a:lnTo>
                          <a:pt x="52" y="0"/>
                        </a:lnTo>
                        <a:lnTo>
                          <a:pt x="35" y="0"/>
                        </a:lnTo>
                        <a:lnTo>
                          <a:pt x="25" y="11"/>
                        </a:lnTo>
                        <a:lnTo>
                          <a:pt x="10" y="31"/>
                        </a:lnTo>
                        <a:lnTo>
                          <a:pt x="0" y="47"/>
                        </a:lnTo>
                        <a:lnTo>
                          <a:pt x="0" y="58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Freeform 1879"/>
                  <p:cNvSpPr/>
                  <p:nvPr/>
                </p:nvSpPr>
                <p:spPr>
                  <a:xfrm rot="11388000">
                    <a:off x="887760" y="955800"/>
                    <a:ext cx="9720" cy="54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7">
                        <a:moveTo>
                          <a:pt x="21" y="57"/>
                        </a:moveTo>
                        <a:lnTo>
                          <a:pt x="42" y="57"/>
                        </a:lnTo>
                        <a:lnTo>
                          <a:pt x="73" y="52"/>
                        </a:lnTo>
                        <a:lnTo>
                          <a:pt x="83" y="47"/>
                        </a:lnTo>
                        <a:lnTo>
                          <a:pt x="94" y="37"/>
                        </a:lnTo>
                        <a:lnTo>
                          <a:pt x="94" y="26"/>
                        </a:lnTo>
                        <a:lnTo>
                          <a:pt x="78" y="15"/>
                        </a:lnTo>
                        <a:lnTo>
                          <a:pt x="58" y="5"/>
                        </a:lnTo>
                        <a:lnTo>
                          <a:pt x="42" y="0"/>
                        </a:lnTo>
                        <a:lnTo>
                          <a:pt x="26" y="0"/>
                        </a:lnTo>
                        <a:lnTo>
                          <a:pt x="11" y="5"/>
                        </a:lnTo>
                        <a:lnTo>
                          <a:pt x="6" y="15"/>
                        </a:lnTo>
                        <a:lnTo>
                          <a:pt x="0" y="32"/>
                        </a:lnTo>
                        <a:lnTo>
                          <a:pt x="11" y="47"/>
                        </a:lnTo>
                        <a:lnTo>
                          <a:pt x="21" y="57"/>
                        </a:lnTo>
                        <a:close/>
                      </a:path>
                    </a:pathLst>
                  </a:custGeom>
                  <a:solidFill>
                    <a:srgbClr val="d59d30"/>
                  </a:solidFill>
                  <a:ln w="9360">
                    <a:solidFill>
                      <a:srgbClr val="00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1" name="Group 1880"/>
                <p:cNvGrpSpPr/>
                <p:nvPr/>
              </p:nvGrpSpPr>
              <p:grpSpPr>
                <a:xfrm>
                  <a:off x="408240" y="1006200"/>
                  <a:ext cx="56160" cy="51120"/>
                  <a:chOff x="408240" y="1006200"/>
                  <a:chExt cx="56160" cy="51120"/>
                </a:xfrm>
              </p:grpSpPr>
              <p:sp>
                <p:nvSpPr>
                  <p:cNvPr id="1482" name="Freeform 1881"/>
                  <p:cNvSpPr/>
                  <p:nvPr/>
                </p:nvSpPr>
                <p:spPr>
                  <a:xfrm rot="7023600">
                    <a:off x="419040" y="1008720"/>
                    <a:ext cx="342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417">
                        <a:moveTo>
                          <a:pt x="323" y="417"/>
                        </a:moveTo>
                        <a:lnTo>
                          <a:pt x="281" y="407"/>
                        </a:lnTo>
                        <a:lnTo>
                          <a:pt x="239" y="391"/>
                        </a:lnTo>
                        <a:lnTo>
                          <a:pt x="193" y="375"/>
                        </a:lnTo>
                        <a:lnTo>
                          <a:pt x="146" y="350"/>
                        </a:lnTo>
                        <a:lnTo>
                          <a:pt x="99" y="318"/>
                        </a:lnTo>
                        <a:lnTo>
                          <a:pt x="83" y="302"/>
                        </a:lnTo>
                        <a:lnTo>
                          <a:pt x="68" y="282"/>
                        </a:lnTo>
                        <a:lnTo>
                          <a:pt x="57" y="261"/>
                        </a:lnTo>
                        <a:lnTo>
                          <a:pt x="47" y="240"/>
                        </a:lnTo>
                        <a:lnTo>
                          <a:pt x="26" y="147"/>
                        </a:lnTo>
                        <a:lnTo>
                          <a:pt x="6" y="68"/>
                        </a:lnTo>
                        <a:lnTo>
                          <a:pt x="0" y="37"/>
                        </a:lnTo>
                        <a:lnTo>
                          <a:pt x="0" y="1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21" y="0"/>
                        </a:lnTo>
                        <a:lnTo>
                          <a:pt x="31" y="6"/>
                        </a:lnTo>
                        <a:lnTo>
                          <a:pt x="57" y="11"/>
                        </a:lnTo>
                        <a:lnTo>
                          <a:pt x="83" y="27"/>
                        </a:lnTo>
                        <a:lnTo>
                          <a:pt x="146" y="73"/>
                        </a:lnTo>
                        <a:lnTo>
                          <a:pt x="208" y="125"/>
                        </a:lnTo>
                        <a:lnTo>
                          <a:pt x="271" y="193"/>
                        </a:lnTo>
                        <a:lnTo>
                          <a:pt x="296" y="230"/>
                        </a:lnTo>
                        <a:lnTo>
                          <a:pt x="313" y="261"/>
                        </a:lnTo>
                        <a:lnTo>
                          <a:pt x="323" y="292"/>
                        </a:lnTo>
                        <a:lnTo>
                          <a:pt x="333" y="323"/>
                        </a:lnTo>
                        <a:lnTo>
                          <a:pt x="333" y="350"/>
                        </a:lnTo>
                        <a:lnTo>
                          <a:pt x="333" y="375"/>
                        </a:lnTo>
                        <a:lnTo>
                          <a:pt x="323" y="417"/>
                        </a:lnTo>
                        <a:close/>
                      </a:path>
                    </a:pathLst>
                  </a:custGeom>
                  <a:solidFill>
                    <a:srgbClr val="009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3" name="Freeform 1882"/>
                  <p:cNvSpPr/>
                  <p:nvPr/>
                </p:nvSpPr>
                <p:spPr>
                  <a:xfrm rot="3376800">
                    <a:off x="425880" y="1014120"/>
                    <a:ext cx="23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214">
                        <a:moveTo>
                          <a:pt x="0" y="151"/>
                        </a:moveTo>
                        <a:lnTo>
                          <a:pt x="36" y="120"/>
                        </a:lnTo>
                        <a:lnTo>
                          <a:pt x="115" y="57"/>
                        </a:lnTo>
                        <a:lnTo>
                          <a:pt x="156" y="32"/>
                        </a:lnTo>
                        <a:lnTo>
                          <a:pt x="187" y="6"/>
                        </a:lnTo>
                        <a:lnTo>
                          <a:pt x="208" y="0"/>
                        </a:lnTo>
                        <a:lnTo>
                          <a:pt x="213" y="0"/>
                        </a:lnTo>
                        <a:lnTo>
                          <a:pt x="213" y="11"/>
                        </a:lnTo>
                        <a:lnTo>
                          <a:pt x="193" y="69"/>
                        </a:lnTo>
                        <a:lnTo>
                          <a:pt x="162" y="136"/>
                        </a:lnTo>
                        <a:lnTo>
                          <a:pt x="140" y="167"/>
                        </a:lnTo>
                        <a:lnTo>
                          <a:pt x="120" y="187"/>
                        </a:lnTo>
                        <a:lnTo>
                          <a:pt x="98" y="209"/>
                        </a:lnTo>
                        <a:lnTo>
                          <a:pt x="73" y="214"/>
                        </a:lnTo>
                        <a:lnTo>
                          <a:pt x="47" y="209"/>
                        </a:lnTo>
                        <a:lnTo>
                          <a:pt x="31" y="204"/>
                        </a:lnTo>
                        <a:lnTo>
                          <a:pt x="21" y="193"/>
                        </a:lnTo>
                        <a:lnTo>
                          <a:pt x="10" y="182"/>
                        </a:lnTo>
                        <a:lnTo>
                          <a:pt x="0" y="162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ccff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84" name="Group 1883"/>
            <p:cNvGrpSpPr/>
            <p:nvPr/>
          </p:nvGrpSpPr>
          <p:grpSpPr>
            <a:xfrm>
              <a:off x="762120" y="1173240"/>
              <a:ext cx="580680" cy="619560"/>
              <a:chOff x="762120" y="1173240"/>
              <a:chExt cx="580680" cy="619560"/>
            </a:xfrm>
          </p:grpSpPr>
          <p:grpSp>
            <p:nvGrpSpPr>
              <p:cNvPr id="1485" name="Group 1884"/>
              <p:cNvGrpSpPr/>
              <p:nvPr/>
            </p:nvGrpSpPr>
            <p:grpSpPr>
              <a:xfrm>
                <a:off x="762120" y="1173240"/>
                <a:ext cx="580680" cy="619560"/>
                <a:chOff x="762120" y="1173240"/>
                <a:chExt cx="580680" cy="619560"/>
              </a:xfrm>
            </p:grpSpPr>
            <p:sp>
              <p:nvSpPr>
                <p:cNvPr id="1486" name="Freeform 1885"/>
                <p:cNvSpPr/>
                <p:nvPr/>
              </p:nvSpPr>
              <p:spPr>
                <a:xfrm flipH="1" rot="2658600">
                  <a:off x="851760" y="1319040"/>
                  <a:ext cx="416520" cy="38232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1886"/>
                <p:cNvSpPr/>
                <p:nvPr/>
              </p:nvSpPr>
              <p:spPr>
                <a:xfrm flipH="1" rot="2658600">
                  <a:off x="879840" y="1397160"/>
                  <a:ext cx="353160" cy="1818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Freeform 1887"/>
                <p:cNvSpPr/>
                <p:nvPr/>
              </p:nvSpPr>
              <p:spPr>
                <a:xfrm flipH="1" rot="2658600">
                  <a:off x="767520" y="1320480"/>
                  <a:ext cx="514080" cy="22608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Freeform 1888"/>
                <p:cNvSpPr/>
                <p:nvPr/>
              </p:nvSpPr>
              <p:spPr>
                <a:xfrm flipH="1" rot="2658600">
                  <a:off x="1009080" y="1519560"/>
                  <a:ext cx="167040" cy="2232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Freeform 1889"/>
                <p:cNvSpPr/>
                <p:nvPr/>
              </p:nvSpPr>
              <p:spPr>
                <a:xfrm flipH="1" rot="2658600">
                  <a:off x="993600" y="1404000"/>
                  <a:ext cx="216000" cy="8352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Freeform 1890"/>
                <p:cNvSpPr/>
                <p:nvPr/>
              </p:nvSpPr>
              <p:spPr>
                <a:xfrm flipH="1" rot="2658600">
                  <a:off x="981360" y="1334880"/>
                  <a:ext cx="238680" cy="110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Freeform 1891"/>
                <p:cNvSpPr/>
                <p:nvPr/>
              </p:nvSpPr>
              <p:spPr>
                <a:xfrm flipH="1" rot="2658600">
                  <a:off x="1052280" y="1579320"/>
                  <a:ext cx="99000" cy="1404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Freeform 1892"/>
                <p:cNvSpPr/>
                <p:nvPr/>
              </p:nvSpPr>
              <p:spPr>
                <a:xfrm flipH="1" rot="2658600">
                  <a:off x="1087920" y="1636560"/>
                  <a:ext cx="51840" cy="576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Freeform 1893"/>
                <p:cNvSpPr/>
                <p:nvPr/>
              </p:nvSpPr>
              <p:spPr>
                <a:xfrm flipH="1" rot="2658600">
                  <a:off x="1070280" y="1618920"/>
                  <a:ext cx="37800" cy="3924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Freeform 1894"/>
                <p:cNvSpPr/>
                <p:nvPr/>
              </p:nvSpPr>
              <p:spPr>
                <a:xfrm flipH="1" rot="2658600">
                  <a:off x="1027800" y="1568520"/>
                  <a:ext cx="65880" cy="7236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1895"/>
                <p:cNvSpPr/>
                <p:nvPr/>
              </p:nvSpPr>
              <p:spPr>
                <a:xfrm flipH="1" rot="2658600">
                  <a:off x="965160" y="1490760"/>
                  <a:ext cx="105480" cy="1270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Freeform 1896"/>
                <p:cNvSpPr/>
                <p:nvPr/>
              </p:nvSpPr>
              <p:spPr>
                <a:xfrm flipH="1" rot="2658600">
                  <a:off x="913680" y="1409400"/>
                  <a:ext cx="113760" cy="1857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Freeform 1897"/>
                <p:cNvSpPr/>
                <p:nvPr/>
              </p:nvSpPr>
              <p:spPr>
                <a:xfrm flipH="1" rot="2658600">
                  <a:off x="924480" y="1509840"/>
                  <a:ext cx="12240" cy="7416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Freeform 1898"/>
                <p:cNvSpPr/>
                <p:nvPr/>
              </p:nvSpPr>
              <p:spPr>
                <a:xfrm flipH="1" rot="2658600">
                  <a:off x="884520" y="1332720"/>
                  <a:ext cx="78480" cy="22896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Freeform 1899"/>
                <p:cNvSpPr/>
                <p:nvPr/>
              </p:nvSpPr>
              <p:spPr>
                <a:xfrm flipH="1" rot="2658600">
                  <a:off x="948240" y="1486080"/>
                  <a:ext cx="58320" cy="360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Freeform 1900"/>
                <p:cNvSpPr/>
                <p:nvPr/>
              </p:nvSpPr>
              <p:spPr>
                <a:xfrm flipH="1" rot="2658600">
                  <a:off x="986040" y="1563120"/>
                  <a:ext cx="28080" cy="5796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Freeform 1901"/>
                <p:cNvSpPr/>
                <p:nvPr/>
              </p:nvSpPr>
              <p:spPr>
                <a:xfrm flipH="1" rot="2658600">
                  <a:off x="1077120" y="1539720"/>
                  <a:ext cx="61200" cy="1260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1902"/>
                <p:cNvSpPr/>
                <p:nvPr/>
              </p:nvSpPr>
              <p:spPr>
                <a:xfrm flipH="1" rot="2658600">
                  <a:off x="1116720" y="1531800"/>
                  <a:ext cx="37800" cy="223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1903"/>
                <p:cNvSpPr/>
                <p:nvPr/>
              </p:nvSpPr>
              <p:spPr>
                <a:xfrm flipH="1" rot="2658600">
                  <a:off x="971640" y="1542240"/>
                  <a:ext cx="12240" cy="1368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1904"/>
                <p:cNvSpPr/>
                <p:nvPr/>
              </p:nvSpPr>
              <p:spPr>
                <a:xfrm flipH="1" rot="2658600">
                  <a:off x="1123560" y="1497960"/>
                  <a:ext cx="10800" cy="828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1905"/>
                <p:cNvSpPr/>
                <p:nvPr/>
              </p:nvSpPr>
              <p:spPr>
                <a:xfrm flipH="1" rot="2658600">
                  <a:off x="1125720" y="1433160"/>
                  <a:ext cx="12240" cy="1080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1906"/>
                <p:cNvSpPr/>
                <p:nvPr/>
              </p:nvSpPr>
              <p:spPr>
                <a:xfrm flipH="1" rot="2658600">
                  <a:off x="1142640" y="1599120"/>
                  <a:ext cx="9360" cy="468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8" name="Group 1907"/>
              <p:cNvGrpSpPr/>
              <p:nvPr/>
            </p:nvGrpSpPr>
            <p:grpSpPr>
              <a:xfrm>
                <a:off x="918720" y="1186200"/>
                <a:ext cx="54000" cy="48240"/>
                <a:chOff x="918720" y="1186200"/>
                <a:chExt cx="54000" cy="48240"/>
              </a:xfrm>
            </p:grpSpPr>
            <p:sp>
              <p:nvSpPr>
                <p:cNvPr id="1509" name="Freeform 1908"/>
                <p:cNvSpPr/>
                <p:nvPr/>
              </p:nvSpPr>
              <p:spPr>
                <a:xfrm flipH="1" rot="7023600">
                  <a:off x="929520" y="1188000"/>
                  <a:ext cx="31680" cy="44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Freeform 1909"/>
                <p:cNvSpPr/>
                <p:nvPr/>
              </p:nvSpPr>
              <p:spPr>
                <a:xfrm flipH="1" rot="10670400">
                  <a:off x="929880" y="1205280"/>
                  <a:ext cx="22320" cy="1944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11" name="Group 1910"/>
            <p:cNvGrpSpPr/>
            <p:nvPr/>
          </p:nvGrpSpPr>
          <p:grpSpPr>
            <a:xfrm>
              <a:off x="927720" y="886680"/>
              <a:ext cx="474480" cy="343080"/>
              <a:chOff x="927720" y="886680"/>
              <a:chExt cx="474480" cy="343080"/>
            </a:xfrm>
          </p:grpSpPr>
          <p:grpSp>
            <p:nvGrpSpPr>
              <p:cNvPr id="1512" name="Group 1911"/>
              <p:cNvGrpSpPr/>
              <p:nvPr/>
            </p:nvGrpSpPr>
            <p:grpSpPr>
              <a:xfrm>
                <a:off x="927720" y="886680"/>
                <a:ext cx="474480" cy="343080"/>
                <a:chOff x="927720" y="886680"/>
                <a:chExt cx="474480" cy="343080"/>
              </a:xfrm>
            </p:grpSpPr>
            <p:sp>
              <p:nvSpPr>
                <p:cNvPr id="1513" name="Freeform 1912"/>
                <p:cNvSpPr/>
                <p:nvPr/>
              </p:nvSpPr>
              <p:spPr>
                <a:xfrm rot="10594800">
                  <a:off x="1038960" y="896760"/>
                  <a:ext cx="353880" cy="32256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1913"/>
                <p:cNvSpPr/>
                <p:nvPr/>
              </p:nvSpPr>
              <p:spPr>
                <a:xfrm rot="10594800">
                  <a:off x="1052280" y="994680"/>
                  <a:ext cx="300240" cy="15300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Freeform 1914"/>
                <p:cNvSpPr/>
                <p:nvPr/>
              </p:nvSpPr>
              <p:spPr>
                <a:xfrm rot="10594800">
                  <a:off x="932760" y="992880"/>
                  <a:ext cx="437040" cy="19044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Freeform 1915"/>
                <p:cNvSpPr/>
                <p:nvPr/>
              </p:nvSpPr>
              <p:spPr>
                <a:xfrm rot="10594800">
                  <a:off x="1177560" y="1054440"/>
                  <a:ext cx="141840" cy="183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Freeform 1916"/>
                <p:cNvSpPr/>
                <p:nvPr/>
              </p:nvSpPr>
              <p:spPr>
                <a:xfrm rot="10594800">
                  <a:off x="1115280" y="1088280"/>
                  <a:ext cx="183960" cy="6984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1917"/>
                <p:cNvSpPr/>
                <p:nvPr/>
              </p:nvSpPr>
              <p:spPr>
                <a:xfrm rot="10594800">
                  <a:off x="1074960" y="1112040"/>
                  <a:ext cx="202320" cy="9252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Freeform 1918"/>
                <p:cNvSpPr/>
                <p:nvPr/>
              </p:nvSpPr>
              <p:spPr>
                <a:xfrm rot="10594800">
                  <a:off x="1243080" y="1027440"/>
                  <a:ext cx="84240" cy="1188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Freeform 1919"/>
                <p:cNvSpPr/>
                <p:nvPr/>
              </p:nvSpPr>
              <p:spPr>
                <a:xfrm rot="10594800">
                  <a:off x="1301040" y="1003680"/>
                  <a:ext cx="43920" cy="468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Freeform 1920"/>
                <p:cNvSpPr/>
                <p:nvPr/>
              </p:nvSpPr>
              <p:spPr>
                <a:xfrm rot="10594800">
                  <a:off x="1290600" y="976680"/>
                  <a:ext cx="32040" cy="3276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Freeform 1921"/>
                <p:cNvSpPr/>
                <p:nvPr/>
              </p:nvSpPr>
              <p:spPr>
                <a:xfrm rot="10594800">
                  <a:off x="1241640" y="968400"/>
                  <a:ext cx="56160" cy="6084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1922"/>
                <p:cNvSpPr/>
                <p:nvPr/>
              </p:nvSpPr>
              <p:spPr>
                <a:xfrm rot="10594800">
                  <a:off x="1168920" y="954000"/>
                  <a:ext cx="90000" cy="10692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Freeform 1923"/>
                <p:cNvSpPr/>
                <p:nvPr/>
              </p:nvSpPr>
              <p:spPr>
                <a:xfrm rot="10594800">
                  <a:off x="1106640" y="936000"/>
                  <a:ext cx="96480" cy="15660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Freeform 1924"/>
                <p:cNvSpPr/>
                <p:nvPr/>
              </p:nvSpPr>
              <p:spPr>
                <a:xfrm rot="10594800">
                  <a:off x="1148400" y="933120"/>
                  <a:ext cx="10440" cy="619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1925"/>
                <p:cNvSpPr/>
                <p:nvPr/>
              </p:nvSpPr>
              <p:spPr>
                <a:xfrm rot="10594800">
                  <a:off x="1060560" y="927360"/>
                  <a:ext cx="66600" cy="19260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1926"/>
                <p:cNvSpPr/>
                <p:nvPr/>
              </p:nvSpPr>
              <p:spPr>
                <a:xfrm rot="10594800">
                  <a:off x="1135440" y="1001880"/>
                  <a:ext cx="49320" cy="3060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1927"/>
                <p:cNvSpPr/>
                <p:nvPr/>
              </p:nvSpPr>
              <p:spPr>
                <a:xfrm rot="10594800">
                  <a:off x="1211400" y="948240"/>
                  <a:ext cx="23760" cy="4932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Freeform 1928"/>
                <p:cNvSpPr/>
                <p:nvPr/>
              </p:nvSpPr>
              <p:spPr>
                <a:xfrm rot="10594800">
                  <a:off x="1240560" y="1056240"/>
                  <a:ext cx="52200" cy="1044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Freeform 1929"/>
                <p:cNvSpPr/>
                <p:nvPr/>
              </p:nvSpPr>
              <p:spPr>
                <a:xfrm rot="10594800">
                  <a:off x="1267200" y="1069920"/>
                  <a:ext cx="32040" cy="1872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1930"/>
                <p:cNvSpPr/>
                <p:nvPr/>
              </p:nvSpPr>
              <p:spPr>
                <a:xfrm rot="10594800">
                  <a:off x="1180080" y="982800"/>
                  <a:ext cx="10440" cy="1152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Freeform 1931"/>
                <p:cNvSpPr/>
                <p:nvPr/>
              </p:nvSpPr>
              <p:spPr>
                <a:xfrm rot="10594800">
                  <a:off x="1251360" y="1099080"/>
                  <a:ext cx="9360" cy="684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1932"/>
                <p:cNvSpPr/>
                <p:nvPr/>
              </p:nvSpPr>
              <p:spPr>
                <a:xfrm rot="10594800">
                  <a:off x="1217160" y="1139400"/>
                  <a:ext cx="10440" cy="936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1933"/>
                <p:cNvSpPr/>
                <p:nvPr/>
              </p:nvSpPr>
              <p:spPr>
                <a:xfrm rot="10594800">
                  <a:off x="1319400" y="1046160"/>
                  <a:ext cx="7920" cy="432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5" name="Group 1934"/>
              <p:cNvGrpSpPr/>
              <p:nvPr/>
            </p:nvGrpSpPr>
            <p:grpSpPr>
              <a:xfrm>
                <a:off x="955080" y="1168200"/>
                <a:ext cx="42840" cy="35280"/>
                <a:chOff x="955080" y="1168200"/>
                <a:chExt cx="42840" cy="35280"/>
              </a:xfrm>
            </p:grpSpPr>
            <p:sp>
              <p:nvSpPr>
                <p:cNvPr id="1536" name="Freeform 1935"/>
                <p:cNvSpPr/>
                <p:nvPr/>
              </p:nvSpPr>
              <p:spPr>
                <a:xfrm rot="6231000">
                  <a:off x="963000" y="1167120"/>
                  <a:ext cx="26640" cy="3744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Freeform 1936"/>
                <p:cNvSpPr/>
                <p:nvPr/>
              </p:nvSpPr>
              <p:spPr>
                <a:xfrm rot="2583600">
                  <a:off x="966960" y="1172160"/>
                  <a:ext cx="18720" cy="1656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8" name="Group 1937"/>
            <p:cNvGrpSpPr/>
            <p:nvPr/>
          </p:nvGrpSpPr>
          <p:grpSpPr>
            <a:xfrm>
              <a:off x="1199160" y="1297800"/>
              <a:ext cx="425520" cy="491400"/>
              <a:chOff x="1199160" y="1297800"/>
              <a:chExt cx="425520" cy="491400"/>
            </a:xfrm>
          </p:grpSpPr>
          <p:grpSp>
            <p:nvGrpSpPr>
              <p:cNvPr id="1539" name="Group 1938"/>
              <p:cNvGrpSpPr/>
              <p:nvPr/>
            </p:nvGrpSpPr>
            <p:grpSpPr>
              <a:xfrm>
                <a:off x="1199160" y="1297800"/>
                <a:ext cx="425520" cy="491400"/>
                <a:chOff x="1199160" y="1297800"/>
                <a:chExt cx="425520" cy="491400"/>
              </a:xfrm>
            </p:grpSpPr>
            <p:sp>
              <p:nvSpPr>
                <p:cNvPr id="1540" name="Freeform 1939"/>
                <p:cNvSpPr/>
                <p:nvPr/>
              </p:nvSpPr>
              <p:spPr>
                <a:xfrm rot="15123000">
                  <a:off x="1243440" y="1407600"/>
                  <a:ext cx="336240" cy="338400"/>
                </a:xfrm>
                <a:custGeom>
                  <a:avLst/>
                  <a:gdLst/>
                  <a:ahLst/>
                  <a:rect l="l" t="t" r="r" b="b"/>
                  <a:pathLst>
                    <a:path w="3962" h="4106">
                      <a:moveTo>
                        <a:pt x="0" y="3065"/>
                      </a:moveTo>
                      <a:lnTo>
                        <a:pt x="47" y="3055"/>
                      </a:lnTo>
                      <a:lnTo>
                        <a:pt x="150" y="3044"/>
                      </a:lnTo>
                      <a:lnTo>
                        <a:pt x="260" y="3034"/>
                      </a:lnTo>
                      <a:lnTo>
                        <a:pt x="302" y="3034"/>
                      </a:lnTo>
                      <a:lnTo>
                        <a:pt x="317" y="3034"/>
                      </a:lnTo>
                      <a:lnTo>
                        <a:pt x="327" y="3039"/>
                      </a:lnTo>
                      <a:lnTo>
                        <a:pt x="281" y="3117"/>
                      </a:lnTo>
                      <a:lnTo>
                        <a:pt x="322" y="3102"/>
                      </a:lnTo>
                      <a:lnTo>
                        <a:pt x="421" y="3065"/>
                      </a:lnTo>
                      <a:lnTo>
                        <a:pt x="474" y="3055"/>
                      </a:lnTo>
                      <a:lnTo>
                        <a:pt x="526" y="3049"/>
                      </a:lnTo>
                      <a:lnTo>
                        <a:pt x="546" y="3049"/>
                      </a:lnTo>
                      <a:lnTo>
                        <a:pt x="562" y="3060"/>
                      </a:lnTo>
                      <a:lnTo>
                        <a:pt x="577" y="3065"/>
                      </a:lnTo>
                      <a:lnTo>
                        <a:pt x="582" y="3080"/>
                      </a:lnTo>
                      <a:lnTo>
                        <a:pt x="536" y="3169"/>
                      </a:lnTo>
                      <a:lnTo>
                        <a:pt x="593" y="3154"/>
                      </a:lnTo>
                      <a:lnTo>
                        <a:pt x="723" y="3127"/>
                      </a:lnTo>
                      <a:lnTo>
                        <a:pt x="796" y="3122"/>
                      </a:lnTo>
                      <a:lnTo>
                        <a:pt x="863" y="3117"/>
                      </a:lnTo>
                      <a:lnTo>
                        <a:pt x="910" y="3117"/>
                      </a:lnTo>
                      <a:lnTo>
                        <a:pt x="926" y="3122"/>
                      </a:lnTo>
                      <a:lnTo>
                        <a:pt x="936" y="3132"/>
                      </a:lnTo>
                      <a:lnTo>
                        <a:pt x="941" y="3159"/>
                      </a:lnTo>
                      <a:lnTo>
                        <a:pt x="936" y="3185"/>
                      </a:lnTo>
                      <a:lnTo>
                        <a:pt x="926" y="3211"/>
                      </a:lnTo>
                      <a:lnTo>
                        <a:pt x="915" y="3242"/>
                      </a:lnTo>
                      <a:lnTo>
                        <a:pt x="884" y="3289"/>
                      </a:lnTo>
                      <a:lnTo>
                        <a:pt x="873" y="3310"/>
                      </a:lnTo>
                      <a:lnTo>
                        <a:pt x="900" y="3294"/>
                      </a:lnTo>
                      <a:lnTo>
                        <a:pt x="936" y="3284"/>
                      </a:lnTo>
                      <a:lnTo>
                        <a:pt x="978" y="3268"/>
                      </a:lnTo>
                      <a:lnTo>
                        <a:pt x="1030" y="3257"/>
                      </a:lnTo>
                      <a:lnTo>
                        <a:pt x="1082" y="3257"/>
                      </a:lnTo>
                      <a:lnTo>
                        <a:pt x="1133" y="3262"/>
                      </a:lnTo>
                      <a:lnTo>
                        <a:pt x="1160" y="3268"/>
                      </a:lnTo>
                      <a:lnTo>
                        <a:pt x="1185" y="3279"/>
                      </a:lnTo>
                      <a:lnTo>
                        <a:pt x="1191" y="3299"/>
                      </a:lnTo>
                      <a:lnTo>
                        <a:pt x="1201" y="3341"/>
                      </a:lnTo>
                      <a:lnTo>
                        <a:pt x="1196" y="3367"/>
                      </a:lnTo>
                      <a:lnTo>
                        <a:pt x="1196" y="3387"/>
                      </a:lnTo>
                      <a:lnTo>
                        <a:pt x="1180" y="3404"/>
                      </a:lnTo>
                      <a:lnTo>
                        <a:pt x="1175" y="3409"/>
                      </a:lnTo>
                      <a:lnTo>
                        <a:pt x="1165" y="3414"/>
                      </a:lnTo>
                      <a:lnTo>
                        <a:pt x="1155" y="3409"/>
                      </a:lnTo>
                      <a:lnTo>
                        <a:pt x="1165" y="3404"/>
                      </a:lnTo>
                      <a:lnTo>
                        <a:pt x="1191" y="3392"/>
                      </a:lnTo>
                      <a:lnTo>
                        <a:pt x="1227" y="3382"/>
                      </a:lnTo>
                      <a:lnTo>
                        <a:pt x="1269" y="3377"/>
                      </a:lnTo>
                      <a:lnTo>
                        <a:pt x="1305" y="3382"/>
                      </a:lnTo>
                      <a:lnTo>
                        <a:pt x="1320" y="3387"/>
                      </a:lnTo>
                      <a:lnTo>
                        <a:pt x="1337" y="3392"/>
                      </a:lnTo>
                      <a:lnTo>
                        <a:pt x="1347" y="3404"/>
                      </a:lnTo>
                      <a:lnTo>
                        <a:pt x="1357" y="3419"/>
                      </a:lnTo>
                      <a:lnTo>
                        <a:pt x="1357" y="3450"/>
                      </a:lnTo>
                      <a:lnTo>
                        <a:pt x="1352" y="3487"/>
                      </a:lnTo>
                      <a:lnTo>
                        <a:pt x="1342" y="3517"/>
                      </a:lnTo>
                      <a:lnTo>
                        <a:pt x="1326" y="3544"/>
                      </a:lnTo>
                      <a:lnTo>
                        <a:pt x="1290" y="3591"/>
                      </a:lnTo>
                      <a:lnTo>
                        <a:pt x="1274" y="3612"/>
                      </a:lnTo>
                      <a:lnTo>
                        <a:pt x="1315" y="3596"/>
                      </a:lnTo>
                      <a:lnTo>
                        <a:pt x="1409" y="3570"/>
                      </a:lnTo>
                      <a:lnTo>
                        <a:pt x="1456" y="3559"/>
                      </a:lnTo>
                      <a:lnTo>
                        <a:pt x="1503" y="3549"/>
                      </a:lnTo>
                      <a:lnTo>
                        <a:pt x="1534" y="3549"/>
                      </a:lnTo>
                      <a:lnTo>
                        <a:pt x="1550" y="3554"/>
                      </a:lnTo>
                      <a:lnTo>
                        <a:pt x="1555" y="3559"/>
                      </a:lnTo>
                      <a:lnTo>
                        <a:pt x="1560" y="3570"/>
                      </a:lnTo>
                      <a:lnTo>
                        <a:pt x="1560" y="3586"/>
                      </a:lnTo>
                      <a:lnTo>
                        <a:pt x="1555" y="3606"/>
                      </a:lnTo>
                      <a:lnTo>
                        <a:pt x="1550" y="3617"/>
                      </a:lnTo>
                      <a:lnTo>
                        <a:pt x="1544" y="3622"/>
                      </a:lnTo>
                      <a:lnTo>
                        <a:pt x="1565" y="3612"/>
                      </a:lnTo>
                      <a:lnTo>
                        <a:pt x="1622" y="3581"/>
                      </a:lnTo>
                      <a:lnTo>
                        <a:pt x="1659" y="3570"/>
                      </a:lnTo>
                      <a:lnTo>
                        <a:pt x="1695" y="3559"/>
                      </a:lnTo>
                      <a:lnTo>
                        <a:pt x="1737" y="3559"/>
                      </a:lnTo>
                      <a:lnTo>
                        <a:pt x="1779" y="3564"/>
                      </a:lnTo>
                      <a:lnTo>
                        <a:pt x="1799" y="3575"/>
                      </a:lnTo>
                      <a:lnTo>
                        <a:pt x="1814" y="3586"/>
                      </a:lnTo>
                      <a:lnTo>
                        <a:pt x="1856" y="3622"/>
                      </a:lnTo>
                      <a:lnTo>
                        <a:pt x="1898" y="3669"/>
                      </a:lnTo>
                      <a:lnTo>
                        <a:pt x="1929" y="3731"/>
                      </a:lnTo>
                      <a:lnTo>
                        <a:pt x="1951" y="3794"/>
                      </a:lnTo>
                      <a:lnTo>
                        <a:pt x="1956" y="3824"/>
                      </a:lnTo>
                      <a:lnTo>
                        <a:pt x="1961" y="3861"/>
                      </a:lnTo>
                      <a:lnTo>
                        <a:pt x="1956" y="3893"/>
                      </a:lnTo>
                      <a:lnTo>
                        <a:pt x="1951" y="3929"/>
                      </a:lnTo>
                      <a:lnTo>
                        <a:pt x="1939" y="3961"/>
                      </a:lnTo>
                      <a:lnTo>
                        <a:pt x="1924" y="3991"/>
                      </a:lnTo>
                      <a:lnTo>
                        <a:pt x="2116" y="3893"/>
                      </a:lnTo>
                      <a:lnTo>
                        <a:pt x="2106" y="3971"/>
                      </a:lnTo>
                      <a:lnTo>
                        <a:pt x="2132" y="3949"/>
                      </a:lnTo>
                      <a:lnTo>
                        <a:pt x="2189" y="3903"/>
                      </a:lnTo>
                      <a:lnTo>
                        <a:pt x="2226" y="3882"/>
                      </a:lnTo>
                      <a:lnTo>
                        <a:pt x="2257" y="3866"/>
                      </a:lnTo>
                      <a:lnTo>
                        <a:pt x="2268" y="3866"/>
                      </a:lnTo>
                      <a:lnTo>
                        <a:pt x="2283" y="3866"/>
                      </a:lnTo>
                      <a:lnTo>
                        <a:pt x="2293" y="3872"/>
                      </a:lnTo>
                      <a:lnTo>
                        <a:pt x="2303" y="3882"/>
                      </a:lnTo>
                      <a:lnTo>
                        <a:pt x="2314" y="3903"/>
                      </a:lnTo>
                      <a:lnTo>
                        <a:pt x="2314" y="3919"/>
                      </a:lnTo>
                      <a:lnTo>
                        <a:pt x="2308" y="3929"/>
                      </a:lnTo>
                      <a:lnTo>
                        <a:pt x="2298" y="3934"/>
                      </a:lnTo>
                      <a:lnTo>
                        <a:pt x="2278" y="3944"/>
                      </a:lnTo>
                      <a:lnTo>
                        <a:pt x="2268" y="3944"/>
                      </a:lnTo>
                      <a:lnTo>
                        <a:pt x="2548" y="3789"/>
                      </a:lnTo>
                      <a:lnTo>
                        <a:pt x="2574" y="3914"/>
                      </a:lnTo>
                      <a:lnTo>
                        <a:pt x="2595" y="3887"/>
                      </a:lnTo>
                      <a:lnTo>
                        <a:pt x="2620" y="3861"/>
                      </a:lnTo>
                      <a:lnTo>
                        <a:pt x="2652" y="3836"/>
                      </a:lnTo>
                      <a:lnTo>
                        <a:pt x="2688" y="3809"/>
                      </a:lnTo>
                      <a:lnTo>
                        <a:pt x="2709" y="3804"/>
                      </a:lnTo>
                      <a:lnTo>
                        <a:pt x="2725" y="3799"/>
                      </a:lnTo>
                      <a:lnTo>
                        <a:pt x="2745" y="3799"/>
                      </a:lnTo>
                      <a:lnTo>
                        <a:pt x="2767" y="3804"/>
                      </a:lnTo>
                      <a:lnTo>
                        <a:pt x="2782" y="3809"/>
                      </a:lnTo>
                      <a:lnTo>
                        <a:pt x="2803" y="3824"/>
                      </a:lnTo>
                      <a:lnTo>
                        <a:pt x="2814" y="3846"/>
                      </a:lnTo>
                      <a:lnTo>
                        <a:pt x="2829" y="3866"/>
                      </a:lnTo>
                      <a:lnTo>
                        <a:pt x="2844" y="3914"/>
                      </a:lnTo>
                      <a:lnTo>
                        <a:pt x="2850" y="3961"/>
                      </a:lnTo>
                      <a:lnTo>
                        <a:pt x="2844" y="4002"/>
                      </a:lnTo>
                      <a:lnTo>
                        <a:pt x="2839" y="4044"/>
                      </a:lnTo>
                      <a:lnTo>
                        <a:pt x="2829" y="4075"/>
                      </a:lnTo>
                      <a:lnTo>
                        <a:pt x="2819" y="4106"/>
                      </a:lnTo>
                      <a:lnTo>
                        <a:pt x="3074" y="3903"/>
                      </a:lnTo>
                      <a:lnTo>
                        <a:pt x="3099" y="3991"/>
                      </a:lnTo>
                      <a:lnTo>
                        <a:pt x="3286" y="3726"/>
                      </a:lnTo>
                      <a:lnTo>
                        <a:pt x="3307" y="3804"/>
                      </a:lnTo>
                      <a:lnTo>
                        <a:pt x="3338" y="3757"/>
                      </a:lnTo>
                      <a:lnTo>
                        <a:pt x="3411" y="3654"/>
                      </a:lnTo>
                      <a:lnTo>
                        <a:pt x="3453" y="3591"/>
                      </a:lnTo>
                      <a:lnTo>
                        <a:pt x="3489" y="3523"/>
                      </a:lnTo>
                      <a:lnTo>
                        <a:pt x="3521" y="3466"/>
                      </a:lnTo>
                      <a:lnTo>
                        <a:pt x="3541" y="3419"/>
                      </a:lnTo>
                      <a:lnTo>
                        <a:pt x="3551" y="3529"/>
                      </a:lnTo>
                      <a:lnTo>
                        <a:pt x="3562" y="3507"/>
                      </a:lnTo>
                      <a:lnTo>
                        <a:pt x="3593" y="3455"/>
                      </a:lnTo>
                      <a:lnTo>
                        <a:pt x="3635" y="3372"/>
                      </a:lnTo>
                      <a:lnTo>
                        <a:pt x="3650" y="3325"/>
                      </a:lnTo>
                      <a:lnTo>
                        <a:pt x="3666" y="3274"/>
                      </a:lnTo>
                      <a:lnTo>
                        <a:pt x="3692" y="3180"/>
                      </a:lnTo>
                      <a:lnTo>
                        <a:pt x="3723" y="3102"/>
                      </a:lnTo>
                      <a:lnTo>
                        <a:pt x="3760" y="3023"/>
                      </a:lnTo>
                      <a:lnTo>
                        <a:pt x="3807" y="3117"/>
                      </a:lnTo>
                      <a:lnTo>
                        <a:pt x="3832" y="3080"/>
                      </a:lnTo>
                      <a:lnTo>
                        <a:pt x="3858" y="3039"/>
                      </a:lnTo>
                      <a:lnTo>
                        <a:pt x="3890" y="2977"/>
                      </a:lnTo>
                      <a:lnTo>
                        <a:pt x="3920" y="2898"/>
                      </a:lnTo>
                      <a:lnTo>
                        <a:pt x="3947" y="2805"/>
                      </a:lnTo>
                      <a:lnTo>
                        <a:pt x="3952" y="2753"/>
                      </a:lnTo>
                      <a:lnTo>
                        <a:pt x="3957" y="2695"/>
                      </a:lnTo>
                      <a:lnTo>
                        <a:pt x="3962" y="2633"/>
                      </a:lnTo>
                      <a:lnTo>
                        <a:pt x="3957" y="2565"/>
                      </a:lnTo>
                      <a:lnTo>
                        <a:pt x="3942" y="2410"/>
                      </a:lnTo>
                      <a:lnTo>
                        <a:pt x="3915" y="2222"/>
                      </a:lnTo>
                      <a:lnTo>
                        <a:pt x="3885" y="2019"/>
                      </a:lnTo>
                      <a:lnTo>
                        <a:pt x="3853" y="1821"/>
                      </a:lnTo>
                      <a:lnTo>
                        <a:pt x="3791" y="1483"/>
                      </a:lnTo>
                      <a:lnTo>
                        <a:pt x="3760" y="1342"/>
                      </a:lnTo>
                      <a:lnTo>
                        <a:pt x="3728" y="1327"/>
                      </a:lnTo>
                      <a:lnTo>
                        <a:pt x="3692" y="1306"/>
                      </a:lnTo>
                      <a:lnTo>
                        <a:pt x="3640" y="1269"/>
                      </a:lnTo>
                      <a:lnTo>
                        <a:pt x="3583" y="1227"/>
                      </a:lnTo>
                      <a:lnTo>
                        <a:pt x="3521" y="1165"/>
                      </a:lnTo>
                      <a:lnTo>
                        <a:pt x="3448" y="1092"/>
                      </a:lnTo>
                      <a:lnTo>
                        <a:pt x="3375" y="1004"/>
                      </a:lnTo>
                      <a:lnTo>
                        <a:pt x="3209" y="770"/>
                      </a:lnTo>
                      <a:lnTo>
                        <a:pt x="3109" y="629"/>
                      </a:lnTo>
                      <a:lnTo>
                        <a:pt x="3001" y="488"/>
                      </a:lnTo>
                      <a:lnTo>
                        <a:pt x="2881" y="348"/>
                      </a:lnTo>
                      <a:lnTo>
                        <a:pt x="2824" y="285"/>
                      </a:lnTo>
                      <a:lnTo>
                        <a:pt x="2762" y="223"/>
                      </a:lnTo>
                      <a:lnTo>
                        <a:pt x="2699" y="166"/>
                      </a:lnTo>
                      <a:lnTo>
                        <a:pt x="2632" y="120"/>
                      </a:lnTo>
                      <a:lnTo>
                        <a:pt x="2569" y="72"/>
                      </a:lnTo>
                      <a:lnTo>
                        <a:pt x="2501" y="36"/>
                      </a:lnTo>
                      <a:lnTo>
                        <a:pt x="2532" y="113"/>
                      </a:lnTo>
                      <a:lnTo>
                        <a:pt x="2485" y="88"/>
                      </a:lnTo>
                      <a:lnTo>
                        <a:pt x="2433" y="67"/>
                      </a:lnTo>
                      <a:lnTo>
                        <a:pt x="2371" y="46"/>
                      </a:lnTo>
                      <a:lnTo>
                        <a:pt x="2298" y="20"/>
                      </a:lnTo>
                      <a:lnTo>
                        <a:pt x="2221" y="5"/>
                      </a:lnTo>
                      <a:lnTo>
                        <a:pt x="2148" y="0"/>
                      </a:lnTo>
                      <a:lnTo>
                        <a:pt x="2116" y="0"/>
                      </a:lnTo>
                      <a:lnTo>
                        <a:pt x="2080" y="5"/>
                      </a:lnTo>
                      <a:lnTo>
                        <a:pt x="2184" y="108"/>
                      </a:lnTo>
                      <a:lnTo>
                        <a:pt x="2002" y="93"/>
                      </a:lnTo>
                      <a:lnTo>
                        <a:pt x="1841" y="88"/>
                      </a:lnTo>
                      <a:lnTo>
                        <a:pt x="1768" y="88"/>
                      </a:lnTo>
                      <a:lnTo>
                        <a:pt x="1711" y="98"/>
                      </a:lnTo>
                      <a:lnTo>
                        <a:pt x="1804" y="140"/>
                      </a:lnTo>
                      <a:lnTo>
                        <a:pt x="1679" y="140"/>
                      </a:lnTo>
                      <a:lnTo>
                        <a:pt x="1565" y="150"/>
                      </a:lnTo>
                      <a:lnTo>
                        <a:pt x="1513" y="155"/>
                      </a:lnTo>
                      <a:lnTo>
                        <a:pt x="1467" y="166"/>
                      </a:lnTo>
                      <a:lnTo>
                        <a:pt x="1503" y="250"/>
                      </a:lnTo>
                      <a:lnTo>
                        <a:pt x="1373" y="260"/>
                      </a:lnTo>
                      <a:lnTo>
                        <a:pt x="1258" y="270"/>
                      </a:lnTo>
                      <a:lnTo>
                        <a:pt x="1201" y="280"/>
                      </a:lnTo>
                      <a:lnTo>
                        <a:pt x="1150" y="296"/>
                      </a:lnTo>
                      <a:lnTo>
                        <a:pt x="1232" y="353"/>
                      </a:lnTo>
                      <a:lnTo>
                        <a:pt x="1248" y="369"/>
                      </a:lnTo>
                      <a:lnTo>
                        <a:pt x="1263" y="390"/>
                      </a:lnTo>
                      <a:lnTo>
                        <a:pt x="1285" y="415"/>
                      </a:lnTo>
                      <a:lnTo>
                        <a:pt x="1300" y="452"/>
                      </a:lnTo>
                      <a:lnTo>
                        <a:pt x="1310" y="488"/>
                      </a:lnTo>
                      <a:lnTo>
                        <a:pt x="1310" y="535"/>
                      </a:lnTo>
                      <a:lnTo>
                        <a:pt x="1305" y="562"/>
                      </a:lnTo>
                      <a:lnTo>
                        <a:pt x="1300" y="587"/>
                      </a:lnTo>
                      <a:lnTo>
                        <a:pt x="1180" y="577"/>
                      </a:lnTo>
                      <a:lnTo>
                        <a:pt x="1269" y="645"/>
                      </a:lnTo>
                      <a:lnTo>
                        <a:pt x="1332" y="697"/>
                      </a:lnTo>
                      <a:lnTo>
                        <a:pt x="1357" y="723"/>
                      </a:lnTo>
                      <a:lnTo>
                        <a:pt x="1368" y="744"/>
                      </a:lnTo>
                      <a:lnTo>
                        <a:pt x="1368" y="754"/>
                      </a:lnTo>
                      <a:lnTo>
                        <a:pt x="1368" y="759"/>
                      </a:lnTo>
                      <a:lnTo>
                        <a:pt x="1352" y="764"/>
                      </a:lnTo>
                      <a:lnTo>
                        <a:pt x="1332" y="770"/>
                      </a:lnTo>
                      <a:lnTo>
                        <a:pt x="1305" y="764"/>
                      </a:lnTo>
                      <a:lnTo>
                        <a:pt x="1258" y="759"/>
                      </a:lnTo>
                      <a:lnTo>
                        <a:pt x="1232" y="754"/>
                      </a:lnTo>
                      <a:lnTo>
                        <a:pt x="1285" y="884"/>
                      </a:lnTo>
                      <a:lnTo>
                        <a:pt x="1160" y="894"/>
                      </a:lnTo>
                      <a:lnTo>
                        <a:pt x="1056" y="910"/>
                      </a:lnTo>
                      <a:lnTo>
                        <a:pt x="968" y="926"/>
                      </a:lnTo>
                      <a:lnTo>
                        <a:pt x="983" y="931"/>
                      </a:lnTo>
                      <a:lnTo>
                        <a:pt x="1019" y="952"/>
                      </a:lnTo>
                      <a:lnTo>
                        <a:pt x="1035" y="962"/>
                      </a:lnTo>
                      <a:lnTo>
                        <a:pt x="1050" y="977"/>
                      </a:lnTo>
                      <a:lnTo>
                        <a:pt x="1061" y="994"/>
                      </a:lnTo>
                      <a:lnTo>
                        <a:pt x="1071" y="1014"/>
                      </a:lnTo>
                      <a:lnTo>
                        <a:pt x="1066" y="1019"/>
                      </a:lnTo>
                      <a:lnTo>
                        <a:pt x="1061" y="1030"/>
                      </a:lnTo>
                      <a:lnTo>
                        <a:pt x="1035" y="1040"/>
                      </a:lnTo>
                      <a:lnTo>
                        <a:pt x="998" y="1051"/>
                      </a:lnTo>
                      <a:lnTo>
                        <a:pt x="951" y="1061"/>
                      </a:lnTo>
                      <a:lnTo>
                        <a:pt x="873" y="1072"/>
                      </a:lnTo>
                      <a:lnTo>
                        <a:pt x="838" y="1072"/>
                      </a:lnTo>
                      <a:lnTo>
                        <a:pt x="926" y="1139"/>
                      </a:lnTo>
                      <a:lnTo>
                        <a:pt x="936" y="1155"/>
                      </a:lnTo>
                      <a:lnTo>
                        <a:pt x="941" y="1171"/>
                      </a:lnTo>
                      <a:lnTo>
                        <a:pt x="941" y="1197"/>
                      </a:lnTo>
                      <a:lnTo>
                        <a:pt x="941" y="1222"/>
                      </a:lnTo>
                      <a:lnTo>
                        <a:pt x="926" y="1249"/>
                      </a:lnTo>
                      <a:lnTo>
                        <a:pt x="900" y="1279"/>
                      </a:lnTo>
                      <a:lnTo>
                        <a:pt x="863" y="1306"/>
                      </a:lnTo>
                      <a:lnTo>
                        <a:pt x="879" y="1311"/>
                      </a:lnTo>
                      <a:lnTo>
                        <a:pt x="894" y="1316"/>
                      </a:lnTo>
                      <a:lnTo>
                        <a:pt x="915" y="1327"/>
                      </a:lnTo>
                      <a:lnTo>
                        <a:pt x="931" y="1337"/>
                      </a:lnTo>
                      <a:lnTo>
                        <a:pt x="941" y="1358"/>
                      </a:lnTo>
                      <a:lnTo>
                        <a:pt x="941" y="1379"/>
                      </a:lnTo>
                      <a:lnTo>
                        <a:pt x="936" y="1409"/>
                      </a:lnTo>
                      <a:lnTo>
                        <a:pt x="921" y="1436"/>
                      </a:lnTo>
                      <a:lnTo>
                        <a:pt x="900" y="1462"/>
                      </a:lnTo>
                      <a:lnTo>
                        <a:pt x="879" y="1477"/>
                      </a:lnTo>
                      <a:lnTo>
                        <a:pt x="858" y="1488"/>
                      </a:lnTo>
                      <a:lnTo>
                        <a:pt x="821" y="1499"/>
                      </a:lnTo>
                      <a:lnTo>
                        <a:pt x="806" y="1499"/>
                      </a:lnTo>
                      <a:lnTo>
                        <a:pt x="821" y="1509"/>
                      </a:lnTo>
                      <a:lnTo>
                        <a:pt x="858" y="1524"/>
                      </a:lnTo>
                      <a:lnTo>
                        <a:pt x="873" y="1539"/>
                      </a:lnTo>
                      <a:lnTo>
                        <a:pt x="889" y="1556"/>
                      </a:lnTo>
                      <a:lnTo>
                        <a:pt x="894" y="1571"/>
                      </a:lnTo>
                      <a:lnTo>
                        <a:pt x="884" y="1592"/>
                      </a:lnTo>
                      <a:lnTo>
                        <a:pt x="868" y="1613"/>
                      </a:lnTo>
                      <a:lnTo>
                        <a:pt x="838" y="1623"/>
                      </a:lnTo>
                      <a:lnTo>
                        <a:pt x="806" y="1639"/>
                      </a:lnTo>
                      <a:lnTo>
                        <a:pt x="769" y="1649"/>
                      </a:lnTo>
                      <a:lnTo>
                        <a:pt x="713" y="1659"/>
                      </a:lnTo>
                      <a:lnTo>
                        <a:pt x="686" y="1664"/>
                      </a:lnTo>
                      <a:lnTo>
                        <a:pt x="702" y="1676"/>
                      </a:lnTo>
                      <a:lnTo>
                        <a:pt x="738" y="1701"/>
                      </a:lnTo>
                      <a:lnTo>
                        <a:pt x="754" y="1717"/>
                      </a:lnTo>
                      <a:lnTo>
                        <a:pt x="759" y="1728"/>
                      </a:lnTo>
                      <a:lnTo>
                        <a:pt x="759" y="1738"/>
                      </a:lnTo>
                      <a:lnTo>
                        <a:pt x="754" y="1743"/>
                      </a:lnTo>
                      <a:lnTo>
                        <a:pt x="733" y="1753"/>
                      </a:lnTo>
                      <a:lnTo>
                        <a:pt x="666" y="1779"/>
                      </a:lnTo>
                      <a:lnTo>
                        <a:pt x="588" y="1806"/>
                      </a:lnTo>
                      <a:lnTo>
                        <a:pt x="499" y="1847"/>
                      </a:lnTo>
                      <a:lnTo>
                        <a:pt x="531" y="1847"/>
                      </a:lnTo>
                      <a:lnTo>
                        <a:pt x="593" y="1858"/>
                      </a:lnTo>
                      <a:lnTo>
                        <a:pt x="629" y="1868"/>
                      </a:lnTo>
                      <a:lnTo>
                        <a:pt x="666" y="1883"/>
                      </a:lnTo>
                      <a:lnTo>
                        <a:pt x="691" y="1904"/>
                      </a:lnTo>
                      <a:lnTo>
                        <a:pt x="697" y="1915"/>
                      </a:lnTo>
                      <a:lnTo>
                        <a:pt x="702" y="1931"/>
                      </a:lnTo>
                      <a:lnTo>
                        <a:pt x="702" y="1961"/>
                      </a:lnTo>
                      <a:lnTo>
                        <a:pt x="691" y="1993"/>
                      </a:lnTo>
                      <a:lnTo>
                        <a:pt x="676" y="2024"/>
                      </a:lnTo>
                      <a:lnTo>
                        <a:pt x="656" y="2055"/>
                      </a:lnTo>
                      <a:lnTo>
                        <a:pt x="629" y="2081"/>
                      </a:lnTo>
                      <a:lnTo>
                        <a:pt x="609" y="2103"/>
                      </a:lnTo>
                      <a:lnTo>
                        <a:pt x="582" y="2123"/>
                      </a:lnTo>
                      <a:lnTo>
                        <a:pt x="562" y="2128"/>
                      </a:lnTo>
                      <a:lnTo>
                        <a:pt x="551" y="2133"/>
                      </a:lnTo>
                      <a:lnTo>
                        <a:pt x="551" y="2138"/>
                      </a:lnTo>
                      <a:lnTo>
                        <a:pt x="582" y="2149"/>
                      </a:lnTo>
                      <a:lnTo>
                        <a:pt x="598" y="2154"/>
                      </a:lnTo>
                      <a:lnTo>
                        <a:pt x="619" y="2165"/>
                      </a:lnTo>
                      <a:lnTo>
                        <a:pt x="629" y="2175"/>
                      </a:lnTo>
                      <a:lnTo>
                        <a:pt x="634" y="2191"/>
                      </a:lnTo>
                      <a:lnTo>
                        <a:pt x="624" y="2211"/>
                      </a:lnTo>
                      <a:lnTo>
                        <a:pt x="614" y="2233"/>
                      </a:lnTo>
                      <a:lnTo>
                        <a:pt x="593" y="2248"/>
                      </a:lnTo>
                      <a:lnTo>
                        <a:pt x="567" y="2263"/>
                      </a:lnTo>
                      <a:lnTo>
                        <a:pt x="526" y="2285"/>
                      </a:lnTo>
                      <a:lnTo>
                        <a:pt x="504" y="2295"/>
                      </a:lnTo>
                      <a:lnTo>
                        <a:pt x="531" y="2295"/>
                      </a:lnTo>
                      <a:lnTo>
                        <a:pt x="582" y="2305"/>
                      </a:lnTo>
                      <a:lnTo>
                        <a:pt x="603" y="2315"/>
                      </a:lnTo>
                      <a:lnTo>
                        <a:pt x="624" y="2326"/>
                      </a:lnTo>
                      <a:lnTo>
                        <a:pt x="629" y="2336"/>
                      </a:lnTo>
                      <a:lnTo>
                        <a:pt x="629" y="2341"/>
                      </a:lnTo>
                      <a:lnTo>
                        <a:pt x="629" y="2352"/>
                      </a:lnTo>
                      <a:lnTo>
                        <a:pt x="624" y="2363"/>
                      </a:lnTo>
                      <a:lnTo>
                        <a:pt x="603" y="2388"/>
                      </a:lnTo>
                      <a:lnTo>
                        <a:pt x="577" y="2398"/>
                      </a:lnTo>
                      <a:lnTo>
                        <a:pt x="556" y="2410"/>
                      </a:lnTo>
                      <a:lnTo>
                        <a:pt x="531" y="2420"/>
                      </a:lnTo>
                      <a:lnTo>
                        <a:pt x="489" y="2420"/>
                      </a:lnTo>
                      <a:lnTo>
                        <a:pt x="468" y="2420"/>
                      </a:lnTo>
                      <a:lnTo>
                        <a:pt x="484" y="2425"/>
                      </a:lnTo>
                      <a:lnTo>
                        <a:pt x="514" y="2430"/>
                      </a:lnTo>
                      <a:lnTo>
                        <a:pt x="526" y="2440"/>
                      </a:lnTo>
                      <a:lnTo>
                        <a:pt x="536" y="2451"/>
                      </a:lnTo>
                      <a:lnTo>
                        <a:pt x="536" y="2461"/>
                      </a:lnTo>
                      <a:lnTo>
                        <a:pt x="531" y="2477"/>
                      </a:lnTo>
                      <a:lnTo>
                        <a:pt x="509" y="2498"/>
                      </a:lnTo>
                      <a:lnTo>
                        <a:pt x="479" y="2518"/>
                      </a:lnTo>
                      <a:lnTo>
                        <a:pt x="400" y="2565"/>
                      </a:lnTo>
                      <a:lnTo>
                        <a:pt x="297" y="2617"/>
                      </a:lnTo>
                      <a:lnTo>
                        <a:pt x="317" y="2623"/>
                      </a:lnTo>
                      <a:lnTo>
                        <a:pt x="364" y="2633"/>
                      </a:lnTo>
                      <a:lnTo>
                        <a:pt x="379" y="2643"/>
                      </a:lnTo>
                      <a:lnTo>
                        <a:pt x="390" y="2654"/>
                      </a:lnTo>
                      <a:lnTo>
                        <a:pt x="395" y="2659"/>
                      </a:lnTo>
                      <a:lnTo>
                        <a:pt x="395" y="2665"/>
                      </a:lnTo>
                      <a:lnTo>
                        <a:pt x="379" y="2680"/>
                      </a:lnTo>
                      <a:lnTo>
                        <a:pt x="317" y="2711"/>
                      </a:lnTo>
                      <a:lnTo>
                        <a:pt x="250" y="2737"/>
                      </a:lnTo>
                      <a:lnTo>
                        <a:pt x="162" y="2763"/>
                      </a:lnTo>
                      <a:lnTo>
                        <a:pt x="182" y="2779"/>
                      </a:lnTo>
                      <a:lnTo>
                        <a:pt x="213" y="2810"/>
                      </a:lnTo>
                      <a:lnTo>
                        <a:pt x="229" y="2825"/>
                      </a:lnTo>
                      <a:lnTo>
                        <a:pt x="234" y="2847"/>
                      </a:lnTo>
                      <a:lnTo>
                        <a:pt x="234" y="2852"/>
                      </a:lnTo>
                      <a:lnTo>
                        <a:pt x="234" y="2862"/>
                      </a:lnTo>
                      <a:lnTo>
                        <a:pt x="229" y="2867"/>
                      </a:lnTo>
                      <a:lnTo>
                        <a:pt x="219" y="2872"/>
                      </a:lnTo>
                      <a:lnTo>
                        <a:pt x="187" y="2893"/>
                      </a:lnTo>
                      <a:lnTo>
                        <a:pt x="156" y="2919"/>
                      </a:lnTo>
                      <a:lnTo>
                        <a:pt x="83" y="2982"/>
                      </a:lnTo>
                      <a:lnTo>
                        <a:pt x="0" y="3065"/>
                      </a:lnTo>
                      <a:close/>
                    </a:path>
                  </a:pathLst>
                </a:custGeom>
                <a:solidFill>
                  <a:srgbClr val="33cc33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Freeform 1940"/>
                <p:cNvSpPr/>
                <p:nvPr/>
              </p:nvSpPr>
              <p:spPr>
                <a:xfrm rot="15123000">
                  <a:off x="1253160" y="1487520"/>
                  <a:ext cx="284760" cy="160920"/>
                </a:xfrm>
                <a:custGeom>
                  <a:avLst/>
                  <a:gdLst/>
                  <a:ahLst/>
                  <a:rect l="l" t="t" r="r" b="b"/>
                  <a:pathLst>
                    <a:path w="3364" h="1941">
                      <a:moveTo>
                        <a:pt x="0" y="1941"/>
                      </a:moveTo>
                      <a:lnTo>
                        <a:pt x="141" y="1936"/>
                      </a:lnTo>
                      <a:lnTo>
                        <a:pt x="463" y="1916"/>
                      </a:lnTo>
                      <a:lnTo>
                        <a:pt x="655" y="1899"/>
                      </a:lnTo>
                      <a:lnTo>
                        <a:pt x="842" y="1874"/>
                      </a:lnTo>
                      <a:lnTo>
                        <a:pt x="1014" y="1848"/>
                      </a:lnTo>
                      <a:lnTo>
                        <a:pt x="1087" y="1837"/>
                      </a:lnTo>
                      <a:lnTo>
                        <a:pt x="1149" y="1822"/>
                      </a:lnTo>
                      <a:lnTo>
                        <a:pt x="1311" y="1775"/>
                      </a:lnTo>
                      <a:lnTo>
                        <a:pt x="1550" y="1717"/>
                      </a:lnTo>
                      <a:lnTo>
                        <a:pt x="1846" y="1644"/>
                      </a:lnTo>
                      <a:lnTo>
                        <a:pt x="2179" y="1551"/>
                      </a:lnTo>
                      <a:lnTo>
                        <a:pt x="2346" y="1499"/>
                      </a:lnTo>
                      <a:lnTo>
                        <a:pt x="2517" y="1442"/>
                      </a:lnTo>
                      <a:lnTo>
                        <a:pt x="2683" y="1379"/>
                      </a:lnTo>
                      <a:lnTo>
                        <a:pt x="2845" y="1312"/>
                      </a:lnTo>
                      <a:lnTo>
                        <a:pt x="2995" y="1244"/>
                      </a:lnTo>
                      <a:lnTo>
                        <a:pt x="3135" y="1172"/>
                      </a:lnTo>
                      <a:lnTo>
                        <a:pt x="3260" y="1093"/>
                      </a:lnTo>
                      <a:lnTo>
                        <a:pt x="3317" y="1052"/>
                      </a:lnTo>
                      <a:lnTo>
                        <a:pt x="3364" y="1010"/>
                      </a:lnTo>
                      <a:lnTo>
                        <a:pt x="3235" y="432"/>
                      </a:lnTo>
                      <a:lnTo>
                        <a:pt x="3177" y="380"/>
                      </a:lnTo>
                      <a:lnTo>
                        <a:pt x="3053" y="266"/>
                      </a:lnTo>
                      <a:lnTo>
                        <a:pt x="2975" y="198"/>
                      </a:lnTo>
                      <a:lnTo>
                        <a:pt x="2907" y="125"/>
                      </a:lnTo>
                      <a:lnTo>
                        <a:pt x="2845" y="58"/>
                      </a:lnTo>
                      <a:lnTo>
                        <a:pt x="2803" y="0"/>
                      </a:lnTo>
                      <a:lnTo>
                        <a:pt x="2704" y="52"/>
                      </a:lnTo>
                      <a:lnTo>
                        <a:pt x="2444" y="193"/>
                      </a:lnTo>
                      <a:lnTo>
                        <a:pt x="2064" y="401"/>
                      </a:lnTo>
                      <a:lnTo>
                        <a:pt x="1840" y="531"/>
                      </a:lnTo>
                      <a:lnTo>
                        <a:pt x="1612" y="672"/>
                      </a:lnTo>
                      <a:lnTo>
                        <a:pt x="1373" y="817"/>
                      </a:lnTo>
                      <a:lnTo>
                        <a:pt x="1134" y="973"/>
                      </a:lnTo>
                      <a:lnTo>
                        <a:pt x="900" y="1135"/>
                      </a:lnTo>
                      <a:lnTo>
                        <a:pt x="677" y="1296"/>
                      </a:lnTo>
                      <a:lnTo>
                        <a:pt x="468" y="1462"/>
                      </a:lnTo>
                      <a:lnTo>
                        <a:pt x="370" y="1546"/>
                      </a:lnTo>
                      <a:lnTo>
                        <a:pt x="281" y="1629"/>
                      </a:lnTo>
                      <a:lnTo>
                        <a:pt x="198" y="1707"/>
                      </a:lnTo>
                      <a:lnTo>
                        <a:pt x="125" y="1786"/>
                      </a:lnTo>
                      <a:lnTo>
                        <a:pt x="58" y="1864"/>
                      </a:lnTo>
                      <a:lnTo>
                        <a:pt x="0" y="194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43b44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1941"/>
                <p:cNvSpPr/>
                <p:nvPr/>
              </p:nvSpPr>
              <p:spPr>
                <a:xfrm rot="15123000">
                  <a:off x="1158480" y="1425600"/>
                  <a:ext cx="414720" cy="200160"/>
                </a:xfrm>
                <a:custGeom>
                  <a:avLst/>
                  <a:gdLst/>
                  <a:ahLst/>
                  <a:rect l="l" t="t" r="r" b="b"/>
                  <a:pathLst>
                    <a:path w="4888" h="2436">
                      <a:moveTo>
                        <a:pt x="0" y="2436"/>
                      </a:moveTo>
                      <a:lnTo>
                        <a:pt x="358" y="2296"/>
                      </a:lnTo>
                      <a:lnTo>
                        <a:pt x="1169" y="1968"/>
                      </a:lnTo>
                      <a:lnTo>
                        <a:pt x="1628" y="1786"/>
                      </a:lnTo>
                      <a:lnTo>
                        <a:pt x="2044" y="1609"/>
                      </a:lnTo>
                      <a:lnTo>
                        <a:pt x="2381" y="1457"/>
                      </a:lnTo>
                      <a:lnTo>
                        <a:pt x="2501" y="1400"/>
                      </a:lnTo>
                      <a:lnTo>
                        <a:pt x="2584" y="1359"/>
                      </a:lnTo>
                      <a:lnTo>
                        <a:pt x="2828" y="1213"/>
                      </a:lnTo>
                      <a:lnTo>
                        <a:pt x="3057" y="1083"/>
                      </a:lnTo>
                      <a:lnTo>
                        <a:pt x="3250" y="979"/>
                      </a:lnTo>
                      <a:lnTo>
                        <a:pt x="3322" y="942"/>
                      </a:lnTo>
                      <a:lnTo>
                        <a:pt x="3380" y="922"/>
                      </a:lnTo>
                      <a:lnTo>
                        <a:pt x="3469" y="885"/>
                      </a:lnTo>
                      <a:lnTo>
                        <a:pt x="3634" y="812"/>
                      </a:lnTo>
                      <a:lnTo>
                        <a:pt x="3853" y="708"/>
                      </a:lnTo>
                      <a:lnTo>
                        <a:pt x="4103" y="583"/>
                      </a:lnTo>
                      <a:lnTo>
                        <a:pt x="4352" y="458"/>
                      </a:lnTo>
                      <a:lnTo>
                        <a:pt x="4587" y="333"/>
                      </a:lnTo>
                      <a:lnTo>
                        <a:pt x="4685" y="276"/>
                      </a:lnTo>
                      <a:lnTo>
                        <a:pt x="4774" y="219"/>
                      </a:lnTo>
                      <a:lnTo>
                        <a:pt x="4841" y="172"/>
                      </a:lnTo>
                      <a:lnTo>
                        <a:pt x="4888" y="136"/>
                      </a:lnTo>
                      <a:lnTo>
                        <a:pt x="4888" y="115"/>
                      </a:lnTo>
                      <a:lnTo>
                        <a:pt x="4888" y="73"/>
                      </a:lnTo>
                      <a:lnTo>
                        <a:pt x="4882" y="47"/>
                      </a:lnTo>
                      <a:lnTo>
                        <a:pt x="4877" y="26"/>
                      </a:lnTo>
                      <a:lnTo>
                        <a:pt x="4867" y="11"/>
                      </a:lnTo>
                      <a:lnTo>
                        <a:pt x="4846" y="0"/>
                      </a:lnTo>
                      <a:lnTo>
                        <a:pt x="4836" y="0"/>
                      </a:lnTo>
                      <a:lnTo>
                        <a:pt x="4826" y="6"/>
                      </a:lnTo>
                      <a:lnTo>
                        <a:pt x="4799" y="26"/>
                      </a:lnTo>
                      <a:lnTo>
                        <a:pt x="4727" y="109"/>
                      </a:lnTo>
                      <a:lnTo>
                        <a:pt x="4680" y="161"/>
                      </a:lnTo>
                      <a:lnTo>
                        <a:pt x="4628" y="219"/>
                      </a:lnTo>
                      <a:lnTo>
                        <a:pt x="4560" y="271"/>
                      </a:lnTo>
                      <a:lnTo>
                        <a:pt x="4524" y="297"/>
                      </a:lnTo>
                      <a:lnTo>
                        <a:pt x="4482" y="318"/>
                      </a:lnTo>
                      <a:lnTo>
                        <a:pt x="4233" y="443"/>
                      </a:lnTo>
                      <a:lnTo>
                        <a:pt x="3900" y="604"/>
                      </a:lnTo>
                      <a:lnTo>
                        <a:pt x="3593" y="745"/>
                      </a:lnTo>
                      <a:lnTo>
                        <a:pt x="3484" y="792"/>
                      </a:lnTo>
                      <a:lnTo>
                        <a:pt x="3422" y="817"/>
                      </a:lnTo>
                      <a:lnTo>
                        <a:pt x="3380" y="833"/>
                      </a:lnTo>
                      <a:lnTo>
                        <a:pt x="3317" y="864"/>
                      </a:lnTo>
                      <a:lnTo>
                        <a:pt x="3172" y="947"/>
                      </a:lnTo>
                      <a:lnTo>
                        <a:pt x="3010" y="1047"/>
                      </a:lnTo>
                      <a:lnTo>
                        <a:pt x="2875" y="1135"/>
                      </a:lnTo>
                      <a:lnTo>
                        <a:pt x="2730" y="1224"/>
                      </a:lnTo>
                      <a:lnTo>
                        <a:pt x="2533" y="1327"/>
                      </a:lnTo>
                      <a:lnTo>
                        <a:pt x="2329" y="1437"/>
                      </a:lnTo>
                      <a:lnTo>
                        <a:pt x="2152" y="1520"/>
                      </a:lnTo>
                      <a:lnTo>
                        <a:pt x="1726" y="1702"/>
                      </a:lnTo>
                      <a:lnTo>
                        <a:pt x="999" y="2014"/>
                      </a:lnTo>
                      <a:lnTo>
                        <a:pt x="0" y="243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Freeform 1942"/>
                <p:cNvSpPr/>
                <p:nvPr/>
              </p:nvSpPr>
              <p:spPr>
                <a:xfrm rot="15123000">
                  <a:off x="1347120" y="1598760"/>
                  <a:ext cx="134640" cy="20160"/>
                </a:xfrm>
                <a:custGeom>
                  <a:avLst/>
                  <a:gdLst/>
                  <a:ahLst/>
                  <a:rect l="l" t="t" r="r" b="b"/>
                  <a:pathLst>
                    <a:path w="1597" h="240">
                      <a:moveTo>
                        <a:pt x="0" y="5"/>
                      </a:moveTo>
                      <a:lnTo>
                        <a:pt x="198" y="17"/>
                      </a:lnTo>
                      <a:lnTo>
                        <a:pt x="411" y="27"/>
                      </a:lnTo>
                      <a:lnTo>
                        <a:pt x="656" y="47"/>
                      </a:lnTo>
                      <a:lnTo>
                        <a:pt x="921" y="79"/>
                      </a:lnTo>
                      <a:lnTo>
                        <a:pt x="1051" y="95"/>
                      </a:lnTo>
                      <a:lnTo>
                        <a:pt x="1176" y="115"/>
                      </a:lnTo>
                      <a:lnTo>
                        <a:pt x="1285" y="142"/>
                      </a:lnTo>
                      <a:lnTo>
                        <a:pt x="1389" y="172"/>
                      </a:lnTo>
                      <a:lnTo>
                        <a:pt x="1472" y="204"/>
                      </a:lnTo>
                      <a:lnTo>
                        <a:pt x="1509" y="219"/>
                      </a:lnTo>
                      <a:lnTo>
                        <a:pt x="1540" y="240"/>
                      </a:lnTo>
                      <a:lnTo>
                        <a:pt x="1597" y="225"/>
                      </a:lnTo>
                      <a:lnTo>
                        <a:pt x="1571" y="214"/>
                      </a:lnTo>
                      <a:lnTo>
                        <a:pt x="1487" y="183"/>
                      </a:lnTo>
                      <a:lnTo>
                        <a:pt x="1358" y="142"/>
                      </a:lnTo>
                      <a:lnTo>
                        <a:pt x="1176" y="100"/>
                      </a:lnTo>
                      <a:lnTo>
                        <a:pt x="1067" y="73"/>
                      </a:lnTo>
                      <a:lnTo>
                        <a:pt x="947" y="53"/>
                      </a:lnTo>
                      <a:lnTo>
                        <a:pt x="811" y="37"/>
                      </a:lnTo>
                      <a:lnTo>
                        <a:pt x="671" y="22"/>
                      </a:lnTo>
                      <a:lnTo>
                        <a:pt x="521" y="11"/>
                      </a:lnTo>
                      <a:lnTo>
                        <a:pt x="354" y="0"/>
                      </a:lnTo>
                      <a:lnTo>
                        <a:pt x="182" y="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Freeform 1943"/>
                <p:cNvSpPr/>
                <p:nvPr/>
              </p:nvSpPr>
              <p:spPr>
                <a:xfrm rot="15123000">
                  <a:off x="1257120" y="1549440"/>
                  <a:ext cx="174240" cy="73800"/>
                </a:xfrm>
                <a:custGeom>
                  <a:avLst/>
                  <a:gdLst/>
                  <a:ahLst/>
                  <a:rect l="l" t="t" r="r" b="b"/>
                  <a:pathLst>
                    <a:path w="2059" h="906">
                      <a:moveTo>
                        <a:pt x="0" y="427"/>
                      </a:moveTo>
                      <a:lnTo>
                        <a:pt x="141" y="448"/>
                      </a:lnTo>
                      <a:lnTo>
                        <a:pt x="463" y="505"/>
                      </a:lnTo>
                      <a:lnTo>
                        <a:pt x="640" y="542"/>
                      </a:lnTo>
                      <a:lnTo>
                        <a:pt x="806" y="578"/>
                      </a:lnTo>
                      <a:lnTo>
                        <a:pt x="879" y="599"/>
                      </a:lnTo>
                      <a:lnTo>
                        <a:pt x="941" y="619"/>
                      </a:lnTo>
                      <a:lnTo>
                        <a:pt x="989" y="641"/>
                      </a:lnTo>
                      <a:lnTo>
                        <a:pt x="1024" y="661"/>
                      </a:lnTo>
                      <a:lnTo>
                        <a:pt x="1061" y="677"/>
                      </a:lnTo>
                      <a:lnTo>
                        <a:pt x="1108" y="698"/>
                      </a:lnTo>
                      <a:lnTo>
                        <a:pt x="1171" y="719"/>
                      </a:lnTo>
                      <a:lnTo>
                        <a:pt x="1238" y="744"/>
                      </a:lnTo>
                      <a:lnTo>
                        <a:pt x="1404" y="781"/>
                      </a:lnTo>
                      <a:lnTo>
                        <a:pt x="1581" y="823"/>
                      </a:lnTo>
                      <a:lnTo>
                        <a:pt x="1893" y="879"/>
                      </a:lnTo>
                      <a:lnTo>
                        <a:pt x="2034" y="906"/>
                      </a:lnTo>
                      <a:lnTo>
                        <a:pt x="2059" y="854"/>
                      </a:lnTo>
                      <a:lnTo>
                        <a:pt x="1924" y="833"/>
                      </a:lnTo>
                      <a:lnTo>
                        <a:pt x="1623" y="781"/>
                      </a:lnTo>
                      <a:lnTo>
                        <a:pt x="1456" y="749"/>
                      </a:lnTo>
                      <a:lnTo>
                        <a:pt x="1295" y="714"/>
                      </a:lnTo>
                      <a:lnTo>
                        <a:pt x="1165" y="682"/>
                      </a:lnTo>
                      <a:lnTo>
                        <a:pt x="1118" y="666"/>
                      </a:lnTo>
                      <a:lnTo>
                        <a:pt x="1087" y="651"/>
                      </a:lnTo>
                      <a:lnTo>
                        <a:pt x="1056" y="630"/>
                      </a:lnTo>
                      <a:lnTo>
                        <a:pt x="1019" y="604"/>
                      </a:lnTo>
                      <a:lnTo>
                        <a:pt x="936" y="531"/>
                      </a:lnTo>
                      <a:lnTo>
                        <a:pt x="723" y="329"/>
                      </a:lnTo>
                      <a:lnTo>
                        <a:pt x="609" y="219"/>
                      </a:lnTo>
                      <a:lnTo>
                        <a:pt x="495" y="125"/>
                      </a:lnTo>
                      <a:lnTo>
                        <a:pt x="442" y="84"/>
                      </a:lnTo>
                      <a:lnTo>
                        <a:pt x="390" y="47"/>
                      </a:lnTo>
                      <a:lnTo>
                        <a:pt x="343" y="21"/>
                      </a:lnTo>
                      <a:lnTo>
                        <a:pt x="302" y="0"/>
                      </a:lnTo>
                      <a:lnTo>
                        <a:pt x="562" y="234"/>
                      </a:lnTo>
                      <a:lnTo>
                        <a:pt x="759" y="417"/>
                      </a:lnTo>
                      <a:lnTo>
                        <a:pt x="837" y="494"/>
                      </a:lnTo>
                      <a:lnTo>
                        <a:pt x="889" y="552"/>
                      </a:lnTo>
                      <a:lnTo>
                        <a:pt x="775" y="531"/>
                      </a:lnTo>
                      <a:lnTo>
                        <a:pt x="515" y="479"/>
                      </a:lnTo>
                      <a:lnTo>
                        <a:pt x="365" y="459"/>
                      </a:lnTo>
                      <a:lnTo>
                        <a:pt x="218" y="437"/>
                      </a:lnTo>
                      <a:lnTo>
                        <a:pt x="94" y="427"/>
                      </a:lnTo>
                      <a:lnTo>
                        <a:pt x="41" y="427"/>
                      </a:lnTo>
                      <a:lnTo>
                        <a:pt x="0" y="42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Freeform 1944"/>
                <p:cNvSpPr/>
                <p:nvPr/>
              </p:nvSpPr>
              <p:spPr>
                <a:xfrm rot="15123000">
                  <a:off x="1204920" y="1518120"/>
                  <a:ext cx="192240" cy="97560"/>
                </a:xfrm>
                <a:custGeom>
                  <a:avLst/>
                  <a:gdLst/>
                  <a:ahLst/>
                  <a:rect l="l" t="t" r="r" b="b"/>
                  <a:pathLst>
                    <a:path w="2267" h="1181">
                      <a:moveTo>
                        <a:pt x="0" y="286"/>
                      </a:moveTo>
                      <a:lnTo>
                        <a:pt x="156" y="339"/>
                      </a:lnTo>
                      <a:lnTo>
                        <a:pt x="514" y="469"/>
                      </a:lnTo>
                      <a:lnTo>
                        <a:pt x="712" y="546"/>
                      </a:lnTo>
                      <a:lnTo>
                        <a:pt x="900" y="624"/>
                      </a:lnTo>
                      <a:lnTo>
                        <a:pt x="1050" y="692"/>
                      </a:lnTo>
                      <a:lnTo>
                        <a:pt x="1107" y="724"/>
                      </a:lnTo>
                      <a:lnTo>
                        <a:pt x="1149" y="749"/>
                      </a:lnTo>
                      <a:lnTo>
                        <a:pt x="1107" y="776"/>
                      </a:lnTo>
                      <a:lnTo>
                        <a:pt x="1008" y="822"/>
                      </a:lnTo>
                      <a:lnTo>
                        <a:pt x="940" y="848"/>
                      </a:lnTo>
                      <a:lnTo>
                        <a:pt x="868" y="874"/>
                      </a:lnTo>
                      <a:lnTo>
                        <a:pt x="785" y="896"/>
                      </a:lnTo>
                      <a:lnTo>
                        <a:pt x="701" y="906"/>
                      </a:lnTo>
                      <a:lnTo>
                        <a:pt x="743" y="906"/>
                      </a:lnTo>
                      <a:lnTo>
                        <a:pt x="790" y="901"/>
                      </a:lnTo>
                      <a:lnTo>
                        <a:pt x="853" y="896"/>
                      </a:lnTo>
                      <a:lnTo>
                        <a:pt x="925" y="884"/>
                      </a:lnTo>
                      <a:lnTo>
                        <a:pt x="1008" y="864"/>
                      </a:lnTo>
                      <a:lnTo>
                        <a:pt x="1092" y="833"/>
                      </a:lnTo>
                      <a:lnTo>
                        <a:pt x="1170" y="796"/>
                      </a:lnTo>
                      <a:lnTo>
                        <a:pt x="1305" y="859"/>
                      </a:lnTo>
                      <a:lnTo>
                        <a:pt x="1617" y="989"/>
                      </a:lnTo>
                      <a:lnTo>
                        <a:pt x="1794" y="1061"/>
                      </a:lnTo>
                      <a:lnTo>
                        <a:pt x="1965" y="1124"/>
                      </a:lnTo>
                      <a:lnTo>
                        <a:pt x="2043" y="1145"/>
                      </a:lnTo>
                      <a:lnTo>
                        <a:pt x="2111" y="1166"/>
                      </a:lnTo>
                      <a:lnTo>
                        <a:pt x="2168" y="1176"/>
                      </a:lnTo>
                      <a:lnTo>
                        <a:pt x="2210" y="1181"/>
                      </a:lnTo>
                      <a:lnTo>
                        <a:pt x="2267" y="1161"/>
                      </a:lnTo>
                      <a:lnTo>
                        <a:pt x="2230" y="1156"/>
                      </a:lnTo>
                      <a:lnTo>
                        <a:pt x="2142" y="1124"/>
                      </a:lnTo>
                      <a:lnTo>
                        <a:pt x="2095" y="1109"/>
                      </a:lnTo>
                      <a:lnTo>
                        <a:pt x="2048" y="1088"/>
                      </a:lnTo>
                      <a:lnTo>
                        <a:pt x="2007" y="1061"/>
                      </a:lnTo>
                      <a:lnTo>
                        <a:pt x="1981" y="1041"/>
                      </a:lnTo>
                      <a:lnTo>
                        <a:pt x="1856" y="869"/>
                      </a:lnTo>
                      <a:lnTo>
                        <a:pt x="1746" y="724"/>
                      </a:lnTo>
                      <a:lnTo>
                        <a:pt x="1617" y="552"/>
                      </a:lnTo>
                      <a:lnTo>
                        <a:pt x="1471" y="380"/>
                      </a:lnTo>
                      <a:lnTo>
                        <a:pt x="1399" y="297"/>
                      </a:lnTo>
                      <a:lnTo>
                        <a:pt x="1326" y="219"/>
                      </a:lnTo>
                      <a:lnTo>
                        <a:pt x="1252" y="151"/>
                      </a:lnTo>
                      <a:lnTo>
                        <a:pt x="1180" y="89"/>
                      </a:lnTo>
                      <a:lnTo>
                        <a:pt x="1112" y="37"/>
                      </a:lnTo>
                      <a:lnTo>
                        <a:pt x="1050" y="0"/>
                      </a:lnTo>
                      <a:lnTo>
                        <a:pt x="1149" y="94"/>
                      </a:lnTo>
                      <a:lnTo>
                        <a:pt x="1247" y="192"/>
                      </a:lnTo>
                      <a:lnTo>
                        <a:pt x="1377" y="327"/>
                      </a:lnTo>
                      <a:lnTo>
                        <a:pt x="1513" y="484"/>
                      </a:lnTo>
                      <a:lnTo>
                        <a:pt x="1653" y="651"/>
                      </a:lnTo>
                      <a:lnTo>
                        <a:pt x="1716" y="739"/>
                      </a:lnTo>
                      <a:lnTo>
                        <a:pt x="1778" y="833"/>
                      </a:lnTo>
                      <a:lnTo>
                        <a:pt x="1835" y="921"/>
                      </a:lnTo>
                      <a:lnTo>
                        <a:pt x="1888" y="1015"/>
                      </a:lnTo>
                      <a:lnTo>
                        <a:pt x="1846" y="1009"/>
                      </a:lnTo>
                      <a:lnTo>
                        <a:pt x="1794" y="994"/>
                      </a:lnTo>
                      <a:lnTo>
                        <a:pt x="1706" y="963"/>
                      </a:lnTo>
                      <a:lnTo>
                        <a:pt x="1591" y="916"/>
                      </a:lnTo>
                      <a:lnTo>
                        <a:pt x="1435" y="848"/>
                      </a:lnTo>
                      <a:lnTo>
                        <a:pt x="1242" y="749"/>
                      </a:lnTo>
                      <a:lnTo>
                        <a:pt x="1003" y="614"/>
                      </a:lnTo>
                      <a:lnTo>
                        <a:pt x="951" y="541"/>
                      </a:lnTo>
                      <a:lnTo>
                        <a:pt x="894" y="458"/>
                      </a:lnTo>
                      <a:lnTo>
                        <a:pt x="816" y="369"/>
                      </a:lnTo>
                      <a:lnTo>
                        <a:pt x="770" y="322"/>
                      </a:lnTo>
                      <a:lnTo>
                        <a:pt x="723" y="276"/>
                      </a:lnTo>
                      <a:lnTo>
                        <a:pt x="670" y="229"/>
                      </a:lnTo>
                      <a:lnTo>
                        <a:pt x="613" y="187"/>
                      </a:lnTo>
                      <a:lnTo>
                        <a:pt x="556" y="151"/>
                      </a:lnTo>
                      <a:lnTo>
                        <a:pt x="494" y="120"/>
                      </a:lnTo>
                      <a:lnTo>
                        <a:pt x="431" y="94"/>
                      </a:lnTo>
                      <a:lnTo>
                        <a:pt x="369" y="78"/>
                      </a:lnTo>
                      <a:lnTo>
                        <a:pt x="436" y="114"/>
                      </a:lnTo>
                      <a:lnTo>
                        <a:pt x="509" y="162"/>
                      </a:lnTo>
                      <a:lnTo>
                        <a:pt x="593" y="219"/>
                      </a:lnTo>
                      <a:lnTo>
                        <a:pt x="681" y="292"/>
                      </a:lnTo>
                      <a:lnTo>
                        <a:pt x="775" y="374"/>
                      </a:lnTo>
                      <a:lnTo>
                        <a:pt x="816" y="422"/>
                      </a:lnTo>
                      <a:lnTo>
                        <a:pt x="853" y="469"/>
                      </a:lnTo>
                      <a:lnTo>
                        <a:pt x="889" y="515"/>
                      </a:lnTo>
                      <a:lnTo>
                        <a:pt x="915" y="567"/>
                      </a:lnTo>
                      <a:lnTo>
                        <a:pt x="800" y="526"/>
                      </a:lnTo>
                      <a:lnTo>
                        <a:pt x="525" y="432"/>
                      </a:lnTo>
                      <a:lnTo>
                        <a:pt x="369" y="380"/>
                      </a:lnTo>
                      <a:lnTo>
                        <a:pt x="224" y="339"/>
                      </a:lnTo>
                      <a:lnTo>
                        <a:pt x="94" y="302"/>
                      </a:lnTo>
                      <a:lnTo>
                        <a:pt x="0" y="28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Freeform 1945"/>
                <p:cNvSpPr/>
                <p:nvPr/>
              </p:nvSpPr>
              <p:spPr>
                <a:xfrm rot="15123000">
                  <a:off x="1414440" y="1627200"/>
                  <a:ext cx="79920" cy="12960"/>
                </a:xfrm>
                <a:custGeom>
                  <a:avLst/>
                  <a:gdLst/>
                  <a:ahLst/>
                  <a:rect l="l" t="t" r="r" b="b"/>
                  <a:pathLst>
                    <a:path w="946" h="155">
                      <a:moveTo>
                        <a:pt x="0" y="30"/>
                      </a:moveTo>
                      <a:lnTo>
                        <a:pt x="103" y="30"/>
                      </a:lnTo>
                      <a:lnTo>
                        <a:pt x="213" y="30"/>
                      </a:lnTo>
                      <a:lnTo>
                        <a:pt x="343" y="42"/>
                      </a:lnTo>
                      <a:lnTo>
                        <a:pt x="488" y="52"/>
                      </a:lnTo>
                      <a:lnTo>
                        <a:pt x="634" y="78"/>
                      </a:lnTo>
                      <a:lnTo>
                        <a:pt x="702" y="93"/>
                      </a:lnTo>
                      <a:lnTo>
                        <a:pt x="764" y="109"/>
                      </a:lnTo>
                      <a:lnTo>
                        <a:pt x="826" y="130"/>
                      </a:lnTo>
                      <a:lnTo>
                        <a:pt x="879" y="155"/>
                      </a:lnTo>
                      <a:lnTo>
                        <a:pt x="946" y="135"/>
                      </a:lnTo>
                      <a:lnTo>
                        <a:pt x="857" y="104"/>
                      </a:lnTo>
                      <a:lnTo>
                        <a:pt x="764" y="72"/>
                      </a:lnTo>
                      <a:lnTo>
                        <a:pt x="634" y="42"/>
                      </a:lnTo>
                      <a:lnTo>
                        <a:pt x="488" y="15"/>
                      </a:lnTo>
                      <a:lnTo>
                        <a:pt x="410" y="5"/>
                      </a:lnTo>
                      <a:lnTo>
                        <a:pt x="332" y="0"/>
                      </a:lnTo>
                      <a:lnTo>
                        <a:pt x="250" y="0"/>
                      </a:lnTo>
                      <a:lnTo>
                        <a:pt x="166" y="5"/>
                      </a:lnTo>
                      <a:lnTo>
                        <a:pt x="83" y="15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Freeform 1946"/>
                <p:cNvSpPr/>
                <p:nvPr/>
              </p:nvSpPr>
              <p:spPr>
                <a:xfrm rot="15123000">
                  <a:off x="1469160" y="1658160"/>
                  <a:ext cx="41760" cy="5040"/>
                </a:xfrm>
                <a:custGeom>
                  <a:avLst/>
                  <a:gdLst/>
                  <a:ahLst/>
                  <a:rect l="l" t="t" r="r" b="b"/>
                  <a:pathLst>
                    <a:path w="499" h="53">
                      <a:moveTo>
                        <a:pt x="0" y="47"/>
                      </a:moveTo>
                      <a:lnTo>
                        <a:pt x="53" y="36"/>
                      </a:lnTo>
                      <a:lnTo>
                        <a:pt x="110" y="31"/>
                      </a:lnTo>
                      <a:lnTo>
                        <a:pt x="172" y="21"/>
                      </a:lnTo>
                      <a:lnTo>
                        <a:pt x="245" y="16"/>
                      </a:lnTo>
                      <a:lnTo>
                        <a:pt x="323" y="21"/>
                      </a:lnTo>
                      <a:lnTo>
                        <a:pt x="385" y="31"/>
                      </a:lnTo>
                      <a:lnTo>
                        <a:pt x="417" y="42"/>
                      </a:lnTo>
                      <a:lnTo>
                        <a:pt x="442" y="53"/>
                      </a:lnTo>
                      <a:lnTo>
                        <a:pt x="499" y="36"/>
                      </a:lnTo>
                      <a:lnTo>
                        <a:pt x="474" y="21"/>
                      </a:lnTo>
                      <a:lnTo>
                        <a:pt x="432" y="11"/>
                      </a:lnTo>
                      <a:lnTo>
                        <a:pt x="380" y="5"/>
                      </a:lnTo>
                      <a:lnTo>
                        <a:pt x="312" y="0"/>
                      </a:lnTo>
                      <a:lnTo>
                        <a:pt x="224" y="5"/>
                      </a:lnTo>
                      <a:lnTo>
                        <a:pt x="120" y="2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1947"/>
                <p:cNvSpPr/>
                <p:nvPr/>
              </p:nvSpPr>
              <p:spPr>
                <a:xfrm rot="15123000">
                  <a:off x="1483920" y="1625400"/>
                  <a:ext cx="30600" cy="34920"/>
                </a:xfrm>
                <a:custGeom>
                  <a:avLst/>
                  <a:gdLst/>
                  <a:ahLst/>
                  <a:rect l="l" t="t" r="r" b="b"/>
                  <a:pathLst>
                    <a:path w="359" h="411">
                      <a:moveTo>
                        <a:pt x="0" y="411"/>
                      </a:moveTo>
                      <a:lnTo>
                        <a:pt x="57" y="370"/>
                      </a:lnTo>
                      <a:lnTo>
                        <a:pt x="119" y="323"/>
                      </a:lnTo>
                      <a:lnTo>
                        <a:pt x="187" y="271"/>
                      </a:lnTo>
                      <a:lnTo>
                        <a:pt x="254" y="203"/>
                      </a:lnTo>
                      <a:lnTo>
                        <a:pt x="286" y="172"/>
                      </a:lnTo>
                      <a:lnTo>
                        <a:pt x="312" y="135"/>
                      </a:lnTo>
                      <a:lnTo>
                        <a:pt x="332" y="99"/>
                      </a:lnTo>
                      <a:lnTo>
                        <a:pt x="348" y="63"/>
                      </a:lnTo>
                      <a:lnTo>
                        <a:pt x="359" y="31"/>
                      </a:lnTo>
                      <a:lnTo>
                        <a:pt x="359" y="0"/>
                      </a:lnTo>
                      <a:lnTo>
                        <a:pt x="296" y="26"/>
                      </a:lnTo>
                      <a:lnTo>
                        <a:pt x="296" y="31"/>
                      </a:lnTo>
                      <a:lnTo>
                        <a:pt x="301" y="42"/>
                      </a:lnTo>
                      <a:lnTo>
                        <a:pt x="301" y="63"/>
                      </a:lnTo>
                      <a:lnTo>
                        <a:pt x="291" y="99"/>
                      </a:lnTo>
                      <a:lnTo>
                        <a:pt x="264" y="146"/>
                      </a:lnTo>
                      <a:lnTo>
                        <a:pt x="207" y="213"/>
                      </a:lnTo>
                      <a:lnTo>
                        <a:pt x="124" y="302"/>
                      </a:lnTo>
                      <a:lnTo>
                        <a:pt x="0" y="41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Freeform 1948"/>
                <p:cNvSpPr/>
                <p:nvPr/>
              </p:nvSpPr>
              <p:spPr>
                <a:xfrm rot="15123000">
                  <a:off x="1458000" y="1578240"/>
                  <a:ext cx="53280" cy="64080"/>
                </a:xfrm>
                <a:custGeom>
                  <a:avLst/>
                  <a:gdLst/>
                  <a:ahLst/>
                  <a:rect l="l" t="t" r="r" b="b"/>
                  <a:pathLst>
                    <a:path w="629" h="776">
                      <a:moveTo>
                        <a:pt x="0" y="776"/>
                      </a:moveTo>
                      <a:lnTo>
                        <a:pt x="93" y="697"/>
                      </a:lnTo>
                      <a:lnTo>
                        <a:pt x="192" y="609"/>
                      </a:lnTo>
                      <a:lnTo>
                        <a:pt x="302" y="500"/>
                      </a:lnTo>
                      <a:lnTo>
                        <a:pt x="353" y="442"/>
                      </a:lnTo>
                      <a:lnTo>
                        <a:pt x="405" y="380"/>
                      </a:lnTo>
                      <a:lnTo>
                        <a:pt x="452" y="317"/>
                      </a:lnTo>
                      <a:lnTo>
                        <a:pt x="494" y="255"/>
                      </a:lnTo>
                      <a:lnTo>
                        <a:pt x="530" y="192"/>
                      </a:lnTo>
                      <a:lnTo>
                        <a:pt x="551" y="130"/>
                      </a:lnTo>
                      <a:lnTo>
                        <a:pt x="567" y="73"/>
                      </a:lnTo>
                      <a:lnTo>
                        <a:pt x="567" y="47"/>
                      </a:lnTo>
                      <a:lnTo>
                        <a:pt x="562" y="20"/>
                      </a:lnTo>
                      <a:lnTo>
                        <a:pt x="629" y="0"/>
                      </a:lnTo>
                      <a:lnTo>
                        <a:pt x="624" y="20"/>
                      </a:lnTo>
                      <a:lnTo>
                        <a:pt x="603" y="83"/>
                      </a:lnTo>
                      <a:lnTo>
                        <a:pt x="567" y="172"/>
                      </a:lnTo>
                      <a:lnTo>
                        <a:pt x="540" y="229"/>
                      </a:lnTo>
                      <a:lnTo>
                        <a:pt x="509" y="287"/>
                      </a:lnTo>
                      <a:lnTo>
                        <a:pt x="473" y="344"/>
                      </a:lnTo>
                      <a:lnTo>
                        <a:pt x="427" y="411"/>
                      </a:lnTo>
                      <a:lnTo>
                        <a:pt x="374" y="474"/>
                      </a:lnTo>
                      <a:lnTo>
                        <a:pt x="317" y="536"/>
                      </a:lnTo>
                      <a:lnTo>
                        <a:pt x="250" y="604"/>
                      </a:lnTo>
                      <a:lnTo>
                        <a:pt x="177" y="666"/>
                      </a:lnTo>
                      <a:lnTo>
                        <a:pt x="93" y="724"/>
                      </a:lnTo>
                      <a:lnTo>
                        <a:pt x="0" y="776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Freeform 1949"/>
                <p:cNvSpPr/>
                <p:nvPr/>
              </p:nvSpPr>
              <p:spPr>
                <a:xfrm rot="15123000">
                  <a:off x="1420920" y="1504800"/>
                  <a:ext cx="85320" cy="112680"/>
                </a:xfrm>
                <a:custGeom>
                  <a:avLst/>
                  <a:gdLst/>
                  <a:ahLst/>
                  <a:rect l="l" t="t" r="r" b="b"/>
                  <a:pathLst>
                    <a:path w="1003" h="1358">
                      <a:moveTo>
                        <a:pt x="0" y="1358"/>
                      </a:moveTo>
                      <a:lnTo>
                        <a:pt x="145" y="1187"/>
                      </a:lnTo>
                      <a:lnTo>
                        <a:pt x="296" y="1010"/>
                      </a:lnTo>
                      <a:lnTo>
                        <a:pt x="472" y="791"/>
                      </a:lnTo>
                      <a:lnTo>
                        <a:pt x="649" y="562"/>
                      </a:lnTo>
                      <a:lnTo>
                        <a:pt x="728" y="448"/>
                      </a:lnTo>
                      <a:lnTo>
                        <a:pt x="801" y="339"/>
                      </a:lnTo>
                      <a:lnTo>
                        <a:pt x="863" y="234"/>
                      </a:lnTo>
                      <a:lnTo>
                        <a:pt x="915" y="146"/>
                      </a:lnTo>
                      <a:lnTo>
                        <a:pt x="946" y="62"/>
                      </a:lnTo>
                      <a:lnTo>
                        <a:pt x="956" y="31"/>
                      </a:lnTo>
                      <a:lnTo>
                        <a:pt x="961" y="0"/>
                      </a:lnTo>
                      <a:lnTo>
                        <a:pt x="1003" y="10"/>
                      </a:lnTo>
                      <a:lnTo>
                        <a:pt x="998" y="26"/>
                      </a:lnTo>
                      <a:lnTo>
                        <a:pt x="978" y="84"/>
                      </a:lnTo>
                      <a:lnTo>
                        <a:pt x="936" y="182"/>
                      </a:lnTo>
                      <a:lnTo>
                        <a:pt x="899" y="249"/>
                      </a:lnTo>
                      <a:lnTo>
                        <a:pt x="858" y="328"/>
                      </a:lnTo>
                      <a:lnTo>
                        <a:pt x="801" y="411"/>
                      </a:lnTo>
                      <a:lnTo>
                        <a:pt x="733" y="511"/>
                      </a:lnTo>
                      <a:lnTo>
                        <a:pt x="649" y="624"/>
                      </a:lnTo>
                      <a:lnTo>
                        <a:pt x="556" y="744"/>
                      </a:lnTo>
                      <a:lnTo>
                        <a:pt x="442" y="880"/>
                      </a:lnTo>
                      <a:lnTo>
                        <a:pt x="312" y="1025"/>
                      </a:lnTo>
                      <a:lnTo>
                        <a:pt x="166" y="1187"/>
                      </a:lnTo>
                      <a:lnTo>
                        <a:pt x="0" y="1358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1950"/>
                <p:cNvSpPr/>
                <p:nvPr/>
              </p:nvSpPr>
              <p:spPr>
                <a:xfrm rot="15123000">
                  <a:off x="1396080" y="1426680"/>
                  <a:ext cx="92160" cy="164160"/>
                </a:xfrm>
                <a:custGeom>
                  <a:avLst/>
                  <a:gdLst/>
                  <a:ahLst/>
                  <a:rect l="l" t="t" r="r" b="b"/>
                  <a:pathLst>
                    <a:path w="1081" h="1995">
                      <a:moveTo>
                        <a:pt x="0" y="1995"/>
                      </a:moveTo>
                      <a:lnTo>
                        <a:pt x="167" y="1745"/>
                      </a:lnTo>
                      <a:lnTo>
                        <a:pt x="332" y="1485"/>
                      </a:lnTo>
                      <a:lnTo>
                        <a:pt x="531" y="1166"/>
                      </a:lnTo>
                      <a:lnTo>
                        <a:pt x="624" y="1001"/>
                      </a:lnTo>
                      <a:lnTo>
                        <a:pt x="723" y="834"/>
                      </a:lnTo>
                      <a:lnTo>
                        <a:pt x="806" y="667"/>
                      </a:lnTo>
                      <a:lnTo>
                        <a:pt x="884" y="511"/>
                      </a:lnTo>
                      <a:lnTo>
                        <a:pt x="946" y="365"/>
                      </a:lnTo>
                      <a:lnTo>
                        <a:pt x="998" y="230"/>
                      </a:lnTo>
                      <a:lnTo>
                        <a:pt x="1013" y="172"/>
                      </a:lnTo>
                      <a:lnTo>
                        <a:pt x="1025" y="115"/>
                      </a:lnTo>
                      <a:lnTo>
                        <a:pt x="1030" y="69"/>
                      </a:lnTo>
                      <a:lnTo>
                        <a:pt x="1030" y="27"/>
                      </a:lnTo>
                      <a:lnTo>
                        <a:pt x="1081" y="0"/>
                      </a:lnTo>
                      <a:lnTo>
                        <a:pt x="1081" y="22"/>
                      </a:lnTo>
                      <a:lnTo>
                        <a:pt x="1066" y="100"/>
                      </a:lnTo>
                      <a:lnTo>
                        <a:pt x="1050" y="157"/>
                      </a:lnTo>
                      <a:lnTo>
                        <a:pt x="1030" y="235"/>
                      </a:lnTo>
                      <a:lnTo>
                        <a:pt x="998" y="324"/>
                      </a:lnTo>
                      <a:lnTo>
                        <a:pt x="951" y="433"/>
                      </a:lnTo>
                      <a:lnTo>
                        <a:pt x="894" y="558"/>
                      </a:lnTo>
                      <a:lnTo>
                        <a:pt x="821" y="704"/>
                      </a:lnTo>
                      <a:lnTo>
                        <a:pt x="733" y="864"/>
                      </a:lnTo>
                      <a:lnTo>
                        <a:pt x="629" y="1047"/>
                      </a:lnTo>
                      <a:lnTo>
                        <a:pt x="504" y="1250"/>
                      </a:lnTo>
                      <a:lnTo>
                        <a:pt x="359" y="1474"/>
                      </a:lnTo>
                      <a:lnTo>
                        <a:pt x="192" y="1723"/>
                      </a:lnTo>
                      <a:lnTo>
                        <a:pt x="0" y="199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1951"/>
                <p:cNvSpPr/>
                <p:nvPr/>
              </p:nvSpPr>
              <p:spPr>
                <a:xfrm rot="15123000">
                  <a:off x="1488600" y="1461240"/>
                  <a:ext cx="10080" cy="65520"/>
                </a:xfrm>
                <a:custGeom>
                  <a:avLst/>
                  <a:gdLst/>
                  <a:ahLst/>
                  <a:rect l="l" t="t" r="r" b="b"/>
                  <a:pathLst>
                    <a:path w="125" h="797">
                      <a:moveTo>
                        <a:pt x="0" y="797"/>
                      </a:moveTo>
                      <a:lnTo>
                        <a:pt x="31" y="708"/>
                      </a:lnTo>
                      <a:lnTo>
                        <a:pt x="57" y="608"/>
                      </a:lnTo>
                      <a:lnTo>
                        <a:pt x="77" y="495"/>
                      </a:lnTo>
                      <a:lnTo>
                        <a:pt x="89" y="432"/>
                      </a:lnTo>
                      <a:lnTo>
                        <a:pt x="94" y="370"/>
                      </a:lnTo>
                      <a:lnTo>
                        <a:pt x="99" y="307"/>
                      </a:lnTo>
                      <a:lnTo>
                        <a:pt x="94" y="250"/>
                      </a:lnTo>
                      <a:lnTo>
                        <a:pt x="89" y="193"/>
                      </a:lnTo>
                      <a:lnTo>
                        <a:pt x="72" y="140"/>
                      </a:lnTo>
                      <a:lnTo>
                        <a:pt x="52" y="93"/>
                      </a:lnTo>
                      <a:lnTo>
                        <a:pt x="20" y="51"/>
                      </a:lnTo>
                      <a:lnTo>
                        <a:pt x="57" y="0"/>
                      </a:lnTo>
                      <a:lnTo>
                        <a:pt x="67" y="16"/>
                      </a:lnTo>
                      <a:lnTo>
                        <a:pt x="83" y="51"/>
                      </a:lnTo>
                      <a:lnTo>
                        <a:pt x="104" y="114"/>
                      </a:lnTo>
                      <a:lnTo>
                        <a:pt x="114" y="156"/>
                      </a:lnTo>
                      <a:lnTo>
                        <a:pt x="119" y="203"/>
                      </a:lnTo>
                      <a:lnTo>
                        <a:pt x="125" y="260"/>
                      </a:lnTo>
                      <a:lnTo>
                        <a:pt x="125" y="318"/>
                      </a:lnTo>
                      <a:lnTo>
                        <a:pt x="125" y="385"/>
                      </a:lnTo>
                      <a:lnTo>
                        <a:pt x="114" y="453"/>
                      </a:lnTo>
                      <a:lnTo>
                        <a:pt x="99" y="531"/>
                      </a:lnTo>
                      <a:lnTo>
                        <a:pt x="72" y="614"/>
                      </a:lnTo>
                      <a:lnTo>
                        <a:pt x="42" y="703"/>
                      </a:lnTo>
                      <a:lnTo>
                        <a:pt x="0" y="797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1952"/>
                <p:cNvSpPr/>
                <p:nvPr/>
              </p:nvSpPr>
              <p:spPr>
                <a:xfrm rot="15123000">
                  <a:off x="1387440" y="1352880"/>
                  <a:ext cx="63000" cy="202680"/>
                </a:xfrm>
                <a:custGeom>
                  <a:avLst/>
                  <a:gdLst/>
                  <a:ahLst/>
                  <a:rect l="l" t="t" r="r" b="b"/>
                  <a:pathLst>
                    <a:path w="749" h="2451">
                      <a:moveTo>
                        <a:pt x="0" y="2451"/>
                      </a:moveTo>
                      <a:lnTo>
                        <a:pt x="57" y="2306"/>
                      </a:lnTo>
                      <a:lnTo>
                        <a:pt x="192" y="1957"/>
                      </a:lnTo>
                      <a:lnTo>
                        <a:pt x="270" y="1734"/>
                      </a:lnTo>
                      <a:lnTo>
                        <a:pt x="348" y="1509"/>
                      </a:lnTo>
                      <a:lnTo>
                        <a:pt x="416" y="1285"/>
                      </a:lnTo>
                      <a:lnTo>
                        <a:pt x="442" y="1182"/>
                      </a:lnTo>
                      <a:lnTo>
                        <a:pt x="462" y="1082"/>
                      </a:lnTo>
                      <a:lnTo>
                        <a:pt x="499" y="895"/>
                      </a:lnTo>
                      <a:lnTo>
                        <a:pt x="530" y="713"/>
                      </a:lnTo>
                      <a:lnTo>
                        <a:pt x="587" y="385"/>
                      </a:lnTo>
                      <a:lnTo>
                        <a:pt x="614" y="250"/>
                      </a:lnTo>
                      <a:lnTo>
                        <a:pt x="634" y="141"/>
                      </a:lnTo>
                      <a:lnTo>
                        <a:pt x="660" y="63"/>
                      </a:lnTo>
                      <a:lnTo>
                        <a:pt x="671" y="36"/>
                      </a:lnTo>
                      <a:lnTo>
                        <a:pt x="681" y="16"/>
                      </a:lnTo>
                      <a:lnTo>
                        <a:pt x="749" y="0"/>
                      </a:lnTo>
                      <a:lnTo>
                        <a:pt x="722" y="109"/>
                      </a:lnTo>
                      <a:lnTo>
                        <a:pt x="655" y="365"/>
                      </a:lnTo>
                      <a:lnTo>
                        <a:pt x="582" y="666"/>
                      </a:lnTo>
                      <a:lnTo>
                        <a:pt x="556" y="807"/>
                      </a:lnTo>
                      <a:lnTo>
                        <a:pt x="540" y="910"/>
                      </a:lnTo>
                      <a:lnTo>
                        <a:pt x="535" y="958"/>
                      </a:lnTo>
                      <a:lnTo>
                        <a:pt x="540" y="1015"/>
                      </a:lnTo>
                      <a:lnTo>
                        <a:pt x="556" y="1130"/>
                      </a:lnTo>
                      <a:lnTo>
                        <a:pt x="582" y="1265"/>
                      </a:lnTo>
                      <a:lnTo>
                        <a:pt x="614" y="1400"/>
                      </a:lnTo>
                      <a:lnTo>
                        <a:pt x="639" y="1535"/>
                      </a:lnTo>
                      <a:lnTo>
                        <a:pt x="660" y="1666"/>
                      </a:lnTo>
                      <a:lnTo>
                        <a:pt x="660" y="1728"/>
                      </a:lnTo>
                      <a:lnTo>
                        <a:pt x="660" y="1786"/>
                      </a:lnTo>
                      <a:lnTo>
                        <a:pt x="649" y="1837"/>
                      </a:lnTo>
                      <a:lnTo>
                        <a:pt x="639" y="1879"/>
                      </a:lnTo>
                      <a:lnTo>
                        <a:pt x="639" y="1811"/>
                      </a:lnTo>
                      <a:lnTo>
                        <a:pt x="634" y="1734"/>
                      </a:lnTo>
                      <a:lnTo>
                        <a:pt x="629" y="1639"/>
                      </a:lnTo>
                      <a:lnTo>
                        <a:pt x="614" y="1525"/>
                      </a:lnTo>
                      <a:lnTo>
                        <a:pt x="592" y="1400"/>
                      </a:lnTo>
                      <a:lnTo>
                        <a:pt x="561" y="1275"/>
                      </a:lnTo>
                      <a:lnTo>
                        <a:pt x="540" y="1212"/>
                      </a:lnTo>
                      <a:lnTo>
                        <a:pt x="514" y="1150"/>
                      </a:lnTo>
                      <a:lnTo>
                        <a:pt x="462" y="1317"/>
                      </a:lnTo>
                      <a:lnTo>
                        <a:pt x="405" y="1494"/>
                      </a:lnTo>
                      <a:lnTo>
                        <a:pt x="332" y="1702"/>
                      </a:lnTo>
                      <a:lnTo>
                        <a:pt x="249" y="1926"/>
                      </a:lnTo>
                      <a:lnTo>
                        <a:pt x="160" y="2139"/>
                      </a:lnTo>
                      <a:lnTo>
                        <a:pt x="120" y="2233"/>
                      </a:lnTo>
                      <a:lnTo>
                        <a:pt x="78" y="2321"/>
                      </a:lnTo>
                      <a:lnTo>
                        <a:pt x="36" y="2394"/>
                      </a:lnTo>
                      <a:lnTo>
                        <a:pt x="0" y="2451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Freeform 1953"/>
                <p:cNvSpPr/>
                <p:nvPr/>
              </p:nvSpPr>
              <p:spPr>
                <a:xfrm rot="15123000">
                  <a:off x="1417320" y="1497960"/>
                  <a:ext cx="46800" cy="32040"/>
                </a:xfrm>
                <a:custGeom>
                  <a:avLst/>
                  <a:gdLst/>
                  <a:ahLst/>
                  <a:rect l="l" t="t" r="r" b="b"/>
                  <a:pathLst>
                    <a:path w="557" h="380">
                      <a:moveTo>
                        <a:pt x="0" y="380"/>
                      </a:moveTo>
                      <a:lnTo>
                        <a:pt x="53" y="333"/>
                      </a:lnTo>
                      <a:lnTo>
                        <a:pt x="115" y="287"/>
                      </a:lnTo>
                      <a:lnTo>
                        <a:pt x="188" y="229"/>
                      </a:lnTo>
                      <a:lnTo>
                        <a:pt x="272" y="172"/>
                      </a:lnTo>
                      <a:lnTo>
                        <a:pt x="360" y="125"/>
                      </a:lnTo>
                      <a:lnTo>
                        <a:pt x="407" y="98"/>
                      </a:lnTo>
                      <a:lnTo>
                        <a:pt x="454" y="83"/>
                      </a:lnTo>
                      <a:lnTo>
                        <a:pt x="495" y="68"/>
                      </a:lnTo>
                      <a:lnTo>
                        <a:pt x="536" y="57"/>
                      </a:lnTo>
                      <a:lnTo>
                        <a:pt x="557" y="0"/>
                      </a:lnTo>
                      <a:lnTo>
                        <a:pt x="506" y="21"/>
                      </a:lnTo>
                      <a:lnTo>
                        <a:pt x="442" y="47"/>
                      </a:lnTo>
                      <a:lnTo>
                        <a:pt x="365" y="83"/>
                      </a:lnTo>
                      <a:lnTo>
                        <a:pt x="277" y="135"/>
                      </a:lnTo>
                      <a:lnTo>
                        <a:pt x="183" y="203"/>
                      </a:lnTo>
                      <a:lnTo>
                        <a:pt x="137" y="240"/>
                      </a:lnTo>
                      <a:lnTo>
                        <a:pt x="89" y="281"/>
                      </a:lnTo>
                      <a:lnTo>
                        <a:pt x="42" y="328"/>
                      </a:lnTo>
                      <a:lnTo>
                        <a:pt x="0" y="38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Freeform 1954"/>
                <p:cNvSpPr/>
                <p:nvPr/>
              </p:nvSpPr>
              <p:spPr>
                <a:xfrm rot="15123000">
                  <a:off x="1488600" y="1534680"/>
                  <a:ext cx="23040" cy="51840"/>
                </a:xfrm>
                <a:custGeom>
                  <a:avLst/>
                  <a:gdLst/>
                  <a:ahLst/>
                  <a:rect l="l" t="t" r="r" b="b"/>
                  <a:pathLst>
                    <a:path w="265" h="635">
                      <a:moveTo>
                        <a:pt x="0" y="635"/>
                      </a:moveTo>
                      <a:lnTo>
                        <a:pt x="41" y="577"/>
                      </a:lnTo>
                      <a:lnTo>
                        <a:pt x="83" y="521"/>
                      </a:lnTo>
                      <a:lnTo>
                        <a:pt x="125" y="447"/>
                      </a:lnTo>
                      <a:lnTo>
                        <a:pt x="166" y="359"/>
                      </a:lnTo>
                      <a:lnTo>
                        <a:pt x="187" y="312"/>
                      </a:lnTo>
                      <a:lnTo>
                        <a:pt x="198" y="260"/>
                      </a:lnTo>
                      <a:lnTo>
                        <a:pt x="208" y="214"/>
                      </a:lnTo>
                      <a:lnTo>
                        <a:pt x="218" y="162"/>
                      </a:lnTo>
                      <a:lnTo>
                        <a:pt x="218" y="115"/>
                      </a:lnTo>
                      <a:lnTo>
                        <a:pt x="208" y="68"/>
                      </a:lnTo>
                      <a:lnTo>
                        <a:pt x="260" y="0"/>
                      </a:lnTo>
                      <a:lnTo>
                        <a:pt x="265" y="57"/>
                      </a:lnTo>
                      <a:lnTo>
                        <a:pt x="260" y="120"/>
                      </a:lnTo>
                      <a:lnTo>
                        <a:pt x="250" y="203"/>
                      </a:lnTo>
                      <a:lnTo>
                        <a:pt x="233" y="255"/>
                      </a:lnTo>
                      <a:lnTo>
                        <a:pt x="218" y="302"/>
                      </a:lnTo>
                      <a:lnTo>
                        <a:pt x="198" y="354"/>
                      </a:lnTo>
                      <a:lnTo>
                        <a:pt x="171" y="412"/>
                      </a:lnTo>
                      <a:lnTo>
                        <a:pt x="140" y="464"/>
                      </a:lnTo>
                      <a:lnTo>
                        <a:pt x="98" y="521"/>
                      </a:lnTo>
                      <a:lnTo>
                        <a:pt x="51" y="577"/>
                      </a:lnTo>
                      <a:lnTo>
                        <a:pt x="0" y="635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1955"/>
                <p:cNvSpPr/>
                <p:nvPr/>
              </p:nvSpPr>
              <p:spPr>
                <a:xfrm rot="15123000">
                  <a:off x="1395360" y="1618920"/>
                  <a:ext cx="49320" cy="11160"/>
                </a:xfrm>
                <a:custGeom>
                  <a:avLst/>
                  <a:gdLst/>
                  <a:ahLst/>
                  <a:rect l="l" t="t" r="r" b="b"/>
                  <a:pathLst>
                    <a:path w="583" h="130">
                      <a:moveTo>
                        <a:pt x="0" y="104"/>
                      </a:moveTo>
                      <a:lnTo>
                        <a:pt x="62" y="114"/>
                      </a:lnTo>
                      <a:lnTo>
                        <a:pt x="125" y="114"/>
                      </a:lnTo>
                      <a:lnTo>
                        <a:pt x="209" y="114"/>
                      </a:lnTo>
                      <a:lnTo>
                        <a:pt x="297" y="104"/>
                      </a:lnTo>
                      <a:lnTo>
                        <a:pt x="339" y="94"/>
                      </a:lnTo>
                      <a:lnTo>
                        <a:pt x="385" y="84"/>
                      </a:lnTo>
                      <a:lnTo>
                        <a:pt x="427" y="67"/>
                      </a:lnTo>
                      <a:lnTo>
                        <a:pt x="469" y="52"/>
                      </a:lnTo>
                      <a:lnTo>
                        <a:pt x="504" y="26"/>
                      </a:lnTo>
                      <a:lnTo>
                        <a:pt x="536" y="0"/>
                      </a:lnTo>
                      <a:lnTo>
                        <a:pt x="583" y="16"/>
                      </a:lnTo>
                      <a:lnTo>
                        <a:pt x="546" y="42"/>
                      </a:lnTo>
                      <a:lnTo>
                        <a:pt x="499" y="67"/>
                      </a:lnTo>
                      <a:lnTo>
                        <a:pt x="437" y="94"/>
                      </a:lnTo>
                      <a:lnTo>
                        <a:pt x="354" y="114"/>
                      </a:lnTo>
                      <a:lnTo>
                        <a:pt x="307" y="125"/>
                      </a:lnTo>
                      <a:lnTo>
                        <a:pt x="255" y="130"/>
                      </a:lnTo>
                      <a:lnTo>
                        <a:pt x="197" y="130"/>
                      </a:lnTo>
                      <a:lnTo>
                        <a:pt x="135" y="125"/>
                      </a:lnTo>
                      <a:lnTo>
                        <a:pt x="68" y="12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Freeform 1956"/>
                <p:cNvSpPr/>
                <p:nvPr/>
              </p:nvSpPr>
              <p:spPr>
                <a:xfrm rot="15123000">
                  <a:off x="1391040" y="1634400"/>
                  <a:ext cx="30600" cy="20160"/>
                </a:xfrm>
                <a:custGeom>
                  <a:avLst/>
                  <a:gdLst/>
                  <a:ahLst/>
                  <a:rect l="l" t="t" r="r" b="b"/>
                  <a:pathLst>
                    <a:path w="359" h="240">
                      <a:moveTo>
                        <a:pt x="0" y="0"/>
                      </a:moveTo>
                      <a:lnTo>
                        <a:pt x="36" y="21"/>
                      </a:lnTo>
                      <a:lnTo>
                        <a:pt x="124" y="73"/>
                      </a:lnTo>
                      <a:lnTo>
                        <a:pt x="177" y="105"/>
                      </a:lnTo>
                      <a:lnTo>
                        <a:pt x="229" y="146"/>
                      </a:lnTo>
                      <a:lnTo>
                        <a:pt x="276" y="188"/>
                      </a:lnTo>
                      <a:lnTo>
                        <a:pt x="312" y="235"/>
                      </a:lnTo>
                      <a:lnTo>
                        <a:pt x="359" y="240"/>
                      </a:lnTo>
                      <a:lnTo>
                        <a:pt x="338" y="213"/>
                      </a:lnTo>
                      <a:lnTo>
                        <a:pt x="312" y="188"/>
                      </a:lnTo>
                      <a:lnTo>
                        <a:pt x="276" y="151"/>
                      </a:lnTo>
                      <a:lnTo>
                        <a:pt x="224" y="115"/>
                      </a:lnTo>
                      <a:lnTo>
                        <a:pt x="166" y="73"/>
                      </a:lnTo>
                      <a:lnTo>
                        <a:pt x="89" y="3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4a721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Freeform 1957"/>
                <p:cNvSpPr/>
                <p:nvPr/>
              </p:nvSpPr>
              <p:spPr>
                <a:xfrm rot="15123000">
                  <a:off x="1470600" y="1523520"/>
                  <a:ext cx="10080" cy="12240"/>
                </a:xfrm>
                <a:custGeom>
                  <a:avLst/>
                  <a:gdLst/>
                  <a:ahLst/>
                  <a:rect l="l" t="t" r="r" b="b"/>
                  <a:pathLst>
                    <a:path w="124" h="146">
                      <a:moveTo>
                        <a:pt x="47" y="146"/>
                      </a:moveTo>
                      <a:lnTo>
                        <a:pt x="57" y="146"/>
                      </a:lnTo>
                      <a:lnTo>
                        <a:pt x="93" y="141"/>
                      </a:lnTo>
                      <a:lnTo>
                        <a:pt x="109" y="130"/>
                      </a:lnTo>
                      <a:lnTo>
                        <a:pt x="119" y="120"/>
                      </a:lnTo>
                      <a:lnTo>
                        <a:pt x="124" y="104"/>
                      </a:lnTo>
                      <a:lnTo>
                        <a:pt x="124" y="84"/>
                      </a:lnTo>
                      <a:lnTo>
                        <a:pt x="114" y="57"/>
                      </a:lnTo>
                      <a:lnTo>
                        <a:pt x="104" y="37"/>
                      </a:lnTo>
                      <a:lnTo>
                        <a:pt x="87" y="21"/>
                      </a:lnTo>
                      <a:lnTo>
                        <a:pt x="72" y="5"/>
                      </a:lnTo>
                      <a:lnTo>
                        <a:pt x="57" y="0"/>
                      </a:lnTo>
                      <a:lnTo>
                        <a:pt x="41" y="0"/>
                      </a:lnTo>
                      <a:lnTo>
                        <a:pt x="25" y="11"/>
                      </a:lnTo>
                      <a:lnTo>
                        <a:pt x="10" y="32"/>
                      </a:lnTo>
                      <a:lnTo>
                        <a:pt x="0" y="57"/>
                      </a:lnTo>
                      <a:lnTo>
                        <a:pt x="0" y="79"/>
                      </a:lnTo>
                      <a:lnTo>
                        <a:pt x="5" y="99"/>
                      </a:lnTo>
                      <a:lnTo>
                        <a:pt x="15" y="115"/>
                      </a:lnTo>
                      <a:lnTo>
                        <a:pt x="36" y="141"/>
                      </a:lnTo>
                      <a:lnTo>
                        <a:pt x="47" y="146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Freeform 1958"/>
                <p:cNvSpPr/>
                <p:nvPr/>
              </p:nvSpPr>
              <p:spPr>
                <a:xfrm rot="15123000">
                  <a:off x="1372680" y="1622160"/>
                  <a:ext cx="8640" cy="7200"/>
                </a:xfrm>
                <a:custGeom>
                  <a:avLst/>
                  <a:gdLst/>
                  <a:ahLst/>
                  <a:rect l="l" t="t" r="r" b="b"/>
                  <a:pathLst>
                    <a:path w="98" h="78">
                      <a:moveTo>
                        <a:pt x="0" y="57"/>
                      </a:moveTo>
                      <a:lnTo>
                        <a:pt x="15" y="62"/>
                      </a:lnTo>
                      <a:lnTo>
                        <a:pt x="46" y="73"/>
                      </a:lnTo>
                      <a:lnTo>
                        <a:pt x="62" y="78"/>
                      </a:lnTo>
                      <a:lnTo>
                        <a:pt x="78" y="78"/>
                      </a:lnTo>
                      <a:lnTo>
                        <a:pt x="93" y="67"/>
                      </a:lnTo>
                      <a:lnTo>
                        <a:pt x="98" y="57"/>
                      </a:lnTo>
                      <a:lnTo>
                        <a:pt x="98" y="41"/>
                      </a:lnTo>
                      <a:lnTo>
                        <a:pt x="88" y="25"/>
                      </a:lnTo>
                      <a:lnTo>
                        <a:pt x="73" y="20"/>
                      </a:lnTo>
                      <a:lnTo>
                        <a:pt x="56" y="10"/>
                      </a:lnTo>
                      <a:lnTo>
                        <a:pt x="15" y="5"/>
                      </a:lnTo>
                      <a:lnTo>
                        <a:pt x="0" y="0"/>
                      </a:lnTo>
                      <a:lnTo>
                        <a:pt x="0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1959"/>
                <p:cNvSpPr/>
                <p:nvPr/>
              </p:nvSpPr>
              <p:spPr>
                <a:xfrm rot="15123000">
                  <a:off x="1321560" y="1601280"/>
                  <a:ext cx="10080" cy="9720"/>
                </a:xfrm>
                <a:custGeom>
                  <a:avLst/>
                  <a:gdLst/>
                  <a:ahLst/>
                  <a:rect l="l" t="t" r="r" b="b"/>
                  <a:pathLst>
                    <a:path w="119" h="125">
                      <a:moveTo>
                        <a:pt x="0" y="58"/>
                      </a:moveTo>
                      <a:lnTo>
                        <a:pt x="5" y="73"/>
                      </a:lnTo>
                      <a:lnTo>
                        <a:pt x="25" y="105"/>
                      </a:lnTo>
                      <a:lnTo>
                        <a:pt x="42" y="115"/>
                      </a:lnTo>
                      <a:lnTo>
                        <a:pt x="57" y="125"/>
                      </a:lnTo>
                      <a:lnTo>
                        <a:pt x="77" y="125"/>
                      </a:lnTo>
                      <a:lnTo>
                        <a:pt x="98" y="115"/>
                      </a:lnTo>
                      <a:lnTo>
                        <a:pt x="114" y="94"/>
                      </a:lnTo>
                      <a:lnTo>
                        <a:pt x="119" y="78"/>
                      </a:lnTo>
                      <a:lnTo>
                        <a:pt x="119" y="58"/>
                      </a:lnTo>
                      <a:lnTo>
                        <a:pt x="114" y="42"/>
                      </a:lnTo>
                      <a:lnTo>
                        <a:pt x="98" y="26"/>
                      </a:lnTo>
                      <a:lnTo>
                        <a:pt x="82" y="11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35" y="0"/>
                      </a:lnTo>
                      <a:lnTo>
                        <a:pt x="25" y="11"/>
                      </a:lnTo>
                      <a:lnTo>
                        <a:pt x="10" y="31"/>
                      </a:lnTo>
                      <a:lnTo>
                        <a:pt x="0" y="47"/>
                      </a:lnTo>
                      <a:lnTo>
                        <a:pt x="0" y="58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Freeform 1960"/>
                <p:cNvSpPr/>
                <p:nvPr/>
              </p:nvSpPr>
              <p:spPr>
                <a:xfrm rot="15123000">
                  <a:off x="1442880" y="1670040"/>
                  <a:ext cx="7560" cy="5040"/>
                </a:xfrm>
                <a:custGeom>
                  <a:avLst/>
                  <a:gdLst/>
                  <a:ahLst/>
                  <a:rect l="l" t="t" r="r" b="b"/>
                  <a:pathLst>
                    <a:path w="94" h="57">
                      <a:moveTo>
                        <a:pt x="21" y="57"/>
                      </a:moveTo>
                      <a:lnTo>
                        <a:pt x="42" y="57"/>
                      </a:lnTo>
                      <a:lnTo>
                        <a:pt x="73" y="52"/>
                      </a:lnTo>
                      <a:lnTo>
                        <a:pt x="83" y="47"/>
                      </a:lnTo>
                      <a:lnTo>
                        <a:pt x="94" y="37"/>
                      </a:lnTo>
                      <a:lnTo>
                        <a:pt x="94" y="26"/>
                      </a:lnTo>
                      <a:lnTo>
                        <a:pt x="78" y="15"/>
                      </a:lnTo>
                      <a:lnTo>
                        <a:pt x="58" y="5"/>
                      </a:lnTo>
                      <a:lnTo>
                        <a:pt x="42" y="0"/>
                      </a:lnTo>
                      <a:lnTo>
                        <a:pt x="26" y="0"/>
                      </a:lnTo>
                      <a:lnTo>
                        <a:pt x="11" y="5"/>
                      </a:lnTo>
                      <a:lnTo>
                        <a:pt x="6" y="15"/>
                      </a:lnTo>
                      <a:lnTo>
                        <a:pt x="0" y="32"/>
                      </a:lnTo>
                      <a:lnTo>
                        <a:pt x="11" y="47"/>
                      </a:lnTo>
                      <a:lnTo>
                        <a:pt x="21" y="57"/>
                      </a:lnTo>
                      <a:close/>
                    </a:path>
                  </a:pathLst>
                </a:custGeom>
                <a:solidFill>
                  <a:srgbClr val="d59d30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2" name="Group 1961"/>
              <p:cNvGrpSpPr/>
              <p:nvPr/>
            </p:nvGrpSpPr>
            <p:grpSpPr>
              <a:xfrm>
                <a:off x="1206360" y="1369440"/>
                <a:ext cx="31320" cy="35640"/>
                <a:chOff x="1206360" y="1369440"/>
                <a:chExt cx="31320" cy="35640"/>
              </a:xfrm>
            </p:grpSpPr>
            <p:sp>
              <p:nvSpPr>
                <p:cNvPr id="1563" name="Freeform 1962"/>
                <p:cNvSpPr/>
                <p:nvPr/>
              </p:nvSpPr>
              <p:spPr>
                <a:xfrm rot="10758000">
                  <a:off x="1206360" y="1369440"/>
                  <a:ext cx="28080" cy="35280"/>
                </a:xfrm>
                <a:custGeom>
                  <a:avLst/>
                  <a:gdLst/>
                  <a:ahLst/>
                  <a:rect l="l" t="t" r="r" b="b"/>
                  <a:pathLst>
                    <a:path w="333" h="417">
                      <a:moveTo>
                        <a:pt x="323" y="417"/>
                      </a:moveTo>
                      <a:lnTo>
                        <a:pt x="281" y="407"/>
                      </a:lnTo>
                      <a:lnTo>
                        <a:pt x="239" y="391"/>
                      </a:lnTo>
                      <a:lnTo>
                        <a:pt x="193" y="375"/>
                      </a:lnTo>
                      <a:lnTo>
                        <a:pt x="146" y="350"/>
                      </a:lnTo>
                      <a:lnTo>
                        <a:pt x="99" y="318"/>
                      </a:lnTo>
                      <a:lnTo>
                        <a:pt x="83" y="302"/>
                      </a:lnTo>
                      <a:lnTo>
                        <a:pt x="68" y="282"/>
                      </a:lnTo>
                      <a:lnTo>
                        <a:pt x="57" y="261"/>
                      </a:lnTo>
                      <a:lnTo>
                        <a:pt x="47" y="240"/>
                      </a:lnTo>
                      <a:lnTo>
                        <a:pt x="26" y="147"/>
                      </a:lnTo>
                      <a:lnTo>
                        <a:pt x="6" y="68"/>
                      </a:lnTo>
                      <a:lnTo>
                        <a:pt x="0" y="37"/>
                      </a:lnTo>
                      <a:lnTo>
                        <a:pt x="0" y="16"/>
                      </a:lnTo>
                      <a:lnTo>
                        <a:pt x="6" y="6"/>
                      </a:lnTo>
                      <a:lnTo>
                        <a:pt x="11" y="6"/>
                      </a:lnTo>
                      <a:lnTo>
                        <a:pt x="21" y="0"/>
                      </a:lnTo>
                      <a:lnTo>
                        <a:pt x="31" y="6"/>
                      </a:lnTo>
                      <a:lnTo>
                        <a:pt x="57" y="11"/>
                      </a:lnTo>
                      <a:lnTo>
                        <a:pt x="83" y="27"/>
                      </a:lnTo>
                      <a:lnTo>
                        <a:pt x="146" y="73"/>
                      </a:lnTo>
                      <a:lnTo>
                        <a:pt x="208" y="125"/>
                      </a:lnTo>
                      <a:lnTo>
                        <a:pt x="271" y="193"/>
                      </a:lnTo>
                      <a:lnTo>
                        <a:pt x="296" y="230"/>
                      </a:lnTo>
                      <a:lnTo>
                        <a:pt x="313" y="261"/>
                      </a:lnTo>
                      <a:lnTo>
                        <a:pt x="323" y="292"/>
                      </a:lnTo>
                      <a:lnTo>
                        <a:pt x="333" y="323"/>
                      </a:lnTo>
                      <a:lnTo>
                        <a:pt x="333" y="350"/>
                      </a:lnTo>
                      <a:lnTo>
                        <a:pt x="333" y="375"/>
                      </a:lnTo>
                      <a:lnTo>
                        <a:pt x="323" y="417"/>
                      </a:lnTo>
                      <a:close/>
                    </a:path>
                  </a:pathLst>
                </a:cu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Freeform 1963"/>
                <p:cNvSpPr/>
                <p:nvPr/>
              </p:nvSpPr>
              <p:spPr>
                <a:xfrm rot="7111800">
                  <a:off x="1216440" y="1377360"/>
                  <a:ext cx="18000" cy="17280"/>
                </a:xfrm>
                <a:custGeom>
                  <a:avLst/>
                  <a:gdLst/>
                  <a:ahLst/>
                  <a:rect l="l" t="t" r="r" b="b"/>
                  <a:pathLst>
                    <a:path w="213" h="214">
                      <a:moveTo>
                        <a:pt x="0" y="151"/>
                      </a:moveTo>
                      <a:lnTo>
                        <a:pt x="36" y="120"/>
                      </a:lnTo>
                      <a:lnTo>
                        <a:pt x="115" y="57"/>
                      </a:lnTo>
                      <a:lnTo>
                        <a:pt x="156" y="32"/>
                      </a:lnTo>
                      <a:lnTo>
                        <a:pt x="187" y="6"/>
                      </a:lnTo>
                      <a:lnTo>
                        <a:pt x="208" y="0"/>
                      </a:lnTo>
                      <a:lnTo>
                        <a:pt x="213" y="0"/>
                      </a:lnTo>
                      <a:lnTo>
                        <a:pt x="213" y="11"/>
                      </a:lnTo>
                      <a:lnTo>
                        <a:pt x="193" y="69"/>
                      </a:lnTo>
                      <a:lnTo>
                        <a:pt x="162" y="136"/>
                      </a:lnTo>
                      <a:lnTo>
                        <a:pt x="140" y="167"/>
                      </a:lnTo>
                      <a:lnTo>
                        <a:pt x="120" y="187"/>
                      </a:lnTo>
                      <a:lnTo>
                        <a:pt x="98" y="209"/>
                      </a:lnTo>
                      <a:lnTo>
                        <a:pt x="73" y="214"/>
                      </a:lnTo>
                      <a:lnTo>
                        <a:pt x="47" y="209"/>
                      </a:lnTo>
                      <a:lnTo>
                        <a:pt x="31" y="204"/>
                      </a:lnTo>
                      <a:lnTo>
                        <a:pt x="21" y="193"/>
                      </a:lnTo>
                      <a:lnTo>
                        <a:pt x="10" y="182"/>
                      </a:lnTo>
                      <a:lnTo>
                        <a:pt x="0" y="162"/>
                      </a:lnTo>
                      <a:lnTo>
                        <a:pt x="0" y="151"/>
                      </a:lnTo>
                      <a:close/>
                    </a:path>
                  </a:pathLst>
                </a:custGeom>
                <a:solidFill>
                  <a:srgbClr val="cc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65" name="AutoShape 1982"/>
          <p:cNvSpPr/>
          <p:nvPr/>
        </p:nvSpPr>
        <p:spPr>
          <a:xfrm>
            <a:off x="3924360" y="-4978440"/>
            <a:ext cx="9955080" cy="9955080"/>
          </a:xfrm>
          <a:prstGeom prst="sun">
            <a:avLst>
              <a:gd name="adj" fmla="val 39074"/>
            </a:avLst>
          </a:prstGeom>
          <a:blipFill rotWithShape="0">
            <a:blip r:embed="rId40">
              <a:alphaModFix amt="65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6" name="Picture 1981" descr="MCj04460980000[1]"/>
          <p:cNvPicPr/>
          <p:nvPr/>
        </p:nvPicPr>
        <p:blipFill>
          <a:blip r:embed="rId41"/>
          <a:stretch/>
        </p:blipFill>
        <p:spPr>
          <a:xfrm rot="5073600">
            <a:off x="7481880" y="-461880"/>
            <a:ext cx="1403280" cy="2327040"/>
          </a:xfrm>
          <a:prstGeom prst="rect">
            <a:avLst/>
          </a:prstGeom>
          <a:ln w="0">
            <a:noFill/>
          </a:ln>
        </p:spPr>
      </p:pic>
      <p:grpSp>
        <p:nvGrpSpPr>
          <p:cNvPr id="1567" name="Group 1985"/>
          <p:cNvGrpSpPr/>
          <p:nvPr/>
        </p:nvGrpSpPr>
        <p:grpSpPr>
          <a:xfrm>
            <a:off x="4722480" y="5213520"/>
            <a:ext cx="491400" cy="1253520"/>
            <a:chOff x="4722480" y="5213520"/>
            <a:chExt cx="491400" cy="1253520"/>
          </a:xfrm>
        </p:grpSpPr>
        <p:pic>
          <p:nvPicPr>
            <p:cNvPr id="1568" name="Picture 1967" descr="MCj04456520000[1]"/>
            <p:cNvPicPr/>
            <p:nvPr/>
          </p:nvPicPr>
          <p:blipFill>
            <a:blip r:embed="rId42"/>
            <a:stretch/>
          </p:blipFill>
          <p:spPr>
            <a:xfrm rot="21224400">
              <a:off x="4754160" y="5231160"/>
              <a:ext cx="358920" cy="60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9" name="Rectangle 1984"/>
            <p:cNvSpPr/>
            <p:nvPr/>
          </p:nvSpPr>
          <p:spPr>
            <a:xfrm rot="21224400">
              <a:off x="4821480" y="5846400"/>
              <a:ext cx="36036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Group 1986"/>
          <p:cNvGrpSpPr/>
          <p:nvPr/>
        </p:nvGrpSpPr>
        <p:grpSpPr>
          <a:xfrm>
            <a:off x="7034760" y="4851360"/>
            <a:ext cx="499320" cy="1325160"/>
            <a:chOff x="7034760" y="4851360"/>
            <a:chExt cx="499320" cy="1325160"/>
          </a:xfrm>
        </p:grpSpPr>
        <p:pic>
          <p:nvPicPr>
            <p:cNvPr id="1571" name="Picture 1987" descr="MCj04456520000[1]"/>
            <p:cNvPicPr/>
            <p:nvPr/>
          </p:nvPicPr>
          <p:blipFill>
            <a:blip r:embed="rId43"/>
            <a:stretch/>
          </p:blipFill>
          <p:spPr>
            <a:xfrm rot="21224400">
              <a:off x="7068240" y="4869000"/>
              <a:ext cx="35892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2" name="Rectangle 1988"/>
            <p:cNvSpPr/>
            <p:nvPr/>
          </p:nvSpPr>
          <p:spPr>
            <a:xfrm rot="21224400">
              <a:off x="7139880" y="5520600"/>
              <a:ext cx="36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3" name="Group 1989"/>
          <p:cNvGrpSpPr/>
          <p:nvPr/>
        </p:nvGrpSpPr>
        <p:grpSpPr>
          <a:xfrm>
            <a:off x="472680" y="4924800"/>
            <a:ext cx="507240" cy="1395720"/>
            <a:chOff x="472680" y="4924800"/>
            <a:chExt cx="507240" cy="1395720"/>
          </a:xfrm>
        </p:grpSpPr>
        <p:pic>
          <p:nvPicPr>
            <p:cNvPr id="1574" name="Picture 1990" descr="MCj04456520000[1]"/>
            <p:cNvPicPr/>
            <p:nvPr/>
          </p:nvPicPr>
          <p:blipFill>
            <a:blip r:embed="rId44"/>
            <a:stretch/>
          </p:blipFill>
          <p:spPr>
            <a:xfrm rot="21224400">
              <a:off x="507960" y="4942440"/>
              <a:ext cx="35892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5" name="Rectangle 1991"/>
            <p:cNvSpPr/>
            <p:nvPr/>
          </p:nvSpPr>
          <p:spPr>
            <a:xfrm rot="21224400">
              <a:off x="583560" y="5629320"/>
              <a:ext cx="3603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08"/>
          <p:cNvGrpSpPr/>
          <p:nvPr/>
        </p:nvGrpSpPr>
        <p:grpSpPr>
          <a:xfrm>
            <a:off x="7088760" y="5299560"/>
            <a:ext cx="367920" cy="367920"/>
            <a:chOff x="7088760" y="5299560"/>
            <a:chExt cx="367920" cy="367920"/>
          </a:xfrm>
        </p:grpSpPr>
        <p:grpSp>
          <p:nvGrpSpPr>
            <p:cNvPr id="1577" name="Group 209"/>
            <p:cNvGrpSpPr/>
            <p:nvPr/>
          </p:nvGrpSpPr>
          <p:grpSpPr>
            <a:xfrm>
              <a:off x="7091280" y="5302080"/>
              <a:ext cx="363240" cy="363240"/>
              <a:chOff x="7091280" y="5302080"/>
              <a:chExt cx="363240" cy="363240"/>
            </a:xfrm>
          </p:grpSpPr>
          <p:grpSp>
            <p:nvGrpSpPr>
              <p:cNvPr id="1578" name="Group 210"/>
              <p:cNvGrpSpPr/>
              <p:nvPr/>
            </p:nvGrpSpPr>
            <p:grpSpPr>
              <a:xfrm>
                <a:off x="7091280" y="5302080"/>
                <a:ext cx="363240" cy="363240"/>
                <a:chOff x="7091280" y="5302080"/>
                <a:chExt cx="363240" cy="363240"/>
              </a:xfrm>
            </p:grpSpPr>
            <p:sp>
              <p:nvSpPr>
                <p:cNvPr id="1579" name="Oval 211"/>
                <p:cNvSpPr/>
                <p:nvPr/>
              </p:nvSpPr>
              <p:spPr>
                <a:xfrm>
                  <a:off x="709128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Oval 212"/>
                <p:cNvSpPr/>
                <p:nvPr/>
              </p:nvSpPr>
              <p:spPr>
                <a:xfrm rot="5400000">
                  <a:off x="709056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1" name="Group 213"/>
              <p:cNvGrpSpPr/>
              <p:nvPr/>
            </p:nvGrpSpPr>
            <p:grpSpPr>
              <a:xfrm>
                <a:off x="7114680" y="5325840"/>
                <a:ext cx="315360" cy="315720"/>
                <a:chOff x="7114680" y="5325840"/>
                <a:chExt cx="315360" cy="315720"/>
              </a:xfrm>
            </p:grpSpPr>
            <p:sp>
              <p:nvSpPr>
                <p:cNvPr id="1582" name="Oval 214"/>
                <p:cNvSpPr/>
                <p:nvPr/>
              </p:nvSpPr>
              <p:spPr>
                <a:xfrm rot="2700000">
                  <a:off x="7090920" y="54428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Oval 215"/>
                <p:cNvSpPr/>
                <p:nvPr/>
              </p:nvSpPr>
              <p:spPr>
                <a:xfrm rot="8100000">
                  <a:off x="709020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84" name="Group 216"/>
            <p:cNvGrpSpPr/>
            <p:nvPr/>
          </p:nvGrpSpPr>
          <p:grpSpPr>
            <a:xfrm>
              <a:off x="7088760" y="5299560"/>
              <a:ext cx="367920" cy="367920"/>
              <a:chOff x="7088760" y="5299560"/>
              <a:chExt cx="367920" cy="367920"/>
            </a:xfrm>
          </p:grpSpPr>
          <p:grpSp>
            <p:nvGrpSpPr>
              <p:cNvPr id="1585" name="Group 217"/>
              <p:cNvGrpSpPr/>
              <p:nvPr/>
            </p:nvGrpSpPr>
            <p:grpSpPr>
              <a:xfrm>
                <a:off x="7088760" y="5299560"/>
                <a:ext cx="367920" cy="367920"/>
                <a:chOff x="7088760" y="5299560"/>
                <a:chExt cx="367920" cy="367920"/>
              </a:xfrm>
            </p:grpSpPr>
            <p:sp>
              <p:nvSpPr>
                <p:cNvPr id="1586" name="Oval 218"/>
                <p:cNvSpPr/>
                <p:nvPr/>
              </p:nvSpPr>
              <p:spPr>
                <a:xfrm rot="1320000">
                  <a:off x="709092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Oval 219"/>
                <p:cNvSpPr/>
                <p:nvPr/>
              </p:nvSpPr>
              <p:spPr>
                <a:xfrm rot="6720000">
                  <a:off x="7090560" y="54421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8" name="Group 220"/>
              <p:cNvGrpSpPr/>
              <p:nvPr/>
            </p:nvGrpSpPr>
            <p:grpSpPr>
              <a:xfrm>
                <a:off x="7089120" y="5300640"/>
                <a:ext cx="366480" cy="366480"/>
                <a:chOff x="7089120" y="5300640"/>
                <a:chExt cx="366480" cy="366480"/>
              </a:xfrm>
            </p:grpSpPr>
            <p:sp>
              <p:nvSpPr>
                <p:cNvPr id="1589" name="Oval 221"/>
                <p:cNvSpPr/>
                <p:nvPr/>
              </p:nvSpPr>
              <p:spPr>
                <a:xfrm rot="4020000">
                  <a:off x="7090920" y="54424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Oval 222"/>
                <p:cNvSpPr/>
                <p:nvPr/>
              </p:nvSpPr>
              <p:spPr>
                <a:xfrm rot="9420000">
                  <a:off x="7090560" y="544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1" name="Oval 223"/>
            <p:cNvSpPr/>
            <p:nvPr/>
          </p:nvSpPr>
          <p:spPr>
            <a:xfrm>
              <a:off x="7213320" y="5430240"/>
              <a:ext cx="118800" cy="105840"/>
            </a:xfrm>
            <a:prstGeom prst="ellipse">
              <a:avLst/>
            </a:prstGeom>
            <a:blipFill rotWithShape="0">
              <a:blip r:embed="rId45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Group 512"/>
          <p:cNvGrpSpPr/>
          <p:nvPr/>
        </p:nvGrpSpPr>
        <p:grpSpPr>
          <a:xfrm>
            <a:off x="537120" y="5298120"/>
            <a:ext cx="367920" cy="367920"/>
            <a:chOff x="537120" y="5298120"/>
            <a:chExt cx="367920" cy="367920"/>
          </a:xfrm>
        </p:grpSpPr>
        <p:grpSp>
          <p:nvGrpSpPr>
            <p:cNvPr id="1593" name="Group 513"/>
            <p:cNvGrpSpPr/>
            <p:nvPr/>
          </p:nvGrpSpPr>
          <p:grpSpPr>
            <a:xfrm>
              <a:off x="539640" y="5300640"/>
              <a:ext cx="363240" cy="363240"/>
              <a:chOff x="539640" y="5300640"/>
              <a:chExt cx="363240" cy="363240"/>
            </a:xfrm>
          </p:grpSpPr>
          <p:grpSp>
            <p:nvGrpSpPr>
              <p:cNvPr id="1594" name="Group 514"/>
              <p:cNvGrpSpPr/>
              <p:nvPr/>
            </p:nvGrpSpPr>
            <p:grpSpPr>
              <a:xfrm>
                <a:off x="539640" y="5300640"/>
                <a:ext cx="363240" cy="363240"/>
                <a:chOff x="539640" y="5300640"/>
                <a:chExt cx="363240" cy="363240"/>
              </a:xfrm>
            </p:grpSpPr>
            <p:sp>
              <p:nvSpPr>
                <p:cNvPr id="1595" name="Oval 515"/>
                <p:cNvSpPr/>
                <p:nvPr/>
              </p:nvSpPr>
              <p:spPr>
                <a:xfrm>
                  <a:off x="539640" y="544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Oval 516"/>
                <p:cNvSpPr/>
                <p:nvPr/>
              </p:nvSpPr>
              <p:spPr>
                <a:xfrm rot="5400000">
                  <a:off x="53892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7" name="Group 517"/>
              <p:cNvGrpSpPr/>
              <p:nvPr/>
            </p:nvGrpSpPr>
            <p:grpSpPr>
              <a:xfrm>
                <a:off x="563040" y="5324400"/>
                <a:ext cx="315360" cy="315720"/>
                <a:chOff x="563040" y="5324400"/>
                <a:chExt cx="315360" cy="315720"/>
              </a:xfrm>
            </p:grpSpPr>
            <p:sp>
              <p:nvSpPr>
                <p:cNvPr id="1598" name="Oval 518"/>
                <p:cNvSpPr/>
                <p:nvPr/>
              </p:nvSpPr>
              <p:spPr>
                <a:xfrm rot="2700000">
                  <a:off x="539280" y="544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Oval 519"/>
                <p:cNvSpPr/>
                <p:nvPr/>
              </p:nvSpPr>
              <p:spPr>
                <a:xfrm rot="8100000">
                  <a:off x="53856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00" name="Group 520"/>
            <p:cNvGrpSpPr/>
            <p:nvPr/>
          </p:nvGrpSpPr>
          <p:grpSpPr>
            <a:xfrm>
              <a:off x="537120" y="5298120"/>
              <a:ext cx="367920" cy="367920"/>
              <a:chOff x="537120" y="5298120"/>
              <a:chExt cx="367920" cy="367920"/>
            </a:xfrm>
          </p:grpSpPr>
          <p:grpSp>
            <p:nvGrpSpPr>
              <p:cNvPr id="1601" name="Group 521"/>
              <p:cNvGrpSpPr/>
              <p:nvPr/>
            </p:nvGrpSpPr>
            <p:grpSpPr>
              <a:xfrm>
                <a:off x="537120" y="5298120"/>
                <a:ext cx="367920" cy="367920"/>
                <a:chOff x="537120" y="5298120"/>
                <a:chExt cx="367920" cy="367920"/>
              </a:xfrm>
            </p:grpSpPr>
            <p:sp>
              <p:nvSpPr>
                <p:cNvPr id="1602" name="Oval 522"/>
                <p:cNvSpPr/>
                <p:nvPr/>
              </p:nvSpPr>
              <p:spPr>
                <a:xfrm rot="1320000">
                  <a:off x="53928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Oval 523"/>
                <p:cNvSpPr/>
                <p:nvPr/>
              </p:nvSpPr>
              <p:spPr>
                <a:xfrm rot="6720000">
                  <a:off x="538920" y="544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4" name="Group 524"/>
              <p:cNvGrpSpPr/>
              <p:nvPr/>
            </p:nvGrpSpPr>
            <p:grpSpPr>
              <a:xfrm>
                <a:off x="537480" y="5299200"/>
                <a:ext cx="366480" cy="366480"/>
                <a:chOff x="537480" y="5299200"/>
                <a:chExt cx="366480" cy="366480"/>
              </a:xfrm>
            </p:grpSpPr>
            <p:sp>
              <p:nvSpPr>
                <p:cNvPr id="1605" name="Oval 525"/>
                <p:cNvSpPr/>
                <p:nvPr/>
              </p:nvSpPr>
              <p:spPr>
                <a:xfrm rot="4020000">
                  <a:off x="539280" y="544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Oval 526"/>
                <p:cNvSpPr/>
                <p:nvPr/>
              </p:nvSpPr>
              <p:spPr>
                <a:xfrm rot="9420000">
                  <a:off x="538920" y="544032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7" name="Oval 527"/>
            <p:cNvSpPr/>
            <p:nvPr/>
          </p:nvSpPr>
          <p:spPr>
            <a:xfrm>
              <a:off x="661680" y="5428800"/>
              <a:ext cx="118800" cy="105840"/>
            </a:xfrm>
            <a:prstGeom prst="ellipse">
              <a:avLst/>
            </a:prstGeom>
            <a:blipFill rotWithShape="0">
              <a:blip r:embed="rId46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Group 1992"/>
          <p:cNvGrpSpPr/>
          <p:nvPr/>
        </p:nvGrpSpPr>
        <p:grpSpPr>
          <a:xfrm>
            <a:off x="6012000" y="765000"/>
            <a:ext cx="844560" cy="844560"/>
            <a:chOff x="6012000" y="765000"/>
            <a:chExt cx="844560" cy="844560"/>
          </a:xfrm>
        </p:grpSpPr>
        <p:sp>
          <p:nvSpPr>
            <p:cNvPr id="1609" name="AutoShape 1993"/>
            <p:cNvSpPr/>
            <p:nvPr/>
          </p:nvSpPr>
          <p:spPr>
            <a:xfrm>
              <a:off x="6012000" y="76500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AutoShape 1994"/>
            <p:cNvSpPr/>
            <p:nvPr/>
          </p:nvSpPr>
          <p:spPr>
            <a:xfrm rot="2700000">
              <a:off x="6180120" y="93240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Oval 1995"/>
            <p:cNvSpPr/>
            <p:nvPr/>
          </p:nvSpPr>
          <p:spPr>
            <a:xfrm>
              <a:off x="6309360" y="106164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2" name="Group 1996"/>
          <p:cNvGrpSpPr/>
          <p:nvPr/>
        </p:nvGrpSpPr>
        <p:grpSpPr>
          <a:xfrm>
            <a:off x="4572000" y="1628640"/>
            <a:ext cx="844560" cy="844560"/>
            <a:chOff x="4572000" y="1628640"/>
            <a:chExt cx="844560" cy="844560"/>
          </a:xfrm>
        </p:grpSpPr>
        <p:sp>
          <p:nvSpPr>
            <p:cNvPr id="1613" name="AutoShape 1997"/>
            <p:cNvSpPr/>
            <p:nvPr/>
          </p:nvSpPr>
          <p:spPr>
            <a:xfrm>
              <a:off x="4572000" y="1628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AutoShape 1998"/>
            <p:cNvSpPr/>
            <p:nvPr/>
          </p:nvSpPr>
          <p:spPr>
            <a:xfrm rot="2700000">
              <a:off x="4740120" y="179604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Oval 1999"/>
            <p:cNvSpPr/>
            <p:nvPr/>
          </p:nvSpPr>
          <p:spPr>
            <a:xfrm>
              <a:off x="4869360" y="192528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6" name="Group 2000"/>
          <p:cNvGrpSpPr/>
          <p:nvPr/>
        </p:nvGrpSpPr>
        <p:grpSpPr>
          <a:xfrm>
            <a:off x="2916360" y="620640"/>
            <a:ext cx="844560" cy="844560"/>
            <a:chOff x="2916360" y="620640"/>
            <a:chExt cx="844560" cy="844560"/>
          </a:xfrm>
        </p:grpSpPr>
        <p:sp>
          <p:nvSpPr>
            <p:cNvPr id="1617" name="AutoShape 2001"/>
            <p:cNvSpPr/>
            <p:nvPr/>
          </p:nvSpPr>
          <p:spPr>
            <a:xfrm>
              <a:off x="2916360" y="620640"/>
              <a:ext cx="844560" cy="844560"/>
            </a:xfrm>
            <a:custGeom>
              <a:avLst/>
              <a:gdLst>
                <a:gd name="textAreaLeft" fmla="*/ 348120 w 844560"/>
                <a:gd name="textAreaRight" fmla="*/ 496440 w 844560"/>
                <a:gd name="textAreaTop" fmla="*/ 348120 h 844560"/>
                <a:gd name="textAreaBottom" fmla="*/ 496440 h 84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AutoShape 2002"/>
            <p:cNvSpPr/>
            <p:nvPr/>
          </p:nvSpPr>
          <p:spPr>
            <a:xfrm rot="2700000">
              <a:off x="3084480" y="788040"/>
              <a:ext cx="506880" cy="506880"/>
            </a:xfrm>
            <a:custGeom>
              <a:avLst/>
              <a:gdLst>
                <a:gd name="textAreaLeft" fmla="*/ 208800 w 506880"/>
                <a:gd name="textAreaRight" fmla="*/ 298080 w 506880"/>
                <a:gd name="textAreaTop" fmla="*/ 208800 h 506880"/>
                <a:gd name="textAreaBottom" fmla="*/ 298080 h 5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Oval 2003"/>
            <p:cNvSpPr/>
            <p:nvPr/>
          </p:nvSpPr>
          <p:spPr>
            <a:xfrm>
              <a:off x="3213720" y="917280"/>
              <a:ext cx="250200" cy="25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Group 2004"/>
          <p:cNvGrpSpPr/>
          <p:nvPr/>
        </p:nvGrpSpPr>
        <p:grpSpPr>
          <a:xfrm>
            <a:off x="1979640" y="1197000"/>
            <a:ext cx="576360" cy="576360"/>
            <a:chOff x="1979640" y="1197000"/>
            <a:chExt cx="576360" cy="576360"/>
          </a:xfrm>
        </p:grpSpPr>
        <p:sp>
          <p:nvSpPr>
            <p:cNvPr id="1621" name="AutoShape 2005"/>
            <p:cNvSpPr/>
            <p:nvPr/>
          </p:nvSpPr>
          <p:spPr>
            <a:xfrm>
              <a:off x="1979640" y="1197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AutoShape 2006"/>
            <p:cNvSpPr/>
            <p:nvPr/>
          </p:nvSpPr>
          <p:spPr>
            <a:xfrm rot="2700000">
              <a:off x="2094120" y="131148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Oval 2007"/>
            <p:cNvSpPr/>
            <p:nvPr/>
          </p:nvSpPr>
          <p:spPr>
            <a:xfrm>
              <a:off x="2182680" y="1399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4" name="Group 2008"/>
          <p:cNvGrpSpPr/>
          <p:nvPr/>
        </p:nvGrpSpPr>
        <p:grpSpPr>
          <a:xfrm>
            <a:off x="4149720" y="549360"/>
            <a:ext cx="709560" cy="709560"/>
            <a:chOff x="4149720" y="549360"/>
            <a:chExt cx="709560" cy="709560"/>
          </a:xfrm>
        </p:grpSpPr>
        <p:sp>
          <p:nvSpPr>
            <p:cNvPr id="1625" name="AutoShape 2009"/>
            <p:cNvSpPr/>
            <p:nvPr/>
          </p:nvSpPr>
          <p:spPr>
            <a:xfrm>
              <a:off x="4149720" y="549360"/>
              <a:ext cx="709560" cy="709560"/>
            </a:xfrm>
            <a:custGeom>
              <a:avLst/>
              <a:gdLst>
                <a:gd name="textAreaLeft" fmla="*/ 292320 w 709560"/>
                <a:gd name="textAreaRight" fmla="*/ 417240 w 709560"/>
                <a:gd name="textAreaTop" fmla="*/ 292320 h 709560"/>
                <a:gd name="textAreaBottom" fmla="*/ 417240 h 70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AutoShape 2010"/>
            <p:cNvSpPr/>
            <p:nvPr/>
          </p:nvSpPr>
          <p:spPr>
            <a:xfrm rot="2700000">
              <a:off x="4290840" y="690120"/>
              <a:ext cx="425880" cy="425880"/>
            </a:xfrm>
            <a:custGeom>
              <a:avLst/>
              <a:gdLst>
                <a:gd name="textAreaLeft" fmla="*/ 175320 w 425880"/>
                <a:gd name="textAreaRight" fmla="*/ 250560 w 425880"/>
                <a:gd name="textAreaTop" fmla="*/ 175320 h 425880"/>
                <a:gd name="textAreaBottom" fmla="*/ 250560 h 42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Oval 2011"/>
            <p:cNvSpPr/>
            <p:nvPr/>
          </p:nvSpPr>
          <p:spPr>
            <a:xfrm>
              <a:off x="4399560" y="798480"/>
              <a:ext cx="210240" cy="210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2012"/>
          <p:cNvGrpSpPr/>
          <p:nvPr/>
        </p:nvGrpSpPr>
        <p:grpSpPr>
          <a:xfrm>
            <a:off x="1403280" y="2421000"/>
            <a:ext cx="576360" cy="576360"/>
            <a:chOff x="1403280" y="2421000"/>
            <a:chExt cx="576360" cy="576360"/>
          </a:xfrm>
        </p:grpSpPr>
        <p:sp>
          <p:nvSpPr>
            <p:cNvPr id="1629" name="AutoShape 2013"/>
            <p:cNvSpPr/>
            <p:nvPr/>
          </p:nvSpPr>
          <p:spPr>
            <a:xfrm>
              <a:off x="1403280" y="2421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AutoShape 2014"/>
            <p:cNvSpPr/>
            <p:nvPr/>
          </p:nvSpPr>
          <p:spPr>
            <a:xfrm rot="2700000">
              <a:off x="1517760" y="253548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Oval 2015"/>
            <p:cNvSpPr/>
            <p:nvPr/>
          </p:nvSpPr>
          <p:spPr>
            <a:xfrm>
              <a:off x="1606320" y="2623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2" name="Group 2016"/>
          <p:cNvGrpSpPr/>
          <p:nvPr/>
        </p:nvGrpSpPr>
        <p:grpSpPr>
          <a:xfrm>
            <a:off x="1763640" y="3933720"/>
            <a:ext cx="576360" cy="576360"/>
            <a:chOff x="1763640" y="3933720"/>
            <a:chExt cx="576360" cy="576360"/>
          </a:xfrm>
        </p:grpSpPr>
        <p:sp>
          <p:nvSpPr>
            <p:cNvPr id="1633" name="AutoShape 2017"/>
            <p:cNvSpPr/>
            <p:nvPr/>
          </p:nvSpPr>
          <p:spPr>
            <a:xfrm>
              <a:off x="1763640" y="39337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AutoShape 2018"/>
            <p:cNvSpPr/>
            <p:nvPr/>
          </p:nvSpPr>
          <p:spPr>
            <a:xfrm rot="2700000">
              <a:off x="1878120" y="404820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Oval 2019"/>
            <p:cNvSpPr/>
            <p:nvPr/>
          </p:nvSpPr>
          <p:spPr>
            <a:xfrm>
              <a:off x="1966680" y="413604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Group 2020"/>
          <p:cNvGrpSpPr/>
          <p:nvPr/>
        </p:nvGrpSpPr>
        <p:grpSpPr>
          <a:xfrm>
            <a:off x="5796000" y="3429000"/>
            <a:ext cx="576360" cy="576360"/>
            <a:chOff x="5796000" y="3429000"/>
            <a:chExt cx="576360" cy="576360"/>
          </a:xfrm>
        </p:grpSpPr>
        <p:sp>
          <p:nvSpPr>
            <p:cNvPr id="1637" name="AutoShape 2021"/>
            <p:cNvSpPr/>
            <p:nvPr/>
          </p:nvSpPr>
          <p:spPr>
            <a:xfrm>
              <a:off x="5796000" y="342900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AutoShape 2022"/>
            <p:cNvSpPr/>
            <p:nvPr/>
          </p:nvSpPr>
          <p:spPr>
            <a:xfrm rot="2700000">
              <a:off x="5910480" y="354348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Oval 2023"/>
            <p:cNvSpPr/>
            <p:nvPr/>
          </p:nvSpPr>
          <p:spPr>
            <a:xfrm>
              <a:off x="5999040" y="363132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0" name="Group 2024"/>
          <p:cNvGrpSpPr/>
          <p:nvPr/>
        </p:nvGrpSpPr>
        <p:grpSpPr>
          <a:xfrm>
            <a:off x="6877080" y="3139920"/>
            <a:ext cx="576360" cy="576360"/>
            <a:chOff x="6877080" y="3139920"/>
            <a:chExt cx="576360" cy="576360"/>
          </a:xfrm>
        </p:grpSpPr>
        <p:sp>
          <p:nvSpPr>
            <p:cNvPr id="1641" name="AutoShape 2025"/>
            <p:cNvSpPr/>
            <p:nvPr/>
          </p:nvSpPr>
          <p:spPr>
            <a:xfrm>
              <a:off x="6877080" y="3139920"/>
              <a:ext cx="576360" cy="576360"/>
            </a:xfrm>
            <a:custGeom>
              <a:avLst/>
              <a:gdLst>
                <a:gd name="textAreaLeft" fmla="*/ 237600 w 576360"/>
                <a:gd name="textAreaRight" fmla="*/ 338760 w 576360"/>
                <a:gd name="textAreaTop" fmla="*/ 237600 h 576360"/>
                <a:gd name="textAreaBottom" fmla="*/ 3387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AutoShape 2026"/>
            <p:cNvSpPr/>
            <p:nvPr/>
          </p:nvSpPr>
          <p:spPr>
            <a:xfrm rot="2700000">
              <a:off x="6991560" y="3254400"/>
              <a:ext cx="345960" cy="345960"/>
            </a:xfrm>
            <a:custGeom>
              <a:avLst/>
              <a:gdLst>
                <a:gd name="textAreaLeft" fmla="*/ 142560 w 345960"/>
                <a:gd name="textAreaRight" fmla="*/ 203400 w 345960"/>
                <a:gd name="textAreaTop" fmla="*/ 142560 h 345960"/>
                <a:gd name="textAreaBottom" fmla="*/ 203400 h 34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Oval 2027"/>
            <p:cNvSpPr/>
            <p:nvPr/>
          </p:nvSpPr>
          <p:spPr>
            <a:xfrm>
              <a:off x="7080120" y="3342240"/>
              <a:ext cx="170640" cy="171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19215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Group 272"/>
          <p:cNvGrpSpPr/>
          <p:nvPr/>
        </p:nvGrpSpPr>
        <p:grpSpPr>
          <a:xfrm>
            <a:off x="4818600" y="5658480"/>
            <a:ext cx="367920" cy="367920"/>
            <a:chOff x="4818600" y="5658480"/>
            <a:chExt cx="367920" cy="367920"/>
          </a:xfrm>
        </p:grpSpPr>
        <p:grpSp>
          <p:nvGrpSpPr>
            <p:cNvPr id="1645" name="Group 273"/>
            <p:cNvGrpSpPr/>
            <p:nvPr/>
          </p:nvGrpSpPr>
          <p:grpSpPr>
            <a:xfrm>
              <a:off x="4821120" y="5661000"/>
              <a:ext cx="363240" cy="363240"/>
              <a:chOff x="4821120" y="5661000"/>
              <a:chExt cx="363240" cy="363240"/>
            </a:xfrm>
          </p:grpSpPr>
          <p:grpSp>
            <p:nvGrpSpPr>
              <p:cNvPr id="1646" name="Group 274"/>
              <p:cNvGrpSpPr/>
              <p:nvPr/>
            </p:nvGrpSpPr>
            <p:grpSpPr>
              <a:xfrm>
                <a:off x="4821120" y="5661000"/>
                <a:ext cx="363240" cy="363240"/>
                <a:chOff x="4821120" y="5661000"/>
                <a:chExt cx="363240" cy="363240"/>
              </a:xfrm>
            </p:grpSpPr>
            <p:sp>
              <p:nvSpPr>
                <p:cNvPr id="1647" name="Oval 275"/>
                <p:cNvSpPr/>
                <p:nvPr/>
              </p:nvSpPr>
              <p:spPr>
                <a:xfrm>
                  <a:off x="482112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Oval 276"/>
                <p:cNvSpPr/>
                <p:nvPr/>
              </p:nvSpPr>
              <p:spPr>
                <a:xfrm rot="5400000">
                  <a:off x="482040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9" name="Group 277"/>
              <p:cNvGrpSpPr/>
              <p:nvPr/>
            </p:nvGrpSpPr>
            <p:grpSpPr>
              <a:xfrm>
                <a:off x="4844520" y="5684760"/>
                <a:ext cx="315360" cy="315720"/>
                <a:chOff x="4844520" y="5684760"/>
                <a:chExt cx="315360" cy="315720"/>
              </a:xfrm>
            </p:grpSpPr>
            <p:sp>
              <p:nvSpPr>
                <p:cNvPr id="1650" name="Oval 278"/>
                <p:cNvSpPr/>
                <p:nvPr/>
              </p:nvSpPr>
              <p:spPr>
                <a:xfrm rot="2700000">
                  <a:off x="4820760" y="580176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Oval 279"/>
                <p:cNvSpPr/>
                <p:nvPr/>
              </p:nvSpPr>
              <p:spPr>
                <a:xfrm rot="8100000">
                  <a:off x="482004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2" name="Group 280"/>
            <p:cNvGrpSpPr/>
            <p:nvPr/>
          </p:nvGrpSpPr>
          <p:grpSpPr>
            <a:xfrm>
              <a:off x="4818600" y="5658480"/>
              <a:ext cx="367920" cy="367920"/>
              <a:chOff x="4818600" y="5658480"/>
              <a:chExt cx="367920" cy="367920"/>
            </a:xfrm>
          </p:grpSpPr>
          <p:grpSp>
            <p:nvGrpSpPr>
              <p:cNvPr id="1653" name="Group 281"/>
              <p:cNvGrpSpPr/>
              <p:nvPr/>
            </p:nvGrpSpPr>
            <p:grpSpPr>
              <a:xfrm>
                <a:off x="4818600" y="5658480"/>
                <a:ext cx="367920" cy="367920"/>
                <a:chOff x="4818600" y="5658480"/>
                <a:chExt cx="367920" cy="367920"/>
              </a:xfrm>
            </p:grpSpPr>
            <p:sp>
              <p:nvSpPr>
                <p:cNvPr id="1654" name="Oval 282"/>
                <p:cNvSpPr/>
                <p:nvPr/>
              </p:nvSpPr>
              <p:spPr>
                <a:xfrm rot="1320000">
                  <a:off x="48207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Oval 283"/>
                <p:cNvSpPr/>
                <p:nvPr/>
              </p:nvSpPr>
              <p:spPr>
                <a:xfrm rot="6720000">
                  <a:off x="4820400" y="580104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6" name="Group 284"/>
              <p:cNvGrpSpPr/>
              <p:nvPr/>
            </p:nvGrpSpPr>
            <p:grpSpPr>
              <a:xfrm>
                <a:off x="4818960" y="5659560"/>
                <a:ext cx="366480" cy="366480"/>
                <a:chOff x="4818960" y="5659560"/>
                <a:chExt cx="366480" cy="366480"/>
              </a:xfrm>
            </p:grpSpPr>
            <p:sp>
              <p:nvSpPr>
                <p:cNvPr id="1657" name="Oval 285"/>
                <p:cNvSpPr/>
                <p:nvPr/>
              </p:nvSpPr>
              <p:spPr>
                <a:xfrm rot="4020000">
                  <a:off x="4820760" y="580140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Oval 286"/>
                <p:cNvSpPr/>
                <p:nvPr/>
              </p:nvSpPr>
              <p:spPr>
                <a:xfrm rot="9420000">
                  <a:off x="4820400" y="5800680"/>
                  <a:ext cx="363240" cy="824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59" name="Oval 287"/>
            <p:cNvSpPr/>
            <p:nvPr/>
          </p:nvSpPr>
          <p:spPr>
            <a:xfrm>
              <a:off x="4943160" y="5789160"/>
              <a:ext cx="118800" cy="105840"/>
            </a:xfrm>
            <a:prstGeom prst="ellipse">
              <a:avLst/>
            </a:prstGeom>
            <a:blipFill rotWithShape="0">
              <a:blip r:embed="rId47"/>
              <a:srcRect/>
              <a:tile tx="0" ty="0" sx="100000" sy="100000" algn="ctr"/>
            </a:blip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0" name="Text Box 2028"/>
          <p:cNvSpPr/>
          <p:nvPr/>
        </p:nvSpPr>
        <p:spPr>
          <a:xfrm>
            <a:off x="2484360" y="1413000"/>
            <a:ext cx="5327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叶根友行书繁"/>
              </a:rPr>
              <a:t>春天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08000" y="65260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5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5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0" autoRev="1" fill="hold"/>
                                        <p:tgtEl>
                                          <p:spTgt spid="1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13" dur="3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200000">
                                      <p:cBhvr>
                                        <p:cTn id="15" dur="2000" fill="hold"/>
                                        <p:tgtEl>
                                          <p:spTgt spid="1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1200000">
                                      <p:cBhvr>
                                        <p:cTn id="17" dur="30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19" dur="20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1" dur="20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3" dur="20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9167 -0.04763 -0.18316 -0.09503 -0.25903 -0.09618 C -0.3349 -0.09734 -0.36233 -0.02243 -0.45573 -0.00647 C -0.54914 0.00948 -0.71389 0.01595 -0.81962 0 C -0.92535 -0.01595 -1.00782 -0.05942 -1.09011 -0.10266 E">
                                      <p:cBhvr>
                                        <p:cTn id="25" dur="20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0" autoRev="1" fill="hold"/>
                                        <p:tgtEl>
                                          <p:spTgt spid="16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500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50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2500" autoRev="1" fill="hold"/>
                                        <p:tgtEl>
                                          <p:spTgt spid="16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5000" fill="hold"/>
                                        <p:tgtEl>
                                          <p:spTgt spid="1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5000" fill="hold"/>
                                        <p:tgtEl>
                                          <p:spTgt spid="1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0" autoRev="1" fill="hold"/>
                                        <p:tgtEl>
                                          <p:spTgt spid="16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0" fill="hold"/>
                                        <p:tgtEl>
                                          <p:spTgt spid="161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0" autoRev="1" fill="hold"/>
                                        <p:tgtEl>
                                          <p:spTgt spid="1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0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50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2500" autoRev="1" fill="hold"/>
                                        <p:tgtEl>
                                          <p:spTgt spid="1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0" fill="hold"/>
                                        <p:tgtEl>
                                          <p:spTgt spid="16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0" autoRev="1" fill="hold"/>
                                        <p:tgtEl>
                                          <p:spTgt spid="16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500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2500" autoRev="1" fill="hold"/>
                                        <p:tgtEl>
                                          <p:spTgt spid="16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500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5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0" autoRev="1" fill="hold"/>
                                        <p:tgtEl>
                                          <p:spTgt spid="16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5000" fill="hold"/>
                                        <p:tgtEl>
                                          <p:spTgt spid="16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5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2500" autoRev="1" fill="hold"/>
                                        <p:tgtEl>
                                          <p:spTgt spid="16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5000" fill="hold"/>
                                        <p:tgtEl>
                                          <p:spTgt spid="16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5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3" presetSubtype="6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EB39-8C7F-47BA-9682-1C2A0D9FD1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57:2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20T06:38:59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