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D51-1459-4AC3-8FC1-FF0C7104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EAA-B703-4E66-877B-798B3AFC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AD0-87E6-4A15-964F-5D6D64C4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662-7506-4E36-B6BE-039C958C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3AB-FBB3-4A54-A9E8-E7C23DC8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391-F4C0-4968-A5D5-789478A2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CD38-BB80-4974-9B13-84D2209F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EDA-7F54-4FC2-879F-F26C83FE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85E-D613-4347-934A-5E2C6E0F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78A-2662-4F7F-9FD4-8543BF36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934-0EB1-463A-A139-BF9ADF3F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500-B996-4DE3-9471-E15AA641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E81F9-97AC-4528-BB7D-D62A0C038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Golden Metal5.jpg"/>
          <p:cNvPicPr/>
          <p:nvPr/>
        </p:nvPicPr>
        <p:blipFill>
          <a:blip r:embed="rId2"/>
          <a:stretch/>
        </p:blipFill>
        <p:spPr>
          <a:xfrm>
            <a:off x="2773440" y="1816200"/>
            <a:ext cx="3651120" cy="1328760"/>
          </a:xfrm>
          <a:prstGeom prst="rect">
            <a:avLst/>
          </a:prstGeom>
          <a:ln w="0">
            <a:noFill/>
          </a:ln>
        </p:spPr>
      </p:pic>
      <p:pic>
        <p:nvPicPr>
          <p:cNvPr id="42" name="矩形 3" descr=""/>
          <p:cNvPicPr/>
          <p:nvPr/>
        </p:nvPicPr>
        <p:blipFill>
          <a:blip r:embed="rId3"/>
          <a:stretch/>
        </p:blipFill>
        <p:spPr>
          <a:xfrm>
            <a:off x="2378160" y="1646280"/>
            <a:ext cx="4479840" cy="1365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47815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1.png"/>
          <p:cNvPicPr/>
          <p:nvPr/>
        </p:nvPicPr>
        <p:blipFill>
          <a:blip r:embed="rId2"/>
          <a:stretch/>
        </p:blipFill>
        <p:spPr>
          <a:xfrm>
            <a:off x="719280" y="371520"/>
            <a:ext cx="77230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0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A25-8FFE-4648-A93C-A6B6BB5D2C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1.png"/>
          <p:cNvPicPr/>
          <p:nvPr/>
        </p:nvPicPr>
        <p:blipFill>
          <a:blip r:embed="rId2"/>
          <a:stretch/>
        </p:blipFill>
        <p:spPr>
          <a:xfrm>
            <a:off x="719280" y="371520"/>
            <a:ext cx="77230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6:38:56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