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269-A8C4-4C27-AC40-30B596F4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806-CA15-422B-AE1A-B8DE0B1E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71C-43BD-45E3-B26B-05449B3C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D6A-C1C2-474D-A075-E700DBC8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9D52-4C0E-45C9-9184-C41DA070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1A3C-F6D4-493B-BC6D-C6372BA5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53CA-DD0F-42C8-9AFF-A9037D61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256C-B874-422C-9430-AA82B6BD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C803-A074-41DF-AD65-9F21897C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07B8-3210-468F-A156-00B1154B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8BFB-BF4D-4B52-A282-C347EB3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92D-FDB9-410F-86A4-BAB18597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7FC4-72DE-4401-8D01-91391C59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F4F9-F811-4E8A-966C-4E405309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7BA4-B70D-49B4-8007-567AC7F3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1D6D-D0EE-4F1D-BF1D-A45737DF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01FB-4314-4E6F-A784-AB6ADCA6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892-582A-4E1B-B0D4-9DD837BB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A3A-AF7D-4E70-99D7-578A19DB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8CE-F06A-4C74-B255-BA24DAFF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230-FB4D-4B14-AE49-812F5571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971-50A1-455D-AD7E-C7C7AFA8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140-5DB0-4E8D-824F-9B99087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FA9-EF39-4866-8F63-694B2C29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18BE-1734-4612-B100-98273FEFC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A4F9-0BC5-4DFD-92BF-0DD2D60E5A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2.gif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21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900000" y="333360"/>
            <a:ext cx="57596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搭石</a:t>
            </a: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PPT</a:t>
            </a:r>
            <a:r>
              <a:rPr b="1" i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刘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155160" y="646596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60608234209130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0" y="5516640"/>
            <a:ext cx="47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Arial"/>
              </a:rPr>
              <a:t>人　影　绰　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_17005000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-67320" y="2133720"/>
            <a:ext cx="1399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清　波　漾　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838120" y="2536920"/>
            <a:ext cx="13993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人　影　绰　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4B31476528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64000" y="5734080"/>
            <a:ext cx="2665440" cy="565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协调有序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60608234209993"/>
          <p:cNvPicPr/>
          <p:nvPr/>
        </p:nvPicPr>
        <p:blipFill>
          <a:blip r:embed="rId1"/>
          <a:stretch/>
        </p:blipFill>
        <p:spPr>
          <a:xfrm>
            <a:off x="2325600" y="0"/>
            <a:ext cx="48135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068480" y="836640"/>
            <a:ext cx="850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Arial"/>
              </a:rPr>
              <a:t>清　波　漾　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0060608234209130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0" y="5516640"/>
            <a:ext cx="47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Arial"/>
              </a:rPr>
              <a:t>人　影　绰　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_17005000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-67320" y="2133720"/>
            <a:ext cx="1399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清　波　漾　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838120" y="2536920"/>
            <a:ext cx="13993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人　影　绰　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协调有序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611280" y="13413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气变凉，家乡的人们会根据水的深浅，从河的两岸找来一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平整方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石头，按照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尺左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间隔，在小溪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横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摆上一排，让人们从上面踏过，这就是搭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95280" y="476280"/>
            <a:ext cx="835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　　家乡有一句“紧走搭石慢过桥”的俗语。搭石，原本就是天然石块，踩上去难免会活动，走得快才容易保持平衡。人们走搭石不能抢路，也不能突然止步。如果前面的人突然停住，后边的人没处落脚，就会掉进水里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当上工、下工，一行人走搭石的时候，动作是那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协调有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！前面的抬起脚来，后面的紧跟上去，踏踏的声音，像轻快的音乐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清波漾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人影绰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给人画一般的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468360" y="90792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读课文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划出有关句子，体会看不见的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反复读句子，想想具体从哪些字词体会到 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6300720" y="6093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7885080" y="580536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3"/>
          <p:cNvGrpSpPr/>
          <p:nvPr/>
        </p:nvGrpSpPr>
        <p:grpSpPr>
          <a:xfrm>
            <a:off x="5651640" y="6165720"/>
            <a:ext cx="215640" cy="287280"/>
            <a:chOff x="5651640" y="6165720"/>
            <a:chExt cx="215640" cy="287280"/>
          </a:xfrm>
        </p:grpSpPr>
        <p:sp>
          <p:nvSpPr>
            <p:cNvPr id="157" name="Rectangle 22"/>
            <p:cNvSpPr/>
            <p:nvPr/>
          </p:nvSpPr>
          <p:spPr>
            <a:xfrm>
              <a:off x="5651640" y="6165720"/>
              <a:ext cx="215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>
              <a:off x="5651640" y="6165720"/>
              <a:ext cx="21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27"/>
          <p:cNvSpPr/>
          <p:nvPr/>
        </p:nvSpPr>
        <p:spPr>
          <a:xfrm rot="10678800">
            <a:off x="6300360" y="6091200"/>
            <a:ext cx="2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8"/>
          <p:cNvSpPr/>
          <p:nvPr/>
        </p:nvSpPr>
        <p:spPr>
          <a:xfrm>
            <a:off x="6300720" y="6093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9"/>
          <p:cNvSpPr/>
          <p:nvPr/>
        </p:nvSpPr>
        <p:spPr>
          <a:xfrm rot="10678800">
            <a:off x="6300360" y="6091200"/>
            <a:ext cx="2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2"/>
          <p:cNvGrpSpPr/>
          <p:nvPr/>
        </p:nvGrpSpPr>
        <p:grpSpPr>
          <a:xfrm>
            <a:off x="6296760" y="6086160"/>
            <a:ext cx="294840" cy="294120"/>
            <a:chOff x="6296760" y="6086160"/>
            <a:chExt cx="294840" cy="294120"/>
          </a:xfrm>
        </p:grpSpPr>
        <p:sp>
          <p:nvSpPr>
            <p:cNvPr id="163" name="Rectangle 30"/>
            <p:cNvSpPr/>
            <p:nvPr/>
          </p:nvSpPr>
          <p:spPr>
            <a:xfrm>
              <a:off x="6300720" y="6093000"/>
              <a:ext cx="216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1"/>
            <p:cNvSpPr/>
            <p:nvPr/>
          </p:nvSpPr>
          <p:spPr>
            <a:xfrm rot="10678800">
              <a:off x="6300360" y="609120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5"/>
          <p:cNvGrpSpPr/>
          <p:nvPr/>
        </p:nvGrpSpPr>
        <p:grpSpPr>
          <a:xfrm>
            <a:off x="7020000" y="5948280"/>
            <a:ext cx="358560" cy="289080"/>
            <a:chOff x="7020000" y="5948280"/>
            <a:chExt cx="358560" cy="289080"/>
          </a:xfrm>
        </p:grpSpPr>
        <p:sp>
          <p:nvSpPr>
            <p:cNvPr id="166" name="Rectangle 25"/>
            <p:cNvSpPr/>
            <p:nvPr/>
          </p:nvSpPr>
          <p:spPr>
            <a:xfrm>
              <a:off x="7092720" y="5950080"/>
              <a:ext cx="215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4"/>
            <p:cNvSpPr/>
            <p:nvPr/>
          </p:nvSpPr>
          <p:spPr>
            <a:xfrm rot="10800000">
              <a:off x="7020000" y="5948280"/>
              <a:ext cx="35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755640" y="1557360"/>
            <a:ext cx="79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上了点年岁的人，无论怎样急着赶路，只要发现哪块搭石不平稳，一定会放下带的东西，找来合适的石头搭上，再在上边踏上几个来回，直到满意了才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755640" y="155736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踏上几个来回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755640" y="155736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755640" y="333360"/>
            <a:ext cx="7920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老人踩到了不稳的搭石，他想（                                   ），当他找到合适的石头搭上，还要在上面踏上几个来回，他（                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755640" y="155736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684360" y="404640"/>
            <a:ext cx="792000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　搭石，构成了家乡的一道风景。秋凉以后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早早地将搭石摆放好。如果别处都有搭石，唯独这一处没有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会谴责这里的人懒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684360" y="404640"/>
            <a:ext cx="792000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　搭石，构成了家乡的一道风景。秋凉以后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早早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地将搭石摆放好。如果别处都有搭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唯独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处没有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们会谴责这里的人懒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了点年岁的人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急着赶路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哪块搭石不平稳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放下带的东西，找来合适的石头搭上，再在上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踏上几个来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直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意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肯离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956720" y="6165720"/>
            <a:ext cx="2872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21_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2556000" y="1628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39640" y="2421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如果有两个人面对面同时走到溪边，总会在第一块搭石前止步，招手示意，让对方先走，等对方过了河，俩人再说上几句家常话，才相背而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21_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2556000" y="1628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39640" y="2421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有两个人面对面同时走到溪边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第一块搭石前止步，招手示意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让对方先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等对方过了河，俩人再说上几句家常话，才相背而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21_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2556000" y="1628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39640" y="2421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有两个人面对面同时走到溪边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第一块搭石前止步，招手示意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让对方先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等对方过了河，俩人再说上几句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家常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才相背而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164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539640" y="1773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假如遇上老人来走搭石，年轻人总要伏下身子背老人过去，人们把这看成理所当然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539640" y="1773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假如遇上老人来走搭石，年轻人总要伏下身子背老人过去，人们把这看成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理所当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7308720" y="5589720"/>
            <a:ext cx="466920" cy="395280"/>
          </a:xfrm>
          <a:custGeom>
            <a:avLst/>
            <a:gdLst>
              <a:gd name="textAreaLeft" fmla="*/ 25560 w 466920"/>
              <a:gd name="textAreaRight" fmla="*/ 441360 w 4669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511" h="21600">
                <a:moveTo>
                  <a:pt x="0" y="0"/>
                </a:moveTo>
                <a:lnTo>
                  <a:pt x="25511" y="0"/>
                </a:lnTo>
                <a:lnTo>
                  <a:pt x="25511" y="21600"/>
                </a:lnTo>
                <a:lnTo>
                  <a:pt x="0" y="21600"/>
                </a:lnTo>
                <a:close/>
              </a:path>
              <a:path fill="lightenLess" w="25511" h="21600">
                <a:moveTo>
                  <a:pt x="0" y="0"/>
                </a:moveTo>
                <a:lnTo>
                  <a:pt x="25511" y="0"/>
                </a:lnTo>
                <a:lnTo>
                  <a:pt x="24111" y="1400"/>
                </a:lnTo>
                <a:lnTo>
                  <a:pt x="1400" y="1400"/>
                </a:lnTo>
                <a:close/>
              </a:path>
              <a:path fill="darken" w="25511" h="21600">
                <a:moveTo>
                  <a:pt x="25511" y="0"/>
                </a:moveTo>
                <a:lnTo>
                  <a:pt x="25511" y="21600"/>
                </a:lnTo>
                <a:lnTo>
                  <a:pt x="24111" y="20200"/>
                </a:lnTo>
                <a:lnTo>
                  <a:pt x="24111" y="1400"/>
                </a:lnTo>
                <a:close/>
              </a:path>
              <a:path fill="darkenLess" w="25511" h="21600">
                <a:moveTo>
                  <a:pt x="25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1" y="20200"/>
                </a:lnTo>
                <a:close/>
              </a:path>
              <a:path fill="lighten" w="25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2268360" y="1844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石，构成了家乡的一道风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2268360" y="1844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84360" y="2205000"/>
            <a:ext cx="763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排排搭石，任人走，任人踏，它们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联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故乡的小路，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联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乡亲们美好的情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natur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4B257572911[1]"/>
          <p:cNvPicPr/>
          <p:nvPr/>
        </p:nvPicPr>
        <p:blipFill>
          <a:blip r:embed="rId2"/>
          <a:stretch/>
        </p:blipFill>
        <p:spPr>
          <a:xfrm>
            <a:off x="1447920" y="4876920"/>
            <a:ext cx="6172200" cy="761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4B398627253"/>
          <p:cNvPicPr/>
          <p:nvPr/>
        </p:nvPicPr>
        <p:blipFill>
          <a:blip r:embed="rId3"/>
          <a:stretch/>
        </p:blipFill>
        <p:spPr>
          <a:xfrm>
            <a:off x="6934320" y="43434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4B398630205"/>
          <p:cNvPicPr/>
          <p:nvPr/>
        </p:nvPicPr>
        <p:blipFill>
          <a:blip r:embed="rId4"/>
          <a:stretch/>
        </p:blipFill>
        <p:spPr>
          <a:xfrm>
            <a:off x="684360" y="83664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4B398627253"/>
          <p:cNvPicPr/>
          <p:nvPr/>
        </p:nvPicPr>
        <p:blipFill>
          <a:blip r:embed="rId5"/>
          <a:stretch/>
        </p:blipFill>
        <p:spPr>
          <a:xfrm>
            <a:off x="1600200" y="51814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练笔：写写自己发现的平凡事物中的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natur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0"/>
          <p:cNvSpPr/>
          <p:nvPr/>
        </p:nvSpPr>
        <p:spPr>
          <a:xfrm>
            <a:off x="5366160" y="981000"/>
            <a:ext cx="2724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没有心的沙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没有爱的荒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神也望而却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幸福之花处处开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4B398627253"/>
          <p:cNvPicPr/>
          <p:nvPr/>
        </p:nvPicPr>
        <p:blipFill>
          <a:blip r:embed="rId2"/>
          <a:stretch/>
        </p:blipFill>
        <p:spPr>
          <a:xfrm>
            <a:off x="6934320" y="43434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4B398630205"/>
          <p:cNvPicPr/>
          <p:nvPr/>
        </p:nvPicPr>
        <p:blipFill>
          <a:blip r:embed="rId3"/>
          <a:stretch/>
        </p:blipFill>
        <p:spPr>
          <a:xfrm>
            <a:off x="2195640" y="26028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4B398627253"/>
          <p:cNvPicPr/>
          <p:nvPr/>
        </p:nvPicPr>
        <p:blipFill>
          <a:blip r:embed="rId4"/>
          <a:stretch/>
        </p:blipFill>
        <p:spPr>
          <a:xfrm>
            <a:off x="1600200" y="51814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2728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的奉献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50920" y="982800"/>
            <a:ext cx="439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心的呼唤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爱的奉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人间的春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生命的源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没有心的沙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没有爱的荒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神也望而却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幸福之花处处开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只要人人都献出一点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8472600" y="333360"/>
            <a:ext cx="6714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4B398630205"/>
          <p:cNvPicPr/>
          <p:nvPr/>
        </p:nvPicPr>
        <p:blipFill>
          <a:blip r:embed="rId5"/>
          <a:stretch/>
        </p:blipFill>
        <p:spPr>
          <a:xfrm>
            <a:off x="5435640" y="2602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4B398630205"/>
          <p:cNvPicPr/>
          <p:nvPr/>
        </p:nvPicPr>
        <p:blipFill>
          <a:blip r:embed="rId6"/>
          <a:stretch/>
        </p:blipFill>
        <p:spPr>
          <a:xfrm>
            <a:off x="3708360" y="2349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4B398630205"/>
          <p:cNvPicPr/>
          <p:nvPr/>
        </p:nvPicPr>
        <p:blipFill>
          <a:blip r:embed="rId7"/>
          <a:stretch/>
        </p:blipFill>
        <p:spPr>
          <a:xfrm>
            <a:off x="8028000" y="1125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4B398627253"/>
          <p:cNvPicPr/>
          <p:nvPr/>
        </p:nvPicPr>
        <p:blipFill>
          <a:blip r:embed="rId8"/>
          <a:stretch/>
        </p:blipFill>
        <p:spPr>
          <a:xfrm>
            <a:off x="7524720" y="24922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4B398627253"/>
          <p:cNvPicPr/>
          <p:nvPr/>
        </p:nvPicPr>
        <p:blipFill>
          <a:blip r:embed="rId9"/>
          <a:stretch/>
        </p:blipFill>
        <p:spPr>
          <a:xfrm>
            <a:off x="1332000" y="29242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4B398627253"/>
          <p:cNvPicPr/>
          <p:nvPr/>
        </p:nvPicPr>
        <p:blipFill>
          <a:blip r:embed="rId10"/>
          <a:stretch/>
        </p:blipFill>
        <p:spPr>
          <a:xfrm>
            <a:off x="3851280" y="33577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4B398627253"/>
          <p:cNvPicPr/>
          <p:nvPr/>
        </p:nvPicPr>
        <p:blipFill>
          <a:blip r:embed="rId11"/>
          <a:stretch/>
        </p:blipFill>
        <p:spPr>
          <a:xfrm>
            <a:off x="2843280" y="1125360"/>
            <a:ext cx="639720" cy="64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4B398627253"/>
          <p:cNvPicPr/>
          <p:nvPr/>
        </p:nvPicPr>
        <p:blipFill>
          <a:blip r:embed="rId12"/>
          <a:stretch/>
        </p:blipFill>
        <p:spPr>
          <a:xfrm>
            <a:off x="468360" y="60930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4B398627253"/>
          <p:cNvPicPr/>
          <p:nvPr/>
        </p:nvPicPr>
        <p:blipFill>
          <a:blip r:embed="rId13"/>
          <a:stretch/>
        </p:blipFill>
        <p:spPr>
          <a:xfrm>
            <a:off x="2987640" y="60930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0" descr="4B398627253"/>
          <p:cNvPicPr/>
          <p:nvPr/>
        </p:nvPicPr>
        <p:blipFill>
          <a:blip r:embed="rId14"/>
          <a:stretch/>
        </p:blipFill>
        <p:spPr>
          <a:xfrm>
            <a:off x="4859280" y="602136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1" descr="4B398627253"/>
          <p:cNvPicPr/>
          <p:nvPr/>
        </p:nvPicPr>
        <p:blipFill>
          <a:blip r:embed="rId15"/>
          <a:stretch/>
        </p:blipFill>
        <p:spPr>
          <a:xfrm>
            <a:off x="7020000" y="595008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2" descr="4B398630205"/>
          <p:cNvPicPr/>
          <p:nvPr/>
        </p:nvPicPr>
        <p:blipFill>
          <a:blip r:embed="rId16"/>
          <a:stretch/>
        </p:blipFill>
        <p:spPr>
          <a:xfrm>
            <a:off x="4356000" y="522936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232" name="爱的奉献7.mp3" descr=""/>
          <p:cNvPicPr/>
          <p:nvPr/>
        </p:nvPicPr>
        <p:blipFill>
          <a:blip r:embed="rId17"/>
          <a:stretch/>
        </p:blipFill>
        <p:spPr>
          <a:xfrm>
            <a:off x="781200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3"/>
          <p:cNvSpPr/>
          <p:nvPr/>
        </p:nvSpPr>
        <p:spPr>
          <a:xfrm>
            <a:off x="1044720" y="645336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076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95280" y="112536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协调有序！前面的抬起脚来，后面的紧跟上去，踏踏的声音，像轻快的音乐；清波漾漾，人影绰绰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826920" y="6021360"/>
            <a:ext cx="2665440" cy="565200"/>
            <a:chOff x="826920" y="6021360"/>
            <a:chExt cx="2665440" cy="565200"/>
          </a:xfrm>
        </p:grpSpPr>
        <p:pic>
          <p:nvPicPr>
            <p:cNvPr id="95" name="Picture 7" descr="4B314765285"/>
            <p:cNvPicPr/>
            <p:nvPr/>
          </p:nvPicPr>
          <p:blipFill>
            <a:blip r:embed="rId2"/>
            <a:stretch/>
          </p:blipFill>
          <p:spPr>
            <a:xfrm>
              <a:off x="826920" y="602136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8"/>
            <p:cNvSpPr/>
            <p:nvPr/>
          </p:nvSpPr>
          <p:spPr>
            <a:xfrm>
              <a:off x="2050920" y="60926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动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435640" y="5950080"/>
            <a:ext cx="2665440" cy="565200"/>
            <a:chOff x="5435640" y="5950080"/>
            <a:chExt cx="2665440" cy="565200"/>
          </a:xfrm>
        </p:grpSpPr>
        <p:pic>
          <p:nvPicPr>
            <p:cNvPr id="98" name="Picture 10" descr="4B314765285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35640" y="595008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1"/>
            <p:cNvSpPr/>
            <p:nvPr/>
          </p:nvSpPr>
          <p:spPr>
            <a:xfrm>
              <a:off x="7164360" y="60213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24000" y="184464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清波漾漾，人影绰绰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95280" y="476280"/>
            <a:ext cx="8352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　　家乡有一句“紧走搭石慢过桥”的俗语。搭石，原本就是天然石块，踩上去难免会活动，走得快才容易保持平衡。人们走搭石不能抢路，也不能突然止步。如果前面的人突然停住，后边的人没处落脚，就会掉进水里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当上工、下工，一行人走搭石的时候，动作是那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协调有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！前面的抬起脚来，后面的紧跟上去，踏踏的声音，像轻快的音乐；清波漾漾，人影绰绰，给人画一般的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50920" y="1484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行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调有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影绰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0060608234209993"/>
          <p:cNvPicPr/>
          <p:nvPr/>
        </p:nvPicPr>
        <p:blipFill>
          <a:blip r:embed="rId1"/>
          <a:stretch/>
        </p:blipFill>
        <p:spPr>
          <a:xfrm>
            <a:off x="2325600" y="0"/>
            <a:ext cx="4813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068480" y="836640"/>
            <a:ext cx="850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Arial"/>
              </a:rPr>
              <a:t>清　波　漾　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1:20:17Z</dcterms:created>
  <dc:creator/>
  <dc:description/>
  <cp:keywords>幻灯片之家 http:/www.eeppt.com</cp:keywords>
  <dc:language>en-US</dc:language>
  <cp:lastModifiedBy/>
  <dcterms:modified xsi:type="dcterms:W3CDTF">2015-07-20T01:48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