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E21E-43EA-4369-8BE2-091F4BA6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AB17-E333-4E6F-939C-60E1B2FA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1BE-5784-452D-8099-C2139F3A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EB5-71D4-4C3B-BBDD-A5809BD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3BF9-B58E-4660-B6F6-196E4EFD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56E8-6AC0-445F-B770-6AB9037F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5C0-E17C-4478-9CFC-9FC0651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612-EB5E-41C3-B3E0-FE5A8273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595-8808-4EF2-8DAC-A1A45FD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095-2A99-4C1F-BD3B-C4E37648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164-B5DD-49A4-8DBE-28BB0B5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7A7E-9757-4A10-BE9B-D2DC6F2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D9DA-6642-475A-B99A-1B777C63D1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4DB5-089D-48DF-BBF7-351484B5DF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hyperlink" Target="http://www.eeppt.com/dongtai/" TargetMode="External"/><Relationship Id="rId1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4600">
            <a:off x="-3306240" y="3027240"/>
            <a:ext cx="156603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 rot="1764600">
            <a:off x="-10800" y="-2552760"/>
            <a:ext cx="15660720" cy="6789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44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427960" y="3370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06640" y="1717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动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模板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4400" y="-671400"/>
            <a:ext cx="1251000" cy="12492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75A-03FC-45CA-8A0B-787763BED4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14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8:59:47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