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</p:sldMasterIdLst>
  <p:sldIdLst>
    <p:sldId id="256" r:id="rId53"/>
    <p:sldId id="257" r:id="rId54"/>
    <p:sldId id="258" r:id="rId55"/>
    <p:sldId id="25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521A-18FF-48E6-A6B3-4915EE59EC6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CE52-9ADB-44F4-9F40-0450C2541E6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CD4A-F290-4FB5-98C6-842BD532252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ADC3-7CA7-43B4-BF1D-A38706B453A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3B13-03F8-47AA-BD22-F21340CFCD9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AAC8-FE52-479C-A10D-CEF01EF1EC8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B0E2-0DE8-44A6-BEB1-8BD2ECFB480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8EBA-F775-4908-9687-7A541CE3D9E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F18-4C74-4424-B6F2-E70B45903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5B9-2F33-49F0-9753-FB28A0B3837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9BD8B-C70A-41C8-9CA7-9633B5300C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0022-E106-4B0A-AF36-B50F91B57BE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AE37-82A0-4C31-90C4-B3274688945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EF80-BC7B-4A5A-A8DD-1DAB74EA12A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B04A-3C05-4EF1-A28E-369312C624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5B72-34D6-416C-9516-D55CF71B6E2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50617-F8E2-4477-9347-E089083397A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7781-EEE5-4DCE-A0E8-D3D4332A10D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A910-A098-434A-A3B1-25818C1F0B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FE72-0DCF-448B-A8CD-803D6B411F4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8C62-521A-49DF-A6E5-2FAB7A80F65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D2FA-63BE-4B63-82CC-8E4E3EB3BD7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34D5-F8BA-4A46-B388-078251C73B9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084E-3F55-4FFD-9A54-A830DCDEC50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D95-9A8B-4AA3-9560-061ED5C4AF4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9B5-26B5-4B53-B474-92E1DDAD99D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C60-E47F-4575-BF75-7BAE866804C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AAA-DA91-4A9D-8F40-782F0251276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8E3-34AE-4422-A77C-BDEBC6AF2E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3AD-9FF6-4BEA-B4B8-ABD72046B81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859-5DD8-4B16-B207-44EEB5CC353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8CC-0BFC-47B7-938E-7D063DACA91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B15C-A23B-4ABB-9CBB-B8AE423A28A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FFA-B440-4B4D-BC41-86CFE8EFE6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910D-9395-4CE7-97CA-B88E252298C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6D9-6944-48E7-82C3-29AC62BF318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B78A5-D382-4850-B1E0-2F48FE68B17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C96B-056C-403C-9162-8FCCEF121E8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6F0E9-FEF1-47B9-98CE-E119FCFDD1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04DD4-9DE4-4D0A-8B1D-65B77AAA4D7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3D73C-B95F-44E0-A315-29EC54B12FB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E5DE5-99FA-497E-AA61-06EFB6FEAA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83A4B-21AA-4C41-AFB7-60C81262840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CC53-161D-4ED6-9CE7-00D3E778476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A7933-79CB-4540-9B50-BE4DF21BE68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299BD-6C0A-4CCD-B15E-AEC19BED4BA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EA9F2-5DF1-456D-BE18-F34C9D0E120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88271-170E-4FDA-AE94-DDFC9A2708B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26971-2FC2-46CE-AAD6-D4B1A9A4E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D5613-0040-4983-AF06-D86A24CC210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06F9B-4949-4840-8197-184E3F63D39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A2C5-F723-49F2-9D05-729EA2C7F7B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E8514-DF03-4609-A87F-0D897896849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4DA03-75EE-4B75-B1C4-C5B5AA61AC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C732C-4BC4-4049-AC8E-7D961D8D7AE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01622-A6A5-4C83-934A-5A99EA1A158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7C169-E55C-48F9-A315-3F7EF756BAE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C52C8-9BBC-4AE7-B98B-B6211A2B667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4B6AA-ED20-4B18-AF2C-ADD25AC79E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A85DA-724B-4F69-8176-61AD35B31F5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7591-F24A-49B8-A209-CC848BE84AF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FBB-6A6B-4B34-A7D7-6A841652C5E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8845-5812-4956-A759-7301F53328D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4B1C-4AE4-4847-9EE9-6BF21567334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06D-830E-4C4C-9D14-82733D7F5A4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9350-27B8-4FEE-AEF7-63C37071A75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0F2F-0443-4ADA-AF13-860C54B46C0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D503-4E21-41B6-AE06-B5D881CBCAD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D1F-49EB-4051-B520-A6213DE6FB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A7AE-1E2D-434E-9DE2-0BCFDF057F3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E44C-4376-40FA-8531-74831793979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97F4-E806-4A26-8B61-DD8E075611E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A009A-080C-431D-A73B-B12B3E5D1E0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DDC17-C8BE-4015-A954-09BA7C93C6B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3BE17-C92F-44A3-8D99-8DEED6CE3C5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86440-5D12-4E26-9772-8006747F014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771E3E-0873-4C42-95D2-0CED6589C97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DCBD8-4207-469C-B3F7-ABE58160A24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6FE4D-F39E-4D8C-8E10-91BAA11DD7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64BFA-534C-462D-B29E-7F51D16387B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E36CB-D320-4F69-8B06-95BE55C97D9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7F611-067B-49A3-965F-D53AB5B3410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13D40A-8D6F-4A78-B3E3-F7B63987E09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2DC4D-7150-47EE-B266-B44FC1A6585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9ED2D-C782-4801-AB71-09073C68CA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59C44-EC96-4FBC-9159-B1FEB936EE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C017E-73B0-469E-A123-86B76678DC6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F45D3-BE46-48BB-8ABD-F3F8563E3AE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B579E-1C6F-4712-A41A-41574B50BD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7E1CC-833B-4ADB-9880-21E4B1C03E5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0CCFA-CB77-4A8A-A9E6-FF21074D45C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A8A0E-6E0F-4D4B-9A94-753958E3FA7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2121E-A134-4425-9898-F6772AE0AEC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2CB59-9CFF-4161-B2F4-8A6E6B85032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6F70A-E3FE-4B5F-8896-2165A46DA66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B53F5-609E-47C9-84F6-FF3FE06A7D3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BF56E-F45A-4882-8D17-687F2031A72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5951-82C2-4A03-94F3-CC87E95C487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5ADB3-91D2-433D-8BD8-333CAC793E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2B26-D505-4CA1-B30C-3A6F19CF9B7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66BF-4A2B-4925-941D-868712A303A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71F4-603C-4ABE-A703-7C3C1CFFC86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1E08-B62D-4DFC-BC92-AD7832B275B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5795-CDEC-48C6-A5A0-6E6DDFC92E2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D8ED-8394-4CC8-8CC9-6859F8B6E50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7C31-BACA-429E-A865-BA02ACB8308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957C-7D62-4DF4-8FBF-60588A630FE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F4E9-0DC5-40C4-A57D-487392E7107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7E8709-14F8-45FE-83CF-AFB6BC1130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19DD05-8733-4618-8914-0EF4330D29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DC0AC-E0EE-4A6E-86E8-B5361717914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29DB5-81FB-410F-B1B3-37010907D01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37A9B-40DB-4FCA-A29A-6B9A3C366B1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03183-35AA-48E9-96C0-E662C22EB70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B5A78-FEC0-4FE8-8311-42C58B0E665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E65F17-0A8A-4430-9178-8D0C5CFDCC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93E7C-A4EB-4267-8F96-FDEA5DD6A82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FD791-3D43-4BE8-B39A-C9D4661F475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D898B-B5B0-40D9-924E-66A9A113F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1688A-8EE1-43B5-B8C0-492D6C92416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CA8E87-CD2E-460D-860A-07B00F6C2A8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63ADA-ECBE-4164-B935-60DE1EA62E7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719E60-0BB8-43F6-8A3B-7F92B9EBC0A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A850E6-E92A-4D6E-9AFD-A457FB8EAD7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6BADF-26AA-4EBC-AF11-8AC8DD934C9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0071D9-B99A-4893-A60F-464DE829996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A86468-C8E7-4DEA-BF12-5F5EC88EC98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10011-762E-4CC6-9917-BF4104F490A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D0D15-06CE-4D42-8259-FAB9A56BD4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45EA5-7402-4C9B-9213-059D5EC2736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C6C1F-6244-4217-8EC1-DFB0B7521B9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B8BEB-B79D-4EB1-8D38-DBE946988A2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FAC16-8C00-4C26-95B3-F27F07A799E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882E3-5A6D-413C-AC24-B0702C4E0E8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1BB7-E274-4B59-A5E9-1F946869373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2488D-6F88-4AA4-970E-AECA3EC4EE7D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A69B-AD69-4565-9134-71834E718B7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C7A3-25AD-427C-AE39-02FBA1AB2D6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3685-113E-4294-93BD-722F69F1C7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89AC7-6466-44FA-AAA2-2630D9F527B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55B2-18DE-44C5-80DA-E40B3BE5C35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D512-EFC0-4AA0-8634-CB3103D52A4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CB0D-F947-4700-9A02-E9F8948876E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57A63-00D4-4910-A881-C0A69DB888D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201B5-4C32-490C-8D7D-10784E120884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A58BF3-8884-4024-AAD9-4AA71425028B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8EE49-1453-445C-932A-9ABA2F24CA8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3D914-F2B7-4493-A567-8AF367B6018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326DA3-3541-468B-9FFC-6FB88562EA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3678F4-479C-456E-9351-4023575EC67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590FA-8B5A-4B54-A7BD-5C08B44D0D6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6001C1-FCF3-407A-BF59-74839C519F6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6BA31-989A-4E9D-BFE9-DB8D476DB877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E5A1C3-4615-41F1-8C5E-06F8F3A6D89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03F76-FBBB-46D2-BA9C-4A9ADFBA0DD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FA8C3-3186-4198-802A-0AD6AA29ACA9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DDCA0-5AB5-44C3-BAA5-8F586C238F55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ABA79-4D90-48C8-A81D-BFCB95A15DA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49E5D-FF30-4624-BA31-3A4F13A1F1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397F6-5A40-408D-B84C-A4DE055B5F0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1E738-DC3D-4852-A5B9-B5DFE3AE316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5437E-CE4B-45FC-8523-EC4CAAA0A41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947C4-2473-4E87-864F-2F868A9C945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80AE1-F134-4228-A334-06AB183173C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CAF2F-887C-4558-9052-DDE12B59ABF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40AA1-F61B-4D5C-A274-4747AD6B1B0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5C811-4B53-4A23-8AA7-6020814955F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697BD-F112-4FEE-90F0-0F0E0DFA0D6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86E5-7135-4152-98D9-028F9FE7E6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0282-B920-4E9E-84BA-5A26C2194184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F43F-E7CD-49F7-9DB8-0E391223786A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4040-1200-427C-8B3D-D88D522CAA94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4427-FC10-4BA7-B3F1-87C6BF9EE4A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9FB19-5078-4DB9-9297-55CA74C557D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06129-23D9-4AFD-A7A2-486E72B94AE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41E7-8E90-42A5-8843-3E27AC2CDF87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CAFB3-0B54-4FBB-856B-4165504EB4B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7D05-8D68-4C14-B3E1-760DEC2F177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6617-5B3E-4089-853E-FD55DD7F12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59EBD-3684-4473-A944-260FE381F3A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D2449-0895-43F3-BF46-ABD3CB14C00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C8BF4-4A46-4EA0-B05A-BCCA549A6C0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B31AD-0EF9-4E9C-88D5-A864D90796A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E6B855-95C9-44F6-92FA-2D45D33652A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DB9ED9-EF7B-4D86-B5A8-1A10F48C1E8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5D6E0B-BDF1-4B37-B670-2362D28FBC23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007011-76C4-450A-96E0-C484077909A1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C5141-5D25-4033-B7D3-6A8ECB55ACB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30E30B-BDBC-4E5A-ADED-C985D28296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AEF0AE-B932-4080-967D-C9BEC8E213E0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A792D-EC09-4307-9805-EC592559A3C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E2F1D6-F74E-4E3C-BD3C-3FF8205BA17F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A76FD-0628-4F8B-80D2-803CD1A7DF5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A140E-5C3B-4B49-8D89-2EEB840F908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D1AD9-87AD-407F-987B-9BF2983DA3A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73657-3C34-4751-AE72-991C4B39E1E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834DA-F9AE-46EA-BD6F-9DB31C726BC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57AC3-03B3-411C-8CDD-30EC2EFAB9A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31E88-57A4-4977-A22A-87ECD765A3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EFC54-8DE6-4AC6-B2FA-595ABD4516E2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05EDA-165A-471E-8EDB-4FE0D297A53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02FF9-E944-4601-B3BF-7E951868233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001FC-E3BB-495A-9602-7B850169B4E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F9577-98BA-4CFB-9A6D-32781F469A9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7D75-CEBB-46C2-9A6F-DC91D156A607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6C63B-D613-4DA0-8679-B0F9153062BC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0509-242C-470A-801A-3B53D2223407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2A9D-C243-483D-8663-BF3E838334F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5BCC-CF3D-4E17-87D1-8AF6E0C115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E2C90-5DBC-4C9D-819E-6786779B6AA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0407-0F92-4FFC-84B7-3E5D3B64979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3DA2-A87F-4A05-BB74-8D75A901B75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3E15-9EC8-4986-8C2F-E4DECDC0637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11B2-9301-4F0C-8685-18BD59E7014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BBCA-0F05-466D-96DF-FC0227B4AD7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1890-DE90-4BC2-BA85-5D9EB95BE44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4FED5-094F-407C-A81F-9471EC54D0D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A9905-BC78-42E3-9829-6B090DE58D9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DD363A-F711-416A-A8D6-D2FDE8D8E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DD6EF-67E1-4B45-B861-DBACA5A03009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AE0BF2-A271-4B94-B68F-BFF45ED9E5A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23E8F-ED29-4654-A137-548F998F568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56DD4A-46F0-4815-8445-C792CA24847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B8A970-470E-4EC1-BA7A-2E6C2D94EC0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27FD11-F43E-4CA4-BE43-4542BC3EF14D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E9824-E643-42B4-82F0-0333C8F10F8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51F83A-57EC-45EA-BD0D-1A8B8725DA4A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B97059-CFAF-4390-A047-EC36ECFEC5A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5D484-6CAD-44F4-AB05-BF043C6816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47816-F13B-4470-AFA9-17F6A67BFF95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8172C9-D341-448D-BA0A-B7CDABAEF8B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CD51A-717B-461E-BEC8-4A8A31B4D1E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72E6E-3D0B-492B-A947-24B6586F85F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8A946-4B7D-4102-9658-FEDFF1E8C05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5080D-8865-4E21-B667-5320C69A7A3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0FDCF-DB46-4B75-932F-A9BF8BFA3EC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4B4D2-3DA2-4D33-9CEE-901888533C7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5409B-EDF0-4B0F-B22D-5C4B9EADE45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D4457-673B-4A26-A595-66C0B391B3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D6081-A1DE-4615-976E-1FC34B47F5D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1A5B-3559-489B-8A5D-5B99E0608E02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3E316-CEB4-4047-A8DC-692CFE1257CF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E040C-8F11-4BF3-8C0C-E0F89144AB38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2E3E-FA8A-4289-B3C1-FE44B211A005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A7FF-2A2C-48F2-8F08-0165D6717D3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B495-8C47-4092-B50C-D520E1454AC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4C5E-6E70-44DC-BD43-CB41CFB28432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DABF-A3EB-46EE-B0C5-EEFCD480DB1A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A79F2-9087-43A3-BB6B-CBCA5E8864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A8432-60C0-4890-BBA8-61D425DA0EB9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103F-774D-4BF6-9C80-D641AC398F80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F185-E93F-424A-88EA-62A34FD1BEB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8609B-B00C-41B3-B559-4FBB22C1409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82F27A-08BA-4DEF-A057-1FDD6DE861C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19122-8E1A-45F1-8E20-FD897911CEEA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3C0203-1380-448C-BC7E-41DDF455D9D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45D7B-833B-419F-B256-E7E243FC1365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9BEC86-5F60-41A7-9017-063BB10C5253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EB26F2-1C81-49AE-AA07-15D5C906AE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2F1431-C1EB-4696-B2DA-9DCC93DA370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F418F4-636A-4795-9CA5-25F5384C6E8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7FA8D5-4DB3-41AF-BA3E-A2E44FC2257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78E90-0C2E-4A6D-B4F3-E42521806D48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BBC60B-2285-4997-B8C9-4A16BC3738E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2BA886-FFB3-45FB-B4E5-2C1F21FDBC98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F1BA9-E5AB-4164-9B79-84704492D76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C0434-431A-4F7D-8CDB-FBC323D5863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5DDA14-190D-4630-9C26-84A50916173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FD3FA-722A-4F75-BD6B-4A80150473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B438B-143B-48EF-86BE-80BD72E7EEBC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7DCC6-477F-494E-A20F-4C0D853B54D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E3CC6-17BF-4EAE-A01B-3A2FB9C0531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083E5-85F1-46DD-B655-C6AC991819F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8A6794-D896-4B45-9C5B-137467279307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69C5B-9AF9-45BD-81E3-E3FC72F17A6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2E5D4-42D9-4D04-9C25-8089BA670125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6127-79E9-4F6F-8AD9-09B0FA52A025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AAFD-9B6C-4BC1-AE4F-941BE11C467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BB932-69EB-44A0-9A57-35741E691F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E02B7-0966-45E9-8F0A-D20457486D6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F3830-0369-47AC-B3EB-318F006AC5C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BAD8E-769D-4D95-A8E6-6AC72CE037F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1CA9-67F4-4668-B023-26011CC0D715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8D66-B238-4598-9F2B-BBB42DD871CC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64F78-5F4E-4A75-B240-575A1D61527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416C-2619-40FA-B262-A8BA16D332B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D879-2011-4D87-86E3-CB3CBE1F08E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8DCC-C3B5-460D-878B-2A80F6761141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58B80-F6B5-4D90-B944-1F10762A0E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001D1-101E-4295-B9A2-DF2DFEC23DF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0AF44-B4A7-4346-AEC5-03CDE5B4C6A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7CCC5-0123-4D3F-8E00-D368190496FA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2C7A3-B482-4FD0-8210-355693E2CAE7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ACD8D-969D-416C-A95F-A653E2B35893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8A47C-5908-43AD-B4BA-D5A8105D2D8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B5D24-10C6-47A8-AB69-3C5D3FC5430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9E4AB-A99C-42C3-B964-7E0B66CE117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E2B53-8EE8-4DC1-B579-47F5F7AD2B6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C149B-16E7-4448-8D83-CFD0653506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265CB-99D1-422D-A7BB-E92AB8B3916A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76307-A1F4-405B-8D02-BBCE85CDFD09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85481-5C3C-42B4-8515-24EC070B0DDE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7D1338-A53E-45F9-A470-A2D7B2E37457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625B4D-504D-4ECC-9D56-AF924753F5A8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7DE22-CC75-4AAA-BFCA-B95203A56D7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E1C629-87DB-40DB-9CBD-D31AA5B4941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827FC-B62F-4F51-8D72-43CA79718A60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59403-A678-4C1A-9626-E75FA5D062B5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3DD7A-B324-49BB-80B8-8AD2F0C049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AD0EF-0499-4ED4-86CE-1AEBB14CFFA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EA64E-4F86-419B-8BCC-766018FCBC01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42514-3C0F-4173-B481-91BA471FD0F0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74F6-7530-4E26-AE68-30D0E1621CA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630AB-34F7-413D-BFBC-A7033918E027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DDB97-A1F3-47A8-9271-C195B2138F7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B497-F6B2-40BF-A244-6B87B47349FF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C153C-8611-4F41-861A-77A834ADBDD0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0FB01-3FA2-4C53-8043-88ABAA324080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6919-7713-4C45-9887-5AD4C0A0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4DC09-4045-446B-83A7-D1EF7816A00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4F503-B2E2-4EA1-948F-5BDFC1B2D33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9F087-F86E-41E2-B475-AD80CB923436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70A67-9059-4E53-962E-DAE96228EB2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49362-A678-42CD-B356-DF3351B2AA5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2A7D0-3EC6-41FA-AE6F-16657DEB785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25766-0A23-41DA-8705-C9E3FF404306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3798B-1E95-4A93-9D99-BD9C8C2AF906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D2A8A-90B4-49E8-AB27-28A62B536E1B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09DE9-CD81-4426-9230-B24B1611B0F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8CC7D-82EE-46D5-8001-35E6E6586FA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B3D93-69F4-475F-BE8A-2868C72BA02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5234F-8CDA-4E77-9429-A56731F8CCBE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03CA1-875B-40DA-A89C-34044ACAA4E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CA524-9C33-47C6-AB8E-59812C52584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4F6EA-9876-4FF0-A227-9BE67FC8573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4F89A-D3B0-475F-BF82-1C376CF2985C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355879-9BD8-4C65-92A9-55E8CBE39C9B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67E776-5234-4FB8-8648-719291D8BA19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ABD35E-C031-4302-BA84-769EB5DFBFA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A0921-EC25-4CD0-9A3B-89C6992E39B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0AEF81-0FE3-483B-AE33-6FE38AF05FC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037620-8625-440C-B23C-FDDFBFAE230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036A79-AA45-4D9B-9574-6B80B605EEA9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EAADA2-5FB3-40BD-9189-1C795A858BDA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174E48-5FD1-48B6-AD10-2C0A8642E9E7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690AD-EFA1-4D93-A62D-0B8F8BC3B41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A724E-2828-4835-AB4F-1C72C5C0AFC6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F4CF67-636B-4670-9455-26A52091FB6A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02B12-DB09-4119-8FCF-4C98E3E8E7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9B1E1-EF5C-490F-9683-AAEBF1B682E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E085A-D908-4895-90EB-899A1C5750B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A9B90-6E94-435E-8C71-D4D2B81391F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FB0FD-6363-4AC4-8F0E-B3D350AA41C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C6FC5-4399-4E41-AE0C-9B1E75AFBE4C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7FA0A-774F-433F-A071-61281DF1F60D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5A15-810B-4FE5-9850-83C52187494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5563E-8C52-447C-AA21-0B112401B56F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75987-B746-4CAA-9036-B4CBE454A44D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D5F9D-CD49-4B82-A53E-997CC3B831B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54B92-6725-43B3-A47A-A3C4DC4E5F3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5D023-033D-412B-A019-7B275C326DE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40C9DC-632A-4EB5-B1F5-9D8555CE4CB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ED3802-1054-441C-9D92-0ACABA785885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25AF67-CCD4-4C59-8EC4-A891013A00B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909147-48CB-4A06-BDF7-F677F1C10301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6E2594-A6CB-4DCE-A979-3386C985552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F36DF9-FB96-4E78-AF71-F534E34EF19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64AF33-3481-4BB1-8DCE-888B074C5C7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49FF0F-D749-4F7B-9E07-451B4C70D1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D6A65A-D9BF-4BCE-BA06-BEBBDAFF258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52EAA6-AB47-4E63-AEB6-C4F959823C1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A8C88F-D9BC-467B-B18E-103FB1D4533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C68795-7984-448E-B393-01024D03868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48BD7B-8768-49E2-8571-75723F07BA44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1166B7-14EF-42E2-BF94-D4F3ABA9009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734242-CCAE-47A4-B295-081E8AA1B4BE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FDC8D4-CABF-4312-9871-318A35600DA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7E774-B973-4D01-B316-178BCA0B1B24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ECB126-8541-4387-B3A6-D99E360752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CB6EDE-E1C8-4780-91E7-BB66A62F3BC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D20BF9-3795-422E-B855-0CF229AB63F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798A11-5811-4F0C-BB25-47CD05F5CCDA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995E52-311B-44D9-B99C-313AA4733CE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26E709-402A-41ED-9536-478CF83D4BEC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2899F-1AA1-4F7F-BACA-FB383813A69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9BCE3-4963-4280-A99C-10AF4CD007E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ADE97-5EC8-44FE-BF44-E7F5CF22B2DD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A174-6E4F-4B20-9E86-C8D9F2606F5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DF68C-34DE-489D-BBA4-C6EADFF355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5958-F5E0-4BD3-9B31-ED4C0CA866DA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27FCC-6B09-4B90-B163-3402A814D59A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34B37-8F12-4A9B-8FE8-AB8DA88B736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13317-D412-4A0A-8FDB-6E71410BC4E3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AD5983-0B7E-44F2-A75F-118DE03C588C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CE8A-5168-47FF-92AB-7DDC19B9A2DD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85AA6-0AE2-413F-9058-9D17C0C35939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3BC03-9979-4DEA-8A4D-DD9AD0A254B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5BA62-51AA-4331-81F0-3111D71B5153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47DA0-02B8-4384-8A84-C136B884B1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0512D-A75A-4D46-8799-E9EBC83032EB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0D743-55FD-4CE0-AD83-9341E69F654C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331DE-9606-43D2-ABC9-1B67E62DCE39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E3BE7-D1B1-4CB4-B8DC-8D63BB9F2E25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4931B-5C29-49FE-B67F-C14EB8C06D6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89C92-DE59-488D-81D0-ADBDF8AFCB0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94826-2681-462A-8A4D-A273F2737DBE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9732C-3237-41A3-912E-BFC02AFAD22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A62CC-08F1-4519-BDF9-14372B4FE337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24F3A4-08AA-46BD-8AA4-B4A37171F0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076A9A-CFDA-4CE0-98D4-C1D99DC7AEBB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7E7B9C-3CB7-4FA3-8B7E-FB7F3708D5B3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D827A6-1AAD-4704-A436-B2D3DDB0DD03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94EC91-2AAD-4CB2-A64C-EC03639D71E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AEADFE-E3D0-4580-A323-796D614B9FA0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5C1024-1802-42DB-B6A0-8AB8E9F350C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6F7F23-2128-4DD4-A45A-64F0422D480D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35BE68-C417-4376-A7BE-155E87517276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1B9AA0-5CFC-4EEA-9CAD-B4FAE8683A4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91E03C-164E-4582-A073-683C945B4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C69B98-9A15-4869-8C02-FE734811441A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F531B-B7DF-4126-ADB4-8116B6F63C24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99F0E-7E27-4304-9085-4AF73CE07AE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D285F-A9C2-488A-B254-A7F764BDBC9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DF05B-A489-4097-8F39-76D20A17286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0704E-8101-424F-8FAC-D99316482C3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15CF1-1AD0-4F41-9BAB-9919AC7493B7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D205A-D8C5-410E-81A9-4F38BDA81021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84E37-EA22-4404-A0CD-56D130B1A90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70807-A13D-4AE6-A914-1FABA6A82B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FA567-909D-43D2-B4B8-503AA9589969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18088-9FA2-499B-B135-3571E55ABAA5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15114-629D-4B47-9759-2D7B27752A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algn="ctr">
              <a:spcBef>
                <a:spcPts val="1687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3920" indent="0" algn="ctr"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8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81400" indent="-37296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70840" indent="-37224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6316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52600" indent="-37188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43480" indent="-373320">
              <a:spcBef>
                <a:spcPts val="1687"/>
              </a:spcBef>
              <a:buClr>
                <a:srgbClr val="000000"/>
              </a:buClr>
              <a:buSzPct val="171000"/>
              <a:buFont typeface="Gill Sans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43480" indent="-373320">
              <a:spcBef>
                <a:spcPts val="75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910-A88A-424E-8C72-9CFB3696EAB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sldNum" idx="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599-6DD5-486A-8953-71EF538F5AD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96F-793F-4DF0-866F-B61D0AE7A2E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EA2-4B7F-4C78-93BC-04486C5CDF1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345-9246-42EA-A9C2-D77330C3167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0F8-2119-461F-A10D-000FABB919C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sldNum" idx="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9118-9639-4354-86B8-F6F273C23F5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sldNum" idx="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F857-A38F-4805-8B27-3864EA1F24D8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D331-7DE9-4CC3-900B-BAC159C6925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1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E81D-8841-4884-85CD-ACCF78DB69E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sldNum" idx="1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642-31C1-4859-A47A-BD16BB2DAB25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Num" idx="1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9E51-82B1-4BD7-8AFD-6026DB1DE41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sldNum" idx="1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F2A-D939-472D-A9B3-178AFE2FF36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sldNum" idx="1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D471-AFAF-43E2-8783-253B3EC9808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sldNum" idx="1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5BA5-511D-41FA-8579-7327D8C713C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sldNum" idx="1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E829-FB02-4951-991A-88502961D448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sldNum" idx="1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B9BA-D741-4547-A495-8205FEB20A31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sldNum" idx="1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BDE-019C-4F0D-B4A6-042A6F8392C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1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0DE-2C4E-43C0-B8F6-31FEA505200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Num" idx="2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F24A-065C-4466-A12F-1B37F13571A0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sldNum" idx="2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8983-D970-4725-BD4F-827DBC123ABD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sldNum" idx="2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C0CC-0E47-4223-A776-D228931C2AB5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2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9312-5A11-4DCB-98A1-131CD1141F76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sldNum" idx="2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037-668C-4204-A64B-163D82CD4335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207360" y="6572520"/>
            <a:ext cx="854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Gotham Book"/>
              </a:rPr>
              <a:t>HTC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sldNum" idx="2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DC51-3F66-4EAB-B0BB-80637186CC0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sldNum" idx="2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AC7E-5266-46DC-9ED4-3990054389EF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Num" idx="27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C6F5-A240-4C69-9D19-F9C02DE986A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 type="sldNum" idx="28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93D-EF58-4658-831F-2BE8A7D79992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sldNum" idx="29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1843-4D98-4C8F-BA60-2DE2A6DF4F0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sldNum" idx="30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8AB-39DA-4241-AB08-E0E60109CF08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 type="sldNum" idx="31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2629-0C8F-4366-9819-D7CB5F408F9B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 type="sldNum" idx="32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BC9B-8813-4783-882F-7B594F1FFA6A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sldNum" idx="33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82FA-1ACF-4482-BD52-7637A97E00DC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 type="sldNum" idx="34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C531-DE03-4B56-AB1B-D13CFD0C97E9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a4"/>
            </a:gs>
            <a:gs pos="100000">
              <a:srgbClr val="4a4a4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sldNum" idx="35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6ECB-D3A7-4ADA-88CB-4EDB812F29A4}" type="slidenum">
              <a:rPr b="1" lang="zh-CN" sz="1300" spc="-1" strike="noStrike">
                <a:solidFill>
                  <a:srgbClr val="000000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body"/>
          </p:nvPr>
        </p:nvSpPr>
        <p:spPr>
          <a:xfrm>
            <a:off x="249120" y="3285720"/>
            <a:ext cx="8645760" cy="91116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t">
            <a:normAutofit fontScale="46000"/>
          </a:bodyPr>
          <a:p>
            <a:pPr marL="110160" indent="-11016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Click to edit the outline text format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1" marL="240120" indent="-9108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con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2" marL="369360" indent="-73440" algn="ctr">
              <a:buClr>
                <a:srgbClr val="676767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Third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3" marL="516960" indent="-73440" algn="ctr">
              <a:buClr>
                <a:srgbClr val="676767"/>
              </a:buClr>
              <a:buFont typeface="Arial"/>
              <a:buChar char="–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our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4" marL="664920" indent="-73440" algn="ctr">
              <a:buClr>
                <a:srgbClr val="676767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Fif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5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ix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  <a:p>
            <a:pPr lvl="6" marL="664920" indent="-73440" algn="ctr">
              <a:buClr>
                <a:srgbClr val="414141"/>
              </a:buClr>
              <a:buFont typeface="Arial"/>
              <a:buChar char="»"/>
            </a:pPr>
            <a:r>
              <a:rPr b="0" lang="en-US" sz="1700" spc="-1" strike="noStrike">
                <a:solidFill>
                  <a:srgbClr val="676767"/>
                </a:solidFill>
                <a:latin typeface="Gotham Book"/>
              </a:rPr>
              <a:t>Seventh Outline Level</a:t>
            </a:r>
            <a:endParaRPr b="0" lang="en-US" sz="1700" spc="-1" strike="noStrike">
              <a:solidFill>
                <a:srgbClr val="676767"/>
              </a:solidFill>
              <a:latin typeface="Gotham Book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title"/>
          </p:nvPr>
        </p:nvSpPr>
        <p:spPr>
          <a:xfrm>
            <a:off x="249120" y="901800"/>
            <a:ext cx="8645760" cy="227808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141"/>
                </a:solidFill>
                <a:latin typeface="Gotham Medium"/>
              </a:rPr>
              <a:t>Click to edit the title text format</a:t>
            </a:r>
            <a:endParaRPr b="0" lang="en-US" sz="3400" spc="-1" strike="noStrike">
              <a:solidFill>
                <a:srgbClr val="414141"/>
              </a:solidFill>
              <a:latin typeface="Gotham Medium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sldNum" idx="36"/>
          </p:nvPr>
        </p:nvSpPr>
        <p:spPr>
          <a:xfrm>
            <a:off x="4446720" y="6517800"/>
            <a:ext cx="241200" cy="250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AF26-639A-4D88-8519-81DC43B8A692}" type="slidenum">
              <a:rPr b="1" lang="zh-CN" sz="1300" spc="-1" strike="noStrike">
                <a:solidFill>
                  <a:srgbClr val="414141"/>
                </a:solidFill>
                <a:latin typeface="Gotham Book"/>
                <a:ea typeface="Heiti SC Light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7920" y="22032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8080"/>
                </a:solidFill>
                <a:latin typeface="汉仪中圆简"/>
              </a:rPr>
              <a:t>Click to edit the title text format</a:t>
            </a:r>
            <a:endParaRPr b="0" lang="en-US" sz="2700" spc="-1" strike="noStrike">
              <a:solidFill>
                <a:srgbClr val="808080"/>
              </a:solidFill>
              <a:latin typeface="汉仪中圆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8197920" y="6330960"/>
            <a:ext cx="704880" cy="3938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6330960"/>
            <a:ext cx="8643960" cy="419040"/>
          </a:xfrm>
          <a:prstGeom prst="rect">
            <a:avLst/>
          </a:prstGeom>
          <a:noFill/>
          <a:ln w="0">
            <a:noFill/>
          </a:ln>
        </p:spPr>
        <p:txBody>
          <a:bodyPr lIns="35640" rIns="35640" tIns="35640" bIns="35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otham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Gotham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"/>
          <p:cNvSpPr/>
          <p:nvPr/>
        </p:nvSpPr>
        <p:spPr>
          <a:xfrm>
            <a:off x="-106200" y="0"/>
            <a:ext cx="9286560" cy="6858000"/>
          </a:xfrm>
          <a:prstGeom prst="rect">
            <a:avLst/>
          </a:prstGeom>
          <a:solidFill>
            <a:srgbClr val="0c0c0c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6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" descr=""/>
          <p:cNvPicPr/>
          <p:nvPr/>
        </p:nvPicPr>
        <p:blipFill>
          <a:blip r:embed="rId2"/>
          <a:stretch/>
        </p:blipFill>
        <p:spPr>
          <a:xfrm>
            <a:off x="4680" y="-17640"/>
            <a:ext cx="9139320" cy="515016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3" descr=""/>
          <p:cNvPicPr/>
          <p:nvPr/>
        </p:nvPicPr>
        <p:blipFill>
          <a:blip r:embed="rId3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" descr=""/>
          <p:cNvPicPr/>
          <p:nvPr/>
        </p:nvPicPr>
        <p:blipFill>
          <a:blip r:embed="rId4"/>
          <a:stretch/>
        </p:blipFill>
        <p:spPr>
          <a:xfrm>
            <a:off x="5359320" y="189000"/>
            <a:ext cx="482760" cy="65556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3" descr=""/>
          <p:cNvPicPr/>
          <p:nvPr/>
        </p:nvPicPr>
        <p:blipFill>
          <a:blip r:embed="rId5"/>
          <a:stretch/>
        </p:blipFill>
        <p:spPr>
          <a:xfrm>
            <a:off x="3998880" y="844560"/>
            <a:ext cx="1000080" cy="1400040"/>
          </a:xfrm>
          <a:prstGeom prst="rect">
            <a:avLst/>
          </a:prstGeom>
          <a:ln w="0">
            <a:noFill/>
          </a:ln>
        </p:spPr>
      </p:pic>
      <p:sp>
        <p:nvSpPr>
          <p:cNvPr id="1981" name="矩形 220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2" name="Picture 4" descr=""/>
          <p:cNvPicPr/>
          <p:nvPr/>
        </p:nvPicPr>
        <p:blipFill>
          <a:blip r:embed="rId6"/>
          <a:stretch/>
        </p:blipFill>
        <p:spPr>
          <a:xfrm>
            <a:off x="2046240" y="2374920"/>
            <a:ext cx="4121280" cy="109692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5" descr=""/>
          <p:cNvPicPr/>
          <p:nvPr/>
        </p:nvPicPr>
        <p:blipFill>
          <a:blip r:embed="rId7"/>
          <a:stretch/>
        </p:blipFill>
        <p:spPr>
          <a:xfrm>
            <a:off x="446040" y="1827360"/>
            <a:ext cx="4125960" cy="1096920"/>
          </a:xfrm>
          <a:prstGeom prst="rect">
            <a:avLst/>
          </a:prstGeom>
          <a:ln w="0">
            <a:noFill/>
          </a:ln>
        </p:spPr>
      </p:pic>
      <p:sp>
        <p:nvSpPr>
          <p:cNvPr id="1984" name=""/>
          <p:cNvSpPr/>
          <p:nvPr/>
        </p:nvSpPr>
        <p:spPr>
          <a:xfrm>
            <a:off x="142920" y="6418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-2.77457E-006 L 0.71389 0.00532 E">
                                      <p:cBhvr>
                                        <p:cTn id="12" dur="4300" fill="hold"/>
                                        <p:tgtEl>
                                          <p:spTgt spid="1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" dur="4300" fill="hold"/>
                                        <p:tgtEl>
                                          <p:spTgt spid="198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11111E-006 -4.45087E-006 L 0.1783 0.00578 E">
                                      <p:cBhvr>
                                        <p:cTn id="16" dur="4300" fill="hold"/>
                                        <p:tgtEl>
                                          <p:spTgt spid="19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" dur="4300" fill="hold"/>
                                        <p:tgtEl>
                                          <p:spTgt spid="1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" dur="4300" fill="hold"/>
                                        <p:tgtEl>
                                          <p:spTgt spid="1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7" descr="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987" name="빛2-1" descr=""/>
          <p:cNvPicPr/>
          <p:nvPr/>
        </p:nvPicPr>
        <p:blipFill>
          <a:blip r:embed="rId3"/>
          <a:stretch/>
        </p:blipFill>
        <p:spPr>
          <a:xfrm rot="20684400">
            <a:off x="6454440" y="-407880"/>
            <a:ext cx="2416320" cy="2941560"/>
          </a:xfrm>
          <a:prstGeom prst="rect">
            <a:avLst/>
          </a:prstGeom>
          <a:ln w="0">
            <a:noFill/>
          </a:ln>
        </p:spPr>
      </p:pic>
      <p:pic>
        <p:nvPicPr>
          <p:cNvPr id="1988" name="Picture 235" descr=""/>
          <p:cNvPicPr/>
          <p:nvPr/>
        </p:nvPicPr>
        <p:blipFill>
          <a:blip r:embed="rId4"/>
          <a:stretch/>
        </p:blipFill>
        <p:spPr>
          <a:xfrm>
            <a:off x="7518240" y="870120"/>
            <a:ext cx="654120" cy="408780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" descr=""/>
          <p:cNvPicPr/>
          <p:nvPr/>
        </p:nvPicPr>
        <p:blipFill>
          <a:blip r:embed="rId5"/>
          <a:srcRect l="6770" t="0" r="2801" b="0"/>
          <a:stretch/>
        </p:blipFill>
        <p:spPr>
          <a:xfrm>
            <a:off x="0" y="2924280"/>
            <a:ext cx="9144000" cy="32385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63" descr=""/>
          <p:cNvPicPr/>
          <p:nvPr/>
        </p:nvPicPr>
        <p:blipFill>
          <a:blip r:embed="rId6"/>
          <a:stretch/>
        </p:blipFill>
        <p:spPr>
          <a:xfrm>
            <a:off x="6496200" y="988920"/>
            <a:ext cx="380880" cy="13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8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-0.03284 C -0.0191 -0.03284 -0.04653 0.09641 -0.04653 0.25248 C -0.04653 0.4067 -0.0191 0.53364 0.01649 0.53364 E">
                                      <p:cBhvr>
                                        <p:cTn id="51" dur="2000" fill="hold"/>
                                        <p:tgtEl>
                                          <p:spTgt spid="1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6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59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43021 0.29873 C -0.43837 0.26381 -0.36233 0.20092 -0.26094 0.15468 C -0.15712 0.10636 -0.06684 0.0941 -0.05816 0.12786 C -0.04861 0.16254 0.03958 0.15121 0.14444 0.10289 C 0.246 0.05641 0.32309 -0.00763 0.31319 -0.04185 E">
                                      <p:cBhvr>
                                        <p:cTn id="61" dur="3200" fill="hold"/>
                                        <p:tgtEl>
                                          <p:spTgt spid="19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900" spc="-1" strike="noStrike">
                <a:solidFill>
                  <a:srgbClr val="000000"/>
                </a:solidFill>
                <a:latin typeface="Gill Sans"/>
              </a:rPr>
              <a:t>使用规范说明</a:t>
            </a:r>
            <a:endParaRPr b="0" lang="en-US" sz="5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站点介绍：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Gill Sans"/>
              </a:rPr>
              <a:t>栏目推荐：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1687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4" name="Picture 7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995" name="矩形 114"/>
          <p:cNvSpPr/>
          <p:nvPr/>
        </p:nvSpPr>
        <p:spPr>
          <a:xfrm>
            <a:off x="2916360" y="7174080"/>
            <a:ext cx="3887640" cy="537840"/>
          </a:xfrm>
          <a:prstGeom prst="rect">
            <a:avLst/>
          </a:prstGeom>
          <a:solidFill>
            <a:srgbClr val="ffffff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新浪微博</a:t>
            </a:r>
            <a:r>
              <a:rPr b="0" lang="en-US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@</a:t>
            </a:r>
            <a:r>
              <a:rPr b="1" i="1" lang="zh-CN" sz="2400" spc="-1" strike="noStrike">
                <a:solidFill>
                  <a:srgbClr val="ff0000"/>
                </a:solidFill>
                <a:latin typeface="Gill Sans Light"/>
                <a:ea typeface="Heiti SC Light"/>
              </a:rPr>
              <a:t>红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Group 118"/>
          <p:cNvGrpSpPr/>
          <p:nvPr/>
        </p:nvGrpSpPr>
        <p:grpSpPr>
          <a:xfrm>
            <a:off x="4932360" y="3294000"/>
            <a:ext cx="565200" cy="711360"/>
            <a:chOff x="4932360" y="3294000"/>
            <a:chExt cx="565200" cy="711360"/>
          </a:xfrm>
        </p:grpSpPr>
        <p:sp>
          <p:nvSpPr>
            <p:cNvPr id="1997" name="椭圆 118"/>
            <p:cNvSpPr/>
            <p:nvPr/>
          </p:nvSpPr>
          <p:spPr>
            <a:xfrm>
              <a:off x="4932360" y="337680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椭圆 119"/>
            <p:cNvSpPr/>
            <p:nvPr/>
          </p:nvSpPr>
          <p:spPr>
            <a:xfrm>
              <a:off x="5186520" y="362268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9" name="Group 121"/>
            <p:cNvGrpSpPr/>
            <p:nvPr/>
          </p:nvGrpSpPr>
          <p:grpSpPr>
            <a:xfrm>
              <a:off x="5205240" y="3294000"/>
              <a:ext cx="24480" cy="711360"/>
              <a:chOff x="5205240" y="3294000"/>
              <a:chExt cx="24480" cy="711360"/>
            </a:xfrm>
          </p:grpSpPr>
          <p:sp>
            <p:nvSpPr>
              <p:cNvPr id="2000" name="等腰三角形 130"/>
              <p:cNvSpPr/>
              <p:nvPr/>
            </p:nvSpPr>
            <p:spPr>
              <a:xfrm flipH="1" rot="10800000">
                <a:off x="5205240" y="36460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等腰三角形 131"/>
              <p:cNvSpPr/>
              <p:nvPr/>
            </p:nvSpPr>
            <p:spPr>
              <a:xfrm flipH="1">
                <a:off x="5205240" y="329400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124"/>
            <p:cNvGrpSpPr/>
            <p:nvPr/>
          </p:nvGrpSpPr>
          <p:grpSpPr>
            <a:xfrm>
              <a:off x="4958280" y="3640680"/>
              <a:ext cx="527040" cy="25200"/>
              <a:chOff x="4958280" y="3640680"/>
              <a:chExt cx="527040" cy="25200"/>
            </a:xfrm>
          </p:grpSpPr>
          <p:sp>
            <p:nvSpPr>
              <p:cNvPr id="2003" name="等腰三角形 128"/>
              <p:cNvSpPr/>
              <p:nvPr/>
            </p:nvSpPr>
            <p:spPr>
              <a:xfrm flipH="1" rot="5400000">
                <a:off x="5341320" y="35211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等腰三角形 129"/>
              <p:cNvSpPr/>
              <p:nvPr/>
            </p:nvSpPr>
            <p:spPr>
              <a:xfrm rot="16200000">
                <a:off x="5077800" y="352188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Group 127"/>
            <p:cNvGrpSpPr/>
            <p:nvPr/>
          </p:nvGrpSpPr>
          <p:grpSpPr>
            <a:xfrm>
              <a:off x="5123520" y="3521880"/>
              <a:ext cx="190800" cy="290160"/>
              <a:chOff x="5123520" y="3521880"/>
              <a:chExt cx="190800" cy="290160"/>
            </a:xfrm>
          </p:grpSpPr>
          <p:sp>
            <p:nvSpPr>
              <p:cNvPr id="2006" name="等腰三角形 126"/>
              <p:cNvSpPr/>
              <p:nvPr/>
            </p:nvSpPr>
            <p:spPr>
              <a:xfrm flipH="1" rot="12716400">
                <a:off x="5165640" y="36511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等腰三角形 127"/>
              <p:cNvSpPr/>
              <p:nvPr/>
            </p:nvSpPr>
            <p:spPr>
              <a:xfrm rot="1955400">
                <a:off x="5253120" y="351324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8" name="Group 130"/>
            <p:cNvGrpSpPr/>
            <p:nvPr/>
          </p:nvGrpSpPr>
          <p:grpSpPr>
            <a:xfrm>
              <a:off x="5060520" y="3551400"/>
              <a:ext cx="277200" cy="189000"/>
              <a:chOff x="5060520" y="3551400"/>
              <a:chExt cx="277200" cy="189000"/>
            </a:xfrm>
          </p:grpSpPr>
          <p:sp>
            <p:nvSpPr>
              <p:cNvPr id="2009" name="等腰三角形 124"/>
              <p:cNvSpPr/>
              <p:nvPr/>
            </p:nvSpPr>
            <p:spPr>
              <a:xfrm flipH="1" rot="7386600">
                <a:off x="5258880" y="361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等腰三角形 125"/>
              <p:cNvSpPr/>
              <p:nvPr/>
            </p:nvSpPr>
            <p:spPr>
              <a:xfrm flipH="1" rot="18164400">
                <a:off x="5123160" y="352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1" name="Group 133"/>
          <p:cNvGrpSpPr/>
          <p:nvPr/>
        </p:nvGrpSpPr>
        <p:grpSpPr>
          <a:xfrm>
            <a:off x="4579920" y="1503360"/>
            <a:ext cx="566640" cy="711360"/>
            <a:chOff x="4579920" y="1503360"/>
            <a:chExt cx="566640" cy="711360"/>
          </a:xfrm>
        </p:grpSpPr>
        <p:sp>
          <p:nvSpPr>
            <p:cNvPr id="2012" name="椭圆 133"/>
            <p:cNvSpPr/>
            <p:nvPr/>
          </p:nvSpPr>
          <p:spPr>
            <a:xfrm>
              <a:off x="4579920" y="158616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椭圆 134"/>
            <p:cNvSpPr/>
            <p:nvPr/>
          </p:nvSpPr>
          <p:spPr>
            <a:xfrm>
              <a:off x="4834800" y="183204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4" name="Group 136"/>
            <p:cNvGrpSpPr/>
            <p:nvPr/>
          </p:nvGrpSpPr>
          <p:grpSpPr>
            <a:xfrm>
              <a:off x="4853520" y="1503360"/>
              <a:ext cx="24480" cy="711360"/>
              <a:chOff x="4853520" y="1503360"/>
              <a:chExt cx="24480" cy="711360"/>
            </a:xfrm>
          </p:grpSpPr>
          <p:sp>
            <p:nvSpPr>
              <p:cNvPr id="2015" name="等腰三角形 145"/>
              <p:cNvSpPr/>
              <p:nvPr/>
            </p:nvSpPr>
            <p:spPr>
              <a:xfrm flipH="1" rot="10800000">
                <a:off x="4853520" y="185544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等腰三角形 146"/>
              <p:cNvSpPr/>
              <p:nvPr/>
            </p:nvSpPr>
            <p:spPr>
              <a:xfrm flipH="1">
                <a:off x="4853520" y="15033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7" name="Group 139"/>
            <p:cNvGrpSpPr/>
            <p:nvPr/>
          </p:nvGrpSpPr>
          <p:grpSpPr>
            <a:xfrm>
              <a:off x="4606200" y="1850040"/>
              <a:ext cx="528480" cy="25200"/>
              <a:chOff x="4606200" y="1850040"/>
              <a:chExt cx="528480" cy="25200"/>
            </a:xfrm>
          </p:grpSpPr>
          <p:sp>
            <p:nvSpPr>
              <p:cNvPr id="2018" name="等腰三角形 143"/>
              <p:cNvSpPr/>
              <p:nvPr/>
            </p:nvSpPr>
            <p:spPr>
              <a:xfrm flipH="1" rot="5400000">
                <a:off x="4990320" y="173016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等腰三角形 144"/>
              <p:cNvSpPr/>
              <p:nvPr/>
            </p:nvSpPr>
            <p:spPr>
              <a:xfrm rot="16200000">
                <a:off x="4726080" y="173088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0" name="Group 142"/>
            <p:cNvGrpSpPr/>
            <p:nvPr/>
          </p:nvGrpSpPr>
          <p:grpSpPr>
            <a:xfrm>
              <a:off x="4771800" y="1731240"/>
              <a:ext cx="191160" cy="290160"/>
              <a:chOff x="4771800" y="1731240"/>
              <a:chExt cx="191160" cy="290160"/>
            </a:xfrm>
          </p:grpSpPr>
          <p:sp>
            <p:nvSpPr>
              <p:cNvPr id="2021" name="等腰三角形 141"/>
              <p:cNvSpPr/>
              <p:nvPr/>
            </p:nvSpPr>
            <p:spPr>
              <a:xfrm flipH="1" rot="12716400">
                <a:off x="4813920" y="186048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等腰三角形 142"/>
              <p:cNvSpPr/>
              <p:nvPr/>
            </p:nvSpPr>
            <p:spPr>
              <a:xfrm rot="1955400">
                <a:off x="4901760" y="17226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3" name="Group 145"/>
            <p:cNvGrpSpPr/>
            <p:nvPr/>
          </p:nvGrpSpPr>
          <p:grpSpPr>
            <a:xfrm>
              <a:off x="4707720" y="1760760"/>
              <a:ext cx="278280" cy="189000"/>
              <a:chOff x="4707720" y="1760760"/>
              <a:chExt cx="278280" cy="189000"/>
            </a:xfrm>
          </p:grpSpPr>
          <p:sp>
            <p:nvSpPr>
              <p:cNvPr id="2024" name="等腰三角形 139"/>
              <p:cNvSpPr/>
              <p:nvPr/>
            </p:nvSpPr>
            <p:spPr>
              <a:xfrm flipH="1" rot="7386600">
                <a:off x="4907160" y="182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等腰三角形 140"/>
              <p:cNvSpPr/>
              <p:nvPr/>
            </p:nvSpPr>
            <p:spPr>
              <a:xfrm flipH="1" rot="18164400">
                <a:off x="4770000" y="173052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6" name="Group 148"/>
          <p:cNvGrpSpPr/>
          <p:nvPr/>
        </p:nvGrpSpPr>
        <p:grpSpPr>
          <a:xfrm>
            <a:off x="3502080" y="4014720"/>
            <a:ext cx="565200" cy="709200"/>
            <a:chOff x="3502080" y="4014720"/>
            <a:chExt cx="565200" cy="709200"/>
          </a:xfrm>
        </p:grpSpPr>
        <p:sp>
          <p:nvSpPr>
            <p:cNvPr id="2027" name="椭圆 148"/>
            <p:cNvSpPr/>
            <p:nvPr/>
          </p:nvSpPr>
          <p:spPr>
            <a:xfrm>
              <a:off x="3502080" y="4097520"/>
              <a:ext cx="5652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椭圆 149"/>
            <p:cNvSpPr/>
            <p:nvPr/>
          </p:nvSpPr>
          <p:spPr>
            <a:xfrm>
              <a:off x="3756240" y="43423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9" name="Group 151"/>
            <p:cNvGrpSpPr/>
            <p:nvPr/>
          </p:nvGrpSpPr>
          <p:grpSpPr>
            <a:xfrm>
              <a:off x="3774960" y="4014720"/>
              <a:ext cx="24480" cy="709200"/>
              <a:chOff x="3774960" y="4014720"/>
              <a:chExt cx="24480" cy="709200"/>
            </a:xfrm>
          </p:grpSpPr>
          <p:sp>
            <p:nvSpPr>
              <p:cNvPr id="2030" name="等腰三角形 160"/>
              <p:cNvSpPr/>
              <p:nvPr/>
            </p:nvSpPr>
            <p:spPr>
              <a:xfrm flipH="1" rot="10800000">
                <a:off x="3774960" y="4365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等腰三角形 161"/>
              <p:cNvSpPr/>
              <p:nvPr/>
            </p:nvSpPr>
            <p:spPr>
              <a:xfrm flipH="1">
                <a:off x="3774960" y="401472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154"/>
            <p:cNvGrpSpPr/>
            <p:nvPr/>
          </p:nvGrpSpPr>
          <p:grpSpPr>
            <a:xfrm>
              <a:off x="3528000" y="4360320"/>
              <a:ext cx="527040" cy="25200"/>
              <a:chOff x="3528000" y="4360320"/>
              <a:chExt cx="527040" cy="25200"/>
            </a:xfrm>
          </p:grpSpPr>
          <p:sp>
            <p:nvSpPr>
              <p:cNvPr id="2033" name="等腰三角形 158"/>
              <p:cNvSpPr/>
              <p:nvPr/>
            </p:nvSpPr>
            <p:spPr>
              <a:xfrm flipH="1" rot="5400000">
                <a:off x="3911040" y="424080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等腰三角形 159"/>
              <p:cNvSpPr/>
              <p:nvPr/>
            </p:nvSpPr>
            <p:spPr>
              <a:xfrm rot="16200000">
                <a:off x="3647520" y="424152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5" name="Group 157"/>
            <p:cNvGrpSpPr/>
            <p:nvPr/>
          </p:nvGrpSpPr>
          <p:grpSpPr>
            <a:xfrm>
              <a:off x="3693240" y="4242240"/>
              <a:ext cx="190440" cy="289080"/>
              <a:chOff x="3693240" y="4242240"/>
              <a:chExt cx="190440" cy="289080"/>
            </a:xfrm>
          </p:grpSpPr>
          <p:sp>
            <p:nvSpPr>
              <p:cNvPr id="2036" name="等腰三角形 156"/>
              <p:cNvSpPr/>
              <p:nvPr/>
            </p:nvSpPr>
            <p:spPr>
              <a:xfrm flipH="1" rot="12716400">
                <a:off x="3735000" y="43714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等腰三角形 157"/>
              <p:cNvSpPr/>
              <p:nvPr/>
            </p:nvSpPr>
            <p:spPr>
              <a:xfrm rot="1955400">
                <a:off x="3822480" y="42336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160"/>
            <p:cNvGrpSpPr/>
            <p:nvPr/>
          </p:nvGrpSpPr>
          <p:grpSpPr>
            <a:xfrm>
              <a:off x="3630240" y="4271400"/>
              <a:ext cx="277200" cy="188640"/>
              <a:chOff x="3630240" y="4271400"/>
              <a:chExt cx="277200" cy="188640"/>
            </a:xfrm>
          </p:grpSpPr>
          <p:sp>
            <p:nvSpPr>
              <p:cNvPr id="2039" name="等腰三角形 154"/>
              <p:cNvSpPr/>
              <p:nvPr/>
            </p:nvSpPr>
            <p:spPr>
              <a:xfrm flipH="1" rot="7386600">
                <a:off x="3828600" y="43308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等腰三角形 155"/>
              <p:cNvSpPr/>
              <p:nvPr/>
            </p:nvSpPr>
            <p:spPr>
              <a:xfrm flipH="1" rot="18164400">
                <a:off x="3692880" y="424116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8000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75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75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75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74" dur="2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75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">
                                      <p:cBhvr>
                                        <p:cTn id="86" dur="125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75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">
                                      <p:cBhvr>
                                        <p:cTn id="98" dur="275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5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3:2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02:48Z</dcterms:modified>
  <cp:revision>4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