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6B22-5965-49FE-8C3A-81EBA473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4C5-DE7A-4C3B-858B-7699677D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C0A-39C1-433C-833D-88F0F94C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52E-DBCF-4B1C-88E0-079BC821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92E3-6B18-47F0-98B8-4AB13FF3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7DD1-CB76-48C4-807B-D4DB9A51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811C-97F7-4F16-BA40-ED58F30B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2FA2-C9D9-43B2-A3B9-06E75E1F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0E73-7114-4D22-BF86-16341F48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0E45-705E-4E61-AE1A-7AB1751A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CB82-4E34-4204-A1C3-D789057C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46C-6CD8-480C-A24D-3FB044C6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F2E7-45E6-4DB9-9B3A-1C57D1F3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B7C5-485E-466E-9685-61C8EBFF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9CD1-1A1B-455F-B04C-944BE389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752D-4A61-44F5-ABA8-B69F77D8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5A43-0613-4238-89C0-2ACC0685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411-811F-4D17-B1C3-4AC30D3A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B74E-BCC3-4149-9018-336CA4D5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5DFF-5E1C-4581-85F9-292EC73B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BAAC-B20D-46AD-AECC-74A451DF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71A-17BC-4B6F-9DE2-9B893941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CB4-59C2-400B-BC7C-DB3B9E2F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C02-99FA-430A-A0DE-E5B162AE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DBDF-E9CD-41DE-8F6F-9701000FA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B1C0-130E-4AEB-AA66-272B2FF56162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breeze.wav" TargetMode="External"/><Relationship Id="rId4" Type="http://schemas.microsoft.com/office/2007/relationships/media" Target="file:///tmp/home/.config/libreoffice/4/user/gallery/breeze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file:///tmp/home/.config/libreoffice/4/user/gallery/wind.wav" TargetMode="External"/><Relationship Id="rId4" Type="http://schemas.microsoft.com/office/2007/relationships/media" Target="file:///tmp/home/.config/libreoffice/4/user/gallery/wind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W020070725600862612190"/>
          <p:cNvPicPr/>
          <p:nvPr/>
        </p:nvPicPr>
        <p:blipFill>
          <a:blip r:embed="rId2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482800" y="533520"/>
            <a:ext cx="36608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夜书所见 </a:t>
            </a:r>
            <a:br>
              <a:rPr sz="40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叶绍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5105520" y="2057400"/>
            <a:ext cx="4038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7572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萧萧梧叶送寒声，</a:t>
            </a:r>
            <a:endParaRPr b="1" lang="en-US" sz="1800" spc="-1" strike="noStrike">
              <a:ln w="9360">
                <a:solidFill>
                  <a:srgbClr val="ff6600"/>
                </a:solidFill>
                <a:miter/>
              </a:ln>
              <a:solidFill>
                <a:srgbClr val="007572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7572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江上秋风动客情。</a:t>
            </a:r>
            <a:endParaRPr b="1" lang="en-US" sz="1800" spc="-1" strike="noStrike">
              <a:ln w="9360">
                <a:solidFill>
                  <a:srgbClr val="ff6600"/>
                </a:solidFill>
                <a:miter/>
              </a:ln>
              <a:solidFill>
                <a:srgbClr val="007572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7572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知有儿童挑促织，</a:t>
            </a:r>
            <a:endParaRPr b="1" lang="en-US" sz="1800" spc="-1" strike="noStrike">
              <a:ln w="9360">
                <a:solidFill>
                  <a:srgbClr val="ff6600"/>
                </a:solidFill>
                <a:miter/>
              </a:ln>
              <a:solidFill>
                <a:srgbClr val="007572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7572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夜深篱落一灯明。</a:t>
            </a:r>
            <a:endParaRPr b="1" lang="en-US" sz="1800" spc="-1" strike="noStrike">
              <a:ln w="9360">
                <a:solidFill>
                  <a:srgbClr val="ff6600"/>
                </a:solidFill>
                <a:miter/>
              </a:ln>
              <a:solidFill>
                <a:srgbClr val="007572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8006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20" y="76320"/>
            <a:ext cx="1399320" cy="67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古诗两首语文课件免费下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725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1920" y="198072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萧萧秋风吹动梧桐树叶，送来阵阵寒意。这个时候，客游在外的诗人不禁思念起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6324480" y="4038480"/>
            <a:ext cx="25909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762120" y="4800600"/>
            <a:ext cx="144756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860400" y="12114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自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066680" y="33526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            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自己的故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乡。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685800" y="1676520"/>
            <a:ext cx="863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知有儿童挑促织，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09480" y="33526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夜深篱落一灯明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762120" y="762120"/>
            <a:ext cx="863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知有儿童挑促织，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85800" y="36576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夜深篱落一灯明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57200" y="23623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知：料想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76720" y="23623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挑：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7">
            <a:hlinkClick r:id="" action="ppaction://hlinkshowjump?jump=nextslide"/>
          </p:cNvPr>
          <p:cNvSpPr/>
          <p:nvPr/>
        </p:nvSpPr>
        <p:spPr>
          <a:xfrm>
            <a:off x="5486400" y="23623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促织：蟋蟀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981080" y="533412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篱落：篱笆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7740720" y="5805360"/>
            <a:ext cx="792000" cy="79236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92360"/>
              <a:gd name="textAreaBottom" fmla="*/ 743040 h 79236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50" y="20260"/>
                </a:lnTo>
                <a:lnTo>
                  <a:pt x="20250" y="135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350" y="20260"/>
                </a:lnTo>
                <a:lnTo>
                  <a:pt x="20250" y="2026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6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他料想有孩子正在草地上捉蟋蟀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。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原因是他看到了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                       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此时可能又想起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心里会产生一种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304920" y="3657600"/>
            <a:ext cx="36576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7467480" y="4724280"/>
            <a:ext cx="9144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0880" y="213372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                                       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篱  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笆下边有灯火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380880" y="5486400"/>
            <a:ext cx="21337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7924680" y="2895480"/>
            <a:ext cx="5335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57200" y="4724280"/>
            <a:ext cx="28954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61880" y="4038480"/>
            <a:ext cx="22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童年的生活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75720" y="3962520"/>
            <a:ext cx="730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                                     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亲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切之感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3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W020070725600862612190"/>
          <p:cNvPicPr/>
          <p:nvPr/>
        </p:nvPicPr>
        <p:blipFill>
          <a:blip r:embed="rId2"/>
          <a:stretch/>
        </p:blipFill>
        <p:spPr>
          <a:xfrm>
            <a:off x="457200" y="380880"/>
            <a:ext cx="3581280" cy="5867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5"/>
          <p:cNvSpPr txBox="1"/>
          <p:nvPr/>
        </p:nvSpPr>
        <p:spPr>
          <a:xfrm>
            <a:off x="4419720" y="2286000"/>
            <a:ext cx="4038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7572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萧萧梧叶送寒声，</a:t>
            </a:r>
            <a:endParaRPr b="1" lang="en-US" sz="1800" spc="-1" strike="noStrike">
              <a:ln w="9360">
                <a:solidFill>
                  <a:srgbClr val="ff6600"/>
                </a:solidFill>
                <a:miter/>
              </a:ln>
              <a:solidFill>
                <a:srgbClr val="007572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7572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江上秋风动客情。</a:t>
            </a:r>
            <a:endParaRPr b="1" lang="en-US" sz="1800" spc="-1" strike="noStrike">
              <a:ln w="9360">
                <a:solidFill>
                  <a:srgbClr val="ff6600"/>
                </a:solidFill>
                <a:miter/>
              </a:ln>
              <a:solidFill>
                <a:srgbClr val="007572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7572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知有儿童挑促织，</a:t>
            </a:r>
            <a:endParaRPr b="1" lang="en-US" sz="1800" spc="-1" strike="noStrike">
              <a:ln w="9360">
                <a:solidFill>
                  <a:srgbClr val="ff6600"/>
                </a:solidFill>
                <a:miter/>
              </a:ln>
              <a:solidFill>
                <a:srgbClr val="007572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7572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夜深篱落一灯明。</a:t>
            </a:r>
            <a:endParaRPr b="1" lang="en-US" sz="1800" spc="-1" strike="noStrike">
              <a:ln w="9360">
                <a:solidFill>
                  <a:srgbClr val="ff6600"/>
                </a:solidFill>
                <a:miter/>
              </a:ln>
              <a:solidFill>
                <a:srgbClr val="007572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181480" y="3808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夜书所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638680" y="1371600"/>
            <a:ext cx="16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叶绍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3"/>
          <p:cNvSpPr txBox="1"/>
          <p:nvPr/>
        </p:nvSpPr>
        <p:spPr>
          <a:xfrm>
            <a:off x="3200400" y="685800"/>
            <a:ext cx="342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译文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3520" y="3048120"/>
            <a:ext cx="83055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萧萧秋风吹动梧桐树叶，送来阵阵寒意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客游在外的诗人不禁思念起自己的家乡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他忽然看到远处篱笆下的灯火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猜想那是孩子们在捉蟋蟀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1" name="Picture 5" descr="2"/>
          <p:cNvPicPr/>
          <p:nvPr/>
        </p:nvPicPr>
        <p:blipFill>
          <a:blip r:embed="rId2"/>
          <a:stretch/>
        </p:blipFill>
        <p:spPr>
          <a:xfrm>
            <a:off x="0" y="152280"/>
            <a:ext cx="2895480" cy="2781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夜书所见"/>
          <p:cNvPicPr/>
          <p:nvPr/>
        </p:nvPicPr>
        <p:blipFill>
          <a:blip r:embed="rId2"/>
          <a:stretch/>
        </p:blipFill>
        <p:spPr>
          <a:xfrm>
            <a:off x="1143000" y="685800"/>
            <a:ext cx="3048120" cy="5410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5013000" y="990720"/>
            <a:ext cx="2564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Times New Roman"/>
              </a:rPr>
              <a:t>知有儿童</a:t>
            </a:r>
            <a:r>
              <a:rPr b="0" lang="zh-CN" sz="4800" spc="-1" strike="noStrike">
                <a:solidFill>
                  <a:srgbClr val="ff6600"/>
                </a:solidFill>
                <a:latin typeface="Times New Roman"/>
              </a:rPr>
              <a:t>挑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促织</a:t>
            </a:r>
            <a:r>
              <a:rPr b="0" lang="zh-CN" sz="48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Times New Roman"/>
              </a:rPr>
              <a:t>夜深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篱落</a:t>
            </a:r>
            <a:r>
              <a:rPr b="0" lang="zh-CN" sz="4800" spc="-1" strike="noStrike">
                <a:solidFill>
                  <a:srgbClr val="0033cc"/>
                </a:solidFill>
                <a:latin typeface="Times New Roman"/>
              </a:rPr>
              <a:t>一灯明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1"/>
          <p:cNvPicPr/>
          <p:nvPr/>
        </p:nvPicPr>
        <p:blipFill>
          <a:blip r:embed="rId2"/>
          <a:stretch/>
        </p:blipFill>
        <p:spPr>
          <a:xfrm>
            <a:off x="0" y="-25236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1143000" y="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夜书所见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200400" y="1066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叶 绍 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1371600" y="1676520"/>
            <a:ext cx="6095880" cy="4724280"/>
            <a:chOff x="1371600" y="1676520"/>
            <a:chExt cx="6095880" cy="4724280"/>
          </a:xfrm>
        </p:grpSpPr>
        <p:sp>
          <p:nvSpPr>
            <p:cNvPr id="149" name="AutoShape 6"/>
            <p:cNvSpPr/>
            <p:nvPr/>
          </p:nvSpPr>
          <p:spPr>
            <a:xfrm>
              <a:off x="1371600" y="1676520"/>
              <a:ext cx="6095880" cy="4724280"/>
            </a:xfrm>
            <a:prstGeom prst="flowChartAlternateProcess">
              <a:avLst/>
            </a:prstGeom>
            <a:solidFill>
              <a:srgbClr val="33cc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" name="Text Box 7"/>
            <p:cNvSpPr/>
            <p:nvPr/>
          </p:nvSpPr>
          <p:spPr>
            <a:xfrm>
              <a:off x="1981080" y="1981440"/>
              <a:ext cx="5181840" cy="41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萧萧梧叶送寒声，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江上秋风动客情。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知有儿童挑促织，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夜深篱落一灯明。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52" name="Picture 3" descr="gugaung1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10800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828720" y="0"/>
            <a:ext cx="237492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有一年秋天，叶绍翁离开家乡，一个人远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外地。一天晚上，风吹着梧桐树哗啦啦地响，好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像在说：“秋天到了。”连树叶都怕冷起来。看着一江秋水，满天的黑暗，听着秋风吹动树叶的声音，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到自己漂泊在外，诗人怎么都睡不着，心里觉得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更加寒冷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夜书所见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8301240" y="0"/>
            <a:ext cx="7902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忽然透过窗户，他看到不远处的篱笆间有盏灯火，仔细一看，原来是几个孩子用细枝从缝穴中小心翼翼地捉蟋蟀，尽管已经很晚了，却玩得十分投入。诗人不禁想起自己小时候跟小伙伴们一起捉蟋蟀、捉蝴蝶、逮小鱼的快乐情景，那时也是这样的无忧无虑啊！可时光过得飞快，自己早已告别了那美好的童年，此时此刻一个人远离家乡，漂泊在外。于是，诗人起身坐到书桌前，在寒冷的秋夜里提笔写下自己所看到的景象，表达自己思念家乡的心情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9" name="Picture 2" descr="3118461266978135513"/>
          <p:cNvPicPr/>
          <p:nvPr/>
        </p:nvPicPr>
        <p:blipFill>
          <a:blip r:embed="rId2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09480" y="1295280"/>
            <a:ext cx="853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萧萧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xiāo xiāo)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梧叶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(wú  y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篱落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(lí luò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)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知道（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zhī dào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）　　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寒声（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hán shēnɡ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客情（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kè qíng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）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挑促织（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tiǎo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cù zhī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灯明（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dēng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míng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928D-C5FD-4943-AF96-048B2A5233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夜书所见  电子课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</a:rPr>
              <a:t>你觉得这首诗表达了一种怎样的感情？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000" y="3860640"/>
            <a:ext cx="90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诗人客游在外，看到秋风落叶，篱落灯明，不禁勾起思念家乡的思想感情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1447560" y="838080"/>
            <a:ext cx="6525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这首诗先写客游在外，因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                     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，由看到远处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篱笆下的灯火，料想是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，不禁回忆起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，于是那种              又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被                      所代替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7620120" y="1523880"/>
            <a:ext cx="8380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762120" y="2286000"/>
            <a:ext cx="4419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6553080" y="2819520"/>
            <a:ext cx="19814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685800" y="3581280"/>
            <a:ext cx="1447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5410080" y="3505320"/>
            <a:ext cx="3200400" cy="759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Line 15"/>
          <p:cNvSpPr/>
          <p:nvPr/>
        </p:nvSpPr>
        <p:spPr>
          <a:xfrm>
            <a:off x="609480" y="4267080"/>
            <a:ext cx="27432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Line 16"/>
          <p:cNvSpPr/>
          <p:nvPr/>
        </p:nvSpPr>
        <p:spPr>
          <a:xfrm>
            <a:off x="5867280" y="4191120"/>
            <a:ext cx="2210040" cy="759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Line 17"/>
          <p:cNvSpPr/>
          <p:nvPr/>
        </p:nvSpPr>
        <p:spPr>
          <a:xfrm>
            <a:off x="1295280" y="4876920"/>
            <a:ext cx="3429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929160" y="838080"/>
            <a:ext cx="735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                                   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秋分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落叶，感到郁闷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1161000" y="2133720"/>
            <a:ext cx="682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                             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小孩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蟋蟀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1229760" y="2819520"/>
            <a:ext cx="681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                      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自己的故乡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童年的生活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239880" y="342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郁闷之情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2693520" y="41911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一种亲切之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6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320" y="696600"/>
            <a:ext cx="260964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代表作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-360" y="1341360"/>
            <a:ext cx="8317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宋体"/>
              </a:rPr>
              <a:t>　</a:t>
            </a:r>
            <a:r>
              <a:rPr b="0" lang="zh-CN" sz="4400" spc="-1" strike="noStrike">
                <a:solidFill>
                  <a:srgbClr val="0f0601"/>
                </a:solidFill>
                <a:latin typeface="宋体"/>
              </a:rPr>
              <a:t>游园不值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f0601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0f0601"/>
                </a:solidFill>
                <a:latin typeface="宋体"/>
              </a:rPr>
              <a:t>叶绍翁</a:t>
            </a: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</a:rPr>
              <a:t>应怜屐齿印苍台，        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</a:rPr>
              <a:t>小扣柴扉久不开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</a:rPr>
              <a:t>春色满园关不住，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</a:rPr>
              <a:t>一枝红杏出墙来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注释</a:t>
            </a: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3360" y="129528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游园不值 ： 我在游园时没有遇到主人。　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应：大概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值：遇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怜：怜惜，爱惜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屐齿：古代木鞋下的木杠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苍苔：生长在阴暗潮湿地方的苔藓植物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7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小扣：轻轻地敲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8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柴扉：用树枝编成的简陋的柴门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Arial"/>
              </a:rPr>
              <a:t>译文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大概是院子的主人爱惜青苔，怕我的木屐在上面留下脚印吧，轻轻地敲柴门，好久也没人来开门。可是满园子的春色毕竟是关不住的，开得正旺的红杏有一枝枝条已经伸到墙外来了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解读</a:t>
            </a: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】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诗人想去朋友的花园中观赏春色，但是敲了半天门，也没有人来开。主人大概不在家。也许是担心游人踏坏了地面的青苔，故意不开门。但是一扇柴门，虽然关住了游人，却关不住满园春色，一只红色的杏花，早已探出墙来。表达了作者对春天的喜爱之情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2000" y="2666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Arial"/>
                <a:ea typeface="楷体_GB2312"/>
              </a:rPr>
              <a:t>促</a:t>
            </a:r>
            <a:endParaRPr b="0" lang="en-US" sz="35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9903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3" marL="1328040" indent="0">
              <a:lnSpc>
                <a:spcPct val="90000"/>
              </a:lnSpc>
              <a:spcBef>
                <a:spcPts val="8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Arial"/>
                <a:ea typeface="楷体_GB2312"/>
              </a:rPr>
              <a:t>深</a:t>
            </a:r>
            <a:endParaRPr b="0" lang="en-US" sz="35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13716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萧萧梧叶送寒声，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江上秋风动客情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057400" y="6094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600200" y="14479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Picture 4" descr="生命1"/>
          <p:cNvPicPr/>
          <p:nvPr/>
        </p:nvPicPr>
        <p:blipFill>
          <a:blip r:embed="rId2"/>
          <a:stretch/>
        </p:blipFill>
        <p:spPr>
          <a:xfrm>
            <a:off x="0" y="0"/>
            <a:ext cx="9144000" cy="6783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450720" y="1447920"/>
            <a:ext cx="8442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江上秋风动客情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68360" y="6094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萧萧梧叶送寒声，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11280" y="1989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萧萧：风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050920" y="292428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送寒声：送来阵阵寒意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57200" y="4800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动客情：使客人产生了思念家乡之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395600" y="19954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梧叶：梧桐树的叶子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</a:rPr>
              <a:t>诗中写了哪些景物？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梧叶     秋风     儿童     灯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促织     篱落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无言独上西楼，月如钩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寂寞梧桐深院锁清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李煜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相见欢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04920" y="4114800"/>
            <a:ext cx="85406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一声桐叶一声秋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一点芭蕉一点愁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                   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徐再思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水仙子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夜雨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梧桐叶抒发了诗人什么感情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251460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据传晋人张翰官居洛阳，见秋风起而思念故乡，于是辞官回乡，了却心愿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江上秋风动客情”抒发了</a:t>
            </a:r>
            <a:br>
              <a:rPr sz="4800"/>
            </a:b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诗人什么感情？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5:48:42Z</dcterms:created>
  <dc:creator/>
  <dc:description/>
  <cp:keywords>幻灯片之家 http:/www.eeppt.com</cp:keywords>
  <dc:language>en-US</dc:language>
  <cp:lastModifiedBy/>
  <dcterms:modified xsi:type="dcterms:W3CDTF">2015-07-20T03:06:08Z</dcterms:modified>
  <cp:revision>7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