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EAA-A757-464B-9A20-EB6C39C1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40D-D07A-46FB-8D50-9D94795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34F-7286-482D-8FD1-6F8FBF07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E70-AC03-4B48-AF00-49943F10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2C3-E9A1-435C-9459-FC874C1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094-8E88-48FE-832B-72FF203A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909-3833-4091-9F81-FAE8F36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62B-B877-4BD1-BE2C-B5D96881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764-6F05-43C5-B3F6-0386BED2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A1E-340A-493F-9CB5-E08B011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D63-4738-4D38-86AA-9D00438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439-0E99-482D-B83A-A204467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2099-E385-4956-BAED-15CDCE074C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85960" y="37148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143080" y="451008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消费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190600" y="684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于诚信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2711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2640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6212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6140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42960" y="857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478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997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4978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426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21504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2283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354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211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7852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7852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32320" y="78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926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5069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42900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283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069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85512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354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283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26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212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2640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807880" y="370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a</cp:lastModifiedBy>
  <dcterms:modified xsi:type="dcterms:W3CDTF">2015-07-21T04:16:3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