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7712-A2B8-41ED-9B65-4C1B8320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C057-4025-4969-8A5B-AC3A14F3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C8D-ADCA-41A2-91E5-7898D4EB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961-4BE8-4A3D-A80A-4B3DAEB0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CCB1-3912-40FA-9EEB-1B7F6CBE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099E-AC51-4FF1-95E1-4D2F5627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F6A2-D218-4A94-96CD-62F8584E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4B4A-10A7-4BA8-A1C8-EEDF5D56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B883-8F8E-44D8-94C9-595F833A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573200" y="-25920"/>
            <a:ext cx="7113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AA0B-6D8B-4EE6-B26E-3D440CAB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ABB8-515E-4B40-A036-190F2A90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D852-05CC-4C27-9642-750BD480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9120-77B9-44DD-A935-9B8170D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BBB6-945C-41F3-80CC-8DF99A7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A223-8A64-465C-A9D6-B371868C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5876-F905-4267-B3AB-154D58248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B2E9-B5CB-4D41-BACF-12ACD763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234F-7972-406C-A147-06B134E6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2149-0161-48C4-9BBA-A818359C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14F-51A6-47A2-BE59-6E50A8E7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573200" y="-25920"/>
            <a:ext cx="7113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3A9-98E6-41A2-96BA-9958C5E4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32B-D94A-4ADC-9A66-8FBBB101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EE7E-5F5C-4F21-9ECB-FC03F8C1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D09-6395-476B-9587-F496474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1561" t="5424" r="1561" b="19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-969840" y="-1033560"/>
            <a:ext cx="4024080" cy="357048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"/>
          <p:cNvPicPr/>
          <p:nvPr/>
        </p:nvPicPr>
        <p:blipFill>
          <a:blip r:embed="rId4"/>
          <a:stretch/>
        </p:blipFill>
        <p:spPr>
          <a:xfrm>
            <a:off x="5572080" y="78588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3" name="矩形 21"/>
          <p:cNvSpPr/>
          <p:nvPr/>
        </p:nvSpPr>
        <p:spPr>
          <a:xfrm>
            <a:off x="0" y="2654280"/>
            <a:ext cx="9144000" cy="17146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2666880"/>
            <a:ext cx="9144000" cy="1800"/>
            <a:chOff x="0" y="2666880"/>
            <a:chExt cx="9144000" cy="1800"/>
          </a:xfrm>
        </p:grpSpPr>
        <p:sp>
          <p:nvSpPr>
            <p:cNvPr id="5" name="直接连接符 24"/>
            <p:cNvSpPr/>
            <p:nvPr/>
          </p:nvSpPr>
          <p:spPr>
            <a:xfrm>
              <a:off x="0" y="2666880"/>
              <a:ext cx="9144000" cy="1800"/>
            </a:xfrm>
            <a:prstGeom prst="line">
              <a:avLst/>
            </a:prstGeom>
            <a:ln w="19080">
              <a:solidFill>
                <a:srgbClr val="eaf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 txBox="1"/>
            <p:nvPr/>
          </p:nvSpPr>
          <p:spPr>
            <a:xfrm>
              <a:off x="0" y="2666880"/>
              <a:ext cx="914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0" y="4381560"/>
            <a:ext cx="9144000" cy="1440"/>
            <a:chOff x="0" y="4381560"/>
            <a:chExt cx="9144000" cy="1440"/>
          </a:xfrm>
        </p:grpSpPr>
        <p:sp>
          <p:nvSpPr>
            <p:cNvPr id="8" name="直接连接符 27"/>
            <p:cNvSpPr/>
            <p:nvPr/>
          </p:nvSpPr>
          <p:spPr>
            <a:xfrm>
              <a:off x="0" y="4381560"/>
              <a:ext cx="9144000" cy="1440"/>
            </a:xfrm>
            <a:prstGeom prst="line">
              <a:avLst/>
            </a:prstGeom>
            <a:ln w="19080">
              <a:solidFill>
                <a:srgbClr val="eaf1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0" y="4381560"/>
              <a:ext cx="914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直接连接符 12"/>
          <p:cNvSpPr/>
          <p:nvPr/>
        </p:nvSpPr>
        <p:spPr>
          <a:xfrm>
            <a:off x="1357200" y="785880"/>
            <a:ext cx="77868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3857760" y="785880"/>
            <a:ext cx="1593720" cy="1000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15"/>
          <p:cNvSpPr/>
          <p:nvPr/>
        </p:nvSpPr>
        <p:spPr>
          <a:xfrm>
            <a:off x="7275600" y="785880"/>
            <a:ext cx="1576440" cy="1000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矩形 117"/>
          <p:cNvSpPr/>
          <p:nvPr/>
        </p:nvSpPr>
        <p:spPr>
          <a:xfrm>
            <a:off x="1601640" y="5713560"/>
            <a:ext cx="5940720" cy="7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矩形 18"/>
          <p:cNvSpPr/>
          <p:nvPr/>
        </p:nvSpPr>
        <p:spPr>
          <a:xfrm>
            <a:off x="3855960" y="785880"/>
            <a:ext cx="1594080" cy="10000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图片 19" descr=""/>
          <p:cNvPicPr/>
          <p:nvPr/>
        </p:nvPicPr>
        <p:blipFill>
          <a:blip r:embed="rId8"/>
          <a:stretch/>
        </p:blipFill>
        <p:spPr>
          <a:xfrm>
            <a:off x="5572080" y="785880"/>
            <a:ext cx="1593720" cy="1014480"/>
          </a:xfrm>
          <a:prstGeom prst="rect">
            <a:avLst/>
          </a:prstGeom>
          <a:ln w="0">
            <a:noFill/>
          </a:ln>
        </p:spPr>
      </p:pic>
      <p:sp>
        <p:nvSpPr>
          <p:cNvPr id="16" name="矩形 20"/>
          <p:cNvSpPr/>
          <p:nvPr/>
        </p:nvSpPr>
        <p:spPr>
          <a:xfrm>
            <a:off x="7286760" y="785880"/>
            <a:ext cx="1593720" cy="10000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矩形 21"/>
          <p:cNvSpPr/>
          <p:nvPr/>
        </p:nvSpPr>
        <p:spPr>
          <a:xfrm>
            <a:off x="3857760" y="785880"/>
            <a:ext cx="1592280" cy="10000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矩形 22"/>
          <p:cNvSpPr/>
          <p:nvPr/>
        </p:nvSpPr>
        <p:spPr>
          <a:xfrm>
            <a:off x="5572080" y="785880"/>
            <a:ext cx="1592280" cy="10000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矩形 23"/>
          <p:cNvSpPr/>
          <p:nvPr/>
        </p:nvSpPr>
        <p:spPr>
          <a:xfrm>
            <a:off x="7265880" y="785880"/>
            <a:ext cx="1592280" cy="10000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图片 14" descr=""/>
          <p:cNvPicPr/>
          <p:nvPr/>
        </p:nvPicPr>
        <p:blipFill>
          <a:blip r:embed="rId10"/>
          <a:srcRect l="14824" t="42067" r="31554" b="28964"/>
          <a:stretch/>
        </p:blipFill>
        <p:spPr>
          <a:xfrm>
            <a:off x="3646440" y="806400"/>
            <a:ext cx="4903920" cy="198756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FE54-1554-42FB-BFE5-D05924023F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082E-15DE-4CFA-8CA6-0748B59648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Box 25"/>
          <p:cNvSpPr/>
          <p:nvPr/>
        </p:nvSpPr>
        <p:spPr>
          <a:xfrm>
            <a:off x="327240" y="415800"/>
            <a:ext cx="14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  <a:ea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5" descr=""/>
          <p:cNvPicPr/>
          <p:nvPr/>
        </p:nvPicPr>
        <p:blipFill>
          <a:blip r:embed="rId2"/>
          <a:srcRect l="0" t="88442" r="0" b="0"/>
          <a:stretch/>
        </p:blipFill>
        <p:spPr>
          <a:xfrm>
            <a:off x="0" y="6230880"/>
            <a:ext cx="9144000" cy="6271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3" descr=""/>
          <p:cNvPicPr/>
          <p:nvPr/>
        </p:nvPicPr>
        <p:blipFill>
          <a:blip r:embed="rId3"/>
          <a:srcRect l="0" t="0" r="0" b="80927"/>
          <a:stretch/>
        </p:blipFill>
        <p:spPr>
          <a:xfrm>
            <a:off x="-11160" y="-4680"/>
            <a:ext cx="9142560" cy="10317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B141-1273-4CBA-B4EC-B2E74AF309D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0901-B07A-403F-978B-9B8039AD86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6642000" y="6235560"/>
            <a:ext cx="24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草檀斋毛泽东字体"/>
                <a:ea typeface="草檀斋毛泽东字体"/>
              </a:rPr>
              <a:t>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183960" y="155520"/>
            <a:ext cx="13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052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3520" y="291456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圆角矩形 1"/>
          <p:cNvSpPr/>
          <p:nvPr/>
        </p:nvSpPr>
        <p:spPr>
          <a:xfrm>
            <a:off x="395280" y="1484280"/>
            <a:ext cx="8497800" cy="4321080"/>
          </a:xfrm>
          <a:prstGeom prst="roundRect">
            <a:avLst>
              <a:gd name="adj" fmla="val 535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258840" y="58831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"/>
          <p:cNvSpPr/>
          <p:nvPr/>
        </p:nvSpPr>
        <p:spPr>
          <a:xfrm rot="10800000">
            <a:off x="342720" y="2123280"/>
            <a:ext cx="8453160" cy="3753000"/>
          </a:xfrm>
          <a:prstGeom prst="roundRect">
            <a:avLst>
              <a:gd name="adj" fmla="val 5301"/>
            </a:avLst>
          </a:prstGeom>
          <a:solidFill>
            <a:srgbClr val="ffffff">
              <a:alpha val="60000"/>
            </a:srgbClr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2" algn="ctr">
              <a:lnSpc>
                <a:spcPct val="15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318960" y="1447920"/>
            <a:ext cx="3532320" cy="617400"/>
          </a:xfrm>
          <a:prstGeom prst="roundRect">
            <a:avLst>
              <a:gd name="adj" fmla="val 16667"/>
            </a:avLst>
          </a:prstGeom>
          <a:solidFill>
            <a:srgbClr val="00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393840" y="2028960"/>
            <a:ext cx="82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微软雅黑"/>
                <a:ea typeface="微软雅黑"/>
              </a:rPr>
              <a:t>单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73200" y="-25920"/>
            <a:ext cx="7113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37A0-89FD-41F2-BC85-1E4E888424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5:11:00Z</dcterms:created>
  <dc:creator>User</dc:creator>
  <dc:description/>
  <dc:language>en-US</dc:language>
  <cp:lastModifiedBy>雨林木风</cp:lastModifiedBy>
  <dcterms:modified xsi:type="dcterms:W3CDTF">2015-07-20T11:32:5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