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3E8-91E3-4CE2-84CA-B7E14041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D76-C91D-4056-A938-615C9501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240-D152-4E7B-98F6-2AFB977B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801-142D-4CDB-BC02-2CD0AF91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B03-050F-4442-A6CF-00031909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D80-3CFC-4A76-B4EF-4E3AE272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0D6-6C23-48D5-BC0F-B1D05411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79C-DBCF-44A0-A0E1-6E8835EE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4C3-06CE-4B75-B91C-D223EB97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ADF-5353-4238-9304-7BD39445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CD3-9D53-404D-B3AB-FFD19312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9F7-8F6C-419B-8D22-D548FB79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6E25-EAF5-43F5-830E-564C0FD7A5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425680" y="1851120"/>
            <a:ext cx="358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       ——</a:t>
            </a:r>
            <a:r>
              <a:rPr b="1" lang="en-US" sz="36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Simple Powerful&amp;Free</a:t>
            </a:r>
            <a:endParaRPr b="0" lang="en-US" sz="36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767560" y="3527280"/>
            <a:ext cx="30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需求方：金山软件公司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设计师：褚洪静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时    间：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012·10-12·16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5064120" y="3511440"/>
            <a:ext cx="5745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5818320" y="1960560"/>
            <a:ext cx="1782720" cy="1455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55680" y="6337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531520" y="811080"/>
            <a:ext cx="3382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111111"/>
                </a:solidFill>
                <a:latin typeface="Calibri"/>
              </a:rPr>
              <a:t>灰色动态</a:t>
            </a:r>
            <a:r>
              <a:rPr b="0" lang="zh-CN" sz="4500" spc="-1" strike="noStrike">
                <a:solidFill>
                  <a:srgbClr val="111111"/>
                </a:solidFill>
                <a:latin typeface="Calibri"/>
              </a:rPr>
              <a:t>PPT</a:t>
            </a:r>
            <a:r>
              <a:rPr b="0" lang="zh-CN" sz="4500" spc="-1" strike="noStrike">
                <a:solidFill>
                  <a:srgbClr val="111111"/>
                </a:solidFill>
                <a:latin typeface="Calibri"/>
              </a:rPr>
              <a:t>模板</a:t>
            </a:r>
            <a:endParaRPr b="0" lang="en-US" sz="45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6826320" y="2838600"/>
            <a:ext cx="5518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No. 1    </a:t>
            </a:r>
            <a:r>
              <a:rPr b="1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金山办公软件        </a:t>
            </a:r>
            <a:r>
              <a:rPr b="1" lang="en-US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Software</a:t>
            </a:r>
            <a:endParaRPr b="0" lang="en-US" sz="20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No.2    </a:t>
            </a:r>
            <a:r>
              <a:rPr b="1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简洁简单               </a:t>
            </a:r>
            <a:r>
              <a:rPr b="1" lang="en-US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Simple</a:t>
            </a:r>
            <a:endParaRPr b="0" lang="en-US" sz="20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No.3    </a:t>
            </a:r>
            <a:r>
              <a:rPr b="1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高效有力               </a:t>
            </a:r>
            <a:r>
              <a:rPr b="1" lang="en-US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Powerful</a:t>
            </a:r>
            <a:endParaRPr b="0" lang="en-US" sz="20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No.4    </a:t>
            </a:r>
            <a:r>
              <a:rPr b="1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免费自由               </a:t>
            </a:r>
            <a:r>
              <a:rPr b="1" lang="en-US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Free</a:t>
            </a:r>
            <a:endParaRPr b="0" lang="en-US" sz="20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No.5    </a:t>
            </a:r>
            <a:r>
              <a:rPr b="1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发展未来               </a:t>
            </a:r>
            <a:r>
              <a:rPr b="1" lang="en-US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Further</a:t>
            </a:r>
            <a:endParaRPr b="0" lang="en-US" sz="2000" spc="-1" strike="noStrike">
              <a:solidFill>
                <a:srgbClr val="111111"/>
              </a:solidFill>
              <a:latin typeface="Calibri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73040" y="749160"/>
            <a:ext cx="3063960" cy="1527120"/>
            <a:chOff x="473040" y="749160"/>
            <a:chExt cx="3063960" cy="1527120"/>
          </a:xfrm>
        </p:grpSpPr>
        <p:sp>
          <p:nvSpPr>
            <p:cNvPr id="51" name="TextBox 8"/>
            <p:cNvSpPr/>
            <p:nvPr/>
          </p:nvSpPr>
          <p:spPr>
            <a:xfrm>
              <a:off x="473040" y="815400"/>
              <a:ext cx="2481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够范你就来</a:t>
              </a: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       ——</a:t>
              </a:r>
              <a:r>
                <a:rPr b="1" lang="en-US" sz="18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Simple Powerful&amp;Free</a:t>
              </a: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2" name="TextBox 10"/>
            <p:cNvSpPr/>
            <p:nvPr/>
          </p:nvSpPr>
          <p:spPr>
            <a:xfrm>
              <a:off x="2212560" y="1816560"/>
              <a:ext cx="10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目录</a:t>
              </a:r>
              <a:endParaRPr b="0" lang="en-US" sz="24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3" name="矩形 11"/>
            <p:cNvSpPr/>
            <p:nvPr/>
          </p:nvSpPr>
          <p:spPr>
            <a:xfrm>
              <a:off x="1779480" y="1839600"/>
              <a:ext cx="398880" cy="39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54" name="矩形 12"/>
            <p:cNvSpPr/>
            <p:nvPr/>
          </p:nvSpPr>
          <p:spPr>
            <a:xfrm>
              <a:off x="2302200" y="749160"/>
              <a:ext cx="1234800" cy="10083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31640" y="402588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73737"/>
                </a:solidFill>
                <a:uFillTx/>
                <a:latin typeface="Calibri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111111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11111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111111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6D5-3BF6-4FD5-B506-F51CE237B9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4"/>
          <p:cNvSpPr/>
          <p:nvPr/>
        </p:nvSpPr>
        <p:spPr>
          <a:xfrm>
            <a:off x="5064120" y="3511440"/>
            <a:ext cx="5745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5818320" y="1960560"/>
            <a:ext cx="1782720" cy="1455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36520" y="244440"/>
            <a:ext cx="3063960" cy="1769040"/>
            <a:chOff x="236520" y="244440"/>
            <a:chExt cx="3063960" cy="1769040"/>
          </a:xfrm>
        </p:grpSpPr>
        <p:sp>
          <p:nvSpPr>
            <p:cNvPr id="64" name="TextBox 8"/>
            <p:cNvSpPr/>
            <p:nvPr/>
          </p:nvSpPr>
          <p:spPr>
            <a:xfrm>
              <a:off x="236520" y="310680"/>
              <a:ext cx="2481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够范你就来</a:t>
              </a: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       ——</a:t>
              </a:r>
              <a:r>
                <a:rPr b="1" lang="en-US" sz="18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Simple Powerful&amp;Free</a:t>
              </a: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65" name="TextBox 10"/>
            <p:cNvSpPr/>
            <p:nvPr/>
          </p:nvSpPr>
          <p:spPr>
            <a:xfrm>
              <a:off x="1960200" y="1280160"/>
              <a:ext cx="1324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金山办公软件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方正细倩简体"/>
                  <a:ea typeface="方正细倩简体"/>
                </a:rPr>
                <a:t>Software</a:t>
              </a:r>
              <a:endParaRPr b="0" lang="en-US" sz="14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66" name="矩形 11"/>
            <p:cNvSpPr/>
            <p:nvPr/>
          </p:nvSpPr>
          <p:spPr>
            <a:xfrm>
              <a:off x="1542960" y="1334520"/>
              <a:ext cx="398880" cy="39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  <p:sp>
          <p:nvSpPr>
            <p:cNvPr id="67" name="矩形 12"/>
            <p:cNvSpPr/>
            <p:nvPr/>
          </p:nvSpPr>
          <p:spPr>
            <a:xfrm>
              <a:off x="2065680" y="244440"/>
              <a:ext cx="1234800" cy="10083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Calibri"/>
              </a:endParaRPr>
            </a:p>
          </p:txBody>
        </p:sp>
      </p:grpSp>
      <p:sp>
        <p:nvSpPr>
          <p:cNvPr id="68" name="TextBox 10"/>
          <p:cNvSpPr/>
          <p:nvPr/>
        </p:nvSpPr>
        <p:spPr>
          <a:xfrm>
            <a:off x="3565440" y="1201680"/>
            <a:ext cx="27957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在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1988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年，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诞生自一个叫求伯君的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4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岁年轻人之手。而这个产品也成就了这个年轻人，不仅使他成为国内软件业的元老级人物，还令他以此为基础扬名立万、发家致富。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“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求伯君用一台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386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电脑撰写了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1.0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，当时他的肝病发作三次。”金山资深员工透露当年的求伯君如此清贫、勤奋和辛苦。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1992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年到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1994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年，金山和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如日中天。”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据介绍，当年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的批发价是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200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元，年销售量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3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万多套，销售额超过</a:t>
            </a:r>
            <a:r>
              <a:rPr b="1" lang="en-US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6600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万元。对于当时个人创业企业来说，简直就是一个天文数字。</a:t>
            </a: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4197240" y="1819440"/>
            <a:ext cx="179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感谢</a:t>
            </a:r>
            <a:endParaRPr b="0" lang="en-US" sz="54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观赏</a:t>
            </a:r>
            <a:endParaRPr b="0" lang="en-US" sz="54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5767560" y="3527280"/>
            <a:ext cx="301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72" name="矩形 4"/>
          <p:cNvSpPr/>
          <p:nvPr/>
        </p:nvSpPr>
        <p:spPr>
          <a:xfrm>
            <a:off x="5064120" y="3511440"/>
            <a:ext cx="574560" cy="5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818320" y="1960560"/>
            <a:ext cx="1782720" cy="1455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06:12Z</dcterms:modified>
  <cp:revision>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0c05000000000001024140</vt:lpwstr>
  </property>
</Properties>
</file>