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6F7C8-6EE9-4FC2-9D1F-4C339A687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AC800-E47B-4F3E-854F-C476EAD43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3B74B-9EEF-4BD5-A19B-A241971D0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E4333-2F47-4A3C-B7A3-9A9EB2B1B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90BA3-E50B-447D-8BF1-E0DB518D9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A1726-7AC9-4E2C-B0C3-C8B596B5C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6B03D-5BCA-4679-849F-2CCA01502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97D5C-B3F9-42D1-9A74-7036BB790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A69E5-584F-48AB-B735-1360F8A79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50AB9-1A8F-474D-B3B3-39C51C612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CB59C-63F4-470D-9A44-23855DBD5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61B2D-2841-42E6-9631-5B97926BD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26710-9823-41EA-B895-28F7F4266D0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dongtai/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8720" y="206064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1560" y="981000"/>
            <a:ext cx="268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红色动态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模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84360" y="777960"/>
            <a:ext cx="63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动态ppt模板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dongt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FE0EF-A80A-49D4-940A-B33041764D4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6T08:10:31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07T11:34:31Z</dcterms:modified>
  <cp:revision>1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