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D86-75CA-43F1-A509-D36EE210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B84-63AB-4AAE-9EB5-4378512F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9AB-D141-47BE-AB98-4AB3916F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197-96AB-4C5F-9332-704299F5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9BA-7D05-4015-90E9-54D228FE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7CA-3C47-4213-BDAB-02137C03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6DA-5A40-40CE-986B-559ED5E8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0D72-C322-4812-A579-D3DF72E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8C7-7278-4C7F-90F7-5BE0AC75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290-1760-451B-9F95-F25F18B6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70C-CECA-4B52-9F21-9B5E92A9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F86-5200-4E25-851B-6BDE877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E463-9FF2-402A-AE94-62749EC59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Owner\My Documents\My Pictures\1_副本_副本.png"/>
          <p:cNvPicPr/>
          <p:nvPr/>
        </p:nvPicPr>
        <p:blipFill>
          <a:blip r:embed="rId2"/>
          <a:stretch/>
        </p:blipFill>
        <p:spPr>
          <a:xfrm rot="386400">
            <a:off x="-1692000" y="6521040"/>
            <a:ext cx="1339920" cy="687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486400" y="1522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E:\ppt模板\个人作品\鱼\gucn_2011102786630161139pic2_副本_副本_副本_副本.png"/>
          <p:cNvPicPr/>
          <p:nvPr/>
        </p:nvPicPr>
        <p:blipFill>
          <a:blip r:embed="rId3"/>
          <a:stretch/>
        </p:blipFill>
        <p:spPr>
          <a:xfrm>
            <a:off x="6095880" y="4038480"/>
            <a:ext cx="115272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3440" y="3246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0720" y="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经典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素材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0.58698 -0.38945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2336 L 0.12257 -0.13483 C 0.16111 -0.16859 0.18333 -0.22017 0.18559 -0.27636 C 0.18819 -0.3395 0.171 -0.39315 0.13403 -0.43178 L -0.01667 -0.6161 E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11600" y="95760"/>
            <a:ext cx="1535040" cy="1239840"/>
            <a:chOff x="111600" y="95760"/>
            <a:chExt cx="1535040" cy="1239840"/>
          </a:xfrm>
        </p:grpSpPr>
        <p:pic>
          <p:nvPicPr>
            <p:cNvPr id="48" name="Picture 2" descr="C:\Documents and Settings\Owner\My Documents\My Pictures\1_副本_副本.png"/>
            <p:cNvPicPr/>
            <p:nvPr/>
          </p:nvPicPr>
          <p:blipFill>
            <a:blip r:embed="rId1"/>
            <a:stretch/>
          </p:blipFill>
          <p:spPr>
            <a:xfrm rot="4456800">
              <a:off x="145800" y="348480"/>
              <a:ext cx="97344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" descr="C:\Documents and Settings\Owner\My Documents\My Pictures\1_副本_副本.png"/>
            <p:cNvPicPr/>
            <p:nvPr/>
          </p:nvPicPr>
          <p:blipFill>
            <a:blip r:embed="rId2"/>
            <a:stretch/>
          </p:blipFill>
          <p:spPr>
            <a:xfrm rot="14283000">
              <a:off x="570240" y="326160"/>
              <a:ext cx="97524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Box 8"/>
          <p:cNvSpPr/>
          <p:nvPr/>
        </p:nvSpPr>
        <p:spPr>
          <a:xfrm>
            <a:off x="1740960" y="457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标题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C:\Documents and Settings\Owner\My Documents\My Pictures\201011252346014290[1]_副本.jpg"/>
          <p:cNvPicPr/>
          <p:nvPr/>
        </p:nvPicPr>
        <p:blipFill>
          <a:blip r:embed="rId3"/>
          <a:stretch/>
        </p:blipFill>
        <p:spPr>
          <a:xfrm>
            <a:off x="8077320" y="5867280"/>
            <a:ext cx="91440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24000" y="645336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模板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F6F-BBDA-467F-9D40-F27D5AB320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4T10:15:43Z</dcterms:created>
  <dc:creator/>
  <dc:description/>
  <dc:language>en-US</dc:language>
  <cp:lastModifiedBy>微软用户</cp:lastModifiedBy>
  <dcterms:modified xsi:type="dcterms:W3CDTF">2015-07-21T06:30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