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170-B908-4622-B252-80D83C51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F86-D627-4FEB-8FB5-9BC74452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16A-1968-4EE2-BB85-4C0AC27B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723-2260-4318-B87C-5DF548AA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F83-7859-48BD-AA04-87543126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137-2108-41F5-B4DD-7DBF91B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23B-6836-4A4C-8E0D-83DD6D41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381-2670-4E22-BDE3-1FB82CFA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A19-B3D0-4C13-BE1F-22CEFD15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A1F-EA06-4B1A-BD05-4598CCC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11A-D707-40A6-AA54-AA5C535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BBC-2609-4521-9528-838136E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8078-ED19-4ACA-B010-8D72BD5DDC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60周年\1\png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圆角矩形 7"/>
          <p:cNvSpPr/>
          <p:nvPr/>
        </p:nvSpPr>
        <p:spPr>
          <a:xfrm>
            <a:off x="247680" y="247680"/>
            <a:ext cx="8667720" cy="6610320"/>
          </a:xfrm>
          <a:prstGeom prst="roundRect">
            <a:avLst>
              <a:gd name="adj" fmla="val 4204"/>
            </a:avLst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8" descr="8.png"/>
          <p:cNvPicPr/>
          <p:nvPr/>
        </p:nvPicPr>
        <p:blipFill>
          <a:blip r:embed="rId3"/>
          <a:stretch/>
        </p:blipFill>
        <p:spPr>
          <a:xfrm>
            <a:off x="0" y="5815080"/>
            <a:ext cx="914400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1"/>
          <p:cNvGrpSpPr/>
          <p:nvPr/>
        </p:nvGrpSpPr>
        <p:grpSpPr>
          <a:xfrm>
            <a:off x="2820960" y="6073920"/>
            <a:ext cx="3502080" cy="782640"/>
            <a:chOff x="2820960" y="6073920"/>
            <a:chExt cx="3502080" cy="782640"/>
          </a:xfrm>
        </p:grpSpPr>
        <p:pic>
          <p:nvPicPr>
            <p:cNvPr id="45" name="图片 10" descr="4.png"/>
            <p:cNvPicPr/>
            <p:nvPr/>
          </p:nvPicPr>
          <p:blipFill>
            <a:blip r:embed="rId4"/>
            <a:stretch/>
          </p:blipFill>
          <p:spPr>
            <a:xfrm>
              <a:off x="4156920" y="6073920"/>
              <a:ext cx="8301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1" descr="4.png"/>
            <p:cNvPicPr/>
            <p:nvPr/>
          </p:nvPicPr>
          <p:blipFill>
            <a:blip r:embed="rId5"/>
            <a:stretch/>
          </p:blipFill>
          <p:spPr>
            <a:xfrm>
              <a:off x="5105160" y="6154200"/>
              <a:ext cx="659880" cy="6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2" descr="4.png"/>
            <p:cNvPicPr/>
            <p:nvPr/>
          </p:nvPicPr>
          <p:blipFill>
            <a:blip r:embed="rId6"/>
            <a:stretch/>
          </p:blipFill>
          <p:spPr>
            <a:xfrm>
              <a:off x="5883120" y="6257880"/>
              <a:ext cx="439920" cy="4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13" descr="4.png"/>
            <p:cNvPicPr/>
            <p:nvPr/>
          </p:nvPicPr>
          <p:blipFill>
            <a:blip r:embed="rId7"/>
            <a:stretch/>
          </p:blipFill>
          <p:spPr>
            <a:xfrm>
              <a:off x="3378960" y="6154200"/>
              <a:ext cx="659880" cy="6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4" descr="4.png"/>
            <p:cNvPicPr/>
            <p:nvPr/>
          </p:nvPicPr>
          <p:blipFill>
            <a:blip r:embed="rId8"/>
            <a:stretch/>
          </p:blipFill>
          <p:spPr>
            <a:xfrm>
              <a:off x="2820960" y="6257880"/>
              <a:ext cx="439920" cy="4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6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1"/>
          <p:cNvSpPr/>
          <p:nvPr/>
        </p:nvSpPr>
        <p:spPr>
          <a:xfrm>
            <a:off x="2647800" y="135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军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30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61"/>
          <p:cNvGrpSpPr/>
          <p:nvPr/>
        </p:nvGrpSpPr>
        <p:grpSpPr>
          <a:xfrm>
            <a:off x="1620720" y="1565280"/>
            <a:ext cx="5865840" cy="611280"/>
            <a:chOff x="1620720" y="1565280"/>
            <a:chExt cx="5865840" cy="611280"/>
          </a:xfrm>
        </p:grpSpPr>
        <p:grpSp>
          <p:nvGrpSpPr>
            <p:cNvPr id="93" name="组合 45"/>
            <p:cNvGrpSpPr/>
            <p:nvPr/>
          </p:nvGrpSpPr>
          <p:grpSpPr>
            <a:xfrm>
              <a:off x="1620720" y="1565280"/>
              <a:ext cx="5865840" cy="611280"/>
              <a:chOff x="1620720" y="1565280"/>
              <a:chExt cx="5865840" cy="611280"/>
            </a:xfrm>
          </p:grpSpPr>
          <p:sp>
            <p:nvSpPr>
              <p:cNvPr id="94" name="AutoShape 3"/>
              <p:cNvSpPr/>
              <p:nvPr/>
            </p:nvSpPr>
            <p:spPr>
              <a:xfrm>
                <a:off x="1620720" y="178128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3"/>
              <p:cNvSpPr/>
              <p:nvPr/>
            </p:nvSpPr>
            <p:spPr>
              <a:xfrm>
                <a:off x="1677960" y="1565280"/>
                <a:ext cx="5751000" cy="540360"/>
              </a:xfrm>
              <a:prstGeom prst="rect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13"/>
            <p:cNvSpPr/>
            <p:nvPr/>
          </p:nvSpPr>
          <p:spPr>
            <a:xfrm>
              <a:off x="3283920" y="166068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62"/>
          <p:cNvGrpSpPr/>
          <p:nvPr/>
        </p:nvGrpSpPr>
        <p:grpSpPr>
          <a:xfrm>
            <a:off x="1620720" y="2541600"/>
            <a:ext cx="5865840" cy="611280"/>
            <a:chOff x="1620720" y="2541600"/>
            <a:chExt cx="5865840" cy="611280"/>
          </a:xfrm>
        </p:grpSpPr>
        <p:grpSp>
          <p:nvGrpSpPr>
            <p:cNvPr id="98" name="组合 49"/>
            <p:cNvGrpSpPr/>
            <p:nvPr/>
          </p:nvGrpSpPr>
          <p:grpSpPr>
            <a:xfrm>
              <a:off x="1620720" y="2541600"/>
              <a:ext cx="5865840" cy="611280"/>
              <a:chOff x="1620720" y="2541600"/>
              <a:chExt cx="5865840" cy="611280"/>
            </a:xfrm>
          </p:grpSpPr>
          <p:sp>
            <p:nvSpPr>
              <p:cNvPr id="99" name="AutoShape 3"/>
              <p:cNvSpPr/>
              <p:nvPr/>
            </p:nvSpPr>
            <p:spPr>
              <a:xfrm>
                <a:off x="1620720" y="275760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3"/>
              <p:cNvSpPr/>
              <p:nvPr/>
            </p:nvSpPr>
            <p:spPr>
              <a:xfrm>
                <a:off x="1677600" y="2541600"/>
                <a:ext cx="5751720" cy="54000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Rectangle 13"/>
            <p:cNvSpPr/>
            <p:nvPr/>
          </p:nvSpPr>
          <p:spPr>
            <a:xfrm>
              <a:off x="3283920" y="263700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63"/>
          <p:cNvGrpSpPr/>
          <p:nvPr/>
        </p:nvGrpSpPr>
        <p:grpSpPr>
          <a:xfrm>
            <a:off x="1620720" y="3517920"/>
            <a:ext cx="5865840" cy="611280"/>
            <a:chOff x="1620720" y="3517920"/>
            <a:chExt cx="5865840" cy="611280"/>
          </a:xfrm>
        </p:grpSpPr>
        <p:grpSp>
          <p:nvGrpSpPr>
            <p:cNvPr id="103" name="组合 53"/>
            <p:cNvGrpSpPr/>
            <p:nvPr/>
          </p:nvGrpSpPr>
          <p:grpSpPr>
            <a:xfrm>
              <a:off x="1620720" y="3517920"/>
              <a:ext cx="5865840" cy="611280"/>
              <a:chOff x="1620720" y="3517920"/>
              <a:chExt cx="5865840" cy="611280"/>
            </a:xfrm>
          </p:grpSpPr>
          <p:sp>
            <p:nvSpPr>
              <p:cNvPr id="104" name="AutoShape 3"/>
              <p:cNvSpPr/>
              <p:nvPr/>
            </p:nvSpPr>
            <p:spPr>
              <a:xfrm>
                <a:off x="1620720" y="373392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3"/>
              <p:cNvSpPr/>
              <p:nvPr/>
            </p:nvSpPr>
            <p:spPr>
              <a:xfrm>
                <a:off x="1677960" y="3517920"/>
                <a:ext cx="5751000" cy="540360"/>
              </a:xfrm>
              <a:prstGeom prst="rect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3"/>
            <p:cNvSpPr/>
            <p:nvPr/>
          </p:nvSpPr>
          <p:spPr>
            <a:xfrm>
              <a:off x="3283920" y="361332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64"/>
          <p:cNvGrpSpPr/>
          <p:nvPr/>
        </p:nvGrpSpPr>
        <p:grpSpPr>
          <a:xfrm>
            <a:off x="1620720" y="4494240"/>
            <a:ext cx="5865840" cy="611280"/>
            <a:chOff x="1620720" y="4494240"/>
            <a:chExt cx="5865840" cy="611280"/>
          </a:xfrm>
        </p:grpSpPr>
        <p:grpSp>
          <p:nvGrpSpPr>
            <p:cNvPr id="108" name="组合 57"/>
            <p:cNvGrpSpPr/>
            <p:nvPr/>
          </p:nvGrpSpPr>
          <p:grpSpPr>
            <a:xfrm>
              <a:off x="1620720" y="4494240"/>
              <a:ext cx="5865840" cy="611280"/>
              <a:chOff x="1620720" y="4494240"/>
              <a:chExt cx="5865840" cy="611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1620720" y="471024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3"/>
              <p:cNvSpPr/>
              <p:nvPr/>
            </p:nvSpPr>
            <p:spPr>
              <a:xfrm>
                <a:off x="1677600" y="4494240"/>
                <a:ext cx="5751720" cy="54000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3"/>
            <p:cNvSpPr/>
            <p:nvPr/>
          </p:nvSpPr>
          <p:spPr>
            <a:xfrm>
              <a:off x="3283920" y="458964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10"/>
          <p:cNvGrpSpPr/>
          <p:nvPr/>
        </p:nvGrpSpPr>
        <p:grpSpPr>
          <a:xfrm>
            <a:off x="1620720" y="2765520"/>
            <a:ext cx="5865840" cy="610920"/>
            <a:chOff x="1620720" y="2765520"/>
            <a:chExt cx="5865840" cy="610920"/>
          </a:xfrm>
        </p:grpSpPr>
        <p:grpSp>
          <p:nvGrpSpPr>
            <p:cNvPr id="113" name="组合 5"/>
            <p:cNvGrpSpPr/>
            <p:nvPr/>
          </p:nvGrpSpPr>
          <p:grpSpPr>
            <a:xfrm>
              <a:off x="1620720" y="2765520"/>
              <a:ext cx="5865840" cy="610920"/>
              <a:chOff x="1620720" y="2765520"/>
              <a:chExt cx="5865840" cy="61092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1620720" y="298116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1677960" y="2765520"/>
                <a:ext cx="5751000" cy="540000"/>
              </a:xfrm>
              <a:prstGeom prst="rect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Rectangle 13"/>
            <p:cNvSpPr/>
            <p:nvPr/>
          </p:nvSpPr>
          <p:spPr>
            <a:xfrm>
              <a:off x="3283920" y="286092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TextBox 11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4"/>
          <p:cNvGrpSpPr/>
          <p:nvPr/>
        </p:nvGrpSpPr>
        <p:grpSpPr>
          <a:xfrm>
            <a:off x="3112920" y="1150920"/>
            <a:ext cx="465480" cy="396720"/>
            <a:chOff x="3112920" y="1150920"/>
            <a:chExt cx="465480" cy="396720"/>
          </a:xfrm>
        </p:grpSpPr>
        <p:sp>
          <p:nvSpPr>
            <p:cNvPr id="119" name="燕尾形 15"/>
            <p:cNvSpPr/>
            <p:nvPr/>
          </p:nvSpPr>
          <p:spPr>
            <a:xfrm>
              <a:off x="3112920" y="1150920"/>
              <a:ext cx="179640" cy="3967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40" y="0"/>
                  </a:lnTo>
                  <a:lnTo>
                    <a:pt x="21600" y="10800"/>
                  </a:lnTo>
                  <a:lnTo>
                    <a:pt x="6840" y="21600"/>
                  </a:lnTo>
                  <a:lnTo>
                    <a:pt x="0" y="21600"/>
                  </a:lnTo>
                  <a:lnTo>
                    <a:pt x="14760" y="108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燕尾形 16"/>
            <p:cNvSpPr/>
            <p:nvPr/>
          </p:nvSpPr>
          <p:spPr>
            <a:xfrm>
              <a:off x="3255840" y="1150920"/>
              <a:ext cx="179640" cy="3967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40" y="0"/>
                  </a:lnTo>
                  <a:lnTo>
                    <a:pt x="21600" y="10800"/>
                  </a:lnTo>
                  <a:lnTo>
                    <a:pt x="6840" y="21600"/>
                  </a:lnTo>
                  <a:lnTo>
                    <a:pt x="0" y="21600"/>
                  </a:lnTo>
                  <a:lnTo>
                    <a:pt x="14760" y="108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燕尾形 17"/>
            <p:cNvSpPr/>
            <p:nvPr/>
          </p:nvSpPr>
          <p:spPr>
            <a:xfrm>
              <a:off x="3398760" y="1150920"/>
              <a:ext cx="179640" cy="3967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40" y="0"/>
                  </a:lnTo>
                  <a:lnTo>
                    <a:pt x="21600" y="10800"/>
                  </a:lnTo>
                  <a:lnTo>
                    <a:pt x="6840" y="21600"/>
                  </a:lnTo>
                  <a:lnTo>
                    <a:pt x="0" y="21600"/>
                  </a:lnTo>
                  <a:lnTo>
                    <a:pt x="14760" y="108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509760" y="1038240"/>
            <a:ext cx="2519280" cy="4809960"/>
            <a:chOff x="509760" y="1038240"/>
            <a:chExt cx="2519280" cy="4809960"/>
          </a:xfrm>
        </p:grpSpPr>
        <p:grpSp>
          <p:nvGrpSpPr>
            <p:cNvPr id="123" name="组合 33"/>
            <p:cNvGrpSpPr/>
            <p:nvPr/>
          </p:nvGrpSpPr>
          <p:grpSpPr>
            <a:xfrm>
              <a:off x="509760" y="1038240"/>
              <a:ext cx="2519280" cy="4809960"/>
              <a:chOff x="509760" y="1038240"/>
              <a:chExt cx="2519280" cy="4809960"/>
            </a:xfrm>
          </p:grpSpPr>
          <p:sp>
            <p:nvSpPr>
              <p:cNvPr id="124" name="矩形 13"/>
              <p:cNvSpPr/>
              <p:nvPr/>
            </p:nvSpPr>
            <p:spPr>
              <a:xfrm>
                <a:off x="509760" y="1038240"/>
                <a:ext cx="2519280" cy="4809960"/>
              </a:xfrm>
              <a:prstGeom prst="rect">
                <a:avLst/>
              </a:prstGeom>
              <a:solidFill>
                <a:srgbClr val="d9d9d9">
                  <a:alpha val="65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3"/>
              <p:cNvSpPr/>
              <p:nvPr/>
            </p:nvSpPr>
            <p:spPr>
              <a:xfrm>
                <a:off x="617400" y="1655640"/>
                <a:ext cx="2303640" cy="43308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689400" y="16876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3"/>
              <p:cNvSpPr/>
              <p:nvPr/>
            </p:nvSpPr>
            <p:spPr>
              <a:xfrm>
                <a:off x="617400" y="2179440"/>
                <a:ext cx="2303640" cy="43164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"/>
              <p:cNvSpPr/>
              <p:nvPr/>
            </p:nvSpPr>
            <p:spPr>
              <a:xfrm>
                <a:off x="689400" y="221112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3"/>
              <p:cNvSpPr/>
              <p:nvPr/>
            </p:nvSpPr>
            <p:spPr>
              <a:xfrm>
                <a:off x="617400" y="2703240"/>
                <a:ext cx="2303640" cy="43164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689400" y="273492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"/>
              <p:cNvSpPr/>
              <p:nvPr/>
            </p:nvSpPr>
            <p:spPr>
              <a:xfrm>
                <a:off x="617400" y="3227400"/>
                <a:ext cx="2303640" cy="43164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3"/>
              <p:cNvSpPr/>
              <p:nvPr/>
            </p:nvSpPr>
            <p:spPr>
              <a:xfrm>
                <a:off x="689400" y="325872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3"/>
              <p:cNvSpPr/>
              <p:nvPr/>
            </p:nvSpPr>
            <p:spPr>
              <a:xfrm>
                <a:off x="617400" y="3751200"/>
                <a:ext cx="2303640" cy="43164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3"/>
              <p:cNvSpPr/>
              <p:nvPr/>
            </p:nvSpPr>
            <p:spPr>
              <a:xfrm>
                <a:off x="689400" y="37821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32"/>
            <p:cNvGrpSpPr/>
            <p:nvPr/>
          </p:nvGrpSpPr>
          <p:grpSpPr>
            <a:xfrm>
              <a:off x="617400" y="1132560"/>
              <a:ext cx="2303640" cy="432000"/>
              <a:chOff x="617400" y="1132560"/>
              <a:chExt cx="2303640" cy="432000"/>
            </a:xfrm>
          </p:grpSpPr>
          <p:sp>
            <p:nvSpPr>
              <p:cNvPr id="136" name="AutoShape 3"/>
              <p:cNvSpPr/>
              <p:nvPr/>
            </p:nvSpPr>
            <p:spPr>
              <a:xfrm>
                <a:off x="617400" y="1132560"/>
                <a:ext cx="2303640" cy="432000"/>
              </a:xfrm>
              <a:prstGeom prst="rect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3"/>
              <p:cNvSpPr/>
              <p:nvPr/>
            </p:nvSpPr>
            <p:spPr>
              <a:xfrm>
                <a:off x="689040" y="11638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Rectangle 13"/>
          <p:cNvSpPr/>
          <p:nvPr/>
        </p:nvSpPr>
        <p:spPr>
          <a:xfrm>
            <a:off x="3911760" y="1104840"/>
            <a:ext cx="414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热的军营，铁血的忠诚。“我们是当代革命军人，核心价值观牢记心中，忠诚于党听指挥，热爱人民不忘本，报效国家尽职责，献身使命担重任，崇尚荣誉建功业，人民军队向前进！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TextBox 36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4"/>
          <p:cNvSpPr/>
          <p:nvPr/>
        </p:nvSpPr>
        <p:spPr>
          <a:xfrm>
            <a:off x="2987640" y="6237360"/>
            <a:ext cx="482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80"/>
          <p:cNvGrpSpPr/>
          <p:nvPr/>
        </p:nvGrpSpPr>
        <p:grpSpPr>
          <a:xfrm>
            <a:off x="988920" y="1243080"/>
            <a:ext cx="1150920" cy="1152360"/>
            <a:chOff x="988920" y="1243080"/>
            <a:chExt cx="1150920" cy="1152360"/>
          </a:xfrm>
        </p:grpSpPr>
        <p:sp>
          <p:nvSpPr>
            <p:cNvPr id="142" name="空心弧 28"/>
            <p:cNvSpPr/>
            <p:nvPr/>
          </p:nvSpPr>
          <p:spPr>
            <a:xfrm>
              <a:off x="988920" y="1243080"/>
              <a:ext cx="11509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1151999" y="576830"/>
                  </a:moveTo>
                  <a:cubicBezTo>
                    <a:pt x="1151541" y="894810"/>
                    <a:pt x="893498" y="1152266"/>
                    <a:pt x="575518" y="1152000"/>
                  </a:cubicBezTo>
                  <a:cubicBezTo>
                    <a:pt x="257538" y="1151734"/>
                    <a:pt x="-74" y="893847"/>
                    <a:pt x="0" y="575867"/>
                  </a:cubicBezTo>
                  <a:cubicBezTo>
                    <a:pt x="74" y="257887"/>
                    <a:pt x="257805" y="119"/>
                    <a:pt x="575785" y="0"/>
                  </a:cubicBezTo>
                  <a:lnTo>
                    <a:pt x="575893" y="290074"/>
                  </a:lnTo>
                  <a:cubicBezTo>
                    <a:pt x="418048" y="290133"/>
                    <a:pt x="290110" y="418089"/>
                    <a:pt x="290074" y="575934"/>
                  </a:cubicBezTo>
                  <a:cubicBezTo>
                    <a:pt x="290037" y="733779"/>
                    <a:pt x="417916" y="861794"/>
                    <a:pt x="575761" y="861926"/>
                  </a:cubicBezTo>
                  <a:cubicBezTo>
                    <a:pt x="733606" y="862058"/>
                    <a:pt x="861698" y="734257"/>
                    <a:pt x="861926" y="576412"/>
                  </a:cubicBezTo>
                  <a:lnTo>
                    <a:pt x="1151999" y="57683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空心弧 29"/>
            <p:cNvSpPr/>
            <p:nvPr/>
          </p:nvSpPr>
          <p:spPr>
            <a:xfrm>
              <a:off x="988920" y="1243080"/>
              <a:ext cx="11509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577374" y="2"/>
                  </a:moveTo>
                  <a:cubicBezTo>
                    <a:pt x="894953" y="759"/>
                    <a:pt x="1152000" y="258421"/>
                    <a:pt x="1152000" y="576000"/>
                  </a:cubicBezTo>
                  <a:lnTo>
                    <a:pt x="864000" y="576000"/>
                  </a:lnTo>
                  <a:cubicBezTo>
                    <a:pt x="864000" y="417210"/>
                    <a:pt x="735476" y="288379"/>
                    <a:pt x="576687" y="288001"/>
                  </a:cubicBezTo>
                  <a:lnTo>
                    <a:pt x="577374" y="2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3"/>
            <p:cNvSpPr/>
            <p:nvPr/>
          </p:nvSpPr>
          <p:spPr>
            <a:xfrm>
              <a:off x="1245960" y="16333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81"/>
          <p:cNvGrpSpPr/>
          <p:nvPr/>
        </p:nvGrpSpPr>
        <p:grpSpPr>
          <a:xfrm>
            <a:off x="2986200" y="1243080"/>
            <a:ext cx="1150920" cy="1152360"/>
            <a:chOff x="2986200" y="1243080"/>
            <a:chExt cx="1150920" cy="1152360"/>
          </a:xfrm>
        </p:grpSpPr>
        <p:sp>
          <p:nvSpPr>
            <p:cNvPr id="146" name="空心弧 31"/>
            <p:cNvSpPr/>
            <p:nvPr/>
          </p:nvSpPr>
          <p:spPr>
            <a:xfrm>
              <a:off x="2986200" y="1243080"/>
              <a:ext cx="11509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575451" y="1152000"/>
                  </a:moveTo>
                  <a:cubicBezTo>
                    <a:pt x="257484" y="1151697"/>
                    <a:pt x="-93" y="893800"/>
                    <a:pt x="0" y="575833"/>
                  </a:cubicBezTo>
                  <a:cubicBezTo>
                    <a:pt x="92" y="257866"/>
                    <a:pt x="257818" y="118"/>
                    <a:pt x="575785" y="0"/>
                  </a:cubicBezTo>
                  <a:lnTo>
                    <a:pt x="575893" y="290074"/>
                  </a:lnTo>
                  <a:cubicBezTo>
                    <a:pt x="418054" y="290133"/>
                    <a:pt x="290119" y="418079"/>
                    <a:pt x="290074" y="575917"/>
                  </a:cubicBezTo>
                  <a:cubicBezTo>
                    <a:pt x="290028" y="733756"/>
                    <a:pt x="417889" y="861775"/>
                    <a:pt x="575728" y="861926"/>
                  </a:cubicBezTo>
                  <a:cubicBezTo>
                    <a:pt x="575636" y="958617"/>
                    <a:pt x="575543" y="1055309"/>
                    <a:pt x="575451" y="1152000"/>
                  </a:cubicBez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空心弧 45"/>
            <p:cNvSpPr/>
            <p:nvPr/>
          </p:nvSpPr>
          <p:spPr>
            <a:xfrm>
              <a:off x="2986200" y="1243080"/>
              <a:ext cx="11509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577374" y="2"/>
                  </a:moveTo>
                  <a:cubicBezTo>
                    <a:pt x="894834" y="759"/>
                    <a:pt x="1151832" y="258234"/>
                    <a:pt x="1152000" y="575695"/>
                  </a:cubicBezTo>
                  <a:cubicBezTo>
                    <a:pt x="1152168" y="893155"/>
                    <a:pt x="895443" y="1150903"/>
                    <a:pt x="577985" y="1151997"/>
                  </a:cubicBezTo>
                  <a:lnTo>
                    <a:pt x="576980" y="860485"/>
                  </a:lnTo>
                  <a:cubicBezTo>
                    <a:pt x="733773" y="859945"/>
                    <a:pt x="860569" y="732643"/>
                    <a:pt x="860486" y="575850"/>
                  </a:cubicBezTo>
                  <a:cubicBezTo>
                    <a:pt x="860403" y="419057"/>
                    <a:pt x="733472" y="291890"/>
                    <a:pt x="576678" y="291516"/>
                  </a:cubicBezTo>
                  <a:lnTo>
                    <a:pt x="577374" y="2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3243240" y="16333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82"/>
          <p:cNvGrpSpPr/>
          <p:nvPr/>
        </p:nvGrpSpPr>
        <p:grpSpPr>
          <a:xfrm>
            <a:off x="4983120" y="1243080"/>
            <a:ext cx="1152720" cy="1152360"/>
            <a:chOff x="4983120" y="1243080"/>
            <a:chExt cx="1152720" cy="1152360"/>
          </a:xfrm>
        </p:grpSpPr>
        <p:sp>
          <p:nvSpPr>
            <p:cNvPr id="150" name="空心弧 46"/>
            <p:cNvSpPr/>
            <p:nvPr/>
          </p:nvSpPr>
          <p:spPr>
            <a:xfrm>
              <a:off x="4983120" y="1243080"/>
              <a:ext cx="11527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1" y="577221"/>
                  </a:moveTo>
                  <a:cubicBezTo>
                    <a:pt x="-323" y="424282"/>
                    <a:pt x="60189" y="277493"/>
                    <a:pt x="168199" y="169214"/>
                  </a:cubicBezTo>
                  <a:cubicBezTo>
                    <a:pt x="276208" y="60935"/>
                    <a:pt x="422846" y="57"/>
                    <a:pt x="575785" y="0"/>
                  </a:cubicBezTo>
                  <a:lnTo>
                    <a:pt x="575893" y="290074"/>
                  </a:lnTo>
                  <a:cubicBezTo>
                    <a:pt x="499974" y="290102"/>
                    <a:pt x="427183" y="320322"/>
                    <a:pt x="373568" y="374072"/>
                  </a:cubicBezTo>
                  <a:cubicBezTo>
                    <a:pt x="319952" y="427822"/>
                    <a:pt x="289914" y="500688"/>
                    <a:pt x="290075" y="576606"/>
                  </a:cubicBezTo>
                  <a:lnTo>
                    <a:pt x="1" y="577221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空心弧 47"/>
            <p:cNvSpPr/>
            <p:nvPr/>
          </p:nvSpPr>
          <p:spPr>
            <a:xfrm>
              <a:off x="4983120" y="1243080"/>
              <a:ext cx="11527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577374" y="2"/>
                  </a:moveTo>
                  <a:cubicBezTo>
                    <a:pt x="895310" y="760"/>
                    <a:pt x="1152505" y="258979"/>
                    <a:pt x="1152000" y="576916"/>
                  </a:cubicBezTo>
                  <a:cubicBezTo>
                    <a:pt x="1151495" y="894853"/>
                    <a:pt x="893480" y="1152253"/>
                    <a:pt x="575543" y="1152000"/>
                  </a:cubicBezTo>
                  <a:cubicBezTo>
                    <a:pt x="257606" y="1151747"/>
                    <a:pt x="1" y="893937"/>
                    <a:pt x="1" y="576000"/>
                  </a:cubicBezTo>
                  <a:lnTo>
                    <a:pt x="289958" y="576000"/>
                  </a:lnTo>
                  <a:cubicBezTo>
                    <a:pt x="289958" y="733888"/>
                    <a:pt x="417885" y="861916"/>
                    <a:pt x="575773" y="862042"/>
                  </a:cubicBezTo>
                  <a:cubicBezTo>
                    <a:pt x="733661" y="862168"/>
                    <a:pt x="861791" y="734343"/>
                    <a:pt x="862042" y="576455"/>
                  </a:cubicBezTo>
                  <a:cubicBezTo>
                    <a:pt x="862293" y="418567"/>
                    <a:pt x="734570" y="290336"/>
                    <a:pt x="576682" y="289959"/>
                  </a:cubicBezTo>
                  <a:cubicBezTo>
                    <a:pt x="576913" y="193307"/>
                    <a:pt x="577143" y="96654"/>
                    <a:pt x="577374" y="2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240160" y="163332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3"/>
          <p:cNvGrpSpPr/>
          <p:nvPr/>
        </p:nvGrpSpPr>
        <p:grpSpPr>
          <a:xfrm>
            <a:off x="6980400" y="1243080"/>
            <a:ext cx="1152360" cy="1152360"/>
            <a:chOff x="6980400" y="1243080"/>
            <a:chExt cx="1152360" cy="1152360"/>
          </a:xfrm>
        </p:grpSpPr>
        <p:sp>
          <p:nvSpPr>
            <p:cNvPr id="154" name="同心圆 48"/>
            <p:cNvSpPr/>
            <p:nvPr/>
          </p:nvSpPr>
          <p:spPr>
            <a:xfrm>
              <a:off x="6980400" y="1243080"/>
              <a:ext cx="115236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0" y="576000"/>
                  </a:moveTo>
                  <a:cubicBezTo>
                    <a:pt x="0" y="257884"/>
                    <a:pt x="257884" y="0"/>
                    <a:pt x="576000" y="0"/>
                  </a:cubicBezTo>
                  <a:cubicBezTo>
                    <a:pt x="894116" y="0"/>
                    <a:pt x="1152000" y="257884"/>
                    <a:pt x="1152000" y="576000"/>
                  </a:cubicBezTo>
                  <a:cubicBezTo>
                    <a:pt x="1152000" y="894116"/>
                    <a:pt x="894116" y="1152000"/>
                    <a:pt x="576000" y="1152000"/>
                  </a:cubicBezTo>
                  <a:cubicBezTo>
                    <a:pt x="257884" y="1152000"/>
                    <a:pt x="0" y="894116"/>
                    <a:pt x="0" y="576000"/>
                  </a:cubicBezTo>
                  <a:close/>
                  <a:moveTo>
                    <a:pt x="288000" y="576000"/>
                  </a:moveTo>
                  <a:cubicBezTo>
                    <a:pt x="288000" y="735058"/>
                    <a:pt x="416942" y="864000"/>
                    <a:pt x="576000" y="864000"/>
                  </a:cubicBezTo>
                  <a:cubicBezTo>
                    <a:pt x="735058" y="864000"/>
                    <a:pt x="864000" y="735058"/>
                    <a:pt x="864000" y="576000"/>
                  </a:cubicBezTo>
                  <a:cubicBezTo>
                    <a:pt x="864000" y="416942"/>
                    <a:pt x="735058" y="288000"/>
                    <a:pt x="576000" y="288000"/>
                  </a:cubicBezTo>
                  <a:cubicBezTo>
                    <a:pt x="416942" y="288000"/>
                    <a:pt x="288000" y="416942"/>
                    <a:pt x="288000" y="576000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7237440" y="163404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53"/>
          <p:cNvGrpSpPr/>
          <p:nvPr/>
        </p:nvGrpSpPr>
        <p:grpSpPr>
          <a:xfrm>
            <a:off x="1275840" y="2446200"/>
            <a:ext cx="576360" cy="385920"/>
            <a:chOff x="1275840" y="2446200"/>
            <a:chExt cx="576360" cy="385920"/>
          </a:xfrm>
        </p:grpSpPr>
        <p:sp>
          <p:nvSpPr>
            <p:cNvPr id="157" name="燕尾形 54"/>
            <p:cNvSpPr/>
            <p:nvPr/>
          </p:nvSpPr>
          <p:spPr>
            <a:xfrm rot="5400000">
              <a:off x="1455840" y="226584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燕尾形 55"/>
            <p:cNvSpPr/>
            <p:nvPr/>
          </p:nvSpPr>
          <p:spPr>
            <a:xfrm rot="5400000">
              <a:off x="1455840" y="243576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7"/>
          <p:cNvGrpSpPr/>
          <p:nvPr/>
        </p:nvGrpSpPr>
        <p:grpSpPr>
          <a:xfrm>
            <a:off x="3273120" y="2446200"/>
            <a:ext cx="576360" cy="385920"/>
            <a:chOff x="3273120" y="2446200"/>
            <a:chExt cx="576360" cy="385920"/>
          </a:xfrm>
        </p:grpSpPr>
        <p:sp>
          <p:nvSpPr>
            <p:cNvPr id="160" name="燕尾形 58"/>
            <p:cNvSpPr/>
            <p:nvPr/>
          </p:nvSpPr>
          <p:spPr>
            <a:xfrm rot="5400000">
              <a:off x="3453120" y="226584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燕尾形 59"/>
            <p:cNvSpPr/>
            <p:nvPr/>
          </p:nvSpPr>
          <p:spPr>
            <a:xfrm rot="5400000">
              <a:off x="3453120" y="243576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61"/>
          <p:cNvGrpSpPr/>
          <p:nvPr/>
        </p:nvGrpSpPr>
        <p:grpSpPr>
          <a:xfrm>
            <a:off x="5270040" y="2446200"/>
            <a:ext cx="576360" cy="385920"/>
            <a:chOff x="5270040" y="2446200"/>
            <a:chExt cx="576360" cy="385920"/>
          </a:xfrm>
        </p:grpSpPr>
        <p:sp>
          <p:nvSpPr>
            <p:cNvPr id="163" name="燕尾形 62"/>
            <p:cNvSpPr/>
            <p:nvPr/>
          </p:nvSpPr>
          <p:spPr>
            <a:xfrm rot="5400000">
              <a:off x="5450040" y="226584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燕尾形 63"/>
            <p:cNvSpPr/>
            <p:nvPr/>
          </p:nvSpPr>
          <p:spPr>
            <a:xfrm rot="5400000">
              <a:off x="5450040" y="243576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65"/>
          <p:cNvGrpSpPr/>
          <p:nvPr/>
        </p:nvGrpSpPr>
        <p:grpSpPr>
          <a:xfrm>
            <a:off x="7267680" y="2446200"/>
            <a:ext cx="576000" cy="385920"/>
            <a:chOff x="7267680" y="2446200"/>
            <a:chExt cx="576000" cy="385920"/>
          </a:xfrm>
        </p:grpSpPr>
        <p:sp>
          <p:nvSpPr>
            <p:cNvPr id="166" name="燕尾形 66"/>
            <p:cNvSpPr/>
            <p:nvPr/>
          </p:nvSpPr>
          <p:spPr>
            <a:xfrm rot="5400000">
              <a:off x="7447680" y="2266200"/>
              <a:ext cx="216000" cy="576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燕尾形 67"/>
            <p:cNvSpPr/>
            <p:nvPr/>
          </p:nvSpPr>
          <p:spPr>
            <a:xfrm rot="5400000">
              <a:off x="7447680" y="2436120"/>
              <a:ext cx="216000" cy="576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27"/>
          <p:cNvSpPr/>
          <p:nvPr/>
        </p:nvSpPr>
        <p:spPr>
          <a:xfrm>
            <a:off x="628560" y="2935440"/>
            <a:ext cx="1871640" cy="2700360"/>
          </a:xfrm>
          <a:prstGeom prst="rect">
            <a:avLst/>
          </a:prstGeom>
          <a:solidFill>
            <a:srgbClr val="a6a6a6">
              <a:alpha val="20000"/>
            </a:srgbClr>
          </a:solidFill>
          <a:ln w="12600">
            <a:solidFill>
              <a:srgbClr val="7f7f7f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6"/>
          <p:cNvSpPr/>
          <p:nvPr/>
        </p:nvSpPr>
        <p:spPr>
          <a:xfrm>
            <a:off x="654120" y="367344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72"/>
          <p:cNvSpPr/>
          <p:nvPr/>
        </p:nvSpPr>
        <p:spPr>
          <a:xfrm>
            <a:off x="700200" y="3530520"/>
            <a:ext cx="17287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6"/>
          <p:cNvSpPr/>
          <p:nvPr/>
        </p:nvSpPr>
        <p:spPr>
          <a:xfrm>
            <a:off x="663480" y="30765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6"/>
          <p:cNvSpPr/>
          <p:nvPr/>
        </p:nvSpPr>
        <p:spPr>
          <a:xfrm>
            <a:off x="2625840" y="2935440"/>
            <a:ext cx="1871640" cy="2700360"/>
          </a:xfrm>
          <a:prstGeom prst="rect">
            <a:avLst/>
          </a:prstGeom>
          <a:solidFill>
            <a:srgbClr val="a6a6a6">
              <a:alpha val="20000"/>
            </a:srgbClr>
          </a:solidFill>
          <a:ln w="12600">
            <a:solidFill>
              <a:srgbClr val="7f7f7f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6"/>
          <p:cNvSpPr/>
          <p:nvPr/>
        </p:nvSpPr>
        <p:spPr>
          <a:xfrm>
            <a:off x="2651040" y="367344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74"/>
          <p:cNvSpPr/>
          <p:nvPr/>
        </p:nvSpPr>
        <p:spPr>
          <a:xfrm>
            <a:off x="2697120" y="3530520"/>
            <a:ext cx="17287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46"/>
          <p:cNvSpPr/>
          <p:nvPr/>
        </p:nvSpPr>
        <p:spPr>
          <a:xfrm>
            <a:off x="2662200" y="30765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0"/>
          <p:cNvSpPr/>
          <p:nvPr/>
        </p:nvSpPr>
        <p:spPr>
          <a:xfrm>
            <a:off x="4622760" y="2935440"/>
            <a:ext cx="1871640" cy="2700360"/>
          </a:xfrm>
          <a:prstGeom prst="rect">
            <a:avLst/>
          </a:prstGeom>
          <a:solidFill>
            <a:srgbClr val="a6a6a6">
              <a:alpha val="20000"/>
            </a:srgbClr>
          </a:solidFill>
          <a:ln w="12600">
            <a:solidFill>
              <a:srgbClr val="7f7f7f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6"/>
          <p:cNvSpPr/>
          <p:nvPr/>
        </p:nvSpPr>
        <p:spPr>
          <a:xfrm>
            <a:off x="4648320" y="367344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76"/>
          <p:cNvSpPr/>
          <p:nvPr/>
        </p:nvSpPr>
        <p:spPr>
          <a:xfrm>
            <a:off x="4694400" y="3530520"/>
            <a:ext cx="17287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46"/>
          <p:cNvSpPr/>
          <p:nvPr/>
        </p:nvSpPr>
        <p:spPr>
          <a:xfrm>
            <a:off x="4659480" y="30765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4"/>
          <p:cNvSpPr/>
          <p:nvPr/>
        </p:nvSpPr>
        <p:spPr>
          <a:xfrm>
            <a:off x="6620040" y="2935440"/>
            <a:ext cx="1871640" cy="2700360"/>
          </a:xfrm>
          <a:prstGeom prst="rect">
            <a:avLst/>
          </a:prstGeom>
          <a:solidFill>
            <a:srgbClr val="a6a6a6">
              <a:alpha val="20000"/>
            </a:srgbClr>
          </a:solidFill>
          <a:ln w="12600">
            <a:solidFill>
              <a:srgbClr val="7f7f7f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46"/>
          <p:cNvSpPr/>
          <p:nvPr/>
        </p:nvSpPr>
        <p:spPr>
          <a:xfrm>
            <a:off x="6645240" y="367344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78"/>
          <p:cNvSpPr/>
          <p:nvPr/>
        </p:nvSpPr>
        <p:spPr>
          <a:xfrm>
            <a:off x="6692760" y="3530520"/>
            <a:ext cx="172728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46"/>
          <p:cNvSpPr/>
          <p:nvPr/>
        </p:nvSpPr>
        <p:spPr>
          <a:xfrm>
            <a:off x="6656400" y="30765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TextBox 89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4"/>
          <p:cNvGrpSpPr/>
          <p:nvPr/>
        </p:nvGrpSpPr>
        <p:grpSpPr>
          <a:xfrm>
            <a:off x="4021200" y="1704960"/>
            <a:ext cx="4284720" cy="1800360"/>
            <a:chOff x="4021200" y="1704960"/>
            <a:chExt cx="4284720" cy="1800360"/>
          </a:xfrm>
        </p:grpSpPr>
        <p:sp>
          <p:nvSpPr>
            <p:cNvPr id="186" name="矩形 10"/>
            <p:cNvSpPr/>
            <p:nvPr/>
          </p:nvSpPr>
          <p:spPr>
            <a:xfrm>
              <a:off x="4021200" y="1704960"/>
              <a:ext cx="4284720" cy="1800360"/>
            </a:xfrm>
            <a:prstGeom prst="rect">
              <a:avLst/>
            </a:prstGeom>
            <a:solidFill>
              <a:srgbClr val="ffffff">
                <a:alpha val="64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3"/>
            <p:cNvSpPr/>
            <p:nvPr/>
          </p:nvSpPr>
          <p:spPr>
            <a:xfrm>
              <a:off x="4344840" y="1938240"/>
              <a:ext cx="3465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火热的军营，铁血的忠诚。“我们是当代革命军人，核心价值观牢记心中，忠诚于党听指挥，热爱人民不忘本，报效国家尽职责，献身使命担重任，崇尚荣誉建功业，人民军队向前进！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TextBox 146" descr=""/>
          <p:cNvPicPr/>
          <p:nvPr/>
        </p:nvPicPr>
        <p:blipFill>
          <a:blip r:embed="rId1"/>
          <a:stretch/>
        </p:blipFill>
        <p:spPr>
          <a:xfrm>
            <a:off x="3876840" y="1182600"/>
            <a:ext cx="3395520" cy="743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Administrator\My Documents\My Pictures\2007115223212381_2.jpg"/>
          <p:cNvPicPr/>
          <p:nvPr/>
        </p:nvPicPr>
        <p:blipFill>
          <a:blip r:embed="rId2"/>
          <a:stretch/>
        </p:blipFill>
        <p:spPr>
          <a:xfrm>
            <a:off x="708120" y="1219320"/>
            <a:ext cx="2911320" cy="4457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90" name="TextBox 15" descr=""/>
          <p:cNvPicPr/>
          <p:nvPr/>
        </p:nvPicPr>
        <p:blipFill>
          <a:blip r:embed="rId3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6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 25" descr=""/>
          <p:cNvPicPr/>
          <p:nvPr/>
        </p:nvPicPr>
        <p:blipFill>
          <a:blip r:embed="rId2"/>
          <a:stretch/>
        </p:blipFill>
        <p:spPr>
          <a:xfrm>
            <a:off x="2687760" y="4327560"/>
            <a:ext cx="3749400" cy="201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6:47:02Z</dcterms:created>
  <dc:creator>番茄花园</dc:creator>
  <dc:description/>
  <cp:keywords/>
  <dc:language>en-US</dc:language>
  <cp:lastModifiedBy>a</cp:lastModifiedBy>
  <dcterms:modified xsi:type="dcterms:W3CDTF">2015-07-21T01:26:31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