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7E7-6FDD-409C-829B-B9433B7A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458-9565-44E7-AD9A-03DB29F9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B38-4374-4118-91D0-C45FEA30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3FD-85C9-4CD4-A6E5-7F2D2C69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F94C-E55A-4246-9B53-37F79029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A4A6-F6FE-4A36-8B94-AA4FE8A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757C-F839-4854-82A8-CE95C6A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4EB8-2337-4E3A-8812-F0D225A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6C9E-C3E7-42A2-A6E6-C77F2E50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150E-986E-49EF-B408-2464BA0D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D3C3-20B5-459E-8A03-176923C9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833-30E6-4A28-AF60-9FC94E94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50F2-BEC0-4307-8871-09BE2FF8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BF5A-CBE3-4FF2-A133-521631F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F7D9-AD1F-4FC6-8169-B5378125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EC3B-F03C-4A63-B368-E05F0621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11FE-40DF-4C1F-AAD5-3ECAE985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93C10-51F6-4F5C-BADA-A2CCE411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D6E0-AA8C-4661-BA54-F364C979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DAAE-6B5C-4D03-A8A1-AAC36625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3C82-1F98-4AB6-87EA-8EBD0017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1767-64D9-4EA3-B51C-219874B8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6C5-8F03-4EDC-AF82-92849453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9242-72D0-4BC2-BD69-2A37B300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681B-805A-4A84-8BFC-00377A95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D98B0-9BED-4727-9AB6-0FE1F3D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4ED1-8169-40AD-BA87-E99A7C65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94E5-9E0B-4C29-8D14-A8B80812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09CE-97D9-45D0-8429-B33E1477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6F52-2E0A-4961-8959-1B67EDAE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46C25-3E1A-4E54-BEB6-E32E237C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848E7-A058-4849-800D-56AEAFE8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6845D-19AF-4B30-A850-9D5F88D8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567-4DBF-4160-8328-46F54916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07C2A-DEC3-4CC9-B7C2-1BDF338C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5D073-D515-47D7-835C-3631D41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428D-2638-466F-B831-676D6284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3858-6C60-4DAF-B3F4-3D5EB35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6B89-12E4-4345-B7A5-8852D27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975E-8572-4078-A46F-9E48CB0C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D9AC-8F55-4EF9-B591-45FD61C9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D6B8A-4B56-428E-9665-F7068183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C0195-ACF1-47EB-A4BC-64DD9D48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65083-DD21-4244-85C7-D22A7CFB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6DB-B448-4F3B-89E1-76944A20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0094-5823-4E1A-9190-1989F52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AC59-68E0-440B-8EE7-E36435A9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FACD0-B6AA-4E9F-A83F-67A3860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5E31-344D-4C5C-985C-B44DB9CB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5E7DF-74C1-4CBC-A28B-3100055A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FF0F-1DAD-44B5-B762-5D295F5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A6105-C350-4BE1-BED2-3E905318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39197-05B7-4C37-96F2-176F905A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DFEAB-9B90-4F3E-A99E-A43BBE45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78AA0-244F-4C22-94A3-AA1C9EFF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2A3-6A10-45DB-A7B1-653CCC92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84942-A994-42ED-A24F-9CC733FD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955-AE0F-4D32-896E-8F25C5DD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846-0436-4A92-BD77-F49ECE1E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77A-A777-40E2-8B86-4147D00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50F1-E6DF-4718-9F05-5D25DDAF94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9395-93F6-47F4-99E3-492841094A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828720"/>
          </a:xfrm>
          <a:prstGeom prst="rect">
            <a:avLst/>
          </a:prstGeom>
          <a:solidFill>
            <a:srgbClr val="365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D4F2-5A65-46CD-AFE1-71205EB20E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9B74-66D2-46D9-8042-0A41A9DB78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4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B00-24C7-4D0D-945B-110FDDF58054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8F5D-09C9-4205-9928-11C872C1CE2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4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05FA-C0E9-4CDD-8F33-3EBE1777C283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211A-4D6E-47D9-B7DA-5443D47A8C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2656-A6A7-4D49-A3D3-D03244E781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FB6E-8F6E-4E77-A87E-F9E2A810E7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9372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康俪金黑W8"/>
              </a:rPr>
              <a:t>看不见的公务员福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06540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9ccbb"/>
                </a:solidFill>
                <a:latin typeface="方正细倩简体"/>
                <a:ea typeface="方正细倩简体"/>
              </a:rPr>
              <a:t>       </a:t>
            </a:r>
            <a:r>
              <a:rPr b="1" lang="zh-CN" sz="1800" spc="-1" strike="noStrike">
                <a:solidFill>
                  <a:srgbClr val="c9ccbb"/>
                </a:solidFill>
                <a:latin typeface="方正细倩简体"/>
                <a:ea typeface="方正细倩简体"/>
              </a:rPr>
              <a:t>据统计，</a:t>
            </a:r>
            <a:r>
              <a:rPr b="1" lang="zh-CN" sz="1800" spc="-1" strike="noStrike">
                <a:solidFill>
                  <a:srgbClr val="c9ccbb"/>
                </a:solidFill>
                <a:latin typeface="方正细倩简体"/>
                <a:ea typeface="方正细倩简体"/>
              </a:rPr>
              <a:t>2013</a:t>
            </a:r>
            <a:r>
              <a:rPr b="1" lang="zh-CN" sz="1800" spc="-1" strike="noStrike">
                <a:solidFill>
                  <a:srgbClr val="c9ccbb"/>
                </a:solidFill>
                <a:latin typeface="方正细倩简体"/>
                <a:ea typeface="方正细倩简体"/>
              </a:rPr>
              <a:t>年度国考最终报名人数预计超过</a:t>
            </a:r>
            <a:r>
              <a:rPr b="1" lang="zh-CN" sz="1800" spc="-1" strike="noStrike">
                <a:solidFill>
                  <a:srgbClr val="c9ccbb"/>
                </a:solidFill>
                <a:latin typeface="方正细倩简体"/>
                <a:ea typeface="方正细倩简体"/>
              </a:rPr>
              <a:t>150</a:t>
            </a:r>
            <a:r>
              <a:rPr b="1" lang="zh-CN" sz="1800" spc="-1" strike="noStrike">
                <a:solidFill>
                  <a:srgbClr val="c9ccbb"/>
                </a:solidFill>
                <a:latin typeface="方正细倩简体"/>
                <a:ea typeface="方正细倩简体"/>
              </a:rPr>
              <a:t>万，而最火职位竞争激烈程度已近“万里挑一”。是什么让公务员成为一个趋之若鹜的职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490680" y="779400"/>
            <a:ext cx="345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 rot="18900000">
            <a:off x="3781080" y="-749160"/>
            <a:ext cx="1508040" cy="150948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5076720" y="779400"/>
            <a:ext cx="34560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990960" y="17784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新闻百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998880" y="169920"/>
            <a:ext cx="11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5b4a"/>
                </a:solidFill>
                <a:latin typeface="Arial"/>
                <a:ea typeface="张海山锐线体2.0"/>
              </a:rPr>
              <a:t>新闻百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480" y="5003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6"/>
          <p:cNvPicPr/>
          <p:nvPr/>
        </p:nvPicPr>
        <p:blipFill>
          <a:blip r:embed="rId2"/>
          <a:stretch/>
        </p:blipFill>
        <p:spPr>
          <a:xfrm>
            <a:off x="611280" y="565200"/>
            <a:ext cx="1476360" cy="18781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3"/>
          <p:cNvSpPr/>
          <p:nvPr/>
        </p:nvSpPr>
        <p:spPr>
          <a:xfrm>
            <a:off x="1903320" y="119160"/>
            <a:ext cx="966960" cy="664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1d3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9ccbb"/>
                </a:solidFill>
                <a:latin typeface="微软雅黑"/>
                <a:ea typeface="微软雅黑"/>
              </a:rPr>
              <a:t>我的养老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6012000" y="792000"/>
            <a:ext cx="2089080" cy="50508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4538"/>
                </a:solidFill>
                <a:latin typeface="Arial"/>
                <a:ea typeface="微软雅黑"/>
              </a:rPr>
              <a:t>老有所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AutoShape 5"/>
          <p:cNvCxnSpPr/>
          <p:nvPr/>
        </p:nvCxnSpPr>
        <p:spPr>
          <a:xfrm flipH="1">
            <a:off x="3060360" y="1297080"/>
            <a:ext cx="2952000" cy="1350000"/>
          </a:xfrm>
          <a:prstGeom prst="straightConnector1">
            <a:avLst/>
          </a:prstGeom>
          <a:ln w="25560">
            <a:solidFill>
              <a:srgbClr val="ff6600"/>
            </a:solidFill>
            <a:prstDash val="sysDot"/>
            <a:miter/>
            <a:tailEnd len="lg" type="triangle" w="lg"/>
          </a:ln>
        </p:spPr>
      </p:cxnSp>
      <p:sp>
        <p:nvSpPr>
          <p:cNvPr id="362" name="Text Box 6"/>
          <p:cNvSpPr/>
          <p:nvPr/>
        </p:nvSpPr>
        <p:spPr>
          <a:xfrm rot="20100000">
            <a:off x="3492720" y="1696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Arial"/>
                <a:ea typeface="微软雅黑"/>
              </a:rPr>
              <a:t>公务员养老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684360" y="2646360"/>
            <a:ext cx="2808000" cy="1368360"/>
          </a:xfrm>
          <a:prstGeom prst="roundRect">
            <a:avLst>
              <a:gd name="adj" fmla="val 16667"/>
            </a:avLst>
          </a:prstGeom>
          <a:solidFill>
            <a:srgbClr val="1d3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28720" y="2860560"/>
            <a:ext cx="2131920" cy="793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9" descr="1 (1)"/>
          <p:cNvPicPr/>
          <p:nvPr/>
        </p:nvPicPr>
        <p:blipFill>
          <a:blip r:embed="rId3"/>
          <a:stretch/>
        </p:blipFill>
        <p:spPr>
          <a:xfrm>
            <a:off x="855720" y="300528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1 (1)"/>
          <p:cNvPicPr/>
          <p:nvPr/>
        </p:nvPicPr>
        <p:blipFill>
          <a:blip r:embed="rId4"/>
          <a:stretch/>
        </p:blipFill>
        <p:spPr>
          <a:xfrm>
            <a:off x="1371600" y="300528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1 (1)"/>
          <p:cNvPicPr/>
          <p:nvPr/>
        </p:nvPicPr>
        <p:blipFill>
          <a:blip r:embed="rId5"/>
          <a:stretch/>
        </p:blipFill>
        <p:spPr>
          <a:xfrm>
            <a:off x="1887480" y="3005280"/>
            <a:ext cx="515880" cy="5158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2" descr="1 (1)"/>
          <p:cNvPicPr/>
          <p:nvPr/>
        </p:nvPicPr>
        <p:blipFill>
          <a:blip r:embed="rId6"/>
          <a:stretch/>
        </p:blipFill>
        <p:spPr>
          <a:xfrm>
            <a:off x="2444760" y="3005280"/>
            <a:ext cx="514440" cy="5158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1 (1)"/>
          <p:cNvPicPr/>
          <p:nvPr/>
        </p:nvPicPr>
        <p:blipFill>
          <a:blip r:embed="rId7"/>
          <a:stretch/>
        </p:blipFill>
        <p:spPr>
          <a:xfrm>
            <a:off x="2976480" y="3005280"/>
            <a:ext cx="515880" cy="5158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4"/>
          <p:cNvSpPr/>
          <p:nvPr/>
        </p:nvSpPr>
        <p:spPr>
          <a:xfrm>
            <a:off x="552600" y="3691080"/>
            <a:ext cx="229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6600"/>
                </a:solidFill>
                <a:latin typeface="微软雅黑"/>
                <a:ea typeface="微软雅黑"/>
              </a:rPr>
              <a:t>退休前工资</a:t>
            </a:r>
            <a:r>
              <a:rPr b="1" lang="zh-CN" sz="1500" spc="-1" strike="noStrike">
                <a:solidFill>
                  <a:srgbClr val="ff6600"/>
                </a:solidFill>
                <a:latin typeface="微软雅黑"/>
                <a:ea typeface="微软雅黑"/>
              </a:rPr>
              <a:t>80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15"/>
          <p:cNvCxnSpPr/>
          <p:nvPr/>
        </p:nvCxnSpPr>
        <p:spPr>
          <a:xfrm>
            <a:off x="1186920" y="4009680"/>
            <a:ext cx="1080" cy="640440"/>
          </a:xfrm>
          <a:prstGeom prst="straightConnector1">
            <a:avLst/>
          </a:prstGeom>
          <a:ln w="63360">
            <a:solidFill>
              <a:srgbClr val="1d3d32"/>
            </a:solidFill>
            <a:miter/>
            <a:tailEnd len="med" type="triangle" w="med"/>
          </a:ln>
        </p:spPr>
      </p:cxnSp>
      <p:sp>
        <p:nvSpPr>
          <p:cNvPr id="372" name="Oval 16"/>
          <p:cNvSpPr/>
          <p:nvPr/>
        </p:nvSpPr>
        <p:spPr>
          <a:xfrm>
            <a:off x="839880" y="4665600"/>
            <a:ext cx="696960" cy="696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986400" y="4753080"/>
            <a:ext cx="3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3d32"/>
                </a:solidFill>
                <a:latin typeface="Arial"/>
                <a:ea typeface="微软雅黑"/>
              </a:rPr>
              <a:t>养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3d32"/>
                </a:solidFill>
                <a:latin typeface="Arial"/>
                <a:ea typeface="微软雅黑"/>
              </a:rPr>
              <a:t>保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5353200" y="3924360"/>
            <a:ext cx="2808000" cy="1368360"/>
          </a:xfrm>
          <a:prstGeom prst="roundRect">
            <a:avLst>
              <a:gd name="adj" fmla="val 16667"/>
            </a:avLst>
          </a:prstGeom>
          <a:solidFill>
            <a:srgbClr val="1d3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7054920" y="4138560"/>
            <a:ext cx="1030320" cy="792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0" descr="1 (1)"/>
          <p:cNvPicPr/>
          <p:nvPr/>
        </p:nvPicPr>
        <p:blipFill>
          <a:blip r:embed="rId8"/>
          <a:stretch/>
        </p:blipFill>
        <p:spPr>
          <a:xfrm>
            <a:off x="5524560" y="4282920"/>
            <a:ext cx="515880" cy="514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1" descr="1 (1)"/>
          <p:cNvPicPr/>
          <p:nvPr/>
        </p:nvPicPr>
        <p:blipFill>
          <a:blip r:embed="rId9"/>
          <a:stretch/>
        </p:blipFill>
        <p:spPr>
          <a:xfrm>
            <a:off x="6040440" y="4282920"/>
            <a:ext cx="515880" cy="514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2" descr="1 (1)"/>
          <p:cNvPicPr/>
          <p:nvPr/>
        </p:nvPicPr>
        <p:blipFill>
          <a:blip r:embed="rId10"/>
          <a:stretch/>
        </p:blipFill>
        <p:spPr>
          <a:xfrm>
            <a:off x="6556320" y="428292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3" descr="1 (1)"/>
          <p:cNvPicPr/>
          <p:nvPr/>
        </p:nvPicPr>
        <p:blipFill>
          <a:blip r:embed="rId11"/>
          <a:stretch/>
        </p:blipFill>
        <p:spPr>
          <a:xfrm>
            <a:off x="7112160" y="4282920"/>
            <a:ext cx="515880" cy="514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4" descr="1 (1)"/>
          <p:cNvPicPr/>
          <p:nvPr/>
        </p:nvPicPr>
        <p:blipFill>
          <a:blip r:embed="rId12"/>
          <a:stretch/>
        </p:blipFill>
        <p:spPr>
          <a:xfrm>
            <a:off x="7578720" y="4282920"/>
            <a:ext cx="515880" cy="5144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5791320" y="4968720"/>
            <a:ext cx="229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99cc00"/>
                </a:solidFill>
                <a:latin typeface="微软雅黑"/>
                <a:ea typeface="微软雅黑"/>
              </a:rPr>
              <a:t>仅退休前工资</a:t>
            </a:r>
            <a:r>
              <a:rPr b="1" lang="zh-CN" sz="1500" spc="-1" strike="noStrike">
                <a:solidFill>
                  <a:srgbClr val="99cc00"/>
                </a:solidFill>
                <a:latin typeface="微软雅黑"/>
                <a:ea typeface="微软雅黑"/>
              </a:rPr>
              <a:t>4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AutoShape 26"/>
          <p:cNvCxnSpPr/>
          <p:nvPr/>
        </p:nvCxnSpPr>
        <p:spPr>
          <a:xfrm>
            <a:off x="7451280" y="1329840"/>
            <a:ext cx="1080" cy="2483640"/>
          </a:xfrm>
          <a:prstGeom prst="straightConnector1">
            <a:avLst/>
          </a:prstGeom>
          <a:ln w="25560">
            <a:solidFill>
              <a:srgbClr val="99cc00"/>
            </a:solidFill>
            <a:prstDash val="sysDot"/>
            <a:miter/>
            <a:tailEnd len="lg" type="triangle" w="lg"/>
          </a:ln>
        </p:spPr>
      </p:cxnSp>
      <p:sp>
        <p:nvSpPr>
          <p:cNvPr id="383" name="Text Box 27"/>
          <p:cNvSpPr/>
          <p:nvPr/>
        </p:nvSpPr>
        <p:spPr>
          <a:xfrm>
            <a:off x="6272280" y="2070000"/>
            <a:ext cx="1163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cc00"/>
                </a:solidFill>
                <a:latin typeface="Arial"/>
                <a:ea typeface="微软雅黑"/>
              </a:rPr>
              <a:t>普通职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cc00"/>
                </a:solidFill>
                <a:latin typeface="Arial"/>
                <a:ea typeface="微软雅黑"/>
              </a:rPr>
              <a:t>养老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AutoShape 28"/>
          <p:cNvCxnSpPr/>
          <p:nvPr/>
        </p:nvCxnSpPr>
        <p:spPr>
          <a:xfrm flipH="1">
            <a:off x="1637640" y="4917960"/>
            <a:ext cx="3726360" cy="45360"/>
          </a:xfrm>
          <a:prstGeom prst="straightConnector1">
            <a:avLst/>
          </a:prstGeom>
          <a:ln w="63360">
            <a:solidFill>
              <a:srgbClr val="1d3d32"/>
            </a:solidFill>
            <a:miter/>
            <a:tailEnd len="med" type="triangle" w="med"/>
          </a:ln>
        </p:spPr>
      </p:cxnSp>
      <p:sp>
        <p:nvSpPr>
          <p:cNvPr id="385" name="Text Box 29"/>
          <p:cNvSpPr/>
          <p:nvPr/>
        </p:nvSpPr>
        <p:spPr>
          <a:xfrm>
            <a:off x="4268880" y="4562640"/>
            <a:ext cx="89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需缴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3381480" y="2641680"/>
            <a:ext cx="1620720" cy="2766960"/>
            <a:chOff x="3381480" y="2641680"/>
            <a:chExt cx="1620720" cy="2766960"/>
          </a:xfrm>
        </p:grpSpPr>
        <p:sp>
          <p:nvSpPr>
            <p:cNvPr id="387" name="Rectangle 3"/>
            <p:cNvSpPr/>
            <p:nvPr/>
          </p:nvSpPr>
          <p:spPr>
            <a:xfrm>
              <a:off x="3381480" y="3405240"/>
              <a:ext cx="1620720" cy="2003400"/>
            </a:xfrm>
            <a:prstGeom prst="rect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 flipV="1" rot="16200000">
              <a:off x="3582720" y="2440440"/>
              <a:ext cx="1217520" cy="1620000"/>
            </a:xfrm>
            <a:prstGeom prst="flowChartDelay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Oval 5"/>
          <p:cNvSpPr/>
          <p:nvPr/>
        </p:nvSpPr>
        <p:spPr>
          <a:xfrm>
            <a:off x="3456000" y="2724120"/>
            <a:ext cx="1476360" cy="1476360"/>
          </a:xfrm>
          <a:prstGeom prst="ellipse">
            <a:avLst/>
          </a:prstGeom>
          <a:solidFill>
            <a:srgbClr val="1d3d32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"/>
          <p:cNvSpPr/>
          <p:nvPr/>
        </p:nvSpPr>
        <p:spPr>
          <a:xfrm>
            <a:off x="0" y="484200"/>
            <a:ext cx="9180360" cy="0"/>
          </a:xfrm>
          <a:prstGeom prst="line">
            <a:avLst/>
          </a:prstGeom>
          <a:ln w="63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321000" y="198360"/>
            <a:ext cx="2087640" cy="50508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4538"/>
                </a:solidFill>
                <a:latin typeface="Arial"/>
                <a:ea typeface="微软雅黑"/>
              </a:rPr>
              <a:t>幼有所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 flipH="1">
            <a:off x="1475640" y="1547640"/>
            <a:ext cx="1366920" cy="9352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5651640" y="1547640"/>
            <a:ext cx="1368360" cy="9352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814400" y="1835280"/>
            <a:ext cx="10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师资优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5959440" y="1835280"/>
            <a:ext cx="10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财政拨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2" descr="1 (1)"/>
          <p:cNvPicPr/>
          <p:nvPr/>
        </p:nvPicPr>
        <p:blipFill>
          <a:blip r:embed="rId2"/>
          <a:stretch/>
        </p:blipFill>
        <p:spPr>
          <a:xfrm>
            <a:off x="5568840" y="1720800"/>
            <a:ext cx="601920" cy="601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3" descr="teacher"/>
          <p:cNvPicPr/>
          <p:nvPr/>
        </p:nvPicPr>
        <p:blipFill>
          <a:blip r:embed="rId3"/>
          <a:stretch/>
        </p:blipFill>
        <p:spPr>
          <a:xfrm>
            <a:off x="1469880" y="1762200"/>
            <a:ext cx="492120" cy="4921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4"/>
          <p:cNvSpPr/>
          <p:nvPr/>
        </p:nvSpPr>
        <p:spPr>
          <a:xfrm>
            <a:off x="1677960" y="279576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  <a:ea typeface="微软雅黑"/>
              </a:rPr>
              <a:t>示范园或一级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5568840" y="2795760"/>
            <a:ext cx="152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Arial"/>
                <a:ea typeface="微软雅黑"/>
              </a:rPr>
              <a:t>2012</a:t>
            </a:r>
            <a:r>
              <a:rPr b="1" lang="zh-CN" sz="1200" spc="-1" strike="noStrike">
                <a:solidFill>
                  <a:srgbClr val="99cc00"/>
                </a:solidFill>
                <a:latin typeface="Arial"/>
                <a:ea typeface="微软雅黑"/>
              </a:rPr>
              <a:t>年广州</a:t>
            </a:r>
            <a:r>
              <a:rPr b="1" lang="zh-CN" sz="1200" spc="-1" strike="noStrike">
                <a:solidFill>
                  <a:srgbClr val="99cc00"/>
                </a:solidFill>
                <a:latin typeface="Arial"/>
                <a:ea typeface="微软雅黑"/>
              </a:rPr>
              <a:t>10</a:t>
            </a:r>
            <a:r>
              <a:rPr b="1" lang="zh-CN" sz="1200" spc="-1" strike="noStrike">
                <a:solidFill>
                  <a:srgbClr val="99cc00"/>
                </a:solidFill>
                <a:latin typeface="Arial"/>
                <a:ea typeface="微软雅黑"/>
              </a:rPr>
              <a:t>所幼儿园支出</a:t>
            </a:r>
            <a:r>
              <a:rPr b="1" lang="zh-CN" sz="1200" spc="-1" strike="noStrike">
                <a:solidFill>
                  <a:srgbClr val="99cc00"/>
                </a:solidFill>
                <a:latin typeface="Arial"/>
                <a:ea typeface="微软雅黑"/>
              </a:rPr>
              <a:t>1.05</a:t>
            </a:r>
            <a:r>
              <a:rPr b="1" lang="zh-CN" sz="1200" spc="-1" strike="noStrike">
                <a:solidFill>
                  <a:srgbClr val="99cc00"/>
                </a:solidFill>
                <a:latin typeface="Arial"/>
                <a:ea typeface="微软雅黑"/>
              </a:rPr>
              <a:t>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6" descr="学校"/>
          <p:cNvPicPr/>
          <p:nvPr/>
        </p:nvPicPr>
        <p:blipFill>
          <a:blip r:embed="rId4"/>
          <a:stretch/>
        </p:blipFill>
        <p:spPr>
          <a:xfrm>
            <a:off x="3513240" y="282420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7"/>
          <p:cNvSpPr/>
          <p:nvPr/>
        </p:nvSpPr>
        <p:spPr>
          <a:xfrm>
            <a:off x="0" y="5261040"/>
            <a:ext cx="9180360" cy="144360"/>
          </a:xfrm>
          <a:prstGeom prst="rect">
            <a:avLst/>
          </a:prstGeom>
          <a:solidFill>
            <a:srgbClr val="1d3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8"/>
          <p:cNvSpPr/>
          <p:nvPr/>
        </p:nvSpPr>
        <p:spPr>
          <a:xfrm rot="21060000">
            <a:off x="1238400" y="3909600"/>
            <a:ext cx="1152360" cy="741240"/>
          </a:xfrm>
          <a:prstGeom prst="rect">
            <a:avLst/>
          </a:prstGeom>
          <a:solidFill>
            <a:srgbClr val="1d3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 rot="21060000">
            <a:off x="1209600" y="4008600"/>
            <a:ext cx="119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9ccbb"/>
                </a:solidFill>
                <a:latin typeface="微软雅黑"/>
                <a:ea typeface="微软雅黑"/>
              </a:rPr>
              <a:t>公务员子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9ccbb"/>
                </a:solidFill>
                <a:latin typeface="微软雅黑"/>
                <a:ea typeface="微软雅黑"/>
              </a:rPr>
              <a:t>优先入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 rot="21060000">
            <a:off x="1829880" y="4619160"/>
            <a:ext cx="149400" cy="750960"/>
          </a:xfrm>
          <a:prstGeom prst="rect">
            <a:avLst/>
          </a:prstGeom>
          <a:solidFill>
            <a:srgbClr val="1d3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1" descr="baby"/>
          <p:cNvPicPr/>
          <p:nvPr/>
        </p:nvPicPr>
        <p:blipFill>
          <a:blip r:embed="rId5"/>
          <a:stretch/>
        </p:blipFill>
        <p:spPr>
          <a:xfrm>
            <a:off x="6084720" y="40924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2"/>
          <p:cNvSpPr/>
          <p:nvPr/>
        </p:nvSpPr>
        <p:spPr>
          <a:xfrm rot="21060000">
            <a:off x="5565600" y="3722400"/>
            <a:ext cx="269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d3d32"/>
                </a:solidFill>
                <a:latin typeface="微软雅黑"/>
                <a:ea typeface="微软雅黑"/>
              </a:rPr>
              <a:t>我们进幼儿园也要拼爹拼妈！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2"/>
          <p:cNvSpPr/>
          <p:nvPr/>
        </p:nvSpPr>
        <p:spPr>
          <a:xfrm rot="9060000">
            <a:off x="3726000" y="2626920"/>
            <a:ext cx="2038320" cy="187344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"/>
          <p:cNvSpPr/>
          <p:nvPr/>
        </p:nvSpPr>
        <p:spPr>
          <a:xfrm>
            <a:off x="0" y="484200"/>
            <a:ext cx="9180360" cy="0"/>
          </a:xfrm>
          <a:prstGeom prst="line">
            <a:avLst/>
          </a:prstGeom>
          <a:ln w="63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5067360" y="231840"/>
            <a:ext cx="2089080" cy="50472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4538"/>
                </a:solidFill>
                <a:latin typeface="Arial"/>
                <a:ea typeface="微软雅黑"/>
              </a:rPr>
              <a:t>公款消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8"/>
          <p:cNvPicPr/>
          <p:nvPr/>
        </p:nvPicPr>
        <p:blipFill>
          <a:blip r:embed="rId2"/>
          <a:stretch/>
        </p:blipFill>
        <p:spPr>
          <a:xfrm>
            <a:off x="3203640" y="1547640"/>
            <a:ext cx="2095560" cy="2095560"/>
          </a:xfrm>
          <a:prstGeom prst="rect">
            <a:avLst/>
          </a:prstGeom>
          <a:ln w="0">
            <a:noFill/>
          </a:ln>
        </p:spPr>
      </p:pic>
      <p:grpSp>
        <p:nvGrpSpPr>
          <p:cNvPr id="411" name="Group 6"/>
          <p:cNvGrpSpPr/>
          <p:nvPr/>
        </p:nvGrpSpPr>
        <p:grpSpPr>
          <a:xfrm>
            <a:off x="1848600" y="3084480"/>
            <a:ext cx="1094760" cy="1116360"/>
            <a:chOff x="1848600" y="3084480"/>
            <a:chExt cx="1094760" cy="1116360"/>
          </a:xfrm>
        </p:grpSpPr>
        <p:sp>
          <p:nvSpPr>
            <p:cNvPr id="412" name="泪滴形 1"/>
            <p:cNvSpPr/>
            <p:nvPr/>
          </p:nvSpPr>
          <p:spPr>
            <a:xfrm rot="1288800">
              <a:off x="1979280" y="3206520"/>
              <a:ext cx="833400" cy="871560"/>
            </a:xfrm>
            <a:custGeom>
              <a:avLst/>
              <a:gdLst/>
              <a:ahLst/>
              <a:rect l="l" t="t" r="r" b="b"/>
              <a:pathLst>
                <a:path w="481695" h="504056">
                  <a:moveTo>
                    <a:pt x="0" y="252028"/>
                  </a:moveTo>
                  <a:cubicBezTo>
                    <a:pt x="0" y="112837"/>
                    <a:pt x="107831" y="0"/>
                    <a:pt x="240848" y="0"/>
                  </a:cubicBezTo>
                  <a:cubicBezTo>
                    <a:pt x="352506" y="0"/>
                    <a:pt x="464164" y="-32833"/>
                    <a:pt x="575823" y="-98498"/>
                  </a:cubicBezTo>
                  <a:cubicBezTo>
                    <a:pt x="513071" y="18344"/>
                    <a:pt x="481695" y="135186"/>
                    <a:pt x="481695" y="252028"/>
                  </a:cubicBezTo>
                  <a:cubicBezTo>
                    <a:pt x="481695" y="391219"/>
                    <a:pt x="373864" y="504056"/>
                    <a:pt x="240847" y="504056"/>
                  </a:cubicBezTo>
                  <a:cubicBezTo>
                    <a:pt x="107830" y="504056"/>
                    <a:pt x="-1" y="391219"/>
                    <a:pt x="-1" y="252028"/>
                  </a:cubicBezTo>
                  <a:lnTo>
                    <a:pt x="0" y="25202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8"/>
            <p:cNvSpPr/>
            <p:nvPr/>
          </p:nvSpPr>
          <p:spPr>
            <a:xfrm rot="14820000">
              <a:off x="2037240" y="3286440"/>
              <a:ext cx="700920" cy="701280"/>
            </a:xfrm>
            <a:prstGeom prst="ellipse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9" descr="car"/>
          <p:cNvPicPr/>
          <p:nvPr/>
        </p:nvPicPr>
        <p:blipFill>
          <a:blip r:embed="rId3"/>
          <a:stretch/>
        </p:blipFill>
        <p:spPr>
          <a:xfrm>
            <a:off x="2079720" y="3368520"/>
            <a:ext cx="574560" cy="57492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10"/>
          <p:cNvGrpSpPr/>
          <p:nvPr/>
        </p:nvGrpSpPr>
        <p:grpSpPr>
          <a:xfrm>
            <a:off x="2117160" y="646560"/>
            <a:ext cx="1074960" cy="1049760"/>
            <a:chOff x="2117160" y="646560"/>
            <a:chExt cx="1074960" cy="1049760"/>
          </a:xfrm>
        </p:grpSpPr>
        <p:sp>
          <p:nvSpPr>
            <p:cNvPr id="416" name="泪滴形 1"/>
            <p:cNvSpPr/>
            <p:nvPr/>
          </p:nvSpPr>
          <p:spPr>
            <a:xfrm rot="4380000">
              <a:off x="2238480" y="736560"/>
              <a:ext cx="831960" cy="869760"/>
            </a:xfrm>
            <a:custGeom>
              <a:avLst/>
              <a:gdLst/>
              <a:ahLst/>
              <a:rect l="l" t="t" r="r" b="b"/>
              <a:pathLst>
                <a:path w="481695" h="504056">
                  <a:moveTo>
                    <a:pt x="0" y="252028"/>
                  </a:moveTo>
                  <a:cubicBezTo>
                    <a:pt x="0" y="112837"/>
                    <a:pt x="107831" y="0"/>
                    <a:pt x="240848" y="0"/>
                  </a:cubicBezTo>
                  <a:cubicBezTo>
                    <a:pt x="352506" y="0"/>
                    <a:pt x="464164" y="-32833"/>
                    <a:pt x="575823" y="-98498"/>
                  </a:cubicBezTo>
                  <a:cubicBezTo>
                    <a:pt x="513071" y="18344"/>
                    <a:pt x="481695" y="135186"/>
                    <a:pt x="481695" y="252028"/>
                  </a:cubicBezTo>
                  <a:cubicBezTo>
                    <a:pt x="481695" y="391219"/>
                    <a:pt x="373864" y="504056"/>
                    <a:pt x="240847" y="504056"/>
                  </a:cubicBezTo>
                  <a:cubicBezTo>
                    <a:pt x="107830" y="504056"/>
                    <a:pt x="-1" y="391219"/>
                    <a:pt x="-1" y="252028"/>
                  </a:cubicBezTo>
                  <a:lnTo>
                    <a:pt x="0" y="252028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"/>
            <p:cNvSpPr/>
            <p:nvPr/>
          </p:nvSpPr>
          <p:spPr>
            <a:xfrm rot="17940000">
              <a:off x="2300760" y="807480"/>
              <a:ext cx="699480" cy="700920"/>
            </a:xfrm>
            <a:prstGeom prst="ellipse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" name="Picture 13" descr="晚餐"/>
          <p:cNvPicPr/>
          <p:nvPr/>
        </p:nvPicPr>
        <p:blipFill>
          <a:blip r:embed="rId4"/>
          <a:srcRect l="0" t="0" r="0" b="23236"/>
          <a:stretch/>
        </p:blipFill>
        <p:spPr>
          <a:xfrm>
            <a:off x="2400480" y="933480"/>
            <a:ext cx="479160" cy="36828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4"/>
          <p:cNvGrpSpPr/>
          <p:nvPr/>
        </p:nvGrpSpPr>
        <p:grpSpPr>
          <a:xfrm>
            <a:off x="5709600" y="1365120"/>
            <a:ext cx="1184760" cy="1193040"/>
            <a:chOff x="5709600" y="1365120"/>
            <a:chExt cx="1184760" cy="1193040"/>
          </a:xfrm>
        </p:grpSpPr>
        <p:sp>
          <p:nvSpPr>
            <p:cNvPr id="420" name="泪滴形 1"/>
            <p:cNvSpPr/>
            <p:nvPr/>
          </p:nvSpPr>
          <p:spPr>
            <a:xfrm rot="12960000">
              <a:off x="5886000" y="1526400"/>
              <a:ext cx="831960" cy="870120"/>
            </a:xfrm>
            <a:custGeom>
              <a:avLst/>
              <a:gdLst/>
              <a:ahLst/>
              <a:rect l="l" t="t" r="r" b="b"/>
              <a:pathLst>
                <a:path w="481695" h="504056">
                  <a:moveTo>
                    <a:pt x="0" y="252028"/>
                  </a:moveTo>
                  <a:cubicBezTo>
                    <a:pt x="0" y="112837"/>
                    <a:pt x="107831" y="0"/>
                    <a:pt x="240848" y="0"/>
                  </a:cubicBezTo>
                  <a:cubicBezTo>
                    <a:pt x="352506" y="0"/>
                    <a:pt x="464164" y="-32833"/>
                    <a:pt x="575823" y="-98498"/>
                  </a:cubicBezTo>
                  <a:cubicBezTo>
                    <a:pt x="513071" y="18344"/>
                    <a:pt x="481695" y="135186"/>
                    <a:pt x="481695" y="252028"/>
                  </a:cubicBezTo>
                  <a:cubicBezTo>
                    <a:pt x="481695" y="391219"/>
                    <a:pt x="373864" y="504056"/>
                    <a:pt x="240847" y="504056"/>
                  </a:cubicBezTo>
                  <a:cubicBezTo>
                    <a:pt x="107830" y="504056"/>
                    <a:pt x="-1" y="391219"/>
                    <a:pt x="-1" y="252028"/>
                  </a:cubicBezTo>
                  <a:lnTo>
                    <a:pt x="0" y="252028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"/>
            <p:cNvSpPr/>
            <p:nvPr/>
          </p:nvSpPr>
          <p:spPr>
            <a:xfrm rot="4920000">
              <a:off x="5955840" y="1618920"/>
              <a:ext cx="700560" cy="700200"/>
            </a:xfrm>
            <a:prstGeom prst="ellipse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Picture 17" descr="飞机"/>
          <p:cNvPicPr/>
          <p:nvPr/>
        </p:nvPicPr>
        <p:blipFill>
          <a:blip r:embed="rId5"/>
          <a:stretch/>
        </p:blipFill>
        <p:spPr>
          <a:xfrm rot="16380000">
            <a:off x="6076800" y="1695600"/>
            <a:ext cx="542880" cy="5432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8"/>
          <p:cNvSpPr/>
          <p:nvPr/>
        </p:nvSpPr>
        <p:spPr>
          <a:xfrm>
            <a:off x="2062080" y="419580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Arial"/>
                <a:ea typeface="微软雅黑"/>
              </a:rPr>
              <a:t>公车开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9"/>
          <p:cNvSpPr/>
          <p:nvPr/>
        </p:nvSpPr>
        <p:spPr>
          <a:xfrm>
            <a:off x="2219400" y="1697040"/>
            <a:ext cx="92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公款吃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5859360" y="2498760"/>
            <a:ext cx="9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ff"/>
                </a:solidFill>
                <a:latin typeface="Arial"/>
                <a:ea typeface="微软雅黑"/>
              </a:rPr>
              <a:t>公费出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5214960" y="4308480"/>
            <a:ext cx="208080" cy="209520"/>
          </a:xfrm>
          <a:custGeom>
            <a:avLst/>
            <a:gdLst/>
            <a:ahLst/>
            <a:rect l="l" t="t" r="r" b="b"/>
            <a:pathLst>
              <a:path w="207962" h="209550">
                <a:moveTo>
                  <a:pt x="0" y="80041"/>
                </a:moveTo>
                <a:lnTo>
                  <a:pt x="79435" y="80041"/>
                </a:lnTo>
                <a:lnTo>
                  <a:pt x="103981" y="0"/>
                </a:lnTo>
                <a:lnTo>
                  <a:pt x="128527" y="80041"/>
                </a:lnTo>
                <a:lnTo>
                  <a:pt x="207962" y="80041"/>
                </a:lnTo>
                <a:lnTo>
                  <a:pt x="143697" y="129508"/>
                </a:lnTo>
                <a:lnTo>
                  <a:pt x="168245" y="209549"/>
                </a:lnTo>
                <a:lnTo>
                  <a:pt x="103981" y="160081"/>
                </a:lnTo>
                <a:lnTo>
                  <a:pt x="39717" y="209549"/>
                </a:lnTo>
                <a:lnTo>
                  <a:pt x="64265" y="129508"/>
                </a:lnTo>
                <a:lnTo>
                  <a:pt x="0" y="8004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5432400" y="387180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60000"/>
                </a:solidFill>
                <a:latin typeface="Arial"/>
                <a:ea typeface="微软雅黑"/>
              </a:rPr>
              <a:t>中央部委合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60000"/>
                </a:solidFill>
                <a:latin typeface="Arial"/>
                <a:ea typeface="微软雅黑"/>
              </a:rPr>
              <a:t>93.64</a:t>
            </a:r>
            <a:r>
              <a:rPr b="1" lang="zh-CN" sz="1800" spc="-1" strike="noStrike">
                <a:solidFill>
                  <a:srgbClr val="e60000"/>
                </a:solidFill>
                <a:latin typeface="Arial"/>
                <a:ea typeface="微软雅黑"/>
              </a:rPr>
              <a:t>亿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"/>
          <p:cNvSpPr/>
          <p:nvPr/>
        </p:nvSpPr>
        <p:spPr>
          <a:xfrm>
            <a:off x="3156120" y="4657680"/>
            <a:ext cx="2681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9ccbb"/>
                </a:solidFill>
                <a:latin typeface="微软雅黑"/>
                <a:ea typeface="微软雅黑"/>
              </a:rPr>
              <a:t>2011</a:t>
            </a:r>
            <a:r>
              <a:rPr b="1" lang="zh-CN" sz="1200" spc="-1" strike="noStrike">
                <a:solidFill>
                  <a:srgbClr val="c9ccbb"/>
                </a:solidFill>
                <a:latin typeface="微软雅黑"/>
                <a:ea typeface="微软雅黑"/>
              </a:rPr>
              <a:t>年全国三公经费保守估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9ccbb"/>
                </a:solidFill>
                <a:latin typeface="微软雅黑"/>
                <a:ea typeface="微软雅黑"/>
              </a:rPr>
              <a:t>3218.59</a:t>
            </a:r>
            <a:r>
              <a:rPr b="1" lang="zh-CN" sz="2700" spc="-1" strike="noStrike">
                <a:solidFill>
                  <a:srgbClr val="c9ccbb"/>
                </a:solidFill>
                <a:latin typeface="微软雅黑"/>
                <a:ea typeface="微软雅黑"/>
              </a:rPr>
              <a:t>亿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3683880" y="179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权力寻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1184400" y="1052640"/>
            <a:ext cx="47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9ccbb"/>
                </a:solidFill>
                <a:latin typeface="微软雅黑"/>
                <a:ea typeface="微软雅黑"/>
              </a:rPr>
              <a:t>除了以上合法的福利外，还有一些公务员自寻福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tree"/>
          <p:cNvPicPr/>
          <p:nvPr/>
        </p:nvPicPr>
        <p:blipFill>
          <a:blip r:embed="rId2"/>
          <a:stretch/>
        </p:blipFill>
        <p:spPr>
          <a:xfrm>
            <a:off x="3419640" y="2158920"/>
            <a:ext cx="2232000" cy="2233800"/>
          </a:xfrm>
          <a:prstGeom prst="rect">
            <a:avLst/>
          </a:prstGeom>
          <a:ln w="0">
            <a:noFill/>
          </a:ln>
        </p:spPr>
      </p:pic>
      <p:sp>
        <p:nvSpPr>
          <p:cNvPr id="432" name="Oval 5"/>
          <p:cNvSpPr/>
          <p:nvPr/>
        </p:nvSpPr>
        <p:spPr>
          <a:xfrm>
            <a:off x="4681440" y="1692360"/>
            <a:ext cx="936720" cy="934920"/>
          </a:xfrm>
          <a:prstGeom prst="ellipse">
            <a:avLst/>
          </a:prstGeom>
          <a:solidFill>
            <a:srgbClr val="496d5b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6" descr="money"/>
          <p:cNvPicPr/>
          <p:nvPr/>
        </p:nvPicPr>
        <p:blipFill>
          <a:blip r:embed="rId3"/>
          <a:stretch/>
        </p:blipFill>
        <p:spPr>
          <a:xfrm>
            <a:off x="4759200" y="174132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7"/>
          <p:cNvSpPr/>
          <p:nvPr/>
        </p:nvSpPr>
        <p:spPr>
          <a:xfrm>
            <a:off x="5618160" y="1204920"/>
            <a:ext cx="2266920" cy="70308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6012000" y="1204920"/>
            <a:ext cx="1515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福田一街道办的报账员，贪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款违法金额近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00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9"/>
          <p:cNvSpPr/>
          <p:nvPr/>
        </p:nvSpPr>
        <p:spPr>
          <a:xfrm>
            <a:off x="3168720" y="2158920"/>
            <a:ext cx="934920" cy="936720"/>
          </a:xfrm>
          <a:prstGeom prst="ellipse">
            <a:avLst/>
          </a:prstGeom>
          <a:solidFill>
            <a:srgbClr val="496d5b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0" descr="人"/>
          <p:cNvPicPr/>
          <p:nvPr/>
        </p:nvPicPr>
        <p:blipFill>
          <a:blip r:embed="rId4"/>
          <a:stretch/>
        </p:blipFill>
        <p:spPr>
          <a:xfrm>
            <a:off x="3294000" y="23018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1"/>
          <p:cNvSpPr/>
          <p:nvPr/>
        </p:nvSpPr>
        <p:spPr>
          <a:xfrm flipH="1">
            <a:off x="1183680" y="1584360"/>
            <a:ext cx="2044440" cy="70164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00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1184400" y="1601640"/>
            <a:ext cx="2003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圳一街道办官员被指给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亲友安排工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3"/>
          <p:cNvSpPr/>
          <p:nvPr/>
        </p:nvSpPr>
        <p:spPr>
          <a:xfrm>
            <a:off x="4500720" y="3057480"/>
            <a:ext cx="793440" cy="793800"/>
          </a:xfrm>
          <a:prstGeom prst="ellipse">
            <a:avLst/>
          </a:prstGeom>
          <a:solidFill>
            <a:srgbClr val="496d5b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4" descr="34"/>
          <p:cNvPicPr/>
          <p:nvPr/>
        </p:nvPicPr>
        <p:blipFill>
          <a:blip r:embed="rId5"/>
          <a:stretch/>
        </p:blipFill>
        <p:spPr>
          <a:xfrm>
            <a:off x="4581360" y="3159000"/>
            <a:ext cx="619200" cy="62100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15"/>
          <p:cNvSpPr/>
          <p:nvPr/>
        </p:nvSpPr>
        <p:spPr>
          <a:xfrm>
            <a:off x="5294160" y="2744640"/>
            <a:ext cx="2157480" cy="702000"/>
          </a:xfrm>
          <a:prstGeom prst="wedgeRectCallout">
            <a:avLst>
              <a:gd name="adj1" fmla="val -43750"/>
              <a:gd name="adj2" fmla="val 70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6"/>
          <p:cNvSpPr/>
          <p:nvPr/>
        </p:nvSpPr>
        <p:spPr>
          <a:xfrm>
            <a:off x="5692680" y="2732040"/>
            <a:ext cx="127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市交管局局长宋建国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儿子与秘书涉嫌倒卖车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2"/>
          <p:cNvSpPr/>
          <p:nvPr/>
        </p:nvSpPr>
        <p:spPr>
          <a:xfrm>
            <a:off x="1733400" y="4473720"/>
            <a:ext cx="47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9ccbb"/>
                </a:solidFill>
                <a:latin typeface="微软雅黑"/>
                <a:ea typeface="微软雅黑"/>
              </a:rPr>
              <a:t>看完这个，你就知道为什么现在连丈母娘都要求女婿是公务员了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8000" y="1000080"/>
            <a:ext cx="89280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7286760" y="262080"/>
            <a:ext cx="13888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6427-3B5A-45AC-B518-CB918008E2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2411280" y="1476360"/>
            <a:ext cx="4033800" cy="1655640"/>
          </a:xfrm>
          <a:prstGeom prst="rect">
            <a:avLst/>
          </a:prstGeom>
          <a:noFill/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0200" y="109440"/>
            <a:ext cx="36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看得见的薪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1"/>
          <p:cNvPicPr/>
          <p:nvPr/>
        </p:nvPicPr>
        <p:blipFill>
          <a:blip r:embed="rId2"/>
          <a:stretch/>
        </p:blipFill>
        <p:spPr>
          <a:xfrm>
            <a:off x="2813040" y="1554120"/>
            <a:ext cx="3325680" cy="2889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3422520" y="8524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9ccbb"/>
                </a:solidFill>
                <a:latin typeface="Arial"/>
                <a:ea typeface="微软雅黑"/>
              </a:rPr>
              <a:t>年均工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64080" y="123192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9ccbb"/>
                </a:solidFill>
                <a:latin typeface="Arial"/>
                <a:ea typeface="微软雅黑"/>
              </a:rPr>
              <a:t>据公家统计局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421240" y="155412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各种津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5183280" y="4249800"/>
            <a:ext cx="11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奖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183280" y="4584600"/>
            <a:ext cx="165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9ccbb"/>
                </a:solidFill>
                <a:latin typeface="Arial"/>
                <a:ea typeface="微软雅黑"/>
              </a:rPr>
              <a:t>过节费、年终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025720" y="4249800"/>
            <a:ext cx="11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补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2590920" y="4584600"/>
            <a:ext cx="1784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9ccbb"/>
                </a:solidFill>
                <a:latin typeface="Arial"/>
                <a:ea typeface="微软雅黑"/>
              </a:rPr>
              <a:t>菜篮子、保健供暖、交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2532240" y="1554120"/>
            <a:ext cx="11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基本工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500200" y="109440"/>
            <a:ext cx="36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看不见的福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0" y="1254240"/>
            <a:ext cx="9180360" cy="0"/>
          </a:xfrm>
          <a:prstGeom prst="line">
            <a:avLst/>
          </a:prstGeom>
          <a:ln w="63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771640" y="971640"/>
            <a:ext cx="3392640" cy="50472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4538"/>
                </a:solidFill>
                <a:latin typeface="Arial"/>
                <a:ea typeface="微软雅黑"/>
              </a:rPr>
              <a:t>分房是最大的福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4356000" y="1442880"/>
            <a:ext cx="1800" cy="2554560"/>
          </a:xfrm>
          <a:prstGeom prst="line">
            <a:avLst/>
          </a:prstGeom>
          <a:ln w="88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3594240" y="1692360"/>
            <a:ext cx="1512720" cy="1512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home"/>
          <p:cNvPicPr/>
          <p:nvPr/>
        </p:nvPicPr>
        <p:blipFill>
          <a:blip r:embed="rId2"/>
          <a:stretch/>
        </p:blipFill>
        <p:spPr>
          <a:xfrm>
            <a:off x="3738600" y="17334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8"/>
          <p:cNvGrpSpPr/>
          <p:nvPr/>
        </p:nvGrpSpPr>
        <p:grpSpPr>
          <a:xfrm>
            <a:off x="2397240" y="3405240"/>
            <a:ext cx="3889080" cy="576360"/>
            <a:chOff x="2397240" y="3405240"/>
            <a:chExt cx="3889080" cy="576360"/>
          </a:xfrm>
        </p:grpSpPr>
        <p:sp>
          <p:nvSpPr>
            <p:cNvPr id="231" name="Line 9"/>
            <p:cNvSpPr/>
            <p:nvPr/>
          </p:nvSpPr>
          <p:spPr>
            <a:xfrm>
              <a:off x="2397240" y="3454560"/>
              <a:ext cx="3888720" cy="360"/>
            </a:xfrm>
            <a:prstGeom prst="line">
              <a:avLst/>
            </a:prstGeom>
            <a:ln w="88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6285960" y="3405240"/>
              <a:ext cx="360" cy="576360"/>
            </a:xfrm>
            <a:prstGeom prst="line">
              <a:avLst/>
            </a:prstGeom>
            <a:ln w="88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>
              <a:off x="2397240" y="3405240"/>
              <a:ext cx="360" cy="576360"/>
            </a:xfrm>
            <a:prstGeom prst="line">
              <a:avLst/>
            </a:prstGeom>
            <a:ln w="88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Oval 12"/>
          <p:cNvSpPr/>
          <p:nvPr/>
        </p:nvSpPr>
        <p:spPr>
          <a:xfrm>
            <a:off x="5718240" y="3924360"/>
            <a:ext cx="1152360" cy="11523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6193080" y="4095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住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5975280" y="467676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不征收个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5"/>
          <p:cNvSpPr/>
          <p:nvPr/>
        </p:nvSpPr>
        <p:spPr>
          <a:xfrm>
            <a:off x="3772080" y="3924360"/>
            <a:ext cx="1150920" cy="11523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6"/>
          <p:cNvSpPr/>
          <p:nvPr/>
        </p:nvSpPr>
        <p:spPr>
          <a:xfrm>
            <a:off x="1812960" y="3924360"/>
            <a:ext cx="1152360" cy="11523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129200" y="4140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提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补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234880" y="4140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住房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积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20130521103203669_easyicon_net_48"/>
          <p:cNvPicPr/>
          <p:nvPr/>
        </p:nvPicPr>
        <p:blipFill>
          <a:blip r:embed="rId3"/>
          <a:stretch/>
        </p:blipFill>
        <p:spPr>
          <a:xfrm>
            <a:off x="3595680" y="4500720"/>
            <a:ext cx="568440" cy="568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" descr="1 (1)"/>
          <p:cNvPicPr/>
          <p:nvPr/>
        </p:nvPicPr>
        <p:blipFill>
          <a:blip r:embed="rId4"/>
          <a:stretch/>
        </p:blipFill>
        <p:spPr>
          <a:xfrm>
            <a:off x="5326200" y="431784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1" descr="2 (1)"/>
          <p:cNvPicPr/>
          <p:nvPr/>
        </p:nvPicPr>
        <p:blipFill>
          <a:blip r:embed="rId5"/>
          <a:stretch/>
        </p:blipFill>
        <p:spPr>
          <a:xfrm>
            <a:off x="1389240" y="4356000"/>
            <a:ext cx="8492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 flipH="1">
            <a:off x="3131640" y="3651120"/>
            <a:ext cx="576360" cy="719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>
            <a:off x="0" y="396720"/>
            <a:ext cx="9109080" cy="0"/>
          </a:xfrm>
          <a:prstGeom prst="line">
            <a:avLst/>
          </a:prstGeom>
          <a:ln w="88920">
            <a:solidFill>
              <a:srgbClr val="3145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1440" y="290520"/>
            <a:ext cx="4354200" cy="214200"/>
            <a:chOff x="1440" y="290520"/>
            <a:chExt cx="4354200" cy="214200"/>
          </a:xfrm>
        </p:grpSpPr>
        <p:sp>
          <p:nvSpPr>
            <p:cNvPr id="247" name="Line 5"/>
            <p:cNvSpPr/>
            <p:nvPr/>
          </p:nvSpPr>
          <p:spPr>
            <a:xfrm>
              <a:off x="1440" y="396720"/>
              <a:ext cx="4139280" cy="360"/>
            </a:xfrm>
            <a:prstGeom prst="line">
              <a:avLst/>
            </a:prstGeom>
            <a:ln w="88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>
              <a:off x="4140720" y="290520"/>
              <a:ext cx="214920" cy="214200"/>
            </a:xfrm>
            <a:custGeom>
              <a:avLst/>
              <a:gdLst>
                <a:gd name="textAreaLeft" fmla="*/ 31680 w 214920"/>
                <a:gd name="textAreaRight" fmla="*/ 183240 w 214920"/>
                <a:gd name="textAreaTop" fmla="*/ 31320 h 214200"/>
                <a:gd name="textAreaBottom" fmla="*/ 18288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7"/>
          <p:cNvGrpSpPr/>
          <p:nvPr/>
        </p:nvGrpSpPr>
        <p:grpSpPr>
          <a:xfrm>
            <a:off x="3260880" y="1692360"/>
            <a:ext cx="2189160" cy="2189160"/>
            <a:chOff x="3260880" y="1692360"/>
            <a:chExt cx="2189160" cy="2189160"/>
          </a:xfrm>
        </p:grpSpPr>
        <p:pic>
          <p:nvPicPr>
            <p:cNvPr id="250" name="Picture 8" descr="未标题-1"/>
            <p:cNvPicPr/>
            <p:nvPr/>
          </p:nvPicPr>
          <p:blipFill>
            <a:blip r:embed="rId2"/>
            <a:stretch/>
          </p:blipFill>
          <p:spPr>
            <a:xfrm>
              <a:off x="3260880" y="1692360"/>
              <a:ext cx="2189160" cy="21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Oval 9"/>
            <p:cNvSpPr/>
            <p:nvPr/>
          </p:nvSpPr>
          <p:spPr>
            <a:xfrm>
              <a:off x="3841560" y="2336760"/>
              <a:ext cx="1022040" cy="1022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10" descr="1 (1)"/>
            <p:cNvPicPr/>
            <p:nvPr/>
          </p:nvPicPr>
          <p:blipFill>
            <a:blip r:embed="rId3"/>
            <a:stretch/>
          </p:blipFill>
          <p:spPr>
            <a:xfrm>
              <a:off x="3959640" y="2424240"/>
              <a:ext cx="7984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Text Box 11"/>
          <p:cNvSpPr/>
          <p:nvPr/>
        </p:nvSpPr>
        <p:spPr>
          <a:xfrm>
            <a:off x="1192320" y="752400"/>
            <a:ext cx="30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2012</a:t>
            </a: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年财政部统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184400" y="1087560"/>
            <a:ext cx="30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9ccbb"/>
                </a:solidFill>
                <a:latin typeface="微软雅黑"/>
                <a:ea typeface="微软雅黑"/>
              </a:rPr>
              <a:t>全国住房保障支出预算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162320" y="93996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ccbb"/>
                </a:solidFill>
                <a:latin typeface="微软雅黑"/>
                <a:ea typeface="微软雅黑"/>
              </a:rPr>
              <a:t>374.4</a:t>
            </a:r>
            <a:r>
              <a:rPr b="1" lang="zh-CN" sz="2800" spc="-1" strike="noStrike">
                <a:solidFill>
                  <a:srgbClr val="c9ccbb"/>
                </a:solidFill>
                <a:latin typeface="微软雅黑"/>
                <a:ea typeface="微软雅黑"/>
              </a:rPr>
              <a:t>亿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5729400" y="2481120"/>
            <a:ext cx="302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年保障性安居工程支出预算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54.31</a:t>
            </a: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1714680" y="3446640"/>
            <a:ext cx="1641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政事业单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住房改革支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320.09</a:t>
            </a: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4441680" y="4284720"/>
            <a:ext cx="4105440" cy="0"/>
          </a:xfrm>
          <a:prstGeom prst="line">
            <a:avLst/>
          </a:prstGeom>
          <a:ln w="25560">
            <a:solidFill>
              <a:srgbClr val="c9cc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4352760" y="4402080"/>
            <a:ext cx="4265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c9ccbb"/>
                </a:solidFill>
                <a:latin typeface="Arial"/>
                <a:ea typeface="微软雅黑"/>
              </a:rPr>
              <a:t>注：保障性安居工程大数包括经济适用住房、限价商品住房、各类棚户区改造、廉租房、公租房以及农村危房改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8"/>
          <p:cNvSpPr/>
          <p:nvPr/>
        </p:nvSpPr>
        <p:spPr>
          <a:xfrm flipH="1">
            <a:off x="1431360" y="4829040"/>
            <a:ext cx="1515960" cy="576360"/>
          </a:xfrm>
          <a:prstGeom prst="triangle">
            <a:avLst>
              <a:gd name="adj" fmla="val 50000"/>
            </a:avLst>
          </a:prstGeom>
          <a:solidFill>
            <a:srgbClr val="314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4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473200" y="1547640"/>
            <a:ext cx="1225800" cy="2376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963720" y="1260360"/>
            <a:ext cx="1224000" cy="266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1 (1)"/>
          <p:cNvPicPr/>
          <p:nvPr/>
        </p:nvPicPr>
        <p:blipFill>
          <a:blip r:embed="rId1"/>
          <a:stretch/>
        </p:blipFill>
        <p:spPr>
          <a:xfrm>
            <a:off x="874800" y="196524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1 (1)"/>
          <p:cNvPicPr/>
          <p:nvPr/>
        </p:nvPicPr>
        <p:blipFill>
          <a:blip r:embed="rId2"/>
          <a:stretch/>
        </p:blipFill>
        <p:spPr>
          <a:xfrm>
            <a:off x="2457360" y="2270160"/>
            <a:ext cx="1298520" cy="12985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6"/>
          <p:cNvSpPr/>
          <p:nvPr/>
        </p:nvSpPr>
        <p:spPr>
          <a:xfrm>
            <a:off x="3986280" y="2484360"/>
            <a:ext cx="1224000" cy="144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5489640" y="3340080"/>
            <a:ext cx="1224000" cy="584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6985080" y="3370320"/>
            <a:ext cx="1225440" cy="5396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1 (1)"/>
          <p:cNvPicPr/>
          <p:nvPr/>
        </p:nvPicPr>
        <p:blipFill>
          <a:blip r:embed="rId3"/>
          <a:stretch/>
        </p:blipFill>
        <p:spPr>
          <a:xfrm>
            <a:off x="5929200" y="3570120"/>
            <a:ext cx="341280" cy="341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1 (1)"/>
          <p:cNvPicPr/>
          <p:nvPr/>
        </p:nvPicPr>
        <p:blipFill>
          <a:blip r:embed="rId4"/>
          <a:stretch/>
        </p:blipFill>
        <p:spPr>
          <a:xfrm>
            <a:off x="4160880" y="2894040"/>
            <a:ext cx="934920" cy="936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1 (1)"/>
          <p:cNvPicPr/>
          <p:nvPr/>
        </p:nvPicPr>
        <p:blipFill>
          <a:blip r:embed="rId5"/>
          <a:stretch/>
        </p:blipFill>
        <p:spPr>
          <a:xfrm>
            <a:off x="7453440" y="3648240"/>
            <a:ext cx="223560" cy="2235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2"/>
          <p:cNvSpPr/>
          <p:nvPr/>
        </p:nvSpPr>
        <p:spPr>
          <a:xfrm>
            <a:off x="1046160" y="141444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5.69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2556000" y="1724040"/>
            <a:ext cx="10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.64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4092480" y="252900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.25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802480" y="3322800"/>
            <a:ext cx="106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78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7256520" y="3373560"/>
            <a:ext cx="1068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24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774720" y="4068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9ccbb"/>
                </a:solidFill>
                <a:latin typeface="微软雅黑"/>
                <a:ea typeface="微软雅黑"/>
              </a:rPr>
              <a:t>国家税务总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2451240" y="40687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9ccbb"/>
                </a:solidFill>
                <a:latin typeface="微软雅黑"/>
                <a:ea typeface="微软雅黑"/>
              </a:rPr>
              <a:t>教育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3978360" y="40687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9ccbb"/>
                </a:solidFill>
                <a:latin typeface="微软雅黑"/>
                <a:ea typeface="微软雅黑"/>
              </a:rPr>
              <a:t>卫生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5489640" y="40687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9ccbb"/>
                </a:solidFill>
                <a:latin typeface="微软雅黑"/>
                <a:ea typeface="微软雅黑"/>
              </a:rPr>
              <a:t>铁道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6985080" y="406872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9ccbb"/>
                </a:solidFill>
                <a:latin typeface="微软雅黑"/>
                <a:ea typeface="微软雅黑"/>
              </a:rPr>
              <a:t>农业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2674800" y="4638600"/>
            <a:ext cx="35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9ccbb"/>
                </a:solidFill>
                <a:latin typeface="微软雅黑"/>
                <a:ea typeface="微软雅黑"/>
              </a:rPr>
              <a:t>其他机关和事业单位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1249200"/>
            <a:ext cx="9144000" cy="2978280"/>
            <a:chOff x="0" y="1249200"/>
            <a:chExt cx="9144000" cy="2978280"/>
          </a:xfrm>
        </p:grpSpPr>
        <p:pic>
          <p:nvPicPr>
            <p:cNvPr id="283" name="Picture 3" descr="4"/>
            <p:cNvPicPr/>
            <p:nvPr/>
          </p:nvPicPr>
          <p:blipFill>
            <a:blip r:embed="rId2"/>
            <a:stretch/>
          </p:blipFill>
          <p:spPr>
            <a:xfrm>
              <a:off x="890640" y="1249200"/>
              <a:ext cx="7452360" cy="29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4"/>
            <p:cNvSpPr/>
            <p:nvPr/>
          </p:nvSpPr>
          <p:spPr>
            <a:xfrm flipH="1" flipV="1">
              <a:off x="0" y="2918160"/>
              <a:ext cx="1043280" cy="144000"/>
            </a:xfrm>
            <a:prstGeom prst="rect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 flipH="1" flipV="1">
              <a:off x="8100720" y="3859200"/>
              <a:ext cx="1043280" cy="144000"/>
            </a:xfrm>
            <a:prstGeom prst="rect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6"/>
          <p:cNvSpPr/>
          <p:nvPr/>
        </p:nvSpPr>
        <p:spPr>
          <a:xfrm>
            <a:off x="755640" y="1949400"/>
            <a:ext cx="0" cy="1081080"/>
          </a:xfrm>
          <a:prstGeom prst="line">
            <a:avLst/>
          </a:prstGeom>
          <a:ln w="25560">
            <a:solidFill>
              <a:srgbClr val="1d3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318960" y="1249200"/>
            <a:ext cx="844560" cy="844560"/>
          </a:xfrm>
          <a:prstGeom prst="ellipse">
            <a:avLst/>
          </a:prstGeom>
          <a:solidFill>
            <a:srgbClr val="1d3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45240" y="14540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05</a:t>
            </a: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 flipH="1">
            <a:off x="4428720" y="3965400"/>
            <a:ext cx="647640" cy="433440"/>
          </a:xfrm>
          <a:prstGeom prst="line">
            <a:avLst/>
          </a:prstGeom>
          <a:ln w="25560">
            <a:solidFill>
              <a:srgbClr val="1d3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3780000" y="4227480"/>
            <a:ext cx="844560" cy="844560"/>
          </a:xfrm>
          <a:prstGeom prst="ellipse">
            <a:avLst/>
          </a:prstGeom>
          <a:solidFill>
            <a:srgbClr val="1d3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810960" y="44370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06</a:t>
            </a:r>
            <a:r>
              <a:rPr b="1" lang="zh-CN" sz="2400" spc="-1" strike="noStrike">
                <a:solidFill>
                  <a:srgbClr val="ff9900"/>
                </a:solidFill>
                <a:latin typeface="微软雅黑"/>
                <a:ea typeface="微软雅黑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1879560" y="20541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620</a:t>
            </a: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2795760" y="150192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1475</a:t>
            </a: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780000" y="21812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362</a:t>
            </a: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860480" y="33177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改售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2795760" y="33116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经适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3787920" y="331776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微软雅黑"/>
                <a:ea typeface="微软雅黑"/>
              </a:rPr>
              <a:t>部级干部住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5316480" y="42512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cc00"/>
                </a:solidFill>
                <a:latin typeface="微软雅黑"/>
                <a:ea typeface="微软雅黑"/>
              </a:rPr>
              <a:t>改售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6251400" y="4245120"/>
            <a:ext cx="9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经适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7243920" y="425124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微软雅黑"/>
                <a:ea typeface="微软雅黑"/>
              </a:rPr>
              <a:t>按经适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微软雅黑"/>
                <a:ea typeface="微软雅黑"/>
              </a:rPr>
              <a:t>售公有住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5270400" y="19242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cc00"/>
                </a:solidFill>
                <a:latin typeface="微软雅黑"/>
                <a:ea typeface="微软雅黑"/>
              </a:rPr>
              <a:t>2347</a:t>
            </a:r>
            <a:r>
              <a:rPr b="1" lang="zh-CN" sz="1600" spc="-1" strike="noStrike">
                <a:solidFill>
                  <a:srgbClr val="99cc00"/>
                </a:solidFill>
                <a:latin typeface="微软雅黑"/>
                <a:ea typeface="微软雅黑"/>
              </a:rPr>
              <a:t>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6245280" y="84600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cc00"/>
                </a:solidFill>
                <a:latin typeface="微软雅黑"/>
                <a:ea typeface="微软雅黑"/>
              </a:rPr>
              <a:t>5133</a:t>
            </a:r>
            <a:r>
              <a:rPr b="1" lang="zh-CN" sz="1600" spc="-1" strike="noStrike">
                <a:solidFill>
                  <a:srgbClr val="99cc00"/>
                </a:solidFill>
                <a:latin typeface="微软雅黑"/>
                <a:ea typeface="微软雅黑"/>
              </a:rPr>
              <a:t>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7272360" y="211932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cc00"/>
                </a:solidFill>
                <a:latin typeface="微软雅黑"/>
                <a:ea typeface="微软雅黑"/>
              </a:rPr>
              <a:t>2106</a:t>
            </a:r>
            <a:r>
              <a:rPr b="1" lang="zh-CN" sz="1600" spc="-1" strike="noStrike">
                <a:solidFill>
                  <a:srgbClr val="99cc00"/>
                </a:solidFill>
                <a:latin typeface="微软雅黑"/>
                <a:ea typeface="微软雅黑"/>
              </a:rPr>
              <a:t>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769320" y="623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国管局两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5"/>
          <p:cNvSpPr/>
          <p:nvPr/>
        </p:nvSpPr>
        <p:spPr>
          <a:xfrm>
            <a:off x="1763640" y="324000"/>
            <a:ext cx="865440" cy="8650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1939680" y="52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批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2797200" y="67788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住房给公务员或者部级干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2649600" y="317520"/>
            <a:ext cx="168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102436</a:t>
            </a:r>
            <a:r>
              <a:rPr b="1" lang="zh-CN" sz="2000" spc="-1" strike="noStrike">
                <a:solidFill>
                  <a:srgbClr val="ff9900"/>
                </a:solidFill>
                <a:latin typeface="微软雅黑"/>
                <a:ea typeface="微软雅黑"/>
              </a:rPr>
              <a:t>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任"/>
          <p:cNvPicPr/>
          <p:nvPr/>
        </p:nvPicPr>
        <p:blipFill>
          <a:blip r:embed="rId2"/>
          <a:stretch/>
        </p:blipFill>
        <p:spPr>
          <a:xfrm>
            <a:off x="417600" y="593640"/>
            <a:ext cx="1350720" cy="13604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625320" y="196704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9ccbb"/>
                </a:solidFill>
                <a:latin typeface="微软雅黑"/>
                <a:ea typeface="微软雅黑"/>
              </a:rPr>
              <a:t>任志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812960" y="1406520"/>
            <a:ext cx="27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经适房怎么分配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5"/>
          <p:cNvGrpSpPr/>
          <p:nvPr/>
        </p:nvGrpSpPr>
        <p:grpSpPr>
          <a:xfrm>
            <a:off x="2679840" y="1836720"/>
            <a:ext cx="5348160" cy="2919600"/>
            <a:chOff x="2679840" y="1836720"/>
            <a:chExt cx="5348160" cy="2919600"/>
          </a:xfrm>
        </p:grpSpPr>
        <p:sp>
          <p:nvSpPr>
            <p:cNvPr id="313" name="AutoShape 6"/>
            <p:cNvSpPr/>
            <p:nvPr/>
          </p:nvSpPr>
          <p:spPr>
            <a:xfrm flipH="1" flipV="1" rot="16200000">
              <a:off x="3114000" y="1402560"/>
              <a:ext cx="2919600" cy="3787920"/>
            </a:xfrm>
            <a:prstGeom prst="wedgeRectCallout">
              <a:avLst>
                <a:gd name="adj1" fmla="val -43750"/>
                <a:gd name="adj2" fmla="val 70000"/>
              </a:avLst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7"/>
            <p:cNvSpPr/>
            <p:nvPr/>
          </p:nvSpPr>
          <p:spPr>
            <a:xfrm>
              <a:off x="4610880" y="1836720"/>
              <a:ext cx="3417120" cy="2919600"/>
            </a:xfrm>
            <a:prstGeom prst="rect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AutoShape 8"/>
          <p:cNvSpPr/>
          <p:nvPr/>
        </p:nvSpPr>
        <p:spPr>
          <a:xfrm rot="15360000">
            <a:off x="3037680" y="2448360"/>
            <a:ext cx="1563840" cy="1704960"/>
          </a:xfrm>
          <a:custGeom>
            <a:avLst/>
            <a:gdLst>
              <a:gd name="textAreaLeft" fmla="*/ 0 w 1563840"/>
              <a:gd name="textAreaRight" fmla="*/ 1564200 w 1563840"/>
              <a:gd name="textAreaTop" fmla="*/ 0 h 1704960"/>
              <a:gd name="textAreaBottom" fmla="*/ 608760 h 1704960"/>
            </a:gdLst>
            <a:ahLst/>
            <a:rect l="textAreaLeft" t="textAreaTop" r="textAreaRight" b="textAreaBottom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4038480" y="2571840"/>
            <a:ext cx="381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6600"/>
                </a:solidFill>
                <a:latin typeface="微软雅黑"/>
                <a:ea typeface="微软雅黑"/>
              </a:rPr>
              <a:t>用于“三定”或者其他类似的房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638520" y="29876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cc00"/>
                </a:solidFill>
                <a:latin typeface="微软雅黑"/>
                <a:ea typeface="微软雅黑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1"/>
          <p:cNvSpPr/>
          <p:nvPr/>
        </p:nvSpPr>
        <p:spPr>
          <a:xfrm>
            <a:off x="3848040" y="2862360"/>
            <a:ext cx="270000" cy="153720"/>
          </a:xfrm>
          <a:prstGeom prst="flowChartManualOperation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4029120" y="2901960"/>
            <a:ext cx="1677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99cc00"/>
                </a:solidFill>
                <a:latin typeface="微软雅黑"/>
                <a:ea typeface="微软雅黑"/>
              </a:rPr>
              <a:t>面向社会供应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"/>
          <p:cNvSpPr/>
          <p:nvPr/>
        </p:nvSpPr>
        <p:spPr>
          <a:xfrm>
            <a:off x="3881520" y="3224160"/>
            <a:ext cx="434880" cy="4348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4" descr="home1"/>
          <p:cNvPicPr/>
          <p:nvPr/>
        </p:nvPicPr>
        <p:blipFill>
          <a:blip r:embed="rId3"/>
          <a:stretch/>
        </p:blipFill>
        <p:spPr>
          <a:xfrm>
            <a:off x="3973680" y="3309840"/>
            <a:ext cx="236520" cy="2365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5"/>
          <p:cNvSpPr/>
          <p:nvPr/>
        </p:nvSpPr>
        <p:spPr>
          <a:xfrm>
            <a:off x="4110120" y="3735360"/>
            <a:ext cx="1414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6600"/>
                </a:solidFill>
                <a:latin typeface="微软雅黑"/>
                <a:ea typeface="微软雅黑"/>
              </a:rPr>
              <a:t>约</a:t>
            </a:r>
            <a:r>
              <a:rPr b="1" lang="zh-CN" sz="1300" spc="-1" strike="noStrike">
                <a:solidFill>
                  <a:srgbClr val="ff6600"/>
                </a:solidFill>
                <a:latin typeface="微软雅黑"/>
                <a:ea typeface="微软雅黑"/>
              </a:rPr>
              <a:t>60%</a:t>
            </a:r>
            <a:r>
              <a:rPr b="1" lang="zh-CN" sz="1300" spc="-1" strike="noStrike">
                <a:solidFill>
                  <a:srgbClr val="ff6600"/>
                </a:solidFill>
                <a:latin typeface="微软雅黑"/>
                <a:ea typeface="微软雅黑"/>
              </a:rPr>
              <a:t>及以上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6"/>
          <p:cNvSpPr/>
          <p:nvPr/>
        </p:nvSpPr>
        <p:spPr>
          <a:xfrm>
            <a:off x="5877000" y="4083120"/>
            <a:ext cx="1368360" cy="488880"/>
          </a:xfrm>
          <a:prstGeom prst="ellipse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5637600" y="3551400"/>
            <a:ext cx="696240" cy="696240"/>
            <a:chOff x="5637600" y="3551400"/>
            <a:chExt cx="696240" cy="696240"/>
          </a:xfrm>
        </p:grpSpPr>
        <p:sp>
          <p:nvSpPr>
            <p:cNvPr id="325" name="泪滴形 1"/>
            <p:cNvSpPr/>
            <p:nvPr/>
          </p:nvSpPr>
          <p:spPr>
            <a:xfrm rot="8068800">
              <a:off x="5744880" y="3647880"/>
              <a:ext cx="481320" cy="503280"/>
            </a:xfrm>
            <a:custGeom>
              <a:avLst/>
              <a:gdLst/>
              <a:ahLst/>
              <a:rect l="l" t="t" r="r" b="b"/>
              <a:pathLst>
                <a:path w="481695" h="504056">
                  <a:moveTo>
                    <a:pt x="0" y="252028"/>
                  </a:moveTo>
                  <a:cubicBezTo>
                    <a:pt x="0" y="112837"/>
                    <a:pt x="107831" y="0"/>
                    <a:pt x="240848" y="0"/>
                  </a:cubicBezTo>
                  <a:cubicBezTo>
                    <a:pt x="352506" y="0"/>
                    <a:pt x="464164" y="-32833"/>
                    <a:pt x="575823" y="-98498"/>
                  </a:cubicBezTo>
                  <a:cubicBezTo>
                    <a:pt x="513071" y="18344"/>
                    <a:pt x="481695" y="135186"/>
                    <a:pt x="481695" y="252028"/>
                  </a:cubicBezTo>
                  <a:cubicBezTo>
                    <a:pt x="481695" y="391219"/>
                    <a:pt x="373864" y="504056"/>
                    <a:pt x="240847" y="504056"/>
                  </a:cubicBezTo>
                  <a:cubicBezTo>
                    <a:pt x="107830" y="504056"/>
                    <a:pt x="-1" y="391219"/>
                    <a:pt x="-1" y="252028"/>
                  </a:cubicBezTo>
                  <a:lnTo>
                    <a:pt x="0" y="25202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9"/>
            <p:cNvSpPr/>
            <p:nvPr/>
          </p:nvSpPr>
          <p:spPr>
            <a:xfrm>
              <a:off x="5780880" y="3697200"/>
              <a:ext cx="405000" cy="405000"/>
            </a:xfrm>
            <a:prstGeom prst="ellipse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20"/>
          <p:cNvGrpSpPr/>
          <p:nvPr/>
        </p:nvGrpSpPr>
        <p:grpSpPr>
          <a:xfrm>
            <a:off x="6201000" y="3270600"/>
            <a:ext cx="696240" cy="695880"/>
            <a:chOff x="6201000" y="3270600"/>
            <a:chExt cx="696240" cy="695880"/>
          </a:xfrm>
        </p:grpSpPr>
        <p:sp>
          <p:nvSpPr>
            <p:cNvPr id="328" name="泪滴形 1"/>
            <p:cNvSpPr/>
            <p:nvPr/>
          </p:nvSpPr>
          <p:spPr>
            <a:xfrm rot="8068800">
              <a:off x="6308640" y="3366720"/>
              <a:ext cx="480960" cy="503280"/>
            </a:xfrm>
            <a:custGeom>
              <a:avLst/>
              <a:gdLst/>
              <a:ahLst/>
              <a:rect l="l" t="t" r="r" b="b"/>
              <a:pathLst>
                <a:path w="481695" h="504056">
                  <a:moveTo>
                    <a:pt x="0" y="252028"/>
                  </a:moveTo>
                  <a:cubicBezTo>
                    <a:pt x="0" y="112837"/>
                    <a:pt x="107831" y="0"/>
                    <a:pt x="240848" y="0"/>
                  </a:cubicBezTo>
                  <a:cubicBezTo>
                    <a:pt x="352506" y="0"/>
                    <a:pt x="464164" y="-32833"/>
                    <a:pt x="575823" y="-98498"/>
                  </a:cubicBezTo>
                  <a:cubicBezTo>
                    <a:pt x="513071" y="18344"/>
                    <a:pt x="481695" y="135186"/>
                    <a:pt x="481695" y="252028"/>
                  </a:cubicBezTo>
                  <a:cubicBezTo>
                    <a:pt x="481695" y="391219"/>
                    <a:pt x="373864" y="504056"/>
                    <a:pt x="240847" y="504056"/>
                  </a:cubicBezTo>
                  <a:cubicBezTo>
                    <a:pt x="107830" y="504056"/>
                    <a:pt x="-1" y="391219"/>
                    <a:pt x="-1" y="252028"/>
                  </a:cubicBezTo>
                  <a:lnTo>
                    <a:pt x="0" y="25202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2"/>
            <p:cNvSpPr/>
            <p:nvPr/>
          </p:nvSpPr>
          <p:spPr>
            <a:xfrm>
              <a:off x="6351120" y="3413160"/>
              <a:ext cx="405000" cy="404640"/>
            </a:xfrm>
            <a:prstGeom prst="ellipse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23"/>
          <p:cNvGrpSpPr/>
          <p:nvPr/>
        </p:nvGrpSpPr>
        <p:grpSpPr>
          <a:xfrm>
            <a:off x="6761160" y="3557160"/>
            <a:ext cx="694800" cy="694440"/>
            <a:chOff x="6761160" y="3557160"/>
            <a:chExt cx="694800" cy="694440"/>
          </a:xfrm>
        </p:grpSpPr>
        <p:sp>
          <p:nvSpPr>
            <p:cNvPr id="331" name="泪滴形 1"/>
            <p:cNvSpPr/>
            <p:nvPr/>
          </p:nvSpPr>
          <p:spPr>
            <a:xfrm rot="8068800">
              <a:off x="6868080" y="3653640"/>
              <a:ext cx="480960" cy="501480"/>
            </a:xfrm>
            <a:custGeom>
              <a:avLst/>
              <a:gdLst/>
              <a:ahLst/>
              <a:rect l="l" t="t" r="r" b="b"/>
              <a:pathLst>
                <a:path w="481695" h="504056">
                  <a:moveTo>
                    <a:pt x="0" y="252028"/>
                  </a:moveTo>
                  <a:cubicBezTo>
                    <a:pt x="0" y="112837"/>
                    <a:pt x="107831" y="0"/>
                    <a:pt x="240848" y="0"/>
                  </a:cubicBezTo>
                  <a:cubicBezTo>
                    <a:pt x="352506" y="0"/>
                    <a:pt x="464164" y="-32833"/>
                    <a:pt x="575823" y="-98498"/>
                  </a:cubicBezTo>
                  <a:cubicBezTo>
                    <a:pt x="513071" y="18344"/>
                    <a:pt x="481695" y="135186"/>
                    <a:pt x="481695" y="252028"/>
                  </a:cubicBezTo>
                  <a:cubicBezTo>
                    <a:pt x="481695" y="391219"/>
                    <a:pt x="373864" y="504056"/>
                    <a:pt x="240847" y="504056"/>
                  </a:cubicBezTo>
                  <a:cubicBezTo>
                    <a:pt x="107830" y="504056"/>
                    <a:pt x="-1" y="391219"/>
                    <a:pt x="-1" y="252028"/>
                  </a:cubicBezTo>
                  <a:lnTo>
                    <a:pt x="0" y="25202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25"/>
            <p:cNvSpPr/>
            <p:nvPr/>
          </p:nvSpPr>
          <p:spPr>
            <a:xfrm>
              <a:off x="6911640" y="3704400"/>
              <a:ext cx="403560" cy="405000"/>
            </a:xfrm>
            <a:prstGeom prst="ellipse">
              <a:avLst/>
            </a:prstGeom>
            <a:solidFill>
              <a:srgbClr val="1d3d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26"/>
          <p:cNvSpPr/>
          <p:nvPr/>
        </p:nvSpPr>
        <p:spPr>
          <a:xfrm>
            <a:off x="6327720" y="3427560"/>
            <a:ext cx="3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微软雅黑"/>
              </a:rPr>
              <a:t>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6900840" y="3816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30000">
                <a:solidFill>
                  <a:srgbClr val="ff6600"/>
                </a:solidFill>
                <a:latin typeface="微软雅黑"/>
                <a:ea typeface="微软雅黑"/>
              </a:rPr>
              <a:t>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8"/>
          <p:cNvGrpSpPr/>
          <p:nvPr/>
        </p:nvGrpSpPr>
        <p:grpSpPr>
          <a:xfrm>
            <a:off x="5841720" y="3741840"/>
            <a:ext cx="276120" cy="281880"/>
            <a:chOff x="5841720" y="3741840"/>
            <a:chExt cx="276120" cy="281880"/>
          </a:xfrm>
        </p:grpSpPr>
        <p:sp>
          <p:nvSpPr>
            <p:cNvPr id="336" name="Oval 29"/>
            <p:cNvSpPr/>
            <p:nvPr/>
          </p:nvSpPr>
          <p:spPr>
            <a:xfrm>
              <a:off x="5923440" y="3741840"/>
              <a:ext cx="107640" cy="1083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30"/>
            <p:cNvSpPr/>
            <p:nvPr/>
          </p:nvSpPr>
          <p:spPr>
            <a:xfrm rot="16260000">
              <a:off x="5899320" y="3871800"/>
              <a:ext cx="157680" cy="14328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1"/>
            <p:cNvSpPr/>
            <p:nvPr/>
          </p:nvSpPr>
          <p:spPr>
            <a:xfrm rot="2580000">
              <a:off x="6012000" y="3926160"/>
              <a:ext cx="107280" cy="37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32"/>
            <p:cNvSpPr/>
            <p:nvPr/>
          </p:nvSpPr>
          <p:spPr>
            <a:xfrm rot="7620000">
              <a:off x="5835240" y="3928320"/>
              <a:ext cx="108000" cy="374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33"/>
          <p:cNvSpPr/>
          <p:nvPr/>
        </p:nvSpPr>
        <p:spPr>
          <a:xfrm>
            <a:off x="6080040" y="303696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三定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3"/>
          <p:cNvSpPr/>
          <p:nvPr/>
        </p:nvSpPr>
        <p:spPr>
          <a:xfrm>
            <a:off x="0" y="484200"/>
            <a:ext cx="9180360" cy="0"/>
          </a:xfrm>
          <a:prstGeom prst="line">
            <a:avLst/>
          </a:prstGeom>
          <a:ln w="63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357720" y="682560"/>
            <a:ext cx="2087280" cy="50472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4538"/>
                </a:solidFill>
                <a:latin typeface="Arial"/>
                <a:ea typeface="微软雅黑"/>
              </a:rPr>
              <a:t>病有所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2693880" y="1341360"/>
            <a:ext cx="35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9ccbb"/>
                </a:solidFill>
                <a:latin typeface="微软雅黑"/>
                <a:ea typeface="微软雅黑"/>
              </a:rPr>
              <a:t>医疗两千元以下、生育全额报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5" descr="3"/>
          <p:cNvPicPr/>
          <p:nvPr/>
        </p:nvPicPr>
        <p:blipFill>
          <a:blip r:embed="rId2"/>
          <a:stretch/>
        </p:blipFill>
        <p:spPr>
          <a:xfrm>
            <a:off x="1836720" y="1908000"/>
            <a:ext cx="50166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2"/>
          <p:cNvSpPr/>
          <p:nvPr/>
        </p:nvSpPr>
        <p:spPr>
          <a:xfrm>
            <a:off x="0" y="2638440"/>
            <a:ext cx="8172360" cy="0"/>
          </a:xfrm>
          <a:prstGeom prst="line">
            <a:avLst/>
          </a:prstGeom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28480" y="2048040"/>
            <a:ext cx="13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全额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2378160" y="2384280"/>
            <a:ext cx="287280" cy="2257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573280" y="2220840"/>
            <a:ext cx="7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33"/>
                </a:solidFill>
                <a:latin typeface="微软雅黑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未标题-2"/>
          <p:cNvPicPr/>
          <p:nvPr/>
        </p:nvPicPr>
        <p:blipFill>
          <a:blip r:embed="rId2"/>
          <a:stretch/>
        </p:blipFill>
        <p:spPr>
          <a:xfrm>
            <a:off x="3830760" y="1200240"/>
            <a:ext cx="1333440" cy="120492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8"/>
          <p:cNvSpPr/>
          <p:nvPr/>
        </p:nvSpPr>
        <p:spPr>
          <a:xfrm>
            <a:off x="5401800" y="118728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微软雅黑"/>
                <a:ea typeface="微软雅黑"/>
              </a:rPr>
              <a:t>报销</a:t>
            </a:r>
            <a:r>
              <a:rPr b="1" lang="zh-CN" sz="1800" spc="-1" strike="noStrike">
                <a:solidFill>
                  <a:srgbClr val="ff9933"/>
                </a:solidFill>
                <a:latin typeface="微软雅黑"/>
                <a:ea typeface="微软雅黑"/>
              </a:rPr>
              <a:t>80%-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9" descr="1 (1)"/>
          <p:cNvPicPr/>
          <p:nvPr/>
        </p:nvPicPr>
        <p:blipFill>
          <a:blip r:embed="rId3"/>
          <a:stretch/>
        </p:blipFill>
        <p:spPr>
          <a:xfrm>
            <a:off x="4257720" y="1636560"/>
            <a:ext cx="488880" cy="4892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0"/>
          <p:cNvSpPr/>
          <p:nvPr/>
        </p:nvSpPr>
        <p:spPr>
          <a:xfrm>
            <a:off x="8182080" y="24224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33"/>
                </a:solidFill>
                <a:latin typeface="Arial"/>
                <a:ea typeface="微软雅黑"/>
              </a:rPr>
              <a:t>无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/>
          <p:cNvSpPr/>
          <p:nvPr/>
        </p:nvSpPr>
        <p:spPr>
          <a:xfrm flipH="1">
            <a:off x="4325040" y="2787480"/>
            <a:ext cx="287640" cy="2257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3666960" y="3117960"/>
            <a:ext cx="1584360" cy="1584360"/>
          </a:xfrm>
          <a:prstGeom prst="ellipse">
            <a:avLst/>
          </a:prstGeom>
          <a:solidFill>
            <a:srgbClr val="924800">
              <a:alpha val="8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3" descr="5"/>
          <p:cNvPicPr/>
          <p:nvPr/>
        </p:nvPicPr>
        <p:blipFill>
          <a:blip r:embed="rId4"/>
          <a:stretch/>
        </p:blipFill>
        <p:spPr>
          <a:xfrm>
            <a:off x="3828960" y="3340080"/>
            <a:ext cx="428760" cy="11714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4"/>
          <p:cNvSpPr/>
          <p:nvPr/>
        </p:nvSpPr>
        <p:spPr>
          <a:xfrm>
            <a:off x="4194000" y="3525840"/>
            <a:ext cx="136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全额报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4197240" y="3882960"/>
            <a:ext cx="13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  <a:ea typeface="微软雅黑"/>
              </a:rPr>
              <a:t>怀孕和分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6600"/>
                </a:solidFill>
                <a:latin typeface="Arial"/>
                <a:ea typeface="微软雅黑"/>
              </a:rPr>
              <a:t>期间的费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