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97000" y="152280"/>
            <a:ext cx="750384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7000" y="152280"/>
            <a:ext cx="750384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97000" y="152280"/>
            <a:ext cx="750384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7736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5988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520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7736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5988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97000" y="152280"/>
            <a:ext cx="750384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97000" y="152280"/>
            <a:ext cx="750384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97000" y="152280"/>
            <a:ext cx="750384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97000" y="152280"/>
            <a:ext cx="750384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97000" y="152280"/>
            <a:ext cx="7503840" cy="23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97000" y="152280"/>
            <a:ext cx="750384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97000" y="152280"/>
            <a:ext cx="750384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97000" y="152280"/>
            <a:ext cx="750384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97000" y="152280"/>
            <a:ext cx="750384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7000" y="152280"/>
            <a:ext cx="750384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97000" y="152280"/>
            <a:ext cx="750384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7000" y="152280"/>
            <a:ext cx="750384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7736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5988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29520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7736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5988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97000" y="152280"/>
            <a:ext cx="750384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97000" y="152280"/>
            <a:ext cx="750384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97000" y="152280"/>
            <a:ext cx="750384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97000" y="152280"/>
            <a:ext cx="7503840" cy="23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97000" y="152280"/>
            <a:ext cx="750384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97000" y="152280"/>
            <a:ext cx="750384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97000" y="152280"/>
            <a:ext cx="750384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2080">
              <a:spcAft>
                <a:spcPts val="1001"/>
              </a:spcAft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74680">
              <a:spcAft>
                <a:spcPts val="1001"/>
              </a:spcAft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87480" indent="-265320">
              <a:spcAft>
                <a:spcPts val="1001"/>
              </a:spcAft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54240" indent="-265320">
              <a:spcAft>
                <a:spcPts val="10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54240" indent="-265320">
              <a:spcAft>
                <a:spcPts val="10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54240" indent="-265320">
              <a:spcAft>
                <a:spcPts val="10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124080" y="636588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297000" y="152280"/>
            <a:ext cx="750384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219240" y="6365880"/>
            <a:ext cx="13428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0" lang="de-DE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0D587A5F-C50B-49C6-BCEC-47BE02249E2A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2080">
              <a:spcAft>
                <a:spcPts val="1001"/>
              </a:spcAft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74680">
              <a:spcAft>
                <a:spcPts val="1001"/>
              </a:spcAft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87480" indent="-265320">
              <a:spcAft>
                <a:spcPts val="1001"/>
              </a:spcAft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54240" indent="-265320">
              <a:spcAft>
                <a:spcPts val="10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54240" indent="-265320">
              <a:spcAft>
                <a:spcPts val="10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54240" indent="-265320">
              <a:spcAft>
                <a:spcPts val="10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297000" y="152280"/>
            <a:ext cx="750384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dongtai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422160" y="1893600"/>
            <a:ext cx="527076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ffff"/>
                </a:solidFill>
                <a:latin typeface="Arial"/>
              </a:rPr>
              <a:t>Insert the title of your </a:t>
            </a:r>
            <a:br>
              <a:rPr sz="3200"/>
            </a:br>
            <a:r>
              <a:rPr b="1" sz="3200" spc="-1" strike="noStrike">
                <a:solidFill>
                  <a:srgbClr val="ffffff"/>
                </a:solidFill>
                <a:latin typeface="Arial"/>
              </a:rPr>
              <a:t>presentation he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3422160" y="3024000"/>
            <a:ext cx="5270760" cy="10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Arial"/>
              </a:rPr>
              <a:t>Enter your subtitle or mai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sz="2400" spc="-1" strike="noStrike">
                <a:solidFill>
                  <a:srgbClr val="ffffff"/>
                </a:solidFill>
                <a:latin typeface="Arial"/>
              </a:rPr>
              <a:t>author‘s nam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456000" y="41799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75320" y="487440"/>
            <a:ext cx="309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科幻动态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7000" y="152280"/>
            <a:ext cx="750384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600" spc="-1" strike="noStrike">
                <a:solidFill>
                  <a:srgbClr val="ffffff"/>
                </a:solidFill>
                <a:latin typeface="Arial"/>
              </a:rPr>
              <a:t>Sample Slide </a:t>
            </a:r>
            <a:r>
              <a:rPr b="1" sz="26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1" sz="2600" spc="-1" strike="noStrike">
                <a:solidFill>
                  <a:srgbClr val="ffffff"/>
                </a:solidFill>
                <a:latin typeface="Arial"/>
              </a:rPr>
              <a:t> Bullet Point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The text demonstrates how your own text will look when </a:t>
            </a:r>
            <a:br>
              <a:rPr sz="2000"/>
            </a:br>
            <a:r>
              <a:rPr b="1" sz="2000" spc="-1" strike="noStrike">
                <a:solidFill>
                  <a:srgbClr val="000000"/>
                </a:solidFill>
                <a:latin typeface="Arial"/>
              </a:rPr>
              <a:t>you replace the placeholder with your own tex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This is a placeholder text. This text can be replaced with </a:t>
            </a:r>
            <a:br>
              <a:rPr sz="2000"/>
            </a:br>
            <a:r>
              <a:rPr b="1" sz="2000" spc="-1" strike="noStrike">
                <a:solidFill>
                  <a:srgbClr val="000000"/>
                </a:solidFill>
                <a:latin typeface="Arial"/>
              </a:rPr>
              <a:t>your own tex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If you don’t want to use the style and size of the fonts as used in this placeholder it is possible to replace it by selecting different op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2080">
              <a:spcAft>
                <a:spcPts val="901"/>
              </a:spcAft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For replacing the placeholder text you need to click on </a:t>
            </a:r>
            <a:br>
              <a:rPr sz="1800"/>
            </a:br>
            <a:r>
              <a:rPr b="0" sz="1800" spc="-1" strike="noStrike">
                <a:solidFill>
                  <a:srgbClr val="000000"/>
                </a:solidFill>
                <a:latin typeface="Arial"/>
              </a:rPr>
              <a:t>the placeholder text and insert your own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2080">
              <a:spcAft>
                <a:spcPts val="901"/>
              </a:spcAft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The text that you insert will retain the same style </a:t>
            </a:r>
            <a:br>
              <a:rPr sz="1800"/>
            </a:br>
            <a:r>
              <a:rPr b="0" sz="1800" spc="-1" strike="noStrike">
                <a:solidFill>
                  <a:srgbClr val="000000"/>
                </a:solidFill>
                <a:latin typeface="Arial"/>
              </a:rPr>
              <a:t>and format as the placeholder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2560" y="765000"/>
            <a:ext cx="633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40505"/>
                </a:solidFill>
                <a:uFillTx/>
                <a:latin typeface="Arial"/>
                <a:hlinkClick r:id="rId2"/>
              </a:rPr>
              <a:t>动态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40505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40505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154080" y="173160"/>
            <a:ext cx="8835840" cy="649764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461880" y="727200"/>
            <a:ext cx="853920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080" indent="-154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Feel free to use this PowerPoint template and background for your personal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educational and business presenta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459720" y="2890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Copyright no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5"/>
          <p:cNvSpPr/>
          <p:nvPr/>
        </p:nvSpPr>
        <p:spPr>
          <a:xfrm>
            <a:off x="336600" y="3519360"/>
            <a:ext cx="84931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23:54:21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1:05:42Z</dcterms:modified>
  <cp:revision>6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