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B94-AC41-4703-952B-9B6E187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FD0-7E48-4BCF-9396-980BE48E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A64-F912-432A-B49E-7F29746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696-65A5-438E-9669-AF8AD43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213-8854-4145-BF20-A705259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71D-62BD-429E-9D5C-A7D151D7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B89-3622-47FD-9B4A-103B326B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A02-3138-46CF-8878-D3D006D2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78F-48EB-4313-858F-3B654931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FB6E-41C6-491D-ACFE-BB4B8F6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B97-C38F-46FA-BAE8-E0249CE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C77-8386-483B-873F-AE1BB110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9C8F-75B2-485F-A5BA-D3378AD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81B-CEFC-472B-B741-B99DEDB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6E3-9C16-42D8-94F2-14775BC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FD2-70FB-4F95-B09D-4634F96D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A360-FEBA-49EE-9A20-1810093E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0F7-E013-4469-8FD9-C9B4BAA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9A3-1294-4B9B-8B4B-9E474A3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F59-5891-4C77-AADA-35FBDDE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D19-B599-49FB-B462-A7796EE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817-C5C4-44BC-B947-57A5749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ACC-2810-4B4F-A356-C8E2D9DE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024-23CA-4C85-B72F-00A9541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24C7-FD42-4AC4-90D3-03A49A7D5A5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C9D-E089-4DD4-9F69-68CF5E66EDA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5280" y="4941360"/>
            <a:ext cx="4969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卡通动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5080" y="638172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2560" y="7650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442-7FF5-40FE-A005-24D3F8FD48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c4a7d"/>
                </a:solidFill>
                <a:latin typeface="华文隶书"/>
                <a:ea typeface="华文隶书"/>
              </a:rPr>
              <a:t>谢谢观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763640" y="47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9:56Z</dcterms:modified>
  <cp:revision>7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