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B47-DCD9-4E66-80C0-5664775A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74678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54080"/>
            <a:ext cx="74678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EA7-D3E5-42A3-8AF7-9836B2B9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6094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540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540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B8B-244C-42B4-857C-36FA3F6A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2404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609480"/>
            <a:ext cx="2404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609480"/>
            <a:ext cx="2404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54080"/>
            <a:ext cx="2404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54080"/>
            <a:ext cx="2404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54080"/>
            <a:ext cx="2404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6A4-BFEE-4D2D-8510-0B7C9D29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609480"/>
            <a:ext cx="746784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BE0-3300-4242-9407-D70748F6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7467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212-F313-4E18-8DC6-8B9F1A8C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364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609480"/>
            <a:ext cx="364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8E8-56FD-49E7-B192-AC82627D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4FC-A155-4873-ACFB-A081C317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74678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F0B-653C-4407-B8AD-85E240B2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609480"/>
            <a:ext cx="364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540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C70-BE9F-41CE-A85F-042393E6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364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6094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540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978-64D3-4DE0-9011-C89DEBE2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6094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54080"/>
            <a:ext cx="74678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F94-DE0D-46DF-9EB6-CC9B139F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54d4d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609480"/>
            <a:ext cx="7467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908C-446B-4589-B02B-9873A05E4508}" type="slidenum">
              <a:rPr b="1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"/>
          <p:cNvPicPr/>
          <p:nvPr/>
        </p:nvPicPr>
        <p:blipFill>
          <a:blip r:embed="rId2"/>
          <a:stretch/>
        </p:blipFill>
        <p:spPr>
          <a:xfrm>
            <a:off x="3276720" y="5334120"/>
            <a:ext cx="2743200" cy="150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49525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854d4d"/>
                </a:solidFill>
                <a:latin typeface="Times New Roman"/>
                <a:ea typeface="宋体"/>
              </a:rPr>
              <a:t>卡通婚礼</a:t>
            </a:r>
            <a:r>
              <a:rPr b="1" i="1" lang="en-US" sz="4000" spc="-1" strike="noStrike">
                <a:solidFill>
                  <a:srgbClr val="854d4d"/>
                </a:solidFill>
                <a:latin typeface="Times New Roman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854d4d"/>
                </a:solidFill>
                <a:latin typeface="Times New Roman"/>
                <a:ea typeface="宋体"/>
              </a:rPr>
              <a:t>模板下载</a:t>
            </a: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3"/>
          <a:stretch/>
        </p:blipFill>
        <p:spPr>
          <a:xfrm>
            <a:off x="2666880" y="304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2" descr=""/>
          <p:cNvPicPr/>
          <p:nvPr/>
        </p:nvPicPr>
        <p:blipFill>
          <a:blip r:embed="rId2"/>
          <a:stretch/>
        </p:blipFill>
        <p:spPr>
          <a:xfrm>
            <a:off x="-684360" y="1066680"/>
            <a:ext cx="398016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854d4d"/>
                </a:solidFill>
                <a:latin typeface="Times New Roman"/>
                <a:ea typeface="宋体"/>
              </a:rPr>
              <a:t>Your Topic Goes Here</a:t>
            </a: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3880" y="609480"/>
            <a:ext cx="3657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2286000" y="152280"/>
            <a:ext cx="4114800" cy="3853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1" i="1" lang="en-US" sz="72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49525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1" lang="zh-CN" sz="2000" spc="-1" strike="noStrike">
              <a:solidFill>
                <a:srgbClr val="4d4d4d"/>
              </a:solidFill>
              <a:latin typeface="Tahoma"/>
              <a:ea typeface="宋体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-227160" y="990720"/>
            <a:ext cx="2584440" cy="594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854d4d"/>
                </a:solidFill>
                <a:latin typeface="Times New Roman"/>
                <a:ea typeface="宋体"/>
              </a:rPr>
              <a:t>Your Topic Goes Here</a:t>
            </a: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3880" y="609480"/>
            <a:ext cx="3657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854d4d"/>
                </a:solidFill>
                <a:latin typeface="Times New Roman"/>
                <a:ea typeface="宋体"/>
              </a:rPr>
              <a:t>使用规范说明</a:t>
            </a: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Tahoma"/>
                <a:ea typeface="宋体"/>
              </a:rPr>
              <a:t>站点介绍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  <a:ea typeface="宋体"/>
              </a:rPr>
              <a:t>www.eeppt.com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  <a:ea typeface="宋体"/>
              </a:rPr>
              <a:t>助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Tahoma"/>
                <a:ea typeface="宋体"/>
              </a:rPr>
              <a:t>该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  <a:ea typeface="宋体"/>
              </a:rPr>
              <a:t>模板收集于网络，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Tahoma"/>
                <a:ea typeface="宋体"/>
              </a:rPr>
              <a:t>栏目推荐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6:58:00Z</dcterms:created>
  <dc:creator>微软中国</dc:creator>
  <dc:description/>
  <dc:language>en-US</dc:language>
  <cp:lastModifiedBy>a</cp:lastModifiedBy>
  <dcterms:modified xsi:type="dcterms:W3CDTF">2015-08-24T12:45:47Z</dcterms:modified>
  <cp:revision>3</cp:revision>
  <dc:subject/>
  <dc:title>Wedding D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