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D36-4C4F-4092-9F7A-DC24C03C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53A-CB48-4982-98C8-B0A9354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1FA-328C-44E1-8F27-81C30E4D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DF7-19AC-4232-9AAF-A402DB13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C54-1B37-4856-A10B-A7D6B58D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BD97-E12D-4673-8A08-2A4864AE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A6A1-DE96-4AC5-8652-3F6C875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A11C-F63A-4203-87EE-52BF49C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BE6-7D0A-4BF4-8C4B-20DE4D7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6D4-8331-4C5B-80AE-13CCED0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B9A-47C6-4498-80B3-6D97CE1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7A4-0E2C-473A-A070-E0FDCF8B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491D-8A6A-4E0E-A593-FD081FE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667-BD63-486A-8818-56A48D6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2E6-D3C2-4454-BB4F-FF360BD8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689D-6030-4B77-A9E2-2A12217A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15A-B9B5-4F03-AC03-E404D9F4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742-2314-4E54-B276-B30112A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394-900A-4242-927A-AD5F1360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818-7AF8-4919-998A-0ED5078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948-4AF2-4927-817B-0FB05028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583-9155-4F0E-BEC7-8B4B126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B25-9168-4A3A-A19C-A24D57B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FBD-F59B-45AA-8D69-F949221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strator\Desktop\psd357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Users\Administrator\Desktop\psd357522.png"/>
          <p:cNvPicPr/>
          <p:nvPr/>
        </p:nvPicPr>
        <p:blipFill>
          <a:blip r:embed="rId3"/>
          <a:srcRect l="0" t="72894" r="0" b="0"/>
          <a:stretch/>
        </p:blipFill>
        <p:spPr>
          <a:xfrm>
            <a:off x="0" y="4152240"/>
            <a:ext cx="9144000" cy="15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41E-CED6-42A8-86F9-A49741469B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5" descr="C:\Users\Administrator\Desktop\psd357522.png"/>
          <p:cNvPicPr/>
          <p:nvPr/>
        </p:nvPicPr>
        <p:blipFill>
          <a:blip r:embed="rId4"/>
          <a:srcRect l="0" t="0" r="0" b="71762"/>
          <a:stretch/>
        </p:blipFill>
        <p:spPr>
          <a:xfrm>
            <a:off x="-4680" y="0"/>
            <a:ext cx="914868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Administrator\Desktop\psd3575222.png"/>
          <p:cNvPicPr/>
          <p:nvPr/>
        </p:nvPicPr>
        <p:blipFill>
          <a:blip r:embed="rId5"/>
          <a:srcRect l="0" t="31469" r="0" b="0"/>
          <a:stretch/>
        </p:blipFill>
        <p:spPr>
          <a:xfrm>
            <a:off x="6732720" y="0"/>
            <a:ext cx="2160360" cy="83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9D3F-C11C-4591-9ED9-B51C652120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1440" y="4495320"/>
            <a:ext cx="50385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ranti Solid LET"/>
              </a:rPr>
              <a:t>Powerpoint </a:t>
            </a: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模版系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适用于各类商务演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677320" y="12733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筷子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Administrator\Desktop\psd3575.png"/>
          <p:cNvPicPr/>
          <p:nvPr/>
        </p:nvPicPr>
        <p:blipFill>
          <a:blip r:embed="rId1"/>
          <a:stretch/>
        </p:blipFill>
        <p:spPr>
          <a:xfrm>
            <a:off x="6480" y="0"/>
            <a:ext cx="9137520" cy="5708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40000" y="4495320"/>
            <a:ext cx="28796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标题 1"/>
          <p:cNvSpPr/>
          <p:nvPr/>
        </p:nvSpPr>
        <p:spPr>
          <a:xfrm>
            <a:off x="2411280" y="49320"/>
            <a:ext cx="2089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隶书"/>
                <a:ea typeface="华文隶书"/>
              </a:rPr>
              <a:t>目   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78000"/>
            <a:ext cx="2160360" cy="1211400"/>
          </a:xfrm>
          <a:prstGeom prst="rect">
            <a:avLst/>
          </a:prstGeom>
          <a:ln w="0">
            <a:noFill/>
          </a:ln>
        </p:spPr>
      </p:pic>
      <p:pic>
        <p:nvPicPr>
          <p:cNvPr id="96" name="组合 12" descr=""/>
          <p:cNvPicPr/>
          <p:nvPr/>
        </p:nvPicPr>
        <p:blipFill>
          <a:blip r:embed="rId2"/>
          <a:stretch/>
        </p:blipFill>
        <p:spPr>
          <a:xfrm>
            <a:off x="2475000" y="210348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5"/>
          <p:cNvSpPr/>
          <p:nvPr/>
        </p:nvSpPr>
        <p:spPr>
          <a:xfrm>
            <a:off x="3691080" y="2160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16" descr=""/>
          <p:cNvPicPr/>
          <p:nvPr/>
        </p:nvPicPr>
        <p:blipFill>
          <a:blip r:embed="rId3"/>
          <a:stretch/>
        </p:blipFill>
        <p:spPr>
          <a:xfrm>
            <a:off x="2475000" y="274320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9"/>
          <p:cNvSpPr/>
          <p:nvPr/>
        </p:nvSpPr>
        <p:spPr>
          <a:xfrm>
            <a:off x="3691080" y="2798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组合 20" descr=""/>
          <p:cNvPicPr/>
          <p:nvPr/>
        </p:nvPicPr>
        <p:blipFill>
          <a:blip r:embed="rId4"/>
          <a:stretch/>
        </p:blipFill>
        <p:spPr>
          <a:xfrm>
            <a:off x="2475000" y="338292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3"/>
          <p:cNvSpPr/>
          <p:nvPr/>
        </p:nvSpPr>
        <p:spPr>
          <a:xfrm>
            <a:off x="3691080" y="343836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组合 24" descr=""/>
          <p:cNvPicPr/>
          <p:nvPr/>
        </p:nvPicPr>
        <p:blipFill>
          <a:blip r:embed="rId5"/>
          <a:stretch/>
        </p:blipFill>
        <p:spPr>
          <a:xfrm>
            <a:off x="2475000" y="4017960"/>
            <a:ext cx="4632120" cy="457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7"/>
          <p:cNvSpPr/>
          <p:nvPr/>
        </p:nvSpPr>
        <p:spPr>
          <a:xfrm>
            <a:off x="3691080" y="4076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标题 1"/>
          <p:cNvSpPr/>
          <p:nvPr/>
        </p:nvSpPr>
        <p:spPr>
          <a:xfrm>
            <a:off x="1835280" y="49320"/>
            <a:ext cx="302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示 6" descr=""/>
          <p:cNvPicPr/>
          <p:nvPr/>
        </p:nvPicPr>
        <p:blipFill>
          <a:blip r:embed="rId1"/>
          <a:stretch/>
        </p:blipFill>
        <p:spPr>
          <a:xfrm>
            <a:off x="1835280" y="1487520"/>
            <a:ext cx="4967280" cy="3322440"/>
          </a:xfrm>
          <a:prstGeom prst="rect">
            <a:avLst/>
          </a:prstGeom>
          <a:ln w="0">
            <a:noFill/>
          </a:ln>
        </p:spPr>
      </p:pic>
      <p:sp>
        <p:nvSpPr>
          <p:cNvPr id="106" name="直接连接符 7"/>
          <p:cNvSpPr/>
          <p:nvPr/>
        </p:nvSpPr>
        <p:spPr>
          <a:xfrm>
            <a:off x="5219640" y="22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8"/>
          <p:cNvSpPr/>
          <p:nvPr/>
        </p:nvSpPr>
        <p:spPr>
          <a:xfrm>
            <a:off x="1116000" y="321804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9"/>
          <p:cNvSpPr/>
          <p:nvPr/>
        </p:nvSpPr>
        <p:spPr>
          <a:xfrm>
            <a:off x="5219640" y="40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5364000" y="1849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508720" y="22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368360" y="27957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1116000" y="321804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5508720" y="40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5364000" y="3695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78000"/>
            <a:ext cx="2160360" cy="12114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"/>
          <p:cNvGrpSpPr/>
          <p:nvPr/>
        </p:nvGrpSpPr>
        <p:grpSpPr>
          <a:xfrm>
            <a:off x="1116000" y="2104920"/>
            <a:ext cx="2349360" cy="2873520"/>
            <a:chOff x="1116000" y="2104920"/>
            <a:chExt cx="2349360" cy="2873520"/>
          </a:xfrm>
        </p:grpSpPr>
        <p:sp>
          <p:nvSpPr>
            <p:cNvPr id="117" name="Rectangle 3"/>
            <p:cNvSpPr/>
            <p:nvPr/>
          </p:nvSpPr>
          <p:spPr>
            <a:xfrm>
              <a:off x="1116000" y="2370600"/>
              <a:ext cx="234936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186920" y="2104920"/>
              <a:ext cx="220536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3562200" y="2104920"/>
            <a:ext cx="2387880" cy="2873520"/>
            <a:chOff x="3562200" y="2104920"/>
            <a:chExt cx="2387880" cy="2873520"/>
          </a:xfrm>
        </p:grpSpPr>
        <p:sp>
          <p:nvSpPr>
            <p:cNvPr id="120" name="Rectangle 6"/>
            <p:cNvSpPr/>
            <p:nvPr/>
          </p:nvSpPr>
          <p:spPr>
            <a:xfrm>
              <a:off x="3562200" y="2370600"/>
              <a:ext cx="238788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3654720" y="2104920"/>
              <a:ext cx="219852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6046920" y="2098800"/>
            <a:ext cx="2369880" cy="2879280"/>
            <a:chOff x="6046920" y="2098800"/>
            <a:chExt cx="2369880" cy="2879280"/>
          </a:xfrm>
        </p:grpSpPr>
        <p:sp>
          <p:nvSpPr>
            <p:cNvPr id="123" name="Rectangle 9"/>
            <p:cNvSpPr/>
            <p:nvPr/>
          </p:nvSpPr>
          <p:spPr>
            <a:xfrm>
              <a:off x="6046920" y="2369880"/>
              <a:ext cx="2369880" cy="260820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6116400" y="2098800"/>
              <a:ext cx="2203560" cy="542160"/>
            </a:xfrm>
            <a:prstGeom prst="rect">
              <a:avLst/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12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utura Bk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900000" y="1849320"/>
            <a:ext cx="7669440" cy="338472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 marL="111240" indent="-11124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9"/>
          <p:cNvSpPr/>
          <p:nvPr/>
        </p:nvSpPr>
        <p:spPr>
          <a:xfrm>
            <a:off x="1403280" y="2795760"/>
            <a:ext cx="1873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0"/>
          <p:cNvSpPr/>
          <p:nvPr/>
        </p:nvSpPr>
        <p:spPr>
          <a:xfrm>
            <a:off x="3798720" y="2819520"/>
            <a:ext cx="18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6296040" y="2819520"/>
            <a:ext cx="187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2"/>
          <p:cNvSpPr/>
          <p:nvPr/>
        </p:nvSpPr>
        <p:spPr>
          <a:xfrm>
            <a:off x="1692360" y="22096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4070520" y="220968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4"/>
          <p:cNvSpPr/>
          <p:nvPr/>
        </p:nvSpPr>
        <p:spPr>
          <a:xfrm>
            <a:off x="6548400" y="2174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三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66520" y="1635480"/>
            <a:ext cx="4820400" cy="3467880"/>
            <a:chOff x="866520" y="1635480"/>
            <a:chExt cx="4820400" cy="3467880"/>
          </a:xfrm>
        </p:grpSpPr>
        <p:grpSp>
          <p:nvGrpSpPr>
            <p:cNvPr id="135" name="Group 4"/>
            <p:cNvGrpSpPr/>
            <p:nvPr/>
          </p:nvGrpSpPr>
          <p:grpSpPr>
            <a:xfrm>
              <a:off x="2339640" y="1635480"/>
              <a:ext cx="1851480" cy="1855440"/>
              <a:chOff x="2339640" y="1635480"/>
              <a:chExt cx="1851480" cy="1855440"/>
            </a:xfrm>
          </p:grpSpPr>
          <p:sp>
            <p:nvSpPr>
              <p:cNvPr id="136" name="Freeform 3"/>
              <p:cNvSpPr/>
              <p:nvPr/>
            </p:nvSpPr>
            <p:spPr>
              <a:xfrm rot="900000">
                <a:off x="2522160" y="1712520"/>
                <a:ext cx="797760" cy="151668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4"/>
              <p:cNvSpPr/>
              <p:nvPr/>
            </p:nvSpPr>
            <p:spPr>
              <a:xfrm rot="900000">
                <a:off x="3202560" y="1898280"/>
                <a:ext cx="806040" cy="151416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7"/>
            <p:cNvGrpSpPr/>
            <p:nvPr/>
          </p:nvGrpSpPr>
          <p:grpSpPr>
            <a:xfrm>
              <a:off x="2242800" y="3056400"/>
              <a:ext cx="2044080" cy="2046960"/>
              <a:chOff x="2242800" y="3056400"/>
              <a:chExt cx="2044080" cy="2046960"/>
            </a:xfrm>
          </p:grpSpPr>
          <p:sp>
            <p:nvSpPr>
              <p:cNvPr id="139" name="Freeform 18"/>
              <p:cNvSpPr/>
              <p:nvPr/>
            </p:nvSpPr>
            <p:spPr>
              <a:xfrm rot="1675200">
                <a:off x="2550960" y="315468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9"/>
              <p:cNvSpPr/>
              <p:nvPr/>
            </p:nvSpPr>
            <p:spPr>
              <a:xfrm rot="1675200">
                <a:off x="3173400" y="348876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" name="Group 10"/>
            <p:cNvGrpSpPr/>
            <p:nvPr/>
          </p:nvGrpSpPr>
          <p:grpSpPr>
            <a:xfrm>
              <a:off x="3835800" y="3152160"/>
              <a:ext cx="1851120" cy="1855440"/>
              <a:chOff x="3835800" y="3152160"/>
              <a:chExt cx="1851120" cy="1855440"/>
            </a:xfrm>
          </p:grpSpPr>
          <p:sp>
            <p:nvSpPr>
              <p:cNvPr id="142" name="Freeform 21"/>
              <p:cNvSpPr/>
              <p:nvPr/>
            </p:nvSpPr>
            <p:spPr>
              <a:xfrm rot="900000">
                <a:off x="401832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22"/>
              <p:cNvSpPr/>
              <p:nvPr/>
            </p:nvSpPr>
            <p:spPr>
              <a:xfrm rot="900000">
                <a:off x="469836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oup 13"/>
            <p:cNvGrpSpPr/>
            <p:nvPr/>
          </p:nvGrpSpPr>
          <p:grpSpPr>
            <a:xfrm>
              <a:off x="866520" y="3152160"/>
              <a:ext cx="1851120" cy="1855440"/>
              <a:chOff x="866520" y="3152160"/>
              <a:chExt cx="1851120" cy="1855440"/>
            </a:xfrm>
          </p:grpSpPr>
          <p:sp>
            <p:nvSpPr>
              <p:cNvPr id="145" name="Freeform 24"/>
              <p:cNvSpPr/>
              <p:nvPr/>
            </p:nvSpPr>
            <p:spPr>
              <a:xfrm rot="900000">
                <a:off x="104904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900000">
                <a:off x="172908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7" name="TextBox 80"/>
          <p:cNvSpPr/>
          <p:nvPr/>
        </p:nvSpPr>
        <p:spPr>
          <a:xfrm>
            <a:off x="2867040" y="234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1"/>
          <p:cNvSpPr/>
          <p:nvPr/>
        </p:nvSpPr>
        <p:spPr>
          <a:xfrm>
            <a:off x="1362240" y="3876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2"/>
          <p:cNvSpPr/>
          <p:nvPr/>
        </p:nvSpPr>
        <p:spPr>
          <a:xfrm>
            <a:off x="2867040" y="3886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3"/>
          <p:cNvSpPr/>
          <p:nvPr/>
        </p:nvSpPr>
        <p:spPr>
          <a:xfrm>
            <a:off x="4394160" y="38750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4"/>
          <p:cNvSpPr/>
          <p:nvPr/>
        </p:nvSpPr>
        <p:spPr>
          <a:xfrm>
            <a:off x="6311880" y="2049480"/>
            <a:ext cx="2005200" cy="295920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组合 87" descr=""/>
          <p:cNvPicPr/>
          <p:nvPr/>
        </p:nvPicPr>
        <p:blipFill>
          <a:blip r:embed="rId1"/>
          <a:stretch/>
        </p:blipFill>
        <p:spPr>
          <a:xfrm>
            <a:off x="6053040" y="1785960"/>
            <a:ext cx="596880" cy="603360"/>
          </a:xfrm>
          <a:prstGeom prst="rect">
            <a:avLst/>
          </a:prstGeom>
          <a:ln w="0">
            <a:noFill/>
          </a:ln>
        </p:spPr>
      </p:pic>
      <p:sp>
        <p:nvSpPr>
          <p:cNvPr id="153" name="矩形 29"/>
          <p:cNvSpPr/>
          <p:nvPr/>
        </p:nvSpPr>
        <p:spPr>
          <a:xfrm>
            <a:off x="6194520" y="1854360"/>
            <a:ext cx="236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Broadway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3774960" y="1876320"/>
            <a:ext cx="4555800" cy="3051000"/>
            <a:chOff x="3774960" y="1876320"/>
            <a:chExt cx="4555800" cy="3051000"/>
          </a:xfrm>
        </p:grpSpPr>
        <p:cxnSp>
          <p:nvCxnSpPr>
            <p:cNvPr id="156" name="AutoShape 2"/>
            <p:cNvCxnSpPr/>
            <p:nvPr/>
          </p:nvCxnSpPr>
          <p:spPr>
            <a:xfrm flipV="1">
              <a:off x="6042960" y="2514960"/>
              <a:ext cx="1080" cy="175536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7" name="AutoShape 3"/>
            <p:cNvCxnSpPr/>
            <p:nvPr/>
          </p:nvCxnSpPr>
          <p:spPr>
            <a:xfrm>
              <a:off x="4510440" y="3708360"/>
              <a:ext cx="1215000" cy="56844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8" name="Line 4"/>
            <p:cNvSpPr/>
            <p:nvPr/>
          </p:nvSpPr>
          <p:spPr>
            <a:xfrm flipV="1">
              <a:off x="6363360" y="3719160"/>
              <a:ext cx="1188720" cy="556920"/>
            </a:xfrm>
            <a:prstGeom prst="line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9" name="AutoShape 5"/>
            <p:cNvCxnSpPr/>
            <p:nvPr/>
          </p:nvCxnSpPr>
          <p:spPr>
            <a:xfrm flipV="1">
              <a:off x="4510800" y="2483280"/>
              <a:ext cx="1204560" cy="58752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60" name="AutoShape 6"/>
            <p:cNvCxnSpPr/>
            <p:nvPr/>
          </p:nvCxnSpPr>
          <p:spPr>
            <a:xfrm flipH="1" flipV="1">
              <a:off x="6319080" y="2491560"/>
              <a:ext cx="1258920" cy="5788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61" name="AutoShape 7"/>
            <p:cNvSpPr/>
            <p:nvPr/>
          </p:nvSpPr>
          <p:spPr>
            <a:xfrm rot="5400000">
              <a:off x="7376040" y="2731320"/>
              <a:ext cx="584640" cy="132480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56565"/>
                </a:gs>
                <a:gs pos="100000">
                  <a:srgbClr val="b0b0b0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 rot="5400000">
              <a:off x="4154400" y="2741040"/>
              <a:ext cx="567720" cy="13269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9"/>
            <p:cNvSpPr/>
            <p:nvPr/>
          </p:nvSpPr>
          <p:spPr>
            <a:xfrm rot="5400000">
              <a:off x="5743080" y="1494360"/>
              <a:ext cx="561240" cy="13251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 rot="5400000">
              <a:off x="5699520" y="3934080"/>
              <a:ext cx="618840" cy="136764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06320"/>
                </a:gs>
                <a:gs pos="100000">
                  <a:srgbClr val="a7ad3f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Box 21"/>
          <p:cNvSpPr/>
          <p:nvPr/>
        </p:nvSpPr>
        <p:spPr>
          <a:xfrm>
            <a:off x="5549760" y="19731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718020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394956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5521320" y="4435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/>
          <p:cNvSpPr/>
          <p:nvPr/>
        </p:nvSpPr>
        <p:spPr>
          <a:xfrm>
            <a:off x="3564000" y="1488960"/>
            <a:ext cx="5040360" cy="388944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7"/>
          <p:cNvSpPr/>
          <p:nvPr/>
        </p:nvSpPr>
        <p:spPr>
          <a:xfrm>
            <a:off x="826920" y="2378160"/>
            <a:ext cx="2227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还要提醒一点，屏幕色彩、亮度的好坏也应该作为参考，如果看上去发暗的屏幕感觉很不爽。购买本本要在付款前确认是否有亮点、暗点等，每个厂家的标准不同，坏点过多可以更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826920" y="1692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25"/>
          <p:cNvSpPr/>
          <p:nvPr/>
        </p:nvSpPr>
        <p:spPr>
          <a:xfrm>
            <a:off x="826920" y="2187720"/>
            <a:ext cx="208296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FB9-672A-4CF5-9991-4EE16F4628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207520" y="1018440"/>
            <a:ext cx="4330800" cy="4330800"/>
            <a:chOff x="2207520" y="1018440"/>
            <a:chExt cx="4330800" cy="4330800"/>
          </a:xfrm>
        </p:grpSpPr>
        <p:sp>
          <p:nvSpPr>
            <p:cNvPr id="178" name="PubPieSlice"/>
            <p:cNvSpPr/>
            <p:nvPr/>
          </p:nvSpPr>
          <p:spPr>
            <a:xfrm rot="2710200">
              <a:off x="2839680" y="1654200"/>
              <a:ext cx="3066120" cy="3058560"/>
            </a:xfrm>
            <a:custGeom>
              <a:avLst/>
              <a:gdLst>
                <a:gd name="textAreaLeft" fmla="*/ 448560 w 3066120"/>
                <a:gd name="textAreaRight" fmla="*/ 2617560 w 306612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1415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5997"/>
                    <a:pt x="3702" y="20458"/>
                    <a:pt x="8811" y="21415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8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PubPieSlice"/>
            <p:cNvSpPr/>
            <p:nvPr/>
          </p:nvSpPr>
          <p:spPr>
            <a:xfrm rot="10131000">
              <a:off x="2870280" y="1650240"/>
              <a:ext cx="3058560" cy="3064680"/>
            </a:xfrm>
            <a:custGeom>
              <a:avLst/>
              <a:gdLst>
                <a:gd name="textAreaLeft" fmla="*/ 447480 w 3058560"/>
                <a:gd name="textAreaRight" fmla="*/ 2611080 w 3058560"/>
                <a:gd name="textAreaTop" fmla="*/ 448200 h 3064680"/>
                <a:gd name="textAreaBottom" fmla="*/ 2616480 h 3064680"/>
              </a:gdLst>
              <a:ahLst/>
              <a:rect l="textAreaLeft" t="textAreaTop" r="textAreaRight" b="textAreaBottom"/>
              <a:pathLst>
                <a:path w="10801" h="21427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6024"/>
                    <a:pt x="3739" y="20499"/>
                    <a:pt x="8880" y="21427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e46c0a"/>
                </a:gs>
                <a:gs pos="100000">
                  <a:srgbClr val="984807"/>
                </a:gs>
              </a:gsLst>
              <a:lin ang="195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PubPieSlice"/>
            <p:cNvSpPr/>
            <p:nvPr/>
          </p:nvSpPr>
          <p:spPr>
            <a:xfrm rot="16971600">
              <a:off x="2852640" y="1675440"/>
              <a:ext cx="3065040" cy="3058560"/>
            </a:xfrm>
            <a:custGeom>
              <a:avLst/>
              <a:gdLst>
                <a:gd name="textAreaLeft" fmla="*/ 448560 w 3065040"/>
                <a:gd name="textAreaRight" fmla="*/ 2616480 w 306504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0942">
                  <a:moveTo>
                    <a:pt x="2869" y="3468"/>
                  </a:moveTo>
                  <a:cubicBezTo>
                    <a:pt x="1024" y="5464"/>
                    <a:pt x="0" y="8082"/>
                    <a:pt x="0" y="10799"/>
                  </a:cubicBezTo>
                  <a:cubicBezTo>
                    <a:pt x="-1" y="15333"/>
                    <a:pt x="2830" y="19383"/>
                    <a:pt x="7087" y="20942"/>
                  </a:cubicBezTo>
                  <a:lnTo>
                    <a:pt x="10800" y="10800"/>
                  </a:lnTo>
                  <a:lnTo>
                    <a:pt x="2869" y="3468"/>
                  </a:lnTo>
                  <a:close/>
                </a:path>
              </a:pathLst>
            </a:custGeom>
            <a:gradFill rotWithShape="0">
              <a:gsLst>
                <a:gs pos="0">
                  <a:srgbClr val="a4ba1f"/>
                </a:gs>
                <a:gs pos="100000">
                  <a:srgbClr val="5e6b0d"/>
                </a:gs>
              </a:gsLst>
              <a:lin ang="18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直接连接符 30"/>
          <p:cNvSpPr/>
          <p:nvPr/>
        </p:nvSpPr>
        <p:spPr>
          <a:xfrm flipV="1">
            <a:off x="5508720" y="2064960"/>
            <a:ext cx="576000" cy="36036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31"/>
          <p:cNvSpPr/>
          <p:nvPr/>
        </p:nvSpPr>
        <p:spPr>
          <a:xfrm>
            <a:off x="6084720" y="2065320"/>
            <a:ext cx="201636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32"/>
          <p:cNvSpPr/>
          <p:nvPr/>
        </p:nvSpPr>
        <p:spPr>
          <a:xfrm>
            <a:off x="2560680" y="2065320"/>
            <a:ext cx="619200" cy="53964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33"/>
          <p:cNvSpPr/>
          <p:nvPr/>
        </p:nvSpPr>
        <p:spPr>
          <a:xfrm flipH="1">
            <a:off x="1006560" y="4317840"/>
            <a:ext cx="284472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3338640" y="2604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4092480" y="37209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716360" y="2598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37"/>
          <p:cNvSpPr/>
          <p:nvPr/>
        </p:nvSpPr>
        <p:spPr>
          <a:xfrm flipH="1">
            <a:off x="971640" y="2065320"/>
            <a:ext cx="158904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896760" y="16956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6084720" y="16956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1006560" y="39369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6227640" y="2325600"/>
            <a:ext cx="1873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1038240" y="218772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6"/>
          <p:cNvSpPr/>
          <p:nvPr/>
        </p:nvSpPr>
        <p:spPr>
          <a:xfrm>
            <a:off x="1047600" y="4335480"/>
            <a:ext cx="18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六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1619280" y="1498680"/>
            <a:ext cx="6479640" cy="3630240"/>
            <a:chOff x="1619280" y="1498680"/>
            <a:chExt cx="6479640" cy="3630240"/>
          </a:xfrm>
        </p:grpSpPr>
        <p:sp>
          <p:nvSpPr>
            <p:cNvPr id="197" name="Rectangle 2"/>
            <p:cNvSpPr/>
            <p:nvPr/>
          </p:nvSpPr>
          <p:spPr>
            <a:xfrm>
              <a:off x="1619280" y="149868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一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1913400" y="1907640"/>
              <a:ext cx="1261800" cy="487800"/>
              <a:chOff x="1913400" y="1907640"/>
              <a:chExt cx="1261800" cy="487800"/>
            </a:xfrm>
          </p:grpSpPr>
          <p:pic>
            <p:nvPicPr>
              <p:cNvPr id="19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3400" y="190764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7"/>
              <p:cNvSpPr/>
              <p:nvPr/>
            </p:nvSpPr>
            <p:spPr>
              <a:xfrm>
                <a:off x="2175840" y="200952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Rectangle 4"/>
            <p:cNvSpPr/>
            <p:nvPr/>
          </p:nvSpPr>
          <p:spPr>
            <a:xfrm>
              <a:off x="1619280" y="24145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二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Group 9"/>
            <p:cNvGrpSpPr/>
            <p:nvPr/>
          </p:nvGrpSpPr>
          <p:grpSpPr>
            <a:xfrm>
              <a:off x="1913400" y="2835360"/>
              <a:ext cx="1261800" cy="487800"/>
              <a:chOff x="1913400" y="2835360"/>
              <a:chExt cx="1261800" cy="487800"/>
            </a:xfrm>
          </p:grpSpPr>
          <p:pic>
            <p:nvPicPr>
              <p:cNvPr id="203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3400" y="283536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1"/>
              <p:cNvSpPr/>
              <p:nvPr/>
            </p:nvSpPr>
            <p:spPr>
              <a:xfrm>
                <a:off x="2175840" y="293616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Rectangle 6"/>
            <p:cNvSpPr/>
            <p:nvPr/>
          </p:nvSpPr>
          <p:spPr>
            <a:xfrm>
              <a:off x="1619280" y="33307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三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6" name="Group 13"/>
            <p:cNvGrpSpPr/>
            <p:nvPr/>
          </p:nvGrpSpPr>
          <p:grpSpPr>
            <a:xfrm>
              <a:off x="1913400" y="3738600"/>
              <a:ext cx="1261800" cy="487800"/>
              <a:chOff x="1913400" y="3738600"/>
              <a:chExt cx="1261800" cy="487800"/>
            </a:xfrm>
          </p:grpSpPr>
          <p:pic>
            <p:nvPicPr>
              <p:cNvPr id="207" name="AutoShap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3400" y="373860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15"/>
              <p:cNvSpPr/>
              <p:nvPr/>
            </p:nvSpPr>
            <p:spPr>
              <a:xfrm>
                <a:off x="2175840" y="384264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Rectangle 8"/>
            <p:cNvSpPr/>
            <p:nvPr/>
          </p:nvSpPr>
          <p:spPr>
            <a:xfrm>
              <a:off x="1619280" y="423540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四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Group 17"/>
            <p:cNvGrpSpPr/>
            <p:nvPr/>
          </p:nvGrpSpPr>
          <p:grpSpPr>
            <a:xfrm>
              <a:off x="1913400" y="4647240"/>
              <a:ext cx="1261800" cy="481680"/>
              <a:chOff x="1913400" y="4647240"/>
              <a:chExt cx="1261800" cy="481680"/>
            </a:xfrm>
          </p:grpSpPr>
          <p:pic>
            <p:nvPicPr>
              <p:cNvPr id="211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3400" y="4647240"/>
                <a:ext cx="12618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19"/>
              <p:cNvSpPr/>
              <p:nvPr/>
            </p:nvSpPr>
            <p:spPr>
              <a:xfrm>
                <a:off x="2175840" y="474588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Line 10"/>
            <p:cNvSpPr/>
            <p:nvPr/>
          </p:nvSpPr>
          <p:spPr>
            <a:xfrm flipV="1">
              <a:off x="3568320" y="2395440"/>
              <a:ext cx="4530600" cy="2124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V="1">
              <a:off x="3568320" y="3330360"/>
              <a:ext cx="4530600" cy="25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 flipV="1">
              <a:off x="3568320" y="4228200"/>
              <a:ext cx="4530600" cy="223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 38"/>
          <p:cNvSpPr/>
          <p:nvPr/>
        </p:nvSpPr>
        <p:spPr>
          <a:xfrm>
            <a:off x="1403280" y="1344600"/>
            <a:ext cx="2305080" cy="3784680"/>
          </a:xfrm>
          <a:prstGeom prst="rect">
            <a:avLst/>
          </a:prstGeom>
          <a:noFill/>
          <a:ln w="1260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7"/>
          <p:cNvSpPr/>
          <p:nvPr/>
        </p:nvSpPr>
        <p:spPr>
          <a:xfrm>
            <a:off x="4768560" y="169056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8"/>
          <p:cNvSpPr/>
          <p:nvPr/>
        </p:nvSpPr>
        <p:spPr>
          <a:xfrm>
            <a:off x="4768560" y="354492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9"/>
          <p:cNvSpPr/>
          <p:nvPr/>
        </p:nvSpPr>
        <p:spPr>
          <a:xfrm>
            <a:off x="5763600" y="2625840"/>
            <a:ext cx="53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9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